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7C4-EF50-4BF3-9710-88A1A43F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3C0-185D-411F-8AC1-0E4EB883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133-4E96-4470-BBE9-76E7A85D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764-ACAD-473B-A09B-17288688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BAD-2166-4CCB-B643-AF4C830D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D2B3-9F8A-4F2D-9B3F-458D2B84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EF7-03EB-4725-ACF0-1B09E5F7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22DE-835B-4FAC-8E82-0A5CAFC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5066-11BA-4FF7-A2D9-12E0864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6542-A5E3-441E-9AD3-E6CCE3D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8ED-9DCA-46A0-8B25-A14ECAA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A67-E117-4230-B39F-EC127BD2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5DED-D413-46CB-A5CF-4B3B486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BE7-7B1E-4203-8106-B0CCDE6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0816-4979-4F4A-A1B4-A2512E33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EFEE-6E2B-426E-943B-373057F0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9B7E-FD12-4866-9793-CA9CF569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74E-2D5D-47ED-A396-CBCF0F8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62B-3886-460B-9C84-1C0BDBB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B66-FF86-469A-A787-9CB3C4B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66A-1134-47CF-95D3-AFDD50E9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2CC-B248-48BC-88D5-589C030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F3C-9028-4F0F-99E6-B7E58CE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D16-5CF5-4AA6-8AEF-90C5215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84FB-6009-4270-8F68-B8956EAA5C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8220-A433-4BA0-96B3-06437C3C77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вышение мотивации учащихся в освоении знаний посредством внедрения ИК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Тема самообразован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1440" y="537372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лид Н.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05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ведение в проблем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2276640"/>
          <a:ext cx="88200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820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564000" y="1341360"/>
            <a:ext cx="4321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сследование  мотиваци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Исследование мотивов получения знаний и мотивов получения оценк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2205000"/>
          <a:ext cx="8893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8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Повышение мотивации обучения и качества знаний путём внедрения информационных  технологий  в учебный процес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ваивать  новые информационно - коммуникативных технолог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недрять ИКТ в образовательный процес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казать практическую значимость предм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ть положительную устойчивую мотивацию к учебн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ысить роль наглядности в учебном процесс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ть  условия для индивидуального обу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одить диагностическую работу по изучению личностного роста каждого школь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 этап. Подготовительны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4176720"/>
        </p:xfrm>
        <a:graphic>
          <a:graphicData uri="http://schemas.openxmlformats.org/drawingml/2006/table">
            <a:tbl>
              <a:tblPr/>
              <a:tblGrid>
                <a:gridCol w="665280"/>
                <a:gridCol w="4464000"/>
                <a:gridCol w="2563920"/>
              </a:tblGrid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учение литературы  по вопросам повышения учебной мотивац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нтябрь – ноябрь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8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учение основных факторов, влияющих на формирование положительной устойчивой мотивации к  учебной деятельност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ктябрь – ноябр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8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воение новых компьютерных программ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стартовой диагностики личностного рост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оябрь 2008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ещение курсов «Основы автоматизированного проектирования на  примере программ Компас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D LT, AutoCA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воение программ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Point, Publisher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литер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недрение элементов ИКТ в учебный процесс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2362320"/>
          <a:ext cx="7981560" cy="4056120"/>
        </p:xfrm>
        <a:graphic>
          <a:graphicData uri="http://schemas.openxmlformats.org/drawingml/2006/table">
            <a:tbl>
              <a:tblPr/>
              <a:tblGrid>
                <a:gridCol w="690120"/>
                <a:gridCol w="4631400"/>
                <a:gridCol w="2660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рганизация деятельности по внедрению ИКТ в учебный процесс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ивлечение учащихся к созданию новых продуктов ИК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 го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полнение медиотеки  новыми электронными учебниками и программами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течение год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орудование кабинета мультимедиатехнико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 концу учебного год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семинарах и практикумах по изучению и освоению компьютерных програм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 соответствии со школьным и районным плано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открытых уроков и мероприятий с использованием ИК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гласно график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сещение курсов повышения квалификации для освоения новых программ и систе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 возможност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ведение промежуточных итогов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4356000"/>
        </p:xfrm>
        <a:graphic>
          <a:graphicData uri="http://schemas.openxmlformats.org/drawingml/2006/table">
            <a:tbl>
              <a:tblPr/>
              <a:tblGrid>
                <a:gridCol w="665280"/>
                <a:gridCol w="4464000"/>
                <a:gridCol w="256392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едение промежуточной диагностики личностного рост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прель 2009 г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ализ результативности внедрения ИКТ в образовательный процесс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ай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здание домашнего электронного справочника  продуктов ИКТ учителя, учащихся и готовой продукции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юнь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ставление программы  деятельности по теме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вышение мотивации учащихся в освоении знаний посредством внедрения ИКТ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 следующий учебный год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юнь 2009 го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2:12:41Z</dcterms:created>
  <dc:creator>Home</dc:creator>
  <dc:description/>
  <dc:language>en-US</dc:language>
  <cp:lastModifiedBy>John</cp:lastModifiedBy>
  <dcterms:modified xsi:type="dcterms:W3CDTF">2010-04-08T09:01:41Z</dcterms:modified>
  <cp:revision>4</cp:revision>
  <dc:subject/>
  <dc:title>Повышение мотивации учащихся в освоении знаний посредством внедрения ИКТ</dc:title>
</cp:coreProperties>
</file>