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5A2-4CD0-4C51-BB4E-374ACACB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FFA-9A6D-403A-82B1-E203977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31F-3028-42D1-A421-7B9490A7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2F2-23C9-4FA1-AF5C-D090291A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82CD-25A3-4BFD-B9FB-5C394A1F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300-8F0F-4C58-A25C-8060CF60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97E5-E582-4C3B-94C1-6B19ABE4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FCBB-CB51-449C-8CC2-7D7DCF2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D15-98BB-4940-82CE-61741D3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011-6F42-4BD5-A28E-CBA1959F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F124-BDDC-47CA-A9E7-C7F4F1E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4F3-13BA-49A3-ABEC-72104D0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0E7B-DCCF-4CB8-AEFF-40DC159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C4AE-955D-44B8-9535-ABC788F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56A-15EE-470A-80F4-A660421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540D-92BB-4270-BB95-9FC2BB7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37E-5D99-42DF-B313-AE69C08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6C0-9662-4239-A6E5-5605C02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DA1-BBE6-41B6-A756-CFA5078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E7B-430F-4C3F-B9A6-A82E44D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CFF-940C-42AD-8DBC-5E8ACAB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1A3-5660-4ABA-8357-3C84642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0F2-BF14-4105-9FE7-BE15360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7D7-68C2-4B47-903B-EBF6877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894-B071-4073-98DE-908DEC9904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B8C-6959-4F48-9F46-17173E45CB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ышение мотивации учащихся в освоении знаний посредством внедрения ИК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Тема самообразован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1440" y="537372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лид Н.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05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едение в проблем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2276640"/>
          <a:ext cx="8820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820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64000" y="1341360"/>
            <a:ext cx="432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сследование  мотиваци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Исследование мотивов получения знаний и мотивов получения оценк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2205000"/>
          <a:ext cx="8893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8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овышение мотивации обучения и качества знаний путём внедрения информационных  технологий  в учебный процес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ваивать  новые информационно - коммуникативных технолог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недрять ИКТ в образовательный процес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казать практическую значимость предм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оложительную устойчивую мотивацию к учебн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сить роль наглядности в учебном процесс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ть  условия для индивидуального обу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одить диагностическую работу по изучению личностного роста каждого школь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 этап. Подготовительны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417672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литературы  по вопросам повышения учебной мотива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нтябрь – ноябрь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основных факторов, влияющих на формирование положительной устойчивой мотивации к  учебной деятельност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ктябрь – ноябр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воение новых компьютерных программ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стартовой диагностики личностного рост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ябрь 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ещение курсов «Основы автоматизированного проектирования на  примере программ Компас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D LT, AutoCA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воение программ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Point, Publishe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недрение элементов ИКТ в учебный процесс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362320"/>
          <a:ext cx="7981560" cy="4056120"/>
        </p:xfrm>
        <a:graphic>
          <a:graphicData uri="http://schemas.openxmlformats.org/drawingml/2006/table">
            <a:tbl>
              <a:tblPr/>
              <a:tblGrid>
                <a:gridCol w="690120"/>
                <a:gridCol w="4631400"/>
                <a:gridCol w="2660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рганизация деятельности по внедрению ИКТ в учебный процесс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ивлечение учащихся к созданию новых продуктов ИК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полнение медиотеки  новыми электронными учебниками и программами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орудование кабинета мультимедиатехнико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 концу учебного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семинарах и практикумах по изучению и освоению компьютерных програм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соответствии со школьным и районным плано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открытых уроков и мероприятий с использованием ИК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гласно графи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сещение курсов повышения квалификации для освоения новых программ и систе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 возможност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ведение промежуточных итогов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435600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промежуточной диагностики личностного рост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прель 2009 г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результативности внедрения ИКТ в образовательный процесс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ай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здание домашнего электронного справочника  продуктов ИКТ учителя, учащихся и готовой продук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ставление программы  деятельности по теме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вышение мотивации учащихся в освоении знаний посредством внедрения ИКТ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 следующий учебный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2:12:41Z</dcterms:created>
  <dc:creator>Home</dc:creator>
  <dc:description/>
  <dc:language>en-US</dc:language>
  <cp:lastModifiedBy>John</cp:lastModifiedBy>
  <dcterms:modified xsi:type="dcterms:W3CDTF">2010-04-08T09:01:41Z</dcterms:modified>
  <cp:revision>4</cp:revision>
  <dc:subject/>
  <dc:title>Повышение мотивации учащихся в освоении знаний посредством внедрения ИКТ</dc:title>
</cp:coreProperties>
</file>