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DF3-B9E2-402F-AC99-46F1F547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30D-2C22-432F-A2ED-D13B1C8A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645-607D-4976-9A35-17DBD369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678-05F4-4139-A831-021A3A1C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B2D9-CBA5-45D6-A9A0-270396CB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743F-44DA-4019-9761-6E19EA92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0381-A705-4ED8-AEBE-7B63B45E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6D6D-8511-478D-BD9B-58A4C572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BD5A-9A8D-46D0-ABC7-F8D220C0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F8BA-287F-411D-A0A7-87F0926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F8AA-50FD-4A78-BA59-FD9BECA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99B-7E6A-4FB7-AA28-0D5F0CB9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6A35-388F-42D6-BAE7-626E14B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8628-9252-4052-A353-3916D69F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9966-3B71-4334-B59F-9AA2746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4AF4-8032-499D-A16F-49706878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FF3A-1659-48E6-AE70-447366C7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0EE-0E92-4121-A285-83243FC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EE1-FE6C-4CD4-9ECD-5F59958A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4B4-CF44-4070-AADF-CD5D4AFC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B4D-FD44-49C3-A91D-97A68E67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D02-0ACD-452C-BCDA-73D0360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A69-149F-4BAB-B570-9E9CA641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17B-BD12-47D6-85F5-C4C8F8D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8F21-5A91-46F8-BFD5-F750A7F46F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DDFC-96F8-4577-897A-F09516928A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вышение мотивации учащихся в освоении знаний посредством внедрения ИК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Тема самообразован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1440" y="537372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лид Н.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05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ведение в проблем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4000" y="2276640"/>
          <a:ext cx="8820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8820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564000" y="1341360"/>
            <a:ext cx="4321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сследование  мотиваци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Исследование мотивов получения знаний и мотивов получения оценк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2205000"/>
          <a:ext cx="8893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8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Повышение мотивации обучения и качества знаний путём внедрения информационных  технологий  в учебный процес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ваивать  новые информационно - коммуникативных технолог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недрять ИКТ в образовательный процес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казать практическую значимость предме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ормировать положительную устойчивую мотивацию к учебн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ысить роль наглядности в учебном процесс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здать  условия для индивидуального обуч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одить диагностическую работу по изучению личностного роста каждого школьн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 этап. Подготовительны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4176720"/>
        </p:xfrm>
        <a:graphic>
          <a:graphicData uri="http://schemas.openxmlformats.org/drawingml/2006/table">
            <a:tbl>
              <a:tblPr/>
              <a:tblGrid>
                <a:gridCol w="665280"/>
                <a:gridCol w="4464000"/>
                <a:gridCol w="2563920"/>
              </a:tblGrid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учение литературы  по вопросам повышения учебной мотиваци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нтябрь – ноябрь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8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учение основных факторов, влияющих на формирование положительной устойчивой мотивации к  учебной деятельност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ктябрь – ноябр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8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своение новых компьютерных программ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стартовой диагностики личностного рост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ябрь 2008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ещение курсов «Основы автоматизированного проектирования на  примере программ Компас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D LT, AutoCA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воение программ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Point, Publisher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литера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недрение элементов ИКТ в учебный процесс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2362320"/>
          <a:ext cx="7981560" cy="4056120"/>
        </p:xfrm>
        <a:graphic>
          <a:graphicData uri="http://schemas.openxmlformats.org/drawingml/2006/table">
            <a:tbl>
              <a:tblPr/>
              <a:tblGrid>
                <a:gridCol w="690120"/>
                <a:gridCol w="4631400"/>
                <a:gridCol w="2660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рганизация деятельности по внедрению ИКТ в учебный процесс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ивлечение учащихся к созданию новых продуктов ИКТ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 го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полнение медиотеки  новыми электронными учебниками и программами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орудование кабинета мультимедиатехникой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 концу учебного год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стие в семинарах и практикумах по изучению и освоению компьютерных програм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соответствии со школьным и районным плано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открытых уроков и мероприятий с использованием ИК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гласно график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сещение курсов повышения квалификации для освоения новых программ и систе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 возможност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ведение промежуточных итогов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362320"/>
          <a:ext cx="7693200" cy="4356000"/>
        </p:xfrm>
        <a:graphic>
          <a:graphicData uri="http://schemas.openxmlformats.org/drawingml/2006/table">
            <a:tbl>
              <a:tblPr/>
              <a:tblGrid>
                <a:gridCol w="665280"/>
                <a:gridCol w="4464000"/>
                <a:gridCol w="256392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промежуточной диагностики личностного рост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прель 2009 г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нализ результативности внедрения ИКТ в образовательный процесс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ай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здание домашнего электронного справочника  продуктов ИКТ учителя, учащихся и готовой продукци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юнь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ставление программы  деятельности по теме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вышение мотивации учащихся в освоении знаний посредством внедрения ИКТ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»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 следующий учебный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юнь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2:12:41Z</dcterms:created>
  <dc:creator>Home</dc:creator>
  <dc:description/>
  <dc:language>en-US</dc:language>
  <cp:lastModifiedBy>John</cp:lastModifiedBy>
  <dcterms:modified xsi:type="dcterms:W3CDTF">2010-04-08T09:01:41Z</dcterms:modified>
  <cp:revision>4</cp:revision>
  <dc:subject/>
  <dc:title>Повышение мотивации учащихся в освоении знаний посредством внедрения ИКТ</dc:title>
</cp:coreProperties>
</file>