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9BAE-7967-40BC-B5BB-94D2857A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ADDA-7C26-4331-8413-AC46E972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0BD9-73E4-40A2-90BC-55D35392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6918-5B16-4A31-9CE1-0766EE885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338C-AD7F-42F5-9D6F-E39D68EB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D5D0-495F-43D4-9A51-4A9A9531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58F6-2D0D-4275-A2E5-991EA26C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AD65-6AE7-4A53-8BA5-82DB3E70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AFD-B5D9-4E4E-93F4-3DE0F0B8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B48A-BB2E-4041-B4C7-851C3AFC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1120-0446-4509-95AF-2136764C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58F0-664C-40C9-B762-D97B1E57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CD2D-FAB9-436C-AA3A-3BC6E4BAA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990000"/>
                </a:solidFill>
                <a:latin typeface="Monotype Corsiva"/>
              </a:rPr>
              <a:t>А. П. Чехов</a:t>
            </a:r>
            <a:br>
              <a:rPr sz="10000"/>
            </a:br>
            <a:r>
              <a:rPr b="1" lang="ru-RU" sz="10000" spc="-1" strike="noStrike">
                <a:solidFill>
                  <a:srgbClr val="990000"/>
                </a:solidFill>
                <a:latin typeface="Monotype Corsiva"/>
              </a:rPr>
              <a:t>«Ионыч»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03280" y="4437000"/>
            <a:ext cx="6769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блица-анкет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532720" y="6308640"/>
            <a:ext cx="466920" cy="378000"/>
          </a:xfrm>
          <a:custGeom>
            <a:avLst/>
            <a:gdLst>
              <a:gd name="textAreaLeft" fmla="*/ 24480 w 466920"/>
              <a:gd name="textAreaRight" fmla="*/ 442440 w 466920"/>
              <a:gd name="textAreaTop" fmla="*/ 24480 h 378000"/>
              <a:gd name="textAreaBottom" fmla="*/ 353520 h 378000"/>
            </a:gdLst>
            <a:ahLst/>
            <a:rect l="textAreaLeft" t="textAreaTop" r="textAreaRight" b="textAreaBottom"/>
            <a:pathLst>
              <a:path w="26676" h="21600">
                <a:moveTo>
                  <a:pt x="0" y="0"/>
                </a:moveTo>
                <a:lnTo>
                  <a:pt x="26676" y="0"/>
                </a:lnTo>
                <a:lnTo>
                  <a:pt x="26676" y="21600"/>
                </a:lnTo>
                <a:lnTo>
                  <a:pt x="0" y="21600"/>
                </a:lnTo>
                <a:close/>
              </a:path>
              <a:path fill="lightenLess" w="26676" h="21600">
                <a:moveTo>
                  <a:pt x="0" y="0"/>
                </a:moveTo>
                <a:lnTo>
                  <a:pt x="26676" y="0"/>
                </a:lnTo>
                <a:lnTo>
                  <a:pt x="25276" y="1400"/>
                </a:lnTo>
                <a:lnTo>
                  <a:pt x="1400" y="1400"/>
                </a:lnTo>
                <a:close/>
              </a:path>
              <a:path fill="darken" w="26676" h="21600">
                <a:moveTo>
                  <a:pt x="26676" y="0"/>
                </a:moveTo>
                <a:lnTo>
                  <a:pt x="26676" y="21600"/>
                </a:lnTo>
                <a:lnTo>
                  <a:pt x="25276" y="20200"/>
                </a:lnTo>
                <a:lnTo>
                  <a:pt x="25276" y="1400"/>
                </a:lnTo>
                <a:close/>
              </a:path>
              <a:path fill="darkenLess" w="26676" h="21600">
                <a:moveTo>
                  <a:pt x="26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76" y="20200"/>
                </a:lnTo>
                <a:close/>
              </a:path>
              <a:path fill="lighten" w="26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76" h="21600">
                <a:moveTo>
                  <a:pt x="6332" y="3794"/>
                </a:moveTo>
                <a:lnTo>
                  <a:pt x="20345" y="10800"/>
                </a:lnTo>
                <a:lnTo>
                  <a:pt x="633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Вопрос №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Хорошо известны горьковские герои Уж и Сокол. В чем разница между ними? Каких людей в наше время уподобляют Соколу, каких Ужу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Вопрос №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Воля, способности, энергия… Достаточно ли этого для настоящего человека? Всякого ли человека, обладающего этими качествами, можно уважа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Вопрос №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Смысл жизни, жизненная цель. Что можно об этом сказа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3794"/>
                </a:moveTo>
                <a:lnTo>
                  <a:pt x="20865" y="10800"/>
                </a:lnTo>
                <a:lnTo>
                  <a:pt x="68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Вопрос №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Кто такие мещане, в чем опасность мещанства и что порождает молодых мещан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Вопрос №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Знаете ли вы примеры разрушения личности под воздействием омещанивани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3794"/>
                </a:moveTo>
                <a:lnTo>
                  <a:pt x="20865" y="10800"/>
                </a:lnTo>
                <a:lnTo>
                  <a:pt x="68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Вопрос № 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Правильно ли говорят: «Честь человека в труде, ни в чём её больше не ищи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532720" y="6453360"/>
            <a:ext cx="611280" cy="40464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2621" h="21600">
                <a:moveTo>
                  <a:pt x="0" y="0"/>
                </a:moveTo>
                <a:lnTo>
                  <a:pt x="32621" y="0"/>
                </a:lnTo>
                <a:lnTo>
                  <a:pt x="32621" y="21600"/>
                </a:lnTo>
                <a:lnTo>
                  <a:pt x="0" y="21600"/>
                </a:lnTo>
                <a:close/>
              </a:path>
              <a:path fill="lightenLess" w="32621" h="21600">
                <a:moveTo>
                  <a:pt x="0" y="0"/>
                </a:moveTo>
                <a:lnTo>
                  <a:pt x="32621" y="0"/>
                </a:lnTo>
                <a:lnTo>
                  <a:pt x="31221" y="1400"/>
                </a:lnTo>
                <a:lnTo>
                  <a:pt x="1400" y="1400"/>
                </a:lnTo>
                <a:close/>
              </a:path>
              <a:path fill="darken" w="32621" h="21600">
                <a:moveTo>
                  <a:pt x="32621" y="0"/>
                </a:moveTo>
                <a:lnTo>
                  <a:pt x="32621" y="21600"/>
                </a:lnTo>
                <a:lnTo>
                  <a:pt x="31221" y="20200"/>
                </a:lnTo>
                <a:lnTo>
                  <a:pt x="31221" y="1400"/>
                </a:lnTo>
                <a:close/>
              </a:path>
              <a:path fill="darkenLess" w="32621" h="21600">
                <a:moveTo>
                  <a:pt x="32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21" y="20200"/>
                </a:lnTo>
                <a:close/>
              </a:path>
              <a:path fill="lighten" w="32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21" h="21600">
                <a:moveTo>
                  <a:pt x="9304" y="3794"/>
                </a:moveTo>
                <a:lnTo>
                  <a:pt x="23317" y="10800"/>
                </a:lnTo>
                <a:lnTo>
                  <a:pt x="930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Вывод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560" y="1197000"/>
            <a:ext cx="8785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одлость и обывательщина вас окружают на каждом шагу. Нетвердые духовные устои и отсутствие жизненных целей приводят людей при любой общественной формации в лагерь Ионычей, т. к. кроме среды на человека воздействует его собственное «Я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60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Вывод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8560" y="1628280"/>
            <a:ext cx="860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0000"/>
                </a:solidFill>
                <a:latin typeface="Monotype Corsiva"/>
              </a:rPr>
              <a:t>Современные Ионычи ещё отвратительнее, так как они лицемерят, воруют, грабят и калечат души начинающих жить. Будьте бдительны, остерегайтесь и боритесь за Человека в себе!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6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8:53:42Z</dcterms:created>
  <dc:creator>Ludmila</dc:creator>
  <dc:description/>
  <dc:language>en-US</dc:language>
  <cp:lastModifiedBy>Ludmila</cp:lastModifiedBy>
  <dcterms:modified xsi:type="dcterms:W3CDTF">2010-01-24T19:57:02Z</dcterms:modified>
  <cp:revision>5</cp:revision>
  <dc:subject/>
  <dc:title>А. П. Чехов «Ионыч»</dc:title>
</cp:coreProperties>
</file>