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466-3C54-4883-A5A7-4C492034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3BE-F7EC-4FBB-992A-D80BB70C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69F-0DFD-42E9-8F8A-1A91A7F7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4C7-967F-48B8-A49B-EA06CEA8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BA5-0E4E-4F99-8AD9-06EAFFAD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746-203B-4503-8CD1-CDF876D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58D-A06E-4BC8-B177-274EA1D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F3C-663B-4923-89B9-63769070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05A-B234-4B9C-8B76-AAED257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60A-492B-4E40-9C35-F776C7C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EA3-D066-4F89-B2AB-DA2AFC6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24E-98AE-4637-BB80-5F165E9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83F-777B-4A14-A3A2-88A8AE04F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90000"/>
                </a:solidFill>
                <a:latin typeface="Monotype Corsiva"/>
              </a:rPr>
              <a:t>А. П. Чехов</a:t>
            </a:r>
            <a:br>
              <a:rPr sz="10000"/>
            </a:br>
            <a:r>
              <a:rPr b="1" lang="ru-RU" sz="10000" spc="-1" strike="noStrike">
                <a:solidFill>
                  <a:srgbClr val="990000"/>
                </a:solidFill>
                <a:latin typeface="Monotype Corsiva"/>
              </a:rPr>
              <a:t>«Ионыч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4437000"/>
            <a:ext cx="67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а-анке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466920" cy="378000"/>
          </a:xfrm>
          <a:custGeom>
            <a:avLst/>
            <a:gdLst>
              <a:gd name="textAreaLeft" fmla="*/ 24480 w 466920"/>
              <a:gd name="textAreaRight" fmla="*/ 442440 w 46692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6332" y="3794"/>
                </a:moveTo>
                <a:lnTo>
                  <a:pt x="20345" y="10800"/>
                </a:lnTo>
                <a:lnTo>
                  <a:pt x="63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Хорошо известны горьковские герои Уж и Сокол. В чем разница между ними? Каких людей в наше время уподобляют Соколу, каких Уж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оля, способности, энергия… Достаточно ли этого для настоящего человека? Всякого ли человека, обладающего этими качествами, можно уваж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мысл жизни, жизненная цель. Что можно об этом сказ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Кто такие мещане, в чем опасность мещанства и что порождает молодых мещ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Знаете ли вы примеры разрушения личности под воздействием омещанива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равильно ли говорят: «Честь человека в труде, ни в чём её больше не ищи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560" y="119700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длость и обывательщина вас окружают на каждом шагу. Нетвердые духовные устои и отсутствие жизненных целей приводят людей при любой общественной формации в лагерь Ионычей, т. к. кроме среды на человека воздействует его собственное «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6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560" y="1628280"/>
            <a:ext cx="860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Современные Ионычи ещё отвратительнее, так как они лицемерят, воруют, грабят и калечат души начинающих жить. Будьте бдительны, остерегайтесь и боритесь за Человека в себе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53:42Z</dcterms:created>
  <dc:creator>Ludmila</dc:creator>
  <dc:description/>
  <dc:language>en-US</dc:language>
  <cp:lastModifiedBy>Ludmila</cp:lastModifiedBy>
  <dcterms:modified xsi:type="dcterms:W3CDTF">2010-01-24T19:57:02Z</dcterms:modified>
  <cp:revision>5</cp:revision>
  <dc:subject/>
  <dc:title>А. П. Чехов «Ионыч»</dc:title>
</cp:coreProperties>
</file>