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201D-7076-4B09-98BB-A0C5F4A7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21BA-D80F-491C-9CB9-F04C20A2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27B1-0617-407A-AAAA-117D049B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5E3A-3306-4431-8B5B-F87966DF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B2A4-01F7-4068-8248-216D54C6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2207-6AAA-4476-8BFF-4381CC8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7A1-1496-49FA-84CA-4EA648EB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4E3E-3E93-4A12-A6D9-9FB5E44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F37-DC82-48D3-B021-BA105E91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214-7ED5-4C08-A98C-F77A2D9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B4FF-3428-428D-954F-6D1B1CF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0CCB-06DF-44CE-980D-D9FDED2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46EB-5229-4447-8E1F-7AB604A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3863-C248-4F2F-BD35-02458A6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A983-AFF2-4A49-B197-ED2867AA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219-9BAD-45CB-AC29-44289340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5F2-72ED-497A-AD1E-A056E4A8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F3CD-207E-414B-A974-8BF1FC1B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1C78-4829-4D85-BC8B-3536097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EA9F-DA66-4470-9610-CC599CB8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53E1-5B03-406E-973F-C7B328F8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7D7A-7F81-4798-B557-E3C76DA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6174-A312-4403-92A5-E942063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006E-1BFA-4D48-AF80-934F3C7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956-7FBC-4450-8E51-59ADD6B1A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CCFD-E711-4A26-9972-B0773EE264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ман «Господа Головлёв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сковский дворянский институ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арскосельский лиц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весть «Запутанное дело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 rot="20763000">
            <a:off x="592200" y="1938240"/>
            <a:ext cx="3398760" cy="4437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721800">
            <a:off x="5243400" y="1811160"/>
            <a:ext cx="34070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ело о ссылке Салтыкова в Вятк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-музей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Салтыкова-Щедрина в Твер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7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24360" cy="5734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870 г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4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уровый сатирик России» -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 Салтыков - Щедри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10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род Глуп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89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908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одного горо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47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113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941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легорическая картин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М.Е. Салтыков-Щедри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лесу реакци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оман-хроник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«Пошехонская старин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ил Салтык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в раннем детств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.М.Салтыкова, мать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175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.В.Салтыков, отец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7528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узей-квартир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.Е. Салтыкова-Щедр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1:42Z</dcterms:created>
  <dc:creator>Миха</dc:creator>
  <dc:description/>
  <dc:language>en-US</dc:language>
  <cp:lastModifiedBy>dom</cp:lastModifiedBy>
  <dcterms:modified xsi:type="dcterms:W3CDTF">2012-05-13T14:03:27Z</dcterms:modified>
  <cp:revision>5</cp:revision>
  <dc:subject/>
  <dc:title>«Суровый сатирик России» -  М.Е. Салтыков - Щедр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b0000000000010250300207f7000400038000</vt:lpwstr>
  </property>
</Properties>
</file>