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9E175-AF05-4AB3-B41A-B72EE45D3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A7735-F7E0-4F79-A514-C4D0C20A8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529CC-1408-4E9A-8627-E1ED91CAF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AAC0F-9D85-419C-B867-2A704D521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837FB-DAD8-464A-9F21-948D6C75A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896E1-CC50-4C53-86A1-DED2F2636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06A40-EF80-43C2-B31B-BA025848D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F56E1-5722-4B64-BD65-503CF48D4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58C41-3162-4BDD-B1B4-61EC32818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FD8EF-5F73-4B58-BCF7-CA4058E8C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0941F-23AE-435B-9126-95DCBAF22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B0CB6-646F-4369-A956-A2F2B4CE1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84BDB-4C2E-478C-9D35-3EC5FBAB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01901-8D04-42D5-8C80-C516A564E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60D0F-C5CF-48B9-BD8D-81BC351EC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B6443-9AEB-48C5-A830-88988F458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508D6-6818-44A3-8F9D-C96FAEFA8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61653-AFF8-4C5E-9DEB-744809498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E5DFF-B2EF-4E4A-BF5E-734DF9EF1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C83A0-8770-41F9-9C5D-90F7DD71B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26314-99B7-4296-86CB-C1CDC6784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FC78D-675D-4C80-8575-9FFC263AD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9677E-CCF9-4AC3-AE9B-5CC89B0DB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7FFC5-8A0D-4940-9467-B9FFA0D4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0FFFA-DBBB-49F2-BC5B-94F8A174AA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FBFFE-B255-4122-834A-58E531969A2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799308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551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оман «Господа Головлёвы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7" name="Picture 5" descr=""/>
          <p:cNvPicPr/>
          <p:nvPr/>
        </p:nvPicPr>
        <p:blipFill>
          <a:blip r:embed="rId1"/>
          <a:stretch/>
        </p:blipFill>
        <p:spPr>
          <a:xfrm>
            <a:off x="2340000" y="260280"/>
            <a:ext cx="40323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Московский дворянский институт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835344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2195640" y="260280"/>
            <a:ext cx="518472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Царскосельский лицей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85690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овесть «Запутанное дело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1"/>
          <a:stretch/>
        </p:blipFill>
        <p:spPr>
          <a:xfrm rot="20763000">
            <a:off x="592200" y="1938240"/>
            <a:ext cx="3398760" cy="4437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"/>
          <p:cNvPicPr/>
          <p:nvPr/>
        </p:nvPicPr>
        <p:blipFill>
          <a:blip r:embed="rId2"/>
          <a:stretch/>
        </p:blipFill>
        <p:spPr>
          <a:xfrm rot="721800">
            <a:off x="5243400" y="1811160"/>
            <a:ext cx="3407040" cy="44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Дело о ссылке Салтыкова в Вятку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2627280" y="1197000"/>
            <a:ext cx="403236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"/>
          <p:cNvPicPr/>
          <p:nvPr/>
        </p:nvPicPr>
        <p:blipFill>
          <a:blip r:embed="rId1"/>
          <a:stretch/>
        </p:blipFill>
        <p:spPr>
          <a:xfrm>
            <a:off x="1763640" y="0"/>
            <a:ext cx="583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Дом-музей 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М.Е.Салтыкова-Щедрина в Твер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2124000" y="1484280"/>
            <a:ext cx="547236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2124000" y="189000"/>
            <a:ext cx="4824360" cy="573408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1870 год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1835280" y="115920"/>
            <a:ext cx="540072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«Суровый сатирик России» - 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М.Е. Салтыков - Щедрин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2340000" y="1484280"/>
            <a:ext cx="41036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Город Глупов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1908000" y="1557360"/>
            <a:ext cx="4896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2124000" y="1341360"/>
            <a:ext cx="4969080" cy="52578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История одного город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1547640" y="0"/>
            <a:ext cx="561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1908000" y="189000"/>
            <a:ext cx="511344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1908000" y="0"/>
            <a:ext cx="504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280" y="213372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5e5ff"/>
                </a:solidFill>
                <a:latin typeface="Garamond"/>
              </a:rPr>
              <a:t>Спасибо за внимание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7559640" cy="49417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Аллегорическая картина 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«М.Е. Салтыков-Щедрин 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в лесу реакции»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5589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Роман-хроника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«Пошехонская старина»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2556000" y="404640"/>
            <a:ext cx="417672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Михаил Салтыков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в раннем детстве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8" name="Picture 6" descr=""/>
          <p:cNvPicPr/>
          <p:nvPr/>
        </p:nvPicPr>
        <p:blipFill>
          <a:blip r:embed="rId1"/>
          <a:stretch/>
        </p:blipFill>
        <p:spPr>
          <a:xfrm>
            <a:off x="2411280" y="1484280"/>
            <a:ext cx="403236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1116000" y="0"/>
            <a:ext cx="698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О.М.Салтыкова, мать писател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2268360" y="1484280"/>
            <a:ext cx="417528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Е.В.Салтыков, отец писател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3" name="Picture 5" descr=""/>
          <p:cNvPicPr/>
          <p:nvPr/>
        </p:nvPicPr>
        <p:blipFill>
          <a:blip r:embed="rId1"/>
          <a:stretch/>
        </p:blipFill>
        <p:spPr>
          <a:xfrm>
            <a:off x="2195640" y="1484280"/>
            <a:ext cx="4464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1692360" y="1557360"/>
            <a:ext cx="5975280" cy="53006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Музей-квартира 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М.Е. Салтыкова-Щедрин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2T17:11:42Z</dcterms:created>
  <dc:creator>Миха</dc:creator>
  <dc:description/>
  <dc:language>en-US</dc:language>
  <cp:lastModifiedBy>dom</cp:lastModifiedBy>
  <dcterms:modified xsi:type="dcterms:W3CDTF">2012-05-13T14:03:27Z</dcterms:modified>
  <cp:revision>5</cp:revision>
  <dc:subject/>
  <dc:title>«Суровый сатирик России» -  М.Е. Салтыков - Щедрин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a0b0000000000010250300207f7000400038000</vt:lpwstr>
  </property>
</Properties>
</file>