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7F8-4B10-4EE1-8ABB-6EE0310C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D61-D476-47E8-9ADD-CA128163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131-6E9C-4B85-AF99-20294E1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928-B3B4-473F-9DA8-4E8D0E97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326-2747-4E4C-9615-96992603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7746-A457-4ACE-964C-D4281C0E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96B2-0EA0-4277-9A54-83C973FA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D596-206F-41EE-99D1-BA56DBBA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8A42-B496-4BAD-88E7-2960E73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5C11-365C-4030-87A3-0CDF70A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186F-39B3-4164-980E-AF942A88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63B-D2DC-4141-8D8E-40392809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31A1-FDBC-473F-9093-A792963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D997-39D8-4F12-A706-AE40467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09AD-1678-4EF0-84FB-DCEA2C7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8116-C7A4-4D21-AC55-713503AB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87E-8B8D-4686-A6AA-F1D6C742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BC9-ADE1-4E66-B15D-D429CA0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CF4-A4F2-4B31-9CDC-4AD9ED6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70B-3708-4842-9EC1-562044C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B1E-64EA-4A1B-9168-1BE9673E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CA8-062B-49D6-86BD-21D80E5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01A-B627-4538-AF2A-21360B60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A15-55D0-44CC-82DB-ACDB16C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DC1-BC84-47BA-8F47-0447C7CCF3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3DE1-44E1-40ED-8B6F-E38105ED3A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800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ема урока:</a:t>
            </a:r>
            <a:br>
              <a:rPr sz="2400"/>
            </a:b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Сумма углов в треугольнике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№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2276280"/>
            <a:ext cx="864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Цель урока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Отработать применение теоремы о сумме углов в треугольнике для решения задач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Развитие навыков работы с чертежом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43608" r="12231" b="0"/>
          <a:stretch/>
        </p:blipFill>
        <p:spPr>
          <a:xfrm>
            <a:off x="3772080" y="1268280"/>
            <a:ext cx="53719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№4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95640" y="2852640"/>
            <a:ext cx="60483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5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68720" y="3379680"/>
            <a:ext cx="59752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№6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11640" y="2990880"/>
            <a:ext cx="58323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№7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68720" y="3251160"/>
            <a:ext cx="59752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   №8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95640" y="3129120"/>
            <a:ext cx="6048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620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ктант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6   2;  6-7  «3»;  8-9  «4»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10   «5»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205000"/>
          <a:ext cx="8137440" cy="4653000"/>
        </p:xfrm>
        <a:graphic>
          <a:graphicData uri="http://schemas.openxmlformats.org/drawingml/2006/table">
            <a:tbl>
              <a:tblPr/>
              <a:tblGrid>
                <a:gridCol w="1657080"/>
                <a:gridCol w="3311640"/>
                <a:gridCol w="316872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3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ям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ям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и №23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олько решений имеет задач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ой треугольник называется равнобедрен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можно сказать о его угла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-12 стр. 13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4578120"/>
            <a:ext cx="76932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.30, теорема, №227, 235 реши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260280"/>
            <a:ext cx="619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12301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f12301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Образовательные задачи урок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зовать работу учащихся по систематизации знаний основных теоретических вопросов тем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Развивающие задачи урока: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здать условия для развити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знавательной активности учащихся, познавательного интереса к предмету; развивать навыки самостоятельной деятельности учащихс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оспитательные задачи урок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ть культуру умственного труд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ть умение критически относиться к результатам деятельнос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ить гуманистический характер обуч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сновные этапы урок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. момент, сообщение учителем цели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стная работа по повторению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общение и систематизация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кта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шение задач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ерка полученных знаний, ум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азовите виды треугольник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6892920" cy="388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3284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92468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ямоугольны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троугольны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упоугольны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201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ть опреде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3573360"/>
            <a:ext cx="1008000" cy="1513080"/>
          </a:xfrm>
          <a:prstGeom prst="rtTriangl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4292640"/>
            <a:ext cx="1152720" cy="1512720"/>
          </a:xfrm>
          <a:prstGeom prst="rtTriangle">
            <a:avLst/>
          </a:prstGeom>
          <a:solidFill>
            <a:srgbClr val="00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3429000"/>
            <a:ext cx="1224000" cy="1512720"/>
          </a:xfrm>
          <a:prstGeom prst="rtTriangl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3645000"/>
            <a:ext cx="1295640" cy="1871640"/>
          </a:xfrm>
          <a:prstGeom prst="rtTriangle">
            <a:avLst/>
          </a:prstGeom>
          <a:solidFill>
            <a:srgbClr val="ff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4076640"/>
            <a:ext cx="1295280" cy="1871640"/>
          </a:xfrm>
          <a:prstGeom prst="rtTriangle">
            <a:avLst/>
          </a:prstGeom>
          <a:solidFill>
            <a:srgbClr val="ff66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2708280"/>
            <a:ext cx="6465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492280"/>
            <a:ext cx="77770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50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оказать теорему о сумме углов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треугольни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5905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9640" y="155736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1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2925720"/>
            <a:ext cx="58672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52720" y="3112920"/>
            <a:ext cx="61912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66240" y="92880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7640" y="3068640"/>
            <a:ext cx="5256360" cy="354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35040" y="692280"/>
            <a:ext cx="76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23:57Z</dcterms:created>
  <dc:creator>Admin</dc:creator>
  <dc:description/>
  <dc:language>en-US</dc:language>
  <cp:lastModifiedBy>Admin</cp:lastModifiedBy>
  <dcterms:modified xsi:type="dcterms:W3CDTF">2009-02-22T11:21:33Z</dcterms:modified>
  <cp:revision>27</cp:revision>
  <dc:subject/>
  <dc:title>Тема урока:  «Сумма углов в треугольнике»</dc:title>
</cp:coreProperties>
</file>