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70E57-F769-4BCA-8E7C-0561D8A78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69AC3-6A31-4339-AB48-6822BB375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F7354-6B59-432E-921E-19753009D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9BD3F-6517-41CD-A087-32D3785E6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AB509-FE4D-4710-A26B-1CA529BE7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B95F1-391B-4B7A-A711-A3C1CB1C2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9BC6F-1548-4F82-9A46-8E013D5BF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2C936-D0BB-4994-AB40-2CA264433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37822-3B29-42E0-8932-10ED01D44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D6E69-782B-42DB-81AC-4D9CC4363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25253-65E9-4709-9D5E-73DB25C49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13082-1D07-4169-961C-4B88B0557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60E36-0F1C-4A52-85F9-F62162E17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028FA-FAB6-4F7D-A9B4-2359512CB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21429-8D1A-42B6-BD16-0EA8F8117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F6946-C566-4EF2-9DDF-AF0ACDCAF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41F9B-2A41-4EA8-8A04-3B8E29F8E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D8862-0569-450A-97A9-B936F632F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5FF78-726C-489B-B725-99AD51334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EF0D9-9D1E-4FD9-92BB-315BC4DAC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4B829-7291-4D12-BD56-BA64FA215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3A8B5-5814-45C4-83A9-65AC15B4C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740EF-427F-48B8-9DDD-2A166ADE5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7BF3F-2B64-4A64-8E61-A5C8D5FDA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14A6E-D93A-43B7-91D5-5E2A0665B5FC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F57D5-7840-4C0F-9048-877DA9E9E96B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00000" y="115560"/>
            <a:ext cx="7772400" cy="18003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Тема урока:</a:t>
            </a:r>
            <a:br>
              <a:rPr sz="2400"/>
            </a:b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«Сумма углов в треугольнике»</a:t>
            </a:r>
            <a:br>
              <a:rPr sz="3200"/>
            </a:b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                   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№4</a:t>
            </a: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1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503280" y="2276280"/>
            <a:ext cx="864072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6666"/>
                </a:solidFill>
                <a:uFillTx/>
                <a:latin typeface="Arial"/>
              </a:rPr>
              <a:t>Цель урока: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Отработать применение теоремы о сумме углов в треугольнике для решения задач.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Развитие навыков работы с чертежом.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43608" r="12231" b="0"/>
          <a:stretch/>
        </p:blipFill>
        <p:spPr>
          <a:xfrm>
            <a:off x="3772080" y="1268280"/>
            <a:ext cx="5371920" cy="266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Устные упражнения                          №4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Найдите: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&lt;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  <a:ea typeface="Arial"/>
              </a:rPr>
              <a:t>В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3095640" y="2852640"/>
            <a:ext cx="6048360" cy="370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Устные упражнения                             №5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  <a:ea typeface="Arial"/>
              </a:rPr>
              <a:t>Найдите: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&lt;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  <a:ea typeface="Arial"/>
              </a:rPr>
              <a:t>В, 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&lt;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  <a:ea typeface="Arial"/>
              </a:rPr>
              <a:t>А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3168720" y="3379680"/>
            <a:ext cx="5975280" cy="347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Устные упражнения                                 №6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  <a:ea typeface="Arial"/>
              </a:rPr>
              <a:t>Найдите: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&lt;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  <a:ea typeface="Arial"/>
              </a:rPr>
              <a:t>В,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&lt;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  <a:ea typeface="Arial"/>
              </a:rPr>
              <a:t>А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311640" y="2990880"/>
            <a:ext cx="583236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Устные упражнения                                 №7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  <a:ea typeface="Arial"/>
              </a:rPr>
              <a:t>Найдите: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&lt;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  <a:ea typeface="Arial"/>
              </a:rPr>
              <a:t>В,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&lt;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  <a:ea typeface="Arial"/>
              </a:rPr>
              <a:t>А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168720" y="3251160"/>
            <a:ext cx="5975280" cy="36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Устные упражнения                                    №8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  <a:ea typeface="Arial"/>
              </a:rPr>
              <a:t>Найдите: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&lt;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  <a:ea typeface="Arial"/>
              </a:rPr>
              <a:t>С,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&lt;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  <a:ea typeface="Arial"/>
              </a:rPr>
              <a:t>А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3095640" y="3129120"/>
            <a:ext cx="6048360" cy="37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611280" y="620640"/>
            <a:ext cx="8064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Диктант     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&lt;</a:t>
            </a: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6   2;  6-7  «3»;  8-9  «4»;</a:t>
            </a:r>
            <a:br>
              <a:rPr sz="3200"/>
            </a:b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                   10   «5»</a:t>
            </a:r>
            <a:br>
              <a:rPr sz="3200"/>
            </a:b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250920" y="2205000"/>
          <a:ext cx="8137440" cy="4653000"/>
        </p:xfrm>
        <a:graphic>
          <a:graphicData uri="http://schemas.openxmlformats.org/drawingml/2006/table">
            <a:tbl>
              <a:tblPr/>
              <a:tblGrid>
                <a:gridCol w="1657080"/>
                <a:gridCol w="3311640"/>
                <a:gridCol w="3168720"/>
              </a:tblGrid>
              <a:tr h="515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№</a:t>
                      </a: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80</a:t>
                      </a: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'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нет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№</a:t>
                      </a: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нет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нет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№</a:t>
                      </a: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нет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80</a:t>
                      </a: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'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№</a:t>
                      </a: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острые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острые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№</a:t>
                      </a: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нет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нет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№</a:t>
                      </a: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40</a:t>
                      </a: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`</a:t>
                      </a: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, 40</a:t>
                      </a: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'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30</a:t>
                      </a: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`</a:t>
                      </a: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, 30</a:t>
                      </a: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`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№</a:t>
                      </a: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20</a:t>
                      </a: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`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80</a:t>
                      </a: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`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№</a:t>
                      </a: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80</a:t>
                      </a: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`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40</a:t>
                      </a: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`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№</a:t>
                      </a: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9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прямоугольный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остроугольный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№</a:t>
                      </a: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0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остроугольный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прямоугольный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Решение задачи №234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Сколько решений имеет задача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Почему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Какой треугольник называется равнобедренным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Что можно сказать о его углах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Решение задач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С-12 стр. 137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11280" y="30686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Домашнее задание: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38080" y="4578120"/>
            <a:ext cx="7693200" cy="15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П.30, теорема, №227, 235 решить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                                 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900000" y="260280"/>
            <a:ext cx="619308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12301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пасибо за урок!</a:t>
            </a:r>
            <a:endParaRPr b="0" lang="en-US" sz="1800" spc="1" strike="noStrike">
              <a:ln w="12600">
                <a:solidFill>
                  <a:srgbClr val="f12301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Задачи урока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3366"/>
                </a:solidFill>
                <a:uFillTx/>
                <a:latin typeface="Arial"/>
              </a:rPr>
              <a:t>Образовательные задачи урока: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организовать работу учащихся по систематизации знаний основных теоретических вопросов темы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3366"/>
                </a:solidFill>
                <a:uFillTx/>
                <a:latin typeface="Arial"/>
              </a:rPr>
              <a:t>Развивающие задачи урока:</a:t>
            </a: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создать условия для развития</a:t>
            </a:r>
            <a:r>
              <a:rPr b="0" lang="ru-RU" sz="3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познавательной активности учащихся, познавательного интереса к предмету; развивать навыки самостоятельной деятельности учащихся</a:t>
            </a:r>
            <a:r>
              <a:rPr b="0" lang="ru-RU" sz="3600" spc="-1" strike="noStrike">
                <a:solidFill>
                  <a:srgbClr val="003366"/>
                </a:solidFill>
                <a:latin typeface="Arial"/>
              </a:rPr>
              <a:t>;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3366"/>
                </a:solidFill>
                <a:uFillTx/>
                <a:latin typeface="Arial"/>
              </a:rPr>
              <a:t>Воспитательные задачи урока: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воспитывать культуру умственного труда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воспитывать умение критически относиться к результатам деятельности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обеспечить гуманистический характер обучения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Основные этапы урока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Орг. момент, сообщение учителем цели урок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Устная работа по повторению материал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Обобщение и систематизация знаний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Диктан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Решение задачи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Проверка полученных знаний, умений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Домашнее задание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Назовите виды треугольников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619280" y="2565360"/>
            <a:ext cx="6892920" cy="38880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1835280" y="3068640"/>
            <a:ext cx="540072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050920" y="3284640"/>
            <a:ext cx="540072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924680" cy="156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Прямоугольный</a:t>
            </a:r>
            <a:br>
              <a:rPr sz="3200"/>
            </a:b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Остроугольный</a:t>
            </a:r>
            <a:br>
              <a:rPr sz="3200"/>
            </a:b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Тупоугольный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6920" y="2707920"/>
            <a:ext cx="720108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20574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Дать определения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500720" y="3573360"/>
            <a:ext cx="1008000" cy="1513080"/>
          </a:xfrm>
          <a:prstGeom prst="rtTriangle">
            <a:avLst/>
          </a:prstGeom>
          <a:solidFill>
            <a:srgbClr val="cc99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48000" y="4292640"/>
            <a:ext cx="1152720" cy="1512720"/>
          </a:xfrm>
          <a:prstGeom prst="rtTriangle">
            <a:avLst/>
          </a:prstGeom>
          <a:solidFill>
            <a:srgbClr val="00ff00"/>
          </a:solidFill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877080" y="3429000"/>
            <a:ext cx="1224000" cy="1512720"/>
          </a:xfrm>
          <a:prstGeom prst="rtTriangle">
            <a:avLst/>
          </a:prstGeom>
          <a:solidFill>
            <a:srgbClr val="00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403280" y="3645000"/>
            <a:ext cx="1295640" cy="1871640"/>
          </a:xfrm>
          <a:prstGeom prst="rtTriangle">
            <a:avLst/>
          </a:prstGeom>
          <a:solidFill>
            <a:srgbClr val="ff9900"/>
          </a:solidFill>
          <a:ln cap="sq"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651640" y="4076640"/>
            <a:ext cx="1295280" cy="1871640"/>
          </a:xfrm>
          <a:prstGeom prst="rtTriangle">
            <a:avLst/>
          </a:prstGeom>
          <a:solidFill>
            <a:srgbClr val="ff6600"/>
          </a:solidFill>
          <a:ln cap="sq"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908000" y="2708280"/>
            <a:ext cx="646596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835280" y="3068640"/>
            <a:ext cx="540072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835280" y="3068640"/>
            <a:ext cx="540072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971640" y="2492280"/>
            <a:ext cx="7777080" cy="38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42560" y="259920"/>
            <a:ext cx="735012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Доказать теорему о сумме углов </a:t>
            </a:r>
            <a:br>
              <a:rPr sz="3200"/>
            </a:b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в треугольнике.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6920" y="2421000"/>
            <a:ext cx="590580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79640" y="1557360"/>
            <a:ext cx="806436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Устные упражнения                             №1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8080" y="236232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Найдите: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&lt;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  <a:ea typeface="Arial"/>
              </a:rPr>
              <a:t>В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3276720" y="2925720"/>
            <a:ext cx="5867280" cy="393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Найдите: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&lt;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  <a:ea typeface="Arial"/>
              </a:rPr>
              <a:t>А,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&lt;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  <a:ea typeface="Arial"/>
              </a:rPr>
              <a:t>С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2952720" y="3112920"/>
            <a:ext cx="6191280" cy="374508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966240" y="928800"/>
            <a:ext cx="718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Устные упражнения                             №2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Найдите: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&lt;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  <a:ea typeface="Arial"/>
              </a:rPr>
              <a:t>В,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&lt;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  <a:ea typeface="Arial"/>
              </a:rPr>
              <a:t>С,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&lt;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  <a:ea typeface="Arial"/>
              </a:rPr>
              <a:t>А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887640" y="3068640"/>
            <a:ext cx="5256360" cy="35496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1535040" y="692280"/>
            <a:ext cx="760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Устные упражнения                             №3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9T19:23:57Z</dcterms:created>
  <dc:creator>Admin</dc:creator>
  <dc:description/>
  <dc:language>en-US</dc:language>
  <cp:lastModifiedBy>Admin</cp:lastModifiedBy>
  <dcterms:modified xsi:type="dcterms:W3CDTF">2009-02-22T11:21:33Z</dcterms:modified>
  <cp:revision>27</cp:revision>
  <dc:subject/>
  <dc:title>Тема урока:  «Сумма углов в треугольнике»</dc:title>
</cp:coreProperties>
</file>