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25D-E843-4CE4-A963-73FC05F3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935-E948-451B-B774-FC4FCDC1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44B-CB96-4DD5-A667-49008FB4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943-BF6E-4B0A-A315-B26E58EB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85A8-6D05-4DDF-A959-85E33DF8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ED26-3E2B-4397-8922-0C3D88DD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1842-1894-4FA9-9BD9-129BDF99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71F5-EEEB-401A-A624-F6FDFF01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F860-AF5D-40AC-9D60-0D8400E9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BBD2-C3EF-4675-8EA1-1B1E1967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7166-A0DB-4899-91C1-69DA022F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B4B-3CE7-4AC8-958F-ADEDCB12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A5F6-83D8-46D2-B043-A6E37404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F710-1908-4CC2-B5B2-8BAA5BB7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3EB6-88D5-4530-B8B4-7EE33421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27F4-0B1B-44BE-B8C5-C7890253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E302-70C5-490B-999E-9C781F52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403F-E13D-4597-B33A-5D5D2F99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F3C-5B2C-4664-9F13-15979C85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3FD-C97C-4325-BAE1-49706BE9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A332-30A9-4F99-A66E-9977D5B0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081-075C-4C18-AEC9-285917B2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D45-AA3C-40F6-9FE3-ADFDEFA5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94A-34D6-423B-9C0E-28B7FCBE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3B33-9DD5-4915-AE69-0D5F16E35E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D0F2-6F90-46BE-9F57-C8770CB609B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72400" cy="1800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Тема урока:</a:t>
            </a:r>
            <a:br>
              <a:rPr sz="2400"/>
            </a:b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Сумма углов в треугольнике»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№4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2276280"/>
            <a:ext cx="864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Цель урока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Отработать применение теоремы о сумме углов в треугольнике для решения задач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Развитие навыков работы с чертежом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43608" r="12231" b="0"/>
          <a:stretch/>
        </p:blipFill>
        <p:spPr>
          <a:xfrm>
            <a:off x="3772080" y="1268280"/>
            <a:ext cx="53719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№4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95640" y="2852640"/>
            <a:ext cx="60483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№5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В,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68720" y="3379680"/>
            <a:ext cx="59752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    №6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В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311640" y="2990880"/>
            <a:ext cx="58323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    №7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В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68720" y="3251160"/>
            <a:ext cx="59752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       №8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С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95640" y="3129120"/>
            <a:ext cx="60483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11280" y="62064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иктант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6   2;  6-7  «3»;  8-9  «4»;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10   «5»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2205000"/>
          <a:ext cx="8137440" cy="4653000"/>
        </p:xfrm>
        <a:graphic>
          <a:graphicData uri="http://schemas.openxmlformats.org/drawingml/2006/table">
            <a:tbl>
              <a:tblPr/>
              <a:tblGrid>
                <a:gridCol w="1657080"/>
                <a:gridCol w="3311640"/>
                <a:gridCol w="3168720"/>
              </a:tblGrid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'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'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тры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тры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, 4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'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 3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`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ямоугольны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троугольны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строугольны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ямоугольны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шение задачи №23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колько решений имеет задач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чему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акой треугольник называется равнобедренным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 можно сказать о его углах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шение задач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-12 стр. 137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3068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Домашнее задание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4578120"/>
            <a:ext cx="769320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.30, теорема, №227, 235 реши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00000" y="260280"/>
            <a:ext cx="6193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12301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2600">
                <a:solidFill>
                  <a:srgbClr val="f12301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дачи ур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Образовательные задачи урока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рганизовать работу учащихся по систематизации знаний основных теоретических вопросов тем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Развивающие задачи урока: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здать условия для развития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знавательной активности учащихся, познавательного интереса к предмету; развивать навыки самостоятельной деятельности учащихся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Воспитательные задачи урока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спитывать культуру умственного труд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спитывать умение критически относиться к результатам деятельност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еспечить гуманистический характер обуч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сновные этапы урок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рг. момент, сообщение учителем цели уро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стная работа по повторению материа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бобщение и систематизация зна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иктан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ешение задач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оверка полученных знаний, ум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омашнее зад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Назовите виды треугольнико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2565360"/>
            <a:ext cx="6892920" cy="388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835280" y="3068640"/>
            <a:ext cx="5400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0920" y="3284640"/>
            <a:ext cx="5400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924680" cy="15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ямоугольный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троугольный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упоугольны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6920" y="2707920"/>
            <a:ext cx="7201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ать определ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3573360"/>
            <a:ext cx="1008000" cy="1513080"/>
          </a:xfrm>
          <a:prstGeom prst="rtTriangle">
            <a:avLst/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0" y="4292640"/>
            <a:ext cx="1152720" cy="1512720"/>
          </a:xfrm>
          <a:prstGeom prst="rtTriangle">
            <a:avLst/>
          </a:prstGeom>
          <a:solidFill>
            <a:srgbClr val="00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3429000"/>
            <a:ext cx="1224000" cy="1512720"/>
          </a:xfrm>
          <a:prstGeom prst="rtTriangl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3645000"/>
            <a:ext cx="1295640" cy="1871640"/>
          </a:xfrm>
          <a:prstGeom prst="rtTriangle">
            <a:avLst/>
          </a:prstGeom>
          <a:solidFill>
            <a:srgbClr val="ff99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4076640"/>
            <a:ext cx="1295280" cy="1871640"/>
          </a:xfrm>
          <a:prstGeom prst="rtTriangle">
            <a:avLst/>
          </a:prstGeom>
          <a:solidFill>
            <a:srgbClr val="ff6600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2708280"/>
            <a:ext cx="6465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068640"/>
            <a:ext cx="5400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3068640"/>
            <a:ext cx="5400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2492280"/>
            <a:ext cx="77770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3501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оказать теорему о сумме углов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 треугольни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6920" y="2421000"/>
            <a:ext cx="5905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79640" y="155736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№1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76720" y="2925720"/>
            <a:ext cx="58672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А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52720" y="3112920"/>
            <a:ext cx="6191280" cy="3745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66240" y="92880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№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йдите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В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С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87640" y="3068640"/>
            <a:ext cx="5256360" cy="3549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35040" y="692280"/>
            <a:ext cx="76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тные упражнения                             №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9:23:57Z</dcterms:created>
  <dc:creator>Admin</dc:creator>
  <dc:description/>
  <dc:language>en-US</dc:language>
  <cp:lastModifiedBy>Admin</cp:lastModifiedBy>
  <dcterms:modified xsi:type="dcterms:W3CDTF">2009-02-22T11:21:33Z</dcterms:modified>
  <cp:revision>27</cp:revision>
  <dc:subject/>
  <dc:title>Тема урока:  «Сумма углов в треугольнике»</dc:title>
</cp:coreProperties>
</file>