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80C-E13C-468F-A75D-58FAF289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FCD-EF12-4B73-A907-F755FABA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E61B-541A-47A8-B8B0-BEBD65AD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64D-2042-4C6D-A81F-DFFC0729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9752-13E5-44A7-8860-4CFF4CD6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914B-17EB-4898-996E-80108CC9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9446-0E70-42F3-80F0-84944450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3CFB-4CE2-4624-A094-11718492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F397-7091-415C-A160-D01E29F1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22E7-6A49-4F4B-9C7C-42D1A85B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3E27-3B67-497F-AA5F-44E13470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9C2-C470-4E43-8966-7FBF11A4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1E3F-B8D3-4EF2-97DA-256BD6F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EB24-6356-415F-8711-1CE075CE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B3E4-FA01-48DF-85A8-AF840354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289C-87B8-48CC-A9E4-65A1D9C1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3B41-4FA6-4FF1-AC0A-C1328972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563-B51B-4127-9488-CA8ADD68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C87-2E48-491F-8CD4-0980D7A2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011-B1C8-4A56-805D-F4D86D57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567-4D54-45B2-8AB6-BC705493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C9D-96FF-4578-AC8F-C4E47D66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872-D74C-4EBC-9763-575D6798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1E5-BDDD-4C96-AA7A-1BAC8177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b6b99"/>
                </a:gs>
                <a:gs pos="100000">
                  <a:srgbClr val="4b4b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D7FB-36F4-4E28-BF6B-3C8F7E918C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b6b99"/>
                </a:gs>
                <a:gs pos="100000">
                  <a:srgbClr val="4b4b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5682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90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5079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4747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7476b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6b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CEA7-D5D4-42B5-8DA9-1D0BE83C1633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4-tub-ru.yandex.net/i?id=148092736-15-72&amp;n=21" TargetMode="External"/><Relationship Id="rId2" Type="http://schemas.openxmlformats.org/officeDocument/2006/relationships/hyperlink" Target="http://im4-tub-ru.yandex.net/i?id=148092736-15-72&amp;n=21" TargetMode="External"/><Relationship Id="rId3" Type="http://schemas.openxmlformats.org/officeDocument/2006/relationships/hyperlink" Target="http://im4-tub-ru.yandex.net/i?id=148092736-15-72&amp;n=21" TargetMode="External"/><Relationship Id="rId4" Type="http://schemas.openxmlformats.org/officeDocument/2006/relationships/hyperlink" Target="http://im4-tub-ru.yandex.net/i?id=148092736-15-72&amp;n=21" TargetMode="External"/><Relationship Id="rId5" Type="http://schemas.openxmlformats.org/officeDocument/2006/relationships/hyperlink" Target="http://im4-tub-ru.yandex.net/i?id=148092736-15-72&amp;n=21" TargetMode="External"/><Relationship Id="rId6" Type="http://schemas.openxmlformats.org/officeDocument/2006/relationships/hyperlink" Target="http://im4-tub-ru.yandex.net/i?id=148092736-15-72&amp;n=21" TargetMode="External"/><Relationship Id="rId7" Type="http://schemas.openxmlformats.org/officeDocument/2006/relationships/hyperlink" Target="http://im4-tub-ru.yandex.net/i?id=148092736-15-72&amp;n=21" TargetMode="External"/><Relationship Id="rId8" Type="http://schemas.openxmlformats.org/officeDocument/2006/relationships/hyperlink" Target="http://im4-tub-ru.yandex.net/i?id=148092736-15-72&amp;n=21" TargetMode="External"/><Relationship Id="rId9" Type="http://schemas.openxmlformats.org/officeDocument/2006/relationships/hyperlink" Target="http://im4-tub-ru.yandex.net/i?id=148092736-15-72&amp;n=21" TargetMode="External"/><Relationship Id="rId10" Type="http://schemas.openxmlformats.org/officeDocument/2006/relationships/hyperlink" Target="http://im0-tub-ru.yandex/" TargetMode="External"/><Relationship Id="rId11" Type="http://schemas.openxmlformats.org/officeDocument/2006/relationships/hyperlink" Target="http://im0-tub-ru.yandex/" TargetMode="External"/><Relationship Id="rId12" Type="http://schemas.openxmlformats.org/officeDocument/2006/relationships/hyperlink" Target="http://im2-tub-ru.yandex/" TargetMode="External"/><Relationship Id="rId13" Type="http://schemas.openxmlformats.org/officeDocument/2006/relationships/hyperlink" Target="http://im2-tub-ru.yandex.net/i?id" TargetMode="External"/><Relationship Id="rId14" Type="http://schemas.openxmlformats.org/officeDocument/2006/relationships/hyperlink" Target="http://im2-tub-ru.yandex.net/i?id" TargetMode="External"/><Relationship Id="rId15" Type="http://schemas.openxmlformats.org/officeDocument/2006/relationships/hyperlink" Target="http://im2-tub-ru.yandex.net/i?id" TargetMode="External"/><Relationship Id="rId16" Type="http://schemas.openxmlformats.org/officeDocument/2006/relationships/hyperlink" Target="http://im0-tub-ru.yandex.net/i?id" TargetMode="External"/><Relationship Id="rId17" Type="http://schemas.openxmlformats.org/officeDocument/2006/relationships/hyperlink" Target="http://im0-tub-ru.yandex.net/i?id" TargetMode="External"/><Relationship Id="rId18" Type="http://schemas.openxmlformats.org/officeDocument/2006/relationships/hyperlink" Target="http://im0-tub-ru.yandex.net/i?id" TargetMode="External"/><Relationship Id="rId19" Type="http://schemas.openxmlformats.org/officeDocument/2006/relationships/hyperlink" Target="http://im5-tub-ru.yandex.net/i?id=82232170-70-72&amp;n=21" TargetMode="External"/><Relationship Id="rId20" Type="http://schemas.openxmlformats.org/officeDocument/2006/relationships/hyperlink" Target="http://im5-tub-ru.yandex.net/i?id=82232170-70-72&amp;n=21" TargetMode="External"/><Relationship Id="rId21" Type="http://schemas.openxmlformats.org/officeDocument/2006/relationships/hyperlink" Target="http://im5-tub-ru.yandex.net/i?id=82232170-70-72&amp;n=21" TargetMode="External"/><Relationship Id="rId2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1-tub-ru.yandex.net/i?id=14496582-03-72&amp;n=21" TargetMode="External"/><Relationship Id="rId2" Type="http://schemas.openxmlformats.org/officeDocument/2006/relationships/hyperlink" Target="http://im1-tub-ru.yandex.net/i?id=14496582-03-72&amp;n=21" TargetMode="External"/><Relationship Id="rId3" Type="http://schemas.openxmlformats.org/officeDocument/2006/relationships/hyperlink" Target="http://im1-tub-ru.yandex.net/i?id=14496582-03-72&amp;n=21" TargetMode="External"/><Relationship Id="rId4" Type="http://schemas.openxmlformats.org/officeDocument/2006/relationships/hyperlink" Target="http://im1-tub-ru.yandex.net/i?id=14496582-03-72&amp;n=21" TargetMode="External"/><Relationship Id="rId5" Type="http://schemas.openxmlformats.org/officeDocument/2006/relationships/hyperlink" Target="http://im3-tub-ru.yandex.net/i?id" TargetMode="External"/><Relationship Id="rId6" Type="http://schemas.openxmlformats.org/officeDocument/2006/relationships/hyperlink" Target="http://im3-tub-ru.yandex.net/i?id" TargetMode="External"/><Relationship Id="rId7" Type="http://schemas.openxmlformats.org/officeDocument/2006/relationships/hyperlink" Target="http://im3-tub-ru.yandex.net/i?id" TargetMode="External"/><Relationship Id="rId8" Type="http://schemas.openxmlformats.org/officeDocument/2006/relationships/hyperlink" Target="http://im3-tub-ru.yandex.net/i?id" TargetMode="External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Спортивный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КВН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1938240" cy="2076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6443640" y="404640"/>
            <a:ext cx="2482920" cy="186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1042920" y="388476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851280" y="4033800"/>
            <a:ext cx="529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читель физической культуры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МОУ «Усть-Кубинская СОШ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логодская область. С.Усть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мирнова Елена Генриховн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Восьмо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Силачи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5157720"/>
            <a:ext cx="822636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еретягивание канат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897440" cy="3368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Девя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Головоломк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455760" y="1989000"/>
            <a:ext cx="4187520" cy="41068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5080" y="2421000"/>
            <a:ext cx="403704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исунок волейбольного мяча расстрижен на несколько частей. Задача команд собрать головоломк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онкурс с болельщиками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Отгадай-к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4000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.Есть, ребята, у меня два серебряных коня, езжу сразу на обоих, что за кони у меня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611280" y="2205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олшебные туфли наденешь на ноги —И сразу помчишься по зимней дорог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68360" y="28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.Есть лужайка в нашей школе, а на ней козлы и кон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выркаемся мы тут ровно сорок пять мину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школе – кони и лужайка?! Что за чудо, угадай-ка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68360" y="3941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.Этот конь не ест овса, вместо ног – два колес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ядь верхом и мчись на нем, только лучше правь рул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468360" y="5137200"/>
            <a:ext cx="63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5.Гоняют клюшками по льду её у нас всех на вид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на в ворота залетит, и кто-то точно победи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68360" y="530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1"/>
          <a:stretch/>
        </p:blipFill>
        <p:spPr>
          <a:xfrm>
            <a:off x="6931080" y="4842000"/>
            <a:ext cx="192708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Деся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Смешанная эстафет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- ведение баскетбольного мяч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 – ведение малого мяча клюшко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 – передача и ловля от стенки волейбольного мяча (3 раз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 -  ведение малого мяча клюшкой в обратном направлен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5 – ведение баскетбольного мяч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6 – передача эстафет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дведение итогов. Награждение победителей и призёр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4537080" cy="3121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участие!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спехов и побед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-10044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42920" y="1093680"/>
            <a:ext cx="7850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1.Изображение «Баскетбольный мяч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im4-tub-ru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yandex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7"/>
              </a:rPr>
              <a:t>net/i?id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8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9"/>
              </a:rPr>
              <a:t>=148092736-15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2.Изображение « Мячи»   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0"/>
              </a:rPr>
              <a:t>http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1"/>
              </a:rPr>
              <a:t>://im0-tub-ru.yandex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579857708-50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3.Изображение «Мальчик с мячом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2"/>
              </a:rPr>
              <a:t>http://im2-tub-ru.yandex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net/i?id=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147853817-13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4. Изображение «Мяч, кеда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3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4"/>
              </a:rPr>
              <a:t>im2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5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344754554-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47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5.Изображение «Шарики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6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7"/>
              </a:rPr>
              <a:t>im0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8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508318077-51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6.Изображение «Кроссворд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9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0"/>
              </a:rPr>
              <a:t>im5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1"/>
              </a:rPr>
              <a:t>net/i?id=82232170-70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26360" cy="865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187280" y="1628640"/>
            <a:ext cx="7956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7.Изображение «Кегли»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1-tub-ru.yandex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net/i?id=14496582-03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8. Изображение «Перетягивание каната»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6"/>
              </a:rPr>
              <a:t>im3-tub-ru.yandex.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2000" spc="-1" strike="noStrike" u="sng">
                <a:solidFill>
                  <a:srgbClr val="65b2ff"/>
                </a:solidFill>
                <a:uFillTx/>
                <a:latin typeface="Arial"/>
                <a:hlinkClick r:id="rId8"/>
              </a:rPr>
              <a:t>net/i?id</a:t>
            </a:r>
            <a:r>
              <a:rPr b="0" lang="ru-RU" sz="2000" spc="-1" strike="noStrike">
                <a:solidFill>
                  <a:srgbClr val="eef9f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ef9f1"/>
                </a:solidFill>
                <a:latin typeface="Arial"/>
              </a:rPr>
              <a:t>=404100561-11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9.Изображение «Головоломка»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ttp://im5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52943028-37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0.Изображение «Веселые старты»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ttp://im4-tub-ru.yandex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68821796-51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1.Изображение «Пьедестал»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ttp://im4-tub-ru.yandex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et/i?id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284472267-12-72&amp;n=2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вый конкурс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Приветствие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5080" y="2708280"/>
            <a:ext cx="403704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идумать название, девиз команды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риветствие команде соперни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3843360" cy="2882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торой конкурс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Шарик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2708280"/>
            <a:ext cx="403704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альчики надувают шарики, девочки завязываю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687840" cy="3867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ретий конкурс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Знатоки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5589720"/>
            <a:ext cx="822636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писать 10 видов спор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онкурс с болельщиками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«Отгадай-ка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.Эти фрукты не съедобны, но огромны и удобны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х иной спортсмен часами лупит сильно кулака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.Железные блины соединены, тонкая палка – железная скалк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лины печет, силой влече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3.Эстафета нелегка, жду команды для рыв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4.Кто гантели поднимает, дальше всех ядро бросает? Быстро бегает, метко стреляет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одним словом их всех называют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5.В небо ласточкой вспорхнёт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ыбкой в озеро нырнё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700360" cy="230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твер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Перестрелк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ки встают напротив друг друга на расстоянии10 метров, между ними стоят кегли, по свистку попасть в кегл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4176720" cy="3773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яты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Умники и умницы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3816360" cy="42512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63640" y="2637000"/>
            <a:ext cx="331812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ждой команде в течение двух минут отгадать, как можно больше, сл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Шестой конкурс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Баскетболист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течение двух минут кто больше попадет баскетбольными мячами в кольц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едьмой конкурс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Капитаны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апитаны по очереди вытягивают карточки, на которых написан вид спорта. Задача капитанов изобразить данный вид спорта без слов. Пантоми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302256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3:13:45Z</dcterms:created>
  <dc:creator>Лена</dc:creator>
  <dc:description/>
  <dc:language>en-US</dc:language>
  <cp:lastModifiedBy>Ноутбук</cp:lastModifiedBy>
  <dcterms:modified xsi:type="dcterms:W3CDTF">2014-03-06T15:28:57Z</dcterms:modified>
  <cp:revision>9</cp:revision>
  <dc:subject/>
  <dc:title>Спортивный КВН</dc:title>
</cp:coreProperties>
</file>