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C23-6E12-4574-A759-ED76ACB5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B5E-F5DC-439E-9C1B-454D57DD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9CD-489F-45FE-BB45-AAF64DF8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ABA-5B94-4DE0-9871-AF21275C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FB94-B22C-42D8-89CA-337250A0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037E-9BAC-4932-A9EF-A41FC612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A041-FB3F-4FA1-853E-F2E9F46A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1303-E9CD-476B-A4E5-4E159B07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2FDB-5A67-4AA0-A21C-CA49E89D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D4E8-0181-49A7-BCBB-C2779FBC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268F-2CF0-4A74-B4A7-82BAF5CF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CBE-79B2-4C2E-AA9A-7656E019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396C-D3FA-4EBF-A803-0DDBD5A8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4915-7C0F-4F2D-873F-6AC6F12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E76D-8269-4759-B661-019F3835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E1DB-DF4B-4C91-879F-36D87EEA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09B4-D792-4336-9636-88695172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48C-0D03-42DA-80B4-DC57A9F0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A2D-ECD8-472C-A725-046F2B43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0AC-0187-4629-950F-EB6A3F8D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AD4-CA04-4EAD-9C58-0CD0DD28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ECB-75CE-46B4-9F72-9D97F96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97D-4847-405F-8833-603BC651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F81-D8BF-4AB6-A413-8D15A4F5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b6b99"/>
                </a:gs>
                <a:gs pos="100000">
                  <a:srgbClr val="4b4b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FED0-C787-4175-8FD6-AA1E88022F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b6b99"/>
                </a:gs>
                <a:gs pos="100000">
                  <a:srgbClr val="4b4b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BBDA-9C8B-48B0-B539-12357043DE79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4-tub-ru.yandex.net/i?id=148092736-15-72&amp;n=21" TargetMode="External"/><Relationship Id="rId2" Type="http://schemas.openxmlformats.org/officeDocument/2006/relationships/hyperlink" Target="http://im4-tub-ru.yandex.net/i?id=148092736-15-72&amp;n=21" TargetMode="External"/><Relationship Id="rId3" Type="http://schemas.openxmlformats.org/officeDocument/2006/relationships/hyperlink" Target="http://im4-tub-ru.yandex.net/i?id=148092736-15-72&amp;n=21" TargetMode="External"/><Relationship Id="rId4" Type="http://schemas.openxmlformats.org/officeDocument/2006/relationships/hyperlink" Target="http://im4-tub-ru.yandex.net/i?id=148092736-15-72&amp;n=21" TargetMode="External"/><Relationship Id="rId5" Type="http://schemas.openxmlformats.org/officeDocument/2006/relationships/hyperlink" Target="http://im4-tub-ru.yandex.net/i?id=148092736-15-72&amp;n=21" TargetMode="External"/><Relationship Id="rId6" Type="http://schemas.openxmlformats.org/officeDocument/2006/relationships/hyperlink" Target="http://im4-tub-ru.yandex.net/i?id=148092736-15-72&amp;n=21" TargetMode="External"/><Relationship Id="rId7" Type="http://schemas.openxmlformats.org/officeDocument/2006/relationships/hyperlink" Target="http://im4-tub-ru.yandex.net/i?id=148092736-15-72&amp;n=21" TargetMode="External"/><Relationship Id="rId8" Type="http://schemas.openxmlformats.org/officeDocument/2006/relationships/hyperlink" Target="http://im4-tub-ru.yandex.net/i?id=148092736-15-72&amp;n=21" TargetMode="External"/><Relationship Id="rId9" Type="http://schemas.openxmlformats.org/officeDocument/2006/relationships/hyperlink" Target="http://im4-tub-ru.yandex.net/i?id=148092736-15-72&amp;n=21" TargetMode="External"/><Relationship Id="rId10" Type="http://schemas.openxmlformats.org/officeDocument/2006/relationships/hyperlink" Target="http://im0-tub-ru.yandex/" TargetMode="External"/><Relationship Id="rId11" Type="http://schemas.openxmlformats.org/officeDocument/2006/relationships/hyperlink" Target="http://im0-tub-ru.yandex/" TargetMode="External"/><Relationship Id="rId12" Type="http://schemas.openxmlformats.org/officeDocument/2006/relationships/hyperlink" Target="http://im2-tub-ru.yandex/" TargetMode="External"/><Relationship Id="rId13" Type="http://schemas.openxmlformats.org/officeDocument/2006/relationships/hyperlink" Target="http://im2-tub-ru.yandex.net/i?id" TargetMode="External"/><Relationship Id="rId14" Type="http://schemas.openxmlformats.org/officeDocument/2006/relationships/hyperlink" Target="http://im2-tub-ru.yandex.net/i?id" TargetMode="External"/><Relationship Id="rId15" Type="http://schemas.openxmlformats.org/officeDocument/2006/relationships/hyperlink" Target="http://im2-tub-ru.yandex.net/i?id" TargetMode="External"/><Relationship Id="rId16" Type="http://schemas.openxmlformats.org/officeDocument/2006/relationships/hyperlink" Target="http://im0-tub-ru.yandex.net/i?id" TargetMode="External"/><Relationship Id="rId17" Type="http://schemas.openxmlformats.org/officeDocument/2006/relationships/hyperlink" Target="http://im0-tub-ru.yandex.net/i?id" TargetMode="External"/><Relationship Id="rId18" Type="http://schemas.openxmlformats.org/officeDocument/2006/relationships/hyperlink" Target="http://im0-tub-ru.yandex.net/i?id" TargetMode="External"/><Relationship Id="rId19" Type="http://schemas.openxmlformats.org/officeDocument/2006/relationships/hyperlink" Target="http://im5-tub-ru.yandex.net/i?id=82232170-70-72&amp;n=21" TargetMode="External"/><Relationship Id="rId20" Type="http://schemas.openxmlformats.org/officeDocument/2006/relationships/hyperlink" Target="http://im5-tub-ru.yandex.net/i?id=82232170-70-72&amp;n=21" TargetMode="External"/><Relationship Id="rId21" Type="http://schemas.openxmlformats.org/officeDocument/2006/relationships/hyperlink" Target="http://im5-tub-ru.yandex.net/i?id=82232170-70-72&amp;n=21" TargetMode="External"/><Relationship Id="rId2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1-tub-ru.yandex.net/i?id=14496582-03-72&amp;n=21" TargetMode="External"/><Relationship Id="rId2" Type="http://schemas.openxmlformats.org/officeDocument/2006/relationships/hyperlink" Target="http://im1-tub-ru.yandex.net/i?id=14496582-03-72&amp;n=21" TargetMode="External"/><Relationship Id="rId3" Type="http://schemas.openxmlformats.org/officeDocument/2006/relationships/hyperlink" Target="http://im1-tub-ru.yandex.net/i?id=14496582-03-72&amp;n=21" TargetMode="External"/><Relationship Id="rId4" Type="http://schemas.openxmlformats.org/officeDocument/2006/relationships/hyperlink" Target="http://im1-tub-ru.yandex.net/i?id=14496582-03-72&amp;n=21" TargetMode="External"/><Relationship Id="rId5" Type="http://schemas.openxmlformats.org/officeDocument/2006/relationships/hyperlink" Target="http://im3-tub-ru.yandex.net/i?id" TargetMode="External"/><Relationship Id="rId6" Type="http://schemas.openxmlformats.org/officeDocument/2006/relationships/hyperlink" Target="http://im3-tub-ru.yandex.net/i?id" TargetMode="External"/><Relationship Id="rId7" Type="http://schemas.openxmlformats.org/officeDocument/2006/relationships/hyperlink" Target="http://im3-tub-ru.yandex.net/i?id" TargetMode="External"/><Relationship Id="rId8" Type="http://schemas.openxmlformats.org/officeDocument/2006/relationships/hyperlink" Target="http://im3-tub-ru.yandex.net/i?id" TargetMode="Externa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Спортивный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КВН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938240" cy="2076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2482920" cy="186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1042920" y="388476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851280" y="4033800"/>
            <a:ext cx="529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итель физической культуры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ОУ «Усть-Кубинская СОШ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логодская область. С.Усть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мирнова Елена Генриховн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сьмо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Силачи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5157720"/>
            <a:ext cx="82263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етягивание канат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897440" cy="3368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евя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Головолом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455760" y="1989000"/>
            <a:ext cx="4187520" cy="41068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5080" y="2421000"/>
            <a:ext cx="40370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исунок волейбольного мяча расстрижен на несколько частей. Задача команд собрать головолом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онкурс с болельщиками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Отгадай-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400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.Есть, ребята, у меня два серебряных коня, езжу сразу на обоих, что за кони у меня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611280" y="220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лшебные туфли наденешь на ноги —И сразу помчишься по зимней дорог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6836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.Есть лужайка в нашей школе, а на ней козлы и кон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выркаемся мы тут ровно сорок пять мину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школе – кони и лужайка?! Что за чудо, угадай-ка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68360" y="3941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.Этот конь не ест овса, вместо ног – два коле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ядь верхом и мчись на нем, только лучше правь рул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468360" y="5137200"/>
            <a:ext cx="63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.Гоняют клюшками по льду её у нас всех на вид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на в ворота залетит, и кто-то точно победи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68360" y="530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6931080" y="4842000"/>
            <a:ext cx="19270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еся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Смешанная эстафет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- ведение баскетбольного мяч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 – ведение малого мяча клюшко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 – передача и ловля от стенки волейбольного мяча (3 раз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 -  ведение малого мяча клюшкой в обратном направлен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 – ведение баскетбольного мяч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6 – передача эстафет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дведение итогов. Награждение победителей и призёр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537080" cy="3121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участие!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спехов и побед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-10044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42920" y="1093680"/>
            <a:ext cx="7850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1.Изображение «Баскетбольный мяч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im4-tub-ru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yandex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7"/>
              </a:rPr>
              <a:t>net/i?id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8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9"/>
              </a:rPr>
              <a:t>=148092736-15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2.Изображение « Мячи»   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0"/>
              </a:rPr>
              <a:t>http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1"/>
              </a:rPr>
              <a:t>://im0-tub-ru.yandex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579857708-50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3.Изображение «Мальчик с мячом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2"/>
              </a:rPr>
              <a:t>http://im2-tub-ru.yandex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net/i?id=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147853817-13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4. Изображение «Мяч, кеда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3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4"/>
              </a:rPr>
              <a:t>im2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5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344754554-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47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5.Изображение «Шарики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6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7"/>
              </a:rPr>
              <a:t>im0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8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508318077-51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6.Изображение «Кроссворд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9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0"/>
              </a:rPr>
              <a:t>im5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1"/>
              </a:rPr>
              <a:t>net/i?id=82232170-70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187280" y="1628640"/>
            <a:ext cx="7956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7.Изображение «Кегли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1-tub-ru.yandex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net/i?id=14496582-03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8. Изображение «Перетягивание каната»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6"/>
              </a:rPr>
              <a:t>im3-tub-ru.yandex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8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404100561-11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9.Изображение «Головоломка»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ttp://im5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52943028-37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0.Изображение «Веселые старты»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ttp://im4-tub-ru.yandex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68821796-51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1.Изображение «Пьедестал»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ttp://im4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84472267-12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вый конкурс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Приветствие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5080" y="2708280"/>
            <a:ext cx="40370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идумать название, девиз команды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иветствие команде соперни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84336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торой конкурс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Шарик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2708280"/>
            <a:ext cx="40370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альчики надувают шарики, девочки завязываю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68784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ретий конкурс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Знатоки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5589720"/>
            <a:ext cx="822636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исать 10 видов спор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онкурс с болельщиками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Отгадай-ка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.Эти фрукты не съедобны, но огромны и удобны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х иной спортсмен часами лупит сильно кулака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.Железные блины соединены, тонкая палка – железная скалк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лины печет, силой влече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.Эстафета нелегка, жду команды для рыв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.Кто гантели поднимает, дальше всех ядро бросает? Быстро бегает, метко стреляет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одним словом их всех называют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.В небо ласточкой вспорхнёт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ыбкой в озеро нырнё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700360" cy="230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твер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Перестрел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ки встают напротив друг друга на расстоянии10 метров, между ними стоят кегли, по свистку попасть в кегл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4176720" cy="3773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я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3816360" cy="42512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63640" y="2637000"/>
            <a:ext cx="331812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ждой команде в течение двух минут отгадать, как можно больше, сл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Шесто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Баскетболист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течение двух минут кто больше попадет баскетбольными мячами в кольц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едьмой конкурс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Капитаны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питаны по очереди вытягивают карточки, на которых написан вид спорта. Задача капитанов изобразить данный вид спорта без слов. Пантоми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302256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13:45Z</dcterms:created>
  <dc:creator>Лена</dc:creator>
  <dc:description/>
  <dc:language>en-US</dc:language>
  <cp:lastModifiedBy>Ноутбук</cp:lastModifiedBy>
  <dcterms:modified xsi:type="dcterms:W3CDTF">2014-03-06T15:28:57Z</dcterms:modified>
  <cp:revision>9</cp:revision>
  <dc:subject/>
  <dc:title>Спортивный КВН</dc:title>
</cp:coreProperties>
</file>