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842-2893-4651-B05F-8A2AEA6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C0E-581A-402C-B842-3236FEA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61C-7DA2-4C7E-88B5-BF5CFE5D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0BC-9394-4C28-B480-F231649D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92B-3C99-4BFF-82E1-20621B08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73E-2065-47F3-9CFE-BBE0111C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D90A-DCB5-4BF3-9F4A-9F7D00C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36A1-93A2-4566-B9B1-05A77A5D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763-67B4-4D79-A275-09DC71B7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5BC9-E52C-41F6-A725-479D673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2D8A-78B5-4699-8F05-2B1A6BD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DCA-9309-495C-AD8C-1AF539C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5C3E-DFF6-43BC-A6A4-8F3A848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89D-9784-4163-9959-45C49B5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FDB2-3AEA-4F33-B0FA-F894C62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3DA5-8AC7-49C0-A2DF-89D8AAC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3F7-4ABF-42E6-8AAB-F0913C47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D95-08F7-45CE-8A53-5B53F21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297-A322-40A1-8330-8AEED64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6DC-DA34-4ED7-892E-FB03CD4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66C-C1FC-4E0A-8CDC-4532CA54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D60-AC77-4237-9301-B63E243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3BF-33CA-4C6A-95D5-770F83D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E9B-794F-4023-BA09-27D294B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CDC2-60CC-4396-80D4-2EA6B950C8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86D-E7D3-46D5-A01C-215BABE3D2C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48092736-15-72&amp;n=21" TargetMode="External"/><Relationship Id="rId2" Type="http://schemas.openxmlformats.org/officeDocument/2006/relationships/hyperlink" Target="http://im4-tub-ru.yandex.net/i?id=148092736-15-72&amp;n=21" TargetMode="External"/><Relationship Id="rId3" Type="http://schemas.openxmlformats.org/officeDocument/2006/relationships/hyperlink" Target="http://im4-tub-ru.yandex.net/i?id=148092736-15-72&amp;n=21" TargetMode="External"/><Relationship Id="rId4" Type="http://schemas.openxmlformats.org/officeDocument/2006/relationships/hyperlink" Target="http://im4-tub-ru.yandex.net/i?id=148092736-15-72&amp;n=21" TargetMode="External"/><Relationship Id="rId5" Type="http://schemas.openxmlformats.org/officeDocument/2006/relationships/hyperlink" Target="http://im4-tub-ru.yandex.net/i?id=148092736-15-72&amp;n=21" TargetMode="External"/><Relationship Id="rId6" Type="http://schemas.openxmlformats.org/officeDocument/2006/relationships/hyperlink" Target="http://im4-tub-ru.yandex.net/i?id=148092736-15-72&amp;n=21" TargetMode="External"/><Relationship Id="rId7" Type="http://schemas.openxmlformats.org/officeDocument/2006/relationships/hyperlink" Target="http://im4-tub-ru.yandex.net/i?id=148092736-15-72&amp;n=21" TargetMode="External"/><Relationship Id="rId8" Type="http://schemas.openxmlformats.org/officeDocument/2006/relationships/hyperlink" Target="http://im4-tub-ru.yandex.net/i?id=148092736-15-72&amp;n=21" TargetMode="External"/><Relationship Id="rId9" Type="http://schemas.openxmlformats.org/officeDocument/2006/relationships/hyperlink" Target="http://im4-tub-ru.yandex.net/i?id=148092736-15-72&amp;n=21" TargetMode="External"/><Relationship Id="rId10" Type="http://schemas.openxmlformats.org/officeDocument/2006/relationships/hyperlink" Target="http://im0-tub-ru.yandex/" TargetMode="External"/><Relationship Id="rId11" Type="http://schemas.openxmlformats.org/officeDocument/2006/relationships/hyperlink" Target="http://im0-tub-ru.yandex/" TargetMode="External"/><Relationship Id="rId12" Type="http://schemas.openxmlformats.org/officeDocument/2006/relationships/hyperlink" Target="http://im2-tub-ru.yandex/" TargetMode="External"/><Relationship Id="rId13" Type="http://schemas.openxmlformats.org/officeDocument/2006/relationships/hyperlink" Target="http://im2-tub-ru.yandex.net/i?id" TargetMode="External"/><Relationship Id="rId14" Type="http://schemas.openxmlformats.org/officeDocument/2006/relationships/hyperlink" Target="http://im2-tub-ru.yandex.net/i?id" TargetMode="External"/><Relationship Id="rId15" Type="http://schemas.openxmlformats.org/officeDocument/2006/relationships/hyperlink" Target="http://im2-tub-ru.yandex.net/i?id" TargetMode="External"/><Relationship Id="rId16" Type="http://schemas.openxmlformats.org/officeDocument/2006/relationships/hyperlink" Target="http://im0-tub-ru.yandex.net/i?id" TargetMode="External"/><Relationship Id="rId17" Type="http://schemas.openxmlformats.org/officeDocument/2006/relationships/hyperlink" Target="http://im0-tub-ru.yandex.net/i?id" TargetMode="External"/><Relationship Id="rId18" Type="http://schemas.openxmlformats.org/officeDocument/2006/relationships/hyperlink" Target="http://im0-tub-ru.yandex.net/i?id" TargetMode="External"/><Relationship Id="rId19" Type="http://schemas.openxmlformats.org/officeDocument/2006/relationships/hyperlink" Target="http://im5-tub-ru.yandex.net/i?id=82232170-70-72&amp;n=21" TargetMode="External"/><Relationship Id="rId20" Type="http://schemas.openxmlformats.org/officeDocument/2006/relationships/hyperlink" Target="http://im5-tub-ru.yandex.net/i?id=82232170-70-72&amp;n=21" TargetMode="External"/><Relationship Id="rId21" Type="http://schemas.openxmlformats.org/officeDocument/2006/relationships/hyperlink" Target="http://im5-tub-ru.yandex.net/i?id=82232170-70-72&amp;n=21" TargetMode="External"/><Relationship Id="rId2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1-tub-ru.yandex.net/i?id=14496582-03-72&amp;n=21" TargetMode="External"/><Relationship Id="rId2" Type="http://schemas.openxmlformats.org/officeDocument/2006/relationships/hyperlink" Target="http://im1-tub-ru.yandex.net/i?id=14496582-03-72&amp;n=21" TargetMode="External"/><Relationship Id="rId3" Type="http://schemas.openxmlformats.org/officeDocument/2006/relationships/hyperlink" Target="http://im1-tub-ru.yandex.net/i?id=14496582-03-72&amp;n=21" TargetMode="External"/><Relationship Id="rId4" Type="http://schemas.openxmlformats.org/officeDocument/2006/relationships/hyperlink" Target="http://im1-tub-ru.yandex.net/i?id=14496582-03-72&amp;n=21" TargetMode="External"/><Relationship Id="rId5" Type="http://schemas.openxmlformats.org/officeDocument/2006/relationships/hyperlink" Target="http://im3-tub-ru.yandex.net/i?id" TargetMode="External"/><Relationship Id="rId6" Type="http://schemas.openxmlformats.org/officeDocument/2006/relationships/hyperlink" Target="http://im3-tub-ru.yandex.net/i?id" TargetMode="External"/><Relationship Id="rId7" Type="http://schemas.openxmlformats.org/officeDocument/2006/relationships/hyperlink" Target="http://im3-tub-ru.yandex.net/i?id" TargetMode="External"/><Relationship Id="rId8" Type="http://schemas.openxmlformats.org/officeDocument/2006/relationships/hyperlink" Target="http://im3-tub-ru.yandex.net/i?id" TargetMode="Externa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ортивный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В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938240" cy="207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482920" cy="186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042920" y="388476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851280" y="403380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 физической культур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У «Усть-Кубинская СОШ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огодская область. С.Усть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мирнова Елена Генрихов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сьм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илач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5157720"/>
            <a:ext cx="822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тягивание кана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897440" cy="3368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в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Головолом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455760" y="1989000"/>
            <a:ext cx="4187520" cy="4106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2421000"/>
            <a:ext cx="40370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исунок волейбольного мяча расстрижен на несколько частей. Задача команд собрать головолом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0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Есть, ребята, у меня два серебряных коня, езжу сразу на обоих, что за кони у меня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шебные туфли наденешь на ноги —И сразу помчишься по зимней дорог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Есть лужайка в нашей школе, а на ней козлы и ко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выркаемся мы тут ровно сорок пять мин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школе – кони и лужайка?! Что за чудо, угадай-ка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8360" y="3941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Этот конь не ест овса, вместо ног – два коле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ядь верхом и мчись на нем, только лучше правь рул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68360" y="5137200"/>
            <a:ext cx="63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Гоняют клюшками по льду её у нас всех на вид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в ворота залетит, и кто-то точно побед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6836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6931080" y="4842000"/>
            <a:ext cx="19270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с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мешанная эстафет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-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 – ведение малого мяча клюшк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 – передача и ловля от стенки волейбольного мяча (3 раз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 -  ведение малого мяча клюшкой в обратном направлен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 –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6 – передача эстафе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дведение итогов. Награждение победителей и призёр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участие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пехов и побед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42920" y="1093680"/>
            <a:ext cx="7850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1.Изображение «Баскетбольный мяч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im4-tub-ru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net/i?id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9"/>
              </a:rPr>
              <a:t>=148092736-15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2.Изображение « Мячи»   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0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1"/>
              </a:rPr>
              <a:t>://im0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79857708-5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3.Изображение «Мальчик с мячом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2"/>
              </a:rPr>
              <a:t>http://im2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=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147853817-1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4. Изображение «Мяч, кеда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4"/>
              </a:rPr>
              <a:t>im2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5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344754554-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4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5.Изображение «Шарик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6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7"/>
              </a:rPr>
              <a:t>im0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08318077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6.Изображение «Кроссворд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9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0"/>
              </a:rPr>
              <a:t>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1"/>
              </a:rPr>
              <a:t>net/i?id=82232170-7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95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7.Изображение «Кегл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1-tub-ru.yandex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net/i?id=14496582-0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8. Изображение «Перетягивание каната»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im3-tub-ru.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404100561-1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.Изображение «Головоломка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52943028-3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.Изображение «Веселые старты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68821796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1.Изображение «Пьедестал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84472267-12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Приветстви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думать название, девиз команд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ветствие команде соперни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84336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торо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Шарик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льчики надувают шарики, девочки завязываю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68784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ети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наток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5589720"/>
            <a:ext cx="822636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исать 10 видов спор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Эти фрукты не съедобны, но огромны и удобн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х иной спортсмен часами лупит сильно кулака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.Железные блины соединены, тонкая палка – железная скалк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лины печет, силой влече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Эстафета нелегка, жду команды для рыв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Кто гантели поднимает, дальше всех ядро бросает? Быстро бегает, метко стреляе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одним словом их всех называют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В небо ласточкой вспорхнё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бкой в озеро нырнё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70036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твер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Перестрел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ки встают напротив друг друга на расстоянии10 метров, между ними стоят кегли, по свистку попасть в кегл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176720" cy="3773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816360" cy="42512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63640" y="2637000"/>
            <a:ext cx="33181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ой команде в течение двух минут отгадать, как можно больше, сл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Шест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Баскетболис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течение двух минут кто больше попадет баскетбольными мячами в кольц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дьмой конкурс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апитан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питаны по очереди вытягивают карточки, на которых написан вид спорта. Задача капитанов изобразить данный вид спорта без слов. Пантоми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02256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13:45Z</dcterms:created>
  <dc:creator>Лена</dc:creator>
  <dc:description/>
  <dc:language>en-US</dc:language>
  <cp:lastModifiedBy>Ноутбук</cp:lastModifiedBy>
  <dcterms:modified xsi:type="dcterms:W3CDTF">2014-03-06T15:28:57Z</dcterms:modified>
  <cp:revision>9</cp:revision>
  <dc:subject/>
  <dc:title>Спортивный КВН</dc:title>
</cp:coreProperties>
</file>