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421-689A-43BF-B64F-5C86FD84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C15-F4AD-4AE3-9834-124CD683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B1F-16AD-4A69-8212-E155EA59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080-80EF-4881-8A3A-375F3938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BF7-D137-46F4-A02B-28537CDB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D27A-2215-428F-A0A3-6C73C90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29DE-6B2C-49FC-9426-7885722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2739-C09C-476C-A763-C19C9DE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28C-BB0D-467C-8E06-253E5774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5CE5-45FB-4FB5-B1BC-2F82789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A62B-6AE8-459A-9DAF-A2A6E7C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F5F-2C90-4D6B-80DB-27E64119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CE3A-41CE-4768-AC6C-4385230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9B6-18B5-473D-8C25-1850E1A6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3A4E-CC06-4C57-811D-E0252082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E41-DA19-4EAD-A3F4-7633A239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2D3F-88A4-40F3-AB4D-20B9A2D3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CB0-064A-4FC3-BE8A-298F0E03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8A0-E2C9-4018-A366-FCD40F3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40D-A5D0-464E-829F-F900394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4A8-E231-4D02-BD67-CFAB156F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008-03DE-47A2-9992-C9A2B644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F68-ACE7-4F05-A6AF-60011C8A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AA2-2B08-4EEE-936B-D31982D2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7B3-04B0-4D1D-B6CD-82E3B7E0BB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3A6F-6602-42E0-BCD5-CCE8781F3B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006633"/>
                </a:solidFill>
                <a:latin typeface="Georgia"/>
              </a:rPr>
              <a:t>Взаимное расположение прямых в пространстве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Georgia"/>
              </a:rPr>
              <a:t>Скрещивающиеся  пря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ОУ СОШ №256 г.Фо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26668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4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88280" y="6165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965240"/>
            <a:ext cx="1143000" cy="2622600"/>
          </a:xfrm>
          <a:custGeom>
            <a:avLst/>
            <a:gdLst/>
            <a:ahLst/>
            <a:rect l="l" t="t" r="r" b="b"/>
            <a:pathLst>
              <a:path w="720" h="1652">
                <a:moveTo>
                  <a:pt x="0" y="1652"/>
                </a:move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44640" y="1996920"/>
            <a:ext cx="577800" cy="2254320"/>
          </a:xfrm>
          <a:custGeom>
            <a:avLst/>
            <a:gdLst/>
            <a:ahLst/>
            <a:rect l="l" t="t" r="r" b="b"/>
            <a:pathLst>
              <a:path w="364" h="1420">
                <a:moveTo>
                  <a:pt x="0" y="0"/>
                </a:moveTo>
                <a:lnTo>
                  <a:pt x="364" y="1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040" y="4602240"/>
            <a:ext cx="2179440" cy="1433520"/>
          </a:xfrm>
          <a:custGeom>
            <a:avLst/>
            <a:gdLst/>
            <a:ahLst/>
            <a:rect l="l" t="t" r="r" b="b"/>
            <a:pathLst>
              <a:path w="1373" h="903">
                <a:moveTo>
                  <a:pt x="0" y="0"/>
                </a:moveTo>
                <a:lnTo>
                  <a:pt x="1373" y="9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4581360"/>
            <a:ext cx="2179440" cy="1432080"/>
          </a:xfrm>
          <a:custGeom>
            <a:avLst/>
            <a:gdLst/>
            <a:ahLst/>
            <a:rect l="l" t="t" r="r" b="b"/>
            <a:pathLst>
              <a:path w="1373" h="902">
                <a:moveTo>
                  <a:pt x="0" y="0"/>
                </a:moveTo>
                <a:lnTo>
                  <a:pt x="1373" y="9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08400" y="3322800"/>
            <a:ext cx="669600" cy="3565440"/>
          </a:xfrm>
          <a:custGeom>
            <a:avLst/>
            <a:gdLst/>
            <a:ahLst/>
            <a:rect l="l" t="t" r="r" b="b"/>
            <a:pathLst>
              <a:path w="422" h="2246">
                <a:moveTo>
                  <a:pt x="0" y="2246"/>
                </a:moveTo>
                <a:lnTo>
                  <a:pt x="42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4525920"/>
            <a:ext cx="1845000" cy="2332080"/>
          </a:xfrm>
          <a:custGeom>
            <a:avLst/>
            <a:gdLst/>
            <a:ahLst/>
            <a:rect l="l" t="t" r="r" b="b"/>
            <a:pathLst>
              <a:path w="1162" h="1469">
                <a:moveTo>
                  <a:pt x="0" y="1469"/>
                </a:moveTo>
                <a:lnTo>
                  <a:pt x="116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50"/>
                            </p:stCondLst>
                            <p:childTnLst>
                              <p:par>
                                <p:cTn id="8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50"/>
                            </p:stCondLst>
                            <p:childTnLst>
                              <p:par>
                                <p:cTn id="8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50"/>
                            </p:stCondLst>
                            <p:childTnLst>
                              <p:par>
                                <p:cTn id="8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3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3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30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300"/>
                            </p:stCondLst>
                            <p:childTnLst>
                              <p:par>
                                <p:cTn id="8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300"/>
                            </p:stCondLst>
                            <p:childTnLst>
                              <p:par>
                                <p:cTn id="8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800"/>
                            </p:stCondLst>
                            <p:childTnLst>
                              <p:par>
                                <p:cTn id="8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300"/>
                            </p:stCondLst>
                            <p:childTnLst>
                              <p:par>
                                <p:cTn id="9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100"/>
                            </p:stCondLst>
                            <p:childTnLst>
                              <p:par>
                                <p:cTn id="9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100"/>
                            </p:stCondLst>
                            <p:childTnLst>
                              <p:par>
                                <p:cTn id="9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"/>
                            </p:stCondLst>
                            <p:childTnLst>
                              <p:par>
                                <p:cTn id="9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800"/>
                            </p:stCondLst>
                            <p:childTnLst>
                              <p:par>
                                <p:cTn id="9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30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800"/>
                            </p:stCondLst>
                            <p:childTnLst>
                              <p:par>
                                <p:cTn id="9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34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4508640"/>
            <a:ext cx="3535200" cy="1554120"/>
          </a:xfrm>
          <a:custGeom>
            <a:avLst/>
            <a:gdLst/>
            <a:ahLst/>
            <a:rect l="l" t="t" r="r" b="b"/>
            <a:pathLst>
              <a:path w="2227" h="979">
                <a:moveTo>
                  <a:pt x="0" y="19"/>
                </a:moveTo>
                <a:lnTo>
                  <a:pt x="1459" y="979"/>
                </a:lnTo>
                <a:lnTo>
                  <a:pt x="2227" y="0"/>
                </a:lnTo>
                <a:lnTo>
                  <a:pt x="19" y="39"/>
                </a:lnTo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744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9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97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580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144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1816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4941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191628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6280" y="1965240"/>
            <a:ext cx="1082520" cy="2606760"/>
          </a:xfrm>
          <a:custGeom>
            <a:avLst/>
            <a:gdLst/>
            <a:ahLst/>
            <a:rect l="l" t="t" r="r" b="b"/>
            <a:pathLst>
              <a:path w="682" h="1642">
                <a:moveTo>
                  <a:pt x="0" y="1642"/>
                </a:moveTo>
                <a:lnTo>
                  <a:pt x="68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1965240"/>
            <a:ext cx="1082520" cy="4084560"/>
          </a:xfrm>
          <a:custGeom>
            <a:avLst/>
            <a:gdLst/>
            <a:ahLst/>
            <a:rect l="l" t="t" r="r" b="b"/>
            <a:pathLst>
              <a:path w="682" h="2573">
                <a:moveTo>
                  <a:pt x="682" y="2573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965240"/>
            <a:ext cx="2270160" cy="2546280"/>
          </a:xfrm>
          <a:custGeom>
            <a:avLst/>
            <a:gdLst/>
            <a:ahLst/>
            <a:rect l="l" t="t" r="r" b="b"/>
            <a:pathLst>
              <a:path w="1430" h="1604">
                <a:moveTo>
                  <a:pt x="1430" y="1604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01720" y="927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(АВС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724360" y="907920"/>
                <a:ext cx="409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7288200" y="71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99640" y="14320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М = М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 = ND; CP = 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149720"/>
            <a:ext cx="14292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3284640"/>
            <a:ext cx="14292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79640" y="4525920"/>
            <a:ext cx="1219320" cy="1523880"/>
          </a:xfrm>
          <a:custGeom>
            <a:avLst/>
            <a:gdLst/>
            <a:ahLst/>
            <a:rect l="l" t="t" r="r" b="b"/>
            <a:pathLst>
              <a:path w="768" h="960">
                <a:moveTo>
                  <a:pt x="0" y="960"/>
                </a:move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4525920"/>
            <a:ext cx="3322440" cy="46080"/>
          </a:xfrm>
          <a:custGeom>
            <a:avLst/>
            <a:gdLst/>
            <a:ahLst/>
            <a:rect l="l" t="t" r="r" b="b"/>
            <a:pathLst>
              <a:path w="2093" h="29">
                <a:moveTo>
                  <a:pt x="0" y="29"/>
                </a:moveTo>
                <a:lnTo>
                  <a:pt x="2093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27280" y="5229360"/>
            <a:ext cx="142920" cy="122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5160" y="19162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    В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716360" y="1916280"/>
                <a:ext cx="4176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4415760" y="2295360"/>
            <a:ext cx="41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Определить</a:t>
            </a:r>
            <a:r>
              <a:rPr b="1" i="1" lang="en-US" sz="2400" spc="-1" strike="noStrike">
                <a:solidFill>
                  <a:srgbClr val="3b812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взаим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расположение прям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99840" y="3159000"/>
            <a:ext cx="20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а)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D  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и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29000" y="357336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б)  РК  и  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29720" y="400536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в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4572000"/>
            <a:ext cx="2133360" cy="1447920"/>
          </a:xfrm>
          <a:custGeom>
            <a:avLst/>
            <a:gdLst/>
            <a:ahLst/>
            <a:rect l="l" t="t" r="r" b="b"/>
            <a:pathLst>
              <a:path w="1344" h="912">
                <a:moveTo>
                  <a:pt x="0" y="0"/>
                </a:moveTo>
                <a:lnTo>
                  <a:pt x="1344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7960" y="4587840"/>
            <a:ext cx="2101680" cy="1416240"/>
          </a:xfrm>
          <a:custGeom>
            <a:avLst/>
            <a:gdLst/>
            <a:ahLst/>
            <a:rect l="l" t="t" r="r" b="b"/>
            <a:pathLst>
              <a:path w="1324" h="892">
                <a:moveTo>
                  <a:pt x="0" y="0"/>
                </a:moveTo>
                <a:lnTo>
                  <a:pt x="1324" y="892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65400" y="3336840"/>
            <a:ext cx="1157040" cy="884160"/>
          </a:xfrm>
          <a:custGeom>
            <a:avLst/>
            <a:gdLst/>
            <a:ahLst/>
            <a:rect l="l" t="t" r="r" b="b"/>
            <a:pathLst>
              <a:path w="729" h="557">
                <a:moveTo>
                  <a:pt x="0" y="0"/>
                </a:moveTo>
                <a:lnTo>
                  <a:pt x="729" y="557"/>
                </a:lnTo>
              </a:path>
            </a:pathLst>
          </a:custGeom>
          <a:noFill/>
          <a:ln w="4140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26560" y="443700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г)  МР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1880" y="4525920"/>
            <a:ext cx="3336840" cy="30240"/>
          </a:xfrm>
          <a:custGeom>
            <a:avLst/>
            <a:gdLst/>
            <a:ahLst/>
            <a:rect l="l" t="t" r="r" b="b"/>
            <a:pathLst>
              <a:path w="2102" h="19">
                <a:moveTo>
                  <a:pt x="0" y="19"/>
                </a:moveTo>
                <a:lnTo>
                  <a:pt x="2102" y="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79440" y="3336840"/>
            <a:ext cx="1768680" cy="15840"/>
          </a:xfrm>
          <a:custGeom>
            <a:avLst/>
            <a:gdLst/>
            <a:ahLst/>
            <a:rect l="l" t="t" r="r" b="b"/>
            <a:pathLst>
              <a:path w="1114" h="10">
                <a:moveTo>
                  <a:pt x="0" y="0"/>
                </a:moveTo>
                <a:lnTo>
                  <a:pt x="1114" y="10"/>
                </a:lnTo>
              </a:path>
            </a:pathLst>
          </a:custGeom>
          <a:noFill/>
          <a:ln w="41400">
            <a:solidFill>
              <a:srgbClr val="8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19720" y="48690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д)  К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A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22440" y="4206960"/>
            <a:ext cx="290520" cy="1096920"/>
          </a:xfrm>
          <a:custGeom>
            <a:avLst/>
            <a:gdLst/>
            <a:ahLst/>
            <a:rect l="l" t="t" r="r" b="b"/>
            <a:pathLst>
              <a:path w="183" h="691">
                <a:moveTo>
                  <a:pt x="0" y="0"/>
                </a:moveTo>
                <a:lnTo>
                  <a:pt x="183" y="6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45280" y="5300640"/>
            <a:ext cx="20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е)  М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6633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49200" y="1965240"/>
            <a:ext cx="579600" cy="1357560"/>
          </a:xfrm>
          <a:custGeom>
            <a:avLst/>
            <a:gdLst/>
            <a:ahLst/>
            <a:rect l="l" t="t" r="r" b="b"/>
            <a:pathLst>
              <a:path w="365" h="855">
                <a:moveTo>
                  <a:pt x="365" y="0"/>
                </a:moveTo>
                <a:lnTo>
                  <a:pt x="0" y="855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1320" y="4511520"/>
            <a:ext cx="1203480" cy="1508400"/>
          </a:xfrm>
          <a:custGeom>
            <a:avLst/>
            <a:gdLst/>
            <a:ahLst/>
            <a:rect l="l" t="t" r="r" b="b"/>
            <a:pathLst>
              <a:path w="758" h="950">
                <a:moveTo>
                  <a:pt x="0" y="950"/>
                </a:moveTo>
                <a:lnTo>
                  <a:pt x="758" y="0"/>
                </a:lnTo>
              </a:path>
            </a:pathLst>
          </a:custGeom>
          <a:noFill/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800"/>
                            </p:stCondLst>
                            <p:childTnLst>
                              <p:par>
                                <p:cTn id="10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8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800"/>
                            </p:stCondLst>
                            <p:childTnLst>
                              <p:par>
                                <p:cTn id="10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"/>
                            </p:stCondLst>
                            <p:childTnLst>
                              <p:par>
                                <p:cTn id="10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800"/>
                            </p:stCondLst>
                            <p:childTnLst>
                              <p:par>
                                <p:cTn id="10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 №93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8320" cy="184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211640" y="198900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643280" y="2491920"/>
            <a:ext cx="338472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003640" y="3141720"/>
            <a:ext cx="3384720" cy="288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7440" y="206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5816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476280"/>
            <a:ext cx="407880" cy="2160720"/>
          </a:xfrm>
          <a:custGeom>
            <a:avLst/>
            <a:gdLst/>
            <a:ahLst/>
            <a:rect l="l" t="t" r="r" b="b"/>
            <a:pathLst>
              <a:path w="257" h="1361">
                <a:moveTo>
                  <a:pt x="0" y="1361"/>
                </a:moveTo>
                <a:lnTo>
                  <a:pt x="25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92600" y="3932280"/>
            <a:ext cx="320760" cy="1569960"/>
          </a:xfrm>
          <a:custGeom>
            <a:avLst/>
            <a:gdLst/>
            <a:ahLst/>
            <a:rect l="l" t="t" r="r" b="b"/>
            <a:pathLst>
              <a:path w="202" h="989">
                <a:moveTo>
                  <a:pt x="0" y="989"/>
                </a:moveTo>
                <a:lnTo>
                  <a:pt x="20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2492280"/>
            <a:ext cx="330480" cy="1656000"/>
          </a:xfrm>
          <a:custGeom>
            <a:avLst/>
            <a:gdLst/>
            <a:ahLst/>
            <a:rect l="l" t="t" r="r" b="b"/>
            <a:pathLst>
              <a:path w="208" h="1043">
                <a:moveTo>
                  <a:pt x="0" y="1043"/>
                </a:moveTo>
                <a:lnTo>
                  <a:pt x="20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25653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53440" y="213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18880" y="47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720" y="20304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8240" y="256536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a =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9040" y="3087720"/>
            <a:ext cx="42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заимное 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х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MN  u  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5373720"/>
            <a:ext cx="6875640" cy="113040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900"/>
                            </p:stCondLst>
                            <p:childTnLst>
                              <p:par>
                                <p:cTn id="10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900"/>
                            </p:stCondLst>
                            <p:childTnLst>
                              <p:par>
                                <p:cTn id="10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750"/>
                            </p:stCondLst>
                            <p:childTnLst>
                              <p:par>
                                <p:cTn id="1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750"/>
                            </p:stCondLst>
                            <p:childTnLst>
                              <p:par>
                                <p:cTn id="1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75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750"/>
                            </p:stCondLst>
                            <p:childTnLst>
                              <p:par>
                                <p:cTn id="1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eorgia"/>
              </a:rPr>
              <a:t>Цели урок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определение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Ввести формулировки и доказать признак и свойство скрещивающихся прям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2873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25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Расположение  прямых  в пространстве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2708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84280"/>
            <a:ext cx="4537080" cy="1995480"/>
          </a:xfrm>
          <a:custGeom>
            <a:avLst/>
            <a:gdLst>
              <a:gd name="textAreaLeft" fmla="*/ 792360 w 4537080"/>
              <a:gd name="textAreaRight" fmla="*/ 3744720 w 4537080"/>
              <a:gd name="textAreaTop" fmla="*/ 348480 h 1995480"/>
              <a:gd name="textAreaBottom" fmla="*/ 1647000 h 199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900000" y="2421000"/>
            <a:ext cx="3384720" cy="28872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2057400"/>
            <a:ext cx="2073240" cy="1096920"/>
          </a:xfrm>
          <a:custGeom>
            <a:avLst/>
            <a:gdLst/>
            <a:ahLst/>
            <a:rect l="l" t="t" r="r" b="b"/>
            <a:pathLst>
              <a:path w="1306" h="691">
                <a:moveTo>
                  <a:pt x="0" y="0"/>
                </a:moveTo>
                <a:lnTo>
                  <a:pt x="1306" y="691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1440" y="19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8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9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816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88000" y="321264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88000" y="3715920"/>
            <a:ext cx="3384360" cy="28908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356724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9640" y="198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128840" y="2000160"/>
            <a:ext cx="944640" cy="6249960"/>
          </a:xfrm>
          <a:custGeom>
            <a:avLst/>
            <a:gdLst>
              <a:gd name="textAreaLeft" fmla="*/ 603720 w 944640"/>
              <a:gd name="textAreaRight" fmla="*/ 945000 w 944640"/>
              <a:gd name="textAreaTop" fmla="*/ 162720 h 6249960"/>
              <a:gd name="textAreaBottom" fmla="*/ 6087240 h 624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25"/>
                </a:lnTo>
                <a:cubicBezTo>
                  <a:pt x="10800" y="9525"/>
                  <a:pt x="5400" y="10425"/>
                  <a:pt x="0" y="10425"/>
                </a:cubicBezTo>
                <a:cubicBezTo>
                  <a:pt x="5400" y="10425"/>
                  <a:pt x="10800" y="11325"/>
                  <a:pt x="10800" y="122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734080"/>
            <a:ext cx="70578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Лежат в одной плоскос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1511280" cy="105876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0920" y="836640"/>
            <a:ext cx="4248000" cy="3772800"/>
            <a:chOff x="250920" y="836640"/>
            <a:chExt cx="4248000" cy="3772800"/>
          </a:xfrm>
        </p:grpSpPr>
        <p:sp>
          <p:nvSpPr>
            <p:cNvPr id="109" name=""/>
            <p:cNvSpPr/>
            <p:nvPr/>
          </p:nvSpPr>
          <p:spPr>
            <a:xfrm>
              <a:off x="1330200" y="1341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55640" y="1341720"/>
              <a:ext cx="57456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771640" y="134172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71640" y="198936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" y="4078440"/>
              <a:ext cx="20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492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71640" y="357372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0200" y="134172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0200" y="357372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755640" y="3573720"/>
              <a:ext cx="57456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920" y="15573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920" y="83664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6920" y="1557360"/>
              <a:ext cx="122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6560" y="407844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0200" y="3068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2200" y="414972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58920" y="9097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13480" y="230040"/>
            <a:ext cx="42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33"/>
                </a:solidFill>
                <a:latin typeface="Georgia"/>
              </a:rPr>
              <a:t>Дан куб АВС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A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B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C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r>
              <a:rPr b="1" i="1" lang="en-US" sz="2800" spc="-1" strike="noStrike">
                <a:solidFill>
                  <a:srgbClr val="006633"/>
                </a:solidFill>
                <a:latin typeface="Georgia"/>
              </a:rPr>
              <a:t>D</a:t>
            </a:r>
            <a:r>
              <a:rPr b="1" i="1" lang="en-US" sz="2800" spc="-1" strike="noStrike" baseline="-25000">
                <a:solidFill>
                  <a:srgbClr val="006633"/>
                </a:solidFill>
                <a:latin typeface="Georgi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04520" y="981000"/>
            <a:ext cx="5927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вляются ли параллель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83664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к противопо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тороны квадрата, лежат в 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лоскости и 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2205000"/>
            <a:ext cx="5256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A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| C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о тр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ых пря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92080" y="3664080"/>
            <a:ext cx="4181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Являются л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280" y="2027160"/>
            <a:ext cx="1440" cy="2027160"/>
          </a:xfrm>
          <a:custGeom>
            <a:avLst/>
            <a:gdLst/>
            <a:ahLst/>
            <a:rect l="l" t="t" r="r" b="b"/>
            <a:pathLst>
              <a:path w="1" h="1277">
                <a:moveTo>
                  <a:pt x="0" y="1277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9040" y="1996920"/>
            <a:ext cx="1800" cy="2071800"/>
          </a:xfrm>
          <a:custGeom>
            <a:avLst/>
            <a:gdLst/>
            <a:ahLst/>
            <a:rect l="l" t="t" r="r" b="b"/>
            <a:pathLst>
              <a:path w="1" h="1305">
                <a:moveTo>
                  <a:pt x="0" y="130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1440" cy="2224080"/>
          </a:xfrm>
          <a:custGeom>
            <a:avLst/>
            <a:gdLst/>
            <a:ahLst/>
            <a:rect l="l" t="t" r="r" b="b"/>
            <a:pathLst>
              <a:path w="1" h="1401">
                <a:moveTo>
                  <a:pt x="0" y="1401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3581280"/>
            <a:ext cx="503280" cy="503280"/>
          </a:xfrm>
          <a:custGeom>
            <a:avLst/>
            <a:gdLst/>
            <a:ahLst/>
            <a:rect l="l" t="t" r="r" b="b"/>
            <a:pathLst>
              <a:path w="317" h="317">
                <a:moveTo>
                  <a:pt x="317" y="0"/>
                </a:moveTo>
                <a:lnTo>
                  <a:pt x="0" y="317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96920"/>
            <a:ext cx="1440" cy="2057400"/>
          </a:xfrm>
          <a:custGeom>
            <a:avLst/>
            <a:gdLst/>
            <a:ahLst/>
            <a:rect l="l" t="t" r="r" b="b"/>
            <a:pathLst>
              <a:path w="1" h="1296">
                <a:moveTo>
                  <a:pt x="0" y="1296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869000"/>
            <a:ext cx="7775280" cy="1779480"/>
          </a:xfrm>
          <a:prstGeom prst="rect">
            <a:avLst/>
          </a:prstGeom>
          <a:solidFill>
            <a:srgbClr val="ffccff"/>
          </a:solidFill>
          <a:ln w="4140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Две прямые назыв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Georgia"/>
              </a:rPr>
              <a:t>скрещивающими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ни не лежат в од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50"/>
                            </p:stCondLst>
                            <p:childTnLst>
                              <p:par>
                                <p:cTn id="2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3644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то эти прямые </a:t>
            </a: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скрещивающиеся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Признак скрещивающихся прямых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24360" y="907920"/>
            <a:ext cx="500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, С    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arallelogram 18434"/>
          <p:cNvSpPr/>
          <p:nvPr/>
        </p:nvSpPr>
        <p:spPr>
          <a:xfrm>
            <a:off x="0" y="1555920"/>
            <a:ext cx="7416720" cy="1419120"/>
          </a:xfrm>
          <a:prstGeom prst="parallelogram">
            <a:avLst>
              <a:gd name="adj" fmla="val 13065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8440"/>
          <p:cNvSpPr/>
          <p:nvPr/>
        </p:nvSpPr>
        <p:spPr>
          <a:xfrm>
            <a:off x="4827600" y="2976480"/>
            <a:ext cx="33192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8441"/>
          <p:cNvSpPr/>
          <p:nvPr/>
        </p:nvSpPr>
        <p:spPr>
          <a:xfrm>
            <a:off x="4156200" y="1814400"/>
            <a:ext cx="652320" cy="113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443"/>
          <p:cNvSpPr/>
          <p:nvPr/>
        </p:nvSpPr>
        <p:spPr>
          <a:xfrm>
            <a:off x="1981080" y="148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b812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8444"/>
          <p:cNvSpPr/>
          <p:nvPr/>
        </p:nvSpPr>
        <p:spPr>
          <a:xfrm>
            <a:off x="5108760" y="305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446"/>
          <p:cNvSpPr/>
          <p:nvPr/>
        </p:nvSpPr>
        <p:spPr>
          <a:xfrm flipH="1">
            <a:off x="4175280" y="1878120"/>
            <a:ext cx="118800" cy="118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41520" y="2546280"/>
                <a:ext cx="5270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Straight Connector 18448"/>
          <p:cNvSpPr/>
          <p:nvPr/>
        </p:nvSpPr>
        <p:spPr>
          <a:xfrm>
            <a:off x="3527280" y="69228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8448"/>
          <p:cNvSpPr/>
          <p:nvPr/>
        </p:nvSpPr>
        <p:spPr>
          <a:xfrm>
            <a:off x="1692360" y="1965240"/>
            <a:ext cx="2604960" cy="900360"/>
          </a:xfrm>
          <a:custGeom>
            <a:avLst/>
            <a:gdLst/>
            <a:ahLst/>
            <a:rect l="l" t="t" r="r" b="b"/>
            <a:pathLst>
              <a:path w="1641" h="567">
                <a:moveTo>
                  <a:pt x="0" y="0"/>
                </a:moveTo>
                <a:lnTo>
                  <a:pt x="1641" y="5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64000" y="981000"/>
                <a:ext cx="384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885080" y="981000"/>
                <a:ext cx="3589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694160" y="31417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3440" y="3573360"/>
            <a:ext cx="73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устим, что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и АВ лежат в одн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это будет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4365720"/>
                <a:ext cx="2808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С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7440" y="162864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азать, что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рещивается  с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452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1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2160" y="17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8880" y="83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65720"/>
            <a:ext cx="1440" cy="907920"/>
          </a:xfrm>
          <a:custGeom>
            <a:avLst/>
            <a:gdLst/>
            <a:ahLst/>
            <a:rect l="l" t="t" r="r" b="b"/>
            <a:pathLst>
              <a:path w="1" h="572">
                <a:moveTo>
                  <a:pt x="0" y="0"/>
                </a:moveTo>
                <a:lnTo>
                  <a:pt x="0" y="57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19640" y="472428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581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падает  с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00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лоскости совпадают, чего быть не может, т.к. прямая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пересекает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Плоскости, которой принадлежат АВ и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ествует и следовательно по определению скрещив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ямых  АВ  скрещивается с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"/>
                            </p:stCondLst>
                            <p:childTnLst>
                              <p:par>
                                <p:cTn id="3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"/>
                            </p:stCondLst>
                            <p:childTnLst>
                              <p:par>
                                <p:cTn id="3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крепление изученной теоремы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1413000"/>
            <a:ext cx="3600360" cy="3772800"/>
            <a:chOff x="5292720" y="1413000"/>
            <a:chExt cx="3600360" cy="3772800"/>
          </a:xfrm>
        </p:grpSpPr>
        <p:sp>
          <p:nvSpPr>
            <p:cNvPr id="178" name=""/>
            <p:cNvSpPr/>
            <p:nvPr/>
          </p:nvSpPr>
          <p:spPr>
            <a:xfrm>
              <a:off x="7958160" y="1413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53440" y="38610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72360" y="1918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797080" y="1918080"/>
              <a:ext cx="57492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7440" y="256572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813800" y="1918080"/>
              <a:ext cx="5032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744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3800" y="256572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7440" y="4654800"/>
              <a:ext cx="20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708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813800" y="4150080"/>
              <a:ext cx="50328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1918080"/>
              <a:ext cx="0" cy="2232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360" y="41500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797080" y="4150080"/>
              <a:ext cx="574920" cy="504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213372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85080" y="1413000"/>
              <a:ext cx="108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09080" y="2133720"/>
              <a:ext cx="122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8720" y="4654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2360" y="3645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04360" y="4726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7480" y="1503360"/>
            <a:ext cx="5198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предели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02640" y="4145040"/>
            <a:ext cx="519120" cy="519120"/>
          </a:xfrm>
          <a:custGeom>
            <a:avLst/>
            <a:gdLst/>
            <a:ahLst/>
            <a:rect l="l" t="t" r="r" b="b"/>
            <a:pathLst>
              <a:path w="327" h="327">
                <a:moveTo>
                  <a:pt x="0" y="327"/>
                </a:moveTo>
                <a:lnTo>
                  <a:pt x="327" y="0"/>
                </a:ln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1935000"/>
            <a:ext cx="563400" cy="2697480"/>
          </a:xfrm>
          <a:custGeom>
            <a:avLst/>
            <a:gdLst/>
            <a:ahLst/>
            <a:rect l="l" t="t" r="r" b="b"/>
            <a:pathLst>
              <a:path w="355" h="1699">
                <a:moveTo>
                  <a:pt x="0" y="1699"/>
                </a:moveTo>
                <a:lnTo>
                  <a:pt x="355" y="0"/>
                </a:lnTo>
              </a:path>
            </a:pathLst>
          </a:custGeom>
          <a:solidFill>
            <a:srgbClr val="ccffff"/>
          </a:solidFill>
          <a:ln w="414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8360" y="2637000"/>
            <a:ext cx="5140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Указать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асположение 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лоскости 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1989000"/>
            <a:ext cx="547560" cy="2667240"/>
          </a:xfrm>
          <a:custGeom>
            <a:avLst/>
            <a:gdLst/>
            <a:ahLst/>
            <a:rect l="l" t="t" r="r" b="b"/>
            <a:pathLst>
              <a:path w="345" h="1680">
                <a:moveTo>
                  <a:pt x="19" y="1661"/>
                </a:moveTo>
                <a:lnTo>
                  <a:pt x="19" y="365"/>
                </a:lnTo>
                <a:lnTo>
                  <a:pt x="345" y="0"/>
                </a:lnTo>
                <a:lnTo>
                  <a:pt x="345" y="1364"/>
                </a:lnTo>
                <a:lnTo>
                  <a:pt x="0" y="1680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2560680"/>
            <a:ext cx="777600" cy="14400"/>
          </a:xfrm>
          <a:custGeom>
            <a:avLst/>
            <a:gdLst/>
            <a:ahLst/>
            <a:rect l="l" t="t" r="r" b="b"/>
            <a:pathLst>
              <a:path w="490" h="9">
                <a:moveTo>
                  <a:pt x="0" y="9"/>
                </a:moveTo>
                <a:lnTo>
                  <a:pt x="49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75480" y="1935000"/>
            <a:ext cx="595080" cy="2729160"/>
          </a:xfrm>
          <a:custGeom>
            <a:avLst/>
            <a:gdLst/>
            <a:ahLst/>
            <a:rect l="l" t="t" r="r" b="b"/>
            <a:pathLst>
              <a:path w="375" h="1719">
                <a:moveTo>
                  <a:pt x="0" y="1719"/>
                </a:moveTo>
                <a:lnTo>
                  <a:pt x="375" y="0"/>
                </a:lnTo>
              </a:path>
            </a:pathLst>
          </a:custGeom>
          <a:noFill/>
          <a:ln w="414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1320" y="3860640"/>
            <a:ext cx="4909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Является ли прямая А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раллельной 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D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0" y="1989000"/>
            <a:ext cx="471600" cy="2643480"/>
          </a:xfrm>
          <a:custGeom>
            <a:avLst/>
            <a:gdLst/>
            <a:ahLst/>
            <a:rect l="l" t="t" r="r" b="b"/>
            <a:pathLst>
              <a:path w="297" h="1665">
                <a:moveTo>
                  <a:pt x="19" y="1627"/>
                </a:moveTo>
                <a:lnTo>
                  <a:pt x="19" y="360"/>
                </a:lnTo>
                <a:lnTo>
                  <a:pt x="296" y="0"/>
                </a:lnTo>
                <a:lnTo>
                  <a:pt x="297" y="1358"/>
                </a:lnTo>
                <a:lnTo>
                  <a:pt x="0" y="1665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7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6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4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Через каждую из двух скрещивающихся прямых  проходит плоскость, параллельная другой плоскости, и притом только о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5840" y="2152800"/>
            <a:ext cx="43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 АВ скрещивается с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Построи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В    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||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916360" y="2624040"/>
                <a:ext cx="360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851440" y="2133720"/>
            <a:ext cx="1752840" cy="4038480"/>
          </a:xfrm>
          <a:custGeom>
            <a:avLst/>
            <a:gdLst/>
            <a:ahLst/>
            <a:rect l="l" t="t" r="r" b="b"/>
            <a:pathLst>
              <a:path w="1104" h="2544">
                <a:moveTo>
                  <a:pt x="0" y="2534"/>
                </a:moveTo>
                <a:lnTo>
                  <a:pt x="0" y="672"/>
                </a:lnTo>
                <a:lnTo>
                  <a:pt x="1085" y="0"/>
                </a:lnTo>
                <a:lnTo>
                  <a:pt x="1104" y="1910"/>
                </a:lnTo>
                <a:lnTo>
                  <a:pt x="10" y="2544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1720" y="3368520"/>
            <a:ext cx="1279800" cy="716040"/>
          </a:xfrm>
          <a:custGeom>
            <a:avLst/>
            <a:gdLst/>
            <a:ahLst/>
            <a:rect l="l" t="t" r="r" b="b"/>
            <a:pathLst>
              <a:path w="806" h="451">
                <a:moveTo>
                  <a:pt x="0" y="451"/>
                </a:moveTo>
                <a:lnTo>
                  <a:pt x="806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21760" y="2179800"/>
            <a:ext cx="14040" cy="3627360"/>
          </a:xfrm>
          <a:custGeom>
            <a:avLst/>
            <a:gdLst/>
            <a:ahLst/>
            <a:rect l="l" t="t" r="r" b="b"/>
            <a:pathLst>
              <a:path w="9" h="2285">
                <a:moveTo>
                  <a:pt x="9" y="2285"/>
                </a:move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2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192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905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00720" y="386064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93080" y="342900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4000" y="2492280"/>
            <a:ext cx="144360" cy="122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44000" y="5373720"/>
            <a:ext cx="144360" cy="122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2000" y="3429000"/>
            <a:ext cx="50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66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Через точку А проведем прям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АЕ, АЕ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0560" y="3124080"/>
            <a:ext cx="14400" cy="2667240"/>
          </a:xfrm>
          <a:custGeom>
            <a:avLst/>
            <a:gdLst/>
            <a:ahLst/>
            <a:rect l="l" t="t" r="r" b="b"/>
            <a:pathLst>
              <a:path w="9" h="1680">
                <a:moveTo>
                  <a:pt x="9" y="16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02520" y="50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640" y="407664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2. Прямые АВ и АЕ пересек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</a:rPr>
              <a:t>и образуют плоскость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 АВ    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||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. </a:t>
            </a:r>
            <a:r>
              <a:rPr b="1" i="1" lang="el-GR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– единственная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72000" y="4508640"/>
                <a:ext cx="4334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76560" y="287352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оказать, что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800" y="5157720"/>
            <a:ext cx="893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3. Доказательств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el-GR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единственная  по  следствию 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ксиом. Любая  другая плоскость, которой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секает  АЕ  и, следовательно, прямую С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00"/>
                            </p:stCondLst>
                            <p:childTnLst>
                              <p:par>
                                <p:cTn id="5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6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600"/>
                            </p:stCondLst>
                            <p:childTnLst>
                              <p:par>
                                <p:cTn id="5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6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00"/>
                            </p:stCondLst>
                            <p:childTnLst>
                              <p:par>
                                <p:cTn id="5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700"/>
                            </p:stCondLst>
                            <p:childTnLst>
                              <p:par>
                                <p:cTn id="6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350"/>
                            </p:stCondLst>
                            <p:childTnLst>
                              <p:par>
                                <p:cTn id="6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33"/>
                </a:solidFill>
                <a:latin typeface="Georgia"/>
              </a:rPr>
              <a:t>Задач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троить  плоскость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проходящую  через  точку К  и  параллельную  скрещивающимся  прямы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21760" y="1916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eorgia"/>
              </a:rPr>
              <a:t>Постро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69680" y="2349360"/>
            <a:ext cx="45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66480" y="3141720"/>
            <a:ext cx="5214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Через точку К пр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ую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||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646200" y="3537720"/>
            <a:ext cx="3313080" cy="2232360"/>
          </a:xfrm>
          <a:custGeom>
            <a:avLst/>
            <a:gdLst>
              <a:gd name="textAreaLeft" fmla="*/ 578520 w 3313080"/>
              <a:gd name="textAreaRight" fmla="*/ 2734560 w 3313080"/>
              <a:gd name="textAreaTop" fmla="*/ 389880 h 2232360"/>
              <a:gd name="textAreaBottom" fmla="*/ 1842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45" y="12696"/>
                </a:lnTo>
                <a:lnTo>
                  <a:pt x="786" y="14846"/>
                </a:lnTo>
                <a:lnTo>
                  <a:pt x="2465" y="16213"/>
                </a:lnTo>
                <a:lnTo>
                  <a:pt x="3163" y="18437"/>
                </a:lnTo>
                <a:lnTo>
                  <a:pt x="5243" y="19039"/>
                </a:lnTo>
                <a:lnTo>
                  <a:pt x="6580" y="20741"/>
                </a:lnTo>
                <a:lnTo>
                  <a:pt x="8734" y="20521"/>
                </a:lnTo>
                <a:lnTo>
                  <a:pt x="10800" y="21600"/>
                </a:lnTo>
                <a:lnTo>
                  <a:pt x="12696" y="20555"/>
                </a:lnTo>
                <a:lnTo>
                  <a:pt x="14846" y="20814"/>
                </a:lnTo>
                <a:lnTo>
                  <a:pt x="16213" y="19135"/>
                </a:lnTo>
                <a:lnTo>
                  <a:pt x="18437" y="18437"/>
                </a:lnTo>
                <a:lnTo>
                  <a:pt x="19039" y="16357"/>
                </a:lnTo>
                <a:lnTo>
                  <a:pt x="20741" y="15020"/>
                </a:lnTo>
                <a:lnTo>
                  <a:pt x="20521" y="12866"/>
                </a:lnTo>
                <a:lnTo>
                  <a:pt x="21600" y="10800"/>
                </a:lnTo>
                <a:lnTo>
                  <a:pt x="20555" y="8904"/>
                </a:lnTo>
                <a:lnTo>
                  <a:pt x="20814" y="6754"/>
                </a:lnTo>
                <a:lnTo>
                  <a:pt x="19135" y="5387"/>
                </a:lnTo>
                <a:lnTo>
                  <a:pt x="18437" y="3163"/>
                </a:lnTo>
                <a:lnTo>
                  <a:pt x="16357" y="2561"/>
                </a:lnTo>
                <a:lnTo>
                  <a:pt x="15020" y="859"/>
                </a:lnTo>
                <a:lnTo>
                  <a:pt x="12866" y="1079"/>
                </a:lnTo>
                <a:lnTo>
                  <a:pt x="10800" y="0"/>
                </a:lnTo>
                <a:lnTo>
                  <a:pt x="8904" y="1045"/>
                </a:lnTo>
                <a:lnTo>
                  <a:pt x="6754" y="786"/>
                </a:lnTo>
                <a:lnTo>
                  <a:pt x="5387" y="2465"/>
                </a:lnTo>
                <a:lnTo>
                  <a:pt x="3163" y="3163"/>
                </a:lnTo>
                <a:lnTo>
                  <a:pt x="2561" y="5243"/>
                </a:lnTo>
                <a:lnTo>
                  <a:pt x="859" y="6580"/>
                </a:lnTo>
                <a:lnTo>
                  <a:pt x="1079" y="873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720" y="284940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39920" y="2620800"/>
            <a:ext cx="1143000" cy="323064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344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1800" y="414972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3716280"/>
            <a:ext cx="1660680" cy="1509840"/>
          </a:xfrm>
          <a:custGeom>
            <a:avLst/>
            <a:gdLst/>
            <a:ahLst/>
            <a:rect l="l" t="t" r="r" b="b"/>
            <a:pathLst>
              <a:path w="1046" h="951">
                <a:moveTo>
                  <a:pt x="0" y="951"/>
                </a:moveTo>
                <a:lnTo>
                  <a:pt x="1046" y="0"/>
                </a:lnTo>
              </a:path>
            </a:pathLst>
          </a:custGeom>
          <a:noFill/>
          <a:ln w="414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3429000"/>
            <a:ext cx="863640" cy="2305080"/>
          </a:xfrm>
          <a:custGeom>
            <a:avLst/>
            <a:gdLst/>
            <a:ahLst/>
            <a:rect l="l" t="t" r="r" b="b"/>
            <a:pathLst>
              <a:path w="720" h="2035">
                <a:moveTo>
                  <a:pt x="0" y="0"/>
                </a:moveTo>
                <a:lnTo>
                  <a:pt x="720" y="2035"/>
                </a:lnTo>
              </a:path>
            </a:pathLst>
          </a:custGeom>
          <a:noFill/>
          <a:ln w="414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8640" y="450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37360" y="5084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365720"/>
            <a:ext cx="71640" cy="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0040" y="4005360"/>
            <a:ext cx="490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Через пересек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ые  прове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1" i="1" lang="el-GR" sz="2400" spc="-1" strike="noStrike">
                <a:solidFill>
                  <a:srgbClr val="000000"/>
                </a:solidFill>
                <a:latin typeface="Georgia"/>
              </a:rPr>
              <a:t>α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иско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600"/>
                            </p:stCondLst>
                            <p:childTnLst>
                              <p:par>
                                <p:cTn id="6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100"/>
                            </p:stCondLst>
                            <p:childTnLst>
                              <p:par>
                                <p:cTn id="7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7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22:47:08Z</dcterms:created>
  <dc:creator>Марина</dc:creator>
  <dc:description/>
  <dc:language>en-US</dc:language>
  <cp:lastModifiedBy>Марина</cp:lastModifiedBy>
  <dcterms:modified xsi:type="dcterms:W3CDTF">2007-10-08T09:06:45Z</dcterms:modified>
  <cp:revision>7</cp:revision>
  <dc:subject/>
  <dc:title>Взаимное расположение прямых в пространстве.</dc:title>
</cp:coreProperties>
</file>