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8A6-D87D-425E-A186-BBD55C70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CBA-D328-42C3-8EFD-42D14F3E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DCA-F138-4F71-847F-0CD0F299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537-EE6F-46EF-94DF-4295E0C2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D79F-3252-4257-BED7-02D894E0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47E9-53A7-4FED-A40E-984D147A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6EBA-BC25-44E5-9DB8-B9A54F41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3711-EE9E-4557-8EE2-791CA9A8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769D-F689-4DA3-A64F-6D5FE9F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D4D8-8341-479D-963E-FBADEDE8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5C42-3CF1-4786-846B-EE90B2E2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510-CB21-44EE-9AAF-C5F86A72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6D59-F8DD-43F1-AE55-3550133B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AA74-6A05-42D7-ADF2-9075D2F7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89E3-DB3B-4846-8BF0-05EE9A27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BE20-C7BC-4457-9A7E-72D8E90C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039D-6ADA-472B-BE50-79ABCBBB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8C2-FA56-450B-B310-25F4D4B9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8FA-D163-4260-9710-B483FD49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279-F473-4F36-8F10-9CA73E9B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77A-A500-4529-87AB-F8F31A83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E61-72EA-4C3F-95CA-2FC49FF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171-036E-4770-A6F5-02636AB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31B-87AF-44A6-B83E-17FE496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FECE-28A9-4C82-A1CE-36F030064C6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525E-AB2A-4AAC-A150-1FE5D1F463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6633"/>
                </a:solidFill>
                <a:latin typeface="Georgia"/>
              </a:rPr>
              <a:t>Взаимное расположение прямых в пространстве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Georgia"/>
              </a:rPr>
              <a:t>Скрещивающиеся  пря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ОУ СОШ №256 г.Фо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266688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40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/>
            <a:ahLst/>
            <a:rect l="l" t="t" r="r" b="b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88280" y="61657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965240"/>
            <a:ext cx="1143000" cy="2622600"/>
          </a:xfrm>
          <a:custGeom>
            <a:avLst/>
            <a:gdLst/>
            <a:ahLst/>
            <a:rect l="l" t="t" r="r" b="b"/>
            <a:pathLst>
              <a:path w="720" h="1652">
                <a:moveTo>
                  <a:pt x="0" y="1652"/>
                </a:moveTo>
                <a:lnTo>
                  <a:pt x="72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/>
            <a:ahLst/>
            <a:rect l="l" t="t" r="r" b="b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/>
            <a:ahLst/>
            <a:rect l="l" t="t" r="r" b="b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44640" y="1996920"/>
            <a:ext cx="577800" cy="2254320"/>
          </a:xfrm>
          <a:custGeom>
            <a:avLst/>
            <a:gdLst/>
            <a:ahLst/>
            <a:rect l="l" t="t" r="r" b="b"/>
            <a:pathLst>
              <a:path w="364" h="1420">
                <a:moveTo>
                  <a:pt x="0" y="0"/>
                </a:moveTo>
                <a:lnTo>
                  <a:pt x="364" y="1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040" y="4602240"/>
            <a:ext cx="2179440" cy="1433520"/>
          </a:xfrm>
          <a:custGeom>
            <a:avLst/>
            <a:gdLst/>
            <a:ahLst/>
            <a:rect l="l" t="t" r="r" b="b"/>
            <a:pathLst>
              <a:path w="1373" h="903">
                <a:moveTo>
                  <a:pt x="0" y="0"/>
                </a:moveTo>
                <a:lnTo>
                  <a:pt x="1373" y="9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" y="4581360"/>
            <a:ext cx="2179440" cy="1432080"/>
          </a:xfrm>
          <a:custGeom>
            <a:avLst/>
            <a:gdLst/>
            <a:ahLst/>
            <a:rect l="l" t="t" r="r" b="b"/>
            <a:pathLst>
              <a:path w="1373" h="902">
                <a:moveTo>
                  <a:pt x="0" y="0"/>
                </a:moveTo>
                <a:lnTo>
                  <a:pt x="1373" y="9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/>
            <a:ahLst/>
            <a:rect l="l" t="t" r="r" b="b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525920"/>
            <a:ext cx="3322440" cy="46080"/>
          </a:xfrm>
          <a:custGeom>
            <a:avLst/>
            <a:gdLst/>
            <a:ahLst/>
            <a:rect l="l" t="t" r="r" b="b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en-US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08400" y="3322800"/>
            <a:ext cx="669600" cy="3565440"/>
          </a:xfrm>
          <a:custGeom>
            <a:avLst/>
            <a:gdLst/>
            <a:ahLst/>
            <a:rect l="l" t="t" r="r" b="b"/>
            <a:pathLst>
              <a:path w="422" h="2246">
                <a:moveTo>
                  <a:pt x="0" y="2246"/>
                </a:moveTo>
                <a:lnTo>
                  <a:pt x="4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4525920"/>
            <a:ext cx="1845000" cy="2332080"/>
          </a:xfrm>
          <a:custGeom>
            <a:avLst/>
            <a:gdLst/>
            <a:ahLst/>
            <a:rect l="l" t="t" r="r" b="b"/>
            <a:pathLst>
              <a:path w="1162" h="1469">
                <a:moveTo>
                  <a:pt x="0" y="1469"/>
                </a:moveTo>
                <a:lnTo>
                  <a:pt x="11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50"/>
                            </p:stCondLst>
                            <p:childTnLst>
                              <p:par>
                                <p:cTn id="8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50"/>
                            </p:stCondLst>
                            <p:childTnLst>
                              <p:par>
                                <p:cTn id="8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50"/>
                            </p:stCondLst>
                            <p:childTnLst>
                              <p:par>
                                <p:cTn id="8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3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3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3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300"/>
                            </p:stCondLst>
                            <p:childTnLst>
                              <p:par>
                                <p:cTn id="8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300"/>
                            </p:stCondLst>
                            <p:childTnLst>
                              <p:par>
                                <p:cTn id="8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800"/>
                            </p:stCondLst>
                            <p:childTnLst>
                              <p:par>
                                <p:cTn id="8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300"/>
                            </p:stCondLst>
                            <p:childTnLst>
                              <p:par>
                                <p:cTn id="9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100"/>
                            </p:stCondLst>
                            <p:childTnLst>
                              <p:par>
                                <p:cTn id="9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100"/>
                            </p:stCondLst>
                            <p:childTnLst>
                              <p:par>
                                <p:cTn id="9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"/>
                            </p:stCondLst>
                            <p:childTnLst>
                              <p:par>
                                <p:cTn id="9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800"/>
                            </p:stCondLst>
                            <p:childTnLst>
                              <p:par>
                                <p:cTn id="9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300"/>
                            </p:stCondLst>
                            <p:childTnLst>
                              <p:par>
                                <p:cTn id="9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800"/>
                            </p:stCondLst>
                            <p:childTnLst>
                              <p:par>
                                <p:cTn id="9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/>
            <a:ahLst/>
            <a:rect l="l" t="t" r="r" b="b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6280" y="1965240"/>
            <a:ext cx="1082520" cy="2606760"/>
          </a:xfrm>
          <a:custGeom>
            <a:avLst/>
            <a:gdLst/>
            <a:ahLst/>
            <a:rect l="l" t="t" r="r" b="b"/>
            <a:pathLst>
              <a:path w="682" h="1642">
                <a:moveTo>
                  <a:pt x="0" y="1642"/>
                </a:moveTo>
                <a:lnTo>
                  <a:pt x="68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/>
            <a:ahLst/>
            <a:rect l="l" t="t" r="r" b="b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/>
            <a:ahLst/>
            <a:rect l="l" t="t" r="r" b="b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/>
            <a:ahLst/>
            <a:rect l="l" t="t" r="r" b="b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525920"/>
            <a:ext cx="3322440" cy="46080"/>
          </a:xfrm>
          <a:custGeom>
            <a:avLst/>
            <a:gdLst/>
            <a:ahLst/>
            <a:rect l="l" t="t" r="r" b="b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en-US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4572000"/>
            <a:ext cx="2133360" cy="1447920"/>
          </a:xfrm>
          <a:custGeom>
            <a:avLst/>
            <a:gdLst/>
            <a:ahLst/>
            <a:rect l="l" t="t" r="r" b="b"/>
            <a:pathLst>
              <a:path w="1344" h="912">
                <a:moveTo>
                  <a:pt x="0" y="0"/>
                </a:moveTo>
                <a:lnTo>
                  <a:pt x="1344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7960" y="4587840"/>
            <a:ext cx="2101680" cy="1416240"/>
          </a:xfrm>
          <a:custGeom>
            <a:avLst/>
            <a:gdLst/>
            <a:ahLst/>
            <a:rect l="l" t="t" r="r" b="b"/>
            <a:pathLst>
              <a:path w="1324" h="892">
                <a:moveTo>
                  <a:pt x="0" y="0"/>
                </a:moveTo>
                <a:lnTo>
                  <a:pt x="1324" y="892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65400" y="3336840"/>
            <a:ext cx="1157040" cy="884160"/>
          </a:xfrm>
          <a:custGeom>
            <a:avLst/>
            <a:gdLst/>
            <a:ahLst/>
            <a:rect l="l" t="t" r="r" b="b"/>
            <a:pathLst>
              <a:path w="729" h="557">
                <a:moveTo>
                  <a:pt x="0" y="0"/>
                </a:moveTo>
                <a:lnTo>
                  <a:pt x="729" y="557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26560" y="443700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г)  МР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1880" y="4525920"/>
            <a:ext cx="3336840" cy="30240"/>
          </a:xfrm>
          <a:custGeom>
            <a:avLst/>
            <a:gdLst/>
            <a:ahLst/>
            <a:rect l="l" t="t" r="r" b="b"/>
            <a:pathLst>
              <a:path w="2102" h="19">
                <a:moveTo>
                  <a:pt x="0" y="19"/>
                </a:moveTo>
                <a:lnTo>
                  <a:pt x="2102" y="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79440" y="3336840"/>
            <a:ext cx="1768680" cy="15840"/>
          </a:xfrm>
          <a:custGeom>
            <a:avLst/>
            <a:gdLst/>
            <a:ahLst/>
            <a:rect l="l" t="t" r="r" b="b"/>
            <a:pathLst>
              <a:path w="1114" h="10">
                <a:moveTo>
                  <a:pt x="0" y="0"/>
                </a:moveTo>
                <a:lnTo>
                  <a:pt x="1114" y="1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19720" y="4869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д)  К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22440" y="4206960"/>
            <a:ext cx="290520" cy="1096920"/>
          </a:xfrm>
          <a:custGeom>
            <a:avLst/>
            <a:gdLst/>
            <a:ahLst/>
            <a:rect l="l" t="t" r="r" b="b"/>
            <a:pathLst>
              <a:path w="183" h="691">
                <a:moveTo>
                  <a:pt x="0" y="0"/>
                </a:moveTo>
                <a:lnTo>
                  <a:pt x="183" y="6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45280" y="5300640"/>
            <a:ext cx="20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е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49200" y="1965240"/>
            <a:ext cx="579600" cy="1357560"/>
          </a:xfrm>
          <a:custGeom>
            <a:avLst/>
            <a:gdLst/>
            <a:ahLst/>
            <a:rect l="l" t="t" r="r" b="b"/>
            <a:pathLst>
              <a:path w="365" h="855">
                <a:moveTo>
                  <a:pt x="365" y="0"/>
                </a:moveTo>
                <a:lnTo>
                  <a:pt x="0" y="855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1320" y="4511520"/>
            <a:ext cx="1203480" cy="1508400"/>
          </a:xfrm>
          <a:custGeom>
            <a:avLst/>
            <a:gdLst/>
            <a:ahLst/>
            <a:rect l="l" t="t" r="r" b="b"/>
            <a:pathLst>
              <a:path w="758" h="950">
                <a:moveTo>
                  <a:pt x="0" y="950"/>
                </a:moveTo>
                <a:lnTo>
                  <a:pt x="758" y="0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800"/>
                            </p:stCondLst>
                            <p:childTnLst>
                              <p:par>
                                <p:cTn id="10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800"/>
                            </p:stCondLst>
                            <p:childTnLst>
                              <p:par>
                                <p:cTn id="10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800"/>
                            </p:stCondLst>
                            <p:childTnLst>
                              <p:par>
                                <p:cTn id="10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800"/>
                            </p:stCondLst>
                            <p:childTnLst>
                              <p:par>
                                <p:cTn id="10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"/>
                            </p:stCondLst>
                            <p:childTnLst>
                              <p:par>
                                <p:cTn id="10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800"/>
                            </p:stCondLst>
                            <p:childTnLst>
                              <p:par>
                                <p:cTn id="10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 №93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211640" y="198900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643280" y="2491920"/>
            <a:ext cx="338472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003640" y="3141720"/>
            <a:ext cx="3384720" cy="288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744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95816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72200" y="476280"/>
            <a:ext cx="407880" cy="2160720"/>
          </a:xfrm>
          <a:custGeom>
            <a:avLst/>
            <a:gdLst/>
            <a:ahLst/>
            <a:rect l="l" t="t" r="r" b="b"/>
            <a:pathLst>
              <a:path w="257" h="1361">
                <a:moveTo>
                  <a:pt x="0" y="1361"/>
                </a:moveTo>
                <a:lnTo>
                  <a:pt x="25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92600" y="3932280"/>
            <a:ext cx="320760" cy="1569960"/>
          </a:xfrm>
          <a:custGeom>
            <a:avLst/>
            <a:gdLst/>
            <a:ahLst/>
            <a:rect l="l" t="t" r="r" b="b"/>
            <a:pathLst>
              <a:path w="202" h="989">
                <a:moveTo>
                  <a:pt x="0" y="989"/>
                </a:moveTo>
                <a:lnTo>
                  <a:pt x="2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2492280"/>
            <a:ext cx="330480" cy="1656000"/>
          </a:xfrm>
          <a:custGeom>
            <a:avLst/>
            <a:gdLst/>
            <a:ahLst/>
            <a:rect l="l" t="t" r="r" b="b"/>
            <a:pathLst>
              <a:path w="208" h="1043">
                <a:moveTo>
                  <a:pt x="0" y="1043"/>
                </a:moveTo>
                <a:lnTo>
                  <a:pt x="20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84720" y="256536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53440" y="21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18880" y="47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8720" y="203040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18240" y="25653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a =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9040" y="3087720"/>
            <a:ext cx="42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х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 u  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68360" y="5373720"/>
            <a:ext cx="6875640" cy="11304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900"/>
                            </p:stCondLst>
                            <p:childTnLst>
                              <p:par>
                                <p:cTn id="10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900"/>
                            </p:stCondLst>
                            <p:childTnLst>
                              <p:par>
                                <p:cTn id="10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750"/>
                            </p:stCondLst>
                            <p:childTnLst>
                              <p:par>
                                <p:cTn id="1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750"/>
                            </p:stCondLst>
                            <p:childTnLst>
                              <p:par>
                                <p:cTn id="1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750"/>
                            </p:stCondLst>
                            <p:childTnLst>
                              <p:par>
                                <p:cTn id="1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750"/>
                            </p:stCondLst>
                            <p:childTnLst>
                              <p:par>
                                <p:cTn id="1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eorgia"/>
              </a:rPr>
              <a:t>Цели урока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вести определение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вести формулировки и доказать признак и свойство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84720" y="3860640"/>
            <a:ext cx="287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9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25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Расположение  прямых  в пространстве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2708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484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00000" y="2421000"/>
            <a:ext cx="3384720" cy="28872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2057400"/>
            <a:ext cx="2073240" cy="1096920"/>
          </a:xfrm>
          <a:custGeom>
            <a:avLst/>
            <a:gdLst/>
            <a:ahLst/>
            <a:rect l="l" t="t" r="r" b="b"/>
            <a:pathLst>
              <a:path w="1306" h="691">
                <a:moveTo>
                  <a:pt x="0" y="0"/>
                </a:moveTo>
                <a:lnTo>
                  <a:pt x="1306" y="691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1440" y="19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8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9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816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88000" y="321264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788000" y="371592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9480" y="35672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9640" y="198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4128840" y="2000160"/>
            <a:ext cx="944640" cy="6249960"/>
          </a:xfrm>
          <a:custGeom>
            <a:avLst/>
            <a:gdLst>
              <a:gd name="textAreaLeft" fmla="*/ 603720 w 944640"/>
              <a:gd name="textAreaRight" fmla="*/ 945000 w 944640"/>
              <a:gd name="textAreaTop" fmla="*/ 162720 h 6249960"/>
              <a:gd name="textAreaBottom" fmla="*/ 6087240 h 62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734080"/>
            <a:ext cx="70578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Лежат в одной плоск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1511280" cy="105876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0920" y="836640"/>
            <a:ext cx="4248000" cy="3772800"/>
            <a:chOff x="250920" y="836640"/>
            <a:chExt cx="4248000" cy="3772800"/>
          </a:xfrm>
        </p:grpSpPr>
        <p:sp>
          <p:nvSpPr>
            <p:cNvPr id="109" name=""/>
            <p:cNvSpPr/>
            <p:nvPr/>
          </p:nvSpPr>
          <p:spPr>
            <a:xfrm>
              <a:off x="1330200" y="1341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55640" y="1341720"/>
              <a:ext cx="5745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" y="198936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771640" y="13417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71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640" y="4078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492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771640" y="357372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3020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30200" y="3573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55640" y="3573720"/>
              <a:ext cx="57456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0920" y="15573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2920" y="8366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6920" y="155736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6560" y="40784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30200" y="3068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2200" y="4149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58920" y="909720"/>
              <a:ext cx="14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13480" y="230040"/>
            <a:ext cx="422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33"/>
                </a:solidFill>
                <a:latin typeface="Georgia"/>
              </a:rPr>
              <a:t>Дан куб АВС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A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C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04520" y="981000"/>
            <a:ext cx="5927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вляются ли паралл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83664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к противопо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ороны квадрата, лежат в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лоскости и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220500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A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о тр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92080" y="3664080"/>
            <a:ext cx="4181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Являются л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ни пересек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280" y="2027160"/>
            <a:ext cx="1440" cy="2027160"/>
          </a:xfrm>
          <a:custGeom>
            <a:avLst/>
            <a:gdLst/>
            <a:ahLst/>
            <a:rect l="l" t="t" r="r" b="b"/>
            <a:pathLst>
              <a:path w="1" h="1277">
                <a:moveTo>
                  <a:pt x="0" y="1277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59040" y="1996920"/>
            <a:ext cx="1800" cy="2071800"/>
          </a:xfrm>
          <a:custGeom>
            <a:avLst/>
            <a:gdLst/>
            <a:ahLst/>
            <a:rect l="l" t="t" r="r" b="b"/>
            <a:pathLst>
              <a:path w="1" h="1305">
                <a:moveTo>
                  <a:pt x="0" y="130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341360"/>
            <a:ext cx="1440" cy="2224080"/>
          </a:xfrm>
          <a:custGeom>
            <a:avLst/>
            <a:gdLst/>
            <a:ahLst/>
            <a:rect l="l" t="t" r="r" b="b"/>
            <a:pathLst>
              <a:path w="1" h="1401">
                <a:moveTo>
                  <a:pt x="0" y="140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3440" y="3581280"/>
            <a:ext cx="503280" cy="503280"/>
          </a:xfrm>
          <a:custGeom>
            <a:avLst/>
            <a:gdLst/>
            <a:ahLst/>
            <a:rect l="l" t="t" r="r" b="b"/>
            <a:pathLst>
              <a:path w="317" h="317">
                <a:moveTo>
                  <a:pt x="317" y="0"/>
                </a:moveTo>
                <a:lnTo>
                  <a:pt x="0" y="317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96920"/>
            <a:ext cx="1440" cy="2057400"/>
          </a:xfrm>
          <a:custGeom>
            <a:avLst/>
            <a:gdLst/>
            <a:ahLst/>
            <a:rect l="l" t="t" r="r" b="b"/>
            <a:pathLst>
              <a:path w="1" h="1296">
                <a:moveTo>
                  <a:pt x="0" y="1296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4869000"/>
            <a:ext cx="7775280" cy="1779480"/>
          </a:xfrm>
          <a:prstGeom prst="rect">
            <a:avLst/>
          </a:prstGeom>
          <a:solidFill>
            <a:srgbClr val="ffccff"/>
          </a:solidFill>
          <a:ln w="4140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Две прямые назы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скрещивающимися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если они не лежат в од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5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4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5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Если одна из двух прямых лежит в некоторой плоскости, а другая прямая пересекает эту плоскость в точке, не лежащей на первой прямой, то эти прямые </a:t>
            </a: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скрещивающиеся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/>
            <a:ahLst/>
            <a:rect l="l" t="t" r="r" b="b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24360" y="907920"/>
            <a:ext cx="500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, С   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/>
            <a:ahLst/>
            <a:rect l="l" t="t" r="r" b="b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64000" y="981000"/>
                <a:ext cx="384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885080" y="98100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694160" y="31417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3440" y="3573360"/>
            <a:ext cx="73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тим, что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и АВ лежат в одн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сть это будет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4365720"/>
                <a:ext cx="2808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7440" y="1628640"/>
            <a:ext cx="30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зать, что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рещивается  с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452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1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2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88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65720"/>
            <a:ext cx="1440" cy="907920"/>
          </a:xfrm>
          <a:custGeom>
            <a:avLst/>
            <a:gdLst/>
            <a:ahLst/>
            <a:rect l="l" t="t" r="r" b="b"/>
            <a:pathLst>
              <a:path w="1" h="572">
                <a:moveTo>
                  <a:pt x="0" y="0"/>
                </a:moveTo>
                <a:lnTo>
                  <a:pt x="0" y="5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19640" y="472428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ет  с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300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лоскости совпадают, чего быть не может, т.к. прямая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ересекает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Плоскости, которой принадлежат АВ и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ествует и следовательно по определению скрещив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ямых  АВ  скрещивается с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50"/>
                            </p:stCondLst>
                            <p:childTnLst>
                              <p:par>
                                <p:cTn id="3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"/>
                            </p:stCondLst>
                            <p:childTnLst>
                              <p:par>
                                <p:cTn id="3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крепление изученной теоремы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1413000"/>
            <a:ext cx="3600360" cy="3772800"/>
            <a:chOff x="5292720" y="1413000"/>
            <a:chExt cx="3600360" cy="3772800"/>
          </a:xfrm>
        </p:grpSpPr>
        <p:sp>
          <p:nvSpPr>
            <p:cNvPr id="178" name=""/>
            <p:cNvSpPr/>
            <p:nvPr/>
          </p:nvSpPr>
          <p:spPr>
            <a:xfrm>
              <a:off x="7958160" y="141300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53440" y="38610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72360" y="1918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797080" y="191808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97440" y="256572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813800" y="191808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744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1380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97440" y="465480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708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813800" y="415008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7236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360" y="4150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797080" y="415008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21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5080" y="141300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09080" y="213372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8720" y="4654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2360" y="3645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04360" y="4726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77480" y="1503360"/>
            <a:ext cx="519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02640" y="4145040"/>
            <a:ext cx="519120" cy="519120"/>
          </a:xfrm>
          <a:custGeom>
            <a:avLst/>
            <a:gdLst/>
            <a:ahLst/>
            <a:rect l="l" t="t" r="r" b="b"/>
            <a:pathLst>
              <a:path w="327" h="327">
                <a:moveTo>
                  <a:pt x="0" y="327"/>
                </a:moveTo>
                <a:lnTo>
                  <a:pt x="327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1935000"/>
            <a:ext cx="563400" cy="2697480"/>
          </a:xfrm>
          <a:custGeom>
            <a:avLst/>
            <a:gdLst/>
            <a:ahLst/>
            <a:rect l="l" t="t" r="r" b="b"/>
            <a:pathLst>
              <a:path w="355" h="1699">
                <a:moveTo>
                  <a:pt x="0" y="1699"/>
                </a:moveTo>
                <a:lnTo>
                  <a:pt x="355" y="0"/>
                </a:lnTo>
              </a:path>
            </a:pathLst>
          </a:custGeom>
          <a:solidFill>
            <a:srgbClr val="ccffff"/>
          </a:solidFill>
          <a:ln w="414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360" y="2637000"/>
            <a:ext cx="5140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Указа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плоскост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1989000"/>
            <a:ext cx="547560" cy="2667240"/>
          </a:xfrm>
          <a:custGeom>
            <a:avLst/>
            <a:gdLst/>
            <a:ahLst/>
            <a:rect l="l" t="t" r="r" b="b"/>
            <a:pathLst>
              <a:path w="345" h="1680">
                <a:moveTo>
                  <a:pt x="19" y="1661"/>
                </a:moveTo>
                <a:lnTo>
                  <a:pt x="19" y="365"/>
                </a:lnTo>
                <a:lnTo>
                  <a:pt x="345" y="0"/>
                </a:lnTo>
                <a:lnTo>
                  <a:pt x="345" y="1364"/>
                </a:lnTo>
                <a:lnTo>
                  <a:pt x="0" y="1680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2560680"/>
            <a:ext cx="777600" cy="14400"/>
          </a:xfrm>
          <a:custGeom>
            <a:avLst/>
            <a:gdLst/>
            <a:ahLst/>
            <a:rect l="l" t="t" r="r" b="b"/>
            <a:pathLst>
              <a:path w="490" h="9">
                <a:moveTo>
                  <a:pt x="0" y="9"/>
                </a:moveTo>
                <a:lnTo>
                  <a:pt x="49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75480" y="1935000"/>
            <a:ext cx="595080" cy="2729160"/>
          </a:xfrm>
          <a:custGeom>
            <a:avLst/>
            <a:gdLst/>
            <a:ahLst/>
            <a:rect l="l" t="t" r="r" b="b"/>
            <a:pathLst>
              <a:path w="375" h="1719">
                <a:moveTo>
                  <a:pt x="0" y="1719"/>
                </a:moveTo>
                <a:lnTo>
                  <a:pt x="375" y="0"/>
                </a:lnTo>
              </a:path>
            </a:pathLst>
          </a:custGeom>
          <a:noFill/>
          <a:ln w="414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1320" y="3860640"/>
            <a:ext cx="4909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Является ли прямая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ой 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12000" y="1989000"/>
            <a:ext cx="471600" cy="2643480"/>
          </a:xfrm>
          <a:custGeom>
            <a:avLst/>
            <a:gdLst/>
            <a:ahLst/>
            <a:rect l="l" t="t" r="r" b="b"/>
            <a:pathLst>
              <a:path w="297" h="1665">
                <a:moveTo>
                  <a:pt x="19" y="1627"/>
                </a:moveTo>
                <a:lnTo>
                  <a:pt x="19" y="360"/>
                </a:lnTo>
                <a:lnTo>
                  <a:pt x="296" y="0"/>
                </a:lnTo>
                <a:lnTo>
                  <a:pt x="297" y="1358"/>
                </a:lnTo>
                <a:lnTo>
                  <a:pt x="0" y="1665"/>
                </a:lnTo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7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600"/>
                            </p:stCondLst>
                            <p:childTnLst>
                              <p:par>
                                <p:cTn id="4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9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Теорема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Через каждую из двух скрещивающихся прямых  проходит плоскость, параллельная другой плоскости, и притом только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5840" y="2152800"/>
            <a:ext cx="43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скрещивается с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Построи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В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||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916360" y="2624040"/>
                <a:ext cx="3603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851440" y="2133720"/>
            <a:ext cx="1752840" cy="4038480"/>
          </a:xfrm>
          <a:custGeom>
            <a:avLst/>
            <a:gdLst/>
            <a:ahLst/>
            <a:rect l="l" t="t" r="r" b="b"/>
            <a:pathLst>
              <a:path w="1104" h="2544">
                <a:moveTo>
                  <a:pt x="0" y="2534"/>
                </a:moveTo>
                <a:lnTo>
                  <a:pt x="0" y="672"/>
                </a:lnTo>
                <a:lnTo>
                  <a:pt x="1085" y="0"/>
                </a:lnTo>
                <a:lnTo>
                  <a:pt x="1104" y="1910"/>
                </a:lnTo>
                <a:lnTo>
                  <a:pt x="10" y="2544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1720" y="3368520"/>
            <a:ext cx="1279800" cy="716040"/>
          </a:xfrm>
          <a:custGeom>
            <a:avLst/>
            <a:gdLst/>
            <a:ahLst/>
            <a:rect l="l" t="t" r="r" b="b"/>
            <a:pathLst>
              <a:path w="806" h="451">
                <a:moveTo>
                  <a:pt x="0" y="451"/>
                </a:moveTo>
                <a:lnTo>
                  <a:pt x="80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21760" y="2179800"/>
            <a:ext cx="14040" cy="3627360"/>
          </a:xfrm>
          <a:custGeom>
            <a:avLst/>
            <a:gdLst/>
            <a:ahLst/>
            <a:rect l="l" t="t" r="r" b="b"/>
            <a:pathLst>
              <a:path w="9" h="2285">
                <a:moveTo>
                  <a:pt x="9" y="228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2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1924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905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0720" y="386064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93080" y="342900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4000" y="249228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44000" y="5373720"/>
            <a:ext cx="14436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2000" y="3429000"/>
            <a:ext cx="50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Через точку А проведем пря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АЕ, АЕ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0560" y="3124080"/>
            <a:ext cx="14400" cy="2667240"/>
          </a:xfrm>
          <a:custGeom>
            <a:avLst/>
            <a:gdLst/>
            <a:ahLst/>
            <a:rect l="l" t="t" r="r" b="b"/>
            <a:pathLst>
              <a:path w="9" h="1680">
                <a:moveTo>
                  <a:pt x="9" y="16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2520" y="50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1640" y="407664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2. Прямые АВ и АЕ пересек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и образуют плоскость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 АВ    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– единственная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72000" y="4508640"/>
                <a:ext cx="4334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76560" y="2873520"/>
            <a:ext cx="47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Доказать, что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3800" y="5157720"/>
            <a:ext cx="893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3. Доказательство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  по  следствию 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ксиом. Любая  другая плоскость, которой принадлежит 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секает  АЕ  и, следовательно, прямую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00"/>
                            </p:stCondLst>
                            <p:childTnLst>
                              <p:par>
                                <p:cTn id="5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600"/>
                            </p:stCondLst>
                            <p:childTnLst>
                              <p:par>
                                <p:cTn id="5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6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600"/>
                            </p:stCondLst>
                            <p:childTnLst>
                              <p:par>
                                <p:cTn id="5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6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200"/>
                            </p:stCondLst>
                            <p:childTnLst>
                              <p:par>
                                <p:cTn id="5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700"/>
                            </p:stCondLst>
                            <p:childTnLst>
                              <p:par>
                                <p:cTn id="6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350"/>
                            </p:stCondLst>
                            <p:childTnLst>
                              <p:par>
                                <p:cTn id="6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ть 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проходящую  через  точку К  и  параллельную  скрещивающимся  прямым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21760" y="1916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Постро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69680" y="2349360"/>
            <a:ext cx="45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66480" y="3141720"/>
            <a:ext cx="5214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646200" y="3537720"/>
            <a:ext cx="3313080" cy="2232360"/>
          </a:xfrm>
          <a:custGeom>
            <a:avLst/>
            <a:gdLst>
              <a:gd name="textAreaLeft" fmla="*/ 578520 w 3313080"/>
              <a:gd name="textAreaRight" fmla="*/ 2734560 w 3313080"/>
              <a:gd name="textAreaTop" fmla="*/ 389880 h 2232360"/>
              <a:gd name="textAreaBottom" fmla="*/ 184248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720" y="2849400"/>
            <a:ext cx="1660680" cy="1509840"/>
          </a:xfrm>
          <a:custGeom>
            <a:avLst/>
            <a:gdLst/>
            <a:ahLst/>
            <a:rect l="l" t="t" r="r" b="b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7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39920" y="2620800"/>
            <a:ext cx="1143000" cy="3230640"/>
          </a:xfrm>
          <a:custGeom>
            <a:avLst/>
            <a:gdLst/>
            <a:ahLst/>
            <a:rect l="l" t="t" r="r" b="b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334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1800" y="414972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3716280"/>
            <a:ext cx="1660680" cy="1509840"/>
          </a:xfrm>
          <a:custGeom>
            <a:avLst/>
            <a:gdLst/>
            <a:ahLst/>
            <a:rect l="l" t="t" r="r" b="b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8000" y="3429000"/>
            <a:ext cx="863640" cy="2305080"/>
          </a:xfrm>
          <a:custGeom>
            <a:avLst/>
            <a:gdLst/>
            <a:ahLst/>
            <a:rect l="l" t="t" r="r" b="b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68640" y="450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37360" y="5084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365720"/>
            <a:ext cx="7164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90040" y="4005360"/>
            <a:ext cx="490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Через пересекаю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 прове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иско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600"/>
                            </p:stCondLst>
                            <p:childTnLst>
                              <p:par>
                                <p:cTn id="6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100"/>
                            </p:stCondLst>
                            <p:childTnLst>
                              <p:par>
                                <p:cTn id="7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7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2:47:08Z</dcterms:created>
  <dc:creator>Марина</dc:creator>
  <dc:description/>
  <dc:language>en-US</dc:language>
  <cp:lastModifiedBy>Марина</cp:lastModifiedBy>
  <dcterms:modified xsi:type="dcterms:W3CDTF">2007-10-08T09:06:45Z</dcterms:modified>
  <cp:revision>7</cp:revision>
  <dc:subject/>
  <dc:title>Взаимное расположение прямых в пространстве.</dc:title>
</cp:coreProperties>
</file>