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10.png" ContentType="image/png"/>
  <Override PartName="/ppt/media/image6.jpeg" ContentType="image/jpeg"/>
  <Override PartName="/ppt/media/image9.jpeg" ContentType="image/jpeg"/>
  <Override PartName="/ppt/media/image16.gif" ContentType="image/gif"/>
  <Override PartName="/ppt/media/image15.gif" ContentType="image/gif"/>
  <Override PartName="/ppt/media/image1.png" ContentType="image/png"/>
  <Override PartName="/ppt/media/image14.gif" ContentType="image/gif"/>
  <Override PartName="/ppt/media/image2.gif" ContentType="image/gif"/>
  <Override PartName="/ppt/media/image11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13.gif" ContentType="image/gif"/>
  <Override PartName="/ppt/media/image5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4C14-B289-4EA1-ABE1-B42CDC846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E822-576B-431F-9BC2-EC8C0D54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4761-B1AC-42B3-B696-3F79F0FE4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03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087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7160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03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087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A5A2-A2A7-493C-A466-F535DD721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A951-294C-43DC-8695-1AB421DD6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A1FC-EBBF-4AF9-804E-91A60DD1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E0FD-8387-4D96-98DA-0B0E350B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B49C-69C9-493C-9F54-5849BB35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74EC-5AEF-459C-A6AC-2978C11E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2057040" y="1143000"/>
            <a:ext cx="662940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2A97-07CE-4A73-84F8-F5D74F73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49C1-8E61-47C0-96BD-2CC064F4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1FD1-A3C1-4F37-823C-EFA57291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A1DD2-2A8F-450E-A35B-B80A255C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578A9-F079-4809-902B-AA9B690F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A80C-AE87-48DF-80E2-362A42FD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8A5D-845A-4307-87FB-29B097F35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903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087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37160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903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087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42A7-BE20-421D-9272-6D74E6EEE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B643-9D1E-41F6-90D4-1244667B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D406-0636-4DDB-AC1E-6893D39D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51C9-B5BF-4AF3-B0B3-29EB787E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057040" y="1143000"/>
            <a:ext cx="662940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BC89-D5CA-4E57-8763-A830D386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C209-F804-4CB1-B109-78ED9BA8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A57C-83B8-49BB-A302-885A1FED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3414-A084-4B7B-8886-B3F494A0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C9C8-7849-400A-B089-53B1014805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5509-4B74-43AF-AF32-FB160B6BEA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-252360" y="-531720"/>
            <a:ext cx="9577440" cy="7993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11280" y="1125360"/>
            <a:ext cx="82328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3300"/>
                </a:solidFill>
                <a:latin typeface="Arial Narrow"/>
              </a:rPr>
              <a:t>      </a:t>
            </a:r>
            <a:r>
              <a:rPr b="1" lang="en-US" sz="5400" spc="-1" strike="noStrike">
                <a:solidFill>
                  <a:srgbClr val="993300"/>
                </a:solidFill>
                <a:latin typeface="Arial Narrow"/>
              </a:rPr>
              <a:t>Оценка и отметка 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3300"/>
                </a:solidFill>
                <a:latin typeface="Arial Narrow"/>
              </a:rPr>
              <a:t>                </a:t>
            </a:r>
            <a:r>
              <a:rPr b="1" lang="en-US" sz="5400" spc="-1" strike="noStrike">
                <a:solidFill>
                  <a:srgbClr val="993300"/>
                </a:solidFill>
                <a:latin typeface="Arial Narrow"/>
              </a:rPr>
              <a:t>истор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3300"/>
                </a:solidFill>
                <a:latin typeface="Arial Narrow"/>
              </a:rPr>
              <a:t>        </a:t>
            </a:r>
            <a:r>
              <a:rPr b="1" lang="en-US" sz="5400" spc="-1" strike="noStrike">
                <a:solidFill>
                  <a:srgbClr val="993300"/>
                </a:solidFill>
                <a:latin typeface="Arial Narrow"/>
              </a:rPr>
              <a:t>учебных заведений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3300"/>
                </a:solidFill>
                <a:latin typeface="Arial Narrow"/>
              </a:rPr>
              <a:t>                 </a:t>
            </a:r>
            <a:r>
              <a:rPr b="1" lang="en-US" sz="5400" spc="-1" strike="noStrike">
                <a:solidFill>
                  <a:srgbClr val="993300"/>
                </a:solidFill>
                <a:latin typeface="Arial Narrow"/>
              </a:rPr>
              <a:t>России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268360" y="4653000"/>
            <a:ext cx="4751640" cy="1989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39640" y="0"/>
            <a:ext cx="7920000" cy="934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611280" y="6165720"/>
            <a:ext cx="792000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-324000" y="-316080"/>
            <a:ext cx="9864720" cy="7632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527120" y="13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71640" y="765000"/>
            <a:ext cx="7632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37b5"/>
                </a:solidFill>
                <a:latin typeface="Arial"/>
              </a:rPr>
              <a:t>В мае 1918 года было принято постановление Народного Комиссариата по просвещению «Об отмене отметок», который подписал Луначарский А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37b5"/>
                </a:solidFill>
                <a:latin typeface="Arial"/>
              </a:rPr>
              <a:t>-применение балльной системы для оценки познаний и поведения учащихся отменяется во всех без исключения случа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37b5"/>
                </a:solidFill>
                <a:latin typeface="Arial"/>
              </a:rPr>
              <a:t>-перевод из класса в класс и выдача свидетельств производится на основании успехов учащихся по отзывам педагогиче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37b5"/>
                </a:solidFill>
                <a:latin typeface="Arial"/>
              </a:rPr>
              <a:t>совета об исполнении учебной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39640" y="5805360"/>
            <a:ext cx="777744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-252360" y="-316080"/>
            <a:ext cx="10441080" cy="76327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527120" y="13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5280" y="299880"/>
            <a:ext cx="7308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Практические изменения в системе оценивания происходят после постановлений ЦК ВКП(б) от 5 сентября 1931 года,когда преподаватель в процессе учебной работы должен изучать каждого ученика и в конце четверти составлять характеристику его успеваемости по данному предмету, а в кон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года проводить испытания для всех учащихся.Отметка рассматривалась как объективный показатель 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школь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366920" y="5805360"/>
            <a:ext cx="77770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-324000" y="-387360"/>
            <a:ext cx="9864720" cy="76327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527120" y="13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00000" y="0"/>
            <a:ext cx="763272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«-Неудовлетворительн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характеризует работу отриц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чество усвоения материала ниже требований, учащих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 выполняет зада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Удовлетворительн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учащийся усвоил данный раздел программ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чество усвоения соответствует определенному уровню да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руппы по данному предме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Хорош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о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 учащийся в состоянии осмысленно и полно дать отв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ез наводящих вопросов по всем разделам пройденного материа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чество усвоения – выше среднего уровня данной группы по данн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дме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Очень хорош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 качество усвоения глубокое и прочное, учащий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наруживает особую активность в работе, умеет хорошо перед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вои знания другому, систематически организованно работ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д заданиям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916360" y="765000"/>
            <a:ext cx="3743280" cy="4384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2843280" y="2997360"/>
            <a:ext cx="3457440" cy="4381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2916360" y="4437000"/>
            <a:ext cx="3527280" cy="4381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2771640" y="6419880"/>
            <a:ext cx="39592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-324000" y="-316080"/>
            <a:ext cx="9864720" cy="76327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527120" y="13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26920" y="0"/>
            <a:ext cx="7926480" cy="62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 сентября 1935 года в Постановлении СНК СССР «Об орг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ции учебной работы и внутреннем распорядке в начальной, неполной средней и средней школе» устанавливается пять степене оценки успеваемости (отметки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чень плох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олное незнание и непонимание материа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средствен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– ученик обнаруживает знания основного учеб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а, понимает его в такой степени, что может усваи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льнейшее, умеет применить полученные знания при разреш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ложных вопросов и заданий, отчетливо отвечает на поставленные вопрос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Хорош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ученик знает весь требуемый программой  и изложенный в стабильном учебнике материал, хорошо его понимает, дает ответы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оизмененные и усложненные вопросы, свободно использу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и знания для разрешения практических заданий, излагает свои знания свободным рассказ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лично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оцениваются знания всего учебного материла во всех его деталях, глубокое его понимание, умение четко отвечать на усложненные вопросы и излагать связным рассказом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-1116000" y="-774720"/>
            <a:ext cx="10728360" cy="8236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527120" y="13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66760" y="228600"/>
            <a:ext cx="6861240" cy="34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99"/>
                </a:solidFill>
                <a:latin typeface="Arial"/>
              </a:rPr>
              <a:t>В образовательной системе России принята к использов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99"/>
                </a:solidFill>
                <a:latin typeface="Arial"/>
              </a:rPr>
              <a:t>система оценки знаний учащихся, которая определена един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99"/>
                </a:solidFill>
                <a:latin typeface="Arial"/>
              </a:rPr>
              <a:t>государственными  программами по пятибальной  систем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55840" y="3573360"/>
            <a:ext cx="86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56000" y="3860640"/>
            <a:ext cx="1028520" cy="14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137b5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137b5"/>
                </a:solidFill>
                <a:latin typeface="Arial"/>
              </a:rPr>
              <a:t>                      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635280" y="4221000"/>
            <a:ext cx="1293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8000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16360" y="4581360"/>
            <a:ext cx="86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933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96000" y="5084640"/>
            <a:ext cx="163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 rot="20877600">
            <a:off x="755640" y="5733720"/>
            <a:ext cx="2592360" cy="1413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539640" y="-243000"/>
            <a:ext cx="777744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-757080" y="-458640"/>
            <a:ext cx="10728000" cy="82357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527120" y="13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56000" y="3860640"/>
            <a:ext cx="1028520" cy="14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137b5"/>
                </a:solidFill>
                <a:latin typeface="Arial"/>
              </a:rPr>
              <a:t>                      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6920" y="0"/>
            <a:ext cx="8166240" cy="44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ценка «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 (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отличн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ставится за глубокое понимание программ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териала, за умение самостоятельно разъяснять изучаемые положения, за логический и литературно правильно построенный ответ, за убедительность и ясность ответа, когда ученик не допускает ошиб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366920" y="6353280"/>
            <a:ext cx="7777080" cy="1008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327640" y="3573360"/>
            <a:ext cx="381636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-324000" y="-316080"/>
            <a:ext cx="9864720" cy="76327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527120" y="13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39640" y="6248520"/>
            <a:ext cx="7777440" cy="6094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116000" y="692280"/>
            <a:ext cx="741672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ценка </a:t>
            </a:r>
            <a:r>
              <a:rPr b="1" lang="en-US" sz="4000" spc="-1" strike="noStrike">
                <a:solidFill>
                  <a:srgbClr val="3137b5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«</a:t>
            </a:r>
            <a:r>
              <a:rPr b="0" i="1" lang="en-US" sz="3200" spc="-1" strike="noStrike">
                <a:solidFill>
                  <a:srgbClr val="3137b5"/>
                </a:solidFill>
                <a:latin typeface="Arial"/>
              </a:rPr>
              <a:t>хорош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) ставится за правильное и глубокое усво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граммного материала, однако в ответе допускаются неточности и незначительные ошибки как в содержании, так и в форме построения от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4788000" y="3141720"/>
            <a:ext cx="3168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-324000" y="-316080"/>
            <a:ext cx="9864720" cy="76327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527120" y="13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539640" y="6248520"/>
            <a:ext cx="7777440" cy="6094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042920" y="404640"/>
            <a:ext cx="7058160" cy="48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ценка «</a:t>
            </a:r>
            <a:r>
              <a:rPr b="0" lang="en-US" sz="6000" spc="-1" strike="noStrike">
                <a:solidFill>
                  <a:srgbClr val="008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 (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удовлетворитель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- свидетельствует о то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ученик знает основные, существенные по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ебного материала, но не умеет их разъяснять, допуск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дельные ошибки и неточности в содержании 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в фор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троения от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5076720" y="3573360"/>
            <a:ext cx="2952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-324000" y="-316080"/>
            <a:ext cx="9864720" cy="76327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527120" y="13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539640" y="6248520"/>
            <a:ext cx="7777440" cy="6094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042920" y="0"/>
            <a:ext cx="79930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ценка «</a:t>
            </a:r>
            <a:r>
              <a:rPr b="0" lang="en-US" sz="60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» ( </a:t>
            </a:r>
            <a:r>
              <a:rPr b="1" i="1" lang="en-US" sz="2800" spc="-1" strike="noStrike">
                <a:solidFill>
                  <a:srgbClr val="990033"/>
                </a:solidFill>
                <a:latin typeface="Arial"/>
              </a:rPr>
              <a:t>плохо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ыставляется за плохое усвоение материала, а не за отсутствие знаний. Неудовлетворительный ответ показыв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 ученик знаком с учебным материалом, но не выделяет основных положений, допускает существенные ошибки, которые искажают смысл изученного. Он передает информацию, котор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помнил со слов учителя  или из учебника, но которая логически не обработана в его сознании, не приведена в систему науч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ожений, дов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4788000" y="3716280"/>
            <a:ext cx="3456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-324000" y="-316080"/>
            <a:ext cx="9864720" cy="79488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27120" y="13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539640" y="6248520"/>
            <a:ext cx="7777440" cy="6094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311120" y="1197000"/>
            <a:ext cx="7083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ценка «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 (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очень плох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 ставится тогда, когда ученик не знаком    с     учебным материа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843280" y="3716280"/>
            <a:ext cx="3168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-324000" y="-387360"/>
            <a:ext cx="9901440" cy="7588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71640" y="0"/>
            <a:ext cx="4248000" cy="6237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148360" y="2133720"/>
            <a:ext cx="304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 1802 году Александр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оздает Министе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народ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росве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364000" y="4149720"/>
            <a:ext cx="2880000" cy="1366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755640" y="6248520"/>
            <a:ext cx="79200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e8c78"/>
                </a:solidFill>
                <a:latin typeface="Times New Roman"/>
              </a:rPr>
              <a:t>В.А.СУХОМЛИНСКИЙ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cc0099"/>
                </a:solidFill>
                <a:latin typeface="Arial"/>
              </a:rPr>
              <a:t>«есть успех- есть и желание учиться» 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вот формула, которой он следовал, то есть успех – основа оценочной деятельности учи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867280" y="4653000"/>
            <a:ext cx="285768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«</a:t>
            </a:r>
            <a:r>
              <a:rPr b="1" lang="en-US" sz="3600" spc="-1" strike="noStrike">
                <a:solidFill>
                  <a:srgbClr val="2b0924"/>
                </a:solidFill>
                <a:latin typeface="Times New Roman"/>
              </a:rPr>
              <a:t>Будущее России за молодыми… а сейчас вам необходимо хорошо учиться»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4738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-1189080" y="-243000"/>
            <a:ext cx="9864720" cy="79488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527120" y="13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39640" y="6248520"/>
            <a:ext cx="7777440" cy="6094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981000"/>
            <a:ext cx="8388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Назовите плюсы и минусы отмето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ной и балльной системы оцени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?Как вы оцениваете систем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оценивания в современной школ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?Какие бы  изменения вы внесли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систему оценив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5867280" y="4508640"/>
            <a:ext cx="122580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468360" y="-531720"/>
            <a:ext cx="10225080" cy="79214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55640" y="765000"/>
            <a:ext cx="9236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Внимательность во время уро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Находчивость в применении зн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Твердость в пройденном материал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Наружный вид письменных упражн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Повед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Сколько раз не был в клас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Качество приготовления уро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Сколько раз был записан преподавате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и за ч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11280" y="5445000"/>
            <a:ext cx="792000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252360" y="-531720"/>
            <a:ext cx="9577440" cy="7561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971640" y="2324160"/>
            <a:ext cx="7416720" cy="4533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484360" y="0"/>
            <a:ext cx="4032360" cy="2016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900000" y="1916280"/>
            <a:ext cx="72453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252360" y="-387360"/>
            <a:ext cx="9648720" cy="7848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376280" y="614520"/>
            <a:ext cx="725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Табель об успехах, прилежании и дарованиях лицеист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                               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Александр Пушк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971640" y="1844640"/>
            <a:ext cx="3313080" cy="4608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284720" y="1844640"/>
            <a:ext cx="41990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 российском и латинском язык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пехи в латинском хороши; В русском не столь тверды, сколь блистатель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або прилеж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арен понятливостью и вкус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о французском язык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счит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жду первыми. Весьма прилеж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арен понятливостью, проницатель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 логик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хорошие успех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прилежен. Весьма ленив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042920" y="6553080"/>
            <a:ext cx="69138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971640" y="0"/>
            <a:ext cx="72723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37b5"/>
                </a:solidFill>
                <a:latin typeface="Times New Roman"/>
              </a:rPr>
              <a:t>В 1834 году было установлено семь степеней оценки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0" y="404640"/>
          <a:ext cx="9144000" cy="6510600"/>
        </p:xfrm>
        <a:graphic>
          <a:graphicData uri="http://schemas.openxmlformats.org/drawingml/2006/table">
            <a:tbl>
              <a:tblPr/>
              <a:tblGrid>
                <a:gridCol w="539640"/>
                <a:gridCol w="2448000"/>
                <a:gridCol w="4897440"/>
                <a:gridCol w="12589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тлично хороший успе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Ученик твердо знает все пройденное весьма основательно, отвечает идею ясно, опровергает всевозраж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2 бал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есьма хороший успе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Знает пройденное основательно, отвечает определительно, важнейшие вопросы разрешает, выражается ясно и связ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1, 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бал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Хороший успе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Знает пройденное хорошо, о идеи развивает не совсем точно, вопросы решает иногда не свободно, говорит не довольно плавно, повторяет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9,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бал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Успех удовлетворите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Понимает и знает все пройденное довольно хорошо ,отвечает неточно, но пропущенное вспоминает легко, при вопросах затрудняется, выражается неточно, неясн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бал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осредственный успе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Знает посредственно, понимает многое неясно, сбивчиво, отвечает с ошибками и говорит заученное наизу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6 ,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бал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удой успе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Много не знает или ошибочно понимает, впрочем, оставшись в классе в будущем году, курсу  следовать може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4,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бал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сьма худой успе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Так мало знает, или так худо понимает, что курсу и в будущем году следовать не может и должен быть переведен на низший 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2, 1 бал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-324000" y="-387360"/>
            <a:ext cx="13392360" cy="8064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527120" y="13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35280" y="189000"/>
            <a:ext cx="82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Несколько слов об учительских отметках, употребляем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и в наше время и во всей России» (К.Д.Ушинский) 196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403280" y="1052640"/>
            <a:ext cx="3311640" cy="5616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716360" y="2492280"/>
            <a:ext cx="478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«…</a:t>
            </a: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я не просто отрицаю баллы, но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говорю о том, что баллы влияют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всю систему преподавания, опред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ляют соответствующую систе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бучения…Баллы должны не толь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характеризовать знания, но и вним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ие, и поведение и тем самым усил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рвение ученика к занятия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-324000" y="-316080"/>
            <a:ext cx="9864720" cy="7632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527120" y="13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16000" y="620640"/>
            <a:ext cx="849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В качестве наказаний К.Д.Ушинский рекомендует приме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штрафные уроки и сажать провинившихся под аре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635280" y="2637000"/>
            <a:ext cx="2305080" cy="3600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539640" y="6248520"/>
            <a:ext cx="77774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-324000" y="-316080"/>
            <a:ext cx="9864720" cy="76327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527120" y="13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16000" y="260280"/>
            <a:ext cx="7201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Оценочный компонент образовательной деятельности в начале ХХ века вызывает споры. В 1915-1916 годах был разработан проект реформы средней школы. Цифровые баллы рекомендовалось заменить частой осведомленностью родителей о случае неуспеваемости их детей. Перевод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экзамены были заменены периодическими в течение учебного года. Награды и медали отменялись. По Циркуляру Министерства просвещения педагогические советы сами выбирали систему оценки по собственному ре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132000" y="4962600"/>
            <a:ext cx="285768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06:09:53Z</dcterms:created>
  <dc:creator>Admin</dc:creator>
  <dc:description/>
  <dc:language>en-US</dc:language>
  <cp:lastModifiedBy>User</cp:lastModifiedBy>
  <dcterms:modified xsi:type="dcterms:W3CDTF">2010-10-01T16:59:36Z</dcterms:modified>
  <cp:revision>33</cp:revision>
  <dc:subject/>
  <dc:title>Слайд 1</dc:title>
</cp:coreProperties>
</file>