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D17-96DD-41AC-942D-AC6EE626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386-909A-4320-9472-DC01342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D7D-E118-4514-8943-202FCFBD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18D-6978-470C-9FE6-B73D8E3D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BE76-D7C3-4DCE-8593-FE9B075A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D191-E360-465D-929B-2D1F0F3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6D2C-6B80-4AD7-8F24-A1058D51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290C-8361-45EB-AF6C-D96F2C2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255D-CF81-4630-9338-EC49580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FE6-C467-4887-992F-11CEB32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F0FC-DF4E-43A6-835F-B556FC9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95C-4808-46AF-8DF4-ADA8FF1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ED3-B611-4EFD-8E27-433F0F1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13EC-5C09-4284-8F8A-14645DF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156-C763-41D7-BCBA-2DC086B6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040E-35B2-41EA-8D72-C87E52D1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3DF1-565A-4C09-A95E-9E83746E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32E-26F5-492B-9109-7F35017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D73-197D-49E6-9A6B-37D3535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172-D0AB-448A-A33D-9F52541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285-4399-49B2-99E1-E2FE8948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4D8-7DFF-49C9-80E9-F7CA3BA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C3D-1AEE-47F4-8F18-D6FB6CB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E07-E7C9-4D73-BEDD-B05501B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6DB-1CA4-4924-B2F9-1B5E5B83E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8F0-D202-4010-8A4F-D1502C99BA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99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125360"/>
            <a:ext cx="823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Оценка и отметк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исто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учебных заведений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Росси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4751640" cy="198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792000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11280" y="616572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В мае 1918 года было принято постановление Народного Комиссариата по просвещению «Об отмене отметок», который подписал Луначарски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рименение балльной системы для оценки познаний и поведения учащихся отменяется во всех без исключения случа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еревод из класса в класс и выдача свидетельств производится на основании успехов учащихся по отзывам педагог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совета об исполнении учеб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10441080" cy="763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9988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актические изменения в системе оценивания происходят после постановлений ЦК ВКП(б) от 5 сентября 1931 года,когда преподаватель в процессе учебной работы должен изучать каждого ученика и в конце четверти составлять характеристику его успеваемости по данному предмету, а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ода проводить испытания для всех учащихся.Отметка рассматривалась как объективный показатель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66920" y="5805360"/>
            <a:ext cx="7777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0"/>
            <a:ext cx="7632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-Не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характеризует работу отриц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материала ниже требований,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выполняет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учащийся усвоил данный раздел програм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соответствует определенному уровню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ы по данному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Хоро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чащийся в состоянии осмысленно и полно дать 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водящих вопросов по всем разделам пройденн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– выше среднего уровня данной группы по дан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чень хорош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качество усвоения глубокое и прочное, уча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наруживает особую активность в работе, умеет хорошо пере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и знания другому, систематически организованно рабо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д задани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16360" y="765000"/>
            <a:ext cx="3743280" cy="43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4574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916360" y="4437000"/>
            <a:ext cx="352728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771640" y="6419880"/>
            <a:ext cx="395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0"/>
            <a:ext cx="79264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ентября 1935 года в Постановлении СНК СССР «Об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ции учебной работы и внутреннем распорядке в начальной, неполной средней и средней школе» устанавливается пять степене оценки успеваемости (отмет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лное незнание и непонимание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редстве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ученик обнаруживает знания основного 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, понимает его в такой степени, что может усва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нейшее, умеет применить полученные знания при раз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ложных вопросов и заданий, отчетливо отвечает на поставленные вопро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ош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ченик знает весь требуемый программой  и изложенный в стабильном учебнике материал, хорошо его понимает, дает ответы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оизмененные и усложненные вопросы, свободно использ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 знания для разрешения практических заданий, излагает свои знания свободным расска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ично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цениваются знания всего учебного материла во всех его деталях, глубокое его понимание, умение четко отвечать на усложненные вопросы и излагать связным рассказ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116000" y="-774720"/>
            <a:ext cx="10728360" cy="8236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228600"/>
            <a:ext cx="68612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В образовательной системе России принята к исполь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система оценки знаний учащихся, которая определена еди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государственными  программами по пятибальной  сис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5840" y="3573360"/>
            <a:ext cx="86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221000"/>
            <a:ext cx="129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4581360"/>
            <a:ext cx="8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5084640"/>
            <a:ext cx="16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rot="20877600">
            <a:off x="755640" y="5733720"/>
            <a:ext cx="2592360" cy="141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-24300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757080" y="-458640"/>
            <a:ext cx="10728000" cy="823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0"/>
            <a:ext cx="816624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отли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ставится за глубокое понимание програм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а, за умение самостоятельно разъяснять изучаемые положения, за логический и литературно правильно построенный ответ, за убедительность и ясность ответа, когда ученик не допускает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366920" y="6353280"/>
            <a:ext cx="777708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27640" y="3573360"/>
            <a:ext cx="3816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16000" y="692280"/>
            <a:ext cx="7416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1" lang="en-US" sz="4000" spc="-1" strike="noStrike">
                <a:solidFill>
                  <a:srgbClr val="3137b5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0" i="1" lang="en-US" sz="3200" spc="-1" strike="noStrike">
                <a:solidFill>
                  <a:srgbClr val="3137b5"/>
                </a:solidFill>
                <a:latin typeface="Arial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) ставится за правильное и глубокое усво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ного материала, однако в ответе допускаются неточности и незначительные ошибки как в содержании, так и в форме 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042920" y="404640"/>
            <a:ext cx="70581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удовлетвори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 свидетельствует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ученик знает основные, существенны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ого материала, но не умеет их разъяснять, допуск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ошибки и неточности в содержани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42920" y="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( 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плохо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ставляется за плохое усвоение материала, а не за отсутствие знаний. Неудовлетворительный ответ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ученик знаком с учебным материалом, но не выделяет основных положений, допускает существенные ошибки, которые искажают смысл изученного. Он передает информацию, кото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мнил со слов учителя  или из учебника, но которая логически не обработана в его сознании, не приведена в систему нау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ений, д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311120" y="1197000"/>
            <a:ext cx="708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ставится тогда, когда ученик не знаком    с     учебным матери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3716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901440" cy="758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248000" cy="623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48360" y="21337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1802 году Александ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здает 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р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св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88000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6248520"/>
            <a:ext cx="7920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e8c78"/>
                </a:solidFill>
                <a:latin typeface="Times New Roman"/>
              </a:rPr>
              <a:t>В.А.СУХОМЛИНСКИЙ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0099"/>
                </a:solidFill>
                <a:latin typeface="Arial"/>
              </a:rPr>
              <a:t>«есть успех- есть и желание учиться»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т формула, которой он следовал, то есть успех – основа оценочной деятельности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2b0924"/>
                </a:solidFill>
                <a:latin typeface="Times New Roman"/>
              </a:rPr>
              <a:t>Будущее России за молодыми… а сейчас вам необходимо хорошо учитьс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1189080" y="-24300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981000"/>
            <a:ext cx="83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зовите плюсы и минусы отмето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ой и балльной системы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 вы оцениваете сис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ценивания в современной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ие бы  изменения вы внесл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истему оцени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1225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468360" y="-531720"/>
            <a:ext cx="10225080" cy="7921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765000"/>
            <a:ext cx="923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Внимательность во врем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ходчивость в применении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Твердость в пройденном материа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ружный вид письменных упраж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не был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Качество приготовлени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был записан преподав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и за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56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2324160"/>
            <a:ext cx="7416720" cy="4533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403236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00000" y="1916280"/>
            <a:ext cx="7245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52360" y="-387360"/>
            <a:ext cx="9648720" cy="784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6280" y="614520"/>
            <a:ext cx="72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Табель об успехах, прилежании и дарованиях лицеис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Александр Пу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31308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4720" y="1844640"/>
            <a:ext cx="419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российском и латинском язы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хи в латинском хороши; В русском не столь тверды, сколь блист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бо приле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 и вк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 французском язы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счи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первыми. Весьма приле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, проница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лог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хорошие усп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лежен. Весьма лени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6553080"/>
            <a:ext cx="69138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71640" y="0"/>
            <a:ext cx="727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Times New Roman"/>
              </a:rPr>
              <a:t>В 1834 году было установлено семь степеней оценк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404640"/>
          <a:ext cx="9144000" cy="6510600"/>
        </p:xfrm>
        <a:graphic>
          <a:graphicData uri="http://schemas.openxmlformats.org/drawingml/2006/table">
            <a:tbl>
              <a:tblPr/>
              <a:tblGrid>
                <a:gridCol w="539640"/>
                <a:gridCol w="2448000"/>
                <a:gridCol w="4897440"/>
                <a:gridCol w="125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лично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ченик твердо знает все пройденное весьма основательно, отвечает идею ясно, опровергает всевозра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2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ьма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основательно, отвечает определительно, важнейшие вопросы разрешает, выражается ясно и связ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,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хорошо, о идеи развивает не совсем точно, вопросы решает иногда не свободно, говорит не довольно плавно, повтор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9,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спех удовлетвор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нимает и знает все пройденное довольно хорошо ,отвечает неточно, но пропущенное вспоминает легко, при вопросах затрудняется, выражается неточно, неяс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осредственны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осредственно, понимает многое неясно, сбивчиво, отвечает с ошибками и говорит заученное наизу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 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й успе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Много не знает или ошибочно понимает, впрочем, оставшись в классе в будущем году, курсу  следовать мож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ма худо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Так мало знает, или так худо понимает, что курсу и в будущем году следовать не может и должен быть переведен на низши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, 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13392360" cy="806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8900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сколько слов об учительских отметках, употребля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в наше время и во всей России» (К.Д.Ушинский)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3311640" cy="561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6360" y="249228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«…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я не просто отрицаю баллы, н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говорю о том, что баллы влияю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сю систему преподавания, опре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яют соответствующую сис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бучения…Баллы должны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арактеризовать знания, но и вни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ие, и поведение и тем самым уси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вение ученика к занятия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62064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В качестве наказаний К.Д.Ушинский рекомендует приме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штрафные уроки и сажать провинившихся под а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35280" y="263700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6028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ценочный компонент образовательной деятельности в начале ХХ века вызывает споры. В 1915-1916 годах был разработан проект реформы средней школы. Цифровые баллы рекомендовалось заменить частой осведомленностью родителей о случае неуспеваемости их детей. Перев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экзамены были заменены периодическими в течение учебного года. Награды и медали отменялись. По Циркуляру Министерства просвещения педагогические советы сами выбирали систему оценки по собственному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49626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09:53Z</dcterms:created>
  <dc:creator>Admin</dc:creator>
  <dc:description/>
  <dc:language>en-US</dc:language>
  <cp:lastModifiedBy>User</cp:lastModifiedBy>
  <dcterms:modified xsi:type="dcterms:W3CDTF">2010-10-01T16:59:36Z</dcterms:modified>
  <cp:revision>33</cp:revision>
  <dc:subject/>
  <dc:title>Слайд 1</dc:title>
</cp:coreProperties>
</file>