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0F9C-CE34-49D6-B6FA-F66629D02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48B9-FF96-4183-8E14-26E0488D0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2E76-9763-4B86-8123-C5558A74E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FBFD-0DD9-4548-AA53-797F16FE1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8EC5-B7ED-49C1-8E94-B74410080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5340-B8DC-4284-8014-62B6FAF15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F4C1-87F3-4795-ABD9-055D29958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BDC6-0C61-45E5-ACC2-F15C149E0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B1FC-4780-4797-9F9A-930F7BAF6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9113-DEC1-4672-B711-8B186E204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1E31-F13A-47E1-BB12-0DFD973E1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D861-77DF-44D1-BA47-0AE1D102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77931-2774-4A0A-AD13-CB3AB485B8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ШМО учителей начальных класс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277960"/>
            <a:ext cx="6400800" cy="12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У СОШ р.п.Пушкино Советского района Саратовской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"/>
          <p:cNvPicPr/>
          <p:nvPr/>
        </p:nvPicPr>
        <p:blipFill>
          <a:blip r:embed="rId1"/>
          <a:stretch/>
        </p:blipFill>
        <p:spPr>
          <a:xfrm>
            <a:off x="1763640" y="1317600"/>
            <a:ext cx="5594400" cy="3960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"/>
          <p:cNvPicPr/>
          <p:nvPr/>
        </p:nvPicPr>
        <p:blipFill>
          <a:blip r:embed="rId2"/>
          <a:stretch/>
        </p:blipFill>
        <p:spPr>
          <a:xfrm>
            <a:off x="2190600" y="1614600"/>
            <a:ext cx="4678560" cy="35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50752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ормы работ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МО учителей начальных классов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минарские занят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углые стол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ическое консультирова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скусс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та малых групп (по инновациям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стер-клас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ворческие отчёты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астие в эксперименте по внедрению комплексной программы «Формирование экологической компетентности школьников в процессе обучения решению экологических проблем» в рамках областной целевой программы «Экологическое оздоровление Саратовской области на 2009-2013 год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1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4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38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егиональное методическое объединение руководителей  образовательных учреждений Саратовской области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1"/>
          <a:stretch/>
        </p:blipFill>
        <p:spPr>
          <a:xfrm>
            <a:off x="250920" y="3141720"/>
            <a:ext cx="3816360" cy="3716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"/>
          <p:cNvPicPr/>
          <p:nvPr/>
        </p:nvPicPr>
        <p:blipFill>
          <a:blip r:embed="rId2"/>
          <a:stretch/>
        </p:blipFill>
        <p:spPr>
          <a:xfrm>
            <a:off x="4211640" y="3141720"/>
            <a:ext cx="475308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тевая конференция «О, урок-ты солнце!» на сайт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pu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российская научно-практическая конференция «Информационные технологии в общем образовании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минар «Современные подходы к начальному образованию», проведенного кафедрой ДиНО ГОУ ДПО «СарИПКиПРО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Школа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ступени обучения представлена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классами - комплектами с общим количеством обучающихся –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11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человек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УМК «Начальная школа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XXI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ека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ОС «Школа 2100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6156360" y="2800440"/>
            <a:ext cx="298764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овательные технолог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формационно-коммуникативные техн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хнология проблемного об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гровые техн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хнология групповых мето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хнология проектного об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доровьесберегающие техн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ормы проведения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к-иг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к-путешеств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к-сказ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к-КВ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к экскур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457200" y="333360"/>
          <a:ext cx="8229600" cy="6251760"/>
        </p:xfrm>
        <a:graphic>
          <a:graphicData uri="http://schemas.openxmlformats.org/drawingml/2006/table">
            <a:tbl>
              <a:tblPr/>
              <a:tblGrid>
                <a:gridCol w="514440"/>
                <a:gridCol w="4392360"/>
                <a:gridCol w="1265400"/>
                <a:gridCol w="2057400"/>
              </a:tblGrid>
              <a:tr h="1374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 мероприя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участ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йонная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Интернет-олимпиада «Юный эрудит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тификат участников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2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ероссийский конкурс языкознания «Русский медвежонок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 место 2 к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место 3 кл. в райо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5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ждународный математический конкурс «Кенгуру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район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место 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место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место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региону Лёвушкин С.– 20 мест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авнительная таблица успеваемости учащихся начальных клас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68360" y="1916280"/>
          <a:ext cx="8218440" cy="4248000"/>
        </p:xfrm>
        <a:graphic>
          <a:graphicData uri="http://schemas.openxmlformats.org/drawingml/2006/table">
            <a:tbl>
              <a:tblPr/>
              <a:tblGrid>
                <a:gridCol w="1027080"/>
                <a:gridCol w="1027080"/>
                <a:gridCol w="1027080"/>
                <a:gridCol w="1028880"/>
                <a:gridCol w="1027080"/>
                <a:gridCol w="1027080"/>
                <a:gridCol w="1027080"/>
                <a:gridCol w="1027080"/>
              </a:tblGrid>
              <a:tr h="7776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-2009 уч. г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 -2010 уч. г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5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ство уче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ли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арн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каче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ство уче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ли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арн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каче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,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ШМО учителей начальных класс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йонный конкурс экологических проек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4500360" cy="25416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2"/>
          <a:stretch/>
        </p:blipFill>
        <p:spPr>
          <a:xfrm>
            <a:off x="4788000" y="3429000"/>
            <a:ext cx="38163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Школьный конкурс стихов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 войн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5472360" cy="4537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507960" y="380880"/>
            <a:ext cx="824076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некласс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0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йонный конкурс рисунков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Мы трудными дорогами войны шли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"/>
          <p:cNvPicPr/>
          <p:nvPr/>
        </p:nvPicPr>
        <p:blipFill>
          <a:blip r:embed="rId1"/>
          <a:stretch/>
        </p:blipFill>
        <p:spPr>
          <a:xfrm>
            <a:off x="6588000" y="4365720"/>
            <a:ext cx="2016360" cy="1944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"/>
          <p:cNvPicPr/>
          <p:nvPr/>
        </p:nvPicPr>
        <p:blipFill>
          <a:blip r:embed="rId2"/>
          <a:stretch/>
        </p:blipFill>
        <p:spPr>
          <a:xfrm>
            <a:off x="4211640" y="4365720"/>
            <a:ext cx="2347920" cy="2016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3"/>
          <a:stretch/>
        </p:blipFill>
        <p:spPr>
          <a:xfrm>
            <a:off x="5219640" y="2349360"/>
            <a:ext cx="3384720" cy="2016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4"/>
          <a:stretch/>
        </p:blipFill>
        <p:spPr>
          <a:xfrm>
            <a:off x="324000" y="2276640"/>
            <a:ext cx="388764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Рисунок4"/>
          <p:cNvPicPr/>
          <p:nvPr/>
        </p:nvPicPr>
        <p:blipFill>
          <a:blip r:embed="rId1"/>
          <a:stretch/>
        </p:blipFill>
        <p:spPr>
          <a:xfrm>
            <a:off x="6840360" y="1268280"/>
            <a:ext cx="2303640" cy="41245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9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619128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МО учителей начальных клас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179280" y="836640"/>
          <a:ext cx="8785440" cy="5621400"/>
        </p:xfrm>
        <a:graphic>
          <a:graphicData uri="http://schemas.openxmlformats.org/drawingml/2006/table">
            <a:tbl>
              <a:tblPr/>
              <a:tblGrid>
                <a:gridCol w="2197080"/>
                <a:gridCol w="2197080"/>
                <a:gridCol w="2194200"/>
                <a:gridCol w="2197080"/>
              </a:tblGrid>
              <a:tr h="831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О учите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дагогический ста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валификационная категор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ванова Т.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ее педагогическ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шая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ванова Т.Н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ше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ш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ингалиева Ж.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ше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тор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авцова Н.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ше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7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рьянова Н.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ше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ш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ябуха Л.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ше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тор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раброва Л.Н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ее педагогическ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ш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чётный работник общего образования Российской Федер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4788000" y="1557360"/>
            <a:ext cx="3886200" cy="4535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403236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етодическая тема ШМО учителей начальных класс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Внедрение ИКТ в учебно-воспитательный процесс на первой ступени обучени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тодическая цел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вышение качества учебно-воспитательного процес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дачи ШМО учителей начальных классо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ктивное использование на уроках и во внеклассной работе средств ИК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должить работу по созданию банка презентаций к урокам и внеклассным мероприяти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явление и развитие способностей каждого уче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ние условий для формирования осознанных базовых знаний, умений и навыков, развития творчески мыслящей лич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мы заседаний ШМ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Организационное, на котором был утверждён план работы ШМ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Тема: «Групповая работа на уроке как средство повышения качества знаний учащих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Тема: «Проблемы преподавания и способы их решени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Тема: «Современный урок в начальной школе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Тема: «Преемственность обучения»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Тема: «Использование здоровьесберегающих технологий в образовательном процессе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68360" y="189000"/>
          <a:ext cx="8507520" cy="6408720"/>
        </p:xfrm>
        <a:graphic>
          <a:graphicData uri="http://schemas.openxmlformats.org/drawingml/2006/table">
            <a:tbl>
              <a:tblPr/>
              <a:tblGrid>
                <a:gridCol w="995400"/>
                <a:gridCol w="2071440"/>
                <a:gridCol w="544068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О учите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ическая те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ванова Т.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ирование фонематического слуха на уроках обучения грамот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ванова Т.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хнология проектного обучения младших школьни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ингалиева Ж.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едрение здоровьесберегающих технологий в образовательный процес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авцова Н.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ектная деятельность в начальной школ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рьянова Н.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итие мыслительной деятельности учащихся при решении зада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ябуха Л.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а над словарём «трудных» сл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раброва Л.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организации самоподготовки в гп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1T16:15:42Z</dcterms:created>
  <dc:creator>Дом</dc:creator>
  <dc:description/>
  <dc:language>en-US</dc:language>
  <cp:lastModifiedBy>Коля</cp:lastModifiedBy>
  <dcterms:modified xsi:type="dcterms:W3CDTF">2013-04-14T15:17:26Z</dcterms:modified>
  <cp:revision>18</cp:revision>
  <dc:subject/>
  <dc:title>ШМО учителей начальных классов</dc:title>
</cp:coreProperties>
</file>