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B17A-7D4E-42D7-B110-AA17DB9E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8B3B-A620-4341-B476-1CFACB15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EF60-936C-4B89-AA86-11053EB1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AF1D-1AF3-4EDC-8CE0-DE5E1916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4237-D4B3-44D5-8B4E-5286B73A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0643-3D5C-47D9-8FC7-9890CDC8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D1A2-E110-403B-BD42-D67B80A9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4D33-889E-4D19-81CD-4B57B131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194D-58D4-44BD-B630-64EFB0C5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D928-58D6-42E3-BD05-4A031962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AC46-BD07-4222-89B9-0CA9072B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CEE9-1C86-4E8F-91D8-B5ECDD11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9027-7FCF-43B9-9544-8C6B473DF4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МО учителей начальных клас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277960"/>
            <a:ext cx="6400800" cy="12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СОШ р.п.Пушкино Советского района Сарат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1763640" y="1317600"/>
            <a:ext cx="5594400" cy="3960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2190600" y="1614600"/>
            <a:ext cx="467856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ы работ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МО учителей начальных классов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инарские заня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углые сто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ческое консультир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ку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малых групп (по инновация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тер-клас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рческие отчёты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ие в эксперименте по внедрению комплексной программы «Формирование экологической компетентности школьников в процессе обучения решению экологических проблем» в рамках областной целевой программы «Экологическое оздоровление Саратовской области на 2009-2013 го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38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гиональное методическое объединение руководителей  образовательных учреждений Саратовской области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250920" y="3141720"/>
            <a:ext cx="3816360" cy="3716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4211640" y="3141720"/>
            <a:ext cx="47530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тевая конференция «О, урок-ты солнце!» на сайт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российская научно-практическая конференция «Информационные технологии в общем образовании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инар «Современные подходы к начальному образованию», проведенного кафедрой ДиНО ГОУ ДПО «СарИПКиПР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Школа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ступени обучения представлена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классами - комплектами с общим количеством обучающихся –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человек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МК «Начальная школа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XI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ек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С «Школа 2100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156360" y="2800440"/>
            <a:ext cx="29876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овательные техн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-коммуникативные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я проблемного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овые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я групповых мет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я проектного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 проведения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-иг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-путеше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-ска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-КВ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экску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57200" y="333360"/>
          <a:ext cx="8229600" cy="6251760"/>
        </p:xfrm>
        <a:graphic>
          <a:graphicData uri="http://schemas.openxmlformats.org/drawingml/2006/table">
            <a:tbl>
              <a:tblPr/>
              <a:tblGrid>
                <a:gridCol w="514440"/>
                <a:gridCol w="4392360"/>
                <a:gridCol w="1265400"/>
                <a:gridCol w="2057400"/>
              </a:tblGrid>
              <a:tr h="137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участ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йонна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нтернет-олимпиада «Юный эрудит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тификат участников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российский конкурс языкознания «Русский медвежонок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 место 2 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место 3 кл. в райо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5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дународный математический конкурс «Кенгуру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райо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есто 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место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место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региону Лёвушкин С.– 20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льная таблица успеваемости учащихся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68360" y="1916280"/>
          <a:ext cx="8218440" cy="4248000"/>
        </p:xfrm>
        <a:graphic>
          <a:graphicData uri="http://schemas.openxmlformats.org/drawingml/2006/table">
            <a:tbl>
              <a:tblPr/>
              <a:tblGrid>
                <a:gridCol w="1027080"/>
                <a:gridCol w="1027080"/>
                <a:gridCol w="1027080"/>
                <a:gridCol w="1028880"/>
                <a:gridCol w="1027080"/>
                <a:gridCol w="1027080"/>
                <a:gridCol w="1027080"/>
                <a:gridCol w="1027080"/>
              </a:tblGrid>
              <a:tr h="7776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-2009 уч.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-2010 уч.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тво уч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ар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каче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тво уч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ар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каче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МО учителей начальных клас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йонный конкурс экологических проек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500360" cy="2541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4788000" y="3429000"/>
            <a:ext cx="3816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кольный конкурс стихов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 вой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472360" cy="4537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2407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екласс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йонный конкурс рисунков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Мы трудными дорогами войны шли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6588000" y="4365720"/>
            <a:ext cx="2016360" cy="194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2"/>
          <a:stretch/>
        </p:blipFill>
        <p:spPr>
          <a:xfrm>
            <a:off x="4211640" y="4365720"/>
            <a:ext cx="2347920" cy="2016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3"/>
          <a:stretch/>
        </p:blipFill>
        <p:spPr>
          <a:xfrm>
            <a:off x="5219640" y="2349360"/>
            <a:ext cx="3384720" cy="201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4"/>
          <a:stretch/>
        </p:blipFill>
        <p:spPr>
          <a:xfrm>
            <a:off x="324000" y="2276640"/>
            <a:ext cx="388764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Рисунок4"/>
          <p:cNvPicPr/>
          <p:nvPr/>
        </p:nvPicPr>
        <p:blipFill>
          <a:blip r:embed="rId1"/>
          <a:stretch/>
        </p:blipFill>
        <p:spPr>
          <a:xfrm>
            <a:off x="6840360" y="1268280"/>
            <a:ext cx="2303640" cy="41245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6191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МО учителей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79280" y="836640"/>
          <a:ext cx="8785440" cy="5621400"/>
        </p:xfrm>
        <a:graphic>
          <a:graphicData uri="http://schemas.openxmlformats.org/drawingml/2006/table">
            <a:tbl>
              <a:tblPr/>
              <a:tblGrid>
                <a:gridCol w="2197080"/>
                <a:gridCol w="2197080"/>
                <a:gridCol w="2194200"/>
                <a:gridCol w="2197080"/>
              </a:tblGrid>
              <a:tr h="831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ический ста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лификационная катег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а Т.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е педагог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ая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а Т.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ингалиева Ж.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вцова Н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ьянова Н.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ябуха Л.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аброва Л.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е педагог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чётный работник общего образования Российской Феде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886200" cy="4535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тодическая тема ШМО учителей начальных клас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Внедрение ИКТ в учебно-воспитательный процесс на первой ступени обуче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ическая 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вышение качества учебно-воспитательного проце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ШМО учителей начальных класс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ное использование на уроках и во внеклассной работе средств И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ить работу по созданию банка презентаций к урокам и внеклассным мероприят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вление и развитие способностей каждого уче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осознанных базовых знаний, умений и навыков, развития творчески мыслящей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ы заседаний ШМ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рганизационное, на котором был утверждён план работы Ш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Тема: «Групповая работа на уроке как средство повышения качества знаний учащих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Тема: «Проблемы преподавания и способы их реш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Тема: «Современный урок в начальной школ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Тема: «Преемственность обучения»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Тема: «Использование здоровьесберегающих технологий в образовательном процесс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68360" y="189000"/>
          <a:ext cx="8507520" cy="6408720"/>
        </p:xfrm>
        <a:graphic>
          <a:graphicData uri="http://schemas.openxmlformats.org/drawingml/2006/table">
            <a:tbl>
              <a:tblPr/>
              <a:tblGrid>
                <a:gridCol w="995400"/>
                <a:gridCol w="2071440"/>
                <a:gridCol w="54406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ческая т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а Т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фонематического слуха на уроках обучения грамот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а Т.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 проектного обучения младших школь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ингалиева Ж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здоровьесберегающих технологий в образовательный проце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вцова Н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ная деятельность в начальной шко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ьянова Н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мыслительной деятельности учащихся при решении зад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ябуха Л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над словарём «трудных»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аброва Л.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организации самоподготовки в гп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6:15:42Z</dcterms:created>
  <dc:creator>Дом</dc:creator>
  <dc:description/>
  <dc:language>en-US</dc:language>
  <cp:lastModifiedBy>Коля</cp:lastModifiedBy>
  <dcterms:modified xsi:type="dcterms:W3CDTF">2013-04-14T15:17:26Z</dcterms:modified>
  <cp:revision>18</cp:revision>
  <dc:subject/>
  <dc:title>ШМО учителей начальных классов</dc:title>
</cp:coreProperties>
</file>