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AD4-6477-410E-9930-29D8DF6C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97E-A3D3-4301-A067-4A5D819E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B871-C483-4472-840C-47C5FD3B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1568-D3DE-45FE-9CB4-C44D62D2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001F-49C9-4D80-80FA-F24DDCC0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A5E-BE83-438A-9D8B-9B5790C0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587-A115-436E-B662-B1D38E21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F8C-1ED8-4DC0-8CEF-B3C549DE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29A-F859-4CC8-B3D8-5686B85C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78D7-4980-4B78-AB70-BCBE919D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4E3-88AA-490E-985B-4F035831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31BD-249B-4277-B48E-5768DAB8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A184-2673-4163-A126-AAB5D8A2A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МО учителей начальных кла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277960"/>
            <a:ext cx="640080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СОШ р.п.Пушкино Советского района Сарат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763640" y="1317600"/>
            <a:ext cx="5594400" cy="396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2190600" y="1614600"/>
            <a:ext cx="46785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ы работ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МО учителей начальных класс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инарские зан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глые сто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ческое консульт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ку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малых групп (по инновация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тер-кла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ие отчёты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ие в эксперименте по внедрению комплексной программы «Формирование экологической компетентности школьников в процессе обучения решению экологических проблем» в рамках областной целевой программы «Экологическое оздоровление Саратовской области на 2009-2013 г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38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иональное методическое объединение руководителей  образовательных учреждений Саратовской области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3816360" cy="3716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47530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тевая конференция «О, урок-ты солнце!» на сайт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российская научно-практическая конференция «Информационные технологии в общем образовании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инар «Современные подходы к начальному образованию», проведенного кафедрой ДиНО ГОУ ДПО «СарИПКиПР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Школа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ступени обучения представлена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классами - комплектами с общим количеством обучающихся –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человек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МК «Начальная школа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е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С «Школа 2100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156360" y="2800440"/>
            <a:ext cx="29876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овательные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-коммуникативны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я проблемного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овы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я групповых мет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я проектного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проведения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путеше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КВ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экску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57200" y="333360"/>
          <a:ext cx="8229600" cy="6251760"/>
        </p:xfrm>
        <a:graphic>
          <a:graphicData uri="http://schemas.openxmlformats.org/drawingml/2006/table">
            <a:tbl>
              <a:tblPr/>
              <a:tblGrid>
                <a:gridCol w="514440"/>
                <a:gridCol w="4392360"/>
                <a:gridCol w="1265400"/>
                <a:gridCol w="2057400"/>
              </a:tblGrid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участ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на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нтернет-олимпиада «Юный эруди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тификат участников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российский конкурс языкознания «Русский медвежоно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 место 2 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есто 3 кл. в райо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5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ародный математический конкурс «Кенгур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рай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есто 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есто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место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региону Лёвушкин С.– 20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льная таблица успеваемости учащихся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1916280"/>
          <a:ext cx="8218440" cy="4248000"/>
        </p:xfrm>
        <a:graphic>
          <a:graphicData uri="http://schemas.openxmlformats.org/drawingml/2006/table">
            <a:tbl>
              <a:tblPr/>
              <a:tblGrid>
                <a:gridCol w="1027080"/>
                <a:gridCol w="1027080"/>
                <a:gridCol w="1027080"/>
                <a:gridCol w="1028880"/>
                <a:gridCol w="1027080"/>
                <a:gridCol w="1027080"/>
                <a:gridCol w="1027080"/>
                <a:gridCol w="1027080"/>
              </a:tblGrid>
              <a:tr h="777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-2009 уч.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-2010 уч.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тво уч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р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кач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тво уч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р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кач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МО учителей начальных кла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йонный конкурс экологических прое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500360" cy="2541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3816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кольный конкурс стихо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 вой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472360" cy="4537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240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класс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йонный конкурс рисунко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ы трудными дорогами войны шл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2016360" cy="194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4211640" y="4365720"/>
            <a:ext cx="2347920" cy="201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3"/>
          <a:stretch/>
        </p:blipFill>
        <p:spPr>
          <a:xfrm>
            <a:off x="5219640" y="2349360"/>
            <a:ext cx="3384720" cy="201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4"/>
          <a:stretch/>
        </p:blipFill>
        <p:spPr>
          <a:xfrm>
            <a:off x="324000" y="2276640"/>
            <a:ext cx="38876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Рисунок4"/>
          <p:cNvPicPr/>
          <p:nvPr/>
        </p:nvPicPr>
        <p:blipFill>
          <a:blip r:embed="rId1"/>
          <a:stretch/>
        </p:blipFill>
        <p:spPr>
          <a:xfrm>
            <a:off x="6840360" y="1268280"/>
            <a:ext cx="2303640" cy="4124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6191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МО учителей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79280" y="836640"/>
          <a:ext cx="8785440" cy="5621400"/>
        </p:xfrm>
        <a:graphic>
          <a:graphicData uri="http://schemas.openxmlformats.org/drawingml/2006/table">
            <a:tbl>
              <a:tblPr/>
              <a:tblGrid>
                <a:gridCol w="2197080"/>
                <a:gridCol w="2197080"/>
                <a:gridCol w="2194200"/>
                <a:gridCol w="2197080"/>
              </a:tblGrid>
              <a:tr h="83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ический ста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лификационная катег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а Т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е педагог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ая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а Т.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ингалиева Ж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вцова Н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ьянова Н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буха Л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аброва Л.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е педагог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чётный работник общего образования 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886200" cy="453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тодическая тема ШМО учителей начальных клас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Внедрение ИКТ в учебно-воспитательный процесс на первой ступени обуч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ическая 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ышение качества учебно-воспитатель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ШМО учителей начальных класс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ное использование на уроках и во внеклассной работе средств И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ть работу по созданию банка презентаций к урокам и внеклассным мероприят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ление и развитие способностей каждого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осознанных базовых знаний, умений и навыков, развития творчески мыслящей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ы заседаний Ш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рганизационное, на котором был утверждён план работы Ш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Тема: «Групповая работа на уроке как средство повышения качества знаний уча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Тема: «Проблемы преподавания и способы их реш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Тема: «Современный урок в начальной школ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Тема: «Преемственность обучения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Тема: «Использование здоровьесберегающих технологий в образовательном процесс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68360" y="189000"/>
          <a:ext cx="8507520" cy="6408720"/>
        </p:xfrm>
        <a:graphic>
          <a:graphicData uri="http://schemas.openxmlformats.org/drawingml/2006/table">
            <a:tbl>
              <a:tblPr/>
              <a:tblGrid>
                <a:gridCol w="995400"/>
                <a:gridCol w="2071440"/>
                <a:gridCol w="54406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ая 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а Т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фонематического слуха на уроках обучения грамо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а Т.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 проектного обучения младших школь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ингалиева Ж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здоровьесберегающих технологий в образовательный проце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вцова Н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ная деятельность в начальной шк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ьянова Н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мыслительной деятельности учащихся при решении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буха Л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над словарём «трудных»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аброва Л.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организации самоподготовки в гп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6:15:42Z</dcterms:created>
  <dc:creator>Дом</dc:creator>
  <dc:description/>
  <dc:language>en-US</dc:language>
  <cp:lastModifiedBy>Коля</cp:lastModifiedBy>
  <dcterms:modified xsi:type="dcterms:W3CDTF">2013-04-14T15:17:26Z</dcterms:modified>
  <cp:revision>18</cp:revision>
  <dc:subject/>
  <dc:title>ШМО учителей начальных классов</dc:title>
</cp:coreProperties>
</file>