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0F64-2263-434A-B157-EF831CA2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1C03-5C16-49C2-A801-A8671E07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037-930A-41E4-9583-5AD977F4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493-762E-47DD-ADF3-29865E9B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4E18-7AAD-47BE-9105-843675F8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D247-2969-407D-9A50-8C4CF0BB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8E5B-8B67-4BC6-9EE5-634FEBAF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33D7-C9B4-4ACC-9074-8E28419E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F1FD-8BB8-48D3-ACF5-824C63B3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E5F3-CFE3-4FFE-9FF4-0428DAED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213D-156B-4177-8543-1EC495C1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8CB-107C-4184-BD31-5A759C85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9E4E-D547-41FB-8314-AA9C8477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0847-55BC-4291-87DD-B20CD10C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0A78-E7F6-4D6B-8749-C750C482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8B04-AF5C-4A7C-8E0B-B286C38F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1282-7E64-47DC-BC52-2A3A1961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2F8-0D50-4B93-B498-B0D132B2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3B9F-A84A-4A55-8082-23B3E13A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D7D-0C06-4D45-B069-A9A2C242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2DC7-6A22-4EDA-81FA-BAA74DC0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90C0-A61C-48F9-9DF7-B949B3EA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8E9-E13D-4F69-844D-BFF0F088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F3EB-89AE-4609-A775-8E83B260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DD75-CF86-4C4E-97B9-F79544885F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C635-C415-44A3-BF18-D486E74A4B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1070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82"/>
                </a:solidFill>
                <a:latin typeface="Impact"/>
              </a:rPr>
              <a:t>Разбитая жизнь, или роза и крес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049-TEMA IL NE NEGE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18440" cy="1871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Tahoma"/>
              </a:rPr>
              <a:t>Высокая женщина в черном с глазами крылатыми и влюбленными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4176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талья Николаевна Волох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Букет"/>
          <p:cNvPicPr/>
          <p:nvPr/>
        </p:nvPicPr>
        <p:blipFill>
          <a:blip r:embed="rId1"/>
          <a:stretch/>
        </p:blipFill>
        <p:spPr>
          <a:xfrm>
            <a:off x="2843280" y="2997360"/>
            <a:ext cx="2778120" cy="352728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Вот явилась, заслонила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Всех нарядных, всех подруг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И душа моя вступила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В предназначенный ей круг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advTm="9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553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Зимой 1906 г. Блок познакомился с актрисой театра Коммисаржевской- Натальей Николаевной Волоховой, образом которой были навеяны и пронизаны циклы стихов «Снежная маска» и «Фаина». «Посвящаю эти стихи Тебе, высокая женщина в черном, с глазами крылатыми и влюбленными в огни и мглу моего снежного города»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 этих стихах заново, лихорадочно познается любовь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advTm="27000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Tahoma"/>
              </a:rPr>
              <a:t>АХ, как она была хороша, эта медноволосая Кармен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79640" y="1988640"/>
            <a:ext cx="5051160" cy="453564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бовь Андреева- Дельма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ла ты всех ярч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ней и прелестней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Букет"/>
          <p:cNvPicPr/>
          <p:nvPr/>
        </p:nvPicPr>
        <p:blipFill>
          <a:blip r:embed="rId1"/>
          <a:stretch/>
        </p:blipFill>
        <p:spPr>
          <a:xfrm>
            <a:off x="900000" y="1989000"/>
            <a:ext cx="2592360" cy="4464360"/>
          </a:xfrm>
          <a:prstGeom prst="rect">
            <a:avLst/>
          </a:prstGeom>
          <a:ln w="0">
            <a:noFill/>
          </a:ln>
        </p:spPr>
      </p:pic>
    </p:spTree>
  </p:cSld>
  <p:transition advTm="16000"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437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Ах, как она была хороша, эта медноволосая Кармен! Как божественно пела, как держалась на сцене! Она околдовала его, и он влюбился в оперную диву, позабыв все на свете. Стихи, обращенные к Дельмас, сложились в цикл «Кармен».Два месяца они почти не расставались. Дельмас вернула его к жизни. Все стало музыкой и светом , Блок купался в этой стихии. И искренне пытался наладить с ней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«земное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частье»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advTm="21000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2776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33cc"/>
                </a:solidFill>
                <a:latin typeface="Tahoma"/>
              </a:rPr>
              <a:t>Что же делать, если обманула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33cc"/>
                </a:solidFill>
                <a:latin typeface="Tahoma"/>
              </a:rPr>
              <a:t>  Та мечта, как всякая мечта,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33cc"/>
                </a:solidFill>
                <a:latin typeface="Tahoma"/>
              </a:rPr>
              <a:t>  И что жизнь безжалостно стегнула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33cc"/>
                </a:solidFill>
                <a:latin typeface="Tahoma"/>
              </a:rPr>
              <a:t>  Грубою веревкою кнута?.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advTm="11000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4376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Tahoma"/>
              </a:rPr>
              <a:t>Женщины восхищались им, боготворили, преклонялись, но – любили ли ?Наверное, нет, и, по-человечески понять их можно. Все на какие-то высоты тянул, а им, земным, было так холодно там, неуютно и страшно.</a:t>
            </a:r>
            <a:br>
              <a:rPr sz="4000"/>
            </a:br>
            <a:r>
              <a:rPr b="0" lang="ru-RU" sz="4000" spc="-1" strike="noStrike">
                <a:solidFill>
                  <a:srgbClr val="6600cc"/>
                </a:solidFill>
                <a:latin typeface="Tahoma"/>
              </a:rPr>
              <a:t>А ему?     Ему, может, еще холодней и еще страшнее.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advTm="23000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1000080" y="1428840"/>
            <a:ext cx="7858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Impact"/>
              </a:rPr>
              <a:t>Презентацию выполнила учитель русского языка и литературы 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Impact"/>
              </a:rPr>
              <a:t>МОУ «Первомайская  СОШ  Батыревского района  Чувашской Республики им. В. Митты</a:t>
            </a:r>
            <a:r>
              <a:rPr b="0" i="1" lang="ru-RU" sz="2800" spc="-1" strike="noStrike">
                <a:solidFill>
                  <a:srgbClr val="e5ffff"/>
                </a:solidFill>
                <a:latin typeface="Impact"/>
              </a:rPr>
              <a:t>»</a:t>
            </a:r>
            <a:endParaRPr b="0" i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xtBox 1" descr=""/>
          <p:cNvPicPr/>
          <p:nvPr/>
        </p:nvPicPr>
        <p:blipFill>
          <a:blip r:embed="rId1"/>
          <a:stretch/>
        </p:blipFill>
        <p:spPr>
          <a:xfrm>
            <a:off x="201600" y="987480"/>
            <a:ext cx="8236080" cy="4462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987640" y="260280"/>
            <a:ext cx="3600360" cy="4321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32000" y="4508280"/>
            <a:ext cx="7192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ы любим тех, кто нас не люби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А губим тех, кто любит на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А.А.Бл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2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5ffff"/>
                </a:solidFill>
                <a:latin typeface="Tahoma"/>
              </a:rPr>
              <a:t>В судьбе А. Блока все переплелось: любовь, мятежные страсти и исторические катаклизмы. Блок всю жизнь писал о любви: о любви небесной и любви земной. Всегда за поэтическим образом женщины у Блока стоял реальный прототип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7000">
    <p:push dir="r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Tahoma"/>
              </a:rPr>
              <a:t>Первая любов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22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сения Михайловна Садов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инеокая, бог тебя создал так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Гений первой любви надо мной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7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2168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Знакомство было случайным. «Рай» был взорван, он ощутил биение сердца, первое нахлынувшее чувство туманило разум. Они потянулись друг к другу. Но первая любовь остыла так же внезапно, как и началась. Все, что было связано с К.М.С. развеялось, улеглось, остались только пылкие юношеские стихи, навеянные первой любовной горячкой. Ксении Садовской посвящен цикл стихотворений «ЧЕРЕЗ 12 ЛЕТ»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049-TEMA IL NE NEGE.mp3" descr=""/>
          <p:cNvPicPr/>
          <p:nvPr/>
        </p:nvPicPr>
        <p:blipFill>
          <a:blip r:embed="rId1"/>
          <a:stretch/>
        </p:blipFill>
        <p:spPr>
          <a:xfrm>
            <a:off x="8028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29000"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Прекрасная да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Любовь Дмитриевна Менделее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Букет"/>
          <p:cNvPicPr/>
          <p:nvPr/>
        </p:nvPicPr>
        <p:blipFill>
          <a:blip r:embed="rId1"/>
          <a:stretch/>
        </p:blipFill>
        <p:spPr>
          <a:xfrm>
            <a:off x="2825640" y="2565360"/>
            <a:ext cx="3041640" cy="403236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912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« Ты – вся моя молодость, моя живая надежда, мое земное бытие. Ты- мой идеал не только «там», но и «здесь». И это было так всегда с тех пор,  как я тебя встретил…Я хочу обнять Тебя, гладить Твои волосы, смотреть в Твои глаза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advTm="17000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2168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Любовь Менделеева была Прекрасной Дамой Александра Блока и в жизни, и в стихах. Ей он посвятил книгу «Стихов о Прекрасной Даме», равной которым по красоте и пронзительности мало в мировой поэзи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advTm="15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1:46:23Z</dcterms:created>
  <dc:creator>User</dc:creator>
  <dc:description/>
  <dc:language>en-US</dc:language>
  <cp:lastModifiedBy>Алена</cp:lastModifiedBy>
  <dcterms:modified xsi:type="dcterms:W3CDTF">2010-09-27T16:22:20Z</dcterms:modified>
  <cp:revision>13</cp:revision>
  <dc:subject/>
  <dc:title>Разбитая жизнь, или роза и крест.</dc:title>
</cp:coreProperties>
</file>