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E2C-EAEC-420B-9CB3-105331BA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8A2-1752-4B76-BFF1-8E0DAB3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671-99DA-47E8-9F5E-35C30236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89B-02F2-4FBC-8361-FE92B898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7C58-B1D2-4F1E-9145-68E69B65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C46-9665-43FD-B4E9-85DC2FE9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27A-46BD-4B4F-8AE6-334FC851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1851-74F9-423D-8F0A-0B786693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BCB-12E1-4552-A2AC-C97F8CC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FE1-2AC4-427D-9295-A11DD7B4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2469-3C97-4D19-851A-1D2E7C1E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07B-5FB5-4250-93AA-9673A974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61E-E1A7-4FBA-A529-4978C85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6BC-F86A-48FC-8C82-9E046A1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F7D-02A0-46EF-A3A7-41C70FA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722-97F9-4801-B1F9-7D10FEA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7E6F-5B4C-4D9E-A503-93209307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EED-B60B-4826-85CD-E04D6779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510-DE47-46D5-82B9-29F3B62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B3A-EBC0-410D-BD46-937CBF1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49A-8974-4DC1-A71D-B6D60D17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841-1050-4DA6-9CEF-8CE0BD3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01A-1C58-4587-BBC2-1574742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DF1-5280-45E0-A3A8-3BAE545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4683-02C6-4CCB-8286-2820690D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0DF-B442-4206-AC5C-1E14694486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070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82"/>
                </a:solidFill>
                <a:latin typeface="Impact"/>
              </a:rPr>
              <a:t>Разбитая жизнь, или роза и кре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049-TEMA IL NE NEG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187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Высокая женщина в черном с глазами крылатыми и влюбленными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176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талья Николаевна Волох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Букет"/>
          <p:cNvPicPr/>
          <p:nvPr/>
        </p:nvPicPr>
        <p:blipFill>
          <a:blip r:embed="rId1"/>
          <a:stretch/>
        </p:blipFill>
        <p:spPr>
          <a:xfrm>
            <a:off x="2843280" y="2997360"/>
            <a:ext cx="2778120" cy="35272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от явилась, заслон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сех нарядных, всех подруг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И душа моя вступ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 предназначенный ей круг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9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553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Зимой 1906 г. Блок познакомился с актрисой театра Коммисаржевской- Натальей Николаевной Волоховой, образом которой были навеяны и пронизаны циклы стихов «Снежная маска» и «Фаина». «Посвящаю эти стихи Тебе, высокая женщина в черном, с глазами крылатыми и влюбленными в огни и мглу моего снежного города»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этих стихах заново, лихорадочно познается любовь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АХ, как она была хороша, эта медноволосая Карм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79640" y="1988640"/>
            <a:ext cx="5051160" cy="4535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вь Андреева- Дельм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а ты всех ярч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ей и прелестн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Букет"/>
          <p:cNvPicPr/>
          <p:nvPr/>
        </p:nvPicPr>
        <p:blipFill>
          <a:blip r:embed="rId1"/>
          <a:stretch/>
        </p:blipFill>
        <p:spPr>
          <a:xfrm>
            <a:off x="900000" y="1989000"/>
            <a:ext cx="2592360" cy="446436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х, как она была хороша, эта медноволосая Кармен! Как божественно пела, как держалась на сцене! Она околдовала его, и он влюбился в оперную диву, позабыв все на свете. Стихи, обращенные к Дельмас, сложились в цикл «Кармен».Два месяца они почти не расставались. Дельмас вернула его к жизни. Все стало музыкой и светом , Блок купался в этой стихии. И искренне пытался наладить с ней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земно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частье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1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Что же делать, если обма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Та мечта, как всякая мечта,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И что жизнь безжалостно стег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Грубою веревкою кнута?.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1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Женщины восхищались им, боготворили, преклонялись, но – любили ли ?Наверное, нет, и, по-человечески понять их можно. Все на какие-то высоты тянул, а им, земным, было так холодно там, неуютно и страшно.</a:t>
            </a:r>
            <a:br>
              <a:rPr sz="4000"/>
            </a:b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А ему?     Ему, может, еще холодней и еще страшнее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3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000080" y="1428840"/>
            <a:ext cx="7858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Презентацию выполнила учитель русского языка и литературы 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МОУ «Первомайская  СОШ  Батыревского района  Чувашской Республики им. В. Митты</a:t>
            </a:r>
            <a:r>
              <a:rPr b="0" i="1" lang="ru-RU" sz="2800" spc="-1" strike="noStrike">
                <a:solidFill>
                  <a:srgbClr val="e5ffff"/>
                </a:solidFill>
                <a:latin typeface="Impact"/>
              </a:rPr>
              <a:t>»</a:t>
            </a:r>
            <a:endParaRPr b="0" i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01600" y="987480"/>
            <a:ext cx="8236080" cy="446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719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любим тех, кто нас не люб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 губим тех, кто любит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.А.Б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 судьбе А. Блока все переплелось: любовь, мятежные страсти и исторические катаклизмы. Блок всю жизнь писал о любви: о любви небесной и любви земной. Всегда за поэтическим образом женщины у Блока стоял реальный прототип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ahoma"/>
              </a:rPr>
              <a:t>Первая любов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22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сения Михайловна Садов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инеокая, бог тебя создал та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ний первой любви надо мно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Знакомство было случайным. «Рай» был взорван, он ощутил биение сердца, первое нахлынувшее чувство туманило разум. Они потянулись друг к другу. Но первая любовь остыла так же внезапно, как и началась. Все, что было связано с К.М.С. развеялось, улеглось, остались только пылкие юношеские стихи, навеянные первой любовной горячкой. Ксении Садовской посвящен цикл стихотворений «ЧЕРЕЗ 12 ЛЕТ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049-TEMA IL NE NEGE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Прекрасная да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Любовь Дмитриевна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Букет"/>
          <p:cNvPicPr/>
          <p:nvPr/>
        </p:nvPicPr>
        <p:blipFill>
          <a:blip r:embed="rId1"/>
          <a:stretch/>
        </p:blipFill>
        <p:spPr>
          <a:xfrm>
            <a:off x="2825640" y="2565360"/>
            <a:ext cx="3041640" cy="4032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« Ты – вся моя молодость, моя живая надежда, мое земное бытие. Ты- мой идеал не только «там», но и «здесь». И это было так всегда с тех пор,  как я тебя встретил…Я хочу обнять Тебя, гладить Твои волосы, смотреть в Твои глаз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Любовь Менделеева была Прекрасной Дамой Александра Блока и в жизни, и в стихах. Ей он посвятил книгу «Стихов о Прекрасной Даме», равной которым по красоте и пронзительности мало в мировой поэзи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1:46:23Z</dcterms:created>
  <dc:creator>User</dc:creator>
  <dc:description/>
  <dc:language>en-US</dc:language>
  <cp:lastModifiedBy>Алена</cp:lastModifiedBy>
  <dcterms:modified xsi:type="dcterms:W3CDTF">2010-09-27T16:22:20Z</dcterms:modified>
  <cp:revision>13</cp:revision>
  <dc:subject/>
  <dc:title>Разбитая жизнь, или роза и крест.</dc:title>
</cp:coreProperties>
</file>