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496-CFE4-4BFF-A0AD-36E4469E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1AC-5CC1-4B08-A9BE-DDCAB95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B9E-7C1A-47AB-8437-1AF4CCA8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512-5F31-4461-988C-48DCDF5C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C28B-49B3-4594-990F-9D61418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9028-6F92-49D1-950F-77AC74F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E44-B6C0-4F4B-86F3-F7A1043E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FA7D-69B0-4217-B1A6-D5E4960B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032-736D-4071-B138-28496A4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6CD-6CA4-4BEA-8BBF-D8D6C01B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D8F0-ADEB-43F5-9A4E-A89A248E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F56-7392-43EB-9312-812E8CCC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158-5AFF-4818-B3A3-742BED5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E19-F114-4507-805C-1F11DA9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EE5E-F852-4E97-A1CD-7AF12EEB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F5AB-B42F-4EF9-A34E-23280005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56BE-5D6D-490A-BE8A-334AD8E5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B3C-2455-49EB-9293-645F6451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B4D-85B4-4443-9FB4-76B2620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D30-A9DA-47F8-8DBA-9D417887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83F-7755-486B-BF4F-75E61DAB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3F1-34FE-416A-93A7-5566892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10D-FA19-40DB-B455-BFA4536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E72-CC39-4C3D-B290-10136F4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08C-6689-4620-838E-70166B393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3058-9658-4C46-B1A4-3C91EEBFD3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070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82"/>
                </a:solidFill>
                <a:latin typeface="Impact"/>
              </a:rPr>
              <a:t>Разбитая жизнь, или роза и кре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049-TEMA IL NE NEG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187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Высокая женщина в черном с глазами крылатыми и влюбленными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176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талья Николаевна Волох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Букет"/>
          <p:cNvPicPr/>
          <p:nvPr/>
        </p:nvPicPr>
        <p:blipFill>
          <a:blip r:embed="rId1"/>
          <a:stretch/>
        </p:blipFill>
        <p:spPr>
          <a:xfrm>
            <a:off x="2843280" y="2997360"/>
            <a:ext cx="2778120" cy="35272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от явилась, заслон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сех нарядных, всех подруг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И душа моя вступ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 предназначенный ей круг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9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553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Зимой 1906 г. Блок познакомился с актрисой театра Коммисаржевской- Натальей Николаевной Волоховой, образом которой были навеяны и пронизаны циклы стихов «Снежная маска» и «Фаина». «Посвящаю эти стихи Тебе, высокая женщина в черном, с глазами крылатыми и влюбленными в огни и мглу моего снежного города»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этих стихах заново, лихорадочно познается любовь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АХ, как она была хороша, эта медноволосая Карм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79640" y="1988640"/>
            <a:ext cx="5051160" cy="4535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вь Андреева- Дельм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а ты всех ярч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ей и прелестн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Букет"/>
          <p:cNvPicPr/>
          <p:nvPr/>
        </p:nvPicPr>
        <p:blipFill>
          <a:blip r:embed="rId1"/>
          <a:stretch/>
        </p:blipFill>
        <p:spPr>
          <a:xfrm>
            <a:off x="900000" y="1989000"/>
            <a:ext cx="2592360" cy="446436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х, как она была хороша, эта медноволосая Кармен! Как божественно пела, как держалась на сцене! Она околдовала его, и он влюбился в оперную диву, позабыв все на свете. Стихи, обращенные к Дельмас, сложились в цикл «Кармен».Два месяца они почти не расставались. Дельмас вернула его к жизни. Все стало музыкой и светом , Блок купался в этой стихии. И искренне пытался наладить с ней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земно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частье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1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Что же делать, если обма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Та мечта, как всякая мечта,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И что жизнь безжалостно стег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Грубою веревкою кнута?.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1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Женщины восхищались им, боготворили, преклонялись, но – любили ли ?Наверное, нет, и, по-человечески понять их можно. Все на какие-то высоты тянул, а им, земным, было так холодно там, неуютно и страшно.</a:t>
            </a:r>
            <a:br>
              <a:rPr sz="4000"/>
            </a:b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А ему?     Ему, может, еще холодней и еще страшнее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3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000080" y="1428840"/>
            <a:ext cx="7858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Презентацию выполнила учитель русского языка и литературы 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МОУ «Первомайская  СОШ  Батыревского района  Чувашской Республики им. В. Митты</a:t>
            </a:r>
            <a:r>
              <a:rPr b="0" i="1" lang="ru-RU" sz="2800" spc="-1" strike="noStrike">
                <a:solidFill>
                  <a:srgbClr val="e5ffff"/>
                </a:solidFill>
                <a:latin typeface="Impact"/>
              </a:rPr>
              <a:t>»</a:t>
            </a:r>
            <a:endParaRPr b="0" i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01600" y="987480"/>
            <a:ext cx="8236080" cy="446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719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любим тех, кто нас не люб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 губим тех, кто любит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.А.Б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 судьбе А. Блока все переплелось: любовь, мятежные страсти и исторические катаклизмы. Блок всю жизнь писал о любви: о любви небесной и любви земной. Всегда за поэтическим образом женщины у Блока стоял реальный прототип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ahoma"/>
              </a:rPr>
              <a:t>Первая любов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22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сения Михайловна Садов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инеокая, бог тебя создал та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ний первой любви надо мно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Знакомство было случайным. «Рай» был взорван, он ощутил биение сердца, первое нахлынувшее чувство туманило разум. Они потянулись друг к другу. Но первая любовь остыла так же внезапно, как и началась. Все, что было связано с К.М.С. развеялось, улеглось, остались только пылкие юношеские стихи, навеянные первой любовной горячкой. Ксении Садовской посвящен цикл стихотворений «ЧЕРЕЗ 12 ЛЕТ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049-TEMA IL NE NEGE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Прекрасная да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Любовь Дмитриевна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Букет"/>
          <p:cNvPicPr/>
          <p:nvPr/>
        </p:nvPicPr>
        <p:blipFill>
          <a:blip r:embed="rId1"/>
          <a:stretch/>
        </p:blipFill>
        <p:spPr>
          <a:xfrm>
            <a:off x="2825640" y="2565360"/>
            <a:ext cx="3041640" cy="4032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« Ты – вся моя молодость, моя живая надежда, мое земное бытие. Ты- мой идеал не только «там», но и «здесь». И это было так всегда с тех пор,  как я тебя встретил…Я хочу обнять Тебя, гладить Твои волосы, смотреть в Твои глаз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Любовь Менделеева была Прекрасной Дамой Александра Блока и в жизни, и в стихах. Ей он посвятил книгу «Стихов о Прекрасной Даме», равной которым по красоте и пронзительности мало в мировой поэзи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1:46:23Z</dcterms:created>
  <dc:creator>User</dc:creator>
  <dc:description/>
  <dc:language>en-US</dc:language>
  <cp:lastModifiedBy>Алена</cp:lastModifiedBy>
  <dcterms:modified xsi:type="dcterms:W3CDTF">2010-09-27T16:22:20Z</dcterms:modified>
  <cp:revision>13</cp:revision>
  <dc:subject/>
  <dc:title>Разбитая жизнь, или роза и крест.</dc:title>
</cp:coreProperties>
</file>