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9A15-6114-455B-AE47-53E24785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89BC-0A17-461E-B1DF-DA436FF2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836D-1B30-474B-83BF-A2FD3427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C3FD-05D8-44E3-B33A-31A4B3FC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9A9A-375C-4E5E-9D10-A00DD541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C722-E8B4-4C52-AB92-7B1448A2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CBDC-E570-4181-B69D-75C36748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A31C-360E-4A42-BDA8-68CBDA4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D57D-A24A-4DF9-B01E-C0191DCE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0563-356C-4830-BBBA-1CFF2953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D51D-3B78-45BD-BD2E-A97B947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8C32-BE67-46CD-9715-D285F18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A8DF-7223-4EA4-B8FB-A651C50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20DE-6BB7-4991-9665-6C3D348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A63A-8EEF-4780-AAE5-312B52DC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F155-7F74-4197-BA34-9F27628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9278-1F94-4DF1-9EAD-1A6846FD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CDF0-DEBC-4CED-891E-C07E39C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D562-1F11-436B-8B09-C0F968DE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7266-01D2-4658-A550-610D002E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056C-2C26-44D1-AD28-AC54789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78DA-9D27-415A-A045-C379940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0679-F0F1-4C81-B246-0C097FD0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8C24-10A4-487B-A59C-14DEAC9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FFA-3AC2-4706-88A1-B35D3132A9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0060-495E-44F7-9E02-EEB2DAFD2E3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6021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394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нимание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1379520" cy="1547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«Четырёх женихов» на Николая Алексеевича обратили внимание, как на готового актёра. Его начали вводить в спектакли текущего реперту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ли в фильма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68360" y="1916280"/>
            <a:ext cx="2084400" cy="2339640"/>
            <a:chOff x="2268360" y="1916280"/>
            <a:chExt cx="2084400" cy="233964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16280"/>
              <a:ext cx="2084400" cy="23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2268360" y="1916280"/>
              <a:ext cx="2084400" cy="23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данный момент он сыграл свыше 60 ролей в родном театре, снялся в ряде фильмов, в том числе в картинах «В дождь и солнце», «Мой остров синий», «Свадьба в Малиновке» и друг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жиссёр театра «Ромэн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771640" y="2060640"/>
            <a:ext cx="1633680" cy="1834920"/>
            <a:chOff x="2771640" y="2060640"/>
            <a:chExt cx="1633680" cy="1834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2771640" y="2060640"/>
              <a:ext cx="163368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2771640" y="2060640"/>
              <a:ext cx="163368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7 году Николай Алексеевич стал режиссёром театра «Ромэн». Для этого он окончил Высшие режиссёрские курсы под руководством Народного артиста СССР Андрея Александровича Гончар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Педагог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68360" y="1989000"/>
            <a:ext cx="1828800" cy="2052720"/>
            <a:chOff x="2268360" y="1989000"/>
            <a:chExt cx="1828800" cy="20527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226836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226836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иченко – не только яркий актер, режиссер, исполнитель, но и замечательный педагог. Заботясь о завтрашнем дне цыганского театра, он создал на базе Музыкального училища имени Гнесиных специальную студию для подготовки профессиональных кадров для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менная звезда Николая Сличе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249560" cy="1401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декабря 1998 года на Площади звёзд в Москве заложена именная звезда Николая Сличен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емь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пруга — Тамила Суджаевна Агамирова (род. 21 мая 1928 г.), народная артистка РСФСР (1988), актриса театра «Ромэн», снялась в 12 фильмах, в том числе у такого корифея кинематографа, как Козин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19206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68360" y="2060640"/>
            <a:ext cx="1955880" cy="2193840"/>
            <a:chOff x="2268360" y="2060640"/>
            <a:chExt cx="1955880" cy="21938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95588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2268360" y="2060640"/>
              <a:ext cx="1955880" cy="21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Суджаевна тоже не была обделена ролями. Причем роли были разноплановые. Среди них самая дорогая – Марьяна Пинеда по одноименной пьесе Гарсии Лорки.. В семье трое детей. Дочь — Тамила Сличенко, актриса театра «Ромэн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771640" y="2205000"/>
            <a:ext cx="1441440" cy="1617840"/>
            <a:chOff x="2771640" y="2205000"/>
            <a:chExt cx="1441440" cy="161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2771640" y="2205000"/>
              <a:ext cx="144144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2771640" y="2205000"/>
              <a:ext cx="1441440" cy="1617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илла Агамирова с 1952 года – ведущая актриса театра «Ромэн». Ею сыграно более 40 ролей в русской и зарубежной классике, она снялась также в ряде фильмов– «Дон Кихот», «Ее большое сердце», «Матео Фальконе» и д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амилла Суджаевн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ки отмечали, что Тамилла Суджаевна всегда «покоряла зрителей красотой, обаянием, высокой культурой, пластикой и музыкальностью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08720" y="1916280"/>
            <a:ext cx="223992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«Чтобы в мире было меньше зла</a:t>
            </a:r>
            <a:br>
              <a:rPr sz="2400"/>
            </a:br>
            <a:br>
              <a:rPr sz="38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1957320" cy="2197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риса – Кавалер ордена Дружбы, ордена Михаила Ломоносова. Лучшими подарками счит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оровье и удачу детей. Мечта: «Чтобы в мире было меньше зл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икола́й Алексе́евич Сличе́н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ла́й Алексе́евич Сличе́нко (род. 27 декабря 1934) — художественный руководитель Московского музыкально-драматического цыганского театра «Ромэн», народный артист СССР (1981)[1], лауреат Государственной премии СССР (198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808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771640" y="2133720"/>
            <a:ext cx="1185840" cy="1330200"/>
            <a:chOff x="2771640" y="2133720"/>
            <a:chExt cx="1185840" cy="133020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18584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2771640" y="2133720"/>
              <a:ext cx="1185840" cy="13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дной звезды лишь повторяю имя…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этот романс на стихи Иннокентия Анненского звучит в исполнении Николая Сличенко, люди, знающие уклад его семьи, понимают, что посвящается он нежно и горячо любимой жене Тамилле Суджаев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манс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1185840" cy="1332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овно для них двоих были написаны эти строки: «Не потому что с нею мне светло, а потому что с ней не надо свет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Дети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мье трое детей. Дочь — Тамила Сличенко, актриса театра «Ромэ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чь Тамилла(это папа дал ей имя любимой жены) закончила Гнесинку и ГИТИС, одно время работала в «Ромэне», потом – в Америке, сейчас снимается в кино, пишет сценарии, выпустила книгу стих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е старший сын Николка был участником телепроекта «Фабрика звезд» (причем без всякого протеже со стороны дедушки), младший Микэль еще малыш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68360" y="2060640"/>
            <a:ext cx="1702080" cy="1909800"/>
            <a:chOff x="2268360" y="2060640"/>
            <a:chExt cx="1702080" cy="19098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268360" y="2060640"/>
              <a:ext cx="170208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 txBox="1"/>
            <p:nvPr/>
          </p:nvSpPr>
          <p:spPr>
            <a:xfrm>
              <a:off x="2268360" y="2060640"/>
              <a:ext cx="1702080" cy="190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ий сын Петр занимается бизнесом, владеет двумя языками – английским и французск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его семье двое детей – дочь Тамилла (это имя в их роду много значит!), она уже сама мама, растит дочку Леночку, а сын Миша еще не определился с професс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ладший сын Алексей выбрал музыку. У него свой ансамбль. А его дочка Олечка – артистка театра «Ромэн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ети всегда были очень самостоятельными. И хотя двое из них выбрали артистическую дорогу, но никто не захотел пойти под папино «крылышко», – улыбается Тамилла Судж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1342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1892520" cy="21225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никогда не «давили» на детей, – вступает Николай Алексеевич, – давали им полную своб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627280" y="2133720"/>
            <a:ext cx="1635120" cy="1834920"/>
            <a:chOff x="2627280" y="2133720"/>
            <a:chExt cx="1635120" cy="18349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6351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2627280" y="2133720"/>
              <a:ext cx="1635120" cy="18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редко в дни школьных каникул брали их в гастрольные поездки, так и возили с собой кастрюльки и прочую утва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, дети видели, что их родители – труженики, и преданность профессии у них на грани одержим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Родители – труже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иколай Алексеевич знал назубок все роли в пьесах, все мизансцены в спектаклях, в которых доводилось играть. А потому в случае болезни кого-то из актеров он всегда был «палочкой-выручалочко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92360" y="1844640"/>
            <a:ext cx="2808360" cy="2208240"/>
            <a:chOff x="1692360" y="1844640"/>
            <a:chExt cx="2808360" cy="220824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692360" y="1844640"/>
              <a:ext cx="280836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 txBox="1"/>
            <p:nvPr/>
          </p:nvSpPr>
          <p:spPr>
            <a:xfrm>
              <a:off x="1692360" y="1844640"/>
              <a:ext cx="2808360" cy="22082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гра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II степени (27 декабря 2004) — за большой вклад в развитие театрального искусства и многолетнюю творческую деятельность[5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«За заслуги перед Отечеством» IV степени (29 декабря 1994) — за заслуги перед государством, успехи, достигнутые в труде, культуре, искусстве, большой вклад в укрепление дружбы и сотрудничества между народами[6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очёта (24 декабря 2009) — за большие заслуги в развитии отечественного театрального и музыкального искусства, многолетнюю общественную деятельность[7][8]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Дружбы Народ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"За заслуги перед Отечеством и казачеством" I степен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ецен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Честь и достоинство Н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Великая поб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лужение искусств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Петра Великого I степени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Михайло Ломоносова (АПБОП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рден Святого Владимира с меч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нак ордена Св. Александра Невского" за труды и Отечест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емии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сударственная премия СССР (198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России за труды и Оте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мия имени Михаила Ломонос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1828800" cy="2052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иколай Сличенко родился 27 декабря 1934 года. Кроме него в семье было еще четверо детей. На глазах маленького Коли немцы расстреляли от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чётные з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56000" y="2422440"/>
            <a:ext cx="1444680" cy="1619280"/>
            <a:chOff x="2556000" y="2422440"/>
            <a:chExt cx="1444680" cy="161928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2556000" y="2422440"/>
              <a:ext cx="144468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 txBox="1"/>
            <p:nvPr/>
          </p:nvSpPr>
          <p:spPr>
            <a:xfrm>
              <a:off x="2556000" y="2422440"/>
              <a:ext cx="1444680" cy="16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СССР (198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ный артист РСФС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ессор, академик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Николая Сличенко присвоено одной из звёзд в созвездии Тель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оли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Ле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тыре жениха — Бад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шенька —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манный кнут — Чан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ясунья — дед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ыганка Аза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чь шатров — Мар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дился я в таборе — Никол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ячая кровь — Барба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бачок "Макрель" — Яшка-ко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ын Мадонны — Дженар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м Баро — Иван Ка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ы - герой, я - герой — Реналь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рианна Пинеда — Фер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вчонка из табора — К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- цыганка — Лац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ность — Вас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-волк — Нан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овь и смерть — Яр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нни и махиваль — Махива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поклонов — Непокло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ой труп — Прота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Фильмограф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льм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еко Дундич — цыган (195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ждь и в солн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адьба в Малиновке - красный конник Петря (196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й остров си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хищение — Сличенко, Николай Алексеевич (196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13809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Tahoma"/>
              </a:rPr>
              <a:t>Работа выполнена уч.анг.яз.Куликовой З.Е.,2011 г.</a:t>
            </a:r>
            <a:endParaRPr b="0" lang="en-US" sz="2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Линия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.Сличенко Никола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йт. Яндекс «Картинк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 rot="10773000">
            <a:off x="395280" y="313416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Николай Сличенко. Жизнь как чудо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Детств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40000" y="1989000"/>
            <a:ext cx="1828800" cy="2052720"/>
            <a:chOff x="2340000" y="1989000"/>
            <a:chExt cx="1828800" cy="2052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2340000" y="1989000"/>
              <a:ext cx="182880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2340000" y="1989000"/>
              <a:ext cx="182880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ле войны семья поселилась в цыганском колхозе в Воронежской области. Именно тогда Николай услышал о существовании цыганского театра в Москве и стал мечтать о работе в нё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атр «Ромэн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76640"/>
            <a:ext cx="1442880" cy="1618920"/>
            <a:chOff x="2700360" y="2276640"/>
            <a:chExt cx="1442880" cy="16189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2700360" y="2276640"/>
              <a:ext cx="1442880" cy="16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2700360" y="2276640"/>
              <a:ext cx="1442880" cy="16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51 году Николая приняли в театр «Ромэн». Одарённый подросток привлёк внимание ведущих мастеров театра. Конечно, никаких поблажек ему не давали: он начинал, как большинство, артистом вспомогательного соста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Ведущие актёр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50920" y="2205000"/>
            <a:ext cx="2084400" cy="2340000"/>
            <a:chOff x="2050920" y="2205000"/>
            <a:chExt cx="2084400" cy="23400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050920" y="2205000"/>
              <a:ext cx="20844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2050920" y="2205000"/>
              <a:ext cx="2084400" cy="23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ведущие актёры театра, такие как Ляля Чёрная, М. В. Скворцова, С. И. Андреева, М. И. Черкасова, С. Ф. Шишков, И. И. Ром-Лебедев, В. Ф. Бизев, Н. Г. Нарожный, С. С. Золотарёв, И. В. Хрусталёв, охотно делились с ним секретами масте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Самообразо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1506600" cy="1692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и годы Николай работает над собой, много читает, учи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Главная роль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556000" y="2060640"/>
            <a:ext cx="1506240" cy="1692360"/>
            <a:chOff x="2556000" y="2060640"/>
            <a:chExt cx="1506240" cy="16923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2556000" y="2060640"/>
              <a:ext cx="150624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 txBox="1"/>
            <p:nvPr/>
          </p:nvSpPr>
          <p:spPr>
            <a:xfrm>
              <a:off x="2556000" y="2060640"/>
              <a:ext cx="1506240" cy="16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Николаю доверили главную роль уже в 1952 году, в неполные 18 лет, когда театр выезжал со спектаклем «Четыре жениха» по пьесе И. Хрусталева в Загорск (ныне — Сергиев Посад). Ему довелось играть роль Лексы, заменяя заболевшего актёра Сергея Фёдоровича Шишк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И другие рол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627280" y="2060640"/>
            <a:ext cx="1379520" cy="1547640"/>
            <a:chOff x="2627280" y="2060640"/>
            <a:chExt cx="1379520" cy="15476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627280" y="2060640"/>
              <a:ext cx="13795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2627280" y="2060640"/>
              <a:ext cx="1379520" cy="15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довелось играть роль Лексы, заменяя заболевшего актёра Сергея Фёдоровича Шишкова. Роль Лексы он потом играл долго, а позднее, по мере взросления, сыграл в этом спектакле ещё и роль Б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0:58:11Z</dcterms:created>
  <dc:creator>Admin</dc:creator>
  <dc:description/>
  <dc:language>en-US</dc:language>
  <cp:lastModifiedBy>Admin</cp:lastModifiedBy>
  <dcterms:modified xsi:type="dcterms:W3CDTF">2011-05-25T12:34:26Z</dcterms:modified>
  <cp:revision>6</cp:revision>
  <dc:subject/>
  <dc:title> </dc:title>
</cp:coreProperties>
</file>