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5E54B-C1A2-4E9B-B240-84418589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7C603-DBED-45E7-94F8-B52657D0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6F614-A99D-4300-88D5-13D63261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169C7-006C-4607-80DB-B5CC51F5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0F90-9578-4D37-A538-C22C4B05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71B8-366F-41DF-972F-946F84DB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DBB1-DDEF-4032-B0CC-9AA49887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434E-5670-4A87-B5C8-092835D1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66E3-D519-4867-8A50-70F6ADE7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7511-97EE-43D4-8F03-F6E0B8D8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280A-8099-4DF6-B4A7-7DE24C2A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58F8B-A87E-4907-91AF-74261654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0786-2F7A-4F2E-8584-DE059509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C1EF-9D5E-44C5-8DA6-EF841927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E107-440F-4BEB-A282-48B2A3FA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B366-A3E1-4118-B676-392780E0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6B30-1A65-48EB-98E5-61C830EB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07AC-56C2-4B47-AC33-17FCCB3A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34821-52D2-4C46-BE7F-EBA38EF1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0A172-71E3-4C9D-8674-B79A43A3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91051-D1C5-4C64-AC1F-F91EBEA7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C085E-8DAE-4343-9BC6-136B6D58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3DD9E-6314-4C83-B4D8-34929ECE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8619E-D950-47B2-BFE3-0CDCCE08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6C59-9516-4546-ACC0-083C9FEDF42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E982-D668-4DB2-A344-C2EE4B96A39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6021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кола́й Алексе́евич Сличе́нк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3394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Внимание…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700360" y="2133720"/>
            <a:ext cx="1379520" cy="1547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сле «Четырёх женихов» на Николая Алексеевича обратили внимание, как на готового актёра. Его начали вводить в спектакли текущего репертуа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Роли в фильмах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68360" y="1916280"/>
            <a:ext cx="2084400" cy="2339640"/>
            <a:chOff x="2268360" y="1916280"/>
            <a:chExt cx="2084400" cy="233964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2268360" y="1916280"/>
              <a:ext cx="2084400" cy="23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 txBox="1"/>
            <p:nvPr/>
          </p:nvSpPr>
          <p:spPr>
            <a:xfrm>
              <a:off x="2268360" y="1916280"/>
              <a:ext cx="2084400" cy="233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го на данный момент он сыграл свыше 60 ролей в родном театре, снялся в ряде фильмов, в том числе в картинах «В дождь и солнце», «Мой остров синий», «Свадьба в Малиновке» и друг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ежиссёр театра «Ромэн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771640" y="2060640"/>
            <a:ext cx="1633680" cy="1834920"/>
            <a:chOff x="2771640" y="2060640"/>
            <a:chExt cx="1633680" cy="183492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2771640" y="2060640"/>
              <a:ext cx="163368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 txBox="1"/>
            <p:nvPr/>
          </p:nvSpPr>
          <p:spPr>
            <a:xfrm>
              <a:off x="2771640" y="2060640"/>
              <a:ext cx="1633680" cy="183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77 году Николай Алексеевич стал режиссёром театра «Ромэн». Для этого он окончил Высшие режиссёрские курсы под руководством Народного артиста СССР Андрея Александровича Гончар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Педагог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68360" y="1989000"/>
            <a:ext cx="1828800" cy="2052720"/>
            <a:chOff x="2268360" y="1989000"/>
            <a:chExt cx="1828800" cy="205272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2268360" y="1989000"/>
              <a:ext cx="182880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 txBox="1"/>
            <p:nvPr/>
          </p:nvSpPr>
          <p:spPr>
            <a:xfrm>
              <a:off x="2268360" y="1989000"/>
              <a:ext cx="1828800" cy="20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иченко – не только яркий актер, режиссер, исполнитель, но и замечательный педагог. Заботясь о завтрашнем дне цыганского театра, он создал на базе Музыкального училища имени Гнесиных специальную студию для подготовки профессиональных кадров для театра «Ромэн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менная звезда Николая Сличенк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1249560" cy="14018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декабря 1998 года на Площади звёзд в Москве заложена именная звезда Николая Сличенк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Семья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пруга — Тамила Суджаевна Агамирова (род. 21 мая 1928 г.), народная артистка РСФСР (1988), актриса театра «Ромэн», снялась в 12 фильмах, в том числе у такого корифея кинематографа, как Козинц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19206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Тамилла Суджаевн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68360" y="2060640"/>
            <a:ext cx="1955880" cy="2193840"/>
            <a:chOff x="2268360" y="2060640"/>
            <a:chExt cx="1955880" cy="219384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2268360" y="2060640"/>
              <a:ext cx="195588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 txBox="1"/>
            <p:nvPr/>
          </p:nvSpPr>
          <p:spPr>
            <a:xfrm>
              <a:off x="2268360" y="2060640"/>
              <a:ext cx="1955880" cy="21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милла Суджаевна тоже не была обделена ролями. Причем роли были разноплановые. Среди них самая дорогая – Марьяна Пинеда по одноименной пьесе Гарсии Лорки.. В семье трое детей. Дочь — Тамила Сличенко, актриса театра «Ромэн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Тамилла Суджаевн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771640" y="2205000"/>
            <a:ext cx="1441440" cy="1617840"/>
            <a:chOff x="2771640" y="2205000"/>
            <a:chExt cx="1441440" cy="161784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2771640" y="2205000"/>
              <a:ext cx="1441440" cy="16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 txBox="1"/>
            <p:nvPr/>
          </p:nvSpPr>
          <p:spPr>
            <a:xfrm>
              <a:off x="2771640" y="2205000"/>
              <a:ext cx="1441440" cy="161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милла Агамирова с 1952 года – ведущая актриса театра «Ромэн». Ею сыграно более 40 ролей в русской и зарубежной классике, она снялась также в ряде фильмов– «Дон Кихот», «Ее большое сердце», «Матео Фальконе» и д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Тамилла Суджаевн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итики отмечали, что Тамилла Суджаевна всегда «покоряла зрителей красотой, обаянием, высокой культурой, пластикой и музыкальностью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508720" y="1916280"/>
            <a:ext cx="223992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«Чтобы в мире было меньше зла</a:t>
            </a:r>
            <a:br>
              <a:rPr sz="2400"/>
            </a:br>
            <a:br>
              <a:rPr sz="38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1957320" cy="2197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ктриса – Кавалер ордена Дружбы, ордена Михаила Ломоносова. Лучшими подарками счита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доровье и удачу детей. Мечта: «Чтобы в мире было меньше зл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Никола́й Алексе́евич Сличе́нк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кола́й Алексе́евич Сличе́нко (род. 27 декабря 1934) — художественный руководитель Московского музыкально-драматического цыганского театра «Ромэн», народный артист СССР (1981)[1], лауреат Государственной премии СССР (1987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80836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Романс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771640" y="2133720"/>
            <a:ext cx="1185840" cy="1330200"/>
            <a:chOff x="2771640" y="2133720"/>
            <a:chExt cx="1185840" cy="133020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2771640" y="2133720"/>
              <a:ext cx="1185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 txBox="1"/>
            <p:nvPr/>
          </p:nvSpPr>
          <p:spPr>
            <a:xfrm>
              <a:off x="2771640" y="2133720"/>
              <a:ext cx="1185840" cy="133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Одной звезды лишь повторяю имя…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этот романс на стихи Иннокентия Анненского звучит в исполнении Николая Сличенко, люди, знающие уклад его семьи, понимают, что посвящается он нежно и горячо любимой жене Тамилле Суджаев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Романс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987640" y="2060640"/>
            <a:ext cx="1185840" cy="1332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ловно для них двоих были написаны эти строки: «Не потому что с нею мне светло, а потому что с ней не надо свет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Дети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мье трое детей. Дочь — Тамила Сличенко, актриса театра «Ромэн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чь Тамилла(это папа дал ей имя любимой жены) закончила Гнесинку и ГИТИС, одно время работала в «Ромэне», потом – в Америке, сейчас снимается в кино, пишет сценарии, выпустила книгу стих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е старший сын Николка был участником телепроекта «Фабрика звезд» (причем без всякого протеже со стороны дедушки), младший Микэль еще малыш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Дет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268360" y="2060640"/>
            <a:ext cx="1702080" cy="1909800"/>
            <a:chOff x="2268360" y="2060640"/>
            <a:chExt cx="1702080" cy="190980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2268360" y="2060640"/>
              <a:ext cx="1702080" cy="19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 txBox="1"/>
            <p:nvPr/>
          </p:nvSpPr>
          <p:spPr>
            <a:xfrm>
              <a:off x="2268360" y="2060640"/>
              <a:ext cx="1702080" cy="190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редний сын Петр занимается бизнесом, владеет двумя языками – английским и французски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его семье двое детей – дочь Тамилла (это имя в их роду много значит!), она уже сама мама, растит дочку Леночку, а сын Миша еще не определился с професси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ладший сын Алексей выбрал музыку. У него свой ансамбль. А его дочка Олечка – артистка театра «Ромэн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Дет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ши дети всегда были очень самостоятельными. И хотя двое из них выбрали артистическую дорогу, но никто не захотел пойти под папино «крылышко», – улыбается Тамилла Суджаев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843280" y="2205000"/>
            <a:ext cx="13428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Дет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484360" y="1989000"/>
            <a:ext cx="1892520" cy="21225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ы никогда не «давили» на детей, – вступает Николай Алексеевич, – давали им полную свобод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Родители – труженик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627280" y="2133720"/>
            <a:ext cx="1635120" cy="1834920"/>
            <a:chOff x="2627280" y="2133720"/>
            <a:chExt cx="1635120" cy="183492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2627280" y="2133720"/>
              <a:ext cx="16351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 txBox="1"/>
            <p:nvPr/>
          </p:nvSpPr>
          <p:spPr>
            <a:xfrm>
              <a:off x="2627280" y="2133720"/>
              <a:ext cx="1635120" cy="183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редко в дни школьных каникул брали их в гастрольные поездки, так и возили с собой кастрюльки и прочую утвар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а, дети видели, что их родители – труженики, и преданность профессии у них на грани одержим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Родители – труженик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иколай Алексеевич знал назубок все роли в пьесах, все мизансцены в спектаклях, в которых доводилось играть. А потому в случае болезни кого-то из актеров он всегда был «палочкой-выручалочкой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692360" y="1844640"/>
            <a:ext cx="2808360" cy="2208240"/>
            <a:chOff x="1692360" y="1844640"/>
            <a:chExt cx="2808360" cy="220824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1692360" y="1844640"/>
              <a:ext cx="280836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 txBox="1"/>
            <p:nvPr/>
          </p:nvSpPr>
          <p:spPr>
            <a:xfrm>
              <a:off x="1692360" y="1844640"/>
              <a:ext cx="2808360" cy="22082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Наград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«За заслуги перед Отечеством» III степени (27 декабря 2004) — за большой вклад в развитие театрального искусства и многолетнюю творческую деятельность[5]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«За заслуги перед Отечеством» IV степени (29 декабря 1994) — за заслуги перед государством, успехи, достигнутые в труде, культуре, искусстве, большой вклад в укрепление дружбы и сотрудничества между народами[6]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Почёта (24 декабря 2009) — за большие заслуги в развитии отечественного театрального и музыкального искусства, многолетнюю общественную деятельность[7][8]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Дружбы Народ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"За заслуги перед Отечеством и казачеством" I степен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Мецена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Честь и достоинство Нац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Великая побе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Служение искусств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Петра Великого I степени (АПБОП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Михайло Ломоносова (АПБОП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Святого Владимира с мечам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Знак ордена Св. Александра Невского" за труды и Отечест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Премии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сударственная премия СССР (198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мия России за труды и Отече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мия Моск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мия имени Михаила Ломонос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Детств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340000" y="2060640"/>
            <a:ext cx="1828800" cy="2052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иколай Сличенко родился 27 декабря 1934 года. Кроме него в семье было еще четверо детей. На глазах маленького Коли немцы расстреляли отц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очётные зван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556000" y="2422440"/>
            <a:ext cx="1444680" cy="1619280"/>
            <a:chOff x="2556000" y="2422440"/>
            <a:chExt cx="1444680" cy="1619280"/>
          </a:xfrm>
        </p:grpSpPr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2556000" y="2422440"/>
              <a:ext cx="1444680" cy="16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 txBox="1"/>
            <p:nvPr/>
          </p:nvSpPr>
          <p:spPr>
            <a:xfrm>
              <a:off x="2556000" y="2422440"/>
              <a:ext cx="1444680" cy="161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одный артист СССР (198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одный артист РСФС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фессор, академик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я Николая Сличенко присвоено одной из звёзд в созвездии Тель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оли в театр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тыре жениха — Лек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тыре жениха — Бад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ушенька — Дмитр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оманный кнут — Чан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ясунья — дедуш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ыганка Аза — Васи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чь шатров — Мар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дился я в таборе — Никола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ячая кровь — Барба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бачок "Макрель" — Яшка-коро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ын Мадонны — Дженари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м Баро — Иван Кал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ы - герой, я - герой — Ренальд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рианна Пинеда — Фернанд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вчонка из табора — Ко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- цыганка — Лац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рность — Васи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ловек-волк — Нанд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юбовь и смерть — Яр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нни и махиваль — Махива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поклонов — Непокло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вой труп — Прота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Фильмография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ильмограф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леко Дундич — цыган (195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ождь и в солн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адьба в Малиновке - красный конник Петря (196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й остров си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хищение — Сличенко, Николай Алексеевич (196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138096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Tahoma"/>
              </a:rPr>
              <a:t>Работа выполнена уч.анг.яз.Куликовой З.Е.,2011 г.</a:t>
            </a:r>
            <a:endParaRPr b="0" lang="en-US" sz="2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йт.Линия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кипедия.Сличенко Никола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йт. Яндекс «Картинк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 flipV="1" rot="10773000">
            <a:off x="395280" y="3134160"/>
            <a:ext cx="62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"Николай Сличенко. Жизнь как чудо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Детств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340000" y="1989000"/>
            <a:ext cx="1828800" cy="2052720"/>
            <a:chOff x="2340000" y="1989000"/>
            <a:chExt cx="1828800" cy="20527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2340000" y="1989000"/>
              <a:ext cx="182880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 txBox="1"/>
            <p:nvPr/>
          </p:nvSpPr>
          <p:spPr>
            <a:xfrm>
              <a:off x="2340000" y="1989000"/>
              <a:ext cx="1828800" cy="20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ле войны семья поселилась в цыганском колхозе в Воронежской области. Именно тогда Николай услышал о существовании цыганского театра в Москве и стал мечтать о работе в нё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Театр «Ромэн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00360" y="2276640"/>
            <a:ext cx="1442880" cy="1618920"/>
            <a:chOff x="2700360" y="2276640"/>
            <a:chExt cx="1442880" cy="16189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2700360" y="2276640"/>
              <a:ext cx="1442880" cy="16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2700360" y="2276640"/>
              <a:ext cx="1442880" cy="161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951 году Николая приняли в театр «Ромэн». Одарённый подросток привлёк внимание ведущих мастеров театра. Конечно, никаких поблажек ему не давали: он начинал, как большинство, артистом вспомогательного соста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Ведущие актёр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050920" y="2205000"/>
            <a:ext cx="2084400" cy="2340000"/>
            <a:chOff x="2050920" y="2205000"/>
            <a:chExt cx="2084400" cy="234000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2050920" y="2205000"/>
              <a:ext cx="208440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 txBox="1"/>
            <p:nvPr/>
          </p:nvSpPr>
          <p:spPr>
            <a:xfrm>
              <a:off x="2050920" y="2205000"/>
              <a:ext cx="2084400" cy="23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ведущие актёры театра, такие как Ляля Чёрная, М. В. Скворцова, С. И. Андреева, М. И. Черкасова, С. Ф. Шишков, И. И. Ром-Лебедев, В. Ф. Бизев, Н. Г. Нарожный, С. С. Золотарёв, И. В. Хрусталёв, охотно делились с ним секретами мастер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Самообразовани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1506600" cy="16923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эти годы Николай работает над собой, много читает, учи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Главная роль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556000" y="2060640"/>
            <a:ext cx="1506240" cy="1692360"/>
            <a:chOff x="2556000" y="2060640"/>
            <a:chExt cx="1506240" cy="169236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2556000" y="2060640"/>
              <a:ext cx="1506240" cy="16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 txBox="1"/>
            <p:nvPr/>
          </p:nvSpPr>
          <p:spPr>
            <a:xfrm>
              <a:off x="2556000" y="2060640"/>
              <a:ext cx="1506240" cy="16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первые Николаю доверили главную роль уже в 1952 году, в неполные 18 лет, когда театр выезжал со спектаклем «Четыре жениха» по пьесе И. Хрусталева в Загорск (ныне — Сергиев Посад). Ему довелось играть роль Лексы, заменяя заболевшего актёра Сергея Фёдоровича Шишко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И другие рол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627280" y="2060640"/>
            <a:ext cx="1379520" cy="1547640"/>
            <a:chOff x="2627280" y="2060640"/>
            <a:chExt cx="1379520" cy="154764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2627280" y="2060640"/>
              <a:ext cx="137952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 txBox="1"/>
            <p:nvPr/>
          </p:nvSpPr>
          <p:spPr>
            <a:xfrm>
              <a:off x="2627280" y="2060640"/>
              <a:ext cx="1379520" cy="15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му довелось играть роль Лексы, заменяя заболевшего актёра Сергея Фёдоровича Шишкова. Роль Лексы он потом играл долго, а позднее, по мере взросления, сыграл в этом спектакле ещё и роль Ба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0:58:11Z</dcterms:created>
  <dc:creator>Admin</dc:creator>
  <dc:description/>
  <dc:language>en-US</dc:language>
  <cp:lastModifiedBy>Admin</cp:lastModifiedBy>
  <dcterms:modified xsi:type="dcterms:W3CDTF">2011-05-25T12:34:26Z</dcterms:modified>
  <cp:revision>6</cp:revision>
  <dc:subject/>
  <dc:title> </dc:title>
</cp:coreProperties>
</file>