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0E7-CA05-4F4F-9473-29BDA7EE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30D-1BF9-4719-87E9-30D8F9B6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657-61CF-42D6-9AD8-08DBAF6E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924-7DFA-4429-9C0A-961D0255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2799-46B3-4B03-A6DA-0C100F4E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E0DB-E967-4184-82DB-06C9319B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7A51-32FC-4A51-A4AA-07BCC6E1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5F2A-C8F8-42F0-91F2-34F072F1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F2DD-9C19-4FB5-A9F6-B156C6E1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8946-1E69-4919-BEC4-B7D81CE6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0383-9BFD-4B7E-A0B2-B1A63EAC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451-AF36-4129-95BC-49CC5F33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B3CD-12EB-4688-9961-90FF44A0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CF3F-4E77-4872-9E39-4D87E208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9082-EF3F-4E2A-99F1-5238B89D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D104-FC0D-4975-A837-FBD3D5E3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9CDF-B074-4771-B4AD-7E72040A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BC1-F41E-4748-896C-58FA26B2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A465-8527-4A1F-84FA-3FD2C094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D60-3331-4FF9-9C3A-FE617644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14D-4D5D-4859-A93F-8DDA95E7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4FE-B7F5-418F-B604-E7DE482F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416-5901-4C66-938E-2E7F3CB1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625-7B14-44E5-AA29-DA4A5989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AD08-5056-45E8-B658-8CBA451FF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A696-7547-4A63-8619-0DCD80317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11158" r="0" b="27300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92360" y="3789360"/>
            <a:ext cx="7272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вершенствование представле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 роли отца в семье на урок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тературы в 5-9 классах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738680" cy="590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148360" y="793440"/>
            <a:ext cx="374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ез сомнения, подобные уроки служат укреплению взаимопонимания между отцам и детьми. Прекрасно, если подростки начинают сознавать, что отцы любят своих детей не меньше, чем матери, просто отцовская любовь более требователь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о самая главная ценность этих уроков заключается в том, что они работают на укрепление отцовского авторитета: учат детей любить, уважать, ценить своих отцов, гордиться ими, стремиться быть на них похож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7272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Без хороших отцов нет хорошего воспитания, несмотря на все школы, институты и пансионы»,- писал Н.М.Карамзин.  Мать ни в коей мере не может заменить отца, роль которого в воспитании уникальн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 чём всё чаще говорят учёны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блема возрождени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цовского авторитета и его ответственности за семью – актуальн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2000" y="4076640"/>
            <a:ext cx="21952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 сожалению,   литература по воспитанию прежде всего взывает к материнскому сердц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художественная литература – это в первую очередь гимн матер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наших специальных методических изданиях также нет статей и рекомендаций, которые помогли бы учителю  организовать работу над данной проблемо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3600360" cy="234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3456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этому обращаясь к теме «Совершенствование представлений о роли отца в семье на уроках литературы в 5-9 классах» можно вести речь об определённой инновации на уровне изменения содержания образования на уроке литератур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кольку мы рассматриваем проблемы, к которым на  практике обращаются недостаточно част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пользуем для работы на уроке новые, не представленные в программе произведени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рганизуем уроки в рамках инновационных технологий: «Технологии критического мышления через чтение и письмо», технологии проблемного обуче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вить детям осознанное уважение к личности отца, научить прислушиваться к его советам и следовать и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мочь подросткам осознать важность и  значимость отцов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спитать убеждённость в том, что семья – одна из важнейших человеческих ценностей, ответственность за которую несут все её члены: отец, мать, де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формировать представление, как должны  строиться  отношения в семье между мужем и женой, отцами и деть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77920"/>
          <a:ext cx="8229600" cy="6269040"/>
        </p:xfrm>
        <a:graphic>
          <a:graphicData uri="http://schemas.openxmlformats.org/drawingml/2006/table">
            <a:tbl>
              <a:tblPr/>
              <a:tblGrid>
                <a:gridCol w="946080"/>
                <a:gridCol w="2737080"/>
                <a:gridCol w="1944360"/>
                <a:gridCol w="26020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изведение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котором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одится ур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Отцовский завет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рок внеклассного чт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дание по развитию реч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.Зощенко «Золотые слов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.Алексин «Про нашу семью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Какие «золотые слова» моего папы я запомню на всю жизнь?» или «Почему я горжусь своим папой?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.Г.Гарин-Михайловск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Детство Тёмы»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.Т.Аксаков «Детские годы Багрова-внук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Наше семейное увлечение» или «Чему меня научил мой папа?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Поучение» Владимира Монома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.Шекспир «Король Лир», А.С.Пушкин «Станционный смотритель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Если бы я был отцом (матерью)…Поучение будущему сыну», «Судьба Самсона Вырин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.С.Пушкин «Капитанская дочк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.Быков «Крутой берег реки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Папин «дембельский» альб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Не надобно другого образца, когда в глазах пример отца</a:t>
                      </a:r>
                      <a:r>
                        <a:rPr b="1" i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?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» или «Не надобно другого образца, когда в глазах пример отца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» (Урок-исследование по произведениям Д.И.Фонвизина, А.С.Грибоедова, А.С.Пушкина, Н.В.Гоголя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Домосро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лава «Послание и наставление отца сыну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.Ливингстон Лерне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Раскаяние отц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Каким отцом (матерью) хотелось бы мне быть?», «За что я хочу попросить прощения у своего отца (матери)?» или «Раскаяние сын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59280" y="2852640"/>
            <a:ext cx="568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усские пословицы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Яблоко от яблони недалеко пад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ов отец, таковы и де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дители трудолюбивы, так и дети не лени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ово дерево, таков и клин; каков батька, таков и сы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  -  брык, и жеребёнок – бры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 доброго корня добрая порос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 лося -  лосятина, от свиньи – поросят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ово семя – таково и плем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419360" cy="4537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88000" y="763200"/>
            <a:ext cx="435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Глав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Послание и наставл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тца сыну»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ногие из  советов автора, священника Сильвестра, звучат очень актуальн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..оберегайся неправедного богатства, добрые дела твори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Держись правды истинной и любви нелицемерной, не осуждай никого ни в чём, о своих грехах поразмысли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…удержи язык свой от злого и лжи, храни себя от обмана, от похвальбы и от клеветы, и сам не заносись ни в чём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Законный брак тщательно соблюдай до конца своей жизни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..пьянственного берегись недуга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476280"/>
            <a:ext cx="3745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50000">
                      <a:srgbClr val="ffffff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Домострой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50000">
                    <a:srgbClr val="ffffff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9280" y="4300920"/>
            <a:ext cx="84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. Ливингстона  Лернеда  «Раскаяние отца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Как грубо ошибаются многие, даже лучшие из отцов, которые почитают необходимым разделять себя с детьми строгостью, суровостью, недоступной важностью! Они думают этим возбудить к себе уважение…(В.Г.Белински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Загляните в свою душу…» (В.В.Воровски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07:01:13Z</dcterms:created>
  <dc:creator>22 кабинет</dc:creator>
  <dc:description/>
  <dc:language>en-US</dc:language>
  <cp:lastModifiedBy>22 кабинет</cp:lastModifiedBy>
  <dcterms:modified xsi:type="dcterms:W3CDTF">2009-02-26T08:13:33Z</dcterms:modified>
  <cp:revision>4</cp:revision>
  <dc:subject/>
  <dc:title>Слайд 1</dc:title>
</cp:coreProperties>
</file>