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8C9-C9DA-4087-8DC9-C4E70017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493-DA61-4CD8-BE5B-BA1F4EDE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F85-BFDF-45A1-86A9-2CDD85A7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B9C-BAC5-4712-ACF0-763387A1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BEFE-1053-476E-BE6F-A02A3C45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7292-D82E-483F-A538-6F93A5DA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DCA1-E532-4B66-B905-10FC27D6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1464-3458-41B9-9A2F-C80942B2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6519-9EBC-433B-A8AF-EA4DD172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5777-D740-44CF-B514-B404FE57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1D06-CCC2-4D74-AF4F-E0600E27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B3F-0A9B-42EA-850E-7DD9F886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E093-CB3F-4BB4-AA7B-21CCBBA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716B-6300-45DB-BA10-4EA5E89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C536-57A1-4FFA-91A0-7A31E07C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64DF-FAE6-445B-AD44-70E82D49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CDF3-4663-4E90-824E-6D43BE58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F23-4E6C-47E2-AA8A-FA3CBBB9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EDD-8749-4E12-BB5D-6B404D8C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7A9-069D-4D73-A90F-D16FF65F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DD3-D675-4A23-B96D-91DBE33D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621-467F-494B-A28B-F412D478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60A-E2DD-4E5E-8D23-35DF9EB8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397-F4E1-4414-999E-F340DAB0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9DAA-4A5F-4E52-BFD3-40EE15C0F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D40B-6307-4EC5-8B1B-7834C7D36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11158" r="0" b="27300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2360" y="3789360"/>
            <a:ext cx="7272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ршенствование представле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роли отца в семье на урок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тературы в 5-9 класса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38680" cy="590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48360" y="793440"/>
            <a:ext cx="374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ез сомнения, подобные уроки служат укреплению взаимопонимания между отцам и детьми. Прекрасно, если подростки начинают сознавать, что отцы любят своих детей не меньше, чем матери, просто отцовская любовь более требователь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о самая главная ценность этих уроков заключается в том, что они работают на укрепление отцовского авторитета: учат детей любить, уважать, ценить своих отцов, гордиться ими, стремиться быть на них похож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7272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Без хороших отцов нет хорошего воспитания, несмотря на все школы, институты и пансионы»,- писал Н.М.Карамзин.  Мать ни в коей мере не может заменить отца, роль которого в воспитании уникальн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 чём всё чаще говорят учёны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блема возрожд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цовского авторитета и его ответственности за семью – актуаль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2000" y="4076640"/>
            <a:ext cx="2195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 сожалению,   литература по воспитанию прежде всего взывает к материнскому сердц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художественная литература – это в первую очередь гимн матер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наших специальных методических изданиях также нет статей и рекомендаций, которые помогли бы учителю  организовать работу над данной проблем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3600360" cy="234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3456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этому обращаясь к теме «Совершенствование представлений о роли отца в семье на уроках литературы в 5-9 классах» можно вести речь об определённой инновации на уровне изменения содержания образования на уроке литератур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кольку мы рассматриваем проблемы, к которым на  практике обращаются недостаточно част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ьзуем для работы на уроке новые, не представленные в программе произведени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изуем уроки в рамках инновационных технологий: «Технологии критического мышления через чтение и письмо», технологии проблемного обуче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вить детям осознанное уважение к личности отца, научить прислушиваться к его советам и следовать и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мочь подросткам осознать важность и  значимость отцов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спитать убеждённость в том, что семья – одна из важнейших человеческих ценностей, ответственность за которую несут все её члены: отец, мать, де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формировать представление, как должны  строиться  отношения в семье между мужем и женой, отцами и деть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7920"/>
          <a:ext cx="8229600" cy="6269040"/>
        </p:xfrm>
        <a:graphic>
          <a:graphicData uri="http://schemas.openxmlformats.org/drawingml/2006/table">
            <a:tbl>
              <a:tblPr/>
              <a:tblGrid>
                <a:gridCol w="946080"/>
                <a:gridCol w="2737080"/>
                <a:gridCol w="1944360"/>
                <a:gridCol w="2602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изведение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котором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одится у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Отцовский завет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к внеклассного чт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ание по развитию ре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.Зощенко «Золотые слов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.Алексин «Про нашу семью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Какие «золотые слова» моего папы я запомню на всю жизнь?» или «Почему я горжусь своим папой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.Г.Гарин-Михайлов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Детство Тёмы»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.Т.Аксаков «Детские годы Багрова-внук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аше семейное увлечение» или «Чему меня научил мой папа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оучение» Владимира Монома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.Шекспир «Король Лир», А.С.Пушкин «Станционный смотритель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Если бы я был отцом (матерью)…Поучение будущему сыну», «Судьба Самсона Вырин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.С.Пушкин «Капитанская дочк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.Быков «Крутой берег реки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апин «дембельский» альб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е надобно другого образца, когда в глазах пример отца</a:t>
                      </a:r>
                      <a:r>
                        <a:rPr b="1" i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?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» или «Не надобно другого образца, когда в глазах пример отца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» (Урок-исследование по произведениям Д.И.Фонвизина, А.С.Грибоедова, А.С.Пушкина, Н.В.Гоголя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Домосро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лава «Послание и наставление отца сыну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.Ливингстон Лерне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Раскаяние отц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Каким отцом (матерью) хотелось бы мне быть?», «За что я хочу попросить прощения у своего отца (матери)?» или «Раскаяние сын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59280" y="2852640"/>
            <a:ext cx="568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усские пословицы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Яблоко от яблони недалеко пад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в отец, таковы и д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дители трудолюбивы, так и дети не лени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во дерево, таков и клин; каков батька, таков и сы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  -  брык, и жеребёнок – бры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 доброго корня добрая порос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 лося -  лосятина, от свиньи – поросят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во семя – таково и плем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419360" cy="4537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88000" y="763200"/>
            <a:ext cx="435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лав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Послание и наставл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ца сыну»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ногие из  советов автора, священника Сильвестра, звучат очень актуаль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..оберегайся неправедного богатства, добрые дела твор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ержись правды истинной и любви нелицемерной, не осуждай никого ни в чём, о своих грехах поразмысл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…удержи язык свой от злого и лжи, храни себя от обмана, от похвальбы и от клеветы, и сам не заносись ни в чём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Законный брак тщательно соблюдай до конца своей жизн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..пьянственного берегись недуг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476280"/>
            <a:ext cx="374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50000">
                      <a:srgbClr val="ffffff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Домострой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50000">
                    <a:srgbClr val="ffffff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9280" y="430092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. Ливингстона  Лернеда  «Раскаяние отц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Как грубо ошибаются многие, даже лучшие из отцов, которые почитают необходимым разделять себя с детьми строгостью, суровостью, недоступной важностью! Они думают этим возбудить к себе уважение…(В.Г.Белинск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Загляните в свою душу…» (В.В.Воровск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07:01:13Z</dcterms:created>
  <dc:creator>22 кабинет</dc:creator>
  <dc:description/>
  <dc:language>en-US</dc:language>
  <cp:lastModifiedBy>22 кабинет</cp:lastModifiedBy>
  <dcterms:modified xsi:type="dcterms:W3CDTF">2009-02-26T08:13:33Z</dcterms:modified>
  <cp:revision>4</cp:revision>
  <dc:subject/>
  <dc:title>Слайд 1</dc:title>
</cp:coreProperties>
</file>