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2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EC0-063B-478D-B26D-3E8003628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470-578E-4039-90FC-66D0CE0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D1E-532E-4C4A-B369-27CF7DA8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5A4-8A0A-4291-B78B-C88C7775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7A6-62A6-4D40-B6FE-1A40ECCB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F33-30A9-470A-AFDA-E893E9DC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793-A146-4105-9BD3-6040374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077-5355-48B8-81E7-2440DF7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18B-0E0E-4864-9541-22FCC1A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DD8-6EBB-4A8B-BAAF-05CA700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4B7-0D17-4B1F-BB4E-CCCFF075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0B0-4D46-4FFF-9D8E-0D0DDD2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763-C09A-4FB3-8193-11E43A6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83399A-970F-45A0-BD4D-799449A74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й среды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4868640"/>
            <a:ext cx="6551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34 города Т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марина Елена Александр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65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" name="Picture 2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71424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2"/>
          <a:stretch/>
        </p:blipFill>
        <p:spPr>
          <a:xfrm>
            <a:off x="7000920" y="42148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Школьные файлы\ПАПКА  ДЛЯ  СКАЧИВАНИЯ\Картинки для физкультминутки\egiky43.jpg"/>
          <p:cNvPicPr/>
          <p:nvPr/>
        </p:nvPicPr>
        <p:blipFill>
          <a:blip r:embed="rId3"/>
          <a:stretch/>
        </p:blipFill>
        <p:spPr>
          <a:xfrm>
            <a:off x="214200" y="37861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Школьные файлы\ПАПКА  ДЛЯ  СКАЧИВАНИЯ\Картинки для физкультминутки\OYN0S9CALODWEVCARF7V7YCAAKNR4QCAMG0SPACAJ00AVUCALRHLUECAVTF2ZJCADEK090CA806OK9CAYU7RX9CADUBHNDCAIX3O46CAGIMUAVCAQ27NVKCA5D00FACA61LDC6CAS7IDKMCA9ZNRLFCA1JLILT.jpg"/>
          <p:cNvPicPr/>
          <p:nvPr/>
        </p:nvPicPr>
        <p:blipFill>
          <a:blip r:embed="rId4"/>
          <a:stretch/>
        </p:blipFill>
        <p:spPr>
          <a:xfrm>
            <a:off x="500040" y="42861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Школьные файлы\ПАПКА  ДЛЯ  СКАЧИВАНИЯ\Картинки для физкультминутки\egiky08.jpg"/>
          <p:cNvPicPr/>
          <p:nvPr/>
        </p:nvPicPr>
        <p:blipFill>
          <a:blip r:embed="rId5"/>
          <a:stretch/>
        </p:blipFill>
        <p:spPr>
          <a:xfrm>
            <a:off x="5000760" y="400068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2593 C -0.01684 -0.03056 -0.00833 -0.02246 0.00226 -0.02593 C 0.03125 -0.01806 -0.01111 -0.02871 0.06407 -0.02593 C 0.07188 -0.0257 0.079 -0.02037 0.08646 -0.01898 C 0.09097 -0.01482 0.09393 -0.00834 0.09879 -0.00533 C 0.10903 0.00069 0.10677 -0.00625 0.11424 -0.0007 C 0.11788 0.00208 0.12066 0.00717 0.12466 0.00856 C 0.15122 0.01759 0.13368 0.01296 0.17813 0.01551 C 0.19497 0.02152 0.21077 0.0287 0.22813 0.03148 C 0.23316 0.03402 0.23854 0.0375 0.24358 0.04074 C 0.24549 0.04189 0.2467 0.0449 0.24879 0.04537 C 0.25591 0.04722 0.26354 0.04699 0.27118 0.04768 C 0.27292 0.04699 0.27448 0.04467 0.27622 0.04537 C 0.27865 0.04629 0.27969 0.05023 0.2816 0.05208 C 0.28368 0.05393 0.28611 0.05532 0.28837 0.05671 C 0.29618 0.06134 0.31025 0.0625 0.31597 0.06365 C 0.33212 0.07083 0.30295 0.05833 0.33472 0.06828 C 0.33785 0.06921 0.34063 0.07199 0.34358 0.07291 C 0.3474 0.0743 0.35157 0.07453 0.35573 0.07523 C 0.37014 0.08171 0.38629 0.0831 0.40052 0.0912 C 0.41372 0.09861 0.42413 0.11041 0.43837 0.11435 C 0.43611 0.11203 0.4316 0.11111 0.4316 0.1074 C 0.4316 0.10625 0.44288 0.1118 0.44358 0.11203 C 0.44931 0.11319 0.45504 0.11365 0.46059 0.11435 C 0.47118 0.12106 0.4757 0.12152 0.48837 0.12338 C 0.50417 0.12939 0.52032 0.13125 0.53663 0.13495 C 0.54497 0.15208 0.5408 0.14444 0.54879 0.15787 C 0.55 0.1625 0.54879 0.1706 0.55226 0.17176 C 0.56441 0.17592 0.57622 0.18009 0.58802 0.18333 C 0.59236 0.18588 0.59618 0.19027 0.60052 0.19236 C 0.61146 0.19791 0.62518 0.19814 0.63663 0.20162 C 0.64462 0.20393 0.63941 0.20347 0.64705 0.20856 C 0.64861 0.20972 0.6507 0.20972 0.65226 0.21088 C 0.65591 0.21342 0.65903 0.21689 0.6625 0.2199 C 0.66823 0.225 0.66771 0.22176 0.66771 0.22685 E">
                                      <p:cBhvr>
                                        <p:cTn id="2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6875 -0.00833 E">
                                      <p:cBhvr>
                                        <p:cTn id="39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Школьные файлы\ВСЕ  ДЛЯ  ОФОРМЛЕНИЯ\ШАБЛОНЫ  К ПРЕЗЕНТАЦИЯМ\сказ.фоны\03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lenagold.ru/fon/clipart/p/pti/ptah70.gif"/>
          <p:cNvPicPr/>
          <p:nvPr/>
        </p:nvPicPr>
        <p:blipFill>
          <a:blip r:embed="rId2"/>
          <a:stretch/>
        </p:blipFill>
        <p:spPr>
          <a:xfrm flipH="1">
            <a:off x="285840" y="785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кольные файлы\ПАПКА  ДЛЯ  СКАЧИВАНИЯ\Картинки для физкультминутки\babochka150.jpg"/>
          <p:cNvPicPr/>
          <p:nvPr/>
        </p:nvPicPr>
        <p:blipFill>
          <a:blip r:embed="rId3"/>
          <a:stretch/>
        </p:blipFill>
        <p:spPr>
          <a:xfrm>
            <a:off x="6715080" y="64296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Школьные файлы\ПАПКА  ДЛЯ  СКАЧИВАНИЯ\Картинки для физкультминутки\babochka214.jpg"/>
          <p:cNvPicPr/>
          <p:nvPr/>
        </p:nvPicPr>
        <p:blipFill>
          <a:blip r:embed="rId4"/>
          <a:stretch/>
        </p:blipFill>
        <p:spPr>
          <a:xfrm>
            <a:off x="6924600" y="500040"/>
            <a:ext cx="183060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Школьные файлы\ПАПКА  ДЛЯ  СКАЧИВАНИЯ\Картинки для физкультминутки\39KDVHCAZ1KNJECAHAR6CSCABW08FACAB2H14QCAR9BNKKCA5S2DJ7CAG9HRB3CA71VG7ECA3OH0ENCAUMRJLHCA9EHBA6CAQW5GLYCA90ETW7CAA0ZF6ICAPN7WFVCAT5315YCAOVS1UACAAH8MSWCAY39EYF.jpg"/>
          <p:cNvPicPr/>
          <p:nvPr/>
        </p:nvPicPr>
        <p:blipFill>
          <a:blip r:embed="rId5"/>
          <a:stretch/>
        </p:blipFill>
        <p:spPr>
          <a:xfrm>
            <a:off x="3571920" y="4643280"/>
            <a:ext cx="714240" cy="82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6"/>
          <a:stretch/>
        </p:blipFill>
        <p:spPr>
          <a:xfrm>
            <a:off x="7858080" y="5643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7"/>
          <a:stretch/>
        </p:blipFill>
        <p:spPr>
          <a:xfrm>
            <a:off x="2000160" y="557208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8"/>
          <a:stretch/>
        </p:blipFill>
        <p:spPr>
          <a:xfrm>
            <a:off x="6572160" y="4500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9"/>
          <a:stretch/>
        </p:blipFill>
        <p:spPr>
          <a:xfrm>
            <a:off x="428760" y="574344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10"/>
          <a:stretch/>
        </p:blipFill>
        <p:spPr>
          <a:xfrm>
            <a:off x="285840" y="4000680"/>
            <a:ext cx="7333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85185E-006 L 0.60643 0.13657 E">
                                      <p:cBhvr>
                                        <p:cTn id="5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69306 -0.03148 E">
                                      <p:cBhvr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5 -0.03147 L -0.69305 0.64052 E">
                                      <p:cBhvr>
                                        <p:cTn id="66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L 0.01563 0.71412 E">
                                      <p:cBhvr>
                                        <p:cTn id="74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71412 L -0.42534 0.75602 E">
                                      <p:cBhvr>
                                        <p:cTn id="77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7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ЗДОРОВ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саж биологически активных то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Уши». Мягко расправить и растянуть одноимённой рукой внешний край уха в направлении вверх наружу от верхней части к мочке 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Массаж пальцев ру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сильный, самый толстый и больш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для того, чтоб показывать 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длинный, он стоит посеред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безымянный, он избалованный са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зинчик хоть и мал, он и ловок, и у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урока с позиции здоровьесбере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66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мена видов учебной деятельности(4-7 вид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редняя продолжительность различных видов учебной деятельности не более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оличество методов не менее трё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Использование разных фор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Наличие оздоровительных моментов на уроке(на 20-й минуте, по мере утом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ушою красивы и очень добры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алантом сильны Вы и сердцем щедры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се Ваши идеи, мечты о прекрасном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и, затеи не будут напрасны!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 к детям дорогу сумели найти,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усть ждут Вас успехи на этом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сберег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813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здание психологически комфортной обстановки во время учебного проце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2640" y="1928520"/>
            <a:ext cx="7715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моционально – психологический настрой учителя 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едагогический т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тиль поведения и общения учителя с учащими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425920" y="4352760"/>
            <a:ext cx="34070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80438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…Нужно уметь сказать так, чтобы они(ученики) в Вашем слове почувствовали Вашу волю, Вашу культуру, Вашу лич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20840" y="3919680"/>
            <a:ext cx="8272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вигательная актив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8160" cy="2946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0160"/>
                <a:gridCol w="1371600"/>
                <a:gridCol w="1371600"/>
              </a:tblGrid>
              <a:tr h="146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жеднев-ный объём времени (час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мнастика до учебных занятий (мин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-минутка на урок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е переме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й час  в группе продлён-ного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0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8236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снятия эмоционального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леч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хо-но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улак-ребро-ладон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ис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предупреждения зрительной устал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6640"/>
            <a:ext cx="8228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«Солнышко». Мягкие движения носом по кругу с движением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«Морковка». Повороты головы вправо-влево, носом нарисовать морковку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«Буратино». Буратино рисует своим длинным любопытным носом           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«Ах, как долго мы пис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долго мы писали, глазки у ребят устали(поморгать глаз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те все в окно, (вправо-влев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солнце высоко(посмотреть ввер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глаза сейчас закроем(закрыть глаза ладошкам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ассе радугу построим, вверх по радуге пойдём, Вправо, влево повернём,а потом скатимся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урься сильно, но держ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Школьные файлы\ПАПКА  ДЛЯ  СКАЧИВАНИЯ\9381760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6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65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ля  гл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57200" y="3714480"/>
            <a:ext cx="621360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павел</cp:lastModifiedBy>
  <dcterms:modified xsi:type="dcterms:W3CDTF">2011-10-29T21:33:33Z</dcterms:modified>
  <cp:revision>29</cp:revision>
  <dc:subject/>
  <dc:title>Слайд 1</dc:title>
</cp:coreProperties>
</file>