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2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983A-2AD4-4C13-94A1-0A968868E3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C30-EE07-4D1F-8254-549AB033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B8F-12DB-4C64-AF57-1257BB47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B9F-9EB3-432F-9D70-F2807D5C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A8F-38C0-474E-AD24-BB900BA4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C7B-2FC2-4E54-A469-E8C083A6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E64-08BB-48EF-BE59-CC95DD96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ACB-E1B8-4FE8-9CC1-41F5A40C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25C-1BC2-497F-98AA-6EF92724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C71-B372-4BEA-9F2B-5B2B7876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424-4F93-4F4F-A8E6-3FC1699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F36-CDF9-4245-B892-6394719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F3E-8E77-4255-B7B8-6FBD36BC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C6D09B-A6A9-4C70-A2A6-D02FCB917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36036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здоровьесберегающей среды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4868640"/>
            <a:ext cx="65516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СОШ №34 города Т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марина Елена Александр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65" name="Полилиния 2"/>
            <p:cNvSpPr/>
            <p:nvPr/>
          </p:nvSpPr>
          <p:spPr>
            <a:xfrm>
              <a:off x="10800" y="3379680"/>
              <a:ext cx="9207720" cy="1019160"/>
            </a:xfrm>
            <a:custGeom>
              <a:avLst/>
              <a:gdLst/>
              <a:ahLst/>
              <a:rect l="l" t="t" r="r" b="b"/>
              <a:pathLst>
                <a:path w="9207062" h="1019232">
                  <a:moveTo>
                    <a:pt x="0" y="956170"/>
                  </a:moveTo>
                  <a:lnTo>
                    <a:pt x="9186041" y="1019232"/>
                  </a:lnTo>
                  <a:lnTo>
                    <a:pt x="9207062" y="472694"/>
                  </a:lnTo>
                  <a:lnTo>
                    <a:pt x="8891751" y="788004"/>
                  </a:lnTo>
                  <a:cubicBezTo>
                    <a:pt x="8788666" y="655874"/>
                    <a:pt x="8569406" y="568519"/>
                    <a:pt x="8408275" y="745963"/>
                  </a:cubicBezTo>
                  <a:cubicBezTo>
                    <a:pt x="8364237" y="675199"/>
                    <a:pt x="8240215" y="727312"/>
                    <a:pt x="8219089" y="788004"/>
                  </a:cubicBezTo>
                  <a:cubicBezTo>
                    <a:pt x="8179103" y="695212"/>
                    <a:pt x="8183593" y="581788"/>
                    <a:pt x="7956331" y="714432"/>
                  </a:cubicBezTo>
                  <a:cubicBezTo>
                    <a:pt x="7982693" y="687604"/>
                    <a:pt x="7926530" y="354393"/>
                    <a:pt x="7683062" y="567287"/>
                  </a:cubicBezTo>
                  <a:cubicBezTo>
                    <a:pt x="7697383" y="459552"/>
                    <a:pt x="7576788" y="326421"/>
                    <a:pt x="7430813" y="472694"/>
                  </a:cubicBezTo>
                  <a:cubicBezTo>
                    <a:pt x="7520023" y="293030"/>
                    <a:pt x="7321914" y="67331"/>
                    <a:pt x="7136524" y="209935"/>
                  </a:cubicBezTo>
                  <a:cubicBezTo>
                    <a:pt x="7186978" y="112111"/>
                    <a:pt x="6943763" y="0"/>
                    <a:pt x="6821213" y="178404"/>
                  </a:cubicBezTo>
                  <a:cubicBezTo>
                    <a:pt x="6882618" y="51457"/>
                    <a:pt x="6648763" y="18175"/>
                    <a:pt x="6653048" y="230956"/>
                  </a:cubicBezTo>
                  <a:cubicBezTo>
                    <a:pt x="6537201" y="158695"/>
                    <a:pt x="6380095" y="78499"/>
                    <a:pt x="6400800" y="357080"/>
                  </a:cubicBezTo>
                  <a:cubicBezTo>
                    <a:pt x="6343419" y="311204"/>
                    <a:pt x="6030452" y="220877"/>
                    <a:pt x="6190593" y="514735"/>
                  </a:cubicBezTo>
                  <a:cubicBezTo>
                    <a:pt x="5987164" y="431031"/>
                    <a:pt x="5780571" y="342569"/>
                    <a:pt x="5675586" y="630349"/>
                  </a:cubicBezTo>
                  <a:cubicBezTo>
                    <a:pt x="5632607" y="498253"/>
                    <a:pt x="5397549" y="513800"/>
                    <a:pt x="5265682" y="619838"/>
                  </a:cubicBezTo>
                  <a:cubicBezTo>
                    <a:pt x="5222378" y="556279"/>
                    <a:pt x="4971117" y="386362"/>
                    <a:pt x="4845269" y="567287"/>
                  </a:cubicBezTo>
                  <a:cubicBezTo>
                    <a:pt x="4775200" y="507728"/>
                    <a:pt x="4835305" y="360854"/>
                    <a:pt x="4635062" y="388611"/>
                  </a:cubicBezTo>
                  <a:cubicBezTo>
                    <a:pt x="4753741" y="312573"/>
                    <a:pt x="4700971" y="136524"/>
                    <a:pt x="4572000" y="241466"/>
                  </a:cubicBezTo>
                  <a:cubicBezTo>
                    <a:pt x="4567950" y="149061"/>
                    <a:pt x="4232112" y="12207"/>
                    <a:pt x="4340772" y="230956"/>
                  </a:cubicBezTo>
                  <a:cubicBezTo>
                    <a:pt x="4291724" y="269494"/>
                    <a:pt x="4117265" y="173092"/>
                    <a:pt x="4193627" y="346570"/>
                  </a:cubicBezTo>
                  <a:cubicBezTo>
                    <a:pt x="4097450" y="309890"/>
                    <a:pt x="3871095" y="249400"/>
                    <a:pt x="3909848" y="493714"/>
                  </a:cubicBezTo>
                  <a:cubicBezTo>
                    <a:pt x="3825765" y="560280"/>
                    <a:pt x="3678189" y="491903"/>
                    <a:pt x="3657600" y="693411"/>
                  </a:cubicBezTo>
                  <a:cubicBezTo>
                    <a:pt x="3577021" y="654873"/>
                    <a:pt x="3521849" y="411543"/>
                    <a:pt x="3415862" y="577797"/>
                  </a:cubicBezTo>
                  <a:cubicBezTo>
                    <a:pt x="3321269" y="581300"/>
                    <a:pt x="3180647" y="437162"/>
                    <a:pt x="3132082" y="588307"/>
                  </a:cubicBezTo>
                  <a:cubicBezTo>
                    <a:pt x="3161489" y="517084"/>
                    <a:pt x="3076585" y="252191"/>
                    <a:pt x="3005958" y="493714"/>
                  </a:cubicBezTo>
                  <a:cubicBezTo>
                    <a:pt x="2822039" y="474441"/>
                    <a:pt x="2730184" y="283722"/>
                    <a:pt x="2606565" y="588307"/>
                  </a:cubicBezTo>
                  <a:cubicBezTo>
                    <a:pt x="2522482" y="630349"/>
                    <a:pt x="2428890" y="421560"/>
                    <a:pt x="2354317" y="714432"/>
                  </a:cubicBezTo>
                  <a:cubicBezTo>
                    <a:pt x="2263227" y="735453"/>
                    <a:pt x="2092780" y="605655"/>
                    <a:pt x="2081048" y="777494"/>
                  </a:cubicBezTo>
                  <a:cubicBezTo>
                    <a:pt x="1986455" y="798515"/>
                    <a:pt x="1780756" y="679829"/>
                    <a:pt x="1797269" y="840556"/>
                  </a:cubicBezTo>
                  <a:cubicBezTo>
                    <a:pt x="1744717" y="858073"/>
                    <a:pt x="1693773" y="766046"/>
                    <a:pt x="1639613" y="893107"/>
                  </a:cubicBezTo>
                  <a:cubicBezTo>
                    <a:pt x="1569544" y="861576"/>
                    <a:pt x="1602707" y="718908"/>
                    <a:pt x="1429407" y="798514"/>
                  </a:cubicBezTo>
                  <a:cubicBezTo>
                    <a:pt x="1387662" y="771083"/>
                    <a:pt x="1418919" y="688096"/>
                    <a:pt x="1261241" y="682901"/>
                  </a:cubicBezTo>
                  <a:cubicBezTo>
                    <a:pt x="1236717" y="651370"/>
                    <a:pt x="1299529" y="592846"/>
                    <a:pt x="1187669" y="588307"/>
                  </a:cubicBezTo>
                  <a:cubicBezTo>
                    <a:pt x="1183423" y="521682"/>
                    <a:pt x="1047391" y="478875"/>
                    <a:pt x="1051034" y="640859"/>
                  </a:cubicBezTo>
                  <a:cubicBezTo>
                    <a:pt x="1050785" y="557976"/>
                    <a:pt x="907145" y="561479"/>
                    <a:pt x="872358" y="682901"/>
                  </a:cubicBezTo>
                  <a:cubicBezTo>
                    <a:pt x="888862" y="586004"/>
                    <a:pt x="879720" y="573358"/>
                    <a:pt x="756744" y="588307"/>
                  </a:cubicBezTo>
                  <a:cubicBezTo>
                    <a:pt x="736079" y="529183"/>
                    <a:pt x="775986" y="474496"/>
                    <a:pt x="662151" y="462183"/>
                  </a:cubicBezTo>
                  <a:cubicBezTo>
                    <a:pt x="628076" y="386911"/>
                    <a:pt x="522206" y="267793"/>
                    <a:pt x="325820" y="451673"/>
                  </a:cubicBezTo>
                  <a:cubicBezTo>
                    <a:pt x="265690" y="327352"/>
                    <a:pt x="291584" y="230625"/>
                    <a:pt x="94593" y="388611"/>
                  </a:cubicBezTo>
                  <a:lnTo>
                    <a:pt x="52551" y="483204"/>
                  </a:lnTo>
                  <a:lnTo>
                    <a:pt x="52551" y="924638"/>
                  </a:lnTo>
                  <a:lnTo>
                    <a:pt x="0" y="956170"/>
                  </a:lnTo>
                  <a:close/>
                </a:path>
              </a:pathLst>
            </a:cu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Полилиния 3"/>
            <p:cNvSpPr/>
            <p:nvPr/>
          </p:nvSpPr>
          <p:spPr>
            <a:xfrm>
              <a:off x="0" y="3763800"/>
              <a:ext cx="9298080" cy="3078360"/>
            </a:xfrm>
            <a:custGeom>
              <a:avLst/>
              <a:gdLst/>
              <a:ahLst/>
              <a:rect l="l" t="t" r="r" b="b"/>
              <a:pathLst>
                <a:path w="9297355" h="3078774">
                  <a:moveTo>
                    <a:pt x="10511" y="924153"/>
                  </a:moveTo>
                  <a:cubicBezTo>
                    <a:pt x="3297468" y="0"/>
                    <a:pt x="6912154" y="395890"/>
                    <a:pt x="9297355" y="882112"/>
                  </a:cubicBezTo>
                  <a:lnTo>
                    <a:pt x="9249104" y="3047243"/>
                  </a:lnTo>
                  <a:lnTo>
                    <a:pt x="0" y="3078774"/>
                  </a:lnTo>
                  <a:cubicBezTo>
                    <a:pt x="3504" y="2360567"/>
                    <a:pt x="7007" y="1642360"/>
                    <a:pt x="10511" y="924153"/>
                  </a:cubicBezTo>
                  <a:close/>
                </a:path>
              </a:pathLst>
            </a:cu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Полилиния 4"/>
            <p:cNvSpPr/>
            <p:nvPr/>
          </p:nvSpPr>
          <p:spPr>
            <a:xfrm>
              <a:off x="830160" y="4178160"/>
              <a:ext cx="8388720" cy="2679840"/>
            </a:xfrm>
            <a:custGeom>
              <a:avLst/>
              <a:gdLst/>
              <a:ahLst/>
              <a:rect l="l" t="t" r="r" b="b"/>
              <a:pathLst>
                <a:path w="8387255" h="2680138">
                  <a:moveTo>
                    <a:pt x="8387255" y="0"/>
                  </a:moveTo>
                  <a:cubicBezTo>
                    <a:pt x="5466187" y="397574"/>
                    <a:pt x="4794367" y="212981"/>
                    <a:pt x="0" y="2680138"/>
                  </a:cubicBezTo>
                  <a:lnTo>
                    <a:pt x="8387255" y="2606566"/>
                  </a:lnTo>
                  <a:cubicBezTo>
                    <a:pt x="8383737" y="1730704"/>
                    <a:pt x="8376744" y="854849"/>
                    <a:pt x="8387255" y="0"/>
                  </a:cubicBezTo>
                  <a:close/>
                </a:path>
              </a:pathLst>
            </a:cu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Полилиния 5"/>
            <p:cNvSpPr/>
            <p:nvPr/>
          </p:nvSpPr>
          <p:spPr>
            <a:xfrm>
              <a:off x="31680" y="4167360"/>
              <a:ext cx="8609400" cy="2658960"/>
            </a:xfrm>
            <a:custGeom>
              <a:avLst/>
              <a:gdLst/>
              <a:ahLst/>
              <a:rect l="l" t="t" r="r" b="b"/>
              <a:pathLst>
                <a:path w="8607973" h="2659117">
                  <a:moveTo>
                    <a:pt x="21021" y="0"/>
                  </a:moveTo>
                  <a:cubicBezTo>
                    <a:pt x="3199974" y="80129"/>
                    <a:pt x="5958482" y="967591"/>
                    <a:pt x="8607973" y="2648607"/>
                  </a:cubicBezTo>
                  <a:lnTo>
                    <a:pt x="0" y="2659117"/>
                  </a:lnTo>
                  <a:lnTo>
                    <a:pt x="21021" y="0"/>
                  </a:lnTo>
                  <a:close/>
                </a:path>
              </a:pathLst>
            </a:cu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Полилиния 6"/>
            <p:cNvSpPr/>
            <p:nvPr/>
          </p:nvSpPr>
          <p:spPr>
            <a:xfrm>
              <a:off x="2195280" y="471240"/>
              <a:ext cx="4297320" cy="1930320"/>
            </a:xfrm>
            <a:custGeom>
              <a:avLst/>
              <a:gdLst/>
              <a:ahLst/>
              <a:rect l="l" t="t" r="r" b="b"/>
              <a:pathLst>
                <a:path w="4297558" h="1930877">
                  <a:moveTo>
                    <a:pt x="49792" y="1342298"/>
                  </a:moveTo>
                  <a:cubicBezTo>
                    <a:pt x="609438" y="1518686"/>
                    <a:pt x="1073807" y="1242624"/>
                    <a:pt x="1142867" y="1499953"/>
                  </a:cubicBezTo>
                  <a:cubicBezTo>
                    <a:pt x="961311" y="1653128"/>
                    <a:pt x="960688" y="1787236"/>
                    <a:pt x="869598" y="1930877"/>
                  </a:cubicBezTo>
                  <a:cubicBezTo>
                    <a:pt x="1286912" y="1554867"/>
                    <a:pt x="1504179" y="1493174"/>
                    <a:pt x="1878592" y="1531484"/>
                  </a:cubicBezTo>
                  <a:cubicBezTo>
                    <a:pt x="2507154" y="1862576"/>
                    <a:pt x="2158593" y="1809277"/>
                    <a:pt x="2750950" y="1762711"/>
                  </a:cubicBezTo>
                  <a:cubicBezTo>
                    <a:pt x="2908605" y="1682132"/>
                    <a:pt x="3142468" y="1796825"/>
                    <a:pt x="3223916" y="1520974"/>
                  </a:cubicBezTo>
                  <a:cubicBezTo>
                    <a:pt x="3535558" y="1377004"/>
                    <a:pt x="3694804" y="1723581"/>
                    <a:pt x="4001681" y="1689139"/>
                  </a:cubicBezTo>
                  <a:cubicBezTo>
                    <a:pt x="4271903" y="1596923"/>
                    <a:pt x="4297558" y="1300268"/>
                    <a:pt x="3886067" y="1300256"/>
                  </a:cubicBezTo>
                  <a:cubicBezTo>
                    <a:pt x="3696881" y="1272229"/>
                    <a:pt x="3488649" y="1363275"/>
                    <a:pt x="3318509" y="1216174"/>
                  </a:cubicBezTo>
                  <a:cubicBezTo>
                    <a:pt x="3619154" y="859272"/>
                    <a:pt x="3510221" y="1126259"/>
                    <a:pt x="3591778" y="1174132"/>
                  </a:cubicBezTo>
                  <a:cubicBezTo>
                    <a:pt x="3873431" y="1380328"/>
                    <a:pt x="3821697" y="757811"/>
                    <a:pt x="3307998" y="963925"/>
                  </a:cubicBezTo>
                  <a:cubicBezTo>
                    <a:pt x="3246311" y="865022"/>
                    <a:pt x="3251294" y="818492"/>
                    <a:pt x="2908605" y="795760"/>
                  </a:cubicBezTo>
                  <a:cubicBezTo>
                    <a:pt x="3271659" y="749519"/>
                    <a:pt x="3215604" y="293688"/>
                    <a:pt x="2740440" y="585553"/>
                  </a:cubicBezTo>
                  <a:cubicBezTo>
                    <a:pt x="2975565" y="298560"/>
                    <a:pt x="2367717" y="6789"/>
                    <a:pt x="2288495" y="596063"/>
                  </a:cubicBezTo>
                  <a:cubicBezTo>
                    <a:pt x="2292835" y="481395"/>
                    <a:pt x="1682799" y="0"/>
                    <a:pt x="1258481" y="837801"/>
                  </a:cubicBezTo>
                  <a:cubicBezTo>
                    <a:pt x="1134512" y="896937"/>
                    <a:pt x="1291552" y="79795"/>
                    <a:pt x="1100826" y="900863"/>
                  </a:cubicBezTo>
                  <a:cubicBezTo>
                    <a:pt x="197999" y="103569"/>
                    <a:pt x="0" y="1144587"/>
                    <a:pt x="606840" y="837801"/>
                  </a:cubicBezTo>
                  <a:cubicBezTo>
                    <a:pt x="654545" y="1206006"/>
                    <a:pt x="235475" y="1174132"/>
                    <a:pt x="49792" y="134229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олилиния 7"/>
            <p:cNvSpPr/>
            <p:nvPr/>
          </p:nvSpPr>
          <p:spPr>
            <a:xfrm>
              <a:off x="6127920" y="-216000"/>
              <a:ext cx="3164040" cy="1847880"/>
            </a:xfrm>
            <a:custGeom>
              <a:avLst/>
              <a:gdLst/>
              <a:ahLst/>
              <a:rect l="l" t="t" r="r" b="b"/>
              <a:pathLst>
                <a:path w="3163804" h="1847991">
                  <a:moveTo>
                    <a:pt x="3100742" y="1513490"/>
                  </a:moveTo>
                  <a:cubicBezTo>
                    <a:pt x="2957781" y="1637603"/>
                    <a:pt x="2864064" y="1528339"/>
                    <a:pt x="2743390" y="1471448"/>
                  </a:cubicBezTo>
                  <a:cubicBezTo>
                    <a:pt x="2591837" y="1598573"/>
                    <a:pt x="2383164" y="1419295"/>
                    <a:pt x="2365018" y="1271752"/>
                  </a:cubicBezTo>
                  <a:cubicBezTo>
                    <a:pt x="2021108" y="1571806"/>
                    <a:pt x="1599437" y="1479732"/>
                    <a:pt x="1419087" y="966952"/>
                  </a:cubicBezTo>
                  <a:cubicBezTo>
                    <a:pt x="1368630" y="1567332"/>
                    <a:pt x="1094377" y="1337421"/>
                    <a:pt x="1177349" y="924911"/>
                  </a:cubicBezTo>
                  <a:cubicBezTo>
                    <a:pt x="449749" y="1847991"/>
                    <a:pt x="0" y="659671"/>
                    <a:pt x="704383" y="998483"/>
                  </a:cubicBezTo>
                  <a:cubicBezTo>
                    <a:pt x="753527" y="603050"/>
                    <a:pt x="262949" y="690180"/>
                    <a:pt x="42232" y="536028"/>
                  </a:cubicBezTo>
                  <a:cubicBezTo>
                    <a:pt x="336125" y="309475"/>
                    <a:pt x="1277729" y="613126"/>
                    <a:pt x="1166839" y="346842"/>
                  </a:cubicBezTo>
                  <a:cubicBezTo>
                    <a:pt x="1049509" y="78851"/>
                    <a:pt x="1475142" y="115614"/>
                    <a:pt x="1629294" y="0"/>
                  </a:cubicBezTo>
                  <a:lnTo>
                    <a:pt x="3163804" y="42042"/>
                  </a:lnTo>
                  <a:lnTo>
                    <a:pt x="3090232" y="1460938"/>
                  </a:lnTo>
                  <a:cubicBezTo>
                    <a:pt x="3112819" y="1528700"/>
                    <a:pt x="3126919" y="1508331"/>
                    <a:pt x="3100742" y="15134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1" name="Picture 2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714240" y="642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2"/>
          <a:stretch/>
        </p:blipFill>
        <p:spPr>
          <a:xfrm>
            <a:off x="7000920" y="421488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:\Школьные файлы\ПАПКА  ДЛЯ  СКАЧИВАНИЯ\Картинки для физкультминутки\egiky43.jpg"/>
          <p:cNvPicPr/>
          <p:nvPr/>
        </p:nvPicPr>
        <p:blipFill>
          <a:blip r:embed="rId3"/>
          <a:stretch/>
        </p:blipFill>
        <p:spPr>
          <a:xfrm>
            <a:off x="214200" y="37861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Школьные файлы\ПАПКА  ДЛЯ  СКАЧИВАНИЯ\Картинки для физкультминутки\OYN0S9CALODWEVCARF7V7YCAAKNR4QCAMG0SPACAJ00AVUCALRHLUECAVTF2ZJCADEK090CA806OK9CAYU7RX9CADUBHNDCAIX3O46CAGIMUAVCAQ27NVKCA5D00FACA61LDC6CAS7IDKMCA9ZNRLFCA1JLILT.jpg"/>
          <p:cNvPicPr/>
          <p:nvPr/>
        </p:nvPicPr>
        <p:blipFill>
          <a:blip r:embed="rId4"/>
          <a:stretch/>
        </p:blipFill>
        <p:spPr>
          <a:xfrm>
            <a:off x="500040" y="428616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Школьные файлы\ПАПКА  ДЛЯ  СКАЧИВАНИЯ\Картинки для физкультминутки\egiky08.jpg"/>
          <p:cNvPicPr/>
          <p:nvPr/>
        </p:nvPicPr>
        <p:blipFill>
          <a:blip r:embed="rId5"/>
          <a:stretch/>
        </p:blipFill>
        <p:spPr>
          <a:xfrm>
            <a:off x="5000760" y="4000680"/>
            <a:ext cx="214308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3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02593 C -0.01684 -0.03056 -0.00833 -0.02246 0.00226 -0.02593 C 0.03125 -0.01806 -0.01111 -0.02871 0.06407 -0.02593 C 0.07188 -0.0257 0.079 -0.02037 0.08646 -0.01898 C 0.09097 -0.01482 0.09393 -0.00834 0.09879 -0.00533 C 0.10903 0.00069 0.10677 -0.00625 0.11424 -0.0007 C 0.11788 0.00208 0.12066 0.00717 0.12466 0.00856 C 0.15122 0.01759 0.13368 0.01296 0.17813 0.01551 C 0.19497 0.02152 0.21077 0.0287 0.22813 0.03148 C 0.23316 0.03402 0.23854 0.0375 0.24358 0.04074 C 0.24549 0.04189 0.2467 0.0449 0.24879 0.04537 C 0.25591 0.04722 0.26354 0.04699 0.27118 0.04768 C 0.27292 0.04699 0.27448 0.04467 0.27622 0.04537 C 0.27865 0.04629 0.27969 0.05023 0.2816 0.05208 C 0.28368 0.05393 0.28611 0.05532 0.28837 0.05671 C 0.29618 0.06134 0.31025 0.0625 0.31597 0.06365 C 0.33212 0.07083 0.30295 0.05833 0.33472 0.06828 C 0.33785 0.06921 0.34063 0.07199 0.34358 0.07291 C 0.3474 0.0743 0.35157 0.07453 0.35573 0.07523 C 0.37014 0.08171 0.38629 0.0831 0.40052 0.0912 C 0.41372 0.09861 0.42413 0.11041 0.43837 0.11435 C 0.43611 0.11203 0.4316 0.11111 0.4316 0.1074 C 0.4316 0.10625 0.44288 0.1118 0.44358 0.11203 C 0.44931 0.11319 0.45504 0.11365 0.46059 0.11435 C 0.47118 0.12106 0.4757 0.12152 0.48837 0.12338 C 0.50417 0.12939 0.52032 0.13125 0.53663 0.13495 C 0.54497 0.15208 0.5408 0.14444 0.54879 0.15787 C 0.55 0.1625 0.54879 0.1706 0.55226 0.17176 C 0.56441 0.17592 0.57622 0.18009 0.58802 0.18333 C 0.59236 0.18588 0.59618 0.19027 0.60052 0.19236 C 0.61146 0.19791 0.62518 0.19814 0.63663 0.20162 C 0.64462 0.20393 0.63941 0.20347 0.64705 0.20856 C 0.64861 0.20972 0.6507 0.20972 0.65226 0.21088 C 0.65591 0.21342 0.65903 0.21689 0.6625 0.2199 C 0.66823 0.225 0.66771 0.22176 0.66771 0.22685 E">
                                      <p:cBhvr>
                                        <p:cTn id="2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36875 -0.00833 E">
                                      <p:cBhvr>
                                        <p:cTn id="39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Школьные файлы\ВСЕ  ДЛЯ  ОФОРМЛЕНИЯ\ШАБЛОНЫ  К ПРЕЗЕНТАЦИЯМ\сказ.фоны\03.jpg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lenagold.ru/fon/clipart/p/pti/ptah70.gif"/>
          <p:cNvPicPr/>
          <p:nvPr/>
        </p:nvPicPr>
        <p:blipFill>
          <a:blip r:embed="rId2"/>
          <a:stretch/>
        </p:blipFill>
        <p:spPr>
          <a:xfrm flipH="1">
            <a:off x="285840" y="7858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Школьные файлы\ПАПКА  ДЛЯ  СКАЧИВАНИЯ\Картинки для физкультминутки\babochka150.jpg"/>
          <p:cNvPicPr/>
          <p:nvPr/>
        </p:nvPicPr>
        <p:blipFill>
          <a:blip r:embed="rId3"/>
          <a:stretch/>
        </p:blipFill>
        <p:spPr>
          <a:xfrm>
            <a:off x="6715080" y="642960"/>
            <a:ext cx="20718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Школьные файлы\ПАПКА  ДЛЯ  СКАЧИВАНИЯ\Картинки для физкультминутки\babochka214.jpg"/>
          <p:cNvPicPr/>
          <p:nvPr/>
        </p:nvPicPr>
        <p:blipFill>
          <a:blip r:embed="rId4"/>
          <a:stretch/>
        </p:blipFill>
        <p:spPr>
          <a:xfrm>
            <a:off x="6924600" y="500040"/>
            <a:ext cx="183060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Школьные файлы\ПАПКА  ДЛЯ  СКАЧИВАНИЯ\Картинки для физкультминутки\39KDVHCAZ1KNJECAHAR6CSCABW08FACAB2H14QCAR9BNKKCA5S2DJ7CAG9HRB3CA71VG7ECA3OH0ENCAUMRJLHCA9EHBA6CAQW5GLYCA90ETW7CAA0ZF6ICAPN7WFVCAT5315YCAOVS1UACAAH8MSWCAY39EYF.jpg"/>
          <p:cNvPicPr/>
          <p:nvPr/>
        </p:nvPicPr>
        <p:blipFill>
          <a:blip r:embed="rId5"/>
          <a:stretch/>
        </p:blipFill>
        <p:spPr>
          <a:xfrm>
            <a:off x="3571920" y="4643280"/>
            <a:ext cx="714240" cy="824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6"/>
          <a:stretch/>
        </p:blipFill>
        <p:spPr>
          <a:xfrm>
            <a:off x="7858080" y="5643720"/>
            <a:ext cx="1000080" cy="92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7"/>
          <a:stretch/>
        </p:blipFill>
        <p:spPr>
          <a:xfrm>
            <a:off x="2000160" y="5572080"/>
            <a:ext cx="92880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8"/>
          <a:stretch/>
        </p:blipFill>
        <p:spPr>
          <a:xfrm>
            <a:off x="6572160" y="450072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9"/>
          <a:stretch/>
        </p:blipFill>
        <p:spPr>
          <a:xfrm>
            <a:off x="428760" y="5743440"/>
            <a:ext cx="733320" cy="111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10"/>
          <a:stretch/>
        </p:blipFill>
        <p:spPr>
          <a:xfrm>
            <a:off x="285840" y="4000680"/>
            <a:ext cx="73332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1.85185E-006 L 0.60643 0.13657 E">
                                      <p:cBhvr>
                                        <p:cTn id="54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-0.69306 -0.03148 E">
                                      <p:cBhvr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305 -0.03147 L -0.69305 0.64052 E">
                                      <p:cBhvr>
                                        <p:cTn id="66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96296E-006 L 0.01563 0.71412 E">
                                      <p:cBhvr>
                                        <p:cTn id="74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71412 L -0.42534 0.75602 E">
                                      <p:cBhvr>
                                        <p:cTn id="77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87" name="Полилиния 2"/>
            <p:cNvSpPr/>
            <p:nvPr/>
          </p:nvSpPr>
          <p:spPr>
            <a:xfrm>
              <a:off x="10800" y="3379680"/>
              <a:ext cx="9207720" cy="1019160"/>
            </a:xfrm>
            <a:custGeom>
              <a:avLst/>
              <a:gdLst/>
              <a:ahLst/>
              <a:rect l="l" t="t" r="r" b="b"/>
              <a:pathLst>
                <a:path w="9207062" h="1019232">
                  <a:moveTo>
                    <a:pt x="0" y="956170"/>
                  </a:moveTo>
                  <a:lnTo>
                    <a:pt x="9186041" y="1019232"/>
                  </a:lnTo>
                  <a:lnTo>
                    <a:pt x="9207062" y="472694"/>
                  </a:lnTo>
                  <a:lnTo>
                    <a:pt x="8891751" y="788004"/>
                  </a:lnTo>
                  <a:cubicBezTo>
                    <a:pt x="8788666" y="655874"/>
                    <a:pt x="8569406" y="568519"/>
                    <a:pt x="8408275" y="745963"/>
                  </a:cubicBezTo>
                  <a:cubicBezTo>
                    <a:pt x="8364237" y="675199"/>
                    <a:pt x="8240215" y="727312"/>
                    <a:pt x="8219089" y="788004"/>
                  </a:cubicBezTo>
                  <a:cubicBezTo>
                    <a:pt x="8179103" y="695212"/>
                    <a:pt x="8183593" y="581788"/>
                    <a:pt x="7956331" y="714432"/>
                  </a:cubicBezTo>
                  <a:cubicBezTo>
                    <a:pt x="7982693" y="687604"/>
                    <a:pt x="7926530" y="354393"/>
                    <a:pt x="7683062" y="567287"/>
                  </a:cubicBezTo>
                  <a:cubicBezTo>
                    <a:pt x="7697383" y="459552"/>
                    <a:pt x="7576788" y="326421"/>
                    <a:pt x="7430813" y="472694"/>
                  </a:cubicBezTo>
                  <a:cubicBezTo>
                    <a:pt x="7520023" y="293030"/>
                    <a:pt x="7321914" y="67331"/>
                    <a:pt x="7136524" y="209935"/>
                  </a:cubicBezTo>
                  <a:cubicBezTo>
                    <a:pt x="7186978" y="112111"/>
                    <a:pt x="6943763" y="0"/>
                    <a:pt x="6821213" y="178404"/>
                  </a:cubicBezTo>
                  <a:cubicBezTo>
                    <a:pt x="6882618" y="51457"/>
                    <a:pt x="6648763" y="18175"/>
                    <a:pt x="6653048" y="230956"/>
                  </a:cubicBezTo>
                  <a:cubicBezTo>
                    <a:pt x="6537201" y="158695"/>
                    <a:pt x="6380095" y="78499"/>
                    <a:pt x="6400800" y="357080"/>
                  </a:cubicBezTo>
                  <a:cubicBezTo>
                    <a:pt x="6343419" y="311204"/>
                    <a:pt x="6030452" y="220877"/>
                    <a:pt x="6190593" y="514735"/>
                  </a:cubicBezTo>
                  <a:cubicBezTo>
                    <a:pt x="5987164" y="431031"/>
                    <a:pt x="5780571" y="342569"/>
                    <a:pt x="5675586" y="630349"/>
                  </a:cubicBezTo>
                  <a:cubicBezTo>
                    <a:pt x="5632607" y="498253"/>
                    <a:pt x="5397549" y="513800"/>
                    <a:pt x="5265682" y="619838"/>
                  </a:cubicBezTo>
                  <a:cubicBezTo>
                    <a:pt x="5222378" y="556279"/>
                    <a:pt x="4971117" y="386362"/>
                    <a:pt x="4845269" y="567287"/>
                  </a:cubicBezTo>
                  <a:cubicBezTo>
                    <a:pt x="4775200" y="507728"/>
                    <a:pt x="4835305" y="360854"/>
                    <a:pt x="4635062" y="388611"/>
                  </a:cubicBezTo>
                  <a:cubicBezTo>
                    <a:pt x="4753741" y="312573"/>
                    <a:pt x="4700971" y="136524"/>
                    <a:pt x="4572000" y="241466"/>
                  </a:cubicBezTo>
                  <a:cubicBezTo>
                    <a:pt x="4567950" y="149061"/>
                    <a:pt x="4232112" y="12207"/>
                    <a:pt x="4340772" y="230956"/>
                  </a:cubicBezTo>
                  <a:cubicBezTo>
                    <a:pt x="4291724" y="269494"/>
                    <a:pt x="4117265" y="173092"/>
                    <a:pt x="4193627" y="346570"/>
                  </a:cubicBezTo>
                  <a:cubicBezTo>
                    <a:pt x="4097450" y="309890"/>
                    <a:pt x="3871095" y="249400"/>
                    <a:pt x="3909848" y="493714"/>
                  </a:cubicBezTo>
                  <a:cubicBezTo>
                    <a:pt x="3825765" y="560280"/>
                    <a:pt x="3678189" y="491903"/>
                    <a:pt x="3657600" y="693411"/>
                  </a:cubicBezTo>
                  <a:cubicBezTo>
                    <a:pt x="3577021" y="654873"/>
                    <a:pt x="3521849" y="411543"/>
                    <a:pt x="3415862" y="577797"/>
                  </a:cubicBezTo>
                  <a:cubicBezTo>
                    <a:pt x="3321269" y="581300"/>
                    <a:pt x="3180647" y="437162"/>
                    <a:pt x="3132082" y="588307"/>
                  </a:cubicBezTo>
                  <a:cubicBezTo>
                    <a:pt x="3161489" y="517084"/>
                    <a:pt x="3076585" y="252191"/>
                    <a:pt x="3005958" y="493714"/>
                  </a:cubicBezTo>
                  <a:cubicBezTo>
                    <a:pt x="2822039" y="474441"/>
                    <a:pt x="2730184" y="283722"/>
                    <a:pt x="2606565" y="588307"/>
                  </a:cubicBezTo>
                  <a:cubicBezTo>
                    <a:pt x="2522482" y="630349"/>
                    <a:pt x="2428890" y="421560"/>
                    <a:pt x="2354317" y="714432"/>
                  </a:cubicBezTo>
                  <a:cubicBezTo>
                    <a:pt x="2263227" y="735453"/>
                    <a:pt x="2092780" y="605655"/>
                    <a:pt x="2081048" y="777494"/>
                  </a:cubicBezTo>
                  <a:cubicBezTo>
                    <a:pt x="1986455" y="798515"/>
                    <a:pt x="1780756" y="679829"/>
                    <a:pt x="1797269" y="840556"/>
                  </a:cubicBezTo>
                  <a:cubicBezTo>
                    <a:pt x="1744717" y="858073"/>
                    <a:pt x="1693773" y="766046"/>
                    <a:pt x="1639613" y="893107"/>
                  </a:cubicBezTo>
                  <a:cubicBezTo>
                    <a:pt x="1569544" y="861576"/>
                    <a:pt x="1602707" y="718908"/>
                    <a:pt x="1429407" y="798514"/>
                  </a:cubicBezTo>
                  <a:cubicBezTo>
                    <a:pt x="1387662" y="771083"/>
                    <a:pt x="1418919" y="688096"/>
                    <a:pt x="1261241" y="682901"/>
                  </a:cubicBezTo>
                  <a:cubicBezTo>
                    <a:pt x="1236717" y="651370"/>
                    <a:pt x="1299529" y="592846"/>
                    <a:pt x="1187669" y="588307"/>
                  </a:cubicBezTo>
                  <a:cubicBezTo>
                    <a:pt x="1183423" y="521682"/>
                    <a:pt x="1047391" y="478875"/>
                    <a:pt x="1051034" y="640859"/>
                  </a:cubicBezTo>
                  <a:cubicBezTo>
                    <a:pt x="1050785" y="557976"/>
                    <a:pt x="907145" y="561479"/>
                    <a:pt x="872358" y="682901"/>
                  </a:cubicBezTo>
                  <a:cubicBezTo>
                    <a:pt x="888862" y="586004"/>
                    <a:pt x="879720" y="573358"/>
                    <a:pt x="756744" y="588307"/>
                  </a:cubicBezTo>
                  <a:cubicBezTo>
                    <a:pt x="736079" y="529183"/>
                    <a:pt x="775986" y="474496"/>
                    <a:pt x="662151" y="462183"/>
                  </a:cubicBezTo>
                  <a:cubicBezTo>
                    <a:pt x="628076" y="386911"/>
                    <a:pt x="522206" y="267793"/>
                    <a:pt x="325820" y="451673"/>
                  </a:cubicBezTo>
                  <a:cubicBezTo>
                    <a:pt x="265690" y="327352"/>
                    <a:pt x="291584" y="230625"/>
                    <a:pt x="94593" y="388611"/>
                  </a:cubicBezTo>
                  <a:lnTo>
                    <a:pt x="52551" y="483204"/>
                  </a:lnTo>
                  <a:lnTo>
                    <a:pt x="52551" y="924638"/>
                  </a:lnTo>
                  <a:lnTo>
                    <a:pt x="0" y="956170"/>
                  </a:lnTo>
                  <a:close/>
                </a:path>
              </a:pathLst>
            </a:cu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олилиния 3"/>
            <p:cNvSpPr/>
            <p:nvPr/>
          </p:nvSpPr>
          <p:spPr>
            <a:xfrm>
              <a:off x="0" y="3763800"/>
              <a:ext cx="9298080" cy="3078360"/>
            </a:xfrm>
            <a:custGeom>
              <a:avLst/>
              <a:gdLst/>
              <a:ahLst/>
              <a:rect l="l" t="t" r="r" b="b"/>
              <a:pathLst>
                <a:path w="9297355" h="3078774">
                  <a:moveTo>
                    <a:pt x="10511" y="924153"/>
                  </a:moveTo>
                  <a:cubicBezTo>
                    <a:pt x="3297468" y="0"/>
                    <a:pt x="6912154" y="395890"/>
                    <a:pt x="9297355" y="882112"/>
                  </a:cubicBezTo>
                  <a:lnTo>
                    <a:pt x="9249104" y="3047243"/>
                  </a:lnTo>
                  <a:lnTo>
                    <a:pt x="0" y="3078774"/>
                  </a:lnTo>
                  <a:cubicBezTo>
                    <a:pt x="3504" y="2360567"/>
                    <a:pt x="7007" y="1642360"/>
                    <a:pt x="10511" y="924153"/>
                  </a:cubicBezTo>
                  <a:close/>
                </a:path>
              </a:pathLst>
            </a:cu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олилиния 4"/>
            <p:cNvSpPr/>
            <p:nvPr/>
          </p:nvSpPr>
          <p:spPr>
            <a:xfrm>
              <a:off x="830160" y="4178160"/>
              <a:ext cx="8388720" cy="2679840"/>
            </a:xfrm>
            <a:custGeom>
              <a:avLst/>
              <a:gdLst/>
              <a:ahLst/>
              <a:rect l="l" t="t" r="r" b="b"/>
              <a:pathLst>
                <a:path w="8387255" h="2680138">
                  <a:moveTo>
                    <a:pt x="8387255" y="0"/>
                  </a:moveTo>
                  <a:cubicBezTo>
                    <a:pt x="5466187" y="397574"/>
                    <a:pt x="4794367" y="212981"/>
                    <a:pt x="0" y="2680138"/>
                  </a:cubicBezTo>
                  <a:lnTo>
                    <a:pt x="8387255" y="2606566"/>
                  </a:lnTo>
                  <a:cubicBezTo>
                    <a:pt x="8383737" y="1730704"/>
                    <a:pt x="8376744" y="854849"/>
                    <a:pt x="8387255" y="0"/>
                  </a:cubicBezTo>
                  <a:close/>
                </a:path>
              </a:pathLst>
            </a:cu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олилиния 5"/>
            <p:cNvSpPr/>
            <p:nvPr/>
          </p:nvSpPr>
          <p:spPr>
            <a:xfrm>
              <a:off x="31680" y="4167360"/>
              <a:ext cx="8609400" cy="2658960"/>
            </a:xfrm>
            <a:custGeom>
              <a:avLst/>
              <a:gdLst/>
              <a:ahLst/>
              <a:rect l="l" t="t" r="r" b="b"/>
              <a:pathLst>
                <a:path w="8607973" h="2659117">
                  <a:moveTo>
                    <a:pt x="21021" y="0"/>
                  </a:moveTo>
                  <a:cubicBezTo>
                    <a:pt x="3199974" y="80129"/>
                    <a:pt x="5958482" y="967591"/>
                    <a:pt x="8607973" y="2648607"/>
                  </a:cubicBezTo>
                  <a:lnTo>
                    <a:pt x="0" y="2659117"/>
                  </a:lnTo>
                  <a:lnTo>
                    <a:pt x="21021" y="0"/>
                  </a:lnTo>
                  <a:close/>
                </a:path>
              </a:pathLst>
            </a:cu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олилиния 6"/>
            <p:cNvSpPr/>
            <p:nvPr/>
          </p:nvSpPr>
          <p:spPr>
            <a:xfrm>
              <a:off x="2195280" y="471240"/>
              <a:ext cx="4297320" cy="1930320"/>
            </a:xfrm>
            <a:custGeom>
              <a:avLst/>
              <a:gdLst/>
              <a:ahLst/>
              <a:rect l="l" t="t" r="r" b="b"/>
              <a:pathLst>
                <a:path w="4297558" h="1930877">
                  <a:moveTo>
                    <a:pt x="49792" y="1342298"/>
                  </a:moveTo>
                  <a:cubicBezTo>
                    <a:pt x="609438" y="1518686"/>
                    <a:pt x="1073807" y="1242624"/>
                    <a:pt x="1142867" y="1499953"/>
                  </a:cubicBezTo>
                  <a:cubicBezTo>
                    <a:pt x="961311" y="1653128"/>
                    <a:pt x="960688" y="1787236"/>
                    <a:pt x="869598" y="1930877"/>
                  </a:cubicBezTo>
                  <a:cubicBezTo>
                    <a:pt x="1286912" y="1554867"/>
                    <a:pt x="1504179" y="1493174"/>
                    <a:pt x="1878592" y="1531484"/>
                  </a:cubicBezTo>
                  <a:cubicBezTo>
                    <a:pt x="2507154" y="1862576"/>
                    <a:pt x="2158593" y="1809277"/>
                    <a:pt x="2750950" y="1762711"/>
                  </a:cubicBezTo>
                  <a:cubicBezTo>
                    <a:pt x="2908605" y="1682132"/>
                    <a:pt x="3142468" y="1796825"/>
                    <a:pt x="3223916" y="1520974"/>
                  </a:cubicBezTo>
                  <a:cubicBezTo>
                    <a:pt x="3535558" y="1377004"/>
                    <a:pt x="3694804" y="1723581"/>
                    <a:pt x="4001681" y="1689139"/>
                  </a:cubicBezTo>
                  <a:cubicBezTo>
                    <a:pt x="4271903" y="1596923"/>
                    <a:pt x="4297558" y="1300268"/>
                    <a:pt x="3886067" y="1300256"/>
                  </a:cubicBezTo>
                  <a:cubicBezTo>
                    <a:pt x="3696881" y="1272229"/>
                    <a:pt x="3488649" y="1363275"/>
                    <a:pt x="3318509" y="1216174"/>
                  </a:cubicBezTo>
                  <a:cubicBezTo>
                    <a:pt x="3619154" y="859272"/>
                    <a:pt x="3510221" y="1126259"/>
                    <a:pt x="3591778" y="1174132"/>
                  </a:cubicBezTo>
                  <a:cubicBezTo>
                    <a:pt x="3873431" y="1380328"/>
                    <a:pt x="3821697" y="757811"/>
                    <a:pt x="3307998" y="963925"/>
                  </a:cubicBezTo>
                  <a:cubicBezTo>
                    <a:pt x="3246311" y="865022"/>
                    <a:pt x="3251294" y="818492"/>
                    <a:pt x="2908605" y="795760"/>
                  </a:cubicBezTo>
                  <a:cubicBezTo>
                    <a:pt x="3271659" y="749519"/>
                    <a:pt x="3215604" y="293688"/>
                    <a:pt x="2740440" y="585553"/>
                  </a:cubicBezTo>
                  <a:cubicBezTo>
                    <a:pt x="2975565" y="298560"/>
                    <a:pt x="2367717" y="6789"/>
                    <a:pt x="2288495" y="596063"/>
                  </a:cubicBezTo>
                  <a:cubicBezTo>
                    <a:pt x="2292835" y="481395"/>
                    <a:pt x="1682799" y="0"/>
                    <a:pt x="1258481" y="837801"/>
                  </a:cubicBezTo>
                  <a:cubicBezTo>
                    <a:pt x="1134512" y="896937"/>
                    <a:pt x="1291552" y="79795"/>
                    <a:pt x="1100826" y="900863"/>
                  </a:cubicBezTo>
                  <a:cubicBezTo>
                    <a:pt x="197999" y="103569"/>
                    <a:pt x="0" y="1144587"/>
                    <a:pt x="606840" y="837801"/>
                  </a:cubicBezTo>
                  <a:cubicBezTo>
                    <a:pt x="654545" y="1206006"/>
                    <a:pt x="235475" y="1174132"/>
                    <a:pt x="49792" y="134229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олилиния 7"/>
            <p:cNvSpPr/>
            <p:nvPr/>
          </p:nvSpPr>
          <p:spPr>
            <a:xfrm>
              <a:off x="6127920" y="-216000"/>
              <a:ext cx="3164040" cy="1847880"/>
            </a:xfrm>
            <a:custGeom>
              <a:avLst/>
              <a:gdLst/>
              <a:ahLst/>
              <a:rect l="l" t="t" r="r" b="b"/>
              <a:pathLst>
                <a:path w="3163804" h="1847991">
                  <a:moveTo>
                    <a:pt x="3100742" y="1513490"/>
                  </a:moveTo>
                  <a:cubicBezTo>
                    <a:pt x="2957781" y="1637603"/>
                    <a:pt x="2864064" y="1528339"/>
                    <a:pt x="2743390" y="1471448"/>
                  </a:cubicBezTo>
                  <a:cubicBezTo>
                    <a:pt x="2591837" y="1598573"/>
                    <a:pt x="2383164" y="1419295"/>
                    <a:pt x="2365018" y="1271752"/>
                  </a:cubicBezTo>
                  <a:cubicBezTo>
                    <a:pt x="2021108" y="1571806"/>
                    <a:pt x="1599437" y="1479732"/>
                    <a:pt x="1419087" y="966952"/>
                  </a:cubicBezTo>
                  <a:cubicBezTo>
                    <a:pt x="1368630" y="1567332"/>
                    <a:pt x="1094377" y="1337421"/>
                    <a:pt x="1177349" y="924911"/>
                  </a:cubicBezTo>
                  <a:cubicBezTo>
                    <a:pt x="449749" y="1847991"/>
                    <a:pt x="0" y="659671"/>
                    <a:pt x="704383" y="998483"/>
                  </a:cubicBezTo>
                  <a:cubicBezTo>
                    <a:pt x="753527" y="603050"/>
                    <a:pt x="262949" y="690180"/>
                    <a:pt x="42232" y="536028"/>
                  </a:cubicBezTo>
                  <a:cubicBezTo>
                    <a:pt x="336125" y="309475"/>
                    <a:pt x="1277729" y="613126"/>
                    <a:pt x="1166839" y="346842"/>
                  </a:cubicBezTo>
                  <a:cubicBezTo>
                    <a:pt x="1049509" y="78851"/>
                    <a:pt x="1475142" y="115614"/>
                    <a:pt x="1629294" y="0"/>
                  </a:cubicBezTo>
                  <a:lnTo>
                    <a:pt x="3163804" y="42042"/>
                  </a:lnTo>
                  <a:lnTo>
                    <a:pt x="3090232" y="1460938"/>
                  </a:lnTo>
                  <a:cubicBezTo>
                    <a:pt x="3112819" y="1528700"/>
                    <a:pt x="3126919" y="1508331"/>
                    <a:pt x="3100742" y="15134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500040" y="85716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:\Школьные файлы\ПАПКА  ДЛЯ  СКАЧИВАНИЯ\Картинки для физкультминутки\65.gif"/>
          <p:cNvPicPr/>
          <p:nvPr/>
        </p:nvPicPr>
        <p:blipFill>
          <a:blip r:embed="rId2"/>
          <a:stretch/>
        </p:blipFill>
        <p:spPr>
          <a:xfrm>
            <a:off x="5929200" y="3857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Школьные файлы\ПАПКА  ДЛЯ  СКАЧИВАНИЯ\Картинки для физкультминутки\65.gif"/>
          <p:cNvPicPr/>
          <p:nvPr/>
        </p:nvPicPr>
        <p:blipFill>
          <a:blip r:embed="rId3"/>
          <a:stretch/>
        </p:blipFill>
        <p:spPr>
          <a:xfrm flipH="1">
            <a:off x="928800" y="378612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1880" y="571680"/>
            <a:ext cx="5857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77933c"/>
                </a:solidFill>
                <a:latin typeface="Arial"/>
              </a:rPr>
              <a:t>Б У Д Ь Т Е </a:t>
            </a:r>
            <a:br>
              <a:rPr sz="6600"/>
            </a:br>
            <a:r>
              <a:rPr b="1" lang="ru-RU" sz="6600" spc="-1" strike="noStrike">
                <a:solidFill>
                  <a:srgbClr val="77933c"/>
                </a:solidFill>
                <a:latin typeface="Arial"/>
              </a:rPr>
              <a:t>ЗДОРОВЫ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саж биологически активных точ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Уши». Мягко расправить и растянуть одноимённой рукой внешний край уха в направлении вверх наружу от верхней части к мочке 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Массаж пальцев ру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самый сильный, самый толстый и больш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для того, чтоб показывать 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самый длинный, он стоит посереди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альчик безымянный, он избалованный сам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изинчик хоть и мал, он и ловок, и у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терии урока с позиции здоровьесбере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66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мена видов учебной деятельности(4-7 вид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Средняя продолжительность различных видов учебной деятельности не более 1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оличество методов не менее трё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Использование разных форм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Наличие оздоровительных моментов на уроке(на 20-й минуте, по мере утомл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56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ушою красивы и очень добры,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алантом сильны Вы и сердцем щедры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се Ваши идеи, мечты о прекрасном,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и, затеи не будут напрасны!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 к детям дорогу сумели найти,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усть ждут Вас успехи на этом пу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оровьесберег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8138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оздание психологически комфортной обстановки во время учебного проце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2640" y="1928520"/>
            <a:ext cx="77151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Эмоционально – психологический настрой учителя 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едагогический та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Стиль поведения и общения учителя с учащими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425920" y="4352760"/>
            <a:ext cx="34070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804384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…Нужно уметь сказать так, чтобы они(ученики) в Вашем слове почувствовали Вашу волю, Вашу культуру, Вашу лич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2" descr=""/>
          <p:cNvPicPr/>
          <p:nvPr/>
        </p:nvPicPr>
        <p:blipFill>
          <a:blip r:embed="rId1"/>
          <a:stretch/>
        </p:blipFill>
        <p:spPr>
          <a:xfrm>
            <a:off x="420840" y="3919680"/>
            <a:ext cx="82724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вигательная актив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8160" cy="2946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0160"/>
                <a:gridCol w="1371600"/>
                <a:gridCol w="1371600"/>
              </a:tblGrid>
              <a:tr h="1465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жеднев-ный объём времени (часов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мнастика до учебных занятий (мин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культ-минутка на урок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-ные переме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-ный час  в группе продлён-ного д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70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культмину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542880" y="1262160"/>
            <a:ext cx="8236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жнения для снятия эмоционального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олеч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Ухо-но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улак-ребро-ладон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ис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жнения для предупреждения зрительной устал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6640"/>
            <a:ext cx="8228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«Солнышко». Мягкие движения носом по кругу с движением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«Морковка». Повороты головы вправо-влево, носом нарисовать морковку (сопровождается движением гл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«Буратино». Буратино рисует своим длинным любопытным носом            (сопровождается движением гл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«Ах, как долго мы писа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, как долго мы писали, глазки у ребят устали(поморгать глаз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те все в окно, (вправо-влев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, как солнце высоко(посмотреть ввер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глаза сейчас закроем(закрыть глаза ладошкам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лассе радугу построим, вверх по радуге пойдём, Вправо, влево повернём,а потом скатимся в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мурься сильно, но держ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Школьные файлы\ПАПКА  ДЛЯ  СКАЧИВАНИЯ\9381760.jpg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362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800" y="1643040"/>
            <a:ext cx="65721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ля  гла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57200" y="3714480"/>
            <a:ext cx="621360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27:42Z</dcterms:created>
  <dc:creator/>
  <dc:description/>
  <dc:language>en-US</dc:language>
  <cp:lastModifiedBy>павел</cp:lastModifiedBy>
  <dcterms:modified xsi:type="dcterms:W3CDTF">2011-10-29T21:33:33Z</dcterms:modified>
  <cp:revision>29</cp:revision>
  <dc:subject/>
  <dc:title>Слайд 1</dc:title>
</cp:coreProperties>
</file>