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E8597-BF0F-4678-B054-C68ACD8F0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FAB1F-0478-40DA-B8B9-EF7A7C70C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D5831-0F3C-412C-84D5-A771F2886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E057A-1A37-4D1B-B928-CA070E4F2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71A96A-3D3E-471B-B3A9-EC9FA11A5D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D0509-E237-4ADE-AD0B-2D4E59F8E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BCCE2-076C-47D9-864B-ADBD0BB32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6FE73-DBFA-4038-9331-E5EC8D42F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4CA0B-58EC-4C02-9AA4-02E374AEB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9E48F-7A49-453D-BFEB-35CDD32FF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775A1-C242-487A-B152-5E11BCF83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FE9CB-6CE5-4F6E-B967-F721BBB50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02688-7C67-473E-8EB3-31CE7F747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BEAC1-F0B9-4AD0-9603-E80AE646A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749A7-D45F-406F-8D93-664C90CAA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1F548-D942-4F7F-B8D3-2264632710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AC9C6C-582D-4B86-A862-05CB037F64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1A9CC-6368-43A1-971D-D590E8BDF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57E64-7379-483B-B69A-BDB9736E3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1B9D6-0DAF-4373-BB6A-60EA87EA2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5A733-F914-4490-88E0-5A23A1C00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BEFCD-2AB8-47C9-8004-F60154026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B7E0F-60B4-4128-BD1B-65A607888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2D116-65D1-4D9F-8836-230D5E757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1D01-15F8-4843-87CD-9DA320AECC0A}"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B3EE-D0EC-46AF-BFA9-57A5DED295CE}"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92280"/>
            <a:ext cx="7772400" cy="290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Композиция произведения.</a:t>
            </a:r>
            <a:endParaRPr b="0" lang="en-US" sz="4400" spc="-1" strike="noStrike">
              <a:solidFill>
                <a:srgbClr val="e5ffff"/>
              </a:solidFill>
              <a:latin typeface="Tahoma"/>
            </a:endParaRPr>
          </a:p>
        </p:txBody>
      </p:sp>
      <p:sp>
        <p:nvSpPr>
          <p:cNvPr id="108" name=""/>
          <p:cNvSpPr txBox="1"/>
          <p:nvPr/>
        </p:nvSpPr>
        <p:spPr>
          <a:xfrm>
            <a:off x="457200" y="1557000"/>
            <a:ext cx="8507520" cy="5040360"/>
          </a:xfrm>
          <a:prstGeom prst="rect">
            <a:avLst/>
          </a:prstGeom>
          <a:noFill/>
          <a:ln w="0">
            <a:noFill/>
          </a:ln>
        </p:spPr>
        <p:txBody>
          <a:bodyPr lIns="90000" rIns="90000" tIns="46800" bIns="46800" anchor="t">
            <a:normAutofit/>
          </a:bodyPr>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Написанная под влиянием 3 направлений, комедия «Горе от ума» существенно отличалась от ранее написанных произведений. В том числе это касается и композиции пьесы. Современники писателя рассматривали её прежде всего как классицистическую комедию. А классицизм, как известно, требует соблюдения нескольких его канонов.</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Основным отличием «Горе от ума» является сюжет. Традиционной для комедии классицизма была сюжетная схема, где на руку благородной девицы претендовали сразу 2 молодых человека, образы которых противопоставлены, причем один из них уверен в своем превосходстве, говорлив и насмешлив, а второй скромен и почтителен; его любит невеста, обладающая такими же качествами, и он в конце пьесы добивался ее руки. Сохранив эту схему, Грибоедов изменил трактовку характеров, оставив их характеристики. В его комедии соответственно противопоставлены Чацкий и Молчалин, который и пользуется успехом, причем основными его качествами остаются «умеренность и аккуратность».</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Сильно отступает от канонов классицизма и развитие сюжета. Странно, что завязка любовного конфликта происходит не в начале, а лишь в 7-9 явлениях (с приездом Чацкого), а первые явления - всего лишь подробное описание жизни Софьи и Фамусова, это подготавливает фон, на котором в скором времени разовьется конфликт. Кульминацией можно назвать последнее </a:t>
            </a:r>
            <a:r>
              <a:rPr b="0" lang="en-US" sz="1400" spc="-1" strike="noStrike">
                <a:solidFill>
                  <a:srgbClr val="ffffff"/>
                </a:solidFill>
                <a:latin typeface="Tahoma"/>
              </a:rPr>
              <a:t>IV </a:t>
            </a:r>
            <a:r>
              <a:rPr b="0" lang="ru-RU" sz="1400" spc="-1" strike="noStrike">
                <a:solidFill>
                  <a:srgbClr val="ffffff"/>
                </a:solidFill>
                <a:latin typeface="Tahoma"/>
              </a:rPr>
              <a:t>действие, в котором Чацкий «отрезвился сполна», ею же является и развязка любовной интриги.</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Однако важно заметить, что личный конфликт в комедии «Горе от ума» не единственный.</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3640" y="-3045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10" name="PlaceHolder 2"/>
          <p:cNvSpPr>
            <a:spLocks noGrp="1"/>
          </p:cNvSpPr>
          <p:nvPr>
            <p:ph/>
          </p:nvPr>
        </p:nvSpPr>
        <p:spPr>
          <a:xfrm>
            <a:off x="250560" y="260280"/>
            <a:ext cx="8435880" cy="5835600"/>
          </a:xfrm>
          <a:prstGeom prst="rect">
            <a:avLst/>
          </a:prstGeom>
          <a:noFill/>
          <a:ln w="0">
            <a:noFill/>
          </a:ln>
        </p:spPr>
        <p:txBody>
          <a:bodyPr lIns="90000" rIns="90000" tIns="46800" bIns="46800"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произведении он обретает двойственность, - происходит взаимодействие любовного и социального планов, в чем состоит своеобразие конфликта.</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Из-за необычной сюжетной схемы не соблюдаются и единства места, времени и действия, которые, как кажется вначале, соблюдаются. В самом деле, все действие происходит в доме Фамусова и в течение одних суток. Но иногда Грибоедов незаметно отодвигает хронологические рамки.(монологи Фамусова о его дядюшке Максиме Петровиче). А единства действия и не может быть, ведь оно разворачивается вокруг 2 сюжетных линий...</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Так же видимо и соблюдение систематизации персонажей.</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На первый взгляд в комедии четко прослеживается деление героев на положительных и отрицательных, но при более внимательном рассмотрении это деление исчезает. Фамусов, например, с одной стороны предстает безнравственным и низкообразованным, а с другой - он заботливый и любящий отец, а вначале симпатичен и Чацкому. «Софья начертана неясно». И даже приблизительно нельзя сказать положительный она герой или отрицательный. Да, она совершила низкий поступок, распуская слухи, но ведь она совершает это в защиту своей любви, а это говорит о том, что она способна любить, а это, несомненно, качество положительное. Вообще, при детальном рассмотрении образа Софьи, мы поймем, что ее выбор ее облагораживает, ведь она любит не подлеца Молчалина, а благородного бедного юношу, ради любви к которому готова на все.</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прочем, все образы многогранны, каждый по-своему интересен и заслуживает внимательного рассмотрения. Эта многогранность позволяет говорить о присутствии в комедии черт романтизма. Чацкий, в частности - типичный романтический герой -одиночка, противостоящий всему свету, а в данном случае «всей братии отцов и старших». Конечно, у Чацкого есть союзники, но их нет на сцене. На сцене Чацкий одинок. Несчастная любовь, изгнание - вс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3168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12" name="PlaceHolder 2"/>
          <p:cNvSpPr>
            <a:spLocks noGrp="1"/>
          </p:cNvSpPr>
          <p:nvPr>
            <p:ph/>
          </p:nvPr>
        </p:nvSpPr>
        <p:spPr>
          <a:xfrm>
            <a:off x="250560" y="260280"/>
            <a:ext cx="8435880" cy="583560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это удел романтического героя. Спасаясь от воспоминаний, Чацкий пускается в странствие с «мильоном терзаний» в душе.</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акже, подобно романтическому произведению, здесь есть и сильные чувства, и личная драма, и душевные переживания...</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так, мы видим, что и главные герои, и система персонажей, и построение сюжета, и даже видимое соблюдение 3 единств - все отступает от классицистистических канонов. Необходимо помнить, что комедия была написана в </a:t>
            </a:r>
            <a:r>
              <a:rPr b="0" lang="en-US" sz="2400" spc="-1" strike="noStrike">
                <a:solidFill>
                  <a:srgbClr val="ffffff"/>
                </a:solidFill>
                <a:latin typeface="Tahoma"/>
              </a:rPr>
              <a:t>XIX </a:t>
            </a:r>
            <a:r>
              <a:rPr b="0" lang="ru-RU" sz="2400" spc="-1" strike="noStrike">
                <a:solidFill>
                  <a:srgbClr val="ffffff"/>
                </a:solidFill>
                <a:latin typeface="Tahoma"/>
              </a:rPr>
              <a:t>веке (1824), когда классицизм постепенно отходил на второй план, романтизм был в самом расцвете, и только зарождался реализм... Комедия «Горе от ума» была написана на стыке 3 литературных эпох, в этом ее своеобразие, в этом ее отличие, в этом ее бессмертие...</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Век нынешний» и «век минувший» в комедии «Горе от ума».</a:t>
            </a:r>
            <a:endParaRPr b="0" lang="en-US" sz="4000" spc="-1" strike="noStrike">
              <a:solidFill>
                <a:srgbClr val="e5ffff"/>
              </a:solidFill>
              <a:latin typeface="Tahoma"/>
            </a:endParaRPr>
          </a:p>
        </p:txBody>
      </p:sp>
      <p:sp>
        <p:nvSpPr>
          <p:cNvPr id="114" name="PlaceHolder 2"/>
          <p:cNvSpPr>
            <a:spLocks noGrp="1"/>
          </p:cNvSpPr>
          <p:nvPr>
            <p:ph/>
          </p:nvPr>
        </p:nvSpPr>
        <p:spPr>
          <a:xfrm>
            <a:off x="0" y="1341360"/>
            <a:ext cx="8686800" cy="511344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Горе от ума» одно из самых злободневных произведений русской драматургии. Проблемы, поставленные в комедии продолжали волновать русскую общественную мысль и литературу много лет спустя после появления ее на свет.</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Горе от ума» - плод патриотических раздумий Грибоедова о судьбе России, о путях обновления, переустройства ее жизни. С этой точки зрения и освещены в комедии важнейшие политические, моральные и культурные проблемы эпохи.</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держание комедии раскрывается как столкновение и смена двух эпох русской жизни - века «нынешнего» и века «минувшего». Границей между ними, на мой взгляд, является война 1812 года - пожар Москвы, разгром Наполеона, возвращение армии из заграничных походов. После Отечественной войны в русском обществе сложились два общественных лагеря. Это лагерь феодальной реакции в лице Фамусова, Скалозуба и других, и лагеря передовой дворянской молодежи в лице Чацкого. В комедии ясно показано, что столкновение веков было выражением борьбы этих двух лагерей.</a:t>
            </a:r>
            <a:endParaRPr b="0" lang="en-US" sz="2000" spc="-1" strike="noStrike">
              <a:solidFill>
                <a:srgbClr val="ffffff"/>
              </a:solidFill>
              <a:latin typeface="Tahoma"/>
            </a:endParaRPr>
          </a:p>
        </p:txBody>
      </p:sp>
      <p:sp>
        <p:nvSpPr>
          <p:cNvPr id="115" name=""/>
          <p:cNvSpPr/>
          <p:nvPr/>
        </p:nvSpPr>
        <p:spPr>
          <a:xfrm>
            <a:off x="4479840" y="32446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293760"/>
            <a:ext cx="7643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17" name="PlaceHolder 2"/>
          <p:cNvSpPr>
            <a:spLocks noGrp="1"/>
          </p:cNvSpPr>
          <p:nvPr>
            <p:ph/>
          </p:nvPr>
        </p:nvSpPr>
        <p:spPr>
          <a:xfrm>
            <a:off x="324000" y="404280"/>
            <a:ext cx="8362800" cy="6193080"/>
          </a:xfrm>
          <a:prstGeom prst="rect">
            <a:avLst/>
          </a:prstGeom>
          <a:noFill/>
          <a:ln w="0">
            <a:noFill/>
          </a:ln>
        </p:spPr>
        <p:txBody>
          <a:bodyPr lIns="90000" rIns="90000" tIns="46800" bIns="46800" anchor="t">
            <a:normAutofit fontScale="99000"/>
          </a:bodyPr>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восторженных рассказах Фамусова и обличительных речах Чацкого автор создает образ 18-го, «минувшего» века. Век «минувший» и является идеалом фамусовского общества, ведь Фамусов - убежденный крепостник. Он готов из - за любого пустяка сослать в Сибирь своих крестьян, ненавидит просвещение, пресмыкается перед начальством, выслуживаясь как может для получения нового чина. Он преклоняется перед дядей, который «на </a:t>
            </a:r>
            <a:r>
              <a:rPr b="0" lang="ru-RU" sz="2000" spc="-1" strike="noStrike">
                <a:solidFill>
                  <a:srgbClr val="ffffff"/>
                </a:solidFill>
                <a:latin typeface="Tahoma"/>
              </a:rPr>
              <a:t>золоте едал», служил при дворе</a:t>
            </a:r>
            <a:r>
              <a:rPr b="0" lang="ru-RU" sz="2000" spc="-1" strike="noStrike">
                <a:solidFill>
                  <a:srgbClr val="ffffff"/>
                </a:solidFill>
                <a:latin typeface="Tahoma"/>
              </a:rPr>
              <a:t> самой Екатерины, ходил «весь в орденах». Разумеется, что свои многочисленные чины и награды он получил не верной службой отечеству, а выслуживаясь перед императрицей. И этой гнусности он старательно учит молодежь:</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Вот то-то, все вы гордецы! Спросили бы, как делали отцы? Учились бы, на старших глядя. Фамусов хвастается  как собственным полупросвещением, так и всего сословия, к которому он принадлежит; хвастая тем, что московские девицы «верхние выводят нотки»; что дверь у него отперта для всех, как званых, так и незваных, «особенно из иностранных».</a:t>
            </a:r>
            <a:endParaRPr b="0" lang="en-US" sz="2000" spc="-1" strike="noStrike">
              <a:solidFill>
                <a:srgbClr val="ffffff"/>
              </a:solidFill>
              <a:latin typeface="Tahoma"/>
            </a:endParaRPr>
          </a:p>
        </p:txBody>
      </p:sp>
      <p:sp>
        <p:nvSpPr>
          <p:cNvPr id="118" name=""/>
          <p:cNvSpPr/>
          <p:nvPr/>
        </p:nvSpPr>
        <p:spPr>
          <a:xfrm>
            <a:off x="9144000" y="2602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3565440" y="692280"/>
            <a:ext cx="864216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0" y="-77400"/>
            <a:ext cx="9144000" cy="6954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   следующей   «оде»   Фамусова   -   хвала   барству,   гимн раболепной и корыстной Москве:</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от например, у нас уж исстари ведется, Что по отцу и сыну честь: Будь плохонький, да если наберется Душ тысячки две родовых - тот и жених! Приезд Чацкого встревожил Фамусова: от него жди только неприятностей.   Фамусов   обращается   к   календарю.   Это   для   него священнодействие.  Принявшись за перечисление грядущих дел,  он приходит в благодушное настроение. В самом деле, предстоит обед с форелями,   погребение   богатого   и  почтенного   Кузьмы  Петровича, крестины у докторши. Вот она, жизнь русского дворянства: сон, еда, развлечения, опять еда и снова сон.</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Рядом с Фамусовым в комедии стоит Скалозуб - «и золотой мешок и метит в генералы» Полковник Скалозуб типичный представитель аракчеевской армейской среды. На первый взгляд, его образ карикатурен. Но это не так: исторически он вполне правдив. Как и Фамусов, полковник руководствуется в своей жизни философией и идеалами века «минувшего», но в более грубой форме. Цель своей жизни он видит не в службе отечеству, а в достижении чинов и наград,</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оторые для военного, по его мнению, более доступн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Довольно счастлив я в товарищах моих,</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акансии как раз открыт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о старых выключат иных,</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Другие, смотришь, перебит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386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22" name="PlaceHolder 2"/>
          <p:cNvSpPr>
            <a:spLocks noGrp="1"/>
          </p:cNvSpPr>
          <p:nvPr>
            <p:ph/>
          </p:nvPr>
        </p:nvSpPr>
        <p:spPr>
          <a:xfrm>
            <a:off x="457200" y="-360"/>
            <a:ext cx="8229600" cy="609588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ацкий характеризует Скалозуба так:</a:t>
            </a:r>
            <a:endParaRPr b="0" lang="en-US" sz="2000" spc="-1" strike="noStrike">
              <a:solidFill>
                <a:srgbClr val="ffffff"/>
              </a:solidFill>
              <a:latin typeface="Tahoma"/>
            </a:endParaRPr>
          </a:p>
          <a:p>
            <a:pPr marL="318960" indent="-3189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Хрипун, удавленник, фагот, Созвездие маневров и мазурки. Свою карьеру Скалозуб начал делать с того момента, когда герои   1812  года  стали  заменяться  тупыми  и  рабски  преданными самодержавию солдафонами во главе с Аракчеевым.</a:t>
            </a:r>
            <a:endParaRPr b="0" lang="en-US" sz="2000" spc="-1" strike="noStrike">
              <a:solidFill>
                <a:srgbClr val="ffffff"/>
              </a:solidFill>
              <a:latin typeface="Tahoma"/>
            </a:endParaRPr>
          </a:p>
          <a:p>
            <a:pPr marL="318960" indent="-3189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 мой взгляд, Фамусову и Скалозубу в описании барской Москвы принадлежит первое место. Люди Фамусовского круга -эгоисты и корыстолюбцы. Все свое время они проводят в светских развлечениях, пошлых интригах и глупых сплетнях. Это особое общество имеет свою идеологию, свой быт, взгляды на жизнь. Они уверены, что нет другого идеала, кроме богатства, власти и всеобщего уважения. «Ведь только здесь еще и дорожат дворянством», - говорит Фамусов о барской Москве. Грибоедов разоблачает реакционность крепостнического общества и этим показывает, куда ведет Россию господство Фамусовых.</a:t>
            </a:r>
            <a:endParaRPr b="0" lang="en-US" sz="2000" spc="-1" strike="noStrike">
              <a:solidFill>
                <a:srgbClr val="ffffff"/>
              </a:solidFill>
              <a:latin typeface="Tahoma"/>
            </a:endParaRPr>
          </a:p>
          <a:p>
            <a:pPr marL="318960" indent="-3189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вои разоблачения, он вкладывает в монологи Чацкого, который обладает острым умом, быстро определяет суть предмета. Для друзей и для врагов, Чацкий был не просто умным, а «вольнодумцем», принадлежащим к передовому кругу людей. Думы, волновавшие его, тревожили умы всей прогрессивной молодежи того времени. В Петербург Чацкий попадает тогда, когда том зарождается движение «либералистов». В этой обстановке, по - моему складываются взгляды и стремления Чацкого. Он хорошо знает литературу.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10920" y="-304560"/>
            <a:ext cx="8002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24" name="PlaceHolder 2"/>
          <p:cNvSpPr>
            <a:spLocks noGrp="1"/>
          </p:cNvSpPr>
          <p:nvPr>
            <p:ph/>
          </p:nvPr>
        </p:nvSpPr>
        <p:spPr>
          <a:xfrm>
            <a:off x="324000" y="260280"/>
            <a:ext cx="8362800" cy="58356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о Фамусова дошли слухи, что Чацкий «славно пишет, переводит». Такое  увлечение литературой было характерно для свободомыслящей дворянской молодежи. Вместе с тем Чацкого увлекает и общественная деятельность: мы узнаем про его связь с министрами. Полагаю, он успел побывать даже в деревне, ведь Фамусов утверждает, что он там «наблажил». Можно предположить, что эта блажь означала хорошее отношение к крестьянам, возможно, кое - какие хозяйственные реформы. Эти высокие стремления Чацкого являются выражением его патриотических чувств, вражды к барским нравам и крепостному праву в целом. Думаю, не ошибусь, предположив, что Грибоедов впервые в русской литературе раскрыл национально - исторические истоки русского освободительного движения 2 Ох годов 19 века, обстоятельства формирования декабризма. Именно декабристское понимание чести и долга, общественной роли человека противопоставлены рабской морали Фамусовых. «Служить бы рад, прислуживаться тошно», - заявляет Чацкий подобно Грибоедову.</a:t>
            </a:r>
            <a:endParaRPr b="0" lang="en-US" sz="2000" spc="-1" strike="noStrike">
              <a:solidFill>
                <a:srgbClr val="ffffff"/>
              </a:solidFill>
              <a:latin typeface="Tahoma"/>
            </a:endParaRPr>
          </a:p>
          <a:p>
            <a:pPr marL="318960" indent="-3189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ак же, как и Грибоедов, Чацкий является гуманистом, защищает свободы и независимость личности. Крепостническую основу он резко разоблачает в гневной речи «о судьях». Здесь Чацкий обличает ненавистный ему крепостной строй. Он высоко оценивает русский народ, говорит о его уме, свободолюбии, и это, на мой взгляд, тоже перекликается с идеологией декабристов.</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00000" y="-386640"/>
            <a:ext cx="7786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2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не кажется, что в комедии есть идея самостоятельности русского народа. Низкопоклонство перед всем иностранным, французское воспитание, обычное для дворянской среды, вызывают резкий протест Чацкого:</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 одаль воссылал желанья</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миренные, однако вслух,</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тоб истребил господь нечистый этот дух</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устого, рабского, слепого подражанья;</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тоб искру заронил он в ком - нибудь с душой;</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то мог бы словом и примером</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с удержать как крепкою вожжой, От жалкой тошноты по стороне чужой.</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чевидно, что Чацкий в комедии не одинок. Он выступает от имени всего поколения. Возникает закономерный вопрос: кого же имел в виду герой под словом «мы»? Вероятно, молодое поколение, идущее другим путем. То, что Чацкий не одинок в своих взглядах, понимает и Фамусов. «Нынче пуще, чем когда, безумных развелось людей, и дел, и мнений!» - восклицает он. У Чацкого преобладает оптимистическое представление о характере современной ему жизни. Он верит в наступление новой эры. Чацкий с удовлетворением говорит Фамусову:</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ак посравнить да посмотреть</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ек нынешний и век минувший:</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вежо предание, а верится с трудом.</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3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28" name="PlaceHolder 2"/>
          <p:cNvSpPr>
            <a:spLocks noGrp="1"/>
          </p:cNvSpPr>
          <p:nvPr>
            <p:ph/>
          </p:nvPr>
        </p:nvSpPr>
        <p:spPr>
          <a:xfrm>
            <a:off x="457200" y="691920"/>
            <a:ext cx="8229600" cy="6165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Еще совсем недавно «прямой был век покорности и страха». Нынче пробуждается чувство личного достоинства. Не все хотят прислуживаться, не каждый ищет покровителей. Возникает общественное мнение. Чацкому кажется, что наступило время, когда можно изменить и исправить сложившиеся крепостнические порядки путем развития передового общественного мнения, появления новых гуманных идей. Борьба против Фамусовых в комедии не завершилась, потому что и в реальной действительности она только началась. Декабристы и Чацкий были представителями первого этапа русского освободительного движения. Очень верно заметил Гончаров: «Чацкий неизбежен при смене одного века другим. Чацкие живут и не переводятся в русском обществе, где длится борьба свежего с отжившим, больного со здоровым»</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15640" y="333000"/>
            <a:ext cx="7792920" cy="112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Биография А.С. Грибоедова.</a:t>
            </a:r>
            <a:endParaRPr b="0" lang="en-US" sz="4400" spc="-1" strike="noStrike">
              <a:solidFill>
                <a:srgbClr val="e5ffff"/>
              </a:solidFill>
              <a:latin typeface="Tahoma"/>
            </a:endParaRPr>
          </a:p>
        </p:txBody>
      </p:sp>
      <p:sp>
        <p:nvSpPr>
          <p:cNvPr id="86" name="PlaceHolder 2"/>
          <p:cNvSpPr>
            <a:spLocks noGrp="1"/>
          </p:cNvSpPr>
          <p:nvPr>
            <p:ph/>
          </p:nvPr>
        </p:nvSpPr>
        <p:spPr>
          <a:xfrm>
            <a:off x="3059280" y="1773360"/>
            <a:ext cx="5905440" cy="4968720"/>
          </a:xfrm>
          <a:prstGeom prst="rect">
            <a:avLst/>
          </a:prstGeom>
          <a:noFill/>
          <a:ln w="0">
            <a:noFill/>
          </a:ln>
        </p:spPr>
        <p:txBody>
          <a:bodyPr lIns="90000" rIns="90000" tIns="46800" bIns="46800"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Грибоедов родился в Москве в 1795 году 15 января( по старому стилю 4 января) обеспеченной родовитой семье. Отец — Сергей Иванович Грибоедов (1761—1814).</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о свидетельству родственников, в детстве Грибоедов был очень сосредоточен и необыкновенно развит.</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 1802 году Грибоедов был отдан в Благородный пансион. А через три года, одиннадцатилетним мальчиком, он поступил в университет. Александр Сергеевич окончил словесное отделение философского факультета Московского университета. Грибоедов был «вундеркиндом», окончившим университет в 15 лет.</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 1808 году получил звание кандидата словесных наук, но не оставил учёбу, а поступил на этико-юридическое отделение, а потом на физико-математический факультет.</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Летом 1812 г., во время Отечественной войны 1812 года, когда неприятель приблизился к границе России, Грибоедов вступил в Московский гусарский полк </a:t>
            </a:r>
            <a:endParaRPr b="0" lang="en-US" sz="1600" spc="-1" strike="noStrike">
              <a:solidFill>
                <a:srgbClr val="ffffff"/>
              </a:solidFill>
              <a:latin typeface="Tahoma"/>
            </a:endParaRPr>
          </a:p>
        </p:txBody>
      </p:sp>
      <p:pic>
        <p:nvPicPr>
          <p:cNvPr id="87" name="" descr=""/>
          <p:cNvPicPr/>
          <p:nvPr/>
        </p:nvPicPr>
        <p:blipFill>
          <a:blip r:embed="rId2"/>
          <a:stretch/>
        </p:blipFill>
        <p:spPr>
          <a:xfrm>
            <a:off x="0" y="1557360"/>
            <a:ext cx="2857680" cy="3809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Образ Чацкого.</a:t>
            </a:r>
            <a:endParaRPr b="0" lang="en-US" sz="4400" spc="-1" strike="noStrike">
              <a:solidFill>
                <a:srgbClr val="e5ffff"/>
              </a:solidFill>
              <a:latin typeface="Tahoma"/>
            </a:endParaRPr>
          </a:p>
        </p:txBody>
      </p:sp>
      <p:sp>
        <p:nvSpPr>
          <p:cNvPr id="130" name="PlaceHolder 2"/>
          <p:cNvSpPr>
            <a:spLocks noGrp="1"/>
          </p:cNvSpPr>
          <p:nvPr>
            <p:ph/>
          </p:nvPr>
        </p:nvSpPr>
        <p:spPr>
          <a:xfrm>
            <a:off x="3924000" y="1412640"/>
            <a:ext cx="5219640" cy="5445000"/>
          </a:xfrm>
          <a:prstGeom prst="rect">
            <a:avLst/>
          </a:prstGeom>
          <a:noFill/>
          <a:ln w="0">
            <a:noFill/>
          </a:ln>
        </p:spPr>
        <p:txBody>
          <a:bodyPr lIns="90000" rIns="90000" tIns="46800" bIns="46800"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Фигура Чацкого определяет конфликт комедии, обе ее сюжетные линии. Пьеса писалась в те времена (1816-1824 гг.), когда молодые люди типа Чацкого несли в общество новые идеи, настроения. В монологах и репликах Чацкого, во всех его поступках выразилось то, что важнее всего было и для будущих декабристов: дух вольности, свободной жизни, ощущение, что «вольнее всяких дышит». Свобода личности — вот мотив времени и комедии Грибоедова. И свобода от обветшалых представлений о любви, браке, чести, службе, смысле жизни. Чацкий и его единомышленники стремятся к «искусствам творческим, высоким и прекрасным», мечтают «в науки вперить ум, алчущий познаний», жаждут «возвышенной любви, перед которой мир целый… — прах и суета». Всех людей они хотели бы видеть свободными и равными. Стремление Чацкого — служить отечеству, «делу, а не людям». </a:t>
            </a:r>
            <a:endParaRPr b="0" lang="en-US" sz="1600" spc="-1" strike="noStrike">
              <a:solidFill>
                <a:srgbClr val="ffffff"/>
              </a:solidFill>
              <a:latin typeface="Tahoma"/>
            </a:endParaRPr>
          </a:p>
        </p:txBody>
      </p:sp>
      <p:pic>
        <p:nvPicPr>
          <p:cNvPr id="131" name="" descr=""/>
          <p:cNvPicPr/>
          <p:nvPr/>
        </p:nvPicPr>
        <p:blipFill>
          <a:blip r:embed="rId2"/>
          <a:stretch/>
        </p:blipFill>
        <p:spPr>
          <a:xfrm>
            <a:off x="179280" y="1413000"/>
            <a:ext cx="2880000" cy="4176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16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33"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Он ненавидит все прошлое, в том числе рабское преклонение перед всем иностранным, угодничество, низкопоклонство. И что же видит он вокруг? Массу людей, которые ищут лишь чинов, крестов, «денег, чтоб пожить», не любви, а выгодной женитьбы. Их идеал — «умеренность и аккуратность», их мечта — «забрать все книги бы да сжечь». Итак, в центре комедии — конфликт между «одним здравомыслящим человеком» (оценка Грибоедова) и консервативным большинством. Как и всегда в драматическом произведении, суть характера главного героя раскрывается прежде всего в сюжете. Грибоедов, верный жизненной правде, показал тяжкую участь молодого прогрессивного человека в этом обществе. Окружение мстит Чацкому за правду, которая глаза колет, за попытку нарушить привычный уклад жизни. Любимая девушка, отворачиваясь от него, ранит героя больше всего, распуская сплетню о его сумасшествии. Вот парадокс: единственный здравомыслящий человек объявлен безумцем! «Так! Отрезвился я сполна!»— восклицает Чацкий в конце пьесы. Что же это — поражение или прозрение? Конечно, Грибоедову, может быть, впервые в русской литературе удалось создать действительно реалистический образ положительного героя. Чацкий близок к нам потому, что он написан не как безупречный, «железный» борец за истину и благо, долг и честь — таких героев мы встречаем в произведениях классицистов. Нет, он человек, и ничто человеческое ему не чуждо. «Ум с сердцем не в ладу»,— говорит герой сам о себе. Пылкость его натуры, которая часто мешает сохранить душевное равновесие и хладнокровие, способность влюбляться безоглядно, это не дает ему видеть недостатки возлюбленной, поверить в ее любовь к другому — это такие естественные черты!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0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3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А юмор Чацкого, его остроты — как они привлекательны. Все это и придает такую жизненность, теплоту этому образу, заставляет нас сопереживать герою. И еще… Написав о своем современнике, отразив в комедии, как мы уже показали, проблемы своего времени, Грибоедов создал в то же время образ непреходящего значения.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Образ Молчалина в комедии </a:t>
            </a:r>
            <a:br>
              <a:rPr sz="4000"/>
            </a:br>
            <a:r>
              <a:rPr b="1" lang="en-US" sz="4000" spc="-1" strike="noStrike">
                <a:solidFill>
                  <a:srgbClr val="e5ffff"/>
                </a:solidFill>
                <a:latin typeface="Tahoma"/>
              </a:rPr>
              <a:t>А. С. Грибоедова «Горе от ума»</a:t>
            </a:r>
            <a:br>
              <a:rPr sz="4000"/>
            </a:br>
            <a:endParaRPr b="0" lang="en-US" sz="4000" spc="-1" strike="noStrike">
              <a:solidFill>
                <a:srgbClr val="e5ffff"/>
              </a:solidFill>
              <a:latin typeface="Tahoma"/>
            </a:endParaRPr>
          </a:p>
        </p:txBody>
      </p:sp>
      <p:sp>
        <p:nvSpPr>
          <p:cNvPr id="137" name="PlaceHolder 2"/>
          <p:cNvSpPr>
            <a:spLocks noGrp="1"/>
          </p:cNvSpPr>
          <p:nvPr>
            <p:ph/>
          </p:nvPr>
        </p:nvSpPr>
        <p:spPr>
          <a:xfrm>
            <a:off x="0" y="1599840"/>
            <a:ext cx="9144000" cy="542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о многих произведениях авторы вводят в действие так называемых антигероев. Они отличаются тем, что контрастируют с остальными, теми, кому мы симпатизируем, вызывая, напротив, неприязнь. Особенно часто антигерои присутствуют в драматических произведениях, и хорошую пьесу трудно без них представить. Традиции создания отрицательных персонажей заложил Д.И. Фонвизин. Они в «Недоросле» представлены необразованными и грубыми. Грибоедов, создавая своего антигероя – Молчалина – поступил иначе, однако «отрицательность» от этого не уменьшилась, скорее, был взят другой её аспект.</a:t>
            </a:r>
            <a:br>
              <a:rPr sz="1400"/>
            </a:b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Так кто же такой Молчалин? Этот персонаж, на самом деле, довольно умён в бытовом плане. Это поощряет Фамусов, правда, ставя в пример не Молчалина, а своего дядю, Максима Петровича: «А? как по-вашему? По-нашему – смышлён.» Как известно, авторское отношение к какой-либо проблеме или персонажу передаётся через слова героев или непосредственно через слова автора. Но в пьесе второй вариант всегда «вычёркивается», поэтому, рассмотрев мнение Фамусова, надо обратить внимание именно на реплики других основных действующих лиц – Лизы, Софьи и, конечно, Чацкого. Лиза не даёт чёткого определённого портрета Молчалина, игнорируя фамусовского секретаря и лишь иногда говоря с ним и стараясь помочь Софье в любовных делах. При этом Лиза чуть опасается Молчалина, но скорее не сама, а предостерегая Софью. Чацкий считает Молчалина глупцом («Молчалин прежде был так глуп!.. Уж разве поумнел?»), однако не отрицает его замечательной приспособляемости к ситуации: «Не худо, чтоб при них услужник знаменитый тут был как громовой отвод. Молчалин! – Кто другой так мирно всё уладит!» Софья близка Чацкому в оценке Молчалина, тоже отмечая его способность приспосабливаться и в то же время покладистость: «…уступчив, скромен, тих…», кроме того, она, сама того не подозревая, становится жертвой молчалинского «таланта», когда он делает вид, что Софья для него что-то значит. Молчалин, в свою очередь, открывается Лизе: «Её [Софью] по должности [люблю]»), а Софья, тем не менее, принимает всё за чистую монету.</a:t>
            </a:r>
            <a:br>
              <a:rPr sz="1400"/>
            </a:br>
            <a:br>
              <a:rPr sz="1400"/>
            </a:br>
            <a:r>
              <a:rPr b="0" lang="ru-RU"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16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39" name="PlaceHolder 2"/>
          <p:cNvSpPr>
            <a:spLocks noGrp="1"/>
          </p:cNvSpPr>
          <p:nvPr>
            <p:ph/>
          </p:nvPr>
        </p:nvSpPr>
        <p:spPr>
          <a:xfrm>
            <a:off x="323640" y="404280"/>
            <a:ext cx="8569080" cy="626436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сли говорить о «Молчалине в действии», то вся его политика сводится к формуле, которую он высказал Лизе: «Мне завещал отец: во-первых, угождать всем людям без изъятья; хозяину, где доведётся жить, начальнику, с кем буду я служить, слуге его, который чистит платья, швейцару, дворнику, во избежанье зла, собаке дворника, чтоб ласкова была». Это выражается во всём: как в поведении с Фамусовым и Софьей, так и на балу, где, по сути, присутствуют люди, едва ли имеющие к нему отношение. Это подмечает Чацкий, с которым у них состоялся довольно длинный диалог. Но тут вся политика Молчалина терпит бедствие – Чацкий не из тех, кто даёт понять, что он хочет, он против философии Молчалина и откровенно «идёт в наступление» против него лично и его идей. Молчалин, в свою очередь, не понимает, как можно не мыслить на том же уровне, что и он (например, Чацкий не знает тех, перед кем должно пресмыкаться в первую очередь («Татьяна Юрьевна рассказывала что-то… - Ей почему забота? – Татьяне Юрьевне! – Я с нею незнаком. – С Татьяной Юрьевной!!»)). В этом, как и в вышеописанном разговоре с</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412200"/>
            <a:ext cx="8075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4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Лизой мы видим «настоящего» Молчалина.</a:t>
            </a:r>
            <a:br>
              <a:rPr sz="2400"/>
            </a:br>
            <a:r>
              <a:rPr b="0" lang="en-US" sz="2400" spc="-1" strike="noStrike">
                <a:solidFill>
                  <a:srgbClr val="ffffff"/>
                </a:solidFill>
                <a:latin typeface="Tahoma"/>
              </a:rPr>
              <a:t>Но несмотря на всё это, Молчалин явно не вызывает смеха. В чём же его человеческая драма? Во-первых, один Молчалин представляет целое «племя» таких, как он, готовых «падать ниц» перед всеми. Во-вторых, он даже в некоторой степени вызывает жалость, так как не умеет жить иначе, не располагает какими-то духовными ценностями, да и вообще не обладает чертами полноценной личности (яркий пример из разговора с Чацким: «В мои лета недолжно сметь своё суждение иметь»). Мы можем на основании этого задаться вопросом: страшен или жалок этот человек?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4000" y="-351720"/>
            <a:ext cx="8002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4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Лизой мы видим «настоящего» Молчалина.</a:t>
            </a:r>
            <a:br>
              <a:rPr sz="2000"/>
            </a:br>
            <a:r>
              <a:rPr b="0" lang="ru-RU" sz="2000" spc="-1" strike="noStrike">
                <a:solidFill>
                  <a:srgbClr val="ffffff"/>
                </a:solidFill>
                <a:latin typeface="Tahoma"/>
              </a:rPr>
              <a:t>Но несмотря на всё это, Молчалин явно не вызывает смеха. В чём же его человеческая драма? Во-первых, один Молчалин представляет целое «племя» таких, как он, готовых «падать ниц» перед всеми. Во-вторых, он даже в некоторой степени вызывает жалость, так как не умеет жить иначе, не располагает какими-то духовными ценностями, да и вообще не обладает чертами полноценной личности (яркий пример из разговора с Чацким: «В мои лета недолжно сметь своё суждение иметь»). Мы можем на основании этого задаться вопросом: страшен или жалок этот человек?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езусловно, как личность – жалок. Он всегда останется таким. Но из первого утверждения вытекает, что таких людей масса («Молчалины блаженствуют на свете»), и все они живут, обладая при своем низком духовном и интеллектуальном уровне всем необходимым и даже чуть более этого. Им, «Молчалиным» противостоят непримиримые, непоколебимые «Чацкие», и борьба между ними, пример которой мы увидели в произведении, далеко не окончена.</a:t>
            </a:r>
            <a:br>
              <a:rPr sz="2000"/>
            </a:br>
            <a:r>
              <a:rPr b="0" lang="ru-RU" sz="2000" spc="-1" strike="noStrike">
                <a:solidFill>
                  <a:srgbClr val="ffffff"/>
                </a:solidFill>
                <a:latin typeface="Tahoma"/>
              </a:rPr>
              <a:t>Подводя итоги, вернёмся к начальному тезису: антигерой ли Молчалин? Безусловно. Но новый антигерой, не такой, какие создавались раньше. Менее заметный и влиятельный, но тем не менее страшный в своём множестве, похожий на бактерию, которая сама по себе не так опасна, но при большой концентрации может вызвать серьёзную болезнь. Молчалин крайне важен, прежде всего, как один из серьёзнейших «противовесов» Чацкому и как необходимая часть фамусовского обществ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Образ Софьи.</a:t>
            </a:r>
            <a:endParaRPr b="0" lang="en-US" sz="4400" spc="-1" strike="noStrike">
              <a:solidFill>
                <a:srgbClr val="e5ffff"/>
              </a:solidFill>
              <a:latin typeface="Tahoma"/>
            </a:endParaRPr>
          </a:p>
        </p:txBody>
      </p:sp>
      <p:sp>
        <p:nvSpPr>
          <p:cNvPr id="14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динственный персонаж, задуманный и исполненный в комедии «Горе от ума» как близкий Чацкому, — это Софья Павловна Фамусова. Грибоедов писал о ней: «Девушка сама не глупая предпочитает дурака умному человеку...» В изображении характера Софьи Грибоедов отказался от сатиры и фарса. Он представил женский характер большой силы и глубины. Софье довольно долго «не везло» в критике. Даже Пушкин считал этот образ неудачей автора; «Софья начертана неясно». И только Гончаров в статье «Мильон терзаний» в 1878 году впервые Единственный персонаж, задуманный и исполненный в комедии «Горе от ума» как близкий Чацкому, — это Софья Павловна Фамусова. Грибоедов писал о ней: «Девушка сама не глупая предпочитает дурака умному человеку…» В изображении характера Софьи Грибоедов отказался от сатиры и фарса. Он представил женский характер большой силы и глубины. Софье довольно долго «не везло» в критике. Даже Пушкин считал этот образ неудачей автора; «Софья начертана неясно». И только Гончаров в статье «Мильон терзаний» в 1878 году впервые оценил по достоинству этот персонаж и его роль в пьесе.</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86640"/>
            <a:ext cx="8147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47" name="PlaceHolder 2"/>
          <p:cNvSpPr>
            <a:spLocks noGrp="1"/>
          </p:cNvSpPr>
          <p:nvPr>
            <p:ph/>
          </p:nvPr>
        </p:nvSpPr>
        <p:spPr>
          <a:xfrm>
            <a:off x="250560" y="765000"/>
            <a:ext cx="8435880" cy="533088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Софья — лицо драматическое, она персонаж бытовой драмы, а не социальной комедии. Она, так же как и Чацкий, натура страстная, живущая сильным и настоящим чувством. И пусть предмет ее страсти убог и жалок — это не делает ситуацию смешной, напротив, углубляет ее драматизм. В лучших спектаклях актрисы в роли Софьи играют любовь. Это в ней самое главное, это формирует линию ее поведения. Мир для нее поделен надвое: Молчалин и все остальные. Когда рядом нет избранника — все мысли только о скорой встрече. В Софье воплотилась сила первого чувства, но в то же время любовь ее нерадостна и несвободна. Девушка прекрасно отдает себе отчет в том, что избранник никогда не будет принят ее отцом. Мысль об этом омрачает жизнь, Софья уже внутренне готова к борьбе.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6170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4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2400" spc="-1" strike="noStrike">
                <a:solidFill>
                  <a:srgbClr val="ffffff"/>
                </a:solidFill>
                <a:latin typeface="Tahoma"/>
              </a:rPr>
              <a:t>Чувства настолько переполняют душу, что она исповедуется в своей любви, казалось бы, совершенно случайным людям: сначала служанке Лизе, а затем и вовсе самому неподходящему человеку — Чацкому.</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фья настолько влюблена и одновременно удручена необходимостью постоянно таиться от отца, что ей попросту изменяет здравый смысл. Сама ситуация лишает ее возможности рассуждать: «Да что мне до кого? До них? До всей вселенны?» Но в выборе ее столько же свободы, сколько и предопределенности. Она выбрала и полюбила человека удобного: мягкого, тихого и безропотного (таким предстает Молчалин из ее слов). Софья, как ей кажется, относится к нему здраво и критически: «Конечно, нет в нем этого ума, Что гений для иных, а для иных чума, Который скор, блестящ и скоро опротивит… Да эдакий ли ум семейство осчастливит?» Вероятно, ей кажется, что она поступила очень практично. Но в финале, когда она становится невольной свидетельницей «ухаживания» Молчалина за Лизой, она поражена в самое сердце, она уничтожена — это один из самых драматичных моментов пьесы.</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16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89" name="PlaceHolder 2"/>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о время войны у Грибоедова были первые литературные опыты — «Письмо из Брест-Литовска к издателю», очерк «О кавалерийских резервах» и комедия «Молодые супруги» (перевод французской комедии «Le secret du Ménage») — относятся к 1814 г. В статье «О кавалерийских резервах» Грибоедов выступил в качестве исторического публициста[9]/</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осторженно-лирическое «Письмо…» из Брест-Литовска к издателю «Вестника Европы» написано им после награждения Кологривова в 1814 г. «орденом Святого Равноапостольского Владимира 1-й степени» и праздника 22 июня в Брест-Литовске, в кавалерийских резервах, по этому поводу.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конце 1814 Грибоедов приезжает в Петербург, знакомится и сближается с кружком «младших архаистов», где он почерпнул идею создания национального искусства, стремление к высокости и естественности стиля.</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 1817 служил в Коллегии иностранных дел в Петербурге; в это время познакомился с Пушкиным.</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 1818 секретарь русской миссии в Тегеране, с 1822 в Тифлисе секретарём по дипломатической части при командующем русскими войсками А. П. Ермолове.</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январе 1826 арестован в крепости Грозная по подозрению к принадлежности к декабристам (со многими из которых был знаком лично, одобрял их цели, но к перспективе заговора относился скептически); был привезён в Петербург и сумел доказать непринадлежность к тайному обществу.</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55280" y="-392400"/>
            <a:ext cx="7931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51"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 как это ни трагично, отказавшись от Молчалина, Софья не откажется от «молчалинского типа». Вспомним сцену разрыва Софьи с Молчалиным. Оскорбленная, униженная, она гонит от себя недостойного возлюбленного. И все же у нее вырывается:</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a:t>
            </a:r>
            <a:r>
              <a:rPr b="0" lang="ru-RU" sz="2000" spc="-1" strike="noStrike">
                <a:solidFill>
                  <a:srgbClr val="ffffff"/>
                </a:solidFill>
                <a:latin typeface="Tahoma"/>
              </a:rPr>
              <a:t>будьте рады,</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то при свиданиях со мной в ночной тиши</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ержались более вы робости во нраве,</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ем даже днем, и при людях, и въяве;.</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вас меньше дерзости, чем кривизны души.</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аже эта «кривизна души», доставившая Софье такое страдание, пугает ее меньше, чем дерзость — определяющее качество Чацкого. Вся жизнь света построена на криводушии. А вот дерзости свет не приемлет. Разочаровавшись в Молчалине, Софья продолжает ценить его робость: верный залог того, что следующий ее избранник не многим будет отличаться от Молчалина.</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фья, безусловно, натура неординарная — страстная, глубокая, самоотверженная. Но все лучшие ее качества получили страшное, уродливое развитие — вот почему поистине драматичен образ главной героини «Горя от ума».</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Значение комедии </a:t>
            </a:r>
            <a:br>
              <a:rPr sz="4000"/>
            </a:br>
            <a:r>
              <a:rPr b="0" lang="en-US" sz="4000" spc="-1" strike="noStrike">
                <a:solidFill>
                  <a:srgbClr val="e5ffff"/>
                </a:solidFill>
                <a:latin typeface="Tahoma"/>
              </a:rPr>
              <a:t>А.С. Грибоедова «Горе от ума».</a:t>
            </a:r>
            <a:endParaRPr b="0" lang="en-US" sz="4000" spc="-1" strike="noStrike">
              <a:solidFill>
                <a:srgbClr val="e5ffff"/>
              </a:solidFill>
              <a:latin typeface="Tahoma"/>
            </a:endParaRPr>
          </a:p>
        </p:txBody>
      </p:sp>
      <p:sp>
        <p:nvSpPr>
          <p:cNvPr id="1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411280" y="2852640"/>
            <a:ext cx="5113440" cy="3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1"/>
          <p:cNvSpPr>
            <a:spLocks noGrp="1"/>
          </p:cNvSpPr>
          <p:nvPr>
            <p:ph/>
          </p:nvPr>
        </p:nvSpPr>
        <p:spPr>
          <a:xfrm>
            <a:off x="3348000" y="0"/>
            <a:ext cx="5796000" cy="6524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сентябре 1826 вернулся в Тифлис и продолжил дипломатическую деятельность; принял участие в заключении выгодного для России Туркманчайского мирного договора (1828) и доставил его текст в Петербург. Назначен министром-резидентом (послом) в Иран; по пути на место назначения вновь провёл несколько месяцев в Тифлисе он женился на княжне Нине Чавчавадзе, дочери начальника Эриванской области и грузинского поэта Александра Чавчавадзе.</a:t>
            </a:r>
            <a:endParaRPr b="0" lang="en-US" sz="2400" spc="-1" strike="noStrike">
              <a:solidFill>
                <a:srgbClr val="ffffff"/>
              </a:solidFill>
              <a:latin typeface="Tahoma"/>
            </a:endParaRPr>
          </a:p>
        </p:txBody>
      </p:sp>
      <p:sp>
        <p:nvSpPr>
          <p:cNvPr id="92" name=""/>
          <p:cNvSpPr/>
          <p:nvPr/>
        </p:nvSpPr>
        <p:spPr>
          <a:xfrm>
            <a:off x="7440480" y="458100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7526520" y="3933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4" name="" descr=""/>
          <p:cNvPicPr/>
          <p:nvPr/>
        </p:nvPicPr>
        <p:blipFill>
          <a:blip r:embed="rId2"/>
          <a:stretch/>
        </p:blipFill>
        <p:spPr>
          <a:xfrm>
            <a:off x="0" y="3068640"/>
            <a:ext cx="2771640" cy="378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520"/>
            <a:ext cx="82296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Гибель А.С.Грибоедова.</a:t>
            </a:r>
            <a:endParaRPr b="0" lang="en-US" sz="4400" spc="-1" strike="noStrike">
              <a:solidFill>
                <a:srgbClr val="e5ffff"/>
              </a:solidFill>
              <a:latin typeface="Tahoma"/>
            </a:endParaRPr>
          </a:p>
        </p:txBody>
      </p:sp>
      <p:sp>
        <p:nvSpPr>
          <p:cNvPr id="96" name="PlaceHolder 2"/>
          <p:cNvSpPr>
            <a:spLocks noGrp="1"/>
          </p:cNvSpPr>
          <p:nvPr>
            <p:ph/>
          </p:nvPr>
        </p:nvSpPr>
        <p:spPr>
          <a:xfrm>
            <a:off x="395280" y="1052640"/>
            <a:ext cx="8424720" cy="580536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ностранные посольства располагались не в столице, а в Тавризе, при дворе принца Аббаса-Мирзы, но вскоре по прибытии в Персию миссия отправилась представляться Фетх Али-шаху в Тегеран. Во время этого визита Грибоедов погиб: 30 января (11 февраля) 1829 года (6 шаабана 1244 года хиджры) толпа религиозных фанатиков разгромила русскую дипломатическую миссию, и все её члены были убиты, кроме секретаря Мальцова. Толпа ворвалась в дом, грабя и разрушая все вокруг. Грибоедов, как считается, выбежал с саблей и получил удар камнем по голове, затем закидан камнями и изрублен. Обстоятельства погрома русской миссии описываются по-разному, однако Мальцов был очевидцем событий, и он не упоминает о гибели Грибоедова, только пишет, что человек 15 оборонялись у дверей комнаты посланника. Мальцов пишет, что было убито 37 человек в посольстве (все, кроме него одного) и 19 тегеранских жителей. Риза-Кули пишет, что был убит Грибоедов с 37-ю товарищами, а из толпы было убито 80 человек. Его тело было настолько изуродовано, что его опознали только по следу на кисти левой руки, полученному в дуэли с Якубовичем. Тело Грибоедова доставлено в Тифлис и погребено на горе Мтацминда в гроте при церкви Святого Давид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Улаживать дипломатический скандал персидский шах послал в Петербург своего сына. В возмещение пролитой крови он привез Николаю I богатые дары, в числе был алмаз «Шах». Некогда этот великолепный алмаз, обрамленный множеством рубинов и изумрудов, украшал трон Великих Моголов. Теперь он сияет в коллекции Алмазного фонда московского Кремля.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548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Могила Грибоедова.</a:t>
            </a:r>
            <a:endParaRPr b="0" lang="en-US" sz="4400" spc="-1" strike="noStrike">
              <a:solidFill>
                <a:srgbClr val="e5ffff"/>
              </a:solidFill>
              <a:latin typeface="Tahoma"/>
            </a:endParaRPr>
          </a:p>
        </p:txBody>
      </p:sp>
      <p:sp>
        <p:nvSpPr>
          <p:cNvPr id="100" name="PlaceHolder 2"/>
          <p:cNvSpPr>
            <a:spLocks noGrp="1"/>
          </p:cNvSpPr>
          <p:nvPr>
            <p:ph/>
          </p:nvPr>
        </p:nvSpPr>
        <p:spPr>
          <a:xfrm>
            <a:off x="3013200" y="1628640"/>
            <a:ext cx="6130800" cy="4530960"/>
          </a:xfrm>
          <a:prstGeom prst="rect">
            <a:avLst/>
          </a:prstGeom>
          <a:noFill/>
          <a:ln w="0">
            <a:noFill/>
          </a:ln>
        </p:spPr>
        <p:txBody>
          <a:bodyPr lIns="90000" rIns="90000" tIns="46800" bIns="46800"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лександр Сергеевич Грибоедов похоронен был в соответствии с его пожеланиями на горе Давида в Тифлисе - у монастыря святого Давида. На могильной плите – слова его жены Нины Грибоедовой: "Ум и дела твои бессмертны в памяти русской, но для чего пережила тебя любовь моя?". </a:t>
            </a:r>
            <a:endParaRPr b="0" lang="en-US" sz="2800" spc="-1" strike="noStrike">
              <a:solidFill>
                <a:srgbClr val="ffffff"/>
              </a:solidFill>
              <a:latin typeface="Tahoma"/>
            </a:endParaRPr>
          </a:p>
        </p:txBody>
      </p:sp>
      <p:pic>
        <p:nvPicPr>
          <p:cNvPr id="101" name="" descr=""/>
          <p:cNvPicPr/>
          <p:nvPr/>
        </p:nvPicPr>
        <p:blipFill>
          <a:blip r:embed="rId1"/>
          <a:stretch/>
        </p:blipFill>
        <p:spPr>
          <a:xfrm>
            <a:off x="0" y="1989000"/>
            <a:ext cx="3059280" cy="2592360"/>
          </a:xfrm>
          <a:prstGeom prst="rect">
            <a:avLst/>
          </a:prstGeom>
          <a:ln w="0">
            <a:noFill/>
          </a:ln>
        </p:spPr>
      </p:pic>
      <p:sp>
        <p:nvSpPr>
          <p:cNvPr id="102" name=""/>
          <p:cNvSpPr/>
          <p:nvPr/>
        </p:nvSpPr>
        <p:spPr>
          <a:xfrm>
            <a:off x="4478400" y="324648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История создания комедии.</a:t>
            </a:r>
            <a:endParaRPr b="0" lang="en-US" sz="40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Грибоедов знаменит как творец одного произведения, но столь значительна роль его комедии в истории русской литературы, что уже одно это произведение обессмертило имя его автора. За долгие годы комедия не устарела. И для нас, сегодняшних зрителей, пьеса осталась живым источником чувств и размышлений. </a:t>
            </a:r>
            <a:endParaRPr b="0" lang="en-US" sz="1800" spc="-1" strike="noStrike">
              <a:solidFill>
                <a:srgbClr val="ffffff"/>
              </a:solidFill>
              <a:latin typeface="Tahoma"/>
            </a:endParaRPr>
          </a:p>
          <a:p>
            <a:pPr marL="322200" indent="-3222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Комедия Грибоедова была написана в годы создания тайных революционных организаций декабристов. Борьба декабристов с многочисленными и сильными противниками — дворянами-реакционерами, борьба нового со старым разгоралась все сильнее, проникая в разные сферы жизни, отражаясь в искусстве и литературе. Наблюдая эту борьбу в жизни, являясь ее непосредственным участником, Грибоедов и показал ее в своей комедии, причем показал с точки зрения передового человека своего времени, близкого по взглядам к декабристам. Общественная позиция автора в литературном произведении всегда играет большую роль. В "Горе от ума" она проявляется ясно, четко — и в выборе темы, и в том, какие вопросы общественного и нравственного характера автор затрагивает в пьесе и как их решает, и в том, как он рисует характеры героев и оценивает их взгляды и поступки.</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9640" y="-386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06" name="PlaceHolder 2"/>
          <p:cNvSpPr>
            <a:spLocks noGrp="1"/>
          </p:cNvSpPr>
          <p:nvPr>
            <p:ph/>
          </p:nvPr>
        </p:nvSpPr>
        <p:spPr>
          <a:xfrm>
            <a:off x="457200" y="259920"/>
            <a:ext cx="8229600" cy="626436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После трех лет службы в Тавризе Грибоедов перевелся в Тифлис к главноуправляющему Грузией А. П. Ермолову (февраль 1822). Там были написаны 1 и 2 акты "Горя от ума", их первым слушателем стал тифлисский сослуживец автора В. К. Кюхельбекер.</a:t>
            </a:r>
            <a:endParaRPr b="0" lang="en-US" sz="2200" spc="-1" strike="noStrike">
              <a:solidFill>
                <a:srgbClr val="ffffff"/>
              </a:solidFill>
              <a:latin typeface="Tahoma"/>
            </a:endParaRPr>
          </a:p>
          <a:p>
            <a:pPr marL="322200" indent="-32220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Весной 1823 Грибоедов отправляется в отпуск. В Москве, а также в имении С. Бегичева под Тулой, где он проводит лето, создаются 3 и 4 акты "Горя от ума". К осени 1824 комедия завершена. Грибоедов едет в Петербург, намереваясь использовать свои связи в столице, чтобы получить разрешение на ее публикацию и театральную постановку. Однако вскоре убеждается, что комедии "нет пропуску". Через цензуру удалось провести лишь отрывки, напечатанные в 1825 Ф. В. Булгариным в альманахе "Русская Талия " (первая полная публикация в России - 1862; первая постановка на профессиональной сцене - 1831). Тем не менее, грибоедовское творение сразу стало событием русской культуры, распространившись среди читающей публики в рукописных списках, число которых приближалось к книжным тиражам того времени (распространению списков содействовали декабристы, рассматривавшие комедию как рупор своих идей; уже в январе 1825 И. И. Пущин привез Пушкину в Михайловское список "Горя от ума").</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16:16:14Z</dcterms:created>
  <dc:creator>FuckYouBill</dc:creator>
  <dc:description/>
  <dc:language>en-US</dc:language>
  <cp:lastModifiedBy>Ученик</cp:lastModifiedBy>
  <dcterms:modified xsi:type="dcterms:W3CDTF">2010-06-11T08:28:31Z</dcterms:modified>
  <cp:revision>14</cp:revision>
  <dc:subject/>
  <dc:title>Слайд 1</dc:title>
</cp:coreProperties>
</file>