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504-168C-4526-9C07-3E7F4914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84F-54F7-4F33-B625-04FDA2C6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CE3-49CA-415D-8E88-912F4589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3A6-F119-4F3F-B327-CBEBF0CF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1F1-8C0A-4AD4-AA64-36D01ED0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E7AE-FE3A-42A8-AF51-356E097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4A0B-7848-4C04-82A4-E1C315E8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2879-7B90-4B11-B1E0-0E13A33C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73FA-C4F5-4C04-B397-2273E13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AB98-4F5E-4BF6-BE6D-378233DA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F0B0-D33E-41A3-8153-696F950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A02-3AAF-42C1-BBE1-85A5908F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B2A-6964-429D-B19E-74856AC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0BFE-8AE2-4F86-B140-795E2DA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E664-C59D-41F1-A919-2153215B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ABA8-45B3-4E66-8240-3562AE62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1826-EB9A-4555-9B06-444F75AB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868-9A32-4153-A4B8-0795DC7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717-C405-4FD9-B79E-934C6305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1D1-CAC0-4C00-A709-7BF7031B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633-C2DF-410C-84E2-278D8C76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057-515C-4323-BA43-E6D5113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71D-3ABD-4F74-A865-7710CA0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DA8-6C6E-4DD9-B9B5-C7B92C4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0D73-1714-4BF5-9B83-60FEBCB6FEBE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737-F509-4B85-9AD5-F6EB632F5FAB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92360" y="2924280"/>
            <a:ext cx="64767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76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ометрии</a:t>
            </a:r>
            <a:endParaRPr b="1" lang="en-US" sz="2400" spc="1" strike="noStrike">
              <a:ln w="76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640" y="1773360"/>
            <a:ext cx="7086600" cy="25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1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980098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страницам </a:t>
            </a:r>
            <a:endParaRPr b="0" lang="en-US" sz="3200" spc="1" strike="noStrike">
              <a:ln w="25560">
                <a:solidFill>
                  <a:srgbClr val="980098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25560">
                <a:solidFill>
                  <a:srgbClr val="980098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5589720"/>
            <a:ext cx="224316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Тема проект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609480"/>
            <a:ext cx="7010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cc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Теорема</a:t>
            </a:r>
            <a:endParaRPr b="1" lang="en-US" sz="3200" spc="1" strike="noStrike">
              <a:ln w="38160">
                <a:solidFill>
                  <a:srgbClr val="ffff00"/>
                </a:solidFill>
                <a:miter/>
              </a:ln>
              <a:solidFill>
                <a:srgbClr val="cc66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221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Творческое название проект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Истина где-то  рядом...»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5840" y="537372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Impact"/>
              </a:rPr>
              <a:t>Участники    проекта: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Impact"/>
              </a:rPr>
              <a:t>Андриянов Станислав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Impact"/>
              </a:rPr>
              <a:t>Носова Ксения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981080"/>
            <a:ext cx="7848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ифагора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       </a:t>
            </a: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Дидактические цели проекта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звитие интереса к математике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сширить знания обучающихся по курсу  геометр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звивать  логику математического мышле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Формировать навыки сфере самостоятельной деятельности, основанные на усвоении способов приобретения знаний из различных источников информации, в сфере социально-трудовой деятельности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Показать особенности отражения объективной действительности средствами математик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Способствовать  формированию  диалектико-материалистического мировоззрения учащихся,патриотического и  нравственного воспита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85080" y="5516640"/>
            <a:ext cx="1079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Методические задачи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Осознанное  овладевание математическими фактами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Умение обрабатывать информацию в интерактивном режиме .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Изменение роли ученика в учебном процессе от пассивного наблюдателя до активного исследователя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Развивать умение анализировать и делать выводы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Научить кратко излагать свои мысли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Повысить математическую культуру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987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   </a:t>
            </a: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Основополагающие</a:t>
            </a:r>
            <a:br>
              <a:rPr sz="4200"/>
            </a:b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вопросы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789360"/>
            <a:ext cx="6940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чему  эту  теорему  приписывают  Пифагору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акие легенды связаны с открытием теоремы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Можно ли обойтись без  теоремы Пифагора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чем важность теоремы Пифагора ?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колько существует способов доказательства теоремы Пифагора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рспективы поиска  новых доказательств теорем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9903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1557360"/>
            <a:ext cx="63370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ифагор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легенда  или  быль 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2205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чём заслуг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ифагора 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0880" y="3068640"/>
            <a:ext cx="50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Проблемные вопросы учебной тем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Impact"/>
              </a:rPr>
              <a:t>Темы самостоятельных исследований обучающихся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393372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ff"/>
                </a:solidFill>
                <a:uFillTx/>
                <a:latin typeface="Arial"/>
              </a:rPr>
              <a:t>2 группа :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 теореме Пифагора и способах её доказательства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Темы исследований: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е алгебраические доказательства теоремы.Простейшее доказательство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ревнекитайское доказательство теоремы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ревнеиндийское доказательство теоремы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оказательство Евклид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лгебраическое доказательство теоремы</a:t>
            </a:r>
            <a:r>
              <a:rPr b="1" lang="ru-RU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2640" y="837720"/>
            <a:ext cx="8001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6600"/>
                </a:solidFill>
                <a:latin typeface="Impact"/>
              </a:rPr>
              <a:t>Участники проекта делятся на две «экспертные»    группы,  работающие по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6600"/>
                </a:solidFill>
                <a:latin typeface="Impact"/>
              </a:rPr>
              <a:t>следующим направлениям: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ff"/>
                </a:solidFill>
                <a:uFillTx/>
                <a:latin typeface="Arial"/>
              </a:rPr>
              <a:t>1 группа :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История  открытия теоремы Пифагора.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                     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Темы исследований: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Биография   Пифагор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Легенды о Пифагоре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Таланты  Пифагор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уществовала ли теорема задолго до него?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В чем заслуга Пифагора?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4475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Аннотация проект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773360"/>
            <a:ext cx="7232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Основная цель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изучение геометрии , развитие интереса к математике.</a:t>
            </a:r>
            <a:r>
              <a:rPr b="1" i="1" lang="ru-RU" sz="2800" spc="-1" strike="noStrike">
                <a:solidFill>
                  <a:srgbClr val="980098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Проект ориентирован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на изучение темы «Теорема  Пифагора»; показать ее историческое,практическое, прикладное значение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В проекте участвуют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учитель математики и обучающиеся 9 и 10 класса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Этапы и сроки проведения проекта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одготовка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   (1-я неделя)</a:t>
            </a:r>
            <a:r>
              <a:rPr b="0" lang="ru-RU" sz="2400" spc="-1" strike="noStrike">
                <a:solidFill>
                  <a:srgbClr val="003cfc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пределение темы и цели проекта, формирование групп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ланирование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2-я неделя)</a:t>
            </a:r>
            <a:r>
              <a:rPr b="0" lang="ru-RU" sz="2400" spc="-1" strike="noStrike">
                <a:solidFill>
                  <a:srgbClr val="003cfc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пределение источников, способов сбора и анализа информации, разработка критериев оценки, распределение обязанностей в группах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Исследование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3-4-я недели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сбор информации, ее анализ и собственные исследова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Результаты 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5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анализ собранной и полученной информации, выводы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редставление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    (6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подготовка и проведение презентац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Оценка 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7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ценивание деятельности по проекту с учетом разработанных критериев.  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Использованные ресурсы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чебник «Геометрии – 7-9» Л.С. Атанасяна и др., М.: «Просвещение», 2002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Энциклопедический словарь юного математика, под ред. Б.В. Гнеденко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ленский Щ. По следам Пифагора.М.,1961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о страницам учебника математики», под ред.И.Я.Депман и Н.Я.Виленкин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лейзер Г.И. История математики в школе.М.,1982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иянов</dc:creator>
  <dc:description/>
  <dc:language>en-US</dc:language>
  <cp:lastModifiedBy>User</cp:lastModifiedBy>
  <dcterms:modified xsi:type="dcterms:W3CDTF">2008-11-30T13:18:05Z</dcterms:modified>
  <cp:revision>54</cp:revision>
  <dc:subject/>
  <dc:title>Презентация проекта</dc:title>
</cp:coreProperties>
</file>