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776D-E513-4622-AE4D-3F211410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A381-9C59-4157-A774-B7A687B0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0680-2A0F-41C3-936E-E8FD8DB1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C027-F56C-4085-98BF-44B2ADDC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ABF8-D838-4205-A227-8AEDF461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BF45-C9D2-42FA-8B58-950344B8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EB9E-A392-474F-A90B-2D4889B4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3331-71A6-4CC9-B523-C4F18105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CF22-D40A-4FE6-B2D4-0140F8BD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3E82-395A-40BB-8924-10FA9581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CA4A-8A27-41F8-86EC-F6113F03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45DA-9A50-4E24-B264-AF56ED72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41BC-6E3C-4734-BF34-BD15A4AB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2493-85CE-478E-A46C-AC2C08C4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904C-0636-404D-8E19-79EDE4FB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29CE-F15F-4AA9-A37B-E4331674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42AD-846A-41F4-A2E4-BC435AE4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7EDA-22D6-4850-A4A5-3E6E40E9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748-7C96-40C5-B391-8990FCA9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544C-E6DE-47C3-8012-1177E9BA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8355-D625-40F6-A066-8877C957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4AE0-3974-49B9-B0E7-FB3C9318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0AAB-DE6D-4956-A0D3-0EAA6144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540-1BBB-40A7-AF7D-7C4FD2BC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071B-5D87-493F-804D-853B5B743CBA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18BC-5997-46A1-BFF2-741EFDAB6EFD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692360" y="2924280"/>
            <a:ext cx="64767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7632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еометрии</a:t>
            </a:r>
            <a:endParaRPr b="1" lang="en-US" sz="2400" spc="1" strike="noStrike">
              <a:ln w="7632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63640" y="1773360"/>
            <a:ext cx="7086600" cy="2590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114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5560">
                  <a:solidFill>
                    <a:srgbClr val="980098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о страницам </a:t>
            </a:r>
            <a:endParaRPr b="0" lang="en-US" sz="3200" spc="1" strike="noStrike">
              <a:ln w="25560">
                <a:solidFill>
                  <a:srgbClr val="980098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25560">
                <a:solidFill>
                  <a:srgbClr val="980098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5589720"/>
            <a:ext cx="2243160" cy="77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Impact"/>
              </a:rPr>
              <a:t>Тема проекта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71600" y="609480"/>
            <a:ext cx="70102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cc66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Теорема</a:t>
            </a:r>
            <a:endParaRPr b="1" lang="en-US" sz="3200" spc="1" strike="noStrike">
              <a:ln w="38160">
                <a:solidFill>
                  <a:srgbClr val="ffff00"/>
                </a:solidFill>
                <a:miter/>
              </a:ln>
              <a:solidFill>
                <a:srgbClr val="cc66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2210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Творческое название проект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Истина где-то  рядом...»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85840" y="5373720"/>
            <a:ext cx="5257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Impact"/>
              </a:rPr>
              <a:t>Участники    проекта: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Impact"/>
              </a:rPr>
              <a:t>Андриянов Станислав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Impact"/>
              </a:rPr>
              <a:t>Носова Ксения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66680" y="1981080"/>
            <a:ext cx="784872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ифагора</a:t>
            </a:r>
            <a:endParaRPr b="1" lang="en-US" sz="2400" spc="1" strike="noStrike">
              <a:ln w="381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ff"/>
                </a:solidFill>
                <a:latin typeface="Impact"/>
              </a:rPr>
              <a:t>        </a:t>
            </a:r>
            <a:r>
              <a:rPr b="1" lang="ru-RU" sz="4200" spc="-1" strike="noStrike">
                <a:solidFill>
                  <a:srgbClr val="ff00ff"/>
                </a:solidFill>
                <a:latin typeface="Impact"/>
              </a:rPr>
              <a:t>Дидактические цели проекта</a:t>
            </a:r>
            <a:endParaRPr b="0" lang="en-US" sz="4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Impact"/>
              </a:rPr>
              <a:t>Развитие интереса к математике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Impact"/>
              </a:rPr>
              <a:t>Расширить знания обучающихся по курсу  геометрии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Impact"/>
              </a:rPr>
              <a:t>Развивать  логику математического мышления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Impact"/>
              </a:rPr>
              <a:t>Формировать навыки сфере самостоятельной деятельности, основанные на усвоении способов приобретения знаний из различных источников информации, в сфере социально-трудовой деятельности. 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Impact"/>
              </a:rPr>
              <a:t>Показать особенности отражения объективной действительности средствами математики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Impact"/>
              </a:rPr>
              <a:t>Способствовать  формированию  диалектико-материалистического мировоззрения учащихся,патриотического и  нравственного воспитания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885080" y="5516640"/>
            <a:ext cx="107964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Impact"/>
              </a:rPr>
              <a:t>Методические задачи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0098"/>
                </a:solidFill>
                <a:latin typeface="Impact"/>
              </a:rPr>
              <a:t>Осознанное  овладевание математическими фактами 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0098"/>
                </a:solidFill>
                <a:latin typeface="Impact"/>
              </a:rPr>
              <a:t>Умение обрабатывать информацию в интерактивном режиме . 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0098"/>
                </a:solidFill>
                <a:latin typeface="Impact"/>
              </a:rPr>
              <a:t>Изменение роли ученика в учебном процессе от пассивного наблюдателя до активного исследователя 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0098"/>
                </a:solidFill>
                <a:latin typeface="Impact"/>
              </a:rPr>
              <a:t>Развивать умение анализировать и делать выводы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0098"/>
                </a:solidFill>
                <a:latin typeface="Impact"/>
              </a:rPr>
              <a:t>Научить кратко излагать свои мысли 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80098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0098"/>
                </a:solidFill>
                <a:latin typeface="Impact"/>
              </a:rPr>
              <a:t>Повысить математическую культуру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0098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40720" y="4941720"/>
            <a:ext cx="98748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576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ff"/>
                </a:solidFill>
                <a:latin typeface="Impact"/>
              </a:rPr>
              <a:t>    </a:t>
            </a:r>
            <a:r>
              <a:rPr b="1" lang="ru-RU" sz="4200" spc="-1" strike="noStrike">
                <a:solidFill>
                  <a:srgbClr val="ff00ff"/>
                </a:solidFill>
                <a:latin typeface="Impact"/>
              </a:rPr>
              <a:t>Основополагающие</a:t>
            </a:r>
            <a:br>
              <a:rPr sz="4200"/>
            </a:br>
            <a:r>
              <a:rPr b="1" lang="ru-RU" sz="4200" spc="-1" strike="noStrike">
                <a:solidFill>
                  <a:srgbClr val="ff00ff"/>
                </a:solidFill>
                <a:latin typeface="Impact"/>
              </a:rPr>
              <a:t> вопросы</a:t>
            </a:r>
            <a:endParaRPr b="0" lang="en-US" sz="4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3789360"/>
            <a:ext cx="694044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очему  эту  теорему  приписывают  Пифагору ?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Какие легенды связаны с открытием теоремы ?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Можно ли обойтись без  теоремы Пифагора ?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 чем важность теоремы Пифагора ?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Сколько существует способов доказательства теоремы Пифагора ?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ерспективы поиска  новых доказательств теоремы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990360" cy="1676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32000" y="1557360"/>
            <a:ext cx="63370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ифагор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легенда  или  быль 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22050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 чём заслуга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ифагора 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10880" y="3068640"/>
            <a:ext cx="5004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imes New Roman"/>
              </a:rPr>
              <a:t>Проблемные вопросы учебной темы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0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Impact"/>
              </a:rPr>
              <a:t>Темы самостоятельных исследований обучающихся</a:t>
            </a:r>
            <a:endParaRPr b="0" lang="en-US" sz="2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393372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ff"/>
                </a:solidFill>
                <a:uFillTx/>
                <a:latin typeface="Arial"/>
              </a:rPr>
              <a:t>2 группа :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О теореме Пифагора и способах её доказательства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ff"/>
                </a:solidFill>
                <a:latin typeface="Impact"/>
              </a:rPr>
              <a:t>                                                       </a:t>
            </a:r>
            <a:r>
              <a:rPr b="0" lang="ru-RU" sz="1600" spc="-1" strike="noStrike">
                <a:solidFill>
                  <a:srgbClr val="ff00ff"/>
                </a:solidFill>
                <a:latin typeface="Impact"/>
              </a:rPr>
              <a:t>Темы исследований: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Не алгебраические доказательства теоремы.Простейшее доказательство.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Древнекитайское доказательство теоремы.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Древнеиндийское доказательство теоремы.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Доказательство Евклида.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288000" indent="-2880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Алгебраическое доказательство теоремы</a:t>
            </a:r>
            <a:r>
              <a:rPr b="1" lang="ru-RU" sz="16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42640" y="837720"/>
            <a:ext cx="800100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6600"/>
                </a:solidFill>
                <a:latin typeface="Impact"/>
              </a:rPr>
              <a:t>Участники проекта делятся на две «экспертные»    группы,  работающие по 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6600"/>
                </a:solidFill>
                <a:latin typeface="Impact"/>
              </a:rPr>
              <a:t>следующим направлениям: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ff"/>
                </a:solidFill>
                <a:uFillTx/>
                <a:latin typeface="Arial"/>
              </a:rPr>
              <a:t>1 группа :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История  открытия теоремы Пифагора.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ff"/>
                </a:solidFill>
                <a:latin typeface="Impact"/>
              </a:rPr>
              <a:t>                                               </a:t>
            </a:r>
            <a:r>
              <a:rPr b="0" lang="ru-RU" sz="1600" spc="-1" strike="noStrike">
                <a:solidFill>
                  <a:srgbClr val="ff00ff"/>
                </a:solidFill>
                <a:latin typeface="Impact"/>
              </a:rPr>
              <a:t>Темы исследований: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Биография   Пифагора.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Легенды о Пифагоре.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Таланты  Пифагора.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Существовала ли теорема задолго до него?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В чем заслуга Пифагора? 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236000" y="4941720"/>
            <a:ext cx="144756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Impact"/>
              </a:rPr>
              <a:t>Аннотация проекта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1773360"/>
            <a:ext cx="72327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80098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098"/>
                </a:solidFill>
                <a:latin typeface="Impact"/>
              </a:rPr>
              <a:t>Основная цель</a:t>
            </a:r>
            <a:r>
              <a:rPr b="0" lang="ru-RU" sz="2800" spc="-1" strike="noStrike">
                <a:solidFill>
                  <a:srgbClr val="003399"/>
                </a:solidFill>
                <a:latin typeface="Impact"/>
              </a:rPr>
              <a:t>   </a:t>
            </a:r>
            <a:r>
              <a:rPr b="0" lang="ru-RU" sz="2800" spc="-1" strike="noStrike">
                <a:solidFill>
                  <a:srgbClr val="cc3300"/>
                </a:solidFill>
                <a:latin typeface="Impact"/>
              </a:rPr>
              <a:t>изучение геометрии , развитие интереса к математике.</a:t>
            </a:r>
            <a:r>
              <a:rPr b="1" i="1" lang="ru-RU" sz="2800" spc="-1" strike="noStrike">
                <a:solidFill>
                  <a:srgbClr val="980098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80098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098"/>
                </a:solidFill>
                <a:latin typeface="Impact"/>
              </a:rPr>
              <a:t>Проект ориентирован</a:t>
            </a:r>
            <a:r>
              <a:rPr b="0" lang="ru-RU" sz="2800" spc="-1" strike="noStrike">
                <a:solidFill>
                  <a:srgbClr val="003399"/>
                </a:solidFill>
                <a:latin typeface="Impact"/>
              </a:rPr>
              <a:t>   </a:t>
            </a:r>
            <a:r>
              <a:rPr b="0" lang="ru-RU" sz="2800" spc="-1" strike="noStrike">
                <a:solidFill>
                  <a:srgbClr val="cc3300"/>
                </a:solidFill>
                <a:latin typeface="Impact"/>
              </a:rPr>
              <a:t>на изучение темы «Теорема  Пифагора»; показать ее историческое,практическое, прикладное значение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80098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098"/>
                </a:solidFill>
                <a:latin typeface="Impact"/>
              </a:rPr>
              <a:t>В проекте участвуют</a:t>
            </a:r>
            <a:r>
              <a:rPr b="0" lang="ru-RU" sz="2800" spc="-1" strike="noStrike">
                <a:solidFill>
                  <a:srgbClr val="003399"/>
                </a:solidFill>
                <a:latin typeface="Impact"/>
              </a:rPr>
              <a:t>   </a:t>
            </a:r>
            <a:r>
              <a:rPr b="0" lang="ru-RU" sz="2800" spc="-1" strike="noStrike">
                <a:solidFill>
                  <a:srgbClr val="cc3300"/>
                </a:solidFill>
                <a:latin typeface="Impact"/>
              </a:rPr>
              <a:t>учитель математики и обучающиеся 9 и 10 класса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236000" y="522936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ff"/>
                </a:solidFill>
                <a:latin typeface="Impact"/>
              </a:rPr>
              <a:t>Этапы и сроки проведения проекта</a:t>
            </a:r>
            <a:endParaRPr b="0" lang="en-US" sz="4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532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-69696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Impac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Impact"/>
              </a:rPr>
              <a:t>Подготовка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Impact"/>
              </a:rPr>
              <a:t>   (1-я неделя)</a:t>
            </a:r>
            <a:r>
              <a:rPr b="0" lang="ru-RU" sz="2400" spc="-1" strike="noStrike">
                <a:solidFill>
                  <a:srgbClr val="003cfc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Impact"/>
              </a:rPr>
              <a:t>– определение темы и цели проекта, формирование групп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696960" indent="-69696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Impac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Impact"/>
              </a:rPr>
              <a:t>Планирование   </a:t>
            </a:r>
            <a:r>
              <a:rPr b="0" lang="ru-RU" sz="2400" spc="-1" strike="noStrike">
                <a:solidFill>
                  <a:srgbClr val="990033"/>
                </a:solidFill>
                <a:latin typeface="Impact"/>
              </a:rPr>
              <a:t>(2-я неделя)</a:t>
            </a:r>
            <a:r>
              <a:rPr b="0" lang="ru-RU" sz="2400" spc="-1" strike="noStrike">
                <a:solidFill>
                  <a:srgbClr val="003cfc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Impact"/>
              </a:rPr>
              <a:t>– определение источников, способов сбора и анализа информации, разработка критериев оценки, распределение обязанностей в группах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696960" indent="-69696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Impac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Impact"/>
              </a:rPr>
              <a:t>Исследование   </a:t>
            </a:r>
            <a:r>
              <a:rPr b="0" lang="ru-RU" sz="2400" spc="-1" strike="noStrike">
                <a:solidFill>
                  <a:srgbClr val="990033"/>
                </a:solidFill>
                <a:latin typeface="Impact"/>
              </a:rPr>
              <a:t>(3-4-я недели)</a:t>
            </a:r>
            <a:r>
              <a:rPr b="0" lang="ru-RU" sz="2400" spc="-1" strike="noStrike">
                <a:solidFill>
                  <a:srgbClr val="005400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Impact"/>
              </a:rPr>
              <a:t>– сбор информации, ее анализ и собственные исследования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696960" indent="-69696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Impac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Impact"/>
              </a:rPr>
              <a:t>Результаты    </a:t>
            </a:r>
            <a:r>
              <a:rPr b="0" lang="ru-RU" sz="2400" spc="-1" strike="noStrike">
                <a:solidFill>
                  <a:srgbClr val="990033"/>
                </a:solidFill>
                <a:latin typeface="Impact"/>
              </a:rPr>
              <a:t>(5-я неделя)</a:t>
            </a:r>
            <a:r>
              <a:rPr b="0" lang="ru-RU" sz="2400" spc="-1" strike="noStrike">
                <a:solidFill>
                  <a:srgbClr val="005400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Impact"/>
              </a:rPr>
              <a:t>– анализ собранной и полученной информации, выводы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696960" indent="-69696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Impac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Impact"/>
              </a:rPr>
              <a:t>Представление</a:t>
            </a:r>
            <a:r>
              <a:rPr b="0" lang="ru-RU" sz="2400" spc="-1" strike="noStrike">
                <a:solidFill>
                  <a:srgbClr val="990033"/>
                </a:solidFill>
                <a:latin typeface="Impact"/>
              </a:rPr>
              <a:t>    (6-я неделя)</a:t>
            </a:r>
            <a:r>
              <a:rPr b="0" lang="ru-RU" sz="2400" spc="-1" strike="noStrike">
                <a:solidFill>
                  <a:srgbClr val="005400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Impact"/>
              </a:rPr>
              <a:t>– подготовка и проведение презентации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696960" indent="-69696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Impac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Impact"/>
              </a:rPr>
              <a:t>Оценка    </a:t>
            </a:r>
            <a:r>
              <a:rPr b="0" lang="ru-RU" sz="2400" spc="-1" strike="noStrike">
                <a:solidFill>
                  <a:srgbClr val="990033"/>
                </a:solidFill>
                <a:latin typeface="Impact"/>
              </a:rPr>
              <a:t>(7-я неделя)</a:t>
            </a:r>
            <a:r>
              <a:rPr b="0" lang="ru-RU" sz="2400" spc="-1" strike="noStrike">
                <a:solidFill>
                  <a:srgbClr val="005400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Impact"/>
              </a:rPr>
              <a:t>– оценивание деятельности по проекту с учетом разработанных критериев.   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000"/>
                            </p:stCondLst>
                            <p:childTnLst>
                              <p:par>
                                <p:cTn id="3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Impact"/>
              </a:rPr>
              <a:t>Использованные ресурсы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Учебник «Геометрии – 7-9» Л.С. Атанасяна и др., М.: «Просвещение», 2002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Энциклопедический словарь юного математика, под ред. Б.В. Гнеденко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Еленский Щ. По следам Пифагора.М.,1961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По страницам учебника математики», под ред.И.Я.Депман и Н.Я.Виленкин. 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лейзер Г.И. История математики в школе.М.,1982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дриянов</dc:creator>
  <dc:description/>
  <dc:language>en-US</dc:language>
  <cp:lastModifiedBy>User</cp:lastModifiedBy>
  <dcterms:modified xsi:type="dcterms:W3CDTF">2008-11-30T13:18:05Z</dcterms:modified>
  <cp:revision>54</cp:revision>
  <dc:subject/>
  <dc:title>Презентация проекта</dc:title>
</cp:coreProperties>
</file>