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7714-F27E-49D9-B1BA-675836EA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81C-A4A2-4FAA-B00D-F57AD4DC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03A-8736-4FAC-9BEA-2393F25D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7253-45B7-4B38-9AA2-629E0F85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4273-7725-4B34-9CBF-1BFB7A8F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3014-688E-407C-9120-FACC347E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BB31-3469-497F-9FF4-D3F98F6F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F10D-278F-4433-B284-08275665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533B-7516-4C0E-8F9D-8BE56714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DCB4-D9F7-4F29-8D8E-01B7B895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7A1A-2A8A-40B4-BA37-89B91AAA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802-1CF0-427A-BE39-C1E903EC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0FC7-EAC0-4C8C-A494-8FF75B3D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8D53-5391-4E3F-BDEA-5214D40E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6435-6ACB-4FF8-BCCF-178D26A7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B6F3-267E-432A-A8EE-FDB10E39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D828-B1E3-478C-AEAF-623899CC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65C-7EE8-4FA0-B81B-C0E8199D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B65-DCF6-4AC0-BB98-C52A9C2F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9F1-850D-434D-B266-E8C90A84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DF3-48F1-4C40-942A-BEA96760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911-053B-4EA6-9DCB-F7914880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148-21BB-4533-A055-6A62C6C4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6D2-D515-466E-B5D3-D24F8834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7372-7689-4CE4-B985-0C05A9A400AC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953E-EA60-44C0-8715-D92397DC879E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692360" y="2924280"/>
            <a:ext cx="64767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7632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еометрии</a:t>
            </a:r>
            <a:endParaRPr b="1" lang="en-US" sz="2400" spc="1" strike="noStrike">
              <a:ln w="7632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63640" y="1773360"/>
            <a:ext cx="7086600" cy="2590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14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5560">
                  <a:solidFill>
                    <a:srgbClr val="980098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о страницам </a:t>
            </a:r>
            <a:endParaRPr b="0" lang="en-US" sz="3200" spc="1" strike="noStrike">
              <a:ln w="25560">
                <a:solidFill>
                  <a:srgbClr val="980098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25560">
                <a:solidFill>
                  <a:srgbClr val="980098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5589720"/>
            <a:ext cx="2243160" cy="77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Impact"/>
              </a:rPr>
              <a:t>Тема проекта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71600" y="609480"/>
            <a:ext cx="7010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cc66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Теорема</a:t>
            </a:r>
            <a:endParaRPr b="1" lang="en-US" sz="3200" spc="1" strike="noStrike">
              <a:ln w="38160">
                <a:solidFill>
                  <a:srgbClr val="ffff00"/>
                </a:solidFill>
                <a:miter/>
              </a:ln>
              <a:solidFill>
                <a:srgbClr val="cc66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2210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Творческое название проект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Истина где-то  рядом...»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85840" y="5373720"/>
            <a:ext cx="5257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Impact"/>
              </a:rPr>
              <a:t>Участники    проекта: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Impact"/>
              </a:rPr>
              <a:t>Андриянов Станислав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08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Impact"/>
              </a:rPr>
              <a:t>Носова Ксения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1981080"/>
            <a:ext cx="784872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81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Пифагора</a:t>
            </a:r>
            <a:endParaRPr b="1" lang="en-US" sz="2400" spc="1" strike="noStrike">
              <a:ln w="381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        </a:t>
            </a: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Дидактические цели проекта</a:t>
            </a:r>
            <a:endParaRPr b="0" lang="en-US" sz="4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Развитие интереса к математике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Расширить знания обучающихся по курсу  геометрии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Развивать  логику математического мышления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Формировать навыки сфере самостоятельной деятельности, основанные на усвоении способов приобретения знаний из различных источников информации, в сфере социально-трудовой деятельности. 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Показать особенности отражения объективной действительности средствами математики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Impact"/>
              </a:rPr>
              <a:t>Способствовать  формированию  диалектико-материалистического мировоззрения учащихся,патриотического и  нравственного воспитания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885080" y="5516640"/>
            <a:ext cx="10796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Impact"/>
              </a:rPr>
              <a:t>Методические задачи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Осознанное  овладевание математическими фактами 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Умение обрабатывать информацию в интерактивном режиме .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Изменение роли ученика в учебном процессе от пассивного наблюдателя до активного исследователя 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Развивать умение анализировать и делать выводы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Научить кратко излагать свои мысли 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80098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Повысить математическую культуру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0098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40720" y="4941720"/>
            <a:ext cx="98748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576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    </a:t>
            </a: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Основополагающие</a:t>
            </a:r>
            <a:br>
              <a:rPr sz="4200"/>
            </a:b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 вопросы</a:t>
            </a:r>
            <a:endParaRPr b="0" lang="en-US" sz="4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789360"/>
            <a:ext cx="6940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очему  эту  теорему  приписывают  Пифагору ?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акие легенды связаны с открытием теоремы ?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Можно ли обойтись без  теоремы Пифагора ?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 чем важность теоремы Пифагора ?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колько существует способов доказательства теоремы Пифагора ?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ерспективы поиска  новых доказательств теоремы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990360" cy="1676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32000" y="1557360"/>
            <a:ext cx="63370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ифагор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легенда  или  быль 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2205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чём заслуга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ифагора 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10880" y="3068640"/>
            <a:ext cx="500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imes New Roman"/>
              </a:rPr>
              <a:t>Проблемные вопросы учебной темы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Impact"/>
              </a:rPr>
              <a:t>Темы самостоятельных исследований обучающихся</a:t>
            </a:r>
            <a:endParaRPr b="0" lang="en-US" sz="2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393372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ff"/>
                </a:solidFill>
                <a:uFillTx/>
                <a:latin typeface="Arial"/>
              </a:rPr>
              <a:t>2 группа :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О теореме Пифагора и способах её доказательства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288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Impact"/>
              </a:rPr>
              <a:t>                                                       </a:t>
            </a:r>
            <a:r>
              <a:rPr b="0" lang="ru-RU" sz="1600" spc="-1" strike="noStrike">
                <a:solidFill>
                  <a:srgbClr val="ff00ff"/>
                </a:solidFill>
                <a:latin typeface="Impact"/>
              </a:rPr>
              <a:t>Темы исследований: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Не алгебраические доказательства теоремы.Простейшее доказательство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Древнекитайское доказательство теоремы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Древнеиндийское доказательство теоремы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Доказательство Евклида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Алгебраическое доказательство теоремы</a:t>
            </a:r>
            <a:r>
              <a:rPr b="1" lang="ru-RU" sz="16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42640" y="837720"/>
            <a:ext cx="800100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6600"/>
                </a:solidFill>
                <a:latin typeface="Impact"/>
              </a:rPr>
              <a:t>Участники проекта делятся на две «экспертные»    группы,  работающие по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6600"/>
                </a:solidFill>
                <a:latin typeface="Impact"/>
              </a:rPr>
              <a:t>следующим направлениям: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ff"/>
                </a:solidFill>
                <a:uFillTx/>
                <a:latin typeface="Arial"/>
              </a:rPr>
              <a:t>1 группа :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История  открытия теоремы Пифагора.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Impact"/>
              </a:rPr>
              <a:t>                                               </a:t>
            </a:r>
            <a:r>
              <a:rPr b="0" lang="ru-RU" sz="1600" spc="-1" strike="noStrike">
                <a:solidFill>
                  <a:srgbClr val="ff00ff"/>
                </a:solidFill>
                <a:latin typeface="Impact"/>
              </a:rPr>
              <a:t>Темы исследований:</a:t>
            </a:r>
            <a:endParaRPr b="0" lang="en-US" sz="16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Биография   Пифагора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Легенды о Пифагоре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Таланты  Пифагора.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Существовала ли теорема задолго до него?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В чем заслуга Пифагора? </a:t>
            </a: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4941720"/>
            <a:ext cx="144756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Impact"/>
              </a:rPr>
              <a:t>Аннотация проекта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773360"/>
            <a:ext cx="72327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80098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098"/>
                </a:solidFill>
                <a:latin typeface="Impact"/>
              </a:rPr>
              <a:t>Основная цель</a:t>
            </a:r>
            <a:r>
              <a:rPr b="0" lang="ru-RU" sz="2800" spc="-1" strike="noStrike">
                <a:solidFill>
                  <a:srgbClr val="003399"/>
                </a:solidFill>
                <a:latin typeface="Impact"/>
              </a:rPr>
              <a:t>   </a:t>
            </a:r>
            <a:r>
              <a:rPr b="0" lang="ru-RU" sz="2800" spc="-1" strike="noStrike">
                <a:solidFill>
                  <a:srgbClr val="cc3300"/>
                </a:solidFill>
                <a:latin typeface="Impact"/>
              </a:rPr>
              <a:t>изучение геометрии , развитие интереса к математике.</a:t>
            </a:r>
            <a:r>
              <a:rPr b="1" i="1" lang="ru-RU" sz="2800" spc="-1" strike="noStrike">
                <a:solidFill>
                  <a:srgbClr val="980098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80098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098"/>
                </a:solidFill>
                <a:latin typeface="Impact"/>
              </a:rPr>
              <a:t>Проект ориентирован</a:t>
            </a:r>
            <a:r>
              <a:rPr b="0" lang="ru-RU" sz="2800" spc="-1" strike="noStrike">
                <a:solidFill>
                  <a:srgbClr val="003399"/>
                </a:solidFill>
                <a:latin typeface="Impact"/>
              </a:rPr>
              <a:t>   </a:t>
            </a:r>
            <a:r>
              <a:rPr b="0" lang="ru-RU" sz="2800" spc="-1" strike="noStrike">
                <a:solidFill>
                  <a:srgbClr val="cc3300"/>
                </a:solidFill>
                <a:latin typeface="Impact"/>
              </a:rPr>
              <a:t>на изучение темы «Теорема  Пифагора»; показать ее историческое,практическое, прикладное значение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80098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0098"/>
                </a:solidFill>
                <a:latin typeface="Impact"/>
              </a:rPr>
              <a:t>В проекте участвуют</a:t>
            </a:r>
            <a:r>
              <a:rPr b="0" lang="ru-RU" sz="2800" spc="-1" strike="noStrike">
                <a:solidFill>
                  <a:srgbClr val="003399"/>
                </a:solidFill>
                <a:latin typeface="Impact"/>
              </a:rPr>
              <a:t>   </a:t>
            </a:r>
            <a:r>
              <a:rPr b="0" lang="ru-RU" sz="2800" spc="-1" strike="noStrike">
                <a:solidFill>
                  <a:srgbClr val="cc3300"/>
                </a:solidFill>
                <a:latin typeface="Impact"/>
              </a:rPr>
              <a:t>учитель математики и обучающиеся 9 и 10 класса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236000" y="5229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ff"/>
                </a:solidFill>
                <a:latin typeface="Impact"/>
              </a:rPr>
              <a:t>Этапы и сроки проведения проекта</a:t>
            </a:r>
            <a:endParaRPr b="0" lang="en-US" sz="4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532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Подготовка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   (1-я неделя)</a:t>
            </a:r>
            <a:r>
              <a:rPr b="0" lang="ru-RU" sz="2400" spc="-1" strike="noStrike">
                <a:solidFill>
                  <a:srgbClr val="003cfc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определение темы и цели проекта, формирование групп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Планирование   </a:t>
            </a:r>
            <a:r>
              <a:rPr b="0" lang="ru-RU" sz="2400" spc="-1" strike="noStrike">
                <a:solidFill>
                  <a:srgbClr val="990033"/>
                </a:solidFill>
                <a:latin typeface="Impact"/>
              </a:rPr>
              <a:t>(2-я неделя)</a:t>
            </a:r>
            <a:r>
              <a:rPr b="0" lang="ru-RU" sz="2400" spc="-1" strike="noStrike">
                <a:solidFill>
                  <a:srgbClr val="003cfc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определение источников, способов сбора и анализа информации, разработка критериев оценки, распределение обязанностей в группах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Исследование   </a:t>
            </a:r>
            <a:r>
              <a:rPr b="0" lang="ru-RU" sz="2400" spc="-1" strike="noStrike">
                <a:solidFill>
                  <a:srgbClr val="990033"/>
                </a:solidFill>
                <a:latin typeface="Impact"/>
              </a:rPr>
              <a:t>(3-4-я недели)</a:t>
            </a:r>
            <a:r>
              <a:rPr b="0" lang="ru-RU" sz="2400" spc="-1" strike="noStrike">
                <a:solidFill>
                  <a:srgbClr val="005400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сбор информации, ее анализ и собственные исследования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Результаты    </a:t>
            </a:r>
            <a:r>
              <a:rPr b="0" lang="ru-RU" sz="2400" spc="-1" strike="noStrike">
                <a:solidFill>
                  <a:srgbClr val="990033"/>
                </a:solidFill>
                <a:latin typeface="Impact"/>
              </a:rPr>
              <a:t>(5-я неделя)</a:t>
            </a:r>
            <a:r>
              <a:rPr b="0" lang="ru-RU" sz="2400" spc="-1" strike="noStrike">
                <a:solidFill>
                  <a:srgbClr val="005400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анализ собранной и полученной информации, выводы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Представление</a:t>
            </a:r>
            <a:r>
              <a:rPr b="0" lang="ru-RU" sz="2400" spc="-1" strike="noStrike">
                <a:solidFill>
                  <a:srgbClr val="990033"/>
                </a:solidFill>
                <a:latin typeface="Impact"/>
              </a:rPr>
              <a:t>    (6-я неделя)</a:t>
            </a:r>
            <a:r>
              <a:rPr b="0" lang="ru-RU" sz="2400" spc="-1" strike="noStrike">
                <a:solidFill>
                  <a:srgbClr val="005400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подготовка и проведение презентации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696960" indent="-69696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Impac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Impact"/>
              </a:rPr>
              <a:t>Оценка    </a:t>
            </a:r>
            <a:r>
              <a:rPr b="0" lang="ru-RU" sz="2400" spc="-1" strike="noStrike">
                <a:solidFill>
                  <a:srgbClr val="990033"/>
                </a:solidFill>
                <a:latin typeface="Impact"/>
              </a:rPr>
              <a:t>(7-я неделя)</a:t>
            </a:r>
            <a:r>
              <a:rPr b="0" lang="ru-RU" sz="2400" spc="-1" strike="noStrike">
                <a:solidFill>
                  <a:srgbClr val="005400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Impact"/>
              </a:rPr>
              <a:t>– оценивание деятельности по проекту с учетом разработанных критериев.   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Impact"/>
              </a:rPr>
              <a:t>Использованные ресурсы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Учебник «Геометрии – 7-9» Л.С. Атанасяна и др., М.: «Просвещение», 2002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Энциклопедический словарь юного математика, под ред. Б.В. Гнеденко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Еленский Щ. По следам Пифагора.М.,1961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По страницам учебника математики», под ред.И.Я.Депман и Н.Я.Виленкин. 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лейзер Г.И. История математики в школе.М.,1982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иянов</dc:creator>
  <dc:description/>
  <dc:language>en-US</dc:language>
  <cp:lastModifiedBy>User</cp:lastModifiedBy>
  <dcterms:modified xsi:type="dcterms:W3CDTF">2008-11-30T13:18:05Z</dcterms:modified>
  <cp:revision>54</cp:revision>
  <dc:subject/>
  <dc:title>Презентация проекта</dc:title>
</cp:coreProperties>
</file>