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8.wmf" ContentType="image/x-wmf"/>
  <Override PartName="/ppt/media/image6.png" ContentType="image/png"/>
  <Override PartName="/ppt/media/image7.jpeg" ContentType="image/jpeg"/>
  <Override PartName="/ppt/media/image9.wmf" ContentType="image/x-wmf"/>
  <Override PartName="/ppt/media/image10.jpeg" ContentType="image/jpeg"/>
  <Override PartName="/ppt/media/image11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2EA-56DB-49FF-9AC7-EBB2BA22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0C1-F707-4900-B82A-79A4A546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1E535-22DE-45A1-94F5-B1F0B660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60929-9BBD-4247-B43F-A77A355F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D4666-B633-4A52-85A8-F4BDB32C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F0394-89E6-4C5D-8F8B-54F4324F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6D8E2-E24A-468A-AAD6-B28F22C4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972C0-5469-4061-B27F-D3D7964D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2332A-EBBE-4279-9796-E2514AB0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E14A8-060F-4A12-9F8E-EBB6DB68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C5106-8C26-48CA-8638-157BC802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2DDB6-57F3-4379-9E5F-EBFCD517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2DC-6B09-4F2A-BEBE-28259876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DEB16-6C14-4CF5-BAD5-079BE57D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18F6F-22DA-4393-9BF2-2EA7C1FB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A90B1-8119-4EDD-9BBC-405642BB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D6D23-28AB-4CF1-92F1-9EAEDD02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D5C03-43A3-4358-9DE1-D0120FA9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E82BF-5F85-4D5C-A1F3-67E1E3B2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F294F-E315-4FB8-B6BE-2F6C5F9B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A42D9-C647-4538-9772-865D2C57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806D7-F6CF-4C37-898B-59440ED4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441D1-27DC-4746-AAE2-88E1D7CF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4E8-FF7A-4870-B264-A0F2EE49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3A5DD-6522-4FA0-A1D5-93F53684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4B4BF-CFC0-4C84-B382-6FE6C6A8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0BF37-43B2-4B09-A41E-6D9E2F5E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E2EE8-A1E7-45BC-BC0A-1E55D9BA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C1BB8-5B89-4390-B64D-67C2A121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FC5CF-CC23-4A3F-ADCE-F432223B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D5223-F4A6-4721-A264-DCE49BFF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89E79-F905-409A-8CCD-1C4C8538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7511D-72F2-4005-B182-3FDB5BAA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ABFEB-7EF1-43BB-AE61-D67E90CD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6E8E-DBE4-4BF9-818E-069B0FFE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25832-51CB-43A0-8399-B0F26F75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FFC03-1D67-4C13-89B7-B4131198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67112-F85F-4ACA-B72A-709A3A9B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8E68F-63B7-4D2B-A03B-2DD1B6A3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0F403-2043-48A3-B5F8-1CCCDB69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68B78-A0F9-470C-A6F5-AF72E09A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2BBC3-21CB-42A5-A035-F3922DE6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BE146-47C5-42D2-A0D7-92516BBE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5DB67-5E41-46B1-A875-1373A5DE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2F3DF-7962-4766-AA3D-AF835307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8DF7-B51E-418D-9208-1E472798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BA2E3-055B-47DB-B798-A041D7C3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F7FB9-FC65-4081-9AC5-26FC66F4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0F4FE-E5CC-4D47-BE0B-BD81F282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DD9D9-E1AC-4D17-A468-3D68146A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C9E7F-E6C3-44D9-953C-D63574B8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A74CE-AF1D-4C80-9196-7F87AA71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34125-AC50-4368-978A-57BF789B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5D5FC-88A7-43B3-942E-046B281E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A3DE4-113A-4888-ADEB-0C00A215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78ECE-C353-4C73-A1D9-A58DF8AA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1A79-F73B-4E27-A032-E52270A3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4C3D83-BA69-419D-B3C5-5B0FC26F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42872-4E40-459D-A38F-04A5F103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3A142-74C3-4599-8719-8F2DDD12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8E3FF-45EA-48D5-824D-D40A4243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A079B-1C21-42D7-A66A-949BC0C6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53573-F864-440C-916D-EB198A0C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94C99-6D6E-47DA-81BC-12D5351B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2DCA1F-BE9F-46CE-928F-F199831D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A2E41B-906D-4894-BB71-1EE4E5E3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229CF0-8A4D-4103-9CFA-36607F20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0BA2-A2CD-4FB2-83FA-0772B2BA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1FB53-C8B4-42E1-AFB7-17B817B8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BFF16F-D0F0-44C7-B347-CC41C3DD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752E9-1531-4029-AB7D-76E0AFA2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AEF44C-9250-4AEF-9A91-557FB7DE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D918DE-FF94-4FC4-A308-B1C1E167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55764-3C64-46BC-AE09-94339961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59B4E-1A82-4455-B61A-E87281E3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24985F-85FE-498A-9805-FCF45C42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E63DBB-4308-45B4-821D-39523A7D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D3BADC-D987-4CCC-BF84-E6024F6D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3AB1-67EB-464F-85AB-78D971C5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EE8ADE-6DD9-46B0-B6F1-A182E0FB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B5AEBA-FFE6-448C-A7A9-7349FD71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CD53A5-C44A-4D86-A8E1-8AF72BB4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6F226F-7101-405C-B415-FDF442CB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48C388-B382-4B8F-8E05-61BE9594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66D369-5AFE-43BE-8C1A-7CFBD0AB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7E3B8C-D6FE-4DD4-93C3-C2944D67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D8C157-6059-42F1-877C-2AE2E18A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6BF9CC-4A3C-49C5-9CE4-35D79BFF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D40FA1-F03F-4756-8F1A-66C03ACE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3F3A-8BDD-4634-B139-7432A8A2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184141-CD72-4B78-9F44-203EA0FE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4DE4-04A9-4785-A7DE-EF5F86FA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008F-DD56-48C0-8E78-72326958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2482-A2BA-47A5-BB60-426488A9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6AB0-27F6-41A3-8D39-A05A3745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AB31-9A79-4278-9844-DA50154B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1205-6FC4-4A8D-882A-6ABBAFE1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62D7-4270-4C07-8C4A-ABABE76E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0EBEC-8C30-4940-8391-6E21721A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4A2E-14A9-48CC-B39C-6C1B8930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0FE8A-9D5D-486D-8E3D-43975DEC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16D08-2428-48BD-BC32-8EEA3143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9E5F8-EA4D-472A-804A-258BF590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183-E575-4559-B8CF-94ED1FDD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36547-0F08-4352-BCAE-411B413D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96BAE-6291-4931-8A66-2BB6D7A1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11890-2F74-4BD5-AD46-49B013DE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D7093-9CA0-43BB-8FDD-20399CD6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324A4-9165-43C1-BF2A-EDBF5721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E397C-147D-4807-B9FF-E3119649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9079C-0983-43B7-91C5-DE514B33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708CF-451E-40DB-9892-15C67825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FEDE8-2050-4B4D-909C-7B5450CE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BAAC3-12BC-4018-9798-CD47C8FB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0F7-15B3-41D6-BA21-81940D2E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F4DC3-AA57-42BB-AF6B-3CC2E738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62690-53BF-4FEA-845D-CA4A6D0B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B861F-4A3C-4378-9DA1-F4C8E790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BCFCF-0273-4EAA-8413-BE9A5BA3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10F23-47AC-4F98-B449-00374058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3B1E1-BD5E-464A-B2EF-708C7D38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672A2-6808-4A9B-AD6B-D23FBA3C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58853-91A7-496E-9E5E-B7F866EC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D1939-BD0E-430A-BFF0-17FD1FE7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C9036-F234-4C27-AB8E-B632D70C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342-7909-4CEE-8BAB-6EC6468F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6B403-CD56-44A6-B21D-DBB10113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7EBBE-C313-4B46-BF00-DE1DC458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88F77-21DE-48E1-A675-E6DC8FB2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05C40-74E2-4D11-A52F-7D253DBF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62EB6-972F-436F-9570-3E96590B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B2A0C-20FD-4209-854D-04366743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444AF-B947-4660-B571-9F8C92C7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882D9-0BF4-442B-913C-C071FD3D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2EEDC-81A4-4055-BA10-662206B0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947E8-877B-45A0-9C05-13C43B02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0B4-70BD-42E7-8C02-433F3333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F8A2A-3847-4A23-B197-ED58C8FA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C979E-61A7-4BCC-A9A7-E61C74C0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2A033-9376-403F-8BB3-4F889DC0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926F7-73CD-4907-BB41-8B5AB968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24867-D08F-4C4F-B337-59B250E4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3A981-275F-4621-82BD-A7B2CAEC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ED810-074E-4DA5-BCB2-56F07B80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D62BF-F51A-4EA2-B2AC-A624235E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A0EA3-3B36-44F5-A0EC-B591574D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A0098-D3FB-4AF2-BF25-843789B2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0A3-3C0F-4016-A8F4-3F8D0D09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A4C09-E121-48DA-8B00-21208521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F106A-9252-49CE-A3A6-B9BB1B4A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26947-E372-403C-A50B-00AFC63C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8BE1E-25ED-4046-9E4F-9B6FE95F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3F05F-DAFF-47DC-955B-EF33C447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C49B7-DF42-4C7F-BCD4-BDCB1AEC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14B97-CEFC-45E3-AA00-2AD08D31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BAA6D-A15B-44E6-9FAB-25EC393B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32905-9A50-45CB-B7A8-7A4865B7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4085D-AE36-4679-BC87-1B4920F6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135-D3BD-496C-A8D5-D421AEBC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35263-53B7-4C90-ACD8-3EF166B8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96B3B-57E0-4717-ACD1-6EE8ED09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5B1B9-E2CB-4573-9DA3-4FB382B5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973C6-267B-4228-AEA5-37FA95F4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BD6BE-9AB7-4AA5-909D-30216569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178FD-F937-4DB7-8B6C-96AC2909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8870D-C4D2-4086-9594-FBD418EC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22353-90E2-4492-9947-63DD4E88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BE4CD-A371-41D5-9C7F-D760FAC8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22E7B-C994-42A0-8DCD-83203B77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DCC-CFC2-4095-B1C4-4FA6207D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C032D-E743-497A-A799-F4A57030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D41EA-64DF-4505-901C-575E9FD6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33FC6-7FC0-48A9-A9F3-AD8E3237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1D60E-C2F9-4DE5-AF85-08B436F0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67E89-6298-431F-8EA2-C080F9DC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E60C0-D280-4353-BD82-7C0C3B23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82F46-B410-43AE-8483-3EC47E64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B1652-CD90-4B0E-8718-E9CB52D9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74C6A-79C8-4280-9E80-A20CAC21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1C29B-75EB-427A-80AB-6FF311B2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79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56CF-BE05-43BA-BB57-55F8550DF89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462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4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465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1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DD99-D831-481D-A6BF-1A929CD1E74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516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8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519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0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1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2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3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5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6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7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E709-230F-4A35-A7BD-7184454FE04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570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2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573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5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6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751F-9C61-4D69-8C37-14AA5EE5C36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624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626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627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9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0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3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F834-6A99-4BA8-8D29-169DBF58D65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678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680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681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3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4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7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4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4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4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A76E-BABF-44E6-8E67-6FA54360205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732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3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34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735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7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8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1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4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4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16F0-E11B-4F3A-B656-BCA1B4FFA68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49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A9BB-11B8-4B73-9ED3-1722F7C8CAB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80B0-479D-4CF2-99D5-2446AFB99E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24379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76320" y="6248520"/>
            <a:ext cx="588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82C0-B424-4348-A1BA-F751BB98654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0" y="6480"/>
            <a:ext cx="9141840" cy="6851520"/>
            <a:chOff x="0" y="6480"/>
            <a:chExt cx="9141840" cy="6851520"/>
          </a:xfrm>
        </p:grpSpPr>
        <p:grpSp>
          <p:nvGrpSpPr>
            <p:cNvPr id="191" name="Group 3"/>
            <p:cNvGrpSpPr/>
            <p:nvPr/>
          </p:nvGrpSpPr>
          <p:grpSpPr>
            <a:xfrm>
              <a:off x="0" y="1843200"/>
              <a:ext cx="9141840" cy="5014800"/>
              <a:chOff x="0" y="1843200"/>
              <a:chExt cx="9141840" cy="5014800"/>
            </a:xfrm>
          </p:grpSpPr>
          <p:sp>
            <p:nvSpPr>
              <p:cNvPr id="192" name="Freeform 4"/>
              <p:cNvSpPr/>
              <p:nvPr/>
            </p:nvSpPr>
            <p:spPr>
              <a:xfrm>
                <a:off x="885960" y="1843200"/>
                <a:ext cx="825588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4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7" name="Group 9"/>
            <p:cNvGrpSpPr/>
            <p:nvPr/>
          </p:nvGrpSpPr>
          <p:grpSpPr>
            <a:xfrm>
              <a:off x="552600" y="6480"/>
              <a:ext cx="8589240" cy="6851520"/>
              <a:chOff x="552600" y="6480"/>
              <a:chExt cx="8589240" cy="6851520"/>
            </a:xfrm>
          </p:grpSpPr>
          <p:sp>
            <p:nvSpPr>
              <p:cNvPr id="198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Freeform 12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328E-2FE2-447D-AFFF-8258D3C5A2D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246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8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249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3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4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6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7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4B35-7DD5-470D-8006-FAF527FFBCB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300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2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303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5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6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9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4CEF-B3A7-4DB8-84E4-EBF28075049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354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56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357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9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0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D6EA-7F2A-4AB8-9C9F-A64ADDAE336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408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411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3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7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62C9-5674-4667-8531-316822B00A0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7;&#1088;&#1080;&#1083;&#1086;&#1078;&#1077;&#1085;&#1080;&#1103;%20&#1082;%20&#1087;&#1088;&#1077;&#1079;&#1077;&#1085;&#1090;&#1072;&#1094;&#1080;&#1080;/1%20&#1089;&#1090;&#1088;&#1072;&#1085;&#1080;&#1094;&#1072;.doc" TargetMode="External"/><Relationship Id="rId2" Type="http://schemas.openxmlformats.org/officeDocument/2006/relationships/hyperlink" Target="file:///&#1087;&#1088;&#1080;&#1083;&#1086;&#1078;&#1077;&#1085;&#1080;&#1103;%20&#1082;%20&#1087;&#1088;&#1077;&#1079;&#1077;&#1085;&#1090;&#1072;&#1094;&#1080;&#1080;/1%20&#1089;&#1090;&#1088;&#1072;&#1085;&#1080;&#1094;&#1072;.doc" TargetMode="External"/><Relationship Id="rId3" Type="http://schemas.openxmlformats.org/officeDocument/2006/relationships/hyperlink" Target="file:///&#1087;&#1088;&#1080;&#1083;&#1086;&#1078;&#1077;&#1085;&#1080;&#1103;%20&#1082;%20&#1087;&#1088;&#1077;&#1079;&#1077;&#1085;&#1090;&#1072;&#1094;&#1080;&#1080;/1%20&#1089;&#1090;&#1088;&#1072;&#1085;&#1080;&#1094;&#1072;.doc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1800" spc="-1" strike="noStrike">
                <a:solidFill>
                  <a:srgbClr val="cdd7df"/>
                </a:solidFill>
                <a:latin typeface="Tahoma"/>
              </a:rPr>
              <a:t>МОУ Видновская средняя общеобразовательная школа №7</a:t>
            </a: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ектная работ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 русскому языку</a:t>
            </a:r>
            <a:br>
              <a:rPr sz="3200"/>
            </a:b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448240" y="4149360"/>
            <a:ext cx="369576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боту выполнил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еницы 6 «б» класса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окина Ирин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Ткачева Анастас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уководитель проекта учитель русского языка Алешина Н.В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556000" y="2060640"/>
            <a:ext cx="43178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99"/>
                </a:solidFill>
                <a:latin typeface="Tahoma"/>
              </a:rPr>
              <a:t>Современный </a:t>
            </a:r>
            <a:br>
              <a:rPr sz="4800"/>
            </a:br>
            <a:r>
              <a:rPr b="0" lang="ru-RU" sz="4800" spc="-1" strike="noStrike">
                <a:solidFill>
                  <a:srgbClr val="ff3399"/>
                </a:solidFill>
                <a:latin typeface="Tahoma"/>
              </a:rPr>
              <a:t>молодежный </a:t>
            </a:r>
            <a:br>
              <a:rPr sz="4800"/>
            </a:br>
            <a:r>
              <a:rPr b="0" lang="ru-RU" sz="4800" spc="-1" strike="noStrike">
                <a:solidFill>
                  <a:srgbClr val="ff3399"/>
                </a:solidFill>
                <a:latin typeface="Tahoma"/>
              </a:rPr>
              <a:t>словар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Freeform 9"/>
          <p:cNvSpPr/>
          <p:nvPr/>
        </p:nvSpPr>
        <p:spPr>
          <a:xfrm>
            <a:off x="324000" y="1700280"/>
            <a:ext cx="4417920" cy="32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Freeform 10"/>
          <p:cNvSpPr/>
          <p:nvPr/>
        </p:nvSpPr>
        <p:spPr>
          <a:xfrm>
            <a:off x="3873600" y="5630760"/>
            <a:ext cx="988920" cy="1059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0" name="Picture 13" descr=""/>
          <p:cNvPicPr/>
          <p:nvPr/>
        </p:nvPicPr>
        <p:blipFill>
          <a:blip r:embed="rId1"/>
          <a:stretch/>
        </p:blipFill>
        <p:spPr>
          <a:xfrm>
            <a:off x="4500720" y="-27000"/>
            <a:ext cx="4838400" cy="6010200"/>
          </a:xfrm>
          <a:prstGeom prst="rect">
            <a:avLst/>
          </a:prstGeom>
          <a:ln w="0">
            <a:noFill/>
          </a:ln>
        </p:spPr>
      </p:pic>
      <p:sp>
        <p:nvSpPr>
          <p:cNvPr id="791" name="Freeform 18"/>
          <p:cNvSpPr/>
          <p:nvPr/>
        </p:nvSpPr>
        <p:spPr>
          <a:xfrm>
            <a:off x="324000" y="2492280"/>
            <a:ext cx="3240000" cy="252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Freeform 24"/>
          <p:cNvSpPr/>
          <p:nvPr/>
        </p:nvSpPr>
        <p:spPr>
          <a:xfrm>
            <a:off x="-23760" y="2309760"/>
            <a:ext cx="409680" cy="19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Freeform 25"/>
          <p:cNvSpPr/>
          <p:nvPr/>
        </p:nvSpPr>
        <p:spPr>
          <a:xfrm>
            <a:off x="-25560" y="1384200"/>
            <a:ext cx="351000" cy="26352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Freeform 31"/>
          <p:cNvSpPr/>
          <p:nvPr/>
        </p:nvSpPr>
        <p:spPr>
          <a:xfrm>
            <a:off x="-36360" y="1341360"/>
            <a:ext cx="2022480" cy="1295640"/>
          </a:xfrm>
          <a:prstGeom prst="pie">
            <a:avLst/>
          </a:prstGeom>
          <a:gradFill rotWithShape="0">
            <a:gsLst>
              <a:gs pos="0">
                <a:srgbClr val="996600"/>
              </a:gs>
              <a:gs pos="100000">
                <a:srgbClr val="9a9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5" name="Picture 39" descr=""/>
          <p:cNvPicPr/>
          <p:nvPr/>
        </p:nvPicPr>
        <p:blipFill>
          <a:blip r:embed="rId2"/>
          <a:stretch/>
        </p:blipFill>
        <p:spPr>
          <a:xfrm>
            <a:off x="0" y="2060640"/>
            <a:ext cx="3090960" cy="348624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44" descr=""/>
          <p:cNvPicPr/>
          <p:nvPr/>
        </p:nvPicPr>
        <p:blipFill>
          <a:blip r:embed="rId3"/>
          <a:stretch/>
        </p:blipFill>
        <p:spPr>
          <a:xfrm>
            <a:off x="-36360" y="4437000"/>
            <a:ext cx="5867280" cy="2421000"/>
          </a:xfrm>
          <a:prstGeom prst="rect">
            <a:avLst/>
          </a:prstGeom>
          <a:ln w="0">
            <a:noFill/>
          </a:ln>
        </p:spPr>
      </p:pic>
      <p:sp>
        <p:nvSpPr>
          <p:cNvPr id="797" name="Freeform 45"/>
          <p:cNvSpPr/>
          <p:nvPr/>
        </p:nvSpPr>
        <p:spPr>
          <a:xfrm>
            <a:off x="-36360" y="1125360"/>
            <a:ext cx="8928000" cy="5832720"/>
          </a:xfrm>
          <a:prstGeom prst="pie">
            <a:avLst/>
          </a:prstGeom>
          <a:gradFill rotWithShape="0">
            <a:gsLst>
              <a:gs pos="0">
                <a:srgbClr val="996600"/>
              </a:gs>
              <a:gs pos="50000">
                <a:srgbClr val="9a9600"/>
              </a:gs>
              <a:gs pos="100000">
                <a:srgbClr val="9966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Freeform 46"/>
          <p:cNvSpPr/>
          <p:nvPr/>
        </p:nvSpPr>
        <p:spPr>
          <a:xfrm>
            <a:off x="4284720" y="4149720"/>
            <a:ext cx="5257800" cy="2879640"/>
          </a:xfrm>
          <a:prstGeom prst="pie">
            <a:avLst/>
          </a:prstGeom>
          <a:gradFill rotWithShape="0">
            <a:gsLst>
              <a:gs pos="0">
                <a:srgbClr val="996600"/>
              </a:gs>
              <a:gs pos="100000">
                <a:srgbClr val="9a9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9" name="Picture 47" descr="knight1"/>
          <p:cNvPicPr/>
          <p:nvPr/>
        </p:nvPicPr>
        <p:blipFill>
          <a:blip r:embed="rId4"/>
          <a:stretch/>
        </p:blipFill>
        <p:spPr>
          <a:xfrm>
            <a:off x="3205080" y="1413000"/>
            <a:ext cx="1486080" cy="3060720"/>
          </a:xfrm>
          <a:prstGeom prst="rect">
            <a:avLst/>
          </a:prstGeom>
          <a:ln w="0">
            <a:noFill/>
          </a:ln>
        </p:spPr>
      </p:pic>
      <p:sp>
        <p:nvSpPr>
          <p:cNvPr id="800" name="Freeform 48"/>
          <p:cNvSpPr/>
          <p:nvPr/>
        </p:nvSpPr>
        <p:spPr>
          <a:xfrm>
            <a:off x="3132000" y="2852640"/>
            <a:ext cx="1889280" cy="1890720"/>
          </a:xfrm>
          <a:prstGeom prst="pie">
            <a:avLst/>
          </a:prstGeom>
          <a:gradFill rotWithShape="0">
            <a:gsLst>
              <a:gs pos="0">
                <a:srgbClr val="996600"/>
              </a:gs>
              <a:gs pos="50000">
                <a:srgbClr val="9a96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1" name="Freeform 49"/>
          <p:cNvSpPr/>
          <p:nvPr/>
        </p:nvSpPr>
        <p:spPr>
          <a:xfrm>
            <a:off x="36360" y="4365720"/>
            <a:ext cx="3994200" cy="8604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02" name="Picture 51" descr="People-027"/>
          <p:cNvPicPr/>
          <p:nvPr/>
        </p:nvPicPr>
        <p:blipFill>
          <a:blip r:embed="rId5"/>
          <a:stretch/>
        </p:blipFill>
        <p:spPr>
          <a:xfrm>
            <a:off x="179280" y="260280"/>
            <a:ext cx="3095640" cy="2095560"/>
          </a:xfrm>
          <a:prstGeom prst="rect">
            <a:avLst/>
          </a:prstGeom>
          <a:ln w="0">
            <a:noFill/>
          </a:ln>
        </p:spPr>
      </p:pic>
      <p:sp>
        <p:nvSpPr>
          <p:cNvPr id="803" name="Freeform 52"/>
          <p:cNvSpPr/>
          <p:nvPr/>
        </p:nvSpPr>
        <p:spPr>
          <a:xfrm>
            <a:off x="755640" y="1844640"/>
            <a:ext cx="1255680" cy="714240"/>
          </a:xfrm>
          <a:prstGeom prst="pie">
            <a:avLst/>
          </a:prstGeom>
          <a:gradFill rotWithShape="0">
            <a:gsLst>
              <a:gs pos="0">
                <a:srgbClr val="996600"/>
              </a:gs>
              <a:gs pos="50000">
                <a:srgbClr val="9a96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Freeform 53"/>
          <p:cNvSpPr/>
          <p:nvPr/>
        </p:nvSpPr>
        <p:spPr>
          <a:xfrm>
            <a:off x="179280" y="1413000"/>
            <a:ext cx="2048040" cy="1412640"/>
          </a:xfrm>
          <a:prstGeom prst="pie">
            <a:avLst/>
          </a:prstGeom>
          <a:gradFill rotWithShape="0">
            <a:gsLst>
              <a:gs pos="0">
                <a:srgbClr val="996600"/>
              </a:gs>
              <a:gs pos="100000">
                <a:srgbClr val="9a9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Freeform 55"/>
          <p:cNvSpPr/>
          <p:nvPr/>
        </p:nvSpPr>
        <p:spPr>
          <a:xfrm>
            <a:off x="-108000" y="1197000"/>
            <a:ext cx="2773440" cy="193356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Freeform 56"/>
          <p:cNvSpPr/>
          <p:nvPr/>
        </p:nvSpPr>
        <p:spPr>
          <a:xfrm>
            <a:off x="3564000" y="4076640"/>
            <a:ext cx="638280" cy="50004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Freeform 57"/>
          <p:cNvSpPr/>
          <p:nvPr/>
        </p:nvSpPr>
        <p:spPr>
          <a:xfrm>
            <a:off x="4265640" y="4091040"/>
            <a:ext cx="1189080" cy="91584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Freeform 58"/>
          <p:cNvSpPr/>
          <p:nvPr/>
        </p:nvSpPr>
        <p:spPr>
          <a:xfrm>
            <a:off x="1643040" y="2743200"/>
            <a:ext cx="1638360" cy="177948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Freeform 73"/>
          <p:cNvSpPr/>
          <p:nvPr/>
        </p:nvSpPr>
        <p:spPr>
          <a:xfrm>
            <a:off x="-108000" y="1125360"/>
            <a:ext cx="407880" cy="140976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0" name="Freeform 74"/>
          <p:cNvSpPr/>
          <p:nvPr/>
        </p:nvSpPr>
        <p:spPr>
          <a:xfrm>
            <a:off x="68400" y="1347840"/>
            <a:ext cx="291960" cy="82404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Freeform 75"/>
          <p:cNvSpPr/>
          <p:nvPr/>
        </p:nvSpPr>
        <p:spPr>
          <a:xfrm>
            <a:off x="-49320" y="1203480"/>
            <a:ext cx="295560" cy="21564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Freeform 76"/>
          <p:cNvSpPr/>
          <p:nvPr/>
        </p:nvSpPr>
        <p:spPr>
          <a:xfrm>
            <a:off x="1000080" y="2143080"/>
            <a:ext cx="709560" cy="31896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Freeform 77"/>
          <p:cNvSpPr/>
          <p:nvPr/>
        </p:nvSpPr>
        <p:spPr>
          <a:xfrm>
            <a:off x="1620720" y="2327400"/>
            <a:ext cx="542880" cy="31104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Freeform 78"/>
          <p:cNvSpPr/>
          <p:nvPr/>
        </p:nvSpPr>
        <p:spPr>
          <a:xfrm>
            <a:off x="2249640" y="2703600"/>
            <a:ext cx="377640" cy="37152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Freeform 79"/>
          <p:cNvSpPr/>
          <p:nvPr/>
        </p:nvSpPr>
        <p:spPr>
          <a:xfrm>
            <a:off x="5764320" y="6359400"/>
            <a:ext cx="2033640" cy="58284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Freeform 80"/>
          <p:cNvSpPr/>
          <p:nvPr/>
        </p:nvSpPr>
        <p:spPr>
          <a:xfrm>
            <a:off x="7659720" y="6761160"/>
            <a:ext cx="206280" cy="17316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Freeform 81"/>
          <p:cNvSpPr/>
          <p:nvPr/>
        </p:nvSpPr>
        <p:spPr>
          <a:xfrm>
            <a:off x="3164040" y="4487760"/>
            <a:ext cx="969840" cy="7462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8" name="Freeform 82"/>
          <p:cNvSpPr/>
          <p:nvPr/>
        </p:nvSpPr>
        <p:spPr>
          <a:xfrm>
            <a:off x="3116160" y="4511520"/>
            <a:ext cx="517680" cy="3812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9" name="Freeform 83"/>
          <p:cNvSpPr/>
          <p:nvPr/>
        </p:nvSpPr>
        <p:spPr>
          <a:xfrm>
            <a:off x="2793960" y="4809960"/>
            <a:ext cx="531720" cy="3510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Freeform 84"/>
          <p:cNvSpPr/>
          <p:nvPr/>
        </p:nvSpPr>
        <p:spPr>
          <a:xfrm>
            <a:off x="2430360" y="4414680"/>
            <a:ext cx="577800" cy="15732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1" name="Freeform 85"/>
          <p:cNvSpPr/>
          <p:nvPr/>
        </p:nvSpPr>
        <p:spPr>
          <a:xfrm>
            <a:off x="1081080" y="4275000"/>
            <a:ext cx="663480" cy="3762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2" name="Freeform 86"/>
          <p:cNvSpPr/>
          <p:nvPr/>
        </p:nvSpPr>
        <p:spPr>
          <a:xfrm>
            <a:off x="1547640" y="4292640"/>
            <a:ext cx="412920" cy="208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Freeform 87"/>
          <p:cNvSpPr/>
          <p:nvPr/>
        </p:nvSpPr>
        <p:spPr>
          <a:xfrm>
            <a:off x="1371600" y="4341960"/>
            <a:ext cx="372960" cy="109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Freeform 88"/>
          <p:cNvSpPr/>
          <p:nvPr/>
        </p:nvSpPr>
        <p:spPr>
          <a:xfrm>
            <a:off x="-38160" y="4370400"/>
            <a:ext cx="303120" cy="2318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Freeform 89"/>
          <p:cNvSpPr/>
          <p:nvPr/>
        </p:nvSpPr>
        <p:spPr>
          <a:xfrm>
            <a:off x="-84240" y="4549680"/>
            <a:ext cx="276480" cy="230976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6" name="Freeform 91"/>
          <p:cNvSpPr/>
          <p:nvPr/>
        </p:nvSpPr>
        <p:spPr>
          <a:xfrm>
            <a:off x="23760" y="6653160"/>
            <a:ext cx="5594400" cy="28908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7" name="Freeform 92"/>
          <p:cNvSpPr/>
          <p:nvPr/>
        </p:nvSpPr>
        <p:spPr>
          <a:xfrm>
            <a:off x="0" y="6723000"/>
            <a:ext cx="1979640" cy="23508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Freeform 93"/>
          <p:cNvSpPr/>
          <p:nvPr/>
        </p:nvSpPr>
        <p:spPr>
          <a:xfrm>
            <a:off x="-150840" y="6737400"/>
            <a:ext cx="1028880" cy="26676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Freeform 94"/>
          <p:cNvSpPr/>
          <p:nvPr/>
        </p:nvSpPr>
        <p:spPr>
          <a:xfrm>
            <a:off x="698400" y="6761160"/>
            <a:ext cx="347760" cy="15876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Freeform 95"/>
          <p:cNvSpPr/>
          <p:nvPr/>
        </p:nvSpPr>
        <p:spPr>
          <a:xfrm>
            <a:off x="673200" y="6689880"/>
            <a:ext cx="1058760" cy="22536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Freeform 96"/>
          <p:cNvSpPr/>
          <p:nvPr/>
        </p:nvSpPr>
        <p:spPr>
          <a:xfrm>
            <a:off x="1671480" y="6665760"/>
            <a:ext cx="1721160" cy="27648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Freeform 97"/>
          <p:cNvSpPr/>
          <p:nvPr/>
        </p:nvSpPr>
        <p:spPr>
          <a:xfrm>
            <a:off x="3033720" y="6689880"/>
            <a:ext cx="660240" cy="21564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Freeform 98"/>
          <p:cNvSpPr/>
          <p:nvPr/>
        </p:nvSpPr>
        <p:spPr>
          <a:xfrm>
            <a:off x="5583240" y="6329520"/>
            <a:ext cx="326880" cy="64908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Freeform 99"/>
          <p:cNvSpPr/>
          <p:nvPr/>
        </p:nvSpPr>
        <p:spPr>
          <a:xfrm>
            <a:off x="-49320" y="4487760"/>
            <a:ext cx="125640" cy="34128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Freeform 100"/>
          <p:cNvSpPr/>
          <p:nvPr/>
        </p:nvSpPr>
        <p:spPr>
          <a:xfrm>
            <a:off x="-182520" y="2525760"/>
            <a:ext cx="374760" cy="191124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Freeform 101"/>
          <p:cNvSpPr/>
          <p:nvPr/>
        </p:nvSpPr>
        <p:spPr>
          <a:xfrm>
            <a:off x="-68400" y="2430360"/>
            <a:ext cx="257400" cy="143208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Freeform 102"/>
          <p:cNvSpPr/>
          <p:nvPr/>
        </p:nvSpPr>
        <p:spPr>
          <a:xfrm>
            <a:off x="-57240" y="4307040"/>
            <a:ext cx="173160" cy="9684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8" name="Freeform 103"/>
          <p:cNvSpPr/>
          <p:nvPr/>
        </p:nvSpPr>
        <p:spPr>
          <a:xfrm>
            <a:off x="9112320" y="-12600"/>
            <a:ext cx="309600" cy="97452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Freeform 104"/>
          <p:cNvSpPr/>
          <p:nvPr/>
        </p:nvSpPr>
        <p:spPr>
          <a:xfrm>
            <a:off x="9193320" y="1468440"/>
            <a:ext cx="234720" cy="151596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Freeform 105"/>
          <p:cNvSpPr/>
          <p:nvPr/>
        </p:nvSpPr>
        <p:spPr>
          <a:xfrm>
            <a:off x="9117000" y="3718080"/>
            <a:ext cx="279360" cy="85392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Freeform 106"/>
          <p:cNvSpPr/>
          <p:nvPr/>
        </p:nvSpPr>
        <p:spPr>
          <a:xfrm>
            <a:off x="9205920" y="5473800"/>
            <a:ext cx="147600" cy="60156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Freeform 107"/>
          <p:cNvSpPr/>
          <p:nvPr/>
        </p:nvSpPr>
        <p:spPr>
          <a:xfrm>
            <a:off x="6877080" y="-57240"/>
            <a:ext cx="1573200" cy="24768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3" name="Звукозапись басни.wma" descr=""/>
          <p:cNvPicPr/>
          <p:nvPr/>
        </p:nvPicPr>
        <p:blipFill>
          <a:blip r:embed="rId6"/>
          <a:stretch/>
        </p:blipFill>
        <p:spPr>
          <a:xfrm>
            <a:off x="807228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86935" fill="hold"/>
                                        <p:tgtEl>
                                          <p:spTgt spid="8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754380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Актуальность исслед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стоящее время  необходимость изучения неформальной речи молодых людей признается многими учеными. За последние два десятилетия появляются работы, посвященные проблемам формирования и функционирования жаргонизмов в студенческих и школьных коллектива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бъект исслед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сский молодежный жаргон, рассматриваемый как лексическая подсистема русского язы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Гипоте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поху социальных перемен изменения в языке достаточно органичны, потому что язык и общество – это две сообщающиеся системы: то, что происходит в обществе, отражается в языке, и наоборот. Язык как  развивающееся явление  требует ресурсов для своего функционирования. С изменением норм жизни изменяется и пополняется содержание язы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042560" y="259920"/>
            <a:ext cx="7543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Цели исследовани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ение и лингвистический анализ слов молодежного жаргона на основе собранного материала в возрастной группе от 11 до 13 лет, систематизация его в словарь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социологического опроса среди учащихся 5-6 классов и систематизация данных на предмет частоты и места использования жаргонных слов в реч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дачи исследов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ить вопрос о содержании понятия «молодежный жаргон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ить статус современного молодежного жаргона в системе русского национального язы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анализировать причины возникновения жаргонной лексики в современной реч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сти анализ данных социологического опрос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 txBox="1"/>
          <p:nvPr/>
        </p:nvSpPr>
        <p:spPr>
          <a:xfrm>
            <a:off x="612000" y="62136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1400" spc="-1" strike="noStrike">
                <a:solidFill>
                  <a:srgbClr val="006666"/>
                </a:solidFill>
                <a:latin typeface="Arial"/>
              </a:rPr>
              <a:t>МОУ Видновская средняя общеобразовательная школа № 7</a:t>
            </a:r>
            <a:br>
              <a:rPr sz="1400"/>
            </a:br>
            <a:br>
              <a:rPr sz="3200"/>
            </a:b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/>
          </p:nvPr>
        </p:nvSpPr>
        <p:spPr>
          <a:xfrm>
            <a:off x="4572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.Фокина  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А.Ткаче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Rectangle 9"/>
          <p:cNvSpPr/>
          <p:nvPr/>
        </p:nvSpPr>
        <p:spPr>
          <a:xfrm>
            <a:off x="1477800" y="2852640"/>
            <a:ext cx="6121440" cy="2664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3366"/>
                </a:solidFill>
                <a:uFillTx/>
                <a:latin typeface="comic"/>
                <a:ea typeface="Arial Unicode MS"/>
                <a:hlinkClick r:id="rId1"/>
              </a:rPr>
              <a:t>Современный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3366"/>
                </a:solidFill>
                <a:uFillTx/>
                <a:latin typeface="comic"/>
                <a:ea typeface="Arial Unicode MS"/>
                <a:hlinkClick r:id="rId2"/>
              </a:rPr>
              <a:t>молодежный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3366"/>
                </a:solidFill>
                <a:uFillTx/>
                <a:latin typeface="comic"/>
                <a:ea typeface="Arial Unicode MS"/>
                <a:hlinkClick r:id="rId3"/>
              </a:rPr>
              <a:t>словарь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Rectangle 11"/>
          <p:cNvSpPr/>
          <p:nvPr/>
        </p:nvSpPr>
        <p:spPr>
          <a:xfrm>
            <a:off x="51055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WordArt 13"/>
          <p:cNvSpPr txBox="1"/>
          <p:nvPr/>
        </p:nvSpPr>
        <p:spPr>
          <a:xfrm>
            <a:off x="7021440" y="4653000"/>
            <a:ext cx="1219320" cy="16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Kozuka Mincho Pro H"/>
              </a:rPr>
              <a:t>А</a:t>
            </a:r>
            <a:endParaRPr b="0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Kozuka Mincho Pro H"/>
              <a:ea typeface="Kozuka Mincho Pro H"/>
            </a:endParaRPr>
          </a:p>
        </p:txBody>
      </p:sp>
      <p:sp>
        <p:nvSpPr>
          <p:cNvPr id="851" name="WordArt 16"/>
          <p:cNvSpPr txBox="1"/>
          <p:nvPr/>
        </p:nvSpPr>
        <p:spPr>
          <a:xfrm>
            <a:off x="8172360" y="5373720"/>
            <a:ext cx="576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Kartika"/>
              </a:rPr>
              <a:t>Я</a:t>
            </a:r>
            <a:endParaRPr b="0" lang="en-US" sz="7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Kartika"/>
              <a:ea typeface="Kartik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71320" y="304560"/>
            <a:ext cx="8358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Анкета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ля социологического опроса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ема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«Использование молодежного сленга в речи» </a:t>
            </a:r>
            <a:endParaRPr b="1" lang="en-US" sz="2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0" y="206064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Я использую сленг в своей реч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ог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раюсь не использ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использу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714560" y="1981080"/>
            <a:ext cx="389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В каких ситуациях  я использую сленг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азговоре с родителя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еди сверст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шко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щественных мест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5438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Результаты опроса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0" y="1071360"/>
            <a:ext cx="39290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Я использую сленг в своей реч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4357440" y="1071360"/>
            <a:ext cx="47862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каких ситуациях я использую сленг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8" name="Диаграмма 5"/>
          <p:cNvGraphicFramePr/>
          <p:nvPr/>
        </p:nvGraphicFramePr>
        <p:xfrm>
          <a:off x="17640" y="1959120"/>
          <a:ext cx="3906720" cy="474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9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959120"/>
                    <a:ext cx="390672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Диаграмма 7"/>
          <p:cNvGraphicFramePr/>
          <p:nvPr/>
        </p:nvGraphicFramePr>
        <p:xfrm>
          <a:off x="4211640" y="1989000"/>
          <a:ext cx="4788000" cy="4653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61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1989000"/>
                    <a:ext cx="478800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75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75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75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75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5294160" y="5994000"/>
            <a:ext cx="38498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.Н.Толст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dd7df"/>
                </a:solidFill>
                <a:latin typeface="comic"/>
              </a:rPr>
              <a:t>	</a:t>
            </a:r>
            <a:r>
              <a:rPr b="1" i="1" lang="ru-RU" sz="4000" spc="-1" strike="noStrike">
                <a:solidFill>
                  <a:srgbClr val="ea9c2a"/>
                </a:solidFill>
                <a:latin typeface="Bradley Hand ITC"/>
              </a:rPr>
              <a:t>Слово – дело великое. Великое потому, что словом можно соединить людей, словом можно и разъединить их, словом служить любви, словом же можно служить вражде и ненависти. </a:t>
            </a:r>
            <a:br>
              <a:rPr sz="4000"/>
            </a:br>
            <a:r>
              <a:rPr b="1" i="1" lang="ru-RU" sz="4000" spc="-1" strike="noStrike">
                <a:solidFill>
                  <a:srgbClr val="ea9c2a"/>
                </a:solidFill>
                <a:latin typeface="Bradley Hand ITC"/>
              </a:rPr>
              <a:t>Берегись от такого слова, </a:t>
            </a:r>
            <a:br>
              <a:rPr sz="4000"/>
            </a:br>
            <a:r>
              <a:rPr b="1" i="1" lang="ru-RU" sz="4000" spc="-1" strike="noStrike">
                <a:solidFill>
                  <a:srgbClr val="ea9c2a"/>
                </a:solidFill>
                <a:latin typeface="Bradley Hand ITC"/>
              </a:rPr>
              <a:t>котор</a:t>
            </a:r>
            <a:r>
              <a:rPr b="1" i="1" lang="ru-RU" sz="4000" spc="-1" strike="noStrike">
                <a:solidFill>
                  <a:srgbClr val="ea9c2a"/>
                </a:solidFill>
                <a:latin typeface="Arial"/>
              </a:rPr>
              <a:t>ое</a:t>
            </a:r>
            <a:r>
              <a:rPr b="1" i="1" lang="ru-RU" sz="4000" spc="-1" strike="noStrike">
                <a:solidFill>
                  <a:srgbClr val="ea9c2a"/>
                </a:solidFill>
                <a:latin typeface="Bradley Hand ITC"/>
              </a:rPr>
              <a:t> разъединяет  людей.</a:t>
            </a:r>
            <a:r>
              <a:rPr b="1" i="1" lang="ru-RU" sz="4000" spc="-1" strike="noStrike">
                <a:solidFill>
                  <a:srgbClr val="cdd7df"/>
                </a:solidFill>
                <a:latin typeface="Bradley Hand ITC"/>
              </a:rPr>
              <a:t>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0,80,1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0,80,1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85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Рисунок 3" descr="img096.jpg"/>
          <p:cNvPicPr/>
          <p:nvPr/>
        </p:nvPicPr>
        <p:blipFill>
          <a:blip r:embed="rId2"/>
          <a:stretch/>
        </p:blipFill>
        <p:spPr>
          <a:xfrm>
            <a:off x="21430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8:40:55Z</dcterms:created>
  <dc:creator>Школа №7</dc:creator>
  <dc:description/>
  <dc:language>en-US</dc:language>
  <cp:lastModifiedBy>user</cp:lastModifiedBy>
  <dcterms:modified xsi:type="dcterms:W3CDTF">2008-01-24T15:38:33Z</dcterms:modified>
  <cp:revision>49</cp:revision>
  <dc:subject/>
  <dc:title>Слайд 1</dc:title>
</cp:coreProperties>
</file>