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8.wmf" ContentType="image/x-wmf"/>
  <Override PartName="/ppt/media/image6.png" ContentType="image/png"/>
  <Override PartName="/ppt/media/image7.jpeg" ContentType="image/jpeg"/>
  <Override PartName="/ppt/media/image9.wmf" ContentType="image/x-wmf"/>
  <Override PartName="/ppt/media/image10.jpeg" ContentType="image/jpeg"/>
  <Override PartName="/ppt/media/image11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173-93C2-4FAB-9A62-8268BA95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32D-E8E3-4088-B10A-44CF97DD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A5107-3969-44C0-B59E-1763E37C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8949C-C0BB-4E12-90F2-B17112AA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A865A-CDD1-40D7-8AE3-2407D820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EB30A-87B2-4BA5-8A8A-8E2DEDAA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508E3-613A-4197-AFD0-F501F871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736D6-7281-4B10-88A9-1A0F748E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AA93B-758B-4FFB-B50B-F69B87A4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3DFAA-301C-4CE6-B658-63B9B205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24961-0830-40A7-858F-17F59CBF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99E2F-A16F-4F47-A005-973E2FF9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D11-4394-49CB-8E5A-F339EB57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ED420-D915-4FF5-B3EC-CCC33F2B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628EA-0573-4EC4-84A8-2E74C3F6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EB435-1585-4F27-9650-7CAAC99E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157ED-5A6F-49B0-B3F3-324F6031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DDD22-034A-4008-BE7B-CC2C3680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6628B-704D-434B-925A-C3E452D0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269C1-CDAB-4AE3-B614-42D09FCC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D5DE4-7D60-4BD0-99D4-79864EE8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BF390-F168-4CC1-AF47-E87FDCB9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4B8E3-B026-4F1C-A3C3-BF6CEAC3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577-5FF5-40DB-92F3-72C273E1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F5097-26D8-4298-886B-C337A079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98EDB-F145-4634-9AB5-296DE958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B9CD3-EA02-4B0D-A12B-8553AFEC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E4E8A-4672-4E3D-B03D-506E5222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1AA57-1E43-4789-8196-A964C380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1B6BD-FC55-4915-93E6-B74D2B56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49421-22D0-45C6-9261-99D50198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D3A8E-25D3-4F89-839C-B876FCF2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49D45-D136-4833-8567-90D65C65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8F979-3103-49FC-A8C1-15506E67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D285-8AF8-4A70-AC66-484F2061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83436-94B8-49D7-86AD-3AF99915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FE39C-605F-4D90-8ADA-886EC7B9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A3253-E6A3-40E6-B508-9B2F2E93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75109-294C-4558-8192-3097B65F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C6E1B-BF93-4C08-9A00-C95A9B88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58853-37A2-4460-9CB5-13597E7E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10D9B-625A-4614-B8F6-E93C83E8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E6C89-B80A-4E1B-A5A6-D04C5EB1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3A921-6BE9-4FC2-B45C-C4A592A1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CA3CD-E3DE-42D3-A8A1-044908DC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F2F6-4BAF-4036-BBB9-8DD26B83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ED7C5-641B-4121-8DFA-A645AE86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4EE46-AE87-4DED-8932-0B9158DA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725F2-1811-495D-B4B9-66EDD3D7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D4033-91D4-4592-AA43-AE2F5811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428A3-33B3-47ED-9D8C-9B6D4FCB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9E0DF-0431-4FA9-A189-4F5AEF7A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5BA75-26F9-4DAD-9881-BCCCB935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19D42-ACE9-443E-9023-8DF983CB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7B624-6DA8-48E2-87E3-78705CB3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F3D5A-DED3-4AD2-84DC-B5040C1C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B66E-EC79-468A-810F-EC4F49E2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78F861-E9D4-4BC2-BBD9-7D46B7DE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80CC8-18AB-4440-932B-C917BB69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831A4-EE9D-4E9E-A990-22892595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B4FBC-2A1F-485F-A488-814E35D2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27309-A94B-4B7F-83C9-8D5AF28A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6E319-DEA9-4C60-9BBE-BB946120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ABB21-AFB2-41A4-9B8B-8B43951A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C0B6E-3750-422E-BFA4-F8F5E5A0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53749-B78F-46F8-8647-28245B83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2897A-6B21-4389-8270-1DAD5036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FBB0-6F60-42B8-9587-3C500411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8DEA96-EB22-4FF2-8182-942FFAA5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B128E-4E91-4821-9158-5A43314B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EFBB7E-47ED-4E6F-9EE2-F944136B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3B28D-0938-4A12-98BF-D6210B3B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964A3-763D-4CF3-9666-9482D6E5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0CD2B-163E-432B-A35A-65582361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D67800-50BE-4417-ACFB-730AD615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D9F9E-4705-4959-B1D2-3DF71136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66D2B-A96C-4F32-A204-73FD43E9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09D056-8F80-4B22-A19B-6834C379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B468-AF09-4ABD-BE6B-627C7AD8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5744FD-888A-45BB-A1C9-36C96D74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1652EA-BC2F-46FE-BB99-D9B267BB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887DB-7376-4596-A23F-1358E36B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9A4A17-FCB5-4EF4-B8D3-0DF377FB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6036AE-9920-4DA8-AFCB-C5C78AAA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E2F3E0-A510-4E8D-A850-2243B895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734F72-4D14-48EA-BDE6-317F5185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3A5987-A160-4C3F-82EA-4A4EB2D1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6325C2-0B55-4DF3-9681-65DC82EF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49F146-EE1A-4DE8-BCD8-5007F59E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5E60-B754-498C-BDA7-E556D337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1881C9-5895-48FF-B9B7-FD178AF3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F973-5A85-4615-B062-00029B89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A07-28BB-47A0-A9ED-1B1CB9EB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4543-03F5-440C-B153-558D8C8B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C81C-6DF3-4F9A-9837-E07D77DD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B929-E70E-4B4C-9A95-9CACAD46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A89E-957A-4827-86FA-5C9205BF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DB9D-0CED-40C7-A7C3-C0BEA652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113F3-69AB-4251-B7CC-35F26445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4183F-8032-46D3-AB98-B22CF1AC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CE901-6CB6-47E5-8A74-6553648B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A624F-A207-416E-A533-C25B3163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A5AAC-5FB6-4D91-82A3-A5D57C01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569-BC83-4AFE-804C-69EB0608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3F613-A68B-4B5A-ADEA-D7DA026D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E8169-C770-4C92-9A28-37147ADF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5AB02-8520-4408-BD7E-125EF858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1424-5056-4835-94FD-537F7332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86247-A27C-421C-8F47-BE74231C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F4F63-5DE0-4AF3-A327-230BD49C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CE293-731E-449B-A1C5-5B636346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88DBB-6FED-43A1-8017-0FD5EE00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35568-A34A-453F-A573-60BED0AB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120B4-AE1F-4344-8675-6D821E41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606-67A6-4A84-A5C1-33329611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13D66-87D1-4B63-951E-96742A65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B0737-D770-41B4-81C9-EAF95378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147F0-74F8-400A-8D37-F16D14A4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CBDCA-2ACF-4E26-8D03-7E231734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CEEFC-7C37-41E4-9230-9C01FD3A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D9802-B280-4DB0-B05D-8A5AAC3B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FD30E-3B0A-430A-813E-67896FAB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72E4A-0F8B-4055-81AD-D50DEADE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580BA-8F5A-458B-BF56-D76963E6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B83F5-A96E-4DD3-B5ED-653E005F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C13-E396-4965-AC58-DAD496EE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3E37C-CEAD-45BF-B946-81348258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1F09B-5F77-4F23-B007-DFF8F3C0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6ED77-1BC2-413A-9159-37DAD1C8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BC10A-7770-4F01-9738-3A8DB9F9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875F3-B2F7-4334-B4ED-6049E960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D6CEA-844A-4C8C-AA06-723B7DCC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C80B8-7399-497C-BD48-D41F28C4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3AE54-2619-457F-9758-1C2147A8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69360-E28E-4900-BD16-5CDA1145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39ED8-F7E1-4511-AA77-CE3A4687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801-5862-40E5-AACE-2F931612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0CBD4-7889-48F7-A9FD-3257E800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38865-E226-46C0-A406-A83F2F19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6E4C1-AFF7-4091-AF9C-4A20B35F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D6797-001A-4D61-9086-319C20E4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6FD0C-6468-45E9-87B2-1C86D3D1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C009C-6175-4BC6-BB0B-6EF2374D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539DC-13CC-4DE0-93A2-140F539B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5D562-C62E-4FC4-8C35-03E0F585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DFD2A-B12E-464B-A50B-C62E6D6E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85BB9-F8FE-4F2D-818A-B2E39C52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FB0-22FD-48FB-977F-CB113369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03779-D5AD-4E28-B5BD-DBCF37F2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3F6F2-15D9-4EFE-B2EF-FB9BFCCB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7A022-9AD1-46A1-BE5B-1C2BE43D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3BE2B-B75B-4074-AE97-F329D1D9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F37AB-8326-48F7-A1BC-DEE4EF58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CD098-9DB8-48FA-B70C-9C9C96CE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F7917-6EE0-4335-85E9-3C450AC3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98DD1-7DED-4C49-B86B-ADD2374E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6E2FE-F8ED-486F-B379-51D1D776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84CE8-CEBD-4C7B-A3C0-CFD677AA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94C-BCCC-44C2-9D06-9BB64BEA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88E82-5846-41D2-93CD-26241098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5BAAD-4ECD-4947-82B0-D46EE7FB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A0652-5A92-4C87-A097-7A40FAAA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8021E-0AB7-4012-A7D5-1DEA447C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6029A-160F-4DAF-B6A5-2B3D3266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FAF9B-9191-4A7A-8549-918F6022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C5774-E430-4645-B330-C069E798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0F871-50CF-4B2A-96A4-AD56221F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889E2-1025-4898-B006-DCD10141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2E69B-ED89-4783-A626-C8CDEEDE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DF5-9618-4730-8614-DE98C40C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D38D5-7F43-4964-A953-D5CD1BEF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D2596-6567-4164-81F7-C8C7AC14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893DA-9E88-4C9B-8E05-2AA4E113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DBBBE-05A5-42B1-AAF4-A8B32D60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5999D-E874-401A-B615-4F230B0B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D3999-14BE-4C19-BC94-3E9D80CC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3702B-40F5-4532-B97F-8DA88C66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4AB5F-F6E4-410C-BF8B-C7884164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F34C4-B073-4428-9DDF-C45F8B51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D829F-A682-4432-AB56-A80E7FEE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2589-0E49-486C-97AE-FFA084460CD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462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465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1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6BDB-D8EC-4F03-B8D9-E167FE6C9A4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516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8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519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1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2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5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8A85-43F3-4970-9E66-5988B93FF00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570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2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573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5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6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F80F-D306-49D8-BF7B-1E94542271A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624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626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627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9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0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3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E4C1-6CE7-45B1-9909-105FF0698D7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678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680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681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3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4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7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4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4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2043-372E-4AAE-89A9-66F34AE0737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732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3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34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735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7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8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1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4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4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ABE9-F878-4D65-AB35-75B68141C73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49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065D-DE3A-46E1-B373-8C71BCDDEE1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3F24-C141-46C7-AFF2-9BEFB8133D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76320" y="6248520"/>
            <a:ext cx="588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75FB-2B9B-42E1-BE90-2EA6600CBE6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0" y="6480"/>
            <a:ext cx="9141840" cy="6851520"/>
            <a:chOff x="0" y="6480"/>
            <a:chExt cx="9141840" cy="6851520"/>
          </a:xfrm>
        </p:grpSpPr>
        <p:grpSp>
          <p:nvGrpSpPr>
            <p:cNvPr id="191" name="Group 3"/>
            <p:cNvGrpSpPr/>
            <p:nvPr/>
          </p:nvGrpSpPr>
          <p:grpSpPr>
            <a:xfrm>
              <a:off x="0" y="1843200"/>
              <a:ext cx="9141840" cy="5014800"/>
              <a:chOff x="0" y="1843200"/>
              <a:chExt cx="9141840" cy="5014800"/>
            </a:xfrm>
          </p:grpSpPr>
          <p:sp>
            <p:nvSpPr>
              <p:cNvPr id="192" name="Freeform 4"/>
              <p:cNvSpPr/>
              <p:nvPr/>
            </p:nvSpPr>
            <p:spPr>
              <a:xfrm>
                <a:off x="885960" y="1843200"/>
                <a:ext cx="825588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4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7" name="Group 9"/>
            <p:cNvGrpSpPr/>
            <p:nvPr/>
          </p:nvGrpSpPr>
          <p:grpSpPr>
            <a:xfrm>
              <a:off x="552600" y="6480"/>
              <a:ext cx="8589240" cy="6851520"/>
              <a:chOff x="552600" y="6480"/>
              <a:chExt cx="8589240" cy="6851520"/>
            </a:xfrm>
          </p:grpSpPr>
          <p:sp>
            <p:nvSpPr>
              <p:cNvPr id="198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Freeform 12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C76F-2243-4EC5-B337-33A001C444B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246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8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249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0951-27C9-46F7-BF9E-E4F9DD7DF5F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300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2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303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6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9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82A0-C558-40FF-B723-05CFF82E561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354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56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357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9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0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7865-8E3A-4AFC-894D-E3E140EA9CC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408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411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3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8F8E-E975-48D0-9867-653A15B0562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7;&#1088;&#1080;&#1083;&#1086;&#1078;&#1077;&#1085;&#1080;&#1103;%20&#1082;%20&#1087;&#1088;&#1077;&#1079;&#1077;&#1085;&#1090;&#1072;&#1094;&#1080;&#1080;/1%20&#1089;&#1090;&#1088;&#1072;&#1085;&#1080;&#1094;&#1072;.doc" TargetMode="External"/><Relationship Id="rId2" Type="http://schemas.openxmlformats.org/officeDocument/2006/relationships/hyperlink" Target="file:///&#1087;&#1088;&#1080;&#1083;&#1086;&#1078;&#1077;&#1085;&#1080;&#1103;%20&#1082;%20&#1087;&#1088;&#1077;&#1079;&#1077;&#1085;&#1090;&#1072;&#1094;&#1080;&#1080;/1%20&#1089;&#1090;&#1088;&#1072;&#1085;&#1080;&#1094;&#1072;.doc" TargetMode="External"/><Relationship Id="rId3" Type="http://schemas.openxmlformats.org/officeDocument/2006/relationships/hyperlink" Target="file:///&#1087;&#1088;&#1080;&#1083;&#1086;&#1078;&#1077;&#1085;&#1080;&#1103;%20&#1082;%20&#1087;&#1088;&#1077;&#1079;&#1077;&#1085;&#1090;&#1072;&#1094;&#1080;&#1080;/1%20&#1089;&#1090;&#1088;&#1072;&#1085;&#1080;&#1094;&#1072;.doc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1800" spc="-1" strike="noStrike">
                <a:solidFill>
                  <a:srgbClr val="cdd7df"/>
                </a:solidFill>
                <a:latin typeface="Tahoma"/>
              </a:rPr>
              <a:t>МОУ Видновская средняя общеобразовательная школа №7</a:t>
            </a: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ектная работ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 русскому языку</a:t>
            </a:r>
            <a:br>
              <a:rPr sz="3200"/>
            </a:b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448240" y="4149360"/>
            <a:ext cx="369576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боту выполнил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ницы 6 «б» класса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окина Ири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Ткачева Анастас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уководитель проекта учитель русского языка Алешина Н.В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556000" y="2060640"/>
            <a:ext cx="43178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99"/>
                </a:solidFill>
                <a:latin typeface="Tahoma"/>
              </a:rPr>
              <a:t>Современный </a:t>
            </a:r>
            <a:br>
              <a:rPr sz="4800"/>
            </a:br>
            <a:r>
              <a:rPr b="0" lang="ru-RU" sz="4800" spc="-1" strike="noStrike">
                <a:solidFill>
                  <a:srgbClr val="ff3399"/>
                </a:solidFill>
                <a:latin typeface="Tahoma"/>
              </a:rPr>
              <a:t>молодежный </a:t>
            </a:r>
            <a:br>
              <a:rPr sz="4800"/>
            </a:br>
            <a:r>
              <a:rPr b="0" lang="ru-RU" sz="4800" spc="-1" strike="noStrike">
                <a:solidFill>
                  <a:srgbClr val="ff3399"/>
                </a:solidFill>
                <a:latin typeface="Tahoma"/>
              </a:rPr>
              <a:t>словар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Freeform 9"/>
          <p:cNvSpPr/>
          <p:nvPr/>
        </p:nvSpPr>
        <p:spPr>
          <a:xfrm>
            <a:off x="324000" y="1700280"/>
            <a:ext cx="4417920" cy="32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Freeform 10"/>
          <p:cNvSpPr/>
          <p:nvPr/>
        </p:nvSpPr>
        <p:spPr>
          <a:xfrm>
            <a:off x="3873600" y="5630760"/>
            <a:ext cx="988920" cy="1059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0" name="Picture 13" descr=""/>
          <p:cNvPicPr/>
          <p:nvPr/>
        </p:nvPicPr>
        <p:blipFill>
          <a:blip r:embed="rId1"/>
          <a:stretch/>
        </p:blipFill>
        <p:spPr>
          <a:xfrm>
            <a:off x="4500720" y="-27000"/>
            <a:ext cx="4838400" cy="6010200"/>
          </a:xfrm>
          <a:prstGeom prst="rect">
            <a:avLst/>
          </a:prstGeom>
          <a:ln w="0">
            <a:noFill/>
          </a:ln>
        </p:spPr>
      </p:pic>
      <p:sp>
        <p:nvSpPr>
          <p:cNvPr id="791" name="Freeform 18"/>
          <p:cNvSpPr/>
          <p:nvPr/>
        </p:nvSpPr>
        <p:spPr>
          <a:xfrm>
            <a:off x="324000" y="2492280"/>
            <a:ext cx="3240000" cy="252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Freeform 24"/>
          <p:cNvSpPr/>
          <p:nvPr/>
        </p:nvSpPr>
        <p:spPr>
          <a:xfrm>
            <a:off x="-23760" y="2309760"/>
            <a:ext cx="409680" cy="19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Freeform 25"/>
          <p:cNvSpPr/>
          <p:nvPr/>
        </p:nvSpPr>
        <p:spPr>
          <a:xfrm>
            <a:off x="-25560" y="1384200"/>
            <a:ext cx="351000" cy="26352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Freeform 31"/>
          <p:cNvSpPr/>
          <p:nvPr/>
        </p:nvSpPr>
        <p:spPr>
          <a:xfrm>
            <a:off x="-36360" y="1341360"/>
            <a:ext cx="2022480" cy="129564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100000">
                <a:srgbClr val="9a9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5" name="Picture 39" descr=""/>
          <p:cNvPicPr/>
          <p:nvPr/>
        </p:nvPicPr>
        <p:blipFill>
          <a:blip r:embed="rId2"/>
          <a:stretch/>
        </p:blipFill>
        <p:spPr>
          <a:xfrm>
            <a:off x="0" y="2060640"/>
            <a:ext cx="3090960" cy="348624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44" descr=""/>
          <p:cNvPicPr/>
          <p:nvPr/>
        </p:nvPicPr>
        <p:blipFill>
          <a:blip r:embed="rId3"/>
          <a:stretch/>
        </p:blipFill>
        <p:spPr>
          <a:xfrm>
            <a:off x="-36360" y="4437000"/>
            <a:ext cx="5867280" cy="2421000"/>
          </a:xfrm>
          <a:prstGeom prst="rect">
            <a:avLst/>
          </a:prstGeom>
          <a:ln w="0">
            <a:noFill/>
          </a:ln>
        </p:spPr>
      </p:pic>
      <p:sp>
        <p:nvSpPr>
          <p:cNvPr id="797" name="Freeform 45"/>
          <p:cNvSpPr/>
          <p:nvPr/>
        </p:nvSpPr>
        <p:spPr>
          <a:xfrm>
            <a:off x="-36360" y="1125360"/>
            <a:ext cx="8928000" cy="583272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50000">
                <a:srgbClr val="9a9600"/>
              </a:gs>
              <a:gs pos="100000">
                <a:srgbClr val="9966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Freeform 46"/>
          <p:cNvSpPr/>
          <p:nvPr/>
        </p:nvSpPr>
        <p:spPr>
          <a:xfrm>
            <a:off x="4284720" y="4149720"/>
            <a:ext cx="5257800" cy="287964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100000">
                <a:srgbClr val="9a9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9" name="Picture 47" descr="knight1"/>
          <p:cNvPicPr/>
          <p:nvPr/>
        </p:nvPicPr>
        <p:blipFill>
          <a:blip r:embed="rId4"/>
          <a:stretch/>
        </p:blipFill>
        <p:spPr>
          <a:xfrm>
            <a:off x="3205080" y="1413000"/>
            <a:ext cx="1486080" cy="3060720"/>
          </a:xfrm>
          <a:prstGeom prst="rect">
            <a:avLst/>
          </a:prstGeom>
          <a:ln w="0">
            <a:noFill/>
          </a:ln>
        </p:spPr>
      </p:pic>
      <p:sp>
        <p:nvSpPr>
          <p:cNvPr id="800" name="Freeform 48"/>
          <p:cNvSpPr/>
          <p:nvPr/>
        </p:nvSpPr>
        <p:spPr>
          <a:xfrm>
            <a:off x="3132000" y="2852640"/>
            <a:ext cx="1889280" cy="189072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50000">
                <a:srgbClr val="9a96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Freeform 49"/>
          <p:cNvSpPr/>
          <p:nvPr/>
        </p:nvSpPr>
        <p:spPr>
          <a:xfrm>
            <a:off x="36360" y="4365720"/>
            <a:ext cx="3994200" cy="8604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2" name="Picture 51" descr="People-027"/>
          <p:cNvPicPr/>
          <p:nvPr/>
        </p:nvPicPr>
        <p:blipFill>
          <a:blip r:embed="rId5"/>
          <a:stretch/>
        </p:blipFill>
        <p:spPr>
          <a:xfrm>
            <a:off x="179280" y="260280"/>
            <a:ext cx="3095640" cy="2095560"/>
          </a:xfrm>
          <a:prstGeom prst="rect">
            <a:avLst/>
          </a:prstGeom>
          <a:ln w="0">
            <a:noFill/>
          </a:ln>
        </p:spPr>
      </p:pic>
      <p:sp>
        <p:nvSpPr>
          <p:cNvPr id="803" name="Freeform 52"/>
          <p:cNvSpPr/>
          <p:nvPr/>
        </p:nvSpPr>
        <p:spPr>
          <a:xfrm>
            <a:off x="755640" y="1844640"/>
            <a:ext cx="1255680" cy="71424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50000">
                <a:srgbClr val="9a96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Freeform 53"/>
          <p:cNvSpPr/>
          <p:nvPr/>
        </p:nvSpPr>
        <p:spPr>
          <a:xfrm>
            <a:off x="179280" y="1413000"/>
            <a:ext cx="2048040" cy="141264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100000">
                <a:srgbClr val="9a9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Freeform 55"/>
          <p:cNvSpPr/>
          <p:nvPr/>
        </p:nvSpPr>
        <p:spPr>
          <a:xfrm>
            <a:off x="-108000" y="1197000"/>
            <a:ext cx="2773440" cy="193356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Freeform 56"/>
          <p:cNvSpPr/>
          <p:nvPr/>
        </p:nvSpPr>
        <p:spPr>
          <a:xfrm>
            <a:off x="3564000" y="4076640"/>
            <a:ext cx="638280" cy="50004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Freeform 57"/>
          <p:cNvSpPr/>
          <p:nvPr/>
        </p:nvSpPr>
        <p:spPr>
          <a:xfrm>
            <a:off x="4265640" y="4091040"/>
            <a:ext cx="1189080" cy="91584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Freeform 58"/>
          <p:cNvSpPr/>
          <p:nvPr/>
        </p:nvSpPr>
        <p:spPr>
          <a:xfrm>
            <a:off x="1643040" y="2743200"/>
            <a:ext cx="1638360" cy="177948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Freeform 73"/>
          <p:cNvSpPr/>
          <p:nvPr/>
        </p:nvSpPr>
        <p:spPr>
          <a:xfrm>
            <a:off x="-108000" y="1125360"/>
            <a:ext cx="407880" cy="140976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Freeform 74"/>
          <p:cNvSpPr/>
          <p:nvPr/>
        </p:nvSpPr>
        <p:spPr>
          <a:xfrm>
            <a:off x="68400" y="1347840"/>
            <a:ext cx="291960" cy="82404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Freeform 75"/>
          <p:cNvSpPr/>
          <p:nvPr/>
        </p:nvSpPr>
        <p:spPr>
          <a:xfrm>
            <a:off x="-49320" y="1203480"/>
            <a:ext cx="295560" cy="21564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Freeform 76"/>
          <p:cNvSpPr/>
          <p:nvPr/>
        </p:nvSpPr>
        <p:spPr>
          <a:xfrm>
            <a:off x="1000080" y="2143080"/>
            <a:ext cx="709560" cy="31896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Freeform 77"/>
          <p:cNvSpPr/>
          <p:nvPr/>
        </p:nvSpPr>
        <p:spPr>
          <a:xfrm>
            <a:off x="1620720" y="2327400"/>
            <a:ext cx="542880" cy="31104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Freeform 78"/>
          <p:cNvSpPr/>
          <p:nvPr/>
        </p:nvSpPr>
        <p:spPr>
          <a:xfrm>
            <a:off x="2249640" y="2703600"/>
            <a:ext cx="377640" cy="37152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Freeform 79"/>
          <p:cNvSpPr/>
          <p:nvPr/>
        </p:nvSpPr>
        <p:spPr>
          <a:xfrm>
            <a:off x="5764320" y="6359400"/>
            <a:ext cx="2033640" cy="58284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Freeform 80"/>
          <p:cNvSpPr/>
          <p:nvPr/>
        </p:nvSpPr>
        <p:spPr>
          <a:xfrm>
            <a:off x="7659720" y="6761160"/>
            <a:ext cx="206280" cy="17316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Freeform 81"/>
          <p:cNvSpPr/>
          <p:nvPr/>
        </p:nvSpPr>
        <p:spPr>
          <a:xfrm>
            <a:off x="3164040" y="4487760"/>
            <a:ext cx="969840" cy="7462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Freeform 82"/>
          <p:cNvSpPr/>
          <p:nvPr/>
        </p:nvSpPr>
        <p:spPr>
          <a:xfrm>
            <a:off x="3116160" y="4511520"/>
            <a:ext cx="517680" cy="3812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9" name="Freeform 83"/>
          <p:cNvSpPr/>
          <p:nvPr/>
        </p:nvSpPr>
        <p:spPr>
          <a:xfrm>
            <a:off x="2793960" y="4809960"/>
            <a:ext cx="531720" cy="3510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Freeform 84"/>
          <p:cNvSpPr/>
          <p:nvPr/>
        </p:nvSpPr>
        <p:spPr>
          <a:xfrm>
            <a:off x="2430360" y="4414680"/>
            <a:ext cx="577800" cy="15732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1" name="Freeform 85"/>
          <p:cNvSpPr/>
          <p:nvPr/>
        </p:nvSpPr>
        <p:spPr>
          <a:xfrm>
            <a:off x="1081080" y="4275000"/>
            <a:ext cx="663480" cy="3762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2" name="Freeform 86"/>
          <p:cNvSpPr/>
          <p:nvPr/>
        </p:nvSpPr>
        <p:spPr>
          <a:xfrm>
            <a:off x="1547640" y="4292640"/>
            <a:ext cx="412920" cy="208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Freeform 87"/>
          <p:cNvSpPr/>
          <p:nvPr/>
        </p:nvSpPr>
        <p:spPr>
          <a:xfrm>
            <a:off x="1371600" y="4341960"/>
            <a:ext cx="372960" cy="109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Freeform 88"/>
          <p:cNvSpPr/>
          <p:nvPr/>
        </p:nvSpPr>
        <p:spPr>
          <a:xfrm>
            <a:off x="-38160" y="4370400"/>
            <a:ext cx="303120" cy="2318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Freeform 89"/>
          <p:cNvSpPr/>
          <p:nvPr/>
        </p:nvSpPr>
        <p:spPr>
          <a:xfrm>
            <a:off x="-84240" y="4549680"/>
            <a:ext cx="276480" cy="23097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6" name="Freeform 91"/>
          <p:cNvSpPr/>
          <p:nvPr/>
        </p:nvSpPr>
        <p:spPr>
          <a:xfrm>
            <a:off x="23760" y="6653160"/>
            <a:ext cx="5594400" cy="2890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Freeform 92"/>
          <p:cNvSpPr/>
          <p:nvPr/>
        </p:nvSpPr>
        <p:spPr>
          <a:xfrm>
            <a:off x="0" y="6723000"/>
            <a:ext cx="1979640" cy="2350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Freeform 93"/>
          <p:cNvSpPr/>
          <p:nvPr/>
        </p:nvSpPr>
        <p:spPr>
          <a:xfrm>
            <a:off x="-150840" y="6737400"/>
            <a:ext cx="1028880" cy="2667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Freeform 94"/>
          <p:cNvSpPr/>
          <p:nvPr/>
        </p:nvSpPr>
        <p:spPr>
          <a:xfrm>
            <a:off x="698400" y="6761160"/>
            <a:ext cx="347760" cy="1587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Freeform 95"/>
          <p:cNvSpPr/>
          <p:nvPr/>
        </p:nvSpPr>
        <p:spPr>
          <a:xfrm>
            <a:off x="673200" y="6689880"/>
            <a:ext cx="1058760" cy="2253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Freeform 96"/>
          <p:cNvSpPr/>
          <p:nvPr/>
        </p:nvSpPr>
        <p:spPr>
          <a:xfrm>
            <a:off x="1671480" y="6665760"/>
            <a:ext cx="1721160" cy="2764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Freeform 97"/>
          <p:cNvSpPr/>
          <p:nvPr/>
        </p:nvSpPr>
        <p:spPr>
          <a:xfrm>
            <a:off x="3033720" y="6689880"/>
            <a:ext cx="660240" cy="21564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Freeform 98"/>
          <p:cNvSpPr/>
          <p:nvPr/>
        </p:nvSpPr>
        <p:spPr>
          <a:xfrm>
            <a:off x="5583240" y="6329520"/>
            <a:ext cx="326880" cy="6490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Freeform 99"/>
          <p:cNvSpPr/>
          <p:nvPr/>
        </p:nvSpPr>
        <p:spPr>
          <a:xfrm>
            <a:off x="-49320" y="4487760"/>
            <a:ext cx="125640" cy="3412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Freeform 100"/>
          <p:cNvSpPr/>
          <p:nvPr/>
        </p:nvSpPr>
        <p:spPr>
          <a:xfrm>
            <a:off x="-182520" y="2525760"/>
            <a:ext cx="374760" cy="191124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Freeform 101"/>
          <p:cNvSpPr/>
          <p:nvPr/>
        </p:nvSpPr>
        <p:spPr>
          <a:xfrm>
            <a:off x="-68400" y="2430360"/>
            <a:ext cx="257400" cy="14320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Freeform 102"/>
          <p:cNvSpPr/>
          <p:nvPr/>
        </p:nvSpPr>
        <p:spPr>
          <a:xfrm>
            <a:off x="-57240" y="4307040"/>
            <a:ext cx="173160" cy="9684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8" name="Freeform 103"/>
          <p:cNvSpPr/>
          <p:nvPr/>
        </p:nvSpPr>
        <p:spPr>
          <a:xfrm>
            <a:off x="9112320" y="-12600"/>
            <a:ext cx="309600" cy="97452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Freeform 104"/>
          <p:cNvSpPr/>
          <p:nvPr/>
        </p:nvSpPr>
        <p:spPr>
          <a:xfrm>
            <a:off x="9193320" y="1468440"/>
            <a:ext cx="234720" cy="15159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Freeform 105"/>
          <p:cNvSpPr/>
          <p:nvPr/>
        </p:nvSpPr>
        <p:spPr>
          <a:xfrm>
            <a:off x="9117000" y="3718080"/>
            <a:ext cx="279360" cy="85392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Freeform 106"/>
          <p:cNvSpPr/>
          <p:nvPr/>
        </p:nvSpPr>
        <p:spPr>
          <a:xfrm>
            <a:off x="9205920" y="5473800"/>
            <a:ext cx="147600" cy="6015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Freeform 107"/>
          <p:cNvSpPr/>
          <p:nvPr/>
        </p:nvSpPr>
        <p:spPr>
          <a:xfrm>
            <a:off x="6877080" y="-57240"/>
            <a:ext cx="1573200" cy="2476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3" name="Звукозапись басни.wma" descr=""/>
          <p:cNvPicPr/>
          <p:nvPr/>
        </p:nvPicPr>
        <p:blipFill>
          <a:blip r:embed="rId6"/>
          <a:stretch/>
        </p:blipFill>
        <p:spPr>
          <a:xfrm>
            <a:off x="807228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86935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754380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Актуальность исслед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стоящее время  необходимость изучения неформальной речи молодых людей признается многими учеными. За последние два десятилетия появляются работы, посвященные проблемам формирования и функционирования жаргонизмов в студенческих и школьных коллектив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бъект исслед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сский молодежный жаргон, рассматриваемый как лексическая подсистема русского язы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Гипоте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поху социальных перемен изменения в языке достаточно органичны, потому что язык и общество – это две сообщающиеся системы: то, что происходит в обществе, отражается в языке, и наоборот. Язык как  развивающееся явление  требует ресурсов для своего функционирования. С изменением норм жизни изменяется и пополняется содержание язы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042560" y="259920"/>
            <a:ext cx="7543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Цели исследова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ение и лингвистический анализ слов молодежного жаргона на основе собранного материала в возрастной группе от 11 до 13 лет, систематизация его в словарь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социологического опроса среди учащихся 5-6 классов и систематизация данных на предмет частоты и места использования жаргонных слов в реч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дачи исследов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ть вопрос о содержании понятия «молодежный жаргон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ь статус современного молодежного жаргона в системе русского национального язы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анализировать причины возникновения жаргонной лексики в современной реч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сти анализ данных социологического опрос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612000" y="62136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1400" spc="-1" strike="noStrike">
                <a:solidFill>
                  <a:srgbClr val="006666"/>
                </a:solidFill>
                <a:latin typeface="Arial"/>
              </a:rPr>
              <a:t>МОУ Видновская средняя общеобразовательная школа № 7</a:t>
            </a:r>
            <a:br>
              <a:rPr sz="1400"/>
            </a:br>
            <a:br>
              <a:rPr sz="3200"/>
            </a:b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/>
          </p:nvPr>
        </p:nvSpPr>
        <p:spPr>
          <a:xfrm>
            <a:off x="4572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.Фокина  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А.Ткаче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Rectangle 9"/>
          <p:cNvSpPr/>
          <p:nvPr/>
        </p:nvSpPr>
        <p:spPr>
          <a:xfrm>
            <a:off x="1477800" y="2852640"/>
            <a:ext cx="6121440" cy="2664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3366"/>
                </a:solidFill>
                <a:uFillTx/>
                <a:latin typeface="comic"/>
                <a:ea typeface="Arial Unicode MS"/>
                <a:hlinkClick r:id="rId1"/>
              </a:rPr>
              <a:t>Современный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3366"/>
                </a:solidFill>
                <a:uFillTx/>
                <a:latin typeface="comic"/>
                <a:ea typeface="Arial Unicode MS"/>
                <a:hlinkClick r:id="rId2"/>
              </a:rPr>
              <a:t>молодежный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3366"/>
                </a:solidFill>
                <a:uFillTx/>
                <a:latin typeface="comic"/>
                <a:ea typeface="Arial Unicode MS"/>
                <a:hlinkClick r:id="rId3"/>
              </a:rPr>
              <a:t>словарь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Rectangle 11"/>
          <p:cNvSpPr/>
          <p:nvPr/>
        </p:nvSpPr>
        <p:spPr>
          <a:xfrm>
            <a:off x="51055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WordArt 13"/>
          <p:cNvSpPr txBox="1"/>
          <p:nvPr/>
        </p:nvSpPr>
        <p:spPr>
          <a:xfrm>
            <a:off x="7021440" y="4653000"/>
            <a:ext cx="1219320" cy="16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Kozuka Mincho Pro H"/>
              </a:rPr>
              <a:t>А</a:t>
            </a:r>
            <a:endParaRPr b="0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Kozuka Mincho Pro H"/>
              <a:ea typeface="Kozuka Mincho Pro H"/>
            </a:endParaRPr>
          </a:p>
        </p:txBody>
      </p:sp>
      <p:sp>
        <p:nvSpPr>
          <p:cNvPr id="851" name="WordArt 16"/>
          <p:cNvSpPr txBox="1"/>
          <p:nvPr/>
        </p:nvSpPr>
        <p:spPr>
          <a:xfrm>
            <a:off x="8172360" y="5373720"/>
            <a:ext cx="576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Kartika"/>
              </a:rPr>
              <a:t>Я</a:t>
            </a:r>
            <a:endParaRPr b="0" lang="en-US" sz="7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Kartika"/>
              <a:ea typeface="Kartik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358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Анкета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ля социологического опроса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ема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«Использование молодежного сленга в речи» </a:t>
            </a:r>
            <a:endParaRPr b="1" lang="en-US" sz="2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0" y="206064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Я использую сленг в своей реч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ог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раюсь не использ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использу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714560" y="1981080"/>
            <a:ext cx="389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В каких ситуациях  я использую сленг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азговоре с родителя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еди сверст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шко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щественных мест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5438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Результаты опроса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0" y="1071360"/>
            <a:ext cx="39290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Я использую сленг в своей реч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357440" y="1071360"/>
            <a:ext cx="47862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каких ситуациях я использую сленг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8" name="Диаграмма 5"/>
          <p:cNvGraphicFramePr/>
          <p:nvPr/>
        </p:nvGraphicFramePr>
        <p:xfrm>
          <a:off x="17640" y="1959120"/>
          <a:ext cx="3906720" cy="474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9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959120"/>
                    <a:ext cx="390672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Диаграмма 7"/>
          <p:cNvGraphicFramePr/>
          <p:nvPr/>
        </p:nvGraphicFramePr>
        <p:xfrm>
          <a:off x="4211640" y="1989000"/>
          <a:ext cx="4788000" cy="4653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61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1989000"/>
                    <a:ext cx="478800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75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75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75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75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5294160" y="5994000"/>
            <a:ext cx="38498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.Н.Толст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dd7df"/>
                </a:solidFill>
                <a:latin typeface="comic"/>
              </a:rPr>
              <a:t>	</a:t>
            </a:r>
            <a:r>
              <a:rPr b="1" i="1" lang="ru-RU" sz="4000" spc="-1" strike="noStrike">
                <a:solidFill>
                  <a:srgbClr val="ea9c2a"/>
                </a:solidFill>
                <a:latin typeface="Bradley Hand ITC"/>
              </a:rPr>
              <a:t>Слово – дело великое. Великое потому, что словом можно соединить людей, словом можно и разъединить их, словом служить любви, словом же можно служить вражде и ненависти. </a:t>
            </a:r>
            <a:br>
              <a:rPr sz="4000"/>
            </a:br>
            <a:r>
              <a:rPr b="1" i="1" lang="ru-RU" sz="4000" spc="-1" strike="noStrike">
                <a:solidFill>
                  <a:srgbClr val="ea9c2a"/>
                </a:solidFill>
                <a:latin typeface="Bradley Hand ITC"/>
              </a:rPr>
              <a:t>Берегись от такого слова, </a:t>
            </a:r>
            <a:br>
              <a:rPr sz="4000"/>
            </a:br>
            <a:r>
              <a:rPr b="1" i="1" lang="ru-RU" sz="4000" spc="-1" strike="noStrike">
                <a:solidFill>
                  <a:srgbClr val="ea9c2a"/>
                </a:solidFill>
                <a:latin typeface="Bradley Hand ITC"/>
              </a:rPr>
              <a:t>котор</a:t>
            </a:r>
            <a:r>
              <a:rPr b="1" i="1" lang="ru-RU" sz="4000" spc="-1" strike="noStrike">
                <a:solidFill>
                  <a:srgbClr val="ea9c2a"/>
                </a:solidFill>
                <a:latin typeface="Arial"/>
              </a:rPr>
              <a:t>ое</a:t>
            </a:r>
            <a:r>
              <a:rPr b="1" i="1" lang="ru-RU" sz="4000" spc="-1" strike="noStrike">
                <a:solidFill>
                  <a:srgbClr val="ea9c2a"/>
                </a:solidFill>
                <a:latin typeface="Bradley Hand ITC"/>
              </a:rPr>
              <a:t> разъединяет  людей.</a:t>
            </a:r>
            <a:r>
              <a:rPr b="1" i="1" lang="ru-RU" sz="4000" spc="-1" strike="noStrike">
                <a:solidFill>
                  <a:srgbClr val="cdd7df"/>
                </a:solidFill>
                <a:latin typeface="Bradley Hand ITC"/>
              </a:rPr>
              <a:t>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80,1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80,1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85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Рисунок 3" descr="img096.jpg"/>
          <p:cNvPicPr/>
          <p:nvPr/>
        </p:nvPicPr>
        <p:blipFill>
          <a:blip r:embed="rId2"/>
          <a:stretch/>
        </p:blipFill>
        <p:spPr>
          <a:xfrm>
            <a:off x="21430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8:40:55Z</dcterms:created>
  <dc:creator>Школа №7</dc:creator>
  <dc:description/>
  <dc:language>en-US</dc:language>
  <cp:lastModifiedBy>user</cp:lastModifiedBy>
  <dcterms:modified xsi:type="dcterms:W3CDTF">2008-01-24T15:38:33Z</dcterms:modified>
  <cp:revision>49</cp:revision>
  <dc:subject/>
  <dc:title>Слайд 1</dc:title>
</cp:coreProperties>
</file>