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E78F-E6C0-4BF2-BFDF-26EC2D6AC4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арышня-крестьянка» как-бы возвращает нас к произведению «Выстрел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41D-DA5C-4379-91D2-B82E52DC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F52-B7B4-4896-9D97-19A89622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CEA-9868-4003-9FE9-9F773805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05C-FA8B-4C60-BE18-61A1104B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DFE8-829B-4530-B13B-9C7C5257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1D17-B90D-467E-83B4-621B2999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26C8-A8BF-423A-8E1F-EA30B582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A7D-BF99-4AC6-AC2E-28491057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5FBE-5E85-4F0E-B8AE-BA23E647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3D2F-0143-4153-912A-A9820BFC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3FB9-A255-4B84-94A5-491478A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4E5-5409-41AC-B2C0-B5AFFD13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C2AA-CB7E-4767-96BA-0D444C20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474B-E6C2-4ACD-8640-3D193706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1178-1853-4701-997A-D2DD0490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9F0A-0C23-4CE1-B96C-5F779A01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F4F8-1F98-42D2-B98F-BF97A288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4EF-A4E0-4FC4-B00A-9F579D84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0B8-A0F6-497F-8AEC-840EE54F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F75-2F0D-4072-AC61-E6FBCAFA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77A-FE03-4E80-AF18-C1CA3C36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EEB-349D-4B0B-B0E5-B1572599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426-6DA1-486B-9CB9-883DE86B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D56-0693-4DBF-A804-8168419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919A-55E6-4BBA-BBF8-DA28DE6F42F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555E-CA77-4735-A742-17DD22F3218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836280"/>
            <a:ext cx="73864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53f35"/>
                </a:solidFill>
                <a:latin typeface="Arial"/>
              </a:rPr>
              <a:t>   </a:t>
            </a:r>
            <a:r>
              <a:rPr b="0" i="1" lang="en-US" sz="4000" spc="-1" strike="noStrike">
                <a:solidFill>
                  <a:srgbClr val="853f35"/>
                </a:solidFill>
                <a:latin typeface="Arial"/>
              </a:rPr>
              <a:t>«Драгоценный памятник благородного образа мыслей и трогательного содружества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3f35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501336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348000" y="3716280"/>
            <a:ext cx="413388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87a51"/>
                </a:solidFill>
                <a:latin typeface="Arial"/>
              </a:rPr>
              <a:t>(Загадка компози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287a5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87a51"/>
                </a:solidFill>
                <a:latin typeface="Arial"/>
              </a:rPr>
              <a:t>«Повестей Белкина»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287a51"/>
              </a:solidFill>
              <a:latin typeface="Arial"/>
              <a:ea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2857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Загадочный издатель А.П. – дистанция №1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64000" y="1598760"/>
            <a:ext cx="4176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Эпиграф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из </a:t>
            </a:r>
            <a:r>
              <a:rPr b="0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комедии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Д.И. Фонвизина «Недоросль», да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ко всем повестям: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«П р о с т а к о в 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- То, мой батюшка, он еще с измальства к историям охотни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С к о т и н и 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- Митрофан по мне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746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Из письма А.С.Пушкина П.А.Плетневу</a:t>
            </a:r>
            <a:br>
              <a:rPr sz="3200"/>
            </a:br>
            <a:r>
              <a:rPr b="0" lang="en-US" sz="1800" spc="-1" strike="noStrike">
                <a:solidFill>
                  <a:srgbClr val="853f35"/>
                </a:solidFill>
                <a:latin typeface="Arial"/>
              </a:rPr>
              <a:t>Декабрь 1830 года.</a:t>
            </a:r>
            <a:endParaRPr b="0" lang="en-US" sz="18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«Написал я прозою 5 повестей, от которых Баратынский </a:t>
            </a:r>
            <a:r>
              <a:rPr b="0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жет и бьется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и которые напечатаем также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nonyme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276720" y="3213000"/>
            <a:ext cx="3228840" cy="340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4000" y="5445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Евгений Баратынск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Загадочный издатель А.П. – дистанция №1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июне 1830г. у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ноним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явилось имя –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покойник Белкин, славный малый»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сле того, как повести прошли цензуру, Пушкин прислал «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редислов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» с биографией Белкина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«А.П.»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является также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 самом конц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вестей всего одним предложением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«Конец повестям И.П. Белкина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«Выстрел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«Стрелялись мы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поэмы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Евгения Баратынского «Бал», 182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«Я поклялся застрелить его по праву дуэли (за ним остался еще мой выстрел)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лександра Бесстужева-Марлиинского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«Вечер на бивуаке», 182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«Метель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Кони мчатся по буграм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Топчут снег глубокий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от в сторонке божий хра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иден одинокий…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баллады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В.А.Жуковского «Светлана», 181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«Гробовщик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Не зрим ли каждый день гробов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Седин дряхлеющей вселенной?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оды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Г.Р.Державина на смерть Г.А.Потемкина «Водопад»,179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«Станционный смотритель»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Коллежский регистратор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Почтовой станции диктатор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стихотворен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княз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тра Вяземского «Станция», 182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«Барышня-крестьянка»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Во всех ты, Душеньк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Нарядах хороша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оэмы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Ипполита Богдановича «Душенька», 178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Вывод первый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Эпиграфы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чти все взяты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поэтических произведений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/из 2-х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оэм, баллады, оды, стихотворен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/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 повести Пушкина -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проз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«Повестях» встречаются и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ысокая поэз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и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роза жизни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/обыденность/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вести – это своеобразный диалог Пушкина с поэтами современниками и старшим поколением писател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Белкин Иван Петрович – дистанция № 2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.П.Белкин -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собиратель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повестей,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писатель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же в заголовк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елки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.П.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разделен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 в биографии есть общее: оба помещики, писатели, их роднит «охота к чтению и занятиям по русской словесности», родились почти в один год: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елки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- в 1798, а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ушки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- в 1799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ни современники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475920"/>
            <a:ext cx="7476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Болдинская осень 1830 </a:t>
            </a: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года</a:t>
            </a:r>
            <a:br>
              <a:rPr sz="3600"/>
            </a:b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57000"/>
            <a:ext cx="3300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Повести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озданы в Болдин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огда А.С. Пушкин  создал около 30-ти стихотворений и 20-ти  самых значительных своих произвед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780000" y="1700280"/>
            <a:ext cx="39304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Вывод второй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ушкин предлагает взглянуть на судьбу Белкина с горькой усмешко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зображает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собирателя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и писателя повестей как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героя своего времен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Рассказчики повестей – дистанция № 3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ажную композиционную роль в каждой повести играет </a:t>
            </a:r>
            <a:r>
              <a:rPr b="0" i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рассказчик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каждой из пяти - он сво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рукописи Белкина помечено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т кого он слышал повесть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казаны чин или звание и инициалы рассказчик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Дистанция автора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276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1413000"/>
            <a:ext cx="1850760" cy="1079280"/>
          </a:xfrm>
          <a:prstGeom prst="flowChartAlternateProcess">
            <a:avLst/>
          </a:prstGeom>
          <a:solidFill>
            <a:srgbClr val="e1bd7b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32000" y="1413000"/>
            <a:ext cx="1873440" cy="1152360"/>
          </a:xfrm>
          <a:prstGeom prst="flowChartAlternateProcess">
            <a:avLst/>
          </a:prstGeom>
          <a:solidFill>
            <a:srgbClr val="e1bd7b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.П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f29"/>
                </a:solidFill>
                <a:latin typeface="Arial"/>
              </a:rPr>
              <a:t>издате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3357720"/>
            <a:ext cx="1873440" cy="93636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.Л.П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одполков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«Выстрел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5013360"/>
            <a:ext cx="1873440" cy="72072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евица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.И.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«Метель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413000"/>
            <a:ext cx="1944720" cy="1079280"/>
          </a:xfrm>
          <a:prstGeom prst="flowChartAlternateProcess">
            <a:avLst/>
          </a:prstGeom>
          <a:solidFill>
            <a:srgbClr val="e1bd7b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.П. Белк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f29"/>
                </a:solidFill>
                <a:latin typeface="Arial"/>
              </a:rPr>
              <a:t>собиратель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f29"/>
                </a:solidFill>
                <a:latin typeface="Arial"/>
              </a:rPr>
              <a:t>писате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653000"/>
            <a:ext cx="2016360" cy="93672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.Г.Н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Титулярный советник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«Станционный смотритель»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80000" y="3429000"/>
            <a:ext cx="2089080" cy="93672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Б.В. 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Приказчик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3 «Гробовщик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7640" y="5805360"/>
            <a:ext cx="2592360" cy="71928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вица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.И.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5«Барышня--крестьянк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3357720"/>
            <a:ext cx="1706400" cy="1008000"/>
          </a:xfrm>
          <a:prstGeom prst="ellipse">
            <a:avLst/>
          </a:prstGeom>
          <a:solidFill>
            <a:srgbClr val="e1bd7b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f29"/>
                </a:solidFill>
                <a:latin typeface="Arial"/>
              </a:rPr>
              <a:t>Рассказчи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189000"/>
            <a:ext cx="1778040" cy="863640"/>
          </a:xfrm>
          <a:prstGeom prst="wedgeRoundRectCallout">
            <a:avLst>
              <a:gd name="adj1" fmla="val 1787"/>
              <a:gd name="adj2" fmla="val 93013"/>
              <a:gd name="adj3" fmla="val 1666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О Белкине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исьмо </a:t>
            </a:r>
            <a:r>
              <a:rPr b="0" lang="ru-RU" sz="1200" spc="-1" strike="noStrike" u="sng">
                <a:solidFill>
                  <a:srgbClr val="2f1311"/>
                </a:solidFill>
                <a:uFillTx/>
                <a:latin typeface="Arial"/>
              </a:rPr>
              <a:t>соседа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из Ненарадов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830год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1916280"/>
            <a:ext cx="542880" cy="268200"/>
          </a:xfrm>
          <a:prstGeom prst="rightArrow">
            <a:avLst>
              <a:gd name="adj1" fmla="val 25444"/>
              <a:gd name="adj2" fmla="val 103579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76720" y="1844640"/>
            <a:ext cx="542880" cy="268200"/>
          </a:xfrm>
          <a:prstGeom prst="rightArrow">
            <a:avLst>
              <a:gd name="adj1" fmla="val 25444"/>
              <a:gd name="adj2" fmla="val 103579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8638800">
            <a:off x="4601880" y="2796840"/>
            <a:ext cx="1441440" cy="268200"/>
          </a:xfrm>
          <a:prstGeom prst="rightArrow">
            <a:avLst>
              <a:gd name="adj1" fmla="val 19500"/>
              <a:gd name="adj2" fmla="val 26780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700000" y="3860640"/>
            <a:ext cx="576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3860640"/>
            <a:ext cx="5050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4292640"/>
            <a:ext cx="718920" cy="503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484360" y="4292640"/>
            <a:ext cx="1008000" cy="64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40360" y="4365720"/>
            <a:ext cx="0" cy="1368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Вывод третий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Еще загадка… Почему автор «спрятался»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о время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прохождения цензуры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имя Пушкина не упоминалось – и в этом была задумка самого поэ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ведение рассказчиков создает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атмосферу живой беседы с читател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Рассказчик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 – это глубоко личная история и определенная точка зрения на происходящее, далекая или близкая авторско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55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Порядок </a:t>
            </a:r>
            <a:br>
              <a:rPr sz="2800"/>
            </a:b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написания повестей </a:t>
            </a:r>
            <a:r>
              <a:rPr b="0" lang="en-US" sz="2000" spc="-1" strike="noStrike">
                <a:solidFill>
                  <a:srgbClr val="853f35"/>
                </a:solidFill>
                <a:latin typeface="Arial"/>
              </a:rPr>
              <a:t>А.С. Пушкиным</a:t>
            </a:r>
            <a:endParaRPr b="0" lang="en-US" sz="2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160" y="1773360"/>
            <a:ext cx="34448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 «Гробовщик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 «Станционный смотри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 «Барышня-крестьян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 «Выстрел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 «Ме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27640" y="260280"/>
            <a:ext cx="302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Порядо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размещения</a:t>
            </a:r>
            <a:r>
              <a:rPr b="0" lang="en-US" sz="1800" spc="-1" strike="noStrike">
                <a:solidFill>
                  <a:srgbClr val="853f3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в сборник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84720" y="1773360"/>
            <a:ext cx="3382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4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Выстрел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5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Ме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Гробовщик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Станционный смотри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Барышня-крестьян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88000" y="1989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20000" y="3716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1844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4724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16360" y="3716280"/>
            <a:ext cx="142920" cy="144360"/>
          </a:xfrm>
          <a:prstGeom prst="flowChartConnector">
            <a:avLst/>
          </a:prstGeom>
          <a:solidFill>
            <a:srgbClr val="c6851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77080" y="5734080"/>
            <a:ext cx="142920" cy="142920"/>
          </a:xfrm>
          <a:prstGeom prst="flowChartConnector">
            <a:avLst/>
          </a:prstGeom>
          <a:solidFill>
            <a:srgbClr val="c6851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Выстрел» и «Метель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664080" cy="2496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3524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Гробовщик» 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3640" y="5084280"/>
            <a:ext cx="73436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«Станционный смотритель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2925720" cy="4624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438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Барышня-крестьянка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38512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34448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404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Порядок размещения в сборник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24000" y="1773360"/>
            <a:ext cx="45356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Выстрел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Ме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Гробовщик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Станционный смотри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Барышня-крестьян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11640" y="1916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43640" y="378936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5229800">
            <a:off x="-665280" y="2329920"/>
            <a:ext cx="4465800" cy="2055960"/>
          </a:xfrm>
          <a:custGeom>
            <a:avLst/>
            <a:gdLst>
              <a:gd name="textAreaLeft" fmla="*/ 0 w 4465800"/>
              <a:gd name="textAreaRight" fmla="*/ 4466160 w 4465800"/>
              <a:gd name="textAreaTop" fmla="*/ 0 h 2055960"/>
              <a:gd name="textAreaBottom" fmla="*/ 2056320 h 2055960"/>
            </a:gdLst>
            <a:ahLst/>
            <a:rect l="textAreaLeft" t="textAreaTop" r="textAreaRight" b="textAreaBottom"/>
            <a:pathLst>
              <a:path w="21600" h="21600">
                <a:moveTo>
                  <a:pt x="4106" y="3243"/>
                </a:moveTo>
                <a:arcTo wR="-10096" hR="-10096" stAng="-7892103" swAng="-13707897"/>
                <a:lnTo>
                  <a:pt x="0" y="10800"/>
                </a:lnTo>
                <a:arcTo wR="10800" hR="10800" stAng="10800000" swAng="13707897"/>
                <a:lnTo>
                  <a:pt x="19752" y="20905"/>
                </a:lnTo>
                <a:lnTo>
                  <a:pt x="15443" y="20645"/>
                </a:lnTo>
                <a:lnTo>
                  <a:pt x="15704" y="16336"/>
                </a:lnTo>
                <a:close/>
              </a:path>
            </a:pathLst>
          </a:cu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24000" y="5373720"/>
            <a:ext cx="142920" cy="142920"/>
          </a:xfrm>
          <a:prstGeom prst="flowChartConnector">
            <a:avLst/>
          </a:prstGeom>
          <a:solidFill>
            <a:srgbClr val="c6851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Вывод четвертый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.С.Пушкин строит цикл повестей образными «блоками», структурными единствам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омпозиция цикла повестей, как у всякого гения, сложна и необычн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этому и авторские загадки неисчерпаемы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76360" y="1628280"/>
            <a:ext cx="4360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Болдинский период в творчестве поэта –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туго стянутый узел великих концов и великих начал»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/Д.Д.Благой/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26028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Болдинская осень 1830 года</a:t>
            </a:r>
            <a:br>
              <a:rPr sz="4000"/>
            </a:b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 rot="20823000">
            <a:off x="1258920" y="3213000"/>
            <a:ext cx="232416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4030560" cy="29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53f35"/>
                </a:solidFill>
                <a:latin typeface="Arial"/>
              </a:rPr>
              <a:t>Повести </a:t>
            </a:r>
            <a:br>
              <a:rPr sz="4800"/>
            </a:b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покойного </a:t>
            </a:r>
            <a:br>
              <a:rPr sz="3200"/>
            </a:b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Ивана Петровича 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Белкина</a:t>
            </a: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изданные</a:t>
            </a:r>
            <a:br>
              <a:rPr sz="3200"/>
            </a:b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А.П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4000" y="4724280"/>
            <a:ext cx="1223640" cy="914400"/>
          </a:xfrm>
          <a:prstGeom prst="rect">
            <a:avLst/>
          </a:prstGeom>
          <a:solidFill>
            <a:srgbClr val="cfc7b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2381040" cy="337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708360" y="3789360"/>
            <a:ext cx="1190520" cy="838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 rot="313800">
            <a:off x="2843280" y="5084280"/>
            <a:ext cx="1428840" cy="1028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 rot="20977800">
            <a:off x="4858920" y="4652640"/>
            <a:ext cx="1451160" cy="1779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 rot="21167400">
            <a:off x="611280" y="4292640"/>
            <a:ext cx="142056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 rot="21223800">
            <a:off x="5940360" y="3716280"/>
            <a:ext cx="13114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Повести Белкина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Это не случайный набор произведений, а </a:t>
            </a:r>
            <a:r>
              <a:rPr b="0" i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цикл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части которого связаны друг с другом. Повести возникали, как связанные взаимно, одна с другой, словно части естественного, тяготеющие к единству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Сергей Георгиевич Бочар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Композиция. Теория вопрос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Композиция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это построение произвед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Цель композици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в любом произведении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оложить все отрезки текста так, чтобы произведение давало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полное выражение идеи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Рама /рамка/. Теория вопроса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Начал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и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конец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текста принято обозначать термином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рам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или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рам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ачало текст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состоит из следующих компонентов: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им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/псевдоним/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автор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заглав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подзаголовок, посвящение,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эпиграф /эпиграфы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/, предисловие,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ступлен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пролог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нец текст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может включать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авторское послеслов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оглавление, а также авторские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примечан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которые входят в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основной текст произведен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Роль рамы. Теория вопрос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Рам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ридает произведению характер завершенности,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усиливает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его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нутреннее единств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авторских циклах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где отдельный текст может рассматриваться как самостоятельное произведение, именно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наличие «рамы»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обнаруживает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заимосвязь всех частей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их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одчиненность единому замыслу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Повести Белкина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вый знак текста –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глави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 одной стороны все просто: указан жанр –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повест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 с другой стороны оно для читателя загадочно: в нем говорится о Белкине и издателе А.П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это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5:27:38Z</dcterms:created>
  <dc:creator>1</dc:creator>
  <dc:description/>
  <dc:language>en-US</dc:language>
  <cp:lastModifiedBy>Наталья</cp:lastModifiedBy>
  <dcterms:modified xsi:type="dcterms:W3CDTF">2011-10-20T04:02:05Z</dcterms:modified>
  <cp:revision>20</cp:revision>
  <dc:subject/>
  <dc:title>А.С. Пушкин Повести покойного Ивана Петровича Белкина</dc:title>
</cp:coreProperties>
</file>