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2.png" ContentType="image/png"/>
  <Override PartName="/ppt/media/image20.jpeg" ContentType="image/jpeg"/>
  <Override PartName="/ppt/media/image15.jpeg" ContentType="image/jpe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.wmf" ContentType="image/x-wmf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F4233-4317-4F0E-9345-8039107635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едени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Барышня-крестьянка» как-бы возвращает нас к произведению «Выстрел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72DC-B6A2-453A-91A5-41625E4F8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E905-F612-480A-8DC3-6DF19AFF5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F373-0454-41BF-8EF0-3E2A9168E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F415-A494-40BC-BBD0-9589CF1D3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0AFA0-9FC1-4A57-B097-78B0BE455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09DA2-3111-4562-9985-1C6DB9819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C4ADE-548F-4594-B60F-047E0FFF9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714D8-57D4-4085-831F-DF8941158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D5986-439B-4CCC-9151-63C935629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96A86-ACDE-4346-949C-FE07557AF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93AFC-1DB1-4EED-B168-6689936D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9997-4FF7-4B32-88DA-5B41CAC0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AE9EC-BD98-4803-822E-7AA9E518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86B4C-7084-4C93-B836-9BC48866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CD91D-ECF4-4D53-B8B5-42E059396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FA493-B298-4F7E-B642-537422C19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9DE8F-689E-4706-9E69-A9A0FF685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A47F-6C7B-49BB-9646-08DC4A401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5973-55B3-4813-882A-BE5A4D03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688B-71F9-451A-9A15-7EB3F49B7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D231-0BA1-4C14-A1B3-F6869C10E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7579-21F4-4D17-A356-1F00D2B6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35EC-19A5-4EF0-8596-0097165E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3711-8306-4E5C-8C96-BB6EC9BD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8e7f5e"/>
                </a:gs>
                <a:gs pos="100000">
                  <a:srgbClr val="cfc7b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6b18b"/>
                </a:gs>
                <a:gs pos="50000">
                  <a:srgbClr val="ebd2a5"/>
                </a:gs>
                <a:gs pos="100000">
                  <a:srgbClr val="c6b1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4c5c4d"/>
                </a:gs>
                <a:gs pos="50000">
                  <a:srgbClr val="a5c9a8"/>
                </a:gs>
                <a:gs pos="100000">
                  <a:srgbClr val="4c5c4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e5a871"/>
                </a:gs>
                <a:gs pos="100000">
                  <a:srgbClr val="cfc7b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fc7b5"/>
                </a:gs>
                <a:gs pos="50000">
                  <a:srgbClr val="e5a871"/>
                </a:gs>
                <a:gs pos="100000">
                  <a:srgbClr val="cfc7b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e7f5e"/>
                </a:gs>
                <a:gs pos="100000">
                  <a:srgbClr val="cfc7b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64042-B404-4407-97AC-4D680302B41E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8e7f5e"/>
                </a:gs>
                <a:gs pos="100000">
                  <a:srgbClr val="cfc7b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6b18b"/>
                </a:gs>
                <a:gs pos="50000">
                  <a:srgbClr val="ebd2a5"/>
                </a:gs>
                <a:gs pos="100000">
                  <a:srgbClr val="c6b1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4c5c4d"/>
                </a:gs>
                <a:gs pos="50000">
                  <a:srgbClr val="a5c9a8"/>
                </a:gs>
                <a:gs pos="100000">
                  <a:srgbClr val="4c5c4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e5a871"/>
                </a:gs>
                <a:gs pos="100000">
                  <a:srgbClr val="cfc7b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fc7b5"/>
                </a:gs>
                <a:gs pos="50000">
                  <a:srgbClr val="e5a871"/>
                </a:gs>
                <a:gs pos="100000">
                  <a:srgbClr val="cfc7b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e7f5e"/>
                </a:gs>
                <a:gs pos="100000">
                  <a:srgbClr val="cfc7b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EBBF8-8E58-4AD2-8B8C-72F413AF7831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           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836280"/>
            <a:ext cx="73864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853f35"/>
                </a:solidFill>
                <a:latin typeface="Arial"/>
              </a:rPr>
              <a:t>   </a:t>
            </a:r>
            <a:r>
              <a:rPr b="0" i="1" lang="en-US" sz="4000" spc="-1" strike="noStrike">
                <a:solidFill>
                  <a:srgbClr val="853f35"/>
                </a:solidFill>
                <a:latin typeface="Arial"/>
              </a:rPr>
              <a:t>«Драгоценный памятник благородного образа мыслей и трогательного содружества»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53f35"/>
                </a:solidFill>
                <a:latin typeface="Arial"/>
              </a:rPr>
              <a:t>                                                          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0920" y="5013360"/>
            <a:ext cx="50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348000" y="3716280"/>
            <a:ext cx="4133880" cy="14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87a51"/>
                </a:solidFill>
                <a:latin typeface="Arial"/>
              </a:rPr>
              <a:t>(Загадка композиции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287a51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87a51"/>
                </a:solidFill>
                <a:latin typeface="Arial"/>
              </a:rPr>
              <a:t>«Повестей Белкина»)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287a51"/>
              </a:solidFill>
              <a:latin typeface="Arial"/>
              <a:ea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95280" y="3213000"/>
            <a:ext cx="28576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53f35"/>
                </a:solidFill>
                <a:latin typeface="Arial"/>
              </a:rPr>
              <a:t>Загадочный издатель А.П. – дистанция №1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564000" y="1598760"/>
            <a:ext cx="41767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2f1311"/>
                </a:solidFill>
                <a:uFillTx/>
                <a:latin typeface="Arial"/>
              </a:rPr>
              <a:t>Эпиграф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из </a:t>
            </a:r>
            <a:r>
              <a:rPr b="0" i="1" lang="ru-RU" sz="2800" spc="-1" strike="noStrike" u="sng">
                <a:solidFill>
                  <a:srgbClr val="2f1311"/>
                </a:solidFill>
                <a:uFillTx/>
                <a:latin typeface="Arial"/>
              </a:rPr>
              <a:t>комедии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Д.И. Фонвизина «Недоросль», дан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2f1311"/>
                </a:solidFill>
                <a:uFillTx/>
                <a:latin typeface="Arial"/>
              </a:rPr>
              <a:t>ко всем повестям: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f1311"/>
                </a:solidFill>
                <a:latin typeface="Arial"/>
              </a:rPr>
              <a:t>«П р о с т а к о в 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f1311"/>
                </a:solidFill>
                <a:latin typeface="Arial"/>
              </a:rPr>
              <a:t>- То, мой батюшка, он еще с измальства к историям охотник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f1311"/>
                </a:solidFill>
                <a:latin typeface="Arial"/>
              </a:rPr>
              <a:t>С к о т и н и н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f1311"/>
                </a:solidFill>
                <a:latin typeface="Arial"/>
              </a:rPr>
              <a:t>- Митрофан по мне»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2746440" cy="44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53f35"/>
                </a:solidFill>
                <a:latin typeface="Arial"/>
              </a:rPr>
              <a:t>Из письма А.С.Пушкина П.А.Плетневу</a:t>
            </a:r>
            <a:br>
              <a:rPr sz="3200"/>
            </a:br>
            <a:r>
              <a:rPr b="0" lang="en-US" sz="1800" spc="-1" strike="noStrike">
                <a:solidFill>
                  <a:srgbClr val="853f35"/>
                </a:solidFill>
                <a:latin typeface="Arial"/>
              </a:rPr>
              <a:t>Декабрь 1830 года.</a:t>
            </a:r>
            <a:endParaRPr b="0" lang="en-US" sz="18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63520" y="1598400"/>
            <a:ext cx="738648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«Написал я прозою 5 повестей, от которых Баратынский </a:t>
            </a:r>
            <a:r>
              <a:rPr b="0" i="1" lang="ru-RU" sz="2800" spc="-1" strike="noStrike" u="sng">
                <a:solidFill>
                  <a:srgbClr val="2f1311"/>
                </a:solidFill>
                <a:uFillTx/>
                <a:latin typeface="Arial"/>
              </a:rPr>
              <a:t>ржет и бьется</a:t>
            </a: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 и которые напечатаем также 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Anonyme</a:t>
            </a: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»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3276720" y="3213000"/>
            <a:ext cx="3228840" cy="34020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324000" y="544500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Евгений Баратынский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53f35"/>
                </a:solidFill>
                <a:latin typeface="Arial"/>
              </a:rPr>
              <a:t>Загадочный издатель А.П. – дистанция №1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В июне 1830г. у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анонима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появилось имя – 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«покойник Белкин, славный малый».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После того, как повести прошли цензуру, Пушкин прислал «</a:t>
            </a:r>
            <a:r>
              <a:rPr b="0" i="1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Предисловие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» с биографией Белкина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«А.П.»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появляется также </a:t>
            </a:r>
            <a:r>
              <a:rPr b="0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в самом конце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повестей всего одним предложением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«Конец повестям И.П. Белкина»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53f35"/>
                </a:solidFill>
                <a:latin typeface="Arial"/>
              </a:rPr>
              <a:t>Эпиграфы.</a:t>
            </a: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 «Выстрел»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2f1311"/>
                </a:solidFill>
                <a:latin typeface="Arial"/>
              </a:rPr>
              <a:t>«Стрелялись мы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Из </a:t>
            </a:r>
            <a:r>
              <a:rPr b="0" i="1" lang="ru-RU" sz="2800" spc="-1" strike="noStrike" u="sng">
                <a:solidFill>
                  <a:srgbClr val="2f1311"/>
                </a:solidFill>
                <a:uFillTx/>
                <a:latin typeface="Arial"/>
              </a:rPr>
              <a:t>поэмы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Евгения Баратынского «Бал», 1828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2f1311"/>
                </a:solidFill>
                <a:latin typeface="Arial"/>
              </a:rPr>
              <a:t>«Я поклялся застрелить его по праву дуэли (за ним остался еще мой выстрел)»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Из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Александра Бесстужева-Марлиинского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«Вечер на бивуаке», 1822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53f35"/>
                </a:solidFill>
                <a:latin typeface="Arial"/>
              </a:rPr>
              <a:t>Эпиграфы.</a:t>
            </a: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 «Метель»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«Кони мчатся по буграм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Топчут снег глубокий…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Вот в сторонке божий храм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Виден одинокий…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Из </a:t>
            </a:r>
            <a:r>
              <a:rPr b="0" i="1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баллады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В.А.Жуковского «Светлана», 1813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53f35"/>
                </a:solidFill>
                <a:latin typeface="Arial"/>
              </a:rPr>
              <a:t>Эпиграфы.</a:t>
            </a: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 «Гробовщик»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«Не зрим ли каждый день гробов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Седин дряхлеющей вселенной?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Из </a:t>
            </a:r>
            <a:r>
              <a:rPr b="0" i="1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оды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Г.Р.Державина на смерть Г.А.Потемкина «Водопад»,1798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53f35"/>
                </a:solidFill>
                <a:latin typeface="Arial"/>
              </a:rPr>
              <a:t>Эпиграфы.</a:t>
            </a:r>
            <a:r>
              <a:rPr b="0" lang="en-US" sz="3600" spc="-1" strike="noStrike">
                <a:solidFill>
                  <a:srgbClr val="853f35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853f35"/>
                </a:solidFill>
                <a:latin typeface="Arial"/>
              </a:rPr>
              <a:t>«Станционный смотритель»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«Коллежский регистратор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Почтовой станции диктатор»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Из </a:t>
            </a:r>
            <a:r>
              <a:rPr b="0" i="1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стихотворения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князя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Петра Вяземского «Станция», 1825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53f35"/>
                </a:solidFill>
                <a:latin typeface="Arial"/>
              </a:rPr>
              <a:t>Эпиграфы.</a:t>
            </a:r>
            <a:r>
              <a:rPr b="0" lang="en-US" sz="3600" spc="-1" strike="noStrike">
                <a:solidFill>
                  <a:srgbClr val="853f35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853f35"/>
                </a:solidFill>
                <a:latin typeface="Arial"/>
              </a:rPr>
              <a:t>«Барышня-крестьянка»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«Во всех ты, Душенька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Нарядах хороша»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Из </a:t>
            </a:r>
            <a:r>
              <a:rPr b="0" i="1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поэмы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Ипполита Богдановича «Душенька», 1783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Вывод первый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Эпиграфы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почти все взяты 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из </a:t>
            </a:r>
            <a:r>
              <a:rPr b="1" i="1" lang="en-US" sz="2800" spc="-1" strike="noStrike">
                <a:solidFill>
                  <a:srgbClr val="2f1311"/>
                </a:solidFill>
                <a:latin typeface="Arial"/>
              </a:rPr>
              <a:t>поэтических произведений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/из 2-х </a:t>
            </a:r>
            <a:r>
              <a:rPr b="0" i="1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поэм, баллады, оды, стихотворения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/,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а повести Пушкина - </a:t>
            </a:r>
            <a:r>
              <a:rPr b="1" i="1" lang="en-US" sz="2800" spc="-1" strike="noStrike">
                <a:solidFill>
                  <a:srgbClr val="2f1311"/>
                </a:solidFill>
                <a:latin typeface="Arial"/>
              </a:rPr>
              <a:t>проза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В «Повестях» встречаются и </a:t>
            </a:r>
            <a:r>
              <a:rPr b="0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высокая поэзия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, и </a:t>
            </a:r>
            <a:r>
              <a:rPr b="0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проза жизни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/обыденность/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Повести – это своеобразный диалог Пушкина с поэтами современниками и старшим поколением писателей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53f35"/>
                </a:solidFill>
                <a:latin typeface="Arial"/>
              </a:rPr>
              <a:t>Белкин Иван Петрович – дистанция № 2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И.П.Белкин - </a:t>
            </a:r>
            <a:r>
              <a:rPr b="0" lang="en-US" sz="2400" spc="-1" strike="noStrike" u="sng">
                <a:solidFill>
                  <a:srgbClr val="2f1311"/>
                </a:solidFill>
                <a:uFillTx/>
                <a:latin typeface="Arial"/>
              </a:rPr>
              <a:t>собиратель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повестей, </a:t>
            </a:r>
            <a:r>
              <a:rPr b="0" lang="en-US" sz="2400" spc="-1" strike="noStrike" u="sng">
                <a:solidFill>
                  <a:srgbClr val="2f1311"/>
                </a:solidFill>
                <a:uFillTx/>
                <a:latin typeface="Arial"/>
              </a:rPr>
              <a:t>писатель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Уже в заголовке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Белкин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и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А.П.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разделены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А в биографии есть общее: оба помещики, писатели, их роднит «охота к чтению и занятиям по русской словесности», родились почти в один год: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Белкин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- в 1798, а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Пушкин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- в 1799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Они современники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475920"/>
            <a:ext cx="74768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53f35"/>
                </a:solidFill>
                <a:latin typeface="Arial"/>
              </a:rPr>
              <a:t>Болдинская осень 1830 </a:t>
            </a:r>
            <a:r>
              <a:rPr b="0" lang="en-US" sz="3200" spc="-1" strike="noStrike">
                <a:solidFill>
                  <a:srgbClr val="853f35"/>
                </a:solidFill>
                <a:latin typeface="Arial"/>
              </a:rPr>
              <a:t>года</a:t>
            </a:r>
            <a:br>
              <a:rPr sz="3600"/>
            </a:br>
            <a:endParaRPr b="0" lang="en-US" sz="32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57000"/>
            <a:ext cx="33004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«Повести»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созданы в Болдине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Тогда А.С. Пушкин  создал около 30-ти стихотворений и 20-ти  самых значительных своих произведений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780000" y="1700280"/>
            <a:ext cx="3930480" cy="46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Вывод второй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ушкин предлагает взглянуть на судьбу Белкина с горькой усмешкой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Изображает </a:t>
            </a:r>
            <a:r>
              <a:rPr b="0" lang="en-US" sz="3200" spc="-1" strike="noStrike" u="sng">
                <a:solidFill>
                  <a:srgbClr val="2f1311"/>
                </a:solidFill>
                <a:uFillTx/>
                <a:latin typeface="Arial"/>
              </a:rPr>
              <a:t>собирателя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и писателя повестей как </a:t>
            </a:r>
            <a:r>
              <a:rPr b="0" lang="en-US" sz="3200" spc="-1" strike="noStrike" u="sng">
                <a:solidFill>
                  <a:srgbClr val="2f1311"/>
                </a:solidFill>
                <a:uFillTx/>
                <a:latin typeface="Arial"/>
              </a:rPr>
              <a:t>героя своего времени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53f35"/>
                </a:solidFill>
                <a:latin typeface="Arial"/>
              </a:rPr>
              <a:t>Рассказчики повестей – дистанция № 3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Важную композиционную роль в каждой повести играет </a:t>
            </a:r>
            <a:r>
              <a:rPr b="0" i="1" lang="en-US" sz="3200" spc="-1" strike="noStrike" u="sng">
                <a:solidFill>
                  <a:srgbClr val="2f1311"/>
                </a:solidFill>
                <a:uFillTx/>
                <a:latin typeface="Arial"/>
              </a:rPr>
              <a:t>рассказчик</a:t>
            </a:r>
            <a:r>
              <a:rPr b="0" lang="en-US" sz="3200" spc="-1" strike="noStrike" u="sng">
                <a:solidFill>
                  <a:srgbClr val="2f1311"/>
                </a:solidFill>
                <a:uFillTx/>
                <a:latin typeface="Arial"/>
              </a:rPr>
              <a:t>.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В каждой из пяти - он свой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В рукописи Белкина помечено,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от кого он слышал повесть,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указаны чин или звание и инициалы рассказчика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Дистанция автора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2761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11280" y="1413000"/>
            <a:ext cx="1850760" cy="1079280"/>
          </a:xfrm>
          <a:prstGeom prst="flowChartAlternateProcess">
            <a:avLst/>
          </a:prstGeom>
          <a:solidFill>
            <a:srgbClr val="e1bd7b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А.С. Пушкин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132000" y="1413000"/>
            <a:ext cx="1873440" cy="1152360"/>
          </a:xfrm>
          <a:prstGeom prst="flowChartAlternateProcess">
            <a:avLst/>
          </a:prstGeom>
          <a:solidFill>
            <a:srgbClr val="e1bd7b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А.П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4f29"/>
                </a:solidFill>
                <a:latin typeface="Arial"/>
              </a:rPr>
              <a:t>издатель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26920" y="3357720"/>
            <a:ext cx="1873440" cy="936360"/>
          </a:xfrm>
          <a:prstGeom prst="flowChartAlternateProcess">
            <a:avLst/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И.Л.П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Подполковник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1«Выстрел»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00000" y="5013360"/>
            <a:ext cx="1873440" cy="720720"/>
          </a:xfrm>
          <a:prstGeom prst="flowChartAlternateProcess">
            <a:avLst/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девица 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К.И.Т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2«Метель»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651640" y="1413000"/>
            <a:ext cx="1944720" cy="1079280"/>
          </a:xfrm>
          <a:prstGeom prst="flowChartAlternateProcess">
            <a:avLst/>
          </a:prstGeom>
          <a:solidFill>
            <a:srgbClr val="e1bd7b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И.П. Белкин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4f29"/>
                </a:solidFill>
                <a:latin typeface="Arial"/>
              </a:rPr>
              <a:t>собиратель,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4f29"/>
                </a:solidFill>
                <a:latin typeface="Arial"/>
              </a:rPr>
              <a:t>писатель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580000" y="4653000"/>
            <a:ext cx="2016360" cy="936720"/>
          </a:xfrm>
          <a:prstGeom prst="flowChartAlternateProcess">
            <a:avLst/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А.Г.Н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Титулярный советник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«Станционный смотритель»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580000" y="3429000"/>
            <a:ext cx="2089080" cy="936720"/>
          </a:xfrm>
          <a:prstGeom prst="flowChartAlternateProcess">
            <a:avLst/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Б.В. </a:t>
            </a: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Приказчик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3 «Гробовщик»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987640" y="5805360"/>
            <a:ext cx="2592360" cy="719280"/>
          </a:xfrm>
          <a:prstGeom prst="flowChartAlternateProcess">
            <a:avLst/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девица 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.И.Т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5«Барышня--крестьянка»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276720" y="3357720"/>
            <a:ext cx="1706400" cy="1008000"/>
          </a:xfrm>
          <a:prstGeom prst="ellipse">
            <a:avLst/>
          </a:prstGeom>
          <a:solidFill>
            <a:srgbClr val="e1bd7b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4f29"/>
                </a:solidFill>
                <a:latin typeface="Arial"/>
              </a:rPr>
              <a:t>Рассказчик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867280" y="189000"/>
            <a:ext cx="1778040" cy="863640"/>
          </a:xfrm>
          <a:prstGeom prst="wedgeRoundRectCallout">
            <a:avLst>
              <a:gd name="adj1" fmla="val 1787"/>
              <a:gd name="adj2" fmla="val 93013"/>
              <a:gd name="adj3" fmla="val 16667"/>
            </a:avLst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О Белкине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–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письмо </a:t>
            </a:r>
            <a:r>
              <a:rPr b="0" lang="ru-RU" sz="1200" spc="-1" strike="noStrike" u="sng">
                <a:solidFill>
                  <a:srgbClr val="2f1311"/>
                </a:solidFill>
                <a:uFillTx/>
                <a:latin typeface="Arial"/>
              </a:rPr>
              <a:t>соседа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из Ненарадово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1830год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556000" y="1916280"/>
            <a:ext cx="542880" cy="268200"/>
          </a:xfrm>
          <a:prstGeom prst="rightArrow">
            <a:avLst>
              <a:gd name="adj1" fmla="val 25444"/>
              <a:gd name="adj2" fmla="val 103579"/>
            </a:avLst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076720" y="1844640"/>
            <a:ext cx="542880" cy="268200"/>
          </a:xfrm>
          <a:prstGeom prst="rightArrow">
            <a:avLst>
              <a:gd name="adj1" fmla="val 25444"/>
              <a:gd name="adj2" fmla="val 103579"/>
            </a:avLst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8638800">
            <a:off x="4601880" y="2796840"/>
            <a:ext cx="1441440" cy="268200"/>
          </a:xfrm>
          <a:prstGeom prst="rightArrow">
            <a:avLst>
              <a:gd name="adj1" fmla="val 19500"/>
              <a:gd name="adj2" fmla="val 267804"/>
            </a:avLst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2700000" y="3860640"/>
            <a:ext cx="576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03640" y="3860640"/>
            <a:ext cx="50508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788000" y="4292640"/>
            <a:ext cx="718920" cy="50328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2484360" y="4292640"/>
            <a:ext cx="1008000" cy="64908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140360" y="4365720"/>
            <a:ext cx="0" cy="136836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Вывод третий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Еще загадка… Почему автор «спрятался»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Во время </a:t>
            </a:r>
            <a:r>
              <a:rPr b="0" lang="en-US" sz="2400" spc="-1" strike="noStrike" u="sng">
                <a:solidFill>
                  <a:srgbClr val="2f1311"/>
                </a:solidFill>
                <a:uFillTx/>
                <a:latin typeface="Arial"/>
              </a:rPr>
              <a:t>прохождения цензуры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имя Пушкина не упоминалось – и в этом была задумка самого поэт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Введение рассказчиков создает </a:t>
            </a:r>
            <a:r>
              <a:rPr b="0" lang="en-US" sz="2400" spc="-1" strike="noStrike" u="sng">
                <a:solidFill>
                  <a:srgbClr val="2f1311"/>
                </a:solidFill>
                <a:uFillTx/>
                <a:latin typeface="Arial"/>
              </a:rPr>
              <a:t>атмосферу живой беседы с читателем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2f1311"/>
                </a:solidFill>
                <a:uFillTx/>
                <a:latin typeface="Arial"/>
              </a:rPr>
              <a:t>Рассказчик</a:t>
            </a:r>
            <a:r>
              <a:rPr b="0" i="1" lang="en-US" sz="2400" spc="-1" strike="noStrike">
                <a:solidFill>
                  <a:srgbClr val="2f1311"/>
                </a:solidFill>
                <a:latin typeface="Arial"/>
              </a:rPr>
              <a:t> – это глубоко личная история и определенная точка зрения на происходящее, далекая или близкая авторской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355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853f35"/>
                </a:solidFill>
                <a:latin typeface="Arial"/>
              </a:rPr>
              <a:t>Порядок </a:t>
            </a:r>
            <a:br>
              <a:rPr sz="2800"/>
            </a:br>
            <a:r>
              <a:rPr b="0" lang="en-US" sz="2800" spc="-1" strike="noStrike">
                <a:solidFill>
                  <a:srgbClr val="853f35"/>
                </a:solidFill>
                <a:latin typeface="Arial"/>
              </a:rPr>
              <a:t>написания повестей </a:t>
            </a:r>
            <a:r>
              <a:rPr b="0" lang="en-US" sz="2000" spc="-1" strike="noStrike">
                <a:solidFill>
                  <a:srgbClr val="853f35"/>
                </a:solidFill>
                <a:latin typeface="Arial"/>
              </a:rPr>
              <a:t>А.С. Пушкиным</a:t>
            </a:r>
            <a:endParaRPr b="0" lang="en-US" sz="2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63160" y="1773360"/>
            <a:ext cx="34448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1 «Гробовщик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2 «Станционный смотритель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3 «Барышня-крестьянка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4 «Выстрел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5 «Метель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427640" y="260280"/>
            <a:ext cx="302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3f35"/>
                </a:solidFill>
                <a:latin typeface="Arial"/>
              </a:rPr>
              <a:t>Порядок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3f35"/>
                </a:solidFill>
                <a:latin typeface="Arial"/>
              </a:rPr>
              <a:t>размещения</a:t>
            </a:r>
            <a:r>
              <a:rPr b="0" lang="en-US" sz="1800" spc="-1" strike="noStrike">
                <a:solidFill>
                  <a:srgbClr val="853f35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853f35"/>
                </a:solidFill>
                <a:latin typeface="Arial"/>
              </a:rPr>
              <a:t>в сборнике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284720" y="1773360"/>
            <a:ext cx="3382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(4)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«Выстрел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(5)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«Метель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(1)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«Гробовщик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(2)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«Станционный смотритель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(3)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«Барышня-крестьянка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588000" y="1989000"/>
            <a:ext cx="152640" cy="914400"/>
          </a:xfrm>
          <a:custGeom>
            <a:avLst/>
            <a:gdLst>
              <a:gd name="textAreaLeft" fmla="*/ 0 w 152640"/>
              <a:gd name="textAreaRight" fmla="*/ 5508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020000" y="371628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916360" y="184464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627280" y="472428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916360" y="3716280"/>
            <a:ext cx="142920" cy="144360"/>
          </a:xfrm>
          <a:prstGeom prst="flowChartConnector">
            <a:avLst/>
          </a:prstGeom>
          <a:solidFill>
            <a:srgbClr val="c68510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877080" y="5734080"/>
            <a:ext cx="142920" cy="142920"/>
          </a:xfrm>
          <a:prstGeom prst="flowChartConnector">
            <a:avLst/>
          </a:prstGeom>
          <a:solidFill>
            <a:srgbClr val="c68510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«Выстрел» и «Метель»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3664080" cy="249696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3995640" y="2781360"/>
            <a:ext cx="352440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«</a:t>
            </a: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Гробовщик» и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23640" y="5084280"/>
            <a:ext cx="734364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53f35"/>
                </a:solidFill>
                <a:latin typeface="Arial"/>
              </a:rPr>
              <a:t>«Станционный смотритель»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4716360" y="189000"/>
            <a:ext cx="2925720" cy="462420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179280" y="2133720"/>
            <a:ext cx="4380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«Барышня-крестьянка»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2050920" y="1268280"/>
            <a:ext cx="3851280" cy="53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34448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4000" y="40464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53f35"/>
                </a:solidFill>
                <a:latin typeface="Arial"/>
              </a:rPr>
              <a:t>Порядок размещения в сборнике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124000" y="1773360"/>
            <a:ext cx="453564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«Выстрел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«Метель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«Гробовщик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«Станционный смотритель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«Барышня-крестьянка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211640" y="191628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443640" y="378936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rot="15229800">
            <a:off x="-665280" y="2329920"/>
            <a:ext cx="4465800" cy="2055960"/>
          </a:xfrm>
          <a:custGeom>
            <a:avLst/>
            <a:gdLst>
              <a:gd name="textAreaLeft" fmla="*/ 0 w 4465800"/>
              <a:gd name="textAreaRight" fmla="*/ 4466160 w 4465800"/>
              <a:gd name="textAreaTop" fmla="*/ 0 h 2055960"/>
              <a:gd name="textAreaBottom" fmla="*/ 2056320 h 2055960"/>
            </a:gdLst>
            <a:ahLst/>
            <a:rect l="textAreaLeft" t="textAreaTop" r="textAreaRight" b="textAreaBottom"/>
            <a:pathLst>
              <a:path w="21600" h="21600">
                <a:moveTo>
                  <a:pt x="4106" y="3243"/>
                </a:moveTo>
                <a:arcTo wR="-10096" hR="-10096" stAng="-7892103" swAng="-13707897"/>
                <a:lnTo>
                  <a:pt x="0" y="10800"/>
                </a:lnTo>
                <a:arcTo wR="10800" hR="10800" stAng="10800000" swAng="13707897"/>
                <a:lnTo>
                  <a:pt x="19752" y="20905"/>
                </a:lnTo>
                <a:lnTo>
                  <a:pt x="15443" y="20645"/>
                </a:lnTo>
                <a:lnTo>
                  <a:pt x="15704" y="16336"/>
                </a:lnTo>
                <a:close/>
              </a:path>
            </a:pathLst>
          </a:cu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124000" y="5373720"/>
            <a:ext cx="142920" cy="142920"/>
          </a:xfrm>
          <a:prstGeom prst="flowChartConnector">
            <a:avLst/>
          </a:prstGeom>
          <a:solidFill>
            <a:srgbClr val="c68510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Вывод четвертый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А.С.Пушкин строит цикл повестей образными «блоками», структурными единствами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Композиция цикла повестей, как у всякого гения, сложна и необычна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оэтому и авторские загадки неисчерпаемы.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276360" y="1628280"/>
            <a:ext cx="43606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Болдинский период в творчестве поэта –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«туго стянутый узел великих концов и великих начал»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1311"/>
                </a:solidFill>
                <a:latin typeface="Arial"/>
              </a:rPr>
              <a:t>/Д.Д.Благой/</a:t>
            </a:r>
            <a:br>
              <a:rPr sz="2400"/>
            </a:b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24000" y="260280"/>
            <a:ext cx="727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Болдинская осень 1830 года</a:t>
            </a:r>
            <a:br>
              <a:rPr sz="4000"/>
            </a:b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 rot="20823000">
            <a:off x="1258920" y="3213000"/>
            <a:ext cx="2324160" cy="27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Спасибо за внимание!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1341000"/>
            <a:ext cx="4030560" cy="29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53f35"/>
                </a:solidFill>
                <a:latin typeface="Arial"/>
              </a:rPr>
              <a:t>Повести </a:t>
            </a:r>
            <a:br>
              <a:rPr sz="4800"/>
            </a:br>
            <a:r>
              <a:rPr b="0" lang="en-US" sz="3200" spc="-1" strike="noStrike">
                <a:solidFill>
                  <a:srgbClr val="853f35"/>
                </a:solidFill>
                <a:latin typeface="Arial"/>
              </a:rPr>
              <a:t>покойного </a:t>
            </a:r>
            <a:br>
              <a:rPr sz="3200"/>
            </a:br>
            <a:r>
              <a:rPr b="0" lang="en-US" sz="3200" spc="-1" strike="noStrike">
                <a:solidFill>
                  <a:srgbClr val="853f35"/>
                </a:solidFill>
                <a:latin typeface="Arial"/>
              </a:rPr>
              <a:t>Ивана Петровича </a:t>
            </a: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Белкина</a:t>
            </a:r>
            <a:r>
              <a:rPr b="0" lang="en-US" sz="3200" spc="-1" strike="noStrike">
                <a:solidFill>
                  <a:srgbClr val="853f35"/>
                </a:solidFill>
                <a:latin typeface="Arial"/>
              </a:rPr>
              <a:t>, </a:t>
            </a:r>
            <a:br>
              <a:rPr sz="3200"/>
            </a:br>
            <a:r>
              <a:rPr b="0" lang="en-US" sz="3200" spc="-1" strike="noStrike">
                <a:solidFill>
                  <a:srgbClr val="853f35"/>
                </a:solidFill>
                <a:latin typeface="Arial"/>
              </a:rPr>
              <a:t>изданные</a:t>
            </a:r>
            <a:br>
              <a:rPr sz="3200"/>
            </a:br>
            <a:r>
              <a:rPr b="0" lang="en-US" sz="3200" spc="-1" strike="noStrike">
                <a:solidFill>
                  <a:srgbClr val="853f35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853f35"/>
                </a:solidFill>
                <a:latin typeface="Arial"/>
              </a:rPr>
              <a:t>А.П.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4000" y="4724280"/>
            <a:ext cx="1223640" cy="914400"/>
          </a:xfrm>
          <a:prstGeom prst="rect">
            <a:avLst/>
          </a:prstGeom>
          <a:solidFill>
            <a:srgbClr val="cfc7b5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788000" y="333360"/>
            <a:ext cx="2381040" cy="337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3708360" y="3789360"/>
            <a:ext cx="1190520" cy="8380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 rot="313800">
            <a:off x="2843280" y="5084280"/>
            <a:ext cx="1428840" cy="10288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 rot="20977800">
            <a:off x="4858920" y="4652640"/>
            <a:ext cx="1451160" cy="17794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 rot="21167400">
            <a:off x="611280" y="4292640"/>
            <a:ext cx="1420560" cy="20001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6"/>
          <a:stretch/>
        </p:blipFill>
        <p:spPr>
          <a:xfrm rot="21223800">
            <a:off x="5940360" y="3716280"/>
            <a:ext cx="131148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«Повести Белкина»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«Это не случайный набор произведений, а </a:t>
            </a:r>
            <a:r>
              <a:rPr b="0" i="1" lang="en-US" sz="3200" spc="-1" strike="noStrike" u="sng">
                <a:solidFill>
                  <a:srgbClr val="2f1311"/>
                </a:solidFill>
                <a:uFillTx/>
                <a:latin typeface="Arial"/>
              </a:rPr>
              <a:t>цикл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части которого связаны друг с другом. Повести возникали, как связанные взаимно, одна с другой, словно части естественного, тяготеющие к единству»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1311"/>
                </a:solidFill>
                <a:latin typeface="Arial"/>
              </a:rPr>
              <a:t>Сергей Георгиевич Бочаров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Композиция. Теория вопроса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2f1311"/>
                </a:solidFill>
                <a:latin typeface="Arial"/>
              </a:rPr>
              <a:t>Композиция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– это построение произведени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f1311"/>
                </a:solidFill>
                <a:latin typeface="Arial"/>
              </a:rPr>
              <a:t>Цель композиции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в любом произведении: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расположить все отрезки текста так, чтобы произведение давало </a:t>
            </a:r>
            <a:r>
              <a:rPr b="0" lang="en-US" sz="3200" spc="-1" strike="noStrike" u="sng">
                <a:solidFill>
                  <a:srgbClr val="2f1311"/>
                </a:solidFill>
                <a:uFillTx/>
                <a:latin typeface="Arial"/>
              </a:rPr>
              <a:t>полное выражение идеи.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53f35"/>
                </a:solidFill>
                <a:latin typeface="Arial"/>
              </a:rPr>
              <a:t>Рама /рамка/. Теория вопроса.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Начало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и </a:t>
            </a:r>
            <a:r>
              <a:rPr b="0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конец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текста принято обозначать термином 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рама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, или 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рамк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Начало текста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состоит из следующих компонентов: </a:t>
            </a:r>
            <a:r>
              <a:rPr b="0" i="1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имя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/псевдоним/ </a:t>
            </a:r>
            <a:r>
              <a:rPr b="0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автора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, </a:t>
            </a:r>
            <a:r>
              <a:rPr b="0" i="1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заглавие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, подзаголовок, посвящение, </a:t>
            </a:r>
            <a:r>
              <a:rPr b="0" i="1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эпиграф /эпиграфы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/, предисловие, </a:t>
            </a:r>
            <a:r>
              <a:rPr b="0" i="1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вступление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, пролог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Конец текста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может включать </a:t>
            </a:r>
            <a:r>
              <a:rPr b="0" i="1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авторское послесловие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, оглавление, а также авторские 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примечания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, которые входят в 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основной текст произведения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Роль рамы. Теория вопроса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Рама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придает произведению характер завершенности, </a:t>
            </a:r>
            <a:r>
              <a:rPr b="0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усиливает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его </a:t>
            </a:r>
            <a:r>
              <a:rPr b="0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внутреннее единство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В 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авторских циклах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, где отдельный текст может рассматриваться как самостоятельное произведение, именно </a:t>
            </a:r>
            <a:r>
              <a:rPr b="0" i="1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наличие «рамы»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обнаруживает </a:t>
            </a:r>
            <a:r>
              <a:rPr b="0" i="1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взаимосвязь всех частей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, их </a:t>
            </a:r>
            <a:r>
              <a:rPr b="0" i="1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подчиненность единому замыслу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«Повести Белкина»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ервый знак текста –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заглавие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С одной стороны все просто: указан жанр – </a:t>
            </a:r>
            <a:r>
              <a:rPr b="0" lang="en-US" sz="3200" spc="-1" strike="noStrike" u="sng">
                <a:solidFill>
                  <a:srgbClr val="2f1311"/>
                </a:solidFill>
                <a:uFillTx/>
                <a:latin typeface="Arial"/>
              </a:rPr>
              <a:t>повести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А с другой стороны оно для читателя загадочно: в нем говорится о Белкине и издателе А.П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            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Кто это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1T15:27:38Z</dcterms:created>
  <dc:creator>1</dc:creator>
  <dc:description/>
  <dc:language>en-US</dc:language>
  <cp:lastModifiedBy>Наталья</cp:lastModifiedBy>
  <dcterms:modified xsi:type="dcterms:W3CDTF">2011-10-20T04:02:05Z</dcterms:modified>
  <cp:revision>20</cp:revision>
  <dc:subject/>
  <dc:title>А.С. Пушкин Повести покойного Ивана Петровича Белкина</dc:title>
</cp:coreProperties>
</file>