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2.png" ContentType="image/png"/>
  <Override PartName="/ppt/media/image20.jpeg" ContentType="image/jpeg"/>
  <Override PartName="/ppt/media/image15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4FBE-5496-4BCA-BF9C-4411E9CC4E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еде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арышня-крестьянка» как-бы возвращает нас к произведению «Выстрел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5FFF-6B53-4606-9AD6-8C706653F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8E41-C933-4146-83F0-63C2FFE9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FFEF-8728-4DBA-9964-12986A88A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5338-3CA1-42B9-A963-92DAD098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6E88-9CA4-49F1-8BB2-26E1D8D7F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8571-F00B-478E-AEC0-1E38D9A1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1F46-01C7-4045-A950-1813248D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5E05-5FC7-48B6-BF8A-42003203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987B-0A4E-4724-B6CE-30EBAC39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363A-9412-44AE-A398-60ED84A6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F17F-61DB-4728-A775-544FB80B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AF98-9B89-4CD9-BD1F-4D16BAA4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420D-FB25-44CD-85F5-12BEAD72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1A23-225A-4916-965C-5ABCC46F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8169-EF78-442E-9A9A-EBF3F733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B7F4-7D69-4A88-85AC-58426836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3BCF-25B1-4DF5-84D8-F385B603A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AAA4-68F3-4044-B734-2DEF2E04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0359-6BBE-4BD4-9CEA-3A49EE69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613A-E016-46D4-A752-76DAC7A3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6A8C-1160-4FA0-A1FB-8736265F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A8D2-B231-40F5-980D-1A9CC914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4A03-183A-45B8-938F-C0EFB931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8645-FD03-44BE-A070-7CE2A6EC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6b18b"/>
                </a:gs>
                <a:gs pos="50000">
                  <a:srgbClr val="ebd2a5"/>
                </a:gs>
                <a:gs pos="100000">
                  <a:srgbClr val="c6b1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4c5c4d"/>
                </a:gs>
                <a:gs pos="50000">
                  <a:srgbClr val="a5c9a8"/>
                </a:gs>
                <a:gs pos="100000">
                  <a:srgbClr val="4c5c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BF4A-5E99-42EE-90DF-16896D7CD47E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6b18b"/>
                </a:gs>
                <a:gs pos="50000">
                  <a:srgbClr val="ebd2a5"/>
                </a:gs>
                <a:gs pos="100000">
                  <a:srgbClr val="c6b1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4c5c4d"/>
                </a:gs>
                <a:gs pos="50000">
                  <a:srgbClr val="a5c9a8"/>
                </a:gs>
                <a:gs pos="100000">
                  <a:srgbClr val="4c5c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0CB0-9586-4ECE-8EA3-03A9B4F56DE4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836280"/>
            <a:ext cx="73864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53f35"/>
                </a:solidFill>
                <a:latin typeface="Arial"/>
              </a:rPr>
              <a:t>   </a:t>
            </a:r>
            <a:r>
              <a:rPr b="0" i="1" lang="en-US" sz="4000" spc="-1" strike="noStrike">
                <a:solidFill>
                  <a:srgbClr val="853f35"/>
                </a:solidFill>
                <a:latin typeface="Arial"/>
              </a:rPr>
              <a:t>«Драгоценный памятник благородного образа мыслей и трогательного содружества»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53f35"/>
                </a:solidFill>
                <a:latin typeface="Arial"/>
              </a:rPr>
              <a:t>                                                      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501336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348000" y="3716280"/>
            <a:ext cx="4133880" cy="14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87a51"/>
                </a:solidFill>
                <a:latin typeface="Arial"/>
              </a:rPr>
              <a:t>(Загадка композиции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287a5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87a51"/>
                </a:solidFill>
                <a:latin typeface="Arial"/>
              </a:rPr>
              <a:t>«Повестей Белкина»)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287a51"/>
              </a:solidFill>
              <a:latin typeface="Arial"/>
              <a:ea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95280" y="3213000"/>
            <a:ext cx="28576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Загадочный издатель А.П. – дистанция №1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564000" y="1598760"/>
            <a:ext cx="41767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Эпиграф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из </a:t>
            </a:r>
            <a:r>
              <a:rPr b="0" i="1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комедии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Д.И. Фонвизина «Недоросль», дан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ко всем повестям: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«П р о с т а к о в 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- То, мой батюшка, он еще с измальства к историям охотник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С к о т и н и н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- Митрофан по мне»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74644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3f35"/>
                </a:solidFill>
                <a:latin typeface="Arial"/>
              </a:rPr>
              <a:t>Из письма А.С.Пушкина П.А.Плетневу</a:t>
            </a:r>
            <a:br>
              <a:rPr sz="3200"/>
            </a:br>
            <a:r>
              <a:rPr b="0" lang="en-US" sz="1800" spc="-1" strike="noStrike">
                <a:solidFill>
                  <a:srgbClr val="853f35"/>
                </a:solidFill>
                <a:latin typeface="Arial"/>
              </a:rPr>
              <a:t>Декабрь 1830 года.</a:t>
            </a:r>
            <a:endParaRPr b="0" lang="en-US" sz="18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«Написал я прозою 5 повестей, от которых Баратынский </a:t>
            </a:r>
            <a:r>
              <a:rPr b="0" i="1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ржет и бьется</a:t>
            </a: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 и которые напечатаем также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Anonyme</a:t>
            </a: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276720" y="3213000"/>
            <a:ext cx="3228840" cy="3402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24000" y="544500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Евгений Баратынски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Загадочный издатель А.П. – дистанция №1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 июне 1830г. у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анонима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появилось имя –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«покойник Белкин, славный малый».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После того, как повести прошли цензуру, Пушкин прислал «</a:t>
            </a: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Предисловие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» с биографией Белкина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«А.П.»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появляется также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в самом конце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повестей всего одним предложением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«Конец повестям И.П. Белкина»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Эпиграфы.</a:t>
            </a: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 «Выстрел»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«Стрелялись мы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Из </a:t>
            </a:r>
            <a:r>
              <a:rPr b="0" i="1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поэмы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Евгения Баратынского «Бал», 1828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«Я поклялся застрелить его по праву дуэли (за ним остался еще мой выстрел)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Из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лександра Бесстужева-Марлиинского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«Вечер на бивуаке», 1822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Эпиграфы.</a:t>
            </a: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 «Метель»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«Кони мчатся по буграм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Топчут снег глубокий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Вот в сторонке божий хра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Виден одинокий…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Из </a:t>
            </a: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баллады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В.А.Жуковского «Светлана», 181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Эпиграфы.</a:t>
            </a: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 «Гробовщик»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«Не зрим ли каждый день гробов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Седин дряхлеющей вселенной?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Из </a:t>
            </a: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оды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Г.Р.Державина на смерть Г.А.Потемкина «Водопад»,1798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Эпиграфы.</a:t>
            </a: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«Станционный смотритель»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«Коллежский регистратор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Почтовой станции диктатор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Из </a:t>
            </a: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стихотворения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князя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етра Вяземского «Станция», 1825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Эпиграфы.</a:t>
            </a: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«Барышня-крестьянка»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«Во всех ты, Душенька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Нарядах хороша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Из </a:t>
            </a: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поэмы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Ипполита Богдановича «Душенька», 178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Вывод первый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Эпиграфы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почти все взяты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из </a:t>
            </a: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поэтических произведений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/из 2-х </a:t>
            </a: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поэм, баллады, оды, стихотворения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/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а повести Пушкина - </a:t>
            </a: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проза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 «Повестях» встречаются и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высокая поэзия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, и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проза жизни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/обыденность/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овести – это своеобразный диалог Пушкина с поэтами современниками и старшим поколением писателе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Белкин Иван Петрович – дистанция № 2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И.П.Белкин - </a:t>
            </a: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собиратель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повестей, </a:t>
            </a: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писатель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Уже в заголовке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Белкин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А.П.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разделены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А в биографии есть общее: оба помещики, писатели, их роднит «охота к чтению и занятиям по русской словесности», родились почти в один год: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Белкин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- в 1798, а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ушкин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- в 1799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Они современники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475920"/>
            <a:ext cx="74768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Болдинская осень 1830 </a:t>
            </a:r>
            <a:r>
              <a:rPr b="0" lang="en-US" sz="3200" spc="-1" strike="noStrike">
                <a:solidFill>
                  <a:srgbClr val="853f35"/>
                </a:solidFill>
                <a:latin typeface="Arial"/>
              </a:rPr>
              <a:t>года</a:t>
            </a:r>
            <a:br>
              <a:rPr sz="3600"/>
            </a:br>
            <a:endParaRPr b="0" lang="en-US" sz="32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57000"/>
            <a:ext cx="33004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«Повести»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созданы в Болдине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Тогда А.С. Пушкин  создал около 30-ти стихотворений и 20-ти  самых значительных своих произведени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780000" y="1700280"/>
            <a:ext cx="3930480" cy="46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Вывод второй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ушкин предлагает взглянуть на судьбу Белкина с горькой усмешкой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Изображает </a:t>
            </a: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собирателя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и писателя повестей как </a:t>
            </a: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героя своего времени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Рассказчики повестей – дистанция № 3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ажную композиционную роль в каждой повести играет </a:t>
            </a:r>
            <a:r>
              <a:rPr b="0" i="1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рассказчик</a:t>
            </a: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.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 каждой из пяти - он свой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 рукописи Белкина помечено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от кого он слышал повесть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указаны чин или звание и инициалы рассказчика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Дистанция автора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276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11280" y="1413000"/>
            <a:ext cx="1850760" cy="1079280"/>
          </a:xfrm>
          <a:prstGeom prst="flowChartAlternateProcess">
            <a:avLst/>
          </a:prstGeom>
          <a:solidFill>
            <a:srgbClr val="e1bd7b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А.С. Пушки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32000" y="1413000"/>
            <a:ext cx="1873440" cy="1152360"/>
          </a:xfrm>
          <a:prstGeom prst="flowChartAlternateProcess">
            <a:avLst/>
          </a:prstGeom>
          <a:solidFill>
            <a:srgbClr val="e1bd7b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А.П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4f29"/>
                </a:solidFill>
                <a:latin typeface="Arial"/>
              </a:rPr>
              <a:t>издател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6920" y="3357720"/>
            <a:ext cx="1873440" cy="936360"/>
          </a:xfrm>
          <a:prstGeom prst="flowChartAlternateProcess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И.Л.П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Подполковни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1«Выстрел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00000" y="5013360"/>
            <a:ext cx="1873440" cy="720720"/>
          </a:xfrm>
          <a:prstGeom prst="flowChartAlternateProcess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девица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К.И.Т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2«Метель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1413000"/>
            <a:ext cx="1944720" cy="1079280"/>
          </a:xfrm>
          <a:prstGeom prst="flowChartAlternateProcess">
            <a:avLst/>
          </a:prstGeom>
          <a:solidFill>
            <a:srgbClr val="e1bd7b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И.П. Белки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4f29"/>
                </a:solidFill>
                <a:latin typeface="Arial"/>
              </a:rPr>
              <a:t>собиратель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4f29"/>
                </a:solidFill>
                <a:latin typeface="Arial"/>
              </a:rPr>
              <a:t>писател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580000" y="4653000"/>
            <a:ext cx="2016360" cy="936720"/>
          </a:xfrm>
          <a:prstGeom prst="flowChartAlternateProcess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А.Г.Н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Титулярный советник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«Станционный смотритель»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80000" y="3429000"/>
            <a:ext cx="2089080" cy="936720"/>
          </a:xfrm>
          <a:prstGeom prst="flowChartAlternateProcess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Б.В. </a:t>
            </a: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Приказчик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3 «Гробовщик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987640" y="5805360"/>
            <a:ext cx="2592360" cy="719280"/>
          </a:xfrm>
          <a:prstGeom prst="flowChartAlternateProcess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девица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.И.Т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5«Барышня--крестьянка»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3357720"/>
            <a:ext cx="1706400" cy="1008000"/>
          </a:xfrm>
          <a:prstGeom prst="ellipse">
            <a:avLst/>
          </a:prstGeom>
          <a:solidFill>
            <a:srgbClr val="e1bd7b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4f29"/>
                </a:solidFill>
                <a:latin typeface="Arial"/>
              </a:rPr>
              <a:t>Рассказчик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189000"/>
            <a:ext cx="1778040" cy="863640"/>
          </a:xfrm>
          <a:prstGeom prst="wedgeRoundRectCallout">
            <a:avLst>
              <a:gd name="adj1" fmla="val 1787"/>
              <a:gd name="adj2" fmla="val 93013"/>
              <a:gd name="adj3" fmla="val 16667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О Белкине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–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письмо </a:t>
            </a:r>
            <a:r>
              <a:rPr b="0" lang="ru-RU" sz="1200" spc="-1" strike="noStrike" u="sng">
                <a:solidFill>
                  <a:srgbClr val="2f1311"/>
                </a:solidFill>
                <a:uFillTx/>
                <a:latin typeface="Arial"/>
              </a:rPr>
              <a:t>соседа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из Ненарадово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1830год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56000" y="1916280"/>
            <a:ext cx="542880" cy="268200"/>
          </a:xfrm>
          <a:prstGeom prst="rightArrow">
            <a:avLst>
              <a:gd name="adj1" fmla="val 25444"/>
              <a:gd name="adj2" fmla="val 103579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076720" y="1844640"/>
            <a:ext cx="542880" cy="268200"/>
          </a:xfrm>
          <a:prstGeom prst="rightArrow">
            <a:avLst>
              <a:gd name="adj1" fmla="val 25444"/>
              <a:gd name="adj2" fmla="val 103579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8638800">
            <a:off x="4601880" y="2796840"/>
            <a:ext cx="1441440" cy="268200"/>
          </a:xfrm>
          <a:prstGeom prst="rightArrow">
            <a:avLst>
              <a:gd name="adj1" fmla="val 19500"/>
              <a:gd name="adj2" fmla="val 267804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700000" y="3860640"/>
            <a:ext cx="576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03640" y="3860640"/>
            <a:ext cx="50508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4292640"/>
            <a:ext cx="718920" cy="5032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484360" y="4292640"/>
            <a:ext cx="1008000" cy="6490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140360" y="4365720"/>
            <a:ext cx="0" cy="1368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Вывод третий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Еще загадка… Почему автор «спрятался»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Во время </a:t>
            </a: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прохождения цензуры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имя Пушкина не упоминалось – и в этом была задумка самого поэт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Введение рассказчиков создает </a:t>
            </a: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атмосферу живой беседы с читателе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Рассказчик</a:t>
            </a: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 – это глубоко личная история и определенная точка зрения на происходящее, далекая или близкая авторской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355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Порядок </a:t>
            </a:r>
            <a:br>
              <a:rPr sz="2800"/>
            </a:b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написания повестей </a:t>
            </a:r>
            <a:r>
              <a:rPr b="0" lang="en-US" sz="2000" spc="-1" strike="noStrike">
                <a:solidFill>
                  <a:srgbClr val="853f35"/>
                </a:solidFill>
                <a:latin typeface="Arial"/>
              </a:rPr>
              <a:t>А.С. Пушкиным</a:t>
            </a:r>
            <a:endParaRPr b="0" lang="en-US" sz="2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63160" y="1773360"/>
            <a:ext cx="34448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 «Гробовщик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2 «Станционный смотритель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3 «Барышня-крестьянк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4 «Выстрел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5 «Метель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427640" y="260280"/>
            <a:ext cx="302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Порядок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размещения</a:t>
            </a:r>
            <a:r>
              <a:rPr b="0" lang="en-US" sz="1800" spc="-1" strike="noStrike">
                <a:solidFill>
                  <a:srgbClr val="853f35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в сборник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284720" y="1773360"/>
            <a:ext cx="3382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4)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«Выстрел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5)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«Метель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«Гробовщик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«Станционный смотритель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3)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«Барышня-крестьянк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588000" y="198900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020000" y="37162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16360" y="184464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627280" y="47242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916360" y="3716280"/>
            <a:ext cx="142920" cy="144360"/>
          </a:xfrm>
          <a:prstGeom prst="flowChartConnector">
            <a:avLst/>
          </a:prstGeom>
          <a:solidFill>
            <a:srgbClr val="c6851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77080" y="5734080"/>
            <a:ext cx="142920" cy="142920"/>
          </a:xfrm>
          <a:prstGeom prst="flowChartConnector">
            <a:avLst/>
          </a:prstGeom>
          <a:solidFill>
            <a:srgbClr val="c6851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«Выстрел» и «Метель»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3664080" cy="24969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3995640" y="2781360"/>
            <a:ext cx="35244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«</a:t>
            </a: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Гробовщик» и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23640" y="5084280"/>
            <a:ext cx="734364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«Станционный смотритель»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716360" y="189000"/>
            <a:ext cx="2925720" cy="46242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79280" y="2133720"/>
            <a:ext cx="4380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«Барышня-крестьянка»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385128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34448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4000" y="40464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Порядок размещения в сборнике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124000" y="1773360"/>
            <a:ext cx="453564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«Выстрел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«Метель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«Гробовщик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«Станционный смотритель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«Барышня-крестьянк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211640" y="19162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43640" y="378936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15229800">
            <a:off x="-665280" y="2329920"/>
            <a:ext cx="4465800" cy="2055960"/>
          </a:xfrm>
          <a:custGeom>
            <a:avLst/>
            <a:gdLst>
              <a:gd name="textAreaLeft" fmla="*/ 0 w 4465800"/>
              <a:gd name="textAreaRight" fmla="*/ 4466160 w 4465800"/>
              <a:gd name="textAreaTop" fmla="*/ 0 h 2055960"/>
              <a:gd name="textAreaBottom" fmla="*/ 2056320 h 2055960"/>
            </a:gdLst>
            <a:ahLst/>
            <a:rect l="textAreaLeft" t="textAreaTop" r="textAreaRight" b="textAreaBottom"/>
            <a:pathLst>
              <a:path w="21600" h="21600">
                <a:moveTo>
                  <a:pt x="4106" y="3243"/>
                </a:moveTo>
                <a:arcTo wR="-10096" hR="-10096" stAng="-7892103" swAng="-13707897"/>
                <a:lnTo>
                  <a:pt x="0" y="10800"/>
                </a:lnTo>
                <a:arcTo wR="10800" hR="10800" stAng="10800000" swAng="13707897"/>
                <a:lnTo>
                  <a:pt x="19752" y="20905"/>
                </a:lnTo>
                <a:lnTo>
                  <a:pt x="15443" y="20645"/>
                </a:lnTo>
                <a:lnTo>
                  <a:pt x="15704" y="16336"/>
                </a:lnTo>
                <a:close/>
              </a:path>
            </a:pathLst>
          </a:cu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124000" y="5373720"/>
            <a:ext cx="142920" cy="142920"/>
          </a:xfrm>
          <a:prstGeom prst="flowChartConnector">
            <a:avLst/>
          </a:prstGeom>
          <a:solidFill>
            <a:srgbClr val="c6851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Вывод четвертый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А.С.Пушкин строит цикл повестей образными «блоками», структурными единствами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омпозиция цикла повестей, как у всякого гения, сложна и необычна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этому и авторские загадки неисчерпаемы.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76360" y="1628280"/>
            <a:ext cx="43606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Болдинский период в творчестве поэта –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«туго стянутый узел великих концов и великих начал»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/Д.Д.Благой/</a:t>
            </a: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26028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Болдинская осень 1830 года</a:t>
            </a:r>
            <a:br>
              <a:rPr sz="4000"/>
            </a:b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 rot="20823000">
            <a:off x="1258920" y="3213000"/>
            <a:ext cx="232416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4030560" cy="29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53f35"/>
                </a:solidFill>
                <a:latin typeface="Arial"/>
              </a:rPr>
              <a:t>Повести </a:t>
            </a:r>
            <a:br>
              <a:rPr sz="4800"/>
            </a:br>
            <a:r>
              <a:rPr b="0" lang="en-US" sz="3200" spc="-1" strike="noStrike">
                <a:solidFill>
                  <a:srgbClr val="853f35"/>
                </a:solidFill>
                <a:latin typeface="Arial"/>
              </a:rPr>
              <a:t>покойного </a:t>
            </a:r>
            <a:br>
              <a:rPr sz="3200"/>
            </a:br>
            <a:r>
              <a:rPr b="0" lang="en-US" sz="3200" spc="-1" strike="noStrike">
                <a:solidFill>
                  <a:srgbClr val="853f35"/>
                </a:solidFill>
                <a:latin typeface="Arial"/>
              </a:rPr>
              <a:t>Ивана Петровича </a:t>
            </a: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Белкина</a:t>
            </a:r>
            <a:r>
              <a:rPr b="0" lang="en-US" sz="3200" spc="-1" strike="noStrike">
                <a:solidFill>
                  <a:srgbClr val="853f35"/>
                </a:solidFill>
                <a:latin typeface="Arial"/>
              </a:rPr>
              <a:t>, </a:t>
            </a:r>
            <a:br>
              <a:rPr sz="3200"/>
            </a:br>
            <a:r>
              <a:rPr b="0" lang="en-US" sz="3200" spc="-1" strike="noStrike">
                <a:solidFill>
                  <a:srgbClr val="853f35"/>
                </a:solidFill>
                <a:latin typeface="Arial"/>
              </a:rPr>
              <a:t>изданные</a:t>
            </a:r>
            <a:br>
              <a:rPr sz="3200"/>
            </a:br>
            <a:r>
              <a:rPr b="0" lang="en-US" sz="3200" spc="-1" strike="noStrike">
                <a:solidFill>
                  <a:srgbClr val="853f35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А.П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4000" y="4724280"/>
            <a:ext cx="1223640" cy="914400"/>
          </a:xfrm>
          <a:prstGeom prst="rect">
            <a:avLst/>
          </a:prstGeom>
          <a:solidFill>
            <a:srgbClr val="cfc7b5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788000" y="333360"/>
            <a:ext cx="2381040" cy="337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708360" y="3789360"/>
            <a:ext cx="1190520" cy="8380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 rot="313800">
            <a:off x="2843280" y="5084280"/>
            <a:ext cx="1428840" cy="10288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 rot="20977800">
            <a:off x="4858920" y="4652640"/>
            <a:ext cx="1451160" cy="17794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 rot="21167400">
            <a:off x="611280" y="4292640"/>
            <a:ext cx="1420560" cy="20001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 rot="21223800">
            <a:off x="5940360" y="3716280"/>
            <a:ext cx="131148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«Повести Белкина»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«Это не случайный набор произведений, а </a:t>
            </a:r>
            <a:r>
              <a:rPr b="0" i="1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цикл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части которого связаны друг с другом. Повести возникали, как связанные взаимно, одна с другой, словно части естественного, тяготеющие к единству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Сергей Георгиевич Бочаров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Композиция. Теория вопрос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f1311"/>
                </a:solidFill>
                <a:latin typeface="Arial"/>
              </a:rPr>
              <a:t>Композиция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– это построение произведен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f1311"/>
                </a:solidFill>
                <a:latin typeface="Arial"/>
              </a:rPr>
              <a:t>Цель композиции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в любом произведении: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расположить все отрезки текста так, чтобы произведение давало </a:t>
            </a: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полное выражение идеи.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3f35"/>
                </a:solidFill>
                <a:latin typeface="Arial"/>
              </a:rPr>
              <a:t>Рама /рамка/. Теория вопроса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Начало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и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конец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текста принято обозначать термином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рама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, или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рамк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Начало текста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состоит из следующих компонентов: </a:t>
            </a: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имя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/псевдоним/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автора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заглавие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, подзаголовок, посвящение, </a:t>
            </a: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эпиграф /эпиграфы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/, предисловие, </a:t>
            </a: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вступление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, пролог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Конец текста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может включать </a:t>
            </a: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авторское послесловие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, оглавление, а также авторские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примечания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, которые входят в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основной текст произведения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Роль рамы. Теория вопрос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Рама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придает произведению характер завершенности,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усиливает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его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внутреннее единство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авторских циклах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, где отдельный текст может рассматриваться как самостоятельное произведение, именно </a:t>
            </a: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наличие «рамы»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обнаруживает </a:t>
            </a: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взаимосвязь всех частей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, их </a:t>
            </a: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подчиненность единому замыслу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«Повести Белкина»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ервый знак текста –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заглавие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 одной стороны все просто: указан жанр – </a:t>
            </a: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повести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А с другой стороны оно для читателя загадочно: в нем говорится о Белкине и издателе А.П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то это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15:27:38Z</dcterms:created>
  <dc:creator>1</dc:creator>
  <dc:description/>
  <dc:language>en-US</dc:language>
  <cp:lastModifiedBy>Наталья</cp:lastModifiedBy>
  <dcterms:modified xsi:type="dcterms:W3CDTF">2011-10-20T04:02:05Z</dcterms:modified>
  <cp:revision>20</cp:revision>
  <dc:subject/>
  <dc:title>А.С. Пушкин Повести покойного Ивана Петровича Белкина</dc:title>
</cp:coreProperties>
</file>