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5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1.gif" ContentType="image/gif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6E22-9395-4528-808F-878AE26FE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B172-F901-4467-9628-661CFC8D6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83F3-5D09-4D7A-BA33-75A9214DF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367C-4CF9-48A3-98CC-46395DB0E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5A29-7EDE-4A3F-BF87-8581878EB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E612-8086-4B20-89C0-937EB887B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397A-C26B-4EDF-A2E8-76417844A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673E-48D8-47EA-ABDF-25A86BDE9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646B-CE51-446A-BAC7-8396755F6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ACC2-D762-4B04-8249-EC7650D3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99A2-7A6A-4A57-9016-CFA218B0A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2EAB-6ADF-4274-AEB6-46C34D382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000000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65009-4578-448D-9015-567079B7A4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000000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765000"/>
            <a:ext cx="7561440" cy="18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ССЛЕДОВАТЕЛЬСКАЯ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 ЛИТЕРАТУ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95640" y="4653000"/>
            <a:ext cx="5148360" cy="8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Автор: Осипенко Александр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уч-ся 9-Б класса гимназии №2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43280" y="6154560"/>
            <a:ext cx="35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анкт-Петербург 2010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50920" y="2133720"/>
            <a:ext cx="856908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9999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"ПОНТИЙ ПИЛАТ: </a:t>
            </a:r>
            <a:endParaRPr b="1" lang="en-US" sz="1800" spc="1" strike="noStrike">
              <a:ln w="28440">
                <a:solidFill>
                  <a:srgbClr val="009999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9999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ЖЕРТВА ИЛИ ПАЛАЧ?"</a:t>
            </a:r>
            <a:endParaRPr b="1" lang="en-US" sz="1800" spc="1" strike="noStrike">
              <a:ln w="28440">
                <a:solidFill>
                  <a:srgbClr val="009999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211640" y="1990080"/>
            <a:ext cx="4537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Человек – основная часть Природы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Человека и Природу не следует противопоставлять друг друг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 рассматривать их надо в единств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050920" y="549360"/>
            <a:ext cx="4464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О природе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1" name="" descr="Набоков Андрей. Глава 32. Прощение и вечный приют (лист 2)."/>
          <p:cNvPicPr/>
          <p:nvPr/>
        </p:nvPicPr>
        <p:blipFill>
          <a:blip r:embed="rId1"/>
          <a:stretch/>
        </p:blipFill>
        <p:spPr>
          <a:xfrm>
            <a:off x="684360" y="1557360"/>
            <a:ext cx="33811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Картинка 7 из 65"/>
          <p:cNvPicPr/>
          <p:nvPr/>
        </p:nvPicPr>
        <p:blipFill>
          <a:blip r:embed="rId1"/>
          <a:stretch/>
        </p:blipFill>
        <p:spPr>
          <a:xfrm>
            <a:off x="5076720" y="1125360"/>
            <a:ext cx="3810240" cy="51343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395280" y="549360"/>
            <a:ext cx="4321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Что есть истина?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2143440"/>
            <a:ext cx="4321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илат сказал Ему: итак Ты Цар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Иисус отвечал: ты говоришь, что Я Цар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Я на то родился и на то пришел в мир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чтобы свидетельствовать о истин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всякий кто от истины, слушает гласа Мое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Иоанна 18: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8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1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4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7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0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3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000000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900000" y="2133720"/>
            <a:ext cx="7561440" cy="4319640"/>
          </a:xfrm>
          <a:prstGeom prst="rect">
            <a:avLst/>
          </a:prstGeom>
          <a:solidFill>
            <a:srgbClr val="debc7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332000" y="2781360"/>
            <a:ext cx="2952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ИЛАТИТЬ -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419640" y="335772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«МУЧИТЬ», «ТИРАНИ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042920" y="4365720"/>
            <a:ext cx="39909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УМЫВАТЬ РУКИ -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5013360"/>
            <a:ext cx="352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«СНИМАТЬ С СЕБЯ ОТВЕТСТВЕННОС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826920" y="404640"/>
            <a:ext cx="7417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844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ЛОВА И ВЫРАЖЕНИЯ, </a:t>
            </a:r>
            <a:endParaRPr b="1" i="1" lang="en-US" sz="1800" spc="1" strike="noStrike">
              <a:ln w="2844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844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ОШЕДШИЕ В НАШУ РЕЧЬ:</a:t>
            </a:r>
            <a:endParaRPr b="1" i="1" lang="en-US" sz="1800" spc="1" strike="noStrike">
              <a:ln w="2844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000000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314280"/>
            <a:ext cx="914400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5" dur="116066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6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257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60" dur="1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Картинка 24 из 932"/>
          <p:cNvPicPr/>
          <p:nvPr/>
        </p:nvPicPr>
        <p:blipFill>
          <a:blip r:embed="rId1"/>
          <a:stretch/>
        </p:blipFill>
        <p:spPr>
          <a:xfrm>
            <a:off x="3059280" y="1197000"/>
            <a:ext cx="3057480" cy="48592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084720" y="1844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84720" y="184464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84720" y="270828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84720" y="350028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436572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522936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2627280" y="148428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627280" y="234936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627280" y="314172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627280" y="393372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2627280" y="479736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4360" y="119700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жесток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206064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еспотич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-541440" y="2781360"/>
            <a:ext cx="30258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русость (боязнь потерять карьер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0920" y="3573360"/>
            <a:ext cx="230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Человек «с двойным дно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4292640"/>
            <a:ext cx="248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едатель собственной сове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516720" y="260280"/>
            <a:ext cx="2016000" cy="5832720"/>
          </a:xfrm>
          <a:prstGeom prst="rect">
            <a:avLst/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659640" y="333360"/>
            <a:ext cx="360360" cy="57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свобод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ич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692280"/>
            <a:ext cx="504720" cy="2447640"/>
          </a:xfrm>
          <a:prstGeom prst="rect">
            <a:avLst/>
          </a:prstGeom>
          <a:solidFill>
            <a:srgbClr val="ddad6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236000" y="3357720"/>
            <a:ext cx="504720" cy="2447640"/>
          </a:xfrm>
          <a:prstGeom prst="rect">
            <a:avLst/>
          </a:prstGeom>
          <a:solidFill>
            <a:srgbClr val="ddad6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08720" y="1052640"/>
            <a:ext cx="289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Жертв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08720" y="3500280"/>
            <a:ext cx="36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алач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740720" y="1844640"/>
            <a:ext cx="144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740720" y="4365720"/>
            <a:ext cx="144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956720" y="1413000"/>
            <a:ext cx="28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885080" y="4005360"/>
            <a:ext cx="35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32000" y="333360"/>
            <a:ext cx="4032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НТИЙ ПИЛАТ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500"/>
                            </p:stCondLst>
                            <p:childTnLst>
                              <p:par>
                                <p:cTn id="2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500"/>
                            </p:stCondLst>
                            <p:childTnLst>
                              <p:par>
                                <p:cTn id="29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3000"/>
                            </p:stCondLst>
                            <p:childTnLst>
                              <p:par>
                                <p:cTn id="30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000000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468360" y="1916280"/>
            <a:ext cx="2951280" cy="214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60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ЖЕРТВА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292720" y="3645000"/>
            <a:ext cx="3097080" cy="22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АЛАЧ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916360" y="4292640"/>
            <a:ext cx="1150920" cy="85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3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ЛИ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044000" y="763200"/>
            <a:ext cx="7238520" cy="47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671"/>
                </a:solidFill>
                <a:latin typeface="Arial"/>
              </a:rPr>
              <a:t>«Странное напряжение</a:t>
            </a:r>
            <a:r>
              <a:rPr b="1" i="1" lang="en-US" sz="4400" spc="-1" strike="noStrike">
                <a:solidFill>
                  <a:srgbClr val="ffb03b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b03b"/>
                </a:solidFill>
                <a:latin typeface="Arial"/>
              </a:rPr>
              <a:t>пульсирует вокру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b03b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ff9900"/>
                </a:solidFill>
                <a:latin typeface="Arial"/>
              </a:rPr>
              <a:t>имени "Понтий Пилат"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b03b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da8200"/>
                </a:solidFill>
                <a:latin typeface="Arial"/>
              </a:rPr>
              <a:t>- и счастлив тот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b03b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da8200"/>
                </a:solidFill>
                <a:latin typeface="Arial"/>
              </a:rPr>
              <a:t>кто в это напря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b03b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a46200"/>
                </a:solidFill>
                <a:latin typeface="Arial"/>
              </a:rPr>
              <a:t>вовлечён»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Arial"/>
              </a:rPr>
              <a:t>Алексей Меняйлов</a:t>
            </a:r>
            <a:r>
              <a:rPr b="1" i="1" lang="en-US" sz="18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68360" y="2280240"/>
            <a:ext cx="8424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«Мир потому зачался, что Бог изначально возжелал своб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Если бы Он не возжелал и не ждал свобод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то мирового процесса и не было б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Вместо мирового процесса было бы неподвижное, изначально совершенное царство Божье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Н. Бердя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908000" y="620640"/>
            <a:ext cx="4464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О свободе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10920" y="404640"/>
            <a:ext cx="8085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671"/>
                </a:solidFill>
                <a:latin typeface="Arial"/>
              </a:rPr>
              <a:t>Быть свободным - это ничт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671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c671"/>
                </a:solidFill>
                <a:latin typeface="Arial"/>
              </a:rPr>
              <a:t>стать свободным - это все. (К. Бёрн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671"/>
                </a:solidFill>
                <a:latin typeface="Arial"/>
              </a:rPr>
              <a:t>Где Дух Господень, там свобода. (Апостол Паве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826920" y="2349360"/>
          <a:ext cx="7274160" cy="3816360"/>
        </p:xfrm>
        <a:graphic>
          <a:graphicData uri="http://schemas.openxmlformats.org/drawingml/2006/table">
            <a:tbl>
              <a:tblPr/>
              <a:tblGrid>
                <a:gridCol w="3835440"/>
                <a:gridCol w="3438720"/>
              </a:tblGrid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a9500"/>
                          </a:solidFill>
                          <a:latin typeface="Arial"/>
                        </a:rPr>
                        <a:t>свобод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990033"/>
                      </a:solidFill>
                    </a:lnL>
                    <a:lnR w="28080">
                      <a:solidFill>
                        <a:srgbClr val="990033"/>
                      </a:solidFill>
                    </a:lnR>
                    <a:lnT w="28080">
                      <a:solidFill>
                        <a:srgbClr val="990033"/>
                      </a:solidFill>
                    </a:lnT>
                    <a:lnB w="2808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a9500"/>
                          </a:solidFill>
                          <a:latin typeface="Arial"/>
                        </a:rPr>
                        <a:t>несвобод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990033"/>
                      </a:solidFill>
                    </a:lnL>
                    <a:lnR w="28080">
                      <a:solidFill>
                        <a:srgbClr val="990033"/>
                      </a:solidFill>
                    </a:lnR>
                    <a:lnT w="28080">
                      <a:solidFill>
                        <a:srgbClr val="990033"/>
                      </a:solidFill>
                    </a:lnT>
                    <a:lnB w="2808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2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Духовная сила (проявление воли)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Нравственная си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990033"/>
                      </a:solidFill>
                    </a:lnL>
                    <a:lnR w="28080">
                      <a:solidFill>
                        <a:srgbClr val="990033"/>
                      </a:solidFill>
                    </a:lnR>
                    <a:lnT w="28080">
                      <a:solidFill>
                        <a:srgbClr val="990033"/>
                      </a:solidFill>
                    </a:lnT>
                    <a:lnB w="2808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Духовная слабость (отсутствие воли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Внутренняя зависим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990033"/>
                      </a:solidFill>
                    </a:lnL>
                    <a:lnR w="28080">
                      <a:solidFill>
                        <a:srgbClr val="990033"/>
                      </a:solidFill>
                    </a:lnR>
                    <a:lnT w="28080">
                      <a:solidFill>
                        <a:srgbClr val="990033"/>
                      </a:solidFill>
                    </a:lnT>
                    <a:lnB w="28080">
                      <a:solidFill>
                        <a:srgbClr val="99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 txBox="1"/>
          <p:nvPr/>
        </p:nvSpPr>
        <p:spPr>
          <a:xfrm>
            <a:off x="250920" y="1197000"/>
            <a:ext cx="799308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1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ыбо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000000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763640" y="365040"/>
            <a:ext cx="7380360" cy="64929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2916360" y="692280"/>
            <a:ext cx="33829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ЖЕРТВА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050920" y="5300640"/>
            <a:ext cx="3672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АЛАЧ</a:t>
            </a:r>
            <a:endParaRPr b="1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187280" y="3357720"/>
            <a:ext cx="1368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ЛИ</a:t>
            </a:r>
            <a:endParaRPr b="1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000000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042920" y="1052640"/>
            <a:ext cx="6985080" cy="4998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39640" y="3213000"/>
            <a:ext cx="30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11280" y="3573360"/>
            <a:ext cx="309708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ДОБР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076720" y="2924280"/>
            <a:ext cx="3095640" cy="89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ЗЛ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635280" y="2276640"/>
            <a:ext cx="12780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ИЛ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971640" y="2259000"/>
            <a:ext cx="7129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Человек может верить и не верить... это его дел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Человек - свободен... он за все платит са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за веру, за неверие, за любов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за ум - человек за все платит са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и потому он - свободен!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Человек - вот правда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М.Горький «На дн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050920" y="692280"/>
            <a:ext cx="44643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О человеке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050920" y="692280"/>
            <a:ext cx="44643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О человеке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000000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258920" y="5451120"/>
            <a:ext cx="68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Пилат, видя, что ничто не помогает, но смятение увеличивается, взял воды и умыл руки перед народом, и сказал: не виновен я в крови Праведника Сего;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тф. 27:24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908000" y="404640"/>
            <a:ext cx="5185080" cy="491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826920" y="5074920"/>
            <a:ext cx="667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5f5f5f"/>
                </a:solidFill>
                <a:latin typeface="Arial"/>
              </a:rPr>
              <a:t>« Превыше всего истина, а истина од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5f5f5f"/>
                </a:solidFill>
                <a:latin typeface="Arial"/>
              </a:rPr>
              <a:t>Двух истин не бывает»</a:t>
            </a: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050920" y="692280"/>
            <a:ext cx="44643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О сыне Божьем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1861560"/>
            <a:ext cx="8353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Любовь долготерпит, милосердствует, любовь не завидует, любовь не превозносится, не гордится, не бесчинствует, не ищет своего, не раздражается, не мыслит зла, не радуется неправде, а сорадуется истин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се покрывает, всему верит, всего надеется, все перенос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Любовь никогда не перестае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1 Коринф. 13:4-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9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2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1T08:49:03Z</dcterms:created>
  <dc:creator>gala</dc:creator>
  <dc:description/>
  <dc:language>en-US</dc:language>
  <cp:lastModifiedBy>gala</cp:lastModifiedBy>
  <dcterms:modified xsi:type="dcterms:W3CDTF">2010-10-31T13:24:06Z</dcterms:modified>
  <cp:revision>16</cp:revision>
  <dc:subject/>
  <dc:title>Слайд 1</dc:title>
</cp:coreProperties>
</file>