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769-6C6A-4A76-B0DC-57EB7B9F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16E-2164-4205-9D10-344AA3D2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058-232D-4ABD-8229-D84F9600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E6B-2E67-4140-861C-5834E1C8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73C-4E41-43E7-9086-6DE86637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45E-2D62-4448-AC01-58096306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4B1-5DB3-4939-9DED-36D6CFE6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2F7-378C-4B26-A439-97F45993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F02-6AA7-4B05-B967-6ED98032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5D5-CDAF-480D-9460-75FBE45E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B0A-EAB4-412E-B9E5-F5E7EDCC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9B1-EE17-4F30-B4B5-3ADD535C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E5FF-2104-4026-99D0-C494B6E47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765000"/>
            <a:ext cx="75614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 ЛИТЕРА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653000"/>
            <a:ext cx="51483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втор: Осипенко Александ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ч-ся 9-Б класса гимназии №2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615456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нкт-Петербург 2010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2133720"/>
            <a:ext cx="8569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9999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"ПОНТИЙ ПИЛАТ: </a:t>
            </a:r>
            <a:endParaRPr b="1" lang="en-US" sz="1800" spc="1" strike="noStrike">
              <a:ln w="28440">
                <a:solidFill>
                  <a:srgbClr val="009999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9999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ЖЕРТВА ИЛИ ПАЛАЧ?"</a:t>
            </a:r>
            <a:endParaRPr b="1" lang="en-US" sz="1800" spc="1" strike="noStrike">
              <a:ln w="28440">
                <a:solidFill>
                  <a:srgbClr val="009999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211640" y="1990080"/>
            <a:ext cx="4537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Человек – основная часть Природ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Человека и Природу не следует противопоставлять друг дру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рассматривать их надо в единст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050920" y="549360"/>
            <a:ext cx="446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природ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" descr="Набоков Андрей. Глава 32. Прощение и вечный приют (лист 2)."/>
          <p:cNvPicPr/>
          <p:nvPr/>
        </p:nvPicPr>
        <p:blipFill>
          <a:blip r:embed="rId1"/>
          <a:stretch/>
        </p:blipFill>
        <p:spPr>
          <a:xfrm>
            <a:off x="684360" y="1557360"/>
            <a:ext cx="3381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Картинка 7 из 65"/>
          <p:cNvPicPr/>
          <p:nvPr/>
        </p:nvPicPr>
        <p:blipFill>
          <a:blip r:embed="rId1"/>
          <a:stretch/>
        </p:blipFill>
        <p:spPr>
          <a:xfrm>
            <a:off x="5076720" y="1125360"/>
            <a:ext cx="3810240" cy="5134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95280" y="549360"/>
            <a:ext cx="432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то есть истина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143440"/>
            <a:ext cx="432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илат сказал Ему: итак Ты Цар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исус отвечал: ты говоришь, что Я Ца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 на то родился и на то пришел в ми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тобы свидетельствовать о исти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сякий кто от истины, слушает гласа Мо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оанна 18: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2133720"/>
            <a:ext cx="7561440" cy="4319640"/>
          </a:xfrm>
          <a:prstGeom prst="rect">
            <a:avLst/>
          </a:prstGeom>
          <a:solidFill>
            <a:srgbClr val="debc7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332000" y="2781360"/>
            <a:ext cx="29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ЛАТИТЬ -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3357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МУЧИТЬ», «ТИРАН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42920" y="4365720"/>
            <a:ext cx="3990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МЫВАТЬ РУКИ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5013360"/>
            <a:ext cx="35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НИМАТЬ С СЕБЯ ОТВЕТСТВЕН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26920" y="404640"/>
            <a:ext cx="7417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А И ВЫРАЖЕНИЯ, </a:t>
            </a:r>
            <a:endParaRPr b="1" i="1" lang="en-US" sz="1800" spc="1" strike="noStrike">
              <a:ln w="2844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ШЕДШИЕ В НАШУ РЕЧЬ:</a:t>
            </a:r>
            <a:endParaRPr b="1" i="1" lang="en-US" sz="1800" spc="1" strike="noStrike">
              <a:ln w="2844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1606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0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Картинка 24 из 932"/>
          <p:cNvPicPr/>
          <p:nvPr/>
        </p:nvPicPr>
        <p:blipFill>
          <a:blip r:embed="rId1"/>
          <a:stretch/>
        </p:blipFill>
        <p:spPr>
          <a:xfrm>
            <a:off x="3059280" y="1197000"/>
            <a:ext cx="3057480" cy="4859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84720" y="184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1844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2708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84720" y="3500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43657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5229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627280" y="148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627280" y="2349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627280" y="31417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27280" y="39337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627280" y="4797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197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сто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0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спот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541440" y="2781360"/>
            <a:ext cx="3025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усость (боязнь потерять карьер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ловек «с двойным дн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292640"/>
            <a:ext cx="24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атель собственной со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16720" y="260280"/>
            <a:ext cx="2016000" cy="583272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59640" y="333360"/>
            <a:ext cx="36036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свобо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692280"/>
            <a:ext cx="504720" cy="2447640"/>
          </a:xfrm>
          <a:prstGeom prst="rect">
            <a:avLst/>
          </a:prstGeom>
          <a:solidFill>
            <a:srgbClr val="ddad6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3357720"/>
            <a:ext cx="504720" cy="2447640"/>
          </a:xfrm>
          <a:prstGeom prst="rect">
            <a:avLst/>
          </a:prstGeom>
          <a:solidFill>
            <a:srgbClr val="ddad6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08720" y="1052640"/>
            <a:ext cx="2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р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08720" y="3500280"/>
            <a:ext cx="36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лач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40720" y="1844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40720" y="43657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956720" y="1413000"/>
            <a:ext cx="2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85080" y="4005360"/>
            <a:ext cx="3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32000" y="333360"/>
            <a:ext cx="403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НТИЙ ПИЛА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68360" y="1916280"/>
            <a:ext cx="2951280" cy="21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РТВ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292720" y="3645000"/>
            <a:ext cx="309708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ЛАЧ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916360" y="4292640"/>
            <a:ext cx="115092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Л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4000" y="763200"/>
            <a:ext cx="723852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671"/>
                </a:solidFill>
                <a:latin typeface="Arial"/>
              </a:rPr>
              <a:t>«Странное напряжение</a:t>
            </a: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пульсирует во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имени "Понтий Пилат"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da8200"/>
                </a:solidFill>
                <a:latin typeface="Arial"/>
              </a:rPr>
              <a:t>- и счастлив то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da8200"/>
                </a:solidFill>
                <a:latin typeface="Arial"/>
              </a:rPr>
              <a:t>кто в это напря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a46200"/>
                </a:solidFill>
                <a:latin typeface="Arial"/>
              </a:rPr>
              <a:t>вовлечён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Arial"/>
              </a:rPr>
              <a:t>Алексей Меняйлов</a:t>
            </a: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228024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Мир потому зачался, что Бог изначально возжелал своб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Если бы Он не возжелал и не ждал свобо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о мирового процесса и не было 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место мирового процесса было бы неподвижное, изначально совершенное царство Божь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. Бердя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08000" y="620640"/>
            <a:ext cx="446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свобод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0920" y="404640"/>
            <a:ext cx="808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671"/>
                </a:solidFill>
                <a:latin typeface="Arial"/>
              </a:rPr>
              <a:t>Быть свободным - это ничт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67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c671"/>
                </a:solidFill>
                <a:latin typeface="Arial"/>
              </a:rPr>
              <a:t>стать свободным - это все. (К. Бёр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671"/>
                </a:solidFill>
                <a:latin typeface="Arial"/>
              </a:rPr>
              <a:t>Где Дух Господень, там свобода. (Апостол Пав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26920" y="2349360"/>
          <a:ext cx="7274160" cy="3816360"/>
        </p:xfrm>
        <a:graphic>
          <a:graphicData uri="http://schemas.openxmlformats.org/drawingml/2006/table">
            <a:tbl>
              <a:tblPr/>
              <a:tblGrid>
                <a:gridCol w="3835440"/>
                <a:gridCol w="3438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a9500"/>
                          </a:solidFill>
                          <a:latin typeface="Arial"/>
                        </a:rPr>
                        <a:t>своб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0033"/>
                      </a:solidFill>
                    </a:lnL>
                    <a:lnR w="28080">
                      <a:solidFill>
                        <a:srgbClr val="990033"/>
                      </a:solidFill>
                    </a:lnR>
                    <a:lnT w="28080">
                      <a:solidFill>
                        <a:srgbClr val="990033"/>
                      </a:solidFill>
                    </a:lnT>
                    <a:lnB w="280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a9500"/>
                          </a:solidFill>
                          <a:latin typeface="Arial"/>
                        </a:rPr>
                        <a:t>несвоб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0033"/>
                      </a:solidFill>
                    </a:lnL>
                    <a:lnR w="28080">
                      <a:solidFill>
                        <a:srgbClr val="990033"/>
                      </a:solidFill>
                    </a:lnR>
                    <a:lnT w="28080">
                      <a:solidFill>
                        <a:srgbClr val="990033"/>
                      </a:solidFill>
                    </a:lnT>
                    <a:lnB w="2808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Духовная сила (проявление воли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Нравственная си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0033"/>
                      </a:solidFill>
                    </a:lnL>
                    <a:lnR w="28080">
                      <a:solidFill>
                        <a:srgbClr val="990033"/>
                      </a:solidFill>
                    </a:lnR>
                    <a:lnT w="28080">
                      <a:solidFill>
                        <a:srgbClr val="990033"/>
                      </a:solidFill>
                    </a:lnT>
                    <a:lnB w="280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Духовная слабость (отсутствие воли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нутренняя завис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0033"/>
                      </a:solidFill>
                    </a:lnL>
                    <a:lnR w="28080">
                      <a:solidFill>
                        <a:srgbClr val="990033"/>
                      </a:solidFill>
                    </a:lnR>
                    <a:lnT w="28080">
                      <a:solidFill>
                        <a:srgbClr val="990033"/>
                      </a:solidFill>
                    </a:lnT>
                    <a:lnB w="2808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 txBox="1"/>
          <p:nvPr/>
        </p:nvSpPr>
        <p:spPr>
          <a:xfrm>
            <a:off x="250920" y="1197000"/>
            <a:ext cx="7993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б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63640" y="365040"/>
            <a:ext cx="7380360" cy="6492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916360" y="692280"/>
            <a:ext cx="33829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РТВ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50920" y="5300640"/>
            <a:ext cx="367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ЛАЧ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87280" y="3357720"/>
            <a:ext cx="13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ЛИ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6985080" cy="4998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32130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1280" y="3573360"/>
            <a:ext cx="30970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ОБР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76720" y="2924280"/>
            <a:ext cx="30956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ЗЛ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635280" y="2276640"/>
            <a:ext cx="1278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И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2259000"/>
            <a:ext cx="712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еловек может верить и не верить... это его де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еловек - свободен... он за все платит с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 веру, за неверие, за любов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 ум - человек за все платит с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потому он - свободен!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еловек - вот правд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.Горький «На дн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50920" y="692280"/>
            <a:ext cx="446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человек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0920" y="692280"/>
            <a:ext cx="446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человек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58920" y="545112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илат, видя, что ничто не помогает, но смятение увеличивается, взял воды и умыл руки перед народом, и сказал: не виновен я в крови Праведника Сего;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ф. 27:2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18508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6920" y="5074920"/>
            <a:ext cx="66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« Превыше всего истина, а истина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Двух истин не бывает»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50920" y="692280"/>
            <a:ext cx="446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сыне Божьем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86156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Любовь долготерпит, милосердствует, любовь не завидует, любовь не превозносится, не гордится, не бесчинствует, не ищет своего, не раздражается, не мыслит зла, не радуется неправде, а сорадуется истин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 покрывает, всему верит, всего надеется, все перенос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юбовь никогда не переста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Коринф. 13:4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08:49:03Z</dcterms:created>
  <dc:creator>gala</dc:creator>
  <dc:description/>
  <dc:language>en-US</dc:language>
  <cp:lastModifiedBy>gala</cp:lastModifiedBy>
  <dcterms:modified xsi:type="dcterms:W3CDTF">2010-10-31T13:24:06Z</dcterms:modified>
  <cp:revision>16</cp:revision>
  <dc:subject/>
  <dc:title>Слайд 1</dc:title>
</cp:coreProperties>
</file>