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1A7-D36A-4D79-AA18-26E911A5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20E-B371-409D-9C17-B706504D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C03-483C-42C4-9974-081A303C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EFB-24AC-4470-AFC8-073ECCA1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91DA-0509-45CA-847B-DC9F0F16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F149-0894-4C3F-9792-ADCCECC6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5877-4D90-4D8E-B07E-2839063B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5B02-7152-4C0A-AB24-231271F2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E1E2-BFFD-48D0-8581-2DA385DB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DA7D-E33D-4095-9568-0B10E24D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3B09-9FA2-4B3C-967E-77E7B6A8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004-916D-4467-B94F-49D5000D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8BAB-8CAB-4860-95E2-83418445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378A-CF8F-42F3-87EA-3147D6BA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C8E1-330B-44F1-9DF4-295C3068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6DE3-4359-4237-9F60-7BAB4FAF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41C3-C38D-411E-B2FB-B65DE419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121B-29A3-4CD8-B7D2-4F64261F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B15D-88C3-4208-A345-40BADFE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3D46-1920-4394-9932-4214FC71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A90A-13CF-4E95-AC5D-71556B63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164D-1AD8-4B9C-91D7-94B4F777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156-4B49-4B16-86EC-23DBA67F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06E7-E9CC-4549-853E-F01351CD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CFC8-F36C-4B01-AA5A-1FE3B794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0B66-44E8-4A07-A5CD-6561F6C0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F72E-994D-4D1A-ABCA-7F256631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73594-7D95-47EB-8608-B9AD89E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64D2-4627-4427-9278-B9B9A092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0A65-CEB8-4AAC-8D00-4B3183A9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53FFE-28DA-4D29-B4CE-8E6B9F9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7F0F-E37F-463D-A27E-3C139DAF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BFD9-A005-4950-9555-6603667E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C3C-991F-4F22-A603-B379A6FC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94916-AD0B-4CF9-9660-B26A97CC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33E3-985B-4E20-89A5-4E256110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06F4-9651-4246-A733-3ED1E03C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4C28-3E25-4B45-9ECA-C62324C1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7010-79A0-439C-9B9C-B6D62127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FCB5-BD8C-45D2-AF8A-178C677F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343F-A845-482C-8547-9FE1D9EC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7BFA7-2E58-4C93-AE6C-BEB0740A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C6D33-CDA4-4358-87F3-6EC692F1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39690-AC2C-40C8-B933-0171474C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FE0-1E38-4D4B-A6D5-6E1224AC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59B0-8A52-41E2-B75E-5BBAD0EE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E3D4C-0BE1-4A51-880E-49F9FECE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A738-C99E-4211-B9B8-7A79D80E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8A9CA-ED9B-4B16-B64B-AE78EC65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F395F-F468-4140-B948-A6305CDC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7E0E-2F26-4904-B5F4-12A78CE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B04C8-8A15-46F0-8740-8AA1E5F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ADE2-9E95-4FF4-B06B-0B9A6B6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2E714-92B7-4414-B149-695A75C1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FE253-9C04-440C-AD08-147FFC25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552-4A13-4FF1-BB6A-51205401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CC5B5-0527-4749-A98F-CE14ABC1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A599-C72F-442E-8FBB-4190F486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7697D-8F4E-4954-A7EB-EA66E16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CD78F-F2CB-4A65-A5DF-F82C77B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8FA32-50B5-4EAF-B548-82D238B3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4FA0-32DB-4D9A-B3D3-466C17A9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0B4F-E7CF-4F21-AB07-BA7B4D5E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77C49-E4BE-4216-B6E4-EB80D4F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2CC2-D2A9-4904-8122-07D0D7E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C9227-972F-4ABD-86B5-50A558FF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2EA-C144-4B5A-AF5B-21FAB688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06C3E-6890-438C-B8BB-00A98BDA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2C951-F6F8-49D6-A28F-A300CB0C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46E69-7124-4B66-AD52-5AFBAF65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45BAC-46CF-4FF6-A499-E3E6A6C1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6CE6E-A12C-409E-BB30-92F5DAAB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D816A-A942-429B-82CA-5FBA99AE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8A0D3-9F16-4623-A92B-E42F3B2A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08B49-5BF1-46F9-A0A1-8A2EDB31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0FA74-01F7-46D6-95AE-E0C04157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A815-1CBC-4B97-9556-6D0A30E6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F00-3977-4B0B-8D5F-185D454A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B2E42-A7DD-4A0C-82E7-50B01ABA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CB550-94EA-4A8B-8B25-48EE63F4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8B40A-1908-41BF-94EB-539B3163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ABDD1-C36B-4E0B-AD34-ED8966CC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3C70C-7E2A-4D77-8C7A-9DF94011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FEFEC-7C71-46B2-9ADD-BD3593AE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E6587-0FB7-4166-9693-A121E847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4E1FC-FFB1-4ED0-81D1-F0BF660F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8BE01-96E5-48FD-945C-EF4AD5C6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8AB8-4B51-433D-BD58-D2A70440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FF9-E128-4D63-B0ED-23F2D39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D9458-0855-4259-9E4E-550AEE79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9231F-2421-4AE9-AE9B-374D0FB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FC134-D1B9-4C6C-BA6E-B7C41DD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2FD5B-B8D6-4EC9-97AB-040C28B7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206C6-2EB1-45D3-BB09-27BCBA00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7F010-B02E-4BA6-B94E-F887C457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70443-4510-4133-90C7-4037F374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4FEE-6B9A-4981-B340-72B52ACD42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C12E-A93A-4614-9720-C48EA38B1A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9163-B96B-42AE-9788-35B5978F43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44A8-B663-4FB4-B030-2571C1AC46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8605-E7EF-41D8-B2B4-093F529B65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B03E-680E-4821-8424-D37518B711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6C9D-1011-47AD-9ABA-201799C4E5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8A97-9F8C-4A20-AA5A-04AE97CE87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Иванов Александр, ученик 11класса МБОУ СОШ№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8400" y="1071720"/>
            <a:ext cx="835812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ССР бардовская песня как жанр сформировалась в середине  ХХ века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ала знаковым явлением эпохи. Бардовская песня имеет и друг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звания- авторская, туристская, студенческая песн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то же такие барды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Бард ( от  англ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rd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евец)- народный певец у древних кёльтских племён. В наши дни бардами  называют создателей  авторской песни. Автор стихов и   музыки является её непременным исполнителем. Создатель авторской песни обычно не музыкант, а поэ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65240" y="-648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29040" y="1571760"/>
            <a:ext cx="492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Булат  Окуджава- один из тех, кто напомнил о первоначальном союзе слова и музыки. Он продолжил традиции 19века: дух декабристов, когда  честь и достоинство были превыше всего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Главные темы его творчества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Любовь, Вера, Надежда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Его песни вселяют веру в торжество Добра и Справедливос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3" descr="3.jpg"/>
          <p:cNvPicPr/>
          <p:nvPr/>
        </p:nvPicPr>
        <p:blipFill>
          <a:blip r:embed="rId2"/>
          <a:stretch/>
        </p:blipFill>
        <p:spPr>
          <a:xfrm>
            <a:off x="285840" y="1428840"/>
            <a:ext cx="3359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643200" y="1357200"/>
            <a:ext cx="50436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ысоцкого называют «сердцем» авторской песни. Мимо его песен нельзя пройти. Они всегда заметны, всегда слышимы. Лучшие песни В.Высоцкого –для  жизни. Они- друзья людей. В них добрая сила, которая помогает выстоять слабым и обрести уверенность растерявшимся. В них звучит надёжность и правда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" descr="6.jpg"/>
          <p:cNvPicPr/>
          <p:nvPr/>
        </p:nvPicPr>
        <p:blipFill>
          <a:blip r:embed="rId2"/>
          <a:stretch/>
        </p:blipFill>
        <p:spPr>
          <a:xfrm>
            <a:off x="571680" y="1357200"/>
            <a:ext cx="3000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643200" y="1000080"/>
            <a:ext cx="55008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ногое  успел. Журналист, киноактёр, сценарист, горнолыжник, бард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избор- певец мужества в трудных условиях истинной доблести. Его песни  создали подлинную романтику совсем не романтической эпох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7 сентября 1984г. Ю.Визбора не стало. За свою жизнь он написал около 320 песен, более 50 песен на его стихи написано другими композиторам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 главное- осталось великое движение романтиков с гитарой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237960" y="-6480"/>
            <a:ext cx="8528040" cy="12384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4" descr="2.jpg"/>
          <p:cNvPicPr/>
          <p:nvPr/>
        </p:nvPicPr>
        <p:blipFill>
          <a:blip r:embed="rId2"/>
          <a:stretch/>
        </p:blipFill>
        <p:spPr>
          <a:xfrm>
            <a:off x="357120" y="1285920"/>
            <a:ext cx="3214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-360" y="1214280"/>
            <a:ext cx="600084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вторская песня возникла из протеста пустой эстрадной развлекательности и отдаёт предпочтение поэзии, выразительности слову. Е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нужны украшения и спецэффекты. Она должна идти от сердца к сердцу. Бардовская песня- возможность  отдыха души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7.jpg"/>
          <p:cNvPicPr/>
          <p:nvPr/>
        </p:nvPicPr>
        <p:blipFill>
          <a:blip r:embed="rId2"/>
          <a:stretch/>
        </p:blipFill>
        <p:spPr>
          <a:xfrm>
            <a:off x="5643720" y="1571760"/>
            <a:ext cx="3252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 новых встреч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5:36:10Z</dcterms:created>
  <dc:creator>uchenik</dc:creator>
  <dc:description/>
  <dc:language>en-US</dc:language>
  <cp:lastModifiedBy>uchenik</cp:lastModifiedBy>
  <dcterms:modified xsi:type="dcterms:W3CDTF">2010-04-22T08:45:07Z</dcterms:modified>
  <cp:revision>18</cp:revision>
  <dc:subject/>
  <dc:title>Слайд 1</dc:title>
</cp:coreProperties>
</file>