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9233-E4AD-47F5-B1FD-22A7ABE4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B8B4-5928-4C7C-8552-E26ECD5A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9CFD-EA59-49E8-8ABC-9C719323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058-A2A1-4910-A47E-FC28689C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52AE-CFA3-4A22-A29F-82428677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EC75-2489-42C3-B29A-3DCFE34D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350A-D194-43A1-8B29-090BA91C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C6D3-0D52-47A8-927A-DAD67C2D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838D-BAA4-4E1F-ADFF-03E55C23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5D60-45AB-4613-A77B-948DAE7D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FE4F-A864-4397-BB96-2C2D9B02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03AB-EFDF-40A9-AE8A-0816D5EC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8F61-4426-4A32-BCD7-7A772823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2DB5-5F92-4585-9779-85B52F67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6070-2874-4E88-A5F1-2BFC1DBF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DF34-A5E3-4550-91DC-83BA90A7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2B25-056E-4FBA-ADAD-1C0F7B25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A0958-2FF6-4EAB-94E6-C464A575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28720-4331-4D85-9D65-95430A25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82FB1-0DFC-4B41-BE71-05B8B8CA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B0183-88F7-4304-81AD-68992193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85B28-5873-4091-8FE5-8A261DD3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272F-86D6-4B76-BC45-CF568E02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DF159-AA78-43D3-8FBC-C69DA63E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30A96-AD55-4DA0-823D-10AB69A1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810BF-3F41-49A5-A920-0C673CD3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BCE10-46DF-4DF0-8A97-076BED75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1999E-C9C5-4F6A-BAF2-BCF01BEF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1BEAA-4415-4D1B-92D5-FFC44F0A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D7292-DFB2-4466-82F5-00D59F62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F61B8-9122-42AA-A5C2-141A9E93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EEEBC-2025-453C-A1D6-93231D62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48600-0A35-4944-8F27-7E9A7253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ED5A-CEC9-445E-BB46-9026C276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0217E-E1DB-4150-AFA4-11644580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4BA86-8167-4DAB-8CC9-73F35BD4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BF809-A287-4559-86A6-635D25B2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16E17-A2C7-464A-9C8D-03374205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00069-E2E2-4036-AAE9-14544033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1A1ED-8340-40E2-8F9D-051BE8EF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8368A-7A76-4268-A8BE-1453ED7D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24681-82FA-407B-885D-E9F3D7EF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60095-FCF4-4731-AA06-ADC58917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22481-558C-4DA7-9A0B-531AA6B9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1E4C-C765-4919-8C95-9A8B13C1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7EB74-4617-468B-B1E2-D015423C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731E9-9D64-48C3-A0B0-682F598D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86D0A-A59D-4F9A-88FD-2620F8D1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05136-ECF4-4E50-A267-22C84B86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9F195-D13B-4D77-8200-143AED87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77509-C156-435C-8F49-86CBBB91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D083B-2681-4BAA-A1B8-194B7B2A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1CD48-8AEA-4C01-B395-1AD5814B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6E7CB-8F9D-413E-ADC1-6D4C1320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067DA-51CF-4D85-BF96-03A7DDD1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12B7-941A-4E7F-BF1D-935BE711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921D9-5ADF-4485-B546-19542D90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3FB5A-3CB9-453E-8995-CA1EC506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1CA89-14E2-4B3E-BB99-59A7D88A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FFB9C-9246-438B-A80B-A1408740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85471-AD76-4946-BD8D-FA8081C7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CEC89-5FBB-4D3B-93DE-EF08C6BC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D5A3C-B2BA-4E71-8EDB-DB7F4E9F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7D327-7116-49D0-AF5E-C0521560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066AF-D1AA-4FE3-A091-58BBA8E3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D8A4E-36A1-49BC-8091-4231249D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CDF8-266B-4683-A875-8F2DBBCE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0B1E1-089F-4C05-BE75-3512451A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7B5D3-C1CC-4478-90C1-5AE113F7F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34A93-319B-4CD5-BF1E-7DA03086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99552-72E8-48D2-B7E8-18E3B8F4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66780-5483-43AF-9E59-C19D058C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31DC0-24CD-4593-AEAC-BB3B938A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7CB90-B2E0-4C67-AE6E-B9E0EB5A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53599-5984-44A6-A752-40130EAB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162CB-C0A5-439B-86CE-CD4D047A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417CA-52A7-46CF-BC5F-1DBA98A2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3AD7-3C5C-4298-9177-75DD77B5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18852-D9BB-46C6-AC74-E15E913E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65AE1-F18E-465C-A36C-094C33AE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DAA3E-98AC-4E63-8BFF-3EE03D65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1C102-786C-49C6-9394-51898B52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E1CD9-A186-498E-B8CF-1E93E907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92D20-5E09-4073-9818-5BF866E8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DD636-E4C9-4104-9E5D-5E431EAB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C7D3D-50C6-4586-B3D8-7D411876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550A1-7CC8-40C3-BE98-37970B83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A2EAD-D20D-4DE6-B951-391530EF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6DB5-E9D8-4C5B-A407-D9D3A069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E1E18-24B4-419A-A203-758731C3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508F1-4909-4E0C-A2C2-93B4381C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29CB0-68A7-4D24-81F4-F60EF65A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39963-7146-4692-AFF7-1BC43E07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AE4B6-60FE-484D-9D2F-D6B5ACE0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BFE73-721C-4F6F-942C-0A8A9A05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71403-8C0C-4CB4-AF28-60AB7D7F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59CA-0D65-4DB8-8319-44F85DA0245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D484-9F46-417B-B839-E6BDF5A49FF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2ABC-0F87-4E78-A8F8-23CAB9503E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7CCA-BC2B-4719-A98D-06659EA0AE4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EEAD-D8D8-4AF2-93AC-F801116C2A1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8800-8313-449C-8FF2-AACF447F285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4435-4833-415F-965E-719260D1F36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A57B-CD0F-48CE-BAFB-2A084F3BFC6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Иванов Александр, ученик 11класса МБОУ СОШ№7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28400" y="1071720"/>
            <a:ext cx="835812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СССР бардовская песня как жанр сформировалась в середине  ХХ века 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тала знаковым явлением эпохи. Бардовская песня имеет и други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звания- авторская, туристская, студенческая песн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то же такие барды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?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Бард ( от  англ.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ard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евец)- народный певец у древних кёльтских племён. В наши дни бардами  называют создателей  авторской песни. Автор стихов и   музыки является её непременным исполнителем. Создатель авторской песни обычно не музыкант, а поэт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165240" y="-6480"/>
            <a:ext cx="8497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929040" y="1571760"/>
            <a:ext cx="4929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Булат  Окуджава- один из тех, кто напомнил о первоначальном союзе слова и музыки. Он продолжил традиции 19века: дух декабристов, когда  честь и достоинство были превыше всего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Главные темы его творчества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Любовь, Вера, Надежда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Его песни вселяют веру в торжество Добра и Справедливости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353880" y="268200"/>
            <a:ext cx="833940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3" descr="3.jpg"/>
          <p:cNvPicPr/>
          <p:nvPr/>
        </p:nvPicPr>
        <p:blipFill>
          <a:blip r:embed="rId2"/>
          <a:stretch/>
        </p:blipFill>
        <p:spPr>
          <a:xfrm>
            <a:off x="285840" y="1428840"/>
            <a:ext cx="33591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643200" y="1357200"/>
            <a:ext cx="504360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Высоцкого называют «сердцем» авторской песни. Мимо его песен нельзя пройти. Они всегда заметны, всегда слышимы. Лучшие песни В.Высоцкого –для  жизни. Они- друзья людей. В них добрая сила, которая помогает выстоять слабым и обрести уверенность растерявшимся. В них звучит надёжность и правда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3" descr="6.jpg"/>
          <p:cNvPicPr/>
          <p:nvPr/>
        </p:nvPicPr>
        <p:blipFill>
          <a:blip r:embed="rId2"/>
          <a:stretch/>
        </p:blipFill>
        <p:spPr>
          <a:xfrm>
            <a:off x="571680" y="1357200"/>
            <a:ext cx="30002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643200" y="1000080"/>
            <a:ext cx="55008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Многое  успел. Журналист, киноактёр, сценарист, горнолыжник, бард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Визбор- певец мужества в трудных условиях истинной доблести. Его песни  создали подлинную романтику совсем не романтической эпохи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17 сентября 1984г. Ю.Визбора не стало. За свою жизнь он написал около 320 песен, более 50 песен на его стихи написано другими композиторами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И главное- осталось великое движение романтиков с гитарой…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237960" y="-6480"/>
            <a:ext cx="8528040" cy="123840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4" descr="2.jpg"/>
          <p:cNvPicPr/>
          <p:nvPr/>
        </p:nvPicPr>
        <p:blipFill>
          <a:blip r:embed="rId2"/>
          <a:stretch/>
        </p:blipFill>
        <p:spPr>
          <a:xfrm>
            <a:off x="357120" y="1285920"/>
            <a:ext cx="32148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-360" y="1214280"/>
            <a:ext cx="600084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вторская песня возникла из протеста пустой эстрадной развлекательности и отдаёт предпочтение поэзии, выразительности слову. Ей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 нужны украшения и спецэффекты. Она должна идти от сердца к сердцу. Бардовская песня- возможность  отдыха души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5" descr="7.jpg"/>
          <p:cNvPicPr/>
          <p:nvPr/>
        </p:nvPicPr>
        <p:blipFill>
          <a:blip r:embed="rId2"/>
          <a:stretch/>
        </p:blipFill>
        <p:spPr>
          <a:xfrm>
            <a:off x="5643720" y="1571760"/>
            <a:ext cx="3252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о новых встреч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5:36:10Z</dcterms:created>
  <dc:creator>uchenik</dc:creator>
  <dc:description/>
  <dc:language>en-US</dc:language>
  <cp:lastModifiedBy>uchenik</cp:lastModifiedBy>
  <dcterms:modified xsi:type="dcterms:W3CDTF">2010-04-22T08:45:07Z</dcterms:modified>
  <cp:revision>18</cp:revision>
  <dc:subject/>
  <dc:title>Слайд 1</dc:title>
</cp:coreProperties>
</file>