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F7FE-FF04-4512-8BF2-25FE62BB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0F5-7512-41B1-BA84-30F1BC63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D57-E155-4534-8C2A-6FB2C679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082-4F28-4B15-9D0B-0D3ED6BD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ED68-5E4C-4118-9307-29C8374C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8FF8-7F16-49EC-A56B-44F563CC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8CC9-0A0E-44F4-A108-EB6B1CAE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97EE-B07F-45B5-A453-E98A9030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AD74-0786-49D4-B380-C3DF9FFD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D692-99EB-499C-AE39-0EC43C0E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85B5-A9DF-467B-8F74-0DE5990A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D74-5848-48D5-9346-0C2531BD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A2F6-9566-451A-9F18-24BD9F80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2ACE-9C9B-4E40-9386-067740FD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FB1F-9D14-4EB3-9F22-75AF7882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7972-3A5A-4647-9A89-241DB214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EC50-1ECA-450E-A84C-FAD1B555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8AE82-CF12-4D67-B6B0-F20A2C6F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A7D29-A523-4B64-B276-BBBDB0DF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EC7E4-B515-46F5-8EC6-78662ABC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89FF8-6BF1-4325-A69A-BB6D9EB6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AC4A5-8434-41B5-928D-D79332C4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A64-6555-4C95-8C20-D8AD52BE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7F51-83F3-4377-8E2D-14D0FBCC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D31E-1831-4B56-9E87-0AF2E895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0533-50E8-48B3-B6D6-F6BEAF74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AABE9-7E01-4B37-89F1-2F2AF9AC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DDBE-3FDF-4371-AF6D-1910B617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81412-4A42-4CC3-A561-50920E5E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82EA2-EEE5-404D-98C4-405DEA56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548AB-836F-4A4A-9870-0C149321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2EB83-75A6-4C9D-90E7-954675E1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75983-D0B1-4B35-A30C-3F70AA31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256-D4A6-4D87-A1E3-7C18B219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1D03C-6E0E-4387-8151-4FCDF993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D4084-AF63-46E1-839B-5CAE63B4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2865F-5DB4-4D2B-BB6C-95CE93FC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7EADA-B60E-4580-B8F7-D7EFB254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D4ED8-64B7-4A56-B5AA-63C89650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764A7-5AC4-42E5-9D92-4A5A07C9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B92E0-B7E5-4090-948B-1E7EB32C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B4657-1718-4E7B-9F79-03516115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9A5A5-DF82-4891-88ED-A0A936C1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55C4D-7096-41B4-8460-7DE992A9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BB5-DBB8-4528-8F5F-4886C273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00656-F03B-455C-8533-7B0F5AEE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85316-1488-4B30-9690-132302A1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1CB1B-79EB-460D-8DA6-4A69EC69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7EE15-6788-4BB9-9D2E-09624982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B6C54-2121-4FDF-8BAF-07A9EE86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A78E7-7385-4141-9BC7-2102E93E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9EC2D-D4C5-4796-9EA8-0BEB762E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2238B-BB8B-4365-907E-293C5528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59059-1806-4261-8628-FCB899AF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63C16-D001-4A63-AC5A-08AB43C1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D80-EECB-4D7A-8CD3-B339F135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245FB-2238-41C5-9E45-B6C1AED5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A44FA-438C-4A45-97A1-F538AACC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162F6-B14E-48B9-B71C-E2439810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E2EC5-7CB8-400B-9DA8-3735E70B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DBFD8-6694-41A1-82BA-11A0AAED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CFCD8-70F0-4E7D-9B66-20F34DED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B3A71-9BEB-4D43-A1D1-9DFFA328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3B8BF-5203-4926-8D3C-E3492A95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3F1F6-6350-4443-AE8A-17F8DD0A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B987D-DB44-4CA4-8FE0-D32DB3C6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B87-54D4-40EF-82E6-FEE35301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14C16-B278-48A9-BB67-34BF3110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739F9-2580-4F20-A637-1F37A445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80D88-71B6-4FB3-8EDB-DBF834B3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964C7-D46F-4CD5-A964-3EB4761D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66FC7-99C4-4403-BC53-E67937D5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909B5-1E27-4341-A4F3-24D1AACF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710CD-E993-47EB-9022-6B2F9AE0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F47C3-6CD8-41D5-BC94-4608DBDC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DD0EC-49E1-4ADE-907F-7927AFB2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8F907-C4A4-47E6-BC12-5F2A637E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694-01D4-4480-BB38-8A1A27B5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073C0-BA42-44FF-BA9C-B0849447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49A32-0C85-4C0F-A050-A38A0015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E6C96-2556-46AA-8071-6077EB49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475ED-5CCF-4A7B-9CCD-ED5E4BA0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3DD77-CEFB-497A-991E-F97D743F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971EC-D7F3-4236-B38D-817F12AA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3B579-33A3-419E-A720-F05A34B1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58C0D-73FA-49A8-B4FF-36B16E68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74414-8687-466A-B083-019942AB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9529A-DB7D-471C-BE13-FDC7758B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1A2-CE71-49C4-B52C-C3850424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75B0A-64EA-4876-AD01-6A96ADC0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C38D3-4672-489A-BACB-84CB842D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1F818-97C9-4278-A564-A2E85A56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471A2-7A58-4627-A1AF-DE1C35A8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B8461-A07A-406D-AF07-4F489C7B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BB933-2A0B-49C3-B6C6-780CA77B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7DC8F-C9E1-4EC1-8293-99DF0469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3525-AACA-4016-9AED-AF768CE888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0120-87F0-4FCD-86BF-64F9C42FC66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835B-F0A7-46B1-AA86-B1E462BC8D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84BC-D780-4E2A-9B7A-E4F9622A55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C306-C964-4FD8-A0AF-D952E217B3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D7B5-391F-409B-8A22-A58FE85302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FD7C-E7B9-4448-B2E0-75B6DC0153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2F4D-3593-482C-B5F3-7AD743A1BF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Иванов Александр, ученик 11класса МБОУ СОШ№7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28400" y="1071720"/>
            <a:ext cx="835812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ССР бардовская песня как жанр сформировалась в середине  ХХ века 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ала знаковым явлением эпохи. Бардовская песня имеет и други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звания- авторская, туристская, студенческая песн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то же такие барды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Бард ( от  англ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rd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евец)- народный певец у древних кёльтских племён. В наши дни бардами  называют создателей  авторской песни. Автор стихов и   музыки является её непременным исполнителем. Создатель авторской песни обычно не музыкант, а поэ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165240" y="-6480"/>
            <a:ext cx="8497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929040" y="1571760"/>
            <a:ext cx="492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Булат  Окуджава- один из тех, кто напомнил о первоначальном союзе слова и музыки. Он продолжил традиции 19века: дух декабристов, когда  честь и достоинство были превыше всего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Главные темы его творчества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Любовь, Вера, Надежда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Его песни вселяют веру в торжество Добра и Справедливост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3" descr="3.jpg"/>
          <p:cNvPicPr/>
          <p:nvPr/>
        </p:nvPicPr>
        <p:blipFill>
          <a:blip r:embed="rId2"/>
          <a:stretch/>
        </p:blipFill>
        <p:spPr>
          <a:xfrm>
            <a:off x="285840" y="1428840"/>
            <a:ext cx="3359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643200" y="1357200"/>
            <a:ext cx="504360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ысоцкого называют «сердцем» авторской песни. Мимо его песен нельзя пройти. Они всегда заметны, всегда слышимы. Лучшие песни В.Высоцкого –для  жизни. Они- друзья людей. В них добрая сила, которая помогает выстоять слабым и обрести уверенность растерявшимся. В них звучит надёжность и правда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3" descr="6.jpg"/>
          <p:cNvPicPr/>
          <p:nvPr/>
        </p:nvPicPr>
        <p:blipFill>
          <a:blip r:embed="rId2"/>
          <a:stretch/>
        </p:blipFill>
        <p:spPr>
          <a:xfrm>
            <a:off x="571680" y="1357200"/>
            <a:ext cx="3000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643200" y="1000080"/>
            <a:ext cx="55008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Многое  успел. Журналист, киноактёр, сценарист, горнолыжник, бард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избор- певец мужества в трудных условиях истинной доблести. Его песни  создали подлинную романтику совсем не романтической эпох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17 сентября 1984г. Ю.Визбора не стало. За свою жизнь он написал около 320 песен, более 50 песен на его стихи написано другими композиторами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 главное- осталось великое движение романтиков с гитарой…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237960" y="-6480"/>
            <a:ext cx="8528040" cy="123840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4" descr="2.jpg"/>
          <p:cNvPicPr/>
          <p:nvPr/>
        </p:nvPicPr>
        <p:blipFill>
          <a:blip r:embed="rId2"/>
          <a:stretch/>
        </p:blipFill>
        <p:spPr>
          <a:xfrm>
            <a:off x="357120" y="1285920"/>
            <a:ext cx="32148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-360" y="1214280"/>
            <a:ext cx="600084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вторская песня возникла из протеста пустой эстрадной развлекательности и отдаёт предпочтение поэзии, выразительности слову. Ей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 нужны украшения и спецэффекты. Она должна идти от сердца к сердцу. Бардовская песня- возможность  отдыха души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7.jpg"/>
          <p:cNvPicPr/>
          <p:nvPr/>
        </p:nvPicPr>
        <p:blipFill>
          <a:blip r:embed="rId2"/>
          <a:stretch/>
        </p:blipFill>
        <p:spPr>
          <a:xfrm>
            <a:off x="5643720" y="1571760"/>
            <a:ext cx="3252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о новых встреч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5:36:10Z</dcterms:created>
  <dc:creator>uchenik</dc:creator>
  <dc:description/>
  <dc:language>en-US</dc:language>
  <cp:lastModifiedBy>uchenik</cp:lastModifiedBy>
  <dcterms:modified xsi:type="dcterms:W3CDTF">2010-04-22T08:45:07Z</dcterms:modified>
  <cp:revision>18</cp:revision>
  <dc:subject/>
  <dc:title>Слайд 1</dc:title>
</cp:coreProperties>
</file>