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9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1B04-7284-497B-9D9B-0506269B2A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197-33D7-4A94-8862-6B92D979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F69-5149-4491-BEA5-14268FCC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40B-395D-457B-A5C1-C5C653B7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713-EC35-42C0-8743-B797B25C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66B-6A42-43FC-94B7-A29A5141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EBA-1094-4D5D-9761-69E3751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D55-0B6E-4217-A3A3-0BB8EE05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94C-C15F-47F3-A08C-59099E14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28B-D1F2-43C1-9394-FD7D094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E03-A308-4F79-BCE5-07DA933F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C79-863B-4E9D-BD38-BBAC1F7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2AF-08E6-4E81-8AC6-8DAD4A2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FA3B-9E4E-473B-AD90-783C74021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ЛОЩАДЬ ПОВЕРХНОСТИ Ш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907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поверхност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шар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радиу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ражается формул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441600" y="1828800"/>
          <a:ext cx="17906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1600" y="1828800"/>
                    <a:ext cx="17906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3430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ечение шара плоскостью, отстоящей от центра шара на расстоянии 8 см, имеет радиус 6 см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5410080"/>
            <a:ext cx="3048120" cy="459720"/>
            <a:chOff x="914400" y="5410080"/>
            <a:chExt cx="3048120" cy="459720"/>
          </a:xfrm>
        </p:grpSpPr>
        <p:sp>
          <p:nvSpPr>
            <p:cNvPr id="90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  см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1981080" y="5486400"/>
            <a:ext cx="67320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5486400"/>
                      <a:ext cx="6732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о сколько раз площадь поверхности шара, описанного около куба, больше площади поверхности шара, вписанного в этот же ку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три ра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оло прямоугольного параллелепипеда, измерения которого равны 1 дм, 2 дм и 3 дм, описан шар. Найдите площадь его поверх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14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оло октаэдра, ребро которого равно 2 дм, описан шар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оло шара описан цилиндр. Найдите отношение их площадей поверхностей и объем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2 : 3, 2 :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площадь поверхности шарового сегмента, отсекаемого от шара радиус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лоскостью, проходящей на расстоянии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от центра ш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5410080"/>
            <a:ext cx="3048120" cy="459720"/>
            <a:chOff x="914400" y="5410080"/>
            <a:chExt cx="3048120" cy="459720"/>
          </a:xfrm>
        </p:grpSpPr>
        <p:sp>
          <p:nvSpPr>
            <p:cNvPr id="109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2114640" y="5486400"/>
            <a:ext cx="40644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4640" y="5486400"/>
                      <a:ext cx="40644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95480" y="205740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85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Шар радиус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ересечен двумя параллельными плоскостями, которые делят перпендикулярный им диаметр шара в отношении 1 : 2 : 3. Определите площадь поверхности шара, заключенную между секущими плоскост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14400" y="5334120"/>
            <a:ext cx="3048120" cy="736560"/>
            <a:chOff x="914400" y="5334120"/>
            <a:chExt cx="3048120" cy="736560"/>
          </a:xfrm>
        </p:grpSpPr>
        <p:sp>
          <p:nvSpPr>
            <p:cNvPr id="116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1981080" y="5334120"/>
            <a:ext cx="48276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5334120"/>
                      <a:ext cx="4827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3764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ПЛОЩАДЬ СФЕРИЧЕСКОГО МНОГОУГОЛЬ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8580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Сферическим многоугольником будем называть часть сферы, заключенной внутри многогранного угла с вершиной в центре сф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981080"/>
            <a:ext cx="4267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апомним, что численная величина 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огогранн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ого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угл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а равна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оловин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лощади сферического многоугольника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секаемого многогранным углом из единичной сферы с центром в вершине данного многогранного угла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см. раздел «Многогранные углы»)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5334120"/>
          <a:ext cx="511812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4120"/>
                    <a:ext cx="5118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04920" y="5791320"/>
            <a:ext cx="8458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где    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, …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cc99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углы сферического многоугольника, равные соответствующим двугранным углам многогранного угла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OA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cc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52480" y="5867280"/>
          <a:ext cx="266760" cy="2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867280"/>
                    <a:ext cx="2667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62120" y="5867280"/>
          <a:ext cx="26676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867280"/>
                    <a:ext cx="2667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80880" y="4572000"/>
            <a:ext cx="8382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Площадь сферического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n-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угольника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cc99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а сфере с центром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O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и радиусом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выражается формул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533520" y="838080"/>
            <a:ext cx="37400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335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сферу радиус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писан правильный тетраэдр, и три его грани, исходящие из одной вершины, продолжены до пересечения со сферой. Вычислите площадь части поверхности сферы, заключенной внутри образовавшегося трехгранного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09480" y="4946760"/>
            <a:ext cx="2286000" cy="736560"/>
            <a:chOff x="609480" y="4946760"/>
            <a:chExt cx="2286000" cy="736560"/>
          </a:xfrm>
        </p:grpSpPr>
        <p:sp>
          <p:nvSpPr>
            <p:cNvPr id="135" name=""/>
            <p:cNvSpPr/>
            <p:nvPr/>
          </p:nvSpPr>
          <p:spPr>
            <a:xfrm>
              <a:off x="6094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1600200" y="4946760"/>
            <a:ext cx="48276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4946760"/>
                      <a:ext cx="4827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34624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 единичной сфере, углы которого равны: а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в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09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Данный треугольник составляет одну восьмую часть единичной сфе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0880" y="3200400"/>
            <a:ext cx="8610840" cy="1028880"/>
            <a:chOff x="380880" y="3200400"/>
            <a:chExt cx="8610840" cy="1028880"/>
          </a:xfrm>
        </p:grpSpPr>
        <p:sp>
          <p:nvSpPr>
            <p:cNvPr id="143" name=""/>
            <p:cNvSpPr/>
            <p:nvPr/>
          </p:nvSpPr>
          <p:spPr>
            <a:xfrm>
              <a:off x="380880" y="320040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его площадь равна одной восьмой площади единичной сферы, т.е.      .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3429000" y="3505320"/>
            <a:ext cx="25416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3505320"/>
                      <a:ext cx="2541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6" name=""/>
          <p:cNvGrpSpPr/>
          <p:nvPr/>
        </p:nvGrpSpPr>
        <p:grpSpPr>
          <a:xfrm>
            <a:off x="609480" y="4952880"/>
            <a:ext cx="2286000" cy="723960"/>
            <a:chOff x="609480" y="4952880"/>
            <a:chExt cx="2286000" cy="723960"/>
          </a:xfrm>
        </p:grpSpPr>
        <p:sp>
          <p:nvSpPr>
            <p:cNvPr id="147" name=""/>
            <p:cNvSpPr/>
            <p:nvPr/>
          </p:nvSpPr>
          <p:spPr>
            <a:xfrm>
              <a:off x="6094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1676520" y="4952880"/>
            <a:ext cx="33012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952880"/>
                      <a:ext cx="3301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ЛОЩАДЬ ПОВЕРХНОСТИ ШАРОВОГО СЕГ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83664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боковой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верхност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шарового сегмент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радиу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высот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ражается формул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348000" y="1844640"/>
          <a:ext cx="18162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844640"/>
                    <a:ext cx="18162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981080" y="2521080"/>
            <a:ext cx="410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 единичной сфере, углы которого равны: а) 8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в) 10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2209680"/>
            <a:ext cx="8229600" cy="1041480"/>
            <a:chOff x="304920" y="2209680"/>
            <a:chExt cx="8229600" cy="1041480"/>
          </a:xfrm>
        </p:grpSpPr>
        <p:sp>
          <p:nvSpPr>
            <p:cNvPr id="153" name=""/>
            <p:cNvSpPr/>
            <p:nvPr/>
          </p:nvSpPr>
          <p:spPr>
            <a:xfrm>
              <a:off x="304920" y="22096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Переходя от градусов к числам, получим, что углы сферического треугольника равны: а)      , б)     , в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5334120" y="2514600"/>
            <a:ext cx="40644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2514600"/>
                      <a:ext cx="4064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6172200" y="2514600"/>
            <a:ext cx="25416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2514600"/>
                      <a:ext cx="2541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7080120" y="2514600"/>
            <a:ext cx="470160" cy="73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0120" y="2514600"/>
                      <a:ext cx="4701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380880" y="3124080"/>
            <a:ext cx="8610840" cy="901800"/>
            <a:chOff x="380880" y="3124080"/>
            <a:chExt cx="8610840" cy="901800"/>
          </a:xfrm>
        </p:grpSpPr>
        <p:sp>
          <p:nvSpPr>
            <p:cNvPr id="161" name=""/>
            <p:cNvSpPr/>
            <p:nvPr/>
          </p:nvSpPr>
          <p:spPr>
            <a:xfrm>
              <a:off x="380880" y="320040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треугольника равна      .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8305920" y="3124080"/>
            <a:ext cx="25380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3124080"/>
                      <a:ext cx="2538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4" name=""/>
          <p:cNvGrpSpPr/>
          <p:nvPr/>
        </p:nvGrpSpPr>
        <p:grpSpPr>
          <a:xfrm>
            <a:off x="609480" y="4952880"/>
            <a:ext cx="2286000" cy="723960"/>
            <a:chOff x="609480" y="4952880"/>
            <a:chExt cx="2286000" cy="723960"/>
          </a:xfrm>
        </p:grpSpPr>
        <p:sp>
          <p:nvSpPr>
            <p:cNvPr id="165" name=""/>
            <p:cNvSpPr/>
            <p:nvPr/>
          </p:nvSpPr>
          <p:spPr>
            <a:xfrm>
              <a:off x="6094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1676520" y="4952880"/>
            <a:ext cx="330120" cy="723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520" y="4952880"/>
                      <a:ext cx="3301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85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Центром единичной сферы является вершина правильной четырехугольной пирамиды с ребром основания 2 и высотой 1. Найдите площадь части сферы, заключенной внутри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" y="2362320"/>
            <a:ext cx="8229600" cy="1422360"/>
            <a:chOff x="457200" y="2362320"/>
            <a:chExt cx="8229600" cy="1422360"/>
          </a:xfrm>
        </p:grpSpPr>
        <p:sp>
          <p:nvSpPr>
            <p:cNvPr id="171" name=""/>
            <p:cNvSpPr/>
            <p:nvPr/>
          </p:nvSpPr>
          <p:spPr>
            <a:xfrm>
              <a:off x="457200" y="2362320"/>
              <a:ext cx="822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Величина искомого четырехгранного угла составляет одну шестую часть пространства. Следовательно, искомая площадь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3733920" y="3048120"/>
            <a:ext cx="48240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3048120"/>
                      <a:ext cx="4824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, образованного трехгранным углом единичного тетраэдр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BCD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 единичной сферой с центром в вершин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D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тетр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981080"/>
            <a:ext cx="8534520" cy="2565360"/>
            <a:chOff x="457200" y="1981080"/>
            <a:chExt cx="8534520" cy="2565360"/>
          </a:xfrm>
        </p:grpSpPr>
        <p:sp>
          <p:nvSpPr>
            <p:cNvPr id="177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правильного тетр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2819520" y="3809880"/>
            <a:ext cx="299700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9520" y="3809880"/>
                      <a:ext cx="29970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533520" y="3048120"/>
              <a:ext cx="84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C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ражается формул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3962520" y="2362320"/>
            <a:ext cx="110484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362320"/>
                      <a:ext cx="110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четырехугольника, образованного четырехгранным углом единичного октаэдр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ABCDS’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 единичной сферой с центром в вершин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т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7200" y="1981080"/>
            <a:ext cx="8534520" cy="2565360"/>
            <a:chOff x="457200" y="1981080"/>
            <a:chExt cx="8534520" cy="2565360"/>
          </a:xfrm>
        </p:grpSpPr>
        <p:sp>
          <p:nvSpPr>
            <p:cNvPr id="186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окт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2432160" y="3809880"/>
            <a:ext cx="377172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2160" y="3809880"/>
                      <a:ext cx="37717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533520" y="3048120"/>
              <a:ext cx="84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четырех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C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ражается формул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3784680" y="2362320"/>
            <a:ext cx="146052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84680" y="2362320"/>
                      <a:ext cx="14605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пятиугольника, образованного пятигранным углом единичного икосаэдра и единичной сферой с центром в вершине икос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7200" y="1981080"/>
            <a:ext cx="8534520" cy="2597400"/>
            <a:chOff x="457200" y="1981080"/>
            <a:chExt cx="8534520" cy="2597400"/>
          </a:xfrm>
        </p:grpSpPr>
        <p:sp>
          <p:nvSpPr>
            <p:cNvPr id="195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икос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3098880" y="3778200"/>
            <a:ext cx="2438280" cy="80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8880" y="3778200"/>
                      <a:ext cx="24382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533520" y="304812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пяти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3664080" y="2330280"/>
            <a:ext cx="170172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64080" y="2330280"/>
                      <a:ext cx="17017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, образованного трехгранным углом единичного додекаэдра и единичной сферой с центром в вершине додек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" y="1981080"/>
            <a:ext cx="8534520" cy="2597400"/>
            <a:chOff x="457200" y="1981080"/>
            <a:chExt cx="8534520" cy="2597400"/>
          </a:xfrm>
        </p:grpSpPr>
        <p:sp>
          <p:nvSpPr>
            <p:cNvPr id="204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додек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3174840" y="3778200"/>
            <a:ext cx="2286000" cy="80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74840" y="3778200"/>
                      <a:ext cx="22860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533520" y="304812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тре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3664080" y="2330280"/>
            <a:ext cx="170172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64080" y="2330280"/>
                      <a:ext cx="17017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ЛОЩАДЬ ПОВЕРХНОСТИ ШАРОВОГО ПОЯ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836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боковой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верхност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шарового пояс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радиу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высот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ражается формул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360" y="1916280"/>
          <a:ext cx="181620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916280"/>
                    <a:ext cx="18162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362320" y="2602080"/>
            <a:ext cx="393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большого круга шара равна 3 с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12 с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82880" y="176544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Как изменится площадь поверхности шара, если увеличить радиус шара в: а) 2 раза; б) 3 раза; в)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раз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41008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величится в: а) 4 раза; б) 9 раз; в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Площади поверхностей двух шаров относятся как 4 : 9.  Найдите отношение их диа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2: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85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бъём шара равен 288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 Найдите площадь его поверх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41008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144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ечение шара плоскостью, отстоящей от центра шара на расстоянии 8 см, имеет радиус 6 см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5410080"/>
            <a:ext cx="3048120" cy="459720"/>
            <a:chOff x="914400" y="5410080"/>
            <a:chExt cx="3048120" cy="459720"/>
          </a:xfrm>
        </p:grpSpPr>
        <p:sp>
          <p:nvSpPr>
            <p:cNvPr id="79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  см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1981080" y="5486400"/>
            <a:ext cx="67320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5486400"/>
                      <a:ext cx="6732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оло шара описан цилиндр. Найдите отношение их площадей поверхностей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и объемов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2:3; 2: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29120" y="1712880"/>
            <a:ext cx="28843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10:49Z</dcterms:created>
  <dc:creator>*</dc:creator>
  <dc:description/>
  <dc:language>en-US</dc:language>
  <cp:lastModifiedBy>*</cp:lastModifiedBy>
  <dcterms:modified xsi:type="dcterms:W3CDTF">2008-08-02T04:44:59Z</dcterms:modified>
  <cp:revision>21</cp:revision>
  <dc:subject/>
  <dc:title>Объем фигур в пространстве</dc:title>
</cp:coreProperties>
</file>