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8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9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16.wmf" ContentType="image/x-wmf"/>
  <Override PartName="/ppt/media/image8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93AA-4CC9-4A05-B34C-8718E277E2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B81-106E-4AB3-B797-F8471956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200-4A8C-4BA6-BFCF-E34C9F3E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A19-23B7-49B8-A356-F213A935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04B-9185-41B1-A189-39573DEF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B1D-8D54-4A43-97F4-4550C149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C10-277F-450B-BFE4-3EF47C26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529-42BE-4D5D-9586-63BD053D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AA7-1929-4B50-8439-F8BAA2CF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742-7B57-43DF-A8F2-D6BBAFB4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8C6-6717-4AEA-8029-C3837F26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827-AAD0-4F5C-A44E-DC21361E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50E-2E97-42F8-BD15-146198A9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5860-5868-40E2-A0F3-EEA12EFBE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ЛОЩАДЬ ПОВЕРХНОСТИ ША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907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щадь поверхност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шар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радиус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ыражается формул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441600" y="1828800"/>
          <a:ext cx="17906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1600" y="1828800"/>
                    <a:ext cx="17906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666880" y="2590920"/>
            <a:ext cx="3430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ечение шара плоскостью, отстоящей от центра шара на расстоянии 8 см, имеет радиус 6 см. Найдите площадь поверхности ш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5410080"/>
            <a:ext cx="3048120" cy="459720"/>
            <a:chOff x="914400" y="5410080"/>
            <a:chExt cx="3048120" cy="459720"/>
          </a:xfrm>
        </p:grpSpPr>
        <p:sp>
          <p:nvSpPr>
            <p:cNvPr id="90" name=""/>
            <p:cNvSpPr/>
            <p:nvPr/>
          </p:nvSpPr>
          <p:spPr>
            <a:xfrm>
              <a:off x="914400" y="54100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          см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" name=""/>
            <p:cNvGraphicFramePr/>
            <p:nvPr/>
          </p:nvGraphicFramePr>
          <p:xfrm>
            <a:off x="1981080" y="5486400"/>
            <a:ext cx="673200" cy="27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5486400"/>
                      <a:ext cx="67320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895480" y="1981080"/>
            <a:ext cx="33768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о сколько раз площадь поверхности шара, описанного около куба, больше площади поверхности шара, вписанного в этот же ку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три раз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коло прямоугольного параллелепипеда, измерения которого равны 1 дм, 2 дм и 3 дм, описан шар. Найдите площадь его поверх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14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коло октаэдра, ребро которого равно 2 дм, описан шар. Найдите площадь поверхности ш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коло шара описан цилиндр. Найдите отношение их площадей поверхностей и объем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2 : 3, 2 :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площадь поверхности шарового сегмента, отсекаемого от шара радиус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лоскостью, проходящей на расстоянии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от центра ша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5410080"/>
            <a:ext cx="3048120" cy="459720"/>
            <a:chOff x="914400" y="5410080"/>
            <a:chExt cx="3048120" cy="459720"/>
          </a:xfrm>
        </p:grpSpPr>
        <p:sp>
          <p:nvSpPr>
            <p:cNvPr id="109" name=""/>
            <p:cNvSpPr/>
            <p:nvPr/>
          </p:nvSpPr>
          <p:spPr>
            <a:xfrm>
              <a:off x="914400" y="54100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2114640" y="5486400"/>
            <a:ext cx="406440" cy="27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14640" y="5486400"/>
                      <a:ext cx="40644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95480" y="2057400"/>
            <a:ext cx="33768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858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Шар радиус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ересечен двумя параллельными плоскостями, которые делят перпендикулярный им диаметр шара в отношении 1 : 2 : 3. Определите площадь поверхности шара, заключенную между секущими плоскост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14400" y="5334120"/>
            <a:ext cx="3048120" cy="736560"/>
            <a:chOff x="914400" y="5334120"/>
            <a:chExt cx="3048120" cy="736560"/>
          </a:xfrm>
        </p:grpSpPr>
        <p:sp>
          <p:nvSpPr>
            <p:cNvPr id="116" name=""/>
            <p:cNvSpPr/>
            <p:nvPr/>
          </p:nvSpPr>
          <p:spPr>
            <a:xfrm>
              <a:off x="914400" y="54100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1981080" y="5334120"/>
            <a:ext cx="48276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5334120"/>
                      <a:ext cx="4827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3764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ПЛОЩАДЬ СФЕРИЧЕСКОГО МНОГОУГОЛЬ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68580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Сферическим многоугольником будем называть часть сферы, заключенной внутри многогранного угла с вершиной в центре сфе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981080"/>
            <a:ext cx="4267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апомним, что численная величина м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огогранн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ого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угл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а равна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оловин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лощади сферического многоугольника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ысекаемого многогранным углом из единичной сферы с центром в вершине данного многогранного угла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см. раздел «Многогранные углы»).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5334120"/>
          <a:ext cx="511812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334120"/>
                    <a:ext cx="5118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04920" y="5791320"/>
            <a:ext cx="8458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где    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, …,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cc99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углы сферического многоугольника, равные соответствующим двугранным углам многогранного угла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OA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cc99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52480" y="5867280"/>
          <a:ext cx="266760" cy="2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5867280"/>
                    <a:ext cx="26676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62120" y="5867280"/>
          <a:ext cx="266760" cy="2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867280"/>
                    <a:ext cx="26676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80880" y="4572000"/>
            <a:ext cx="8382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Площадь сферического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n-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угольника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cc99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а сфере с центром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O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и радиусом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выражается формул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533520" y="838080"/>
            <a:ext cx="37400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335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сферу радиус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писан правильный тетраэдр, и три его грани, исходящие из одной вершины, продолжены до пересечения со сферой. Вычислите площадь части поверхности сферы, заключенной внутри образовавшегося трехгранного уг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09480" y="4946760"/>
            <a:ext cx="2286000" cy="736560"/>
            <a:chOff x="609480" y="4946760"/>
            <a:chExt cx="2286000" cy="736560"/>
          </a:xfrm>
        </p:grpSpPr>
        <p:sp>
          <p:nvSpPr>
            <p:cNvPr id="135" name=""/>
            <p:cNvSpPr/>
            <p:nvPr/>
          </p:nvSpPr>
          <p:spPr>
            <a:xfrm>
              <a:off x="609480" y="50292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1600200" y="4946760"/>
            <a:ext cx="48276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4946760"/>
                      <a:ext cx="4827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590920"/>
            <a:ext cx="34624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треугольник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 единичной сфере, углы которого равны: а) 9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б) 9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в) 9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09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Данный треугольник составляет одну восьмую часть единичной сфе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0880" y="3200400"/>
            <a:ext cx="8610840" cy="1028880"/>
            <a:chOff x="380880" y="3200400"/>
            <a:chExt cx="8610840" cy="1028880"/>
          </a:xfrm>
        </p:grpSpPr>
        <p:sp>
          <p:nvSpPr>
            <p:cNvPr id="143" name=""/>
            <p:cNvSpPr/>
            <p:nvPr/>
          </p:nvSpPr>
          <p:spPr>
            <a:xfrm>
              <a:off x="380880" y="3200400"/>
              <a:ext cx="861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его площадь равна одной восьмой площади единичной сферы, т.е.      .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3429000" y="3505320"/>
            <a:ext cx="254160" cy="7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3505320"/>
                      <a:ext cx="2541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6" name=""/>
          <p:cNvGrpSpPr/>
          <p:nvPr/>
        </p:nvGrpSpPr>
        <p:grpSpPr>
          <a:xfrm>
            <a:off x="609480" y="4952880"/>
            <a:ext cx="2286000" cy="723960"/>
            <a:chOff x="609480" y="4952880"/>
            <a:chExt cx="2286000" cy="723960"/>
          </a:xfrm>
        </p:grpSpPr>
        <p:sp>
          <p:nvSpPr>
            <p:cNvPr id="147" name=""/>
            <p:cNvSpPr/>
            <p:nvPr/>
          </p:nvSpPr>
          <p:spPr>
            <a:xfrm>
              <a:off x="609480" y="50292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1676520" y="4952880"/>
            <a:ext cx="330120" cy="7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952880"/>
                      <a:ext cx="3301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ЛОЩАДЬ ПОВЕРХНОСТИ ШАРОВОГО СЕГ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83664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щадь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боковой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оверхност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шарового сегмент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радиус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и высот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ыражается формул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348000" y="1844640"/>
          <a:ext cx="18162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844640"/>
                    <a:ext cx="18162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981080" y="2521080"/>
            <a:ext cx="4103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треугольник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 единичной сфере, углы которого равны: а) 8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б) 9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в) 10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2209680"/>
            <a:ext cx="8229600" cy="1041480"/>
            <a:chOff x="304920" y="2209680"/>
            <a:chExt cx="8229600" cy="1041480"/>
          </a:xfrm>
        </p:grpSpPr>
        <p:sp>
          <p:nvSpPr>
            <p:cNvPr id="153" name=""/>
            <p:cNvSpPr/>
            <p:nvPr/>
          </p:nvSpPr>
          <p:spPr>
            <a:xfrm>
              <a:off x="304920" y="220968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Переходя от градусов к числам, получим, что углы сферического треугольника равны: а)      , б)     , в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5334120" y="2514600"/>
            <a:ext cx="40644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2514600"/>
                      <a:ext cx="4064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6172200" y="2514600"/>
            <a:ext cx="254160" cy="7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2514600"/>
                      <a:ext cx="2541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7080120" y="2514600"/>
            <a:ext cx="470160" cy="73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0120" y="2514600"/>
                      <a:ext cx="4701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"/>
          <p:cNvGrpSpPr/>
          <p:nvPr/>
        </p:nvGrpSpPr>
        <p:grpSpPr>
          <a:xfrm>
            <a:off x="380880" y="3124080"/>
            <a:ext cx="8610840" cy="901800"/>
            <a:chOff x="380880" y="3124080"/>
            <a:chExt cx="8610840" cy="901800"/>
          </a:xfrm>
        </p:grpSpPr>
        <p:sp>
          <p:nvSpPr>
            <p:cNvPr id="161" name=""/>
            <p:cNvSpPr/>
            <p:nvPr/>
          </p:nvSpPr>
          <p:spPr>
            <a:xfrm>
              <a:off x="380880" y="3200400"/>
              <a:ext cx="861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треугольника равна      .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8305920" y="3124080"/>
            <a:ext cx="253800" cy="72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3124080"/>
                      <a:ext cx="2538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4" name=""/>
          <p:cNvGrpSpPr/>
          <p:nvPr/>
        </p:nvGrpSpPr>
        <p:grpSpPr>
          <a:xfrm>
            <a:off x="609480" y="4952880"/>
            <a:ext cx="2286000" cy="723960"/>
            <a:chOff x="609480" y="4952880"/>
            <a:chExt cx="2286000" cy="723960"/>
          </a:xfrm>
        </p:grpSpPr>
        <p:sp>
          <p:nvSpPr>
            <p:cNvPr id="165" name=""/>
            <p:cNvSpPr/>
            <p:nvPr/>
          </p:nvSpPr>
          <p:spPr>
            <a:xfrm>
              <a:off x="609480" y="50292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1676520" y="4952880"/>
            <a:ext cx="330120" cy="723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76520" y="4952880"/>
                      <a:ext cx="3301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6858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Центром единичной сферы является вершина правильной четырехугольной пирамиды с ребром основания 2 и высотой 1. Найдите площадь части сферы, заключенной внутри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" y="2362320"/>
            <a:ext cx="8229600" cy="1422360"/>
            <a:chOff x="457200" y="2362320"/>
            <a:chExt cx="8229600" cy="1422360"/>
          </a:xfrm>
        </p:grpSpPr>
        <p:sp>
          <p:nvSpPr>
            <p:cNvPr id="171" name=""/>
            <p:cNvSpPr/>
            <p:nvPr/>
          </p:nvSpPr>
          <p:spPr>
            <a:xfrm>
              <a:off x="457200" y="2362320"/>
              <a:ext cx="822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Величина искомого четырехгранного угла составляет одну шестую часть пространства. Следовательно, искомая площадь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3733920" y="3048120"/>
            <a:ext cx="48240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3048120"/>
                      <a:ext cx="48240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треугольника, образованного трехгранным углом единичного тетраэдр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BCD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и единичной сферой с центром в вершин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D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тетраэд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1981080"/>
            <a:ext cx="8534520" cy="2565360"/>
            <a:chOff x="457200" y="1981080"/>
            <a:chExt cx="8534520" cy="2565360"/>
          </a:xfrm>
        </p:grpSpPr>
        <p:sp>
          <p:nvSpPr>
            <p:cNvPr id="177" name=""/>
            <p:cNvSpPr/>
            <p:nvPr/>
          </p:nvSpPr>
          <p:spPr>
            <a:xfrm>
              <a:off x="457200" y="19810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Двугранные углы правильного тетраэдра равн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2819520" y="3809880"/>
            <a:ext cx="299700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19520" y="3809880"/>
                      <a:ext cx="299700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533520" y="3048120"/>
              <a:ext cx="845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C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ражается формул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3962520" y="2362320"/>
            <a:ext cx="1104840" cy="73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2362320"/>
                      <a:ext cx="110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четырехугольника, образованного четырехгранным углом единичного октаэдр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SABCDS’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и единичной сферой с центром в вершин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S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ктаэд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7200" y="1981080"/>
            <a:ext cx="8534520" cy="2565360"/>
            <a:chOff x="457200" y="1981080"/>
            <a:chExt cx="8534520" cy="2565360"/>
          </a:xfrm>
        </p:grpSpPr>
        <p:sp>
          <p:nvSpPr>
            <p:cNvPr id="186" name=""/>
            <p:cNvSpPr/>
            <p:nvPr/>
          </p:nvSpPr>
          <p:spPr>
            <a:xfrm>
              <a:off x="457200" y="19810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Двугранные углы октаэдра равн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2432160" y="3809880"/>
            <a:ext cx="377172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2160" y="3809880"/>
                      <a:ext cx="37717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533520" y="3048120"/>
              <a:ext cx="845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четырех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C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ражается формул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3784680" y="2362320"/>
            <a:ext cx="1460520" cy="73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84680" y="2362320"/>
                      <a:ext cx="14605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пятиугольника, образованного пятигранным углом единичного икосаэдра и единичной сферой с центром в вершине икосаэд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57200" y="1981080"/>
            <a:ext cx="8534520" cy="2597400"/>
            <a:chOff x="457200" y="1981080"/>
            <a:chExt cx="8534520" cy="2597400"/>
          </a:xfrm>
        </p:grpSpPr>
        <p:sp>
          <p:nvSpPr>
            <p:cNvPr id="195" name=""/>
            <p:cNvSpPr/>
            <p:nvPr/>
          </p:nvSpPr>
          <p:spPr>
            <a:xfrm>
              <a:off x="457200" y="19810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Двугранные углы икосаэдра равн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6" name=""/>
            <p:cNvGraphicFramePr/>
            <p:nvPr/>
          </p:nvGraphicFramePr>
          <p:xfrm>
            <a:off x="3098880" y="3778200"/>
            <a:ext cx="2438280" cy="80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98880" y="3778200"/>
                      <a:ext cx="24382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533520" y="3048120"/>
              <a:ext cx="84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пятиугольник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9" name=""/>
            <p:cNvGraphicFramePr/>
            <p:nvPr/>
          </p:nvGraphicFramePr>
          <p:xfrm>
            <a:off x="3664080" y="2330280"/>
            <a:ext cx="1701720" cy="8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64080" y="2330280"/>
                      <a:ext cx="17017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треугольника, образованного трехгранным углом единичного додекаэдра и единичной сферой с центром в вершине додекаэд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200" y="1981080"/>
            <a:ext cx="8534520" cy="2597400"/>
            <a:chOff x="457200" y="1981080"/>
            <a:chExt cx="8534520" cy="2597400"/>
          </a:xfrm>
        </p:grpSpPr>
        <p:sp>
          <p:nvSpPr>
            <p:cNvPr id="204" name=""/>
            <p:cNvSpPr/>
            <p:nvPr/>
          </p:nvSpPr>
          <p:spPr>
            <a:xfrm>
              <a:off x="457200" y="19810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Двугранные углы додекаэдра равн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3174840" y="3778200"/>
            <a:ext cx="2286000" cy="80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74840" y="3778200"/>
                      <a:ext cx="22860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533520" y="3048120"/>
              <a:ext cx="84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треугольник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8" name=""/>
            <p:cNvGraphicFramePr/>
            <p:nvPr/>
          </p:nvGraphicFramePr>
          <p:xfrm>
            <a:off x="3664080" y="2330280"/>
            <a:ext cx="1701720" cy="8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64080" y="2330280"/>
                      <a:ext cx="17017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ЛОЩАДЬ ПОВЕРХНОСТИ ШАРОВОГО ПОЯ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8366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щадь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боковой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оверхност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шарового пояс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радиус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и высот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ыражается формул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360" y="1916280"/>
          <a:ext cx="181620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916280"/>
                    <a:ext cx="18162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362320" y="2602080"/>
            <a:ext cx="393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щадь большого круга шара равна 3 с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площадь поверхности ш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12 с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82880" y="1765440"/>
            <a:ext cx="33768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Как изменится площадь поверхности шара, если увеличить радиус шара в: а) 2 раза; б) 3 раза; в)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раз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410080"/>
            <a:ext cx="76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величится в: а) 4 раза; б) 9 раз; в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р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Площади поверхностей двух шаров относятся как 4 : 9.  Найдите отношение их диа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410080"/>
            <a:ext cx="76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2: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685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бъём шара равен 288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 Найдите площадь его поверх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410080"/>
            <a:ext cx="76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144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ечение шара плоскостью, отстоящей от центра шара на расстоянии 8 см, имеет радиус 6 см. Найдите площадь поверхности ш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5410080"/>
            <a:ext cx="3048120" cy="459720"/>
            <a:chOff x="914400" y="5410080"/>
            <a:chExt cx="3048120" cy="459720"/>
          </a:xfrm>
        </p:grpSpPr>
        <p:sp>
          <p:nvSpPr>
            <p:cNvPr id="79" name=""/>
            <p:cNvSpPr/>
            <p:nvPr/>
          </p:nvSpPr>
          <p:spPr>
            <a:xfrm>
              <a:off x="914400" y="54100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          см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1981080" y="5486400"/>
            <a:ext cx="673200" cy="27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5486400"/>
                      <a:ext cx="67320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895480" y="1981080"/>
            <a:ext cx="33768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коло шара описан цилиндр. Найдите отношение их площадей поверхностей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и объемов.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2:3; 2: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29120" y="1712880"/>
            <a:ext cx="28843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6:10:49Z</dcterms:created>
  <dc:creator>*</dc:creator>
  <dc:description/>
  <dc:language>en-US</dc:language>
  <cp:lastModifiedBy>*</cp:lastModifiedBy>
  <dcterms:modified xsi:type="dcterms:W3CDTF">2008-08-02T04:44:59Z</dcterms:modified>
  <cp:revision>21</cp:revision>
  <dc:subject/>
  <dc:title>Объем фигур в пространстве</dc:title>
</cp:coreProperties>
</file>