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8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9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16.wmf" ContentType="image/x-wmf"/>
  <Override PartName="/ppt/media/image8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9.png" ContentType="image/png"/>
  <Override PartName="/ppt/media/image30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21.wmf" ContentType="image/x-wmf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45D3-51A4-450E-8975-BA23367741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78B-61A0-4A09-9F6A-50E7D1BD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B63-134B-4A64-A151-E681ABE3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E11B-3B29-447A-B1A6-557F2773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B65-570E-415E-9F87-B3AD1E33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64F5-7B43-4EA0-9773-055E8712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E30-FB6F-4831-9BB1-8708EEBE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51F-DF6E-40F6-A271-9FB0E5ED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B2B-753D-4E04-BB01-24835B61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D1D-11B1-4BAA-AADC-92E45509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C34-3D51-4068-AEBE-7221B113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AB04-FA5B-459B-BDDF-D8096518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798-6986-436A-8A84-90C96400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AD94-9A90-49AF-B705-3B9F20429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ЛОЩАДЬ ПОВЕРХНОСТИ ША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907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ощадь поверхност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шар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радиус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ыражается формул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441600" y="1828800"/>
          <a:ext cx="17906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1600" y="1828800"/>
                    <a:ext cx="17906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666880" y="2590920"/>
            <a:ext cx="34308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ечение шара плоскостью, отстоящей от центра шара на расстоянии 8 см, имеет радиус 6 см. Найдите площадь поверхности ша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14400" y="5410080"/>
            <a:ext cx="3048120" cy="459720"/>
            <a:chOff x="914400" y="5410080"/>
            <a:chExt cx="3048120" cy="459720"/>
          </a:xfrm>
        </p:grpSpPr>
        <p:sp>
          <p:nvSpPr>
            <p:cNvPr id="90" name=""/>
            <p:cNvSpPr/>
            <p:nvPr/>
          </p:nvSpPr>
          <p:spPr>
            <a:xfrm>
              <a:off x="914400" y="54100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          см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1" name=""/>
            <p:cNvGraphicFramePr/>
            <p:nvPr/>
          </p:nvGraphicFramePr>
          <p:xfrm>
            <a:off x="1981080" y="5486400"/>
            <a:ext cx="673200" cy="27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5486400"/>
                      <a:ext cx="67320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895480" y="1981080"/>
            <a:ext cx="33768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о сколько раз площадь поверхности шара, описанного около куба, больше площади поверхности шара, вписанного в этот же куб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 три раз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Около прямоугольного параллелепипеда, измерения которого равны 1 дм, 2 дм и 3 дм, описан шар. Найдите площадь его поверх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14 д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Около октаэдра, ребро которого равно 2 дм, описан шар. Найдите площадь поверхности ша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д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Около шара описан цилиндр. Найдите отношение их площадей поверхностей и объем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2 : 3, 2 : 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йдите площадь поверхности шарового сегмента, отсекаемого от шара радиуса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лоскостью, проходящей на расстоянии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от центра ша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14400" y="5410080"/>
            <a:ext cx="3048120" cy="459720"/>
            <a:chOff x="914400" y="5410080"/>
            <a:chExt cx="3048120" cy="459720"/>
          </a:xfrm>
        </p:grpSpPr>
        <p:sp>
          <p:nvSpPr>
            <p:cNvPr id="109" name=""/>
            <p:cNvSpPr/>
            <p:nvPr/>
          </p:nvSpPr>
          <p:spPr>
            <a:xfrm>
              <a:off x="914400" y="54100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2114640" y="5486400"/>
            <a:ext cx="406440" cy="27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14640" y="5486400"/>
                      <a:ext cx="40644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95480" y="2057400"/>
            <a:ext cx="33768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6858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Шар радиуса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ересечен двумя параллельными плоскостями, которые делят перпендикулярный им диаметр шара в отношении 1 : 2 : 3. Определите площадь поверхности шара, заключенную между секущими плоскост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14400" y="5334120"/>
            <a:ext cx="3048120" cy="736560"/>
            <a:chOff x="914400" y="5334120"/>
            <a:chExt cx="3048120" cy="736560"/>
          </a:xfrm>
        </p:grpSpPr>
        <p:sp>
          <p:nvSpPr>
            <p:cNvPr id="116" name=""/>
            <p:cNvSpPr/>
            <p:nvPr/>
          </p:nvSpPr>
          <p:spPr>
            <a:xfrm>
              <a:off x="914400" y="54100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1981080" y="5334120"/>
            <a:ext cx="48276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5334120"/>
                      <a:ext cx="48276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3764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ПЛОЩАДЬ СФЕРИЧЕСКОГО МНОГОУГОЛЬ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68580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Сферическим многоугольником будем называть часть сферы, заключенной внутри многогранного угла с вершиной в центре сфе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981080"/>
            <a:ext cx="4267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Напомним, что численная величина м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огогранн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ого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угл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а равна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оловин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площади сферического многоугольника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ысекаемого многогранным углом из единичной сферы с центром в вершине данного многогранного угла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см. раздел «Многогранные углы»).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5334120"/>
          <a:ext cx="511812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334120"/>
                    <a:ext cx="51181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04920" y="5791320"/>
            <a:ext cx="8458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где    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, …,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cc99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углы сферического многоугольника, равные соответствующим двугранным углам многогранного угла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OA</a:t>
            </a:r>
            <a:r>
              <a:rPr b="0" lang="en-US" sz="20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…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cc99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52480" y="5867280"/>
          <a:ext cx="266760" cy="2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5867280"/>
                    <a:ext cx="26676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762120" y="5867280"/>
          <a:ext cx="266760" cy="25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867280"/>
                    <a:ext cx="26676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80880" y="4572000"/>
            <a:ext cx="8382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Площадь сферического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n-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угольника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…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cc99"/>
                </a:solidFill>
                <a:latin typeface="Times New Roman"/>
              </a:rPr>
              <a:t>n</a:t>
            </a:r>
            <a:r>
              <a:rPr b="0" i="1" lang="ru-RU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на сфере с центром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O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и радиусом </a:t>
            </a:r>
            <a:r>
              <a:rPr b="0" i="1" lang="en-US" sz="20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ru-RU" sz="2000" spc="-1" strike="noStrike">
                <a:solidFill>
                  <a:srgbClr val="00cc99"/>
                </a:solidFill>
                <a:latin typeface="Times New Roman"/>
              </a:rPr>
              <a:t>выражается формул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533520" y="838080"/>
            <a:ext cx="374004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335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 сферу радиуса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вписан правильный тетраэдр, и три его грани, исходящие из одной вершины, продолжены до пересечения со сферой. Вычислите площадь части поверхности сферы, заключенной внутри образовавшегося трехгранного уг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09480" y="4946760"/>
            <a:ext cx="2286000" cy="736560"/>
            <a:chOff x="609480" y="4946760"/>
            <a:chExt cx="2286000" cy="736560"/>
          </a:xfrm>
        </p:grpSpPr>
        <p:sp>
          <p:nvSpPr>
            <p:cNvPr id="135" name=""/>
            <p:cNvSpPr/>
            <p:nvPr/>
          </p:nvSpPr>
          <p:spPr>
            <a:xfrm>
              <a:off x="609480" y="50292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1600200" y="4946760"/>
            <a:ext cx="48276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4946760"/>
                      <a:ext cx="48276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590920"/>
            <a:ext cx="34624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треугольник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 единичной сфере, углы которого равны: а) 9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б) 9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в) 9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09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Данный треугольник составляет одну восьмую часть единичной сфе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0880" y="3200400"/>
            <a:ext cx="8610840" cy="1028880"/>
            <a:chOff x="380880" y="3200400"/>
            <a:chExt cx="8610840" cy="1028880"/>
          </a:xfrm>
        </p:grpSpPr>
        <p:sp>
          <p:nvSpPr>
            <p:cNvPr id="143" name=""/>
            <p:cNvSpPr/>
            <p:nvPr/>
          </p:nvSpPr>
          <p:spPr>
            <a:xfrm>
              <a:off x="380880" y="3200400"/>
              <a:ext cx="861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его площадь равна одной восьмой площади единичной сферы, т.е.      .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4" name=""/>
            <p:cNvGraphicFramePr/>
            <p:nvPr/>
          </p:nvGraphicFramePr>
          <p:xfrm>
            <a:off x="3429000" y="3505320"/>
            <a:ext cx="254160" cy="72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3505320"/>
                      <a:ext cx="2541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6" name=""/>
          <p:cNvGrpSpPr/>
          <p:nvPr/>
        </p:nvGrpSpPr>
        <p:grpSpPr>
          <a:xfrm>
            <a:off x="609480" y="4952880"/>
            <a:ext cx="2286000" cy="723960"/>
            <a:chOff x="609480" y="4952880"/>
            <a:chExt cx="2286000" cy="723960"/>
          </a:xfrm>
        </p:grpSpPr>
        <p:sp>
          <p:nvSpPr>
            <p:cNvPr id="147" name=""/>
            <p:cNvSpPr/>
            <p:nvPr/>
          </p:nvSpPr>
          <p:spPr>
            <a:xfrm>
              <a:off x="609480" y="50292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8" name=""/>
            <p:cNvGraphicFramePr/>
            <p:nvPr/>
          </p:nvGraphicFramePr>
          <p:xfrm>
            <a:off x="1676520" y="4952880"/>
            <a:ext cx="330120" cy="7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952880"/>
                      <a:ext cx="3301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ЛОЩАДЬ ПОВЕРХНОСТИ ШАРОВОГО СЕГ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83664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ощадь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боковой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оверхност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шарового сегмент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радиус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и высот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ыражается формул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348000" y="1844640"/>
          <a:ext cx="181620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844640"/>
                    <a:ext cx="18162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981080" y="2521080"/>
            <a:ext cx="41036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треугольник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 единичной сфере, углы которого равны: а) 8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б) 9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; в) 100</a:t>
            </a:r>
            <a:r>
              <a:rPr b="0" lang="ru-RU" sz="2400" spc="-1" strike="noStrike" baseline="30000">
                <a:solidFill>
                  <a:srgbClr val="00cc99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2209680"/>
            <a:ext cx="8229600" cy="1041480"/>
            <a:chOff x="304920" y="2209680"/>
            <a:chExt cx="8229600" cy="1041480"/>
          </a:xfrm>
        </p:grpSpPr>
        <p:sp>
          <p:nvSpPr>
            <p:cNvPr id="153" name=""/>
            <p:cNvSpPr/>
            <p:nvPr/>
          </p:nvSpPr>
          <p:spPr>
            <a:xfrm>
              <a:off x="304920" y="220968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Переходя от градусов к числам, получим, что углы сферического треугольника равны: а)      , б)     , в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5334120" y="2514600"/>
            <a:ext cx="40644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2514600"/>
                      <a:ext cx="4064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6172200" y="2514600"/>
            <a:ext cx="254160" cy="7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72200" y="2514600"/>
                      <a:ext cx="2541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"/>
            <p:cNvGraphicFramePr/>
            <p:nvPr/>
          </p:nvGraphicFramePr>
          <p:xfrm>
            <a:off x="7080120" y="2514600"/>
            <a:ext cx="470160" cy="736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0120" y="2514600"/>
                      <a:ext cx="47016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"/>
          <p:cNvGrpSpPr/>
          <p:nvPr/>
        </p:nvGrpSpPr>
        <p:grpSpPr>
          <a:xfrm>
            <a:off x="380880" y="3124080"/>
            <a:ext cx="8610840" cy="901800"/>
            <a:chOff x="380880" y="3124080"/>
            <a:chExt cx="8610840" cy="901800"/>
          </a:xfrm>
        </p:grpSpPr>
        <p:sp>
          <p:nvSpPr>
            <p:cNvPr id="161" name=""/>
            <p:cNvSpPr/>
            <p:nvPr/>
          </p:nvSpPr>
          <p:spPr>
            <a:xfrm>
              <a:off x="380880" y="3200400"/>
              <a:ext cx="861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площадь сферического треугольника равна      .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8305920" y="3124080"/>
            <a:ext cx="253800" cy="72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3124080"/>
                      <a:ext cx="25380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4" name=""/>
          <p:cNvGrpSpPr/>
          <p:nvPr/>
        </p:nvGrpSpPr>
        <p:grpSpPr>
          <a:xfrm>
            <a:off x="609480" y="4952880"/>
            <a:ext cx="2286000" cy="723960"/>
            <a:chOff x="609480" y="4952880"/>
            <a:chExt cx="2286000" cy="723960"/>
          </a:xfrm>
        </p:grpSpPr>
        <p:sp>
          <p:nvSpPr>
            <p:cNvPr id="165" name=""/>
            <p:cNvSpPr/>
            <p:nvPr/>
          </p:nvSpPr>
          <p:spPr>
            <a:xfrm>
              <a:off x="609480" y="50292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6" name=""/>
            <p:cNvGraphicFramePr/>
            <p:nvPr/>
          </p:nvGraphicFramePr>
          <p:xfrm>
            <a:off x="1676520" y="4952880"/>
            <a:ext cx="330120" cy="723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76520" y="4952880"/>
                      <a:ext cx="33012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6858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Центром единичной сферы является вершина правильной четырехугольной пирамиды с ребром основания 2 и высотой 1. Найдите площадь части сферы, заключенной внутри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7200" y="2362320"/>
            <a:ext cx="8229600" cy="1422360"/>
            <a:chOff x="457200" y="2362320"/>
            <a:chExt cx="8229600" cy="1422360"/>
          </a:xfrm>
        </p:grpSpPr>
        <p:sp>
          <p:nvSpPr>
            <p:cNvPr id="171" name=""/>
            <p:cNvSpPr/>
            <p:nvPr/>
          </p:nvSpPr>
          <p:spPr>
            <a:xfrm>
              <a:off x="457200" y="2362320"/>
              <a:ext cx="8229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Величина искомого четырехгранного угла составляет одну шестую часть пространства. Следовательно, искомая площадь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3733920" y="3048120"/>
            <a:ext cx="48240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3048120"/>
                      <a:ext cx="48240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треугольника, образованного трехгранным углом единичного тетраэдр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BCD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и единичной сферой с центром в вершин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D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тетраэд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200" y="1981080"/>
            <a:ext cx="8534520" cy="2565360"/>
            <a:chOff x="457200" y="1981080"/>
            <a:chExt cx="8534520" cy="2565360"/>
          </a:xfrm>
        </p:grpSpPr>
        <p:sp>
          <p:nvSpPr>
            <p:cNvPr id="177" name=""/>
            <p:cNvSpPr/>
            <p:nvPr/>
          </p:nvSpPr>
          <p:spPr>
            <a:xfrm>
              <a:off x="457200" y="198108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Двугранные углы правильного тетраэдра равны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8" name=""/>
            <p:cNvGraphicFramePr/>
            <p:nvPr/>
          </p:nvGraphicFramePr>
          <p:xfrm>
            <a:off x="2819520" y="3809880"/>
            <a:ext cx="299700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19520" y="3809880"/>
                      <a:ext cx="299700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533520" y="3048120"/>
              <a:ext cx="845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площадь сферического тре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C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ражается формуло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1" name=""/>
            <p:cNvGraphicFramePr/>
            <p:nvPr/>
          </p:nvGraphicFramePr>
          <p:xfrm>
            <a:off x="3962520" y="2362320"/>
            <a:ext cx="1104840" cy="73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62520" y="2362320"/>
                      <a:ext cx="110484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четырехугольника, образованного четырехгранным углом единичного октаэдра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SABCDS’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и единичной сферой с центром в вершине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S 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октаэд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57200" y="1981080"/>
            <a:ext cx="8534520" cy="2565360"/>
            <a:chOff x="457200" y="1981080"/>
            <a:chExt cx="8534520" cy="2565360"/>
          </a:xfrm>
        </p:grpSpPr>
        <p:sp>
          <p:nvSpPr>
            <p:cNvPr id="186" name=""/>
            <p:cNvSpPr/>
            <p:nvPr/>
          </p:nvSpPr>
          <p:spPr>
            <a:xfrm>
              <a:off x="457200" y="198108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Двугранные углы октаэдра равны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"/>
            <p:cNvGraphicFramePr/>
            <p:nvPr/>
          </p:nvGraphicFramePr>
          <p:xfrm>
            <a:off x="2432160" y="3809880"/>
            <a:ext cx="3771720" cy="73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2160" y="3809880"/>
                      <a:ext cx="37717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533520" y="3048120"/>
              <a:ext cx="845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площадь сферического четырехугольника 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ABCD 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выражается формуло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0" name=""/>
            <p:cNvGraphicFramePr/>
            <p:nvPr/>
          </p:nvGraphicFramePr>
          <p:xfrm>
            <a:off x="3784680" y="2362320"/>
            <a:ext cx="1460520" cy="73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84680" y="2362320"/>
                      <a:ext cx="146052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пятиугольника, образованного пятигранным углом единичного икосаэдра и единичной сферой с центром в вершине икосаэд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57200" y="1981080"/>
            <a:ext cx="8534520" cy="2597400"/>
            <a:chOff x="457200" y="1981080"/>
            <a:chExt cx="8534520" cy="2597400"/>
          </a:xfrm>
        </p:grpSpPr>
        <p:sp>
          <p:nvSpPr>
            <p:cNvPr id="195" name=""/>
            <p:cNvSpPr/>
            <p:nvPr/>
          </p:nvSpPr>
          <p:spPr>
            <a:xfrm>
              <a:off x="457200" y="198108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Двугранные углы икосаэдра равны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6" name=""/>
            <p:cNvGraphicFramePr/>
            <p:nvPr/>
          </p:nvGraphicFramePr>
          <p:xfrm>
            <a:off x="3098880" y="3778200"/>
            <a:ext cx="2438280" cy="80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98880" y="3778200"/>
                      <a:ext cx="24382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533520" y="3048120"/>
              <a:ext cx="84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площадь сферического пятиугольника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9" name=""/>
            <p:cNvGraphicFramePr/>
            <p:nvPr/>
          </p:nvGraphicFramePr>
          <p:xfrm>
            <a:off x="3664080" y="2330280"/>
            <a:ext cx="1701720" cy="80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64080" y="2330280"/>
                      <a:ext cx="17017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айдите площадь сферического треугольника, образованного трехгранным углом единичного додекаэдра и единичной сферой с центром в вершине додекаэд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57200" y="1981080"/>
            <a:ext cx="8534520" cy="2597400"/>
            <a:chOff x="457200" y="1981080"/>
            <a:chExt cx="8534520" cy="2597400"/>
          </a:xfrm>
        </p:grpSpPr>
        <p:sp>
          <p:nvSpPr>
            <p:cNvPr id="204" name=""/>
            <p:cNvSpPr/>
            <p:nvPr/>
          </p:nvSpPr>
          <p:spPr>
            <a:xfrm>
              <a:off x="457200" y="198108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 Двугранные углы додекаэдра равны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5" name=""/>
            <p:cNvGraphicFramePr/>
            <p:nvPr/>
          </p:nvGraphicFramePr>
          <p:xfrm>
            <a:off x="3174840" y="3778200"/>
            <a:ext cx="2286000" cy="80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74840" y="3778200"/>
                      <a:ext cx="22860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"/>
            <p:cNvSpPr/>
            <p:nvPr/>
          </p:nvSpPr>
          <p:spPr>
            <a:xfrm>
              <a:off x="533520" y="3048120"/>
              <a:ext cx="84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Следовательно, площадь сферического треугольника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8" name=""/>
            <p:cNvGraphicFramePr/>
            <p:nvPr/>
          </p:nvGraphicFramePr>
          <p:xfrm>
            <a:off x="3664080" y="2330280"/>
            <a:ext cx="1701720" cy="80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64080" y="2330280"/>
                      <a:ext cx="17017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ЛОЩАДЬ ПОВЕРХНОСТИ ШАРОВОГО ПОЯ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83664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ощадь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боковой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оверхности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шарового пояс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, радиус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R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и высотой 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выражается формул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360" y="1916280"/>
          <a:ext cx="181620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916280"/>
                    <a:ext cx="18162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362320" y="2602080"/>
            <a:ext cx="393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лощадь большого круга шара равна 3 с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Найдите площадь поверхности ша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12 с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82880" y="1765440"/>
            <a:ext cx="33768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Как изменится площадь поверхности шара, если увеличить радиус шара в: а) 2 раза; б) 3 раза; в)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раз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410080"/>
            <a:ext cx="76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величится в: а) 4 раза; б) 9 раз; в)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раз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Площади поверхностей двух шаров относятся как 4 : 9.  Найдите отношение их диамет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5410080"/>
            <a:ext cx="76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2: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6858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Объём шара равен 288 д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 Найдите площадь его поверх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5410080"/>
            <a:ext cx="76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144 д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685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Сечение шара плоскостью, отстоящей от центра шара на расстоянии 8 см, имеет радиус 6 см. Найдите площадь поверхности ша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14400" y="5410080"/>
            <a:ext cx="3048120" cy="459720"/>
            <a:chOff x="914400" y="5410080"/>
            <a:chExt cx="3048120" cy="459720"/>
          </a:xfrm>
        </p:grpSpPr>
        <p:sp>
          <p:nvSpPr>
            <p:cNvPr id="79" name=""/>
            <p:cNvSpPr/>
            <p:nvPr/>
          </p:nvSpPr>
          <p:spPr>
            <a:xfrm>
              <a:off x="914400" y="541008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          см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1981080" y="5486400"/>
            <a:ext cx="673200" cy="27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5486400"/>
                      <a:ext cx="67320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895480" y="1981080"/>
            <a:ext cx="33768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Около шара описан цилиндр. Найдите отношение их площадей поверхностей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 и объемов.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5410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2:3; 2: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129120" y="1712880"/>
            <a:ext cx="28843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6:10:49Z</dcterms:created>
  <dc:creator>*</dc:creator>
  <dc:description/>
  <dc:language>en-US</dc:language>
  <cp:lastModifiedBy>*</cp:lastModifiedBy>
  <dcterms:modified xsi:type="dcterms:W3CDTF">2008-08-02T04:44:59Z</dcterms:modified>
  <cp:revision>21</cp:revision>
  <dc:subject/>
  <dc:title>Объем фигур в пространстве</dc:title>
</cp:coreProperties>
</file>