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E04-292E-45B2-A1D5-44D56B23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B16-B18D-4591-B9B9-48D99C60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19E-B40B-4188-9E86-E8B9E14B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52D-77E7-489F-8D01-25FCE0FC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A083-B377-4B0F-9442-E0179C3F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B5EE-589D-4722-93AC-177A5E46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19C4-E34B-4C57-B459-1B55B89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EFF8-06F7-403D-A5C6-30D6B662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9080-57E1-4ED7-BEF2-8D709630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F0A0-5577-4396-BF56-2DDA8679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078B-7AAF-4030-BC6A-9B15598C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5E9-984D-4FE6-A058-9DB22345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EC3C-380D-477F-A40F-BA86B1C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C8C1-FBAE-4CD9-BF8E-76C00A05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7C72-7B46-4B66-95B2-5E6BC3D7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4244-748F-4C0A-81C7-84E45A0F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1FDC-05DB-4062-834B-D1375F67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759-C4A6-45FE-95CE-FDCE56CD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B5A-5EC3-48C6-A53C-05AD103A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873-912E-48E0-85C4-ECD02EA5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0CA-ACAF-4A89-B93B-34364FF0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0FF-C6E8-4DAF-98A1-C7251FA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F84-D443-4FC6-B7D5-982FC0F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197-6CB6-4E7E-8AC5-C77EB73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04B6-CB04-4C89-AC8C-96553C953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F46C-7EDE-4428-8605-7EF3104A4F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heme.orthodoxy.ru/pivo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8001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ивной алкоголизм          беда молод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800" y="5857920"/>
            <a:ext cx="33004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ачёва И.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886280" y="2624040"/>
            <a:ext cx="4257720" cy="4233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Вред пива и пивной алкоголизм"/>
          <p:cNvPicPr/>
          <p:nvPr/>
        </p:nvPicPr>
        <p:blipFill>
          <a:blip r:embed="rId2"/>
          <a:stretch/>
        </p:blipFill>
        <p:spPr>
          <a:xfrm>
            <a:off x="1571760" y="3857760"/>
            <a:ext cx="2280960" cy="1828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857160" y="2286000"/>
            <a:ext cx="4357800" cy="1143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3920" y="3071880"/>
            <a:ext cx="767556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вна женщин не берут на плантации для сборки "шишечек" хмеля, поскольку при такой работе у большинства женщин вскоре открывается кровотечение вне зависимости от внутреннего  месячного цик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928800" y="366120"/>
            <a:ext cx="795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рганизме здоровой женщины                          в сутки вырабатывается всего лишь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0.3-0.7мг эстроге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 соответствуе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л п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пьющих женщ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беет голос и характер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яется растительность на лице - «пивные усы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исходит разрастание тканей мат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является сексуальная озабоче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57160" y="1142640"/>
            <a:ext cx="7972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во содержит ряд токсических веществ, в том числе соли тяжелых металлов, вызывающих изменения в эндокринной сист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, в организме мужчин при систематическом употреблении пива выделяется вещество, подавляющее выработку мужского полового гормона тестостер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временно начинают вырабатываться женские половые гормоны, вызывающие изменения внешнего вида муж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9280" y="2857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Если человек начинает принимать несвойственный ему гормон, то его облик, голос, характер стремительно меняются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AURILXB"/>
          <p:cNvPicPr/>
          <p:nvPr/>
        </p:nvPicPr>
        <p:blipFill>
          <a:blip r:embed="rId1"/>
          <a:stretch/>
        </p:blipFill>
        <p:spPr>
          <a:xfrm>
            <a:off x="4883040" y="328680"/>
            <a:ext cx="2590920" cy="2189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A4XU7G9"/>
          <p:cNvPicPr/>
          <p:nvPr/>
        </p:nvPicPr>
        <p:blipFill>
          <a:blip r:embed="rId2"/>
          <a:stretch/>
        </p:blipFill>
        <p:spPr>
          <a:xfrm>
            <a:off x="1809720" y="115920"/>
            <a:ext cx="2092320" cy="241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214280" y="4643280"/>
            <a:ext cx="77155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Мужчина употребляя пиво,                     частично замещает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мужской гормон на женски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3786120" y="642960"/>
            <a:ext cx="535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гура меняется – расширяется таз, жир откладывается по женскому типу – на бед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71680" y="3500280"/>
            <a:ext cx="54291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стаются груд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ы, заплывшие жиром,                            они интересным образ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яют облик "мужчины".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CA6WPSJN"/>
          <p:cNvPicPr/>
          <p:nvPr/>
        </p:nvPicPr>
        <p:blipFill>
          <a:blip r:embed="rId1"/>
          <a:stretch/>
        </p:blipFill>
        <p:spPr>
          <a:xfrm>
            <a:off x="5715000" y="3011400"/>
            <a:ext cx="2862360" cy="31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5" descr="CAE7GHYJ"/>
          <p:cNvPicPr/>
          <p:nvPr/>
        </p:nvPicPr>
        <p:blipFill>
          <a:blip r:embed="rId2"/>
          <a:stretch/>
        </p:blipFill>
        <p:spPr>
          <a:xfrm>
            <a:off x="1071720" y="428760"/>
            <a:ext cx="27860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9"/>
          <p:cNvSpPr/>
          <p:nvPr/>
        </p:nvSpPr>
        <p:spPr>
          <a:xfrm>
            <a:off x="4429080" y="4643280"/>
            <a:ext cx="503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р ниже поя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епенно развивается импотен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000080" y="857160"/>
            <a:ext cx="460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цы живота слабею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является "пивной живот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7" descr="CA2V85AJ"/>
          <p:cNvPicPr/>
          <p:nvPr/>
        </p:nvPicPr>
        <p:blipFill>
          <a:blip r:embed="rId1"/>
          <a:stretch/>
        </p:blipFill>
        <p:spPr>
          <a:xfrm>
            <a:off x="785880" y="3286080"/>
            <a:ext cx="3757680" cy="258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pivo2"/>
          <p:cNvPicPr/>
          <p:nvPr/>
        </p:nvPicPr>
        <p:blipFill>
          <a:blip r:embed="rId2"/>
          <a:stretch/>
        </p:blipFill>
        <p:spPr>
          <a:xfrm>
            <a:off x="5786280" y="642960"/>
            <a:ext cx="26384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48355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им мамам следует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умать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Марианна\Desktop\Влияние на организм челоека\gaz.n.04.3.jpg"/>
          <p:cNvPicPr/>
          <p:nvPr/>
        </p:nvPicPr>
        <p:blipFill>
          <a:blip r:embed="rId1"/>
          <a:stretch/>
        </p:blipFill>
        <p:spPr>
          <a:xfrm>
            <a:off x="5580000" y="476280"/>
            <a:ext cx="3229200" cy="414324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  <p:pic>
        <p:nvPicPr>
          <p:cNvPr id="126" name="Picture 3" descr="C:\Users\Марианна\Desktop\Влияние на организм челоека\babybrain_ru.jpg"/>
          <p:cNvPicPr/>
          <p:nvPr/>
        </p:nvPicPr>
        <p:blipFill>
          <a:blip r:embed="rId2"/>
          <a:stretch/>
        </p:blipFill>
        <p:spPr>
          <a:xfrm>
            <a:off x="1258920" y="2565360"/>
            <a:ext cx="4643280" cy="3784680"/>
          </a:xfrm>
          <a:prstGeom prst="rect">
            <a:avLst/>
          </a:prstGeom>
          <a:ln w="1260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нерв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полезно для нервной системы т.к. успокаивает, снимает стресс, создает хорошее настро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я хмелю пиво содержит психоактивные вещества, которые создают особый, слегка отупляющий, опьяняющий эффект, отличный от эффекта других алкогольных напитков (в больших дозах эти вещества вызывают галлюцин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кологи утверждают, что алкоголь является самым агрессивным из наркотиков, а пивной алкоголизм характеризуется особой жесто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«Торнадо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F:\pic002.jpg"/>
          <p:cNvPicPr/>
          <p:nvPr/>
        </p:nvPicPr>
        <p:blipFill>
          <a:blip r:embed="rId1"/>
          <a:stretch/>
        </p:blipFill>
        <p:spPr>
          <a:xfrm>
            <a:off x="928800" y="2000160"/>
            <a:ext cx="3714480" cy="414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F:\picture.jpg"/>
          <p:cNvPicPr/>
          <p:nvPr/>
        </p:nvPicPr>
        <p:blipFill>
          <a:blip r:embed="rId2"/>
          <a:stretch/>
        </p:blipFill>
        <p:spPr>
          <a:xfrm>
            <a:off x="4929120" y="2500200"/>
            <a:ext cx="38703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является важным источником полезного кремния, а с ним у вас не будет атрофии мозга, нарушения речевых функций и дезори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п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полезно для почек и его хорошо употреблять как мочегонное средство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42960" y="1428840"/>
            <a:ext cx="8043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я мощным мочегонным эффектом, пиво беспощадно вымывает из организ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стройматериалы" - белки, а также жиры, углеводы и микроэлемен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иците кал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дят срывы сердечного ритма, возникает сухость кожи, боли в икрах, слабость в ног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ицит маг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я опасен тем, что меняется фон настроения, человек становится раздражительным, плаксивым, плохо сп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мыванием витамина 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иммунитет, развивается гипоксия мозга, страдает интеллект, чаще возникают простудные 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42960" y="114264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иво приносит пользу экономике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нято считать, что производство пива и торговля им приносит пользу бюджету государ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ходя из этого, потребитель пива - это истинный патриот России, помогающий отечественному производител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ав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21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в РФ существует 296 пивоваренных заводов. Абсолютное их число принадлежит иностранному капиталу.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евское" - Дания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Холстер" -   Герм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Миллер" -   Амер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тарый мельник" -  Тур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Толстяк" -   Бельг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очкарев" -  Исп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Золотая Бочка" -   Южная Афри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алтика"- Скандин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аким образом, иноземные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"благодетели"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овмещают приятное с полезным – набивают свои карманы и очищают нашу страну от "излишнего" насел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Миф 8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алкогольное пиво безвре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43040" y="17859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Эксперимен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еили этикетки обычного и безалкогольного пива, никто из тестируемых не определил вид п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3143160" y="3571920"/>
            <a:ext cx="36435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Arial"/>
              </a:rPr>
              <a:t>Закончи фраз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ум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дума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дел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сдела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686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о по материалам:                                   "Особенности пивного алкоголизма"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З.Коробкина  Доктор технических наук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me.orthodoxy.ru/pivo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Ирина\Рабочий стол\images.jpg"/>
          <p:cNvPicPr/>
          <p:nvPr/>
        </p:nvPicPr>
        <p:blipFill>
          <a:blip r:embed="rId2"/>
          <a:stretch/>
        </p:blipFill>
        <p:spPr>
          <a:xfrm>
            <a:off x="3429000" y="35002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Прав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320" y="1071720"/>
            <a:ext cx="835812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оголь разрушает клетки головного мозга, отмирая, они попадают в кровь, затем, отфильтровываясь почками, в мочевой пузырь и далее выходят с мочо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таким становится мозг алкоголика через 10 лет - кадр из фильма Давайте выпьем"/>
          <p:cNvPicPr/>
          <p:nvPr/>
        </p:nvPicPr>
        <p:blipFill>
          <a:blip r:embed="rId1"/>
          <a:stretch/>
        </p:blipFill>
        <p:spPr>
          <a:xfrm>
            <a:off x="2571840" y="3643200"/>
            <a:ext cx="4214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иво весьма полезно для сосудов и серд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490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57160" y="2571840"/>
            <a:ext cx="80726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ыщенность пива углекислым газом, приводит к тому, что попадая в организм, пиво быстро переполняет кровеносные сосуды. Это приводит к варикозному расширению вен и расширению границ сердца. Так возникает синдром "пивного сердца" или синдром "капронового чулка", когда сердце провисает, становится дряблым и плохо кача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нормальное и пивное сердце - кадр из фильма Давайте выпьем"/>
          <p:cNvPicPr/>
          <p:nvPr/>
        </p:nvPicPr>
        <p:blipFill>
          <a:blip r:embed="rId1"/>
          <a:stretch/>
        </p:blipFill>
        <p:spPr>
          <a:xfrm>
            <a:off x="4786200" y="214200"/>
            <a:ext cx="36435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риятный вкус и польза пива для пищев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рькие хмелевые добавки пива не только создают приятный вкус, но и полезны для пищеварения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a46"/>
                </a:solidFill>
                <a:latin typeface="Arial"/>
              </a:rPr>
              <a:t>Ре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28800" y="1285560"/>
            <a:ext cx="82152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 полезные и целебные свойства ни приписывались хмелю, его смолы, являясь канцерогенами, неминуемо делают свое пагубное де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о что потребление именно пива повышает риск развития р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щийся в пиве кобальт вызывает воспалительные процессы в пищеводе и желу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Миф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льза пива для детород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иво полезно для потенции и вообще помогает при общении     с другим полом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7120" y="1163160"/>
            <a:ext cx="60865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"шишечках" хмеля, используемых для придания пиву специфического горьковатого вкуса, содержится                                     8-пренилнарингенин  – вещество, относящиеся к класс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тоэстрогенов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("фито" – растение, "эстроген" – женский половой гормон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A4X2X7K"/>
          <p:cNvPicPr/>
          <p:nvPr/>
        </p:nvPicPr>
        <p:blipFill>
          <a:blip r:embed="rId1"/>
          <a:stretch/>
        </p:blipFill>
        <p:spPr>
          <a:xfrm>
            <a:off x="811080" y="189000"/>
            <a:ext cx="2279880" cy="2822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A4X2X7K"/>
          <p:cNvPicPr/>
          <p:nvPr/>
        </p:nvPicPr>
        <p:blipFill>
          <a:blip r:embed="rId2"/>
          <a:stretch/>
        </p:blipFill>
        <p:spPr>
          <a:xfrm>
            <a:off x="884160" y="3402000"/>
            <a:ext cx="22798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6:25:09Z</dcterms:created>
  <dc:creator>Паначёва И.Е.</dc:creator>
  <dc:description>Презентация к занятию элективного курса "Мой выбор-моё здоровье"</dc:description>
  <cp:keywords>Мифы и реальность </cp:keywords>
  <dc:language>en-US</dc:language>
  <cp:lastModifiedBy>Пользователь</cp:lastModifiedBy>
  <dcterms:modified xsi:type="dcterms:W3CDTF">2014-01-07T19:10:31Z</dcterms:modified>
  <cp:revision>80</cp:revision>
  <dc:subject/>
  <dc:title>Пивной алкоголизм беда молодых</dc:title>
</cp:coreProperties>
</file>