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8259-6E42-4C4D-A138-77275FB9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F76-4B27-4F89-B49E-7A70AF80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888-6B7A-4CC0-AD33-0B8B4064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844-08B9-4865-9A7F-225DBBCA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C401-00D3-4936-ABFF-DA58161E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0C46-70A8-440C-A9F2-150290ED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FBF8-866A-40E4-B8E8-82979527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596C-FEF2-4B46-8377-65827164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565E-D26F-403F-AD5F-AC5D048A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3B24-6361-41DA-AB3A-E80CD816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9E44-D41A-42A6-B0FD-12702CD6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A40-AF17-4F48-85EC-BE81A848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FD57-B9C9-4F5B-8BD1-D84368E4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1BB4-03A4-4895-893D-FDAAFD05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ACAD-FEC4-4713-A17A-1F9DFF4E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8E80-9BAB-4F73-AEE6-B98C38E8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B0EA-4C2C-4F8D-A1F1-0CA78C31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AE4-8593-4EF7-9EF7-FE8595BF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EFA-1608-4876-ABBE-EDD58921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5A9-8D1C-46A7-B794-26FBE230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1BF-62B0-4D72-99FE-2ED53909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1DD-04CC-4627-A261-BC3E0BDE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0A4-38DC-4D14-949E-F67AF985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9550-4D5F-43CB-8196-9B1460DB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9B2C-7FEA-4ED4-BB26-BA3489733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A06B-7955-4EE5-9E78-7EB9D3BE75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theme.orthodoxy.ru/pivo/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285840"/>
            <a:ext cx="8001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ивной алкоголизм          беда молод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28800" y="5857920"/>
            <a:ext cx="330048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начёва И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4886280" y="2624040"/>
            <a:ext cx="4257720" cy="42339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Вред пива и пивной алкоголизм"/>
          <p:cNvPicPr/>
          <p:nvPr/>
        </p:nvPicPr>
        <p:blipFill>
          <a:blip r:embed="rId2"/>
          <a:stretch/>
        </p:blipFill>
        <p:spPr>
          <a:xfrm>
            <a:off x="1571760" y="3857760"/>
            <a:ext cx="2280960" cy="18288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857160" y="2286000"/>
            <a:ext cx="435780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3920" y="3071880"/>
            <a:ext cx="767556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давна женщин не берут на плантации для сборки "шишечек" хмеля, поскольку при такой работе у большинства женщин вскоре открывается кровотечение вне зависимости от внутреннего  месячного цик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928800" y="366120"/>
            <a:ext cx="795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рганизме здоровой женщины                          в сутки вырабатывается всего лишь    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.3-0.7мг эстроге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 соответствует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л п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 пьющих женщ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убеет голос и характер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является растительность на лице - «пивные усы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исходит разрастание тканей мат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является сексуальная озабочен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a46"/>
                </a:solidFill>
                <a:latin typeface="Arial"/>
              </a:rPr>
              <a:t>Ре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57160" y="1142640"/>
            <a:ext cx="7972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во содержит ряд токсических веществ, в том числе соли тяжелых металлов, вызывающих изменения в эндокринной систе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, в организме мужчин при систематическом употреблении пива выделяется вещество, подавляющее выработку мужского полового гормона тестостер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временно начинают вырабатываться женские половые гормоны, вызывающие изменения внешнего вида мужч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9280" y="2857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Если человек начинает принимать несвойственный ему гормон, то его облик, голос, характер стремительно меняются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CAURILXB"/>
          <p:cNvPicPr/>
          <p:nvPr/>
        </p:nvPicPr>
        <p:blipFill>
          <a:blip r:embed="rId1"/>
          <a:stretch/>
        </p:blipFill>
        <p:spPr>
          <a:xfrm>
            <a:off x="4883040" y="328680"/>
            <a:ext cx="2590920" cy="2189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A4XU7G9"/>
          <p:cNvPicPr/>
          <p:nvPr/>
        </p:nvPicPr>
        <p:blipFill>
          <a:blip r:embed="rId2"/>
          <a:stretch/>
        </p:blipFill>
        <p:spPr>
          <a:xfrm>
            <a:off x="1809720" y="115920"/>
            <a:ext cx="2092320" cy="2414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1214280" y="4643280"/>
            <a:ext cx="77155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Мужчина употребляя пиво,                     частично замещает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мужской гормон на женски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3786120" y="642960"/>
            <a:ext cx="535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гура меняется – расширяется таз, жир откладывается по женскому типу – на бед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571680" y="3500280"/>
            <a:ext cx="54291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стаются груд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езы, заплывшие жиром,                            они интересным образо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олняют облик "мужчины".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CA6WPSJN"/>
          <p:cNvPicPr/>
          <p:nvPr/>
        </p:nvPicPr>
        <p:blipFill>
          <a:blip r:embed="rId1"/>
          <a:stretch/>
        </p:blipFill>
        <p:spPr>
          <a:xfrm>
            <a:off x="5715000" y="3011400"/>
            <a:ext cx="2862360" cy="31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5" descr="CAE7GHYJ"/>
          <p:cNvPicPr/>
          <p:nvPr/>
        </p:nvPicPr>
        <p:blipFill>
          <a:blip r:embed="rId2"/>
          <a:stretch/>
        </p:blipFill>
        <p:spPr>
          <a:xfrm>
            <a:off x="1071720" y="428760"/>
            <a:ext cx="27860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9"/>
          <p:cNvSpPr/>
          <p:nvPr/>
        </p:nvSpPr>
        <p:spPr>
          <a:xfrm>
            <a:off x="4429080" y="4643280"/>
            <a:ext cx="503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р ниже поя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епенно развивается импотен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1000080" y="857160"/>
            <a:ext cx="460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шцы живота слабею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является "пивной живот"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7" descr="CA2V85AJ"/>
          <p:cNvPicPr/>
          <p:nvPr/>
        </p:nvPicPr>
        <p:blipFill>
          <a:blip r:embed="rId1"/>
          <a:stretch/>
        </p:blipFill>
        <p:spPr>
          <a:xfrm>
            <a:off x="785880" y="3286080"/>
            <a:ext cx="3757680" cy="2584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ivo2"/>
          <p:cNvPicPr/>
          <p:nvPr/>
        </p:nvPicPr>
        <p:blipFill>
          <a:blip r:embed="rId2"/>
          <a:stretch/>
        </p:blipFill>
        <p:spPr>
          <a:xfrm>
            <a:off x="5786280" y="642960"/>
            <a:ext cx="26384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48355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им мамам следует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матьс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Users\Марианна\Desktop\Влияние на организм челоека\gaz.n.04.3.jpg"/>
          <p:cNvPicPr/>
          <p:nvPr/>
        </p:nvPicPr>
        <p:blipFill>
          <a:blip r:embed="rId1"/>
          <a:stretch/>
        </p:blipFill>
        <p:spPr>
          <a:xfrm>
            <a:off x="5580000" y="476280"/>
            <a:ext cx="3229200" cy="414324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126" name="Picture 3" descr="C:\Users\Марианна\Desktop\Влияние на организм челоека\babybrain_ru.jpg"/>
          <p:cNvPicPr/>
          <p:nvPr/>
        </p:nvPicPr>
        <p:blipFill>
          <a:blip r:embed="rId2"/>
          <a:stretch/>
        </p:blipFill>
        <p:spPr>
          <a:xfrm>
            <a:off x="1258920" y="2565360"/>
            <a:ext cx="4643280" cy="378468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ольза пива для нерв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иво полезно для нервной системы т.к. успокаивает, снимает стресс, создает хорошее настроение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я хмелю пиво содержит психоактивные вещества, которые создают особый, слегка отупляющий, опьяняющий эффект, отличный от эффекта других алкогольных напитков (в больших дозах эти вещества вызывают галлюцинац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кологи утверждают, что алкоголь является самым агрессивным из наркотиков, а пивной алкоголизм характеризуется особой жесток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«Торнадо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F:\pic002.jpg"/>
          <p:cNvPicPr/>
          <p:nvPr/>
        </p:nvPicPr>
        <p:blipFill>
          <a:blip r:embed="rId1"/>
          <a:stretch/>
        </p:blipFill>
        <p:spPr>
          <a:xfrm>
            <a:off x="928800" y="2000160"/>
            <a:ext cx="3714480" cy="414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F:\picture.jpg"/>
          <p:cNvPicPr/>
          <p:nvPr/>
        </p:nvPicPr>
        <p:blipFill>
          <a:blip r:embed="rId2"/>
          <a:stretch/>
        </p:blipFill>
        <p:spPr>
          <a:xfrm>
            <a:off x="4929120" y="2500200"/>
            <a:ext cx="387036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ольза пива для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иво является важным источником полезного кремния, а с ним у вас не будет атрофии мозга, нарушения речевых функций и дезори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ольза пива для п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иво полезно для почек и его хорошо употреблять как мочегонное средство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a46"/>
                </a:solidFill>
                <a:latin typeface="Arial"/>
              </a:rPr>
              <a:t>Ре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4296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я мощным мочегонным эффектом, пиво беспощадно вымывает из организ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стройматериалы" - белки, а также жиры, углеводы и микроэлемент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иците кал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сходят срывы сердечного ритма, возникает сухость кожи, боли в икрах, слабость в ног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ицит маг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я опасен тем, что меняется фон настроения, человек становится раздражительным, плаксивым, плохо сп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мыванием витамина 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ется иммунитет, развивается гипоксия мозга, страдает интеллект, чаще возникают простудные заболе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42960" y="114264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иво приносит пользу экономике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нято считать, что производство пива и торговля им приносит пользу бюджету государ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ходя из этого, потребитель пива - это истинный патриот России, помогающий отечественному производителю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400" y="121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тоящее время в РФ существует 296 пивоваренных заводов. Абсолютное их число принадлежит иностранному капиталу.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евское" - Дания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Холстер" -   Герм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Миллер" -   Амер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Старый мельник" -  Турц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олстяк" -   Бельг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Бочкарев" -  Исп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Золотая Бочка" -   Южная Африк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Балтика"- Скандина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аким образом, иноземные 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"благодетели"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овмещают приятное с полезным – набивают свои карманы и очищают нашу страну от "излишнего" населе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Миф 8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алкогольное пиво безвре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43040" y="178596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Эксперимен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еили этикетки обычного и безалкогольного пива, никто из тестируемых не определил вид п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3143160" y="3571920"/>
            <a:ext cx="36435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Arial"/>
              </a:rPr>
              <a:t>Закончи фраз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21472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дум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я дума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дел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я сдела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6868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лено по материалам:                                   "Особенности пивного алкоголизма"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З.Коробкина  Доктор технических наук, проф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: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heme.orthodoxy.ru/pivo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C:\Documents and Settings\Ирина\Рабочий стол\images.jpg"/>
          <p:cNvPicPr/>
          <p:nvPr/>
        </p:nvPicPr>
        <p:blipFill>
          <a:blip r:embed="rId2"/>
          <a:stretch/>
        </p:blipFill>
        <p:spPr>
          <a:xfrm>
            <a:off x="3429000" y="35002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Прав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1320" y="1071720"/>
            <a:ext cx="83581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коголь разрушает клетки головного мозга, отмирая, они попадают в кровь, затем, отфильтровываясь почками, в мочевой пузырь и далее выходят с мочой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таким становится мозг алкоголика через 10 лет - кадр из фильма Давайте выпьем"/>
          <p:cNvPicPr/>
          <p:nvPr/>
        </p:nvPicPr>
        <p:blipFill>
          <a:blip r:embed="rId1"/>
          <a:stretch/>
        </p:blipFill>
        <p:spPr>
          <a:xfrm>
            <a:off x="2571840" y="3643200"/>
            <a:ext cx="4214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ольза пива для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иво весьма полезно для сосудов и серд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490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a46"/>
                </a:solidFill>
                <a:latin typeface="Arial"/>
              </a:rPr>
              <a:t>Реаль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57160" y="2571840"/>
            <a:ext cx="80726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ыщенность пива углекислым газом, приводит к тому, что попадая в организм, пиво быстро переполняет кровеносные сосуды. Это приводит к варикозному расширению вен и расширению границ сердца. Так возникает синдром "пивного сердца" или синдром "капронового чулка", когда сердце провисает, становится дряблым и плохо качает 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4" descr="нормальное и пивное сердце - кадр из фильма Давайте выпьем"/>
          <p:cNvPicPr/>
          <p:nvPr/>
        </p:nvPicPr>
        <p:blipFill>
          <a:blip r:embed="rId1"/>
          <a:stretch/>
        </p:blipFill>
        <p:spPr>
          <a:xfrm>
            <a:off x="4786200" y="214200"/>
            <a:ext cx="36435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риятный вкус и польза пива для пищева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орькие хмелевые добавки пива не только создают приятный вкус, но и полезны для пищеварения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a46"/>
                </a:solidFill>
                <a:latin typeface="Arial"/>
              </a:rPr>
              <a:t>Ре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28800" y="1285560"/>
            <a:ext cx="82152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бы полезные и целебные свойства ни приписывались хмелю, его смолы, являясь канцерогенами, неминуемо делают свое пагубное де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оверно что потребление именно пива повышает риск развития р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щийся в пиве кобальт вызывает воспалительные процессы в пищеводе и желу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ольза пива для детородной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иво полезно для потенции и вообще помогает при общении     с другим полом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7120" y="1163160"/>
            <a:ext cx="608652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"шишечках" хмеля, используемых для придания пиву специфического горьковатого вкуса, содержится                                     8-пренилнарингенин  – вещество, относящиеся к класс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тоэстрогенов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("фито" – растение, "эстроген" – женский половой гормон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A4X2X7K"/>
          <p:cNvPicPr/>
          <p:nvPr/>
        </p:nvPicPr>
        <p:blipFill>
          <a:blip r:embed="rId1"/>
          <a:stretch/>
        </p:blipFill>
        <p:spPr>
          <a:xfrm>
            <a:off x="811080" y="189000"/>
            <a:ext cx="2279880" cy="2822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A4X2X7K"/>
          <p:cNvPicPr/>
          <p:nvPr/>
        </p:nvPicPr>
        <p:blipFill>
          <a:blip r:embed="rId2"/>
          <a:stretch/>
        </p:blipFill>
        <p:spPr>
          <a:xfrm>
            <a:off x="884160" y="3402000"/>
            <a:ext cx="227988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6:25:09Z</dcterms:created>
  <dc:creator>Паначёва И.Е.</dc:creator>
  <dc:description>Презентация к занятию элективного курса "Мой выбор-моё здоровье"</dc:description>
  <cp:keywords>Мифы и реальность </cp:keywords>
  <dc:language>en-US</dc:language>
  <cp:lastModifiedBy>Пользователь</cp:lastModifiedBy>
  <dcterms:modified xsi:type="dcterms:W3CDTF">2014-01-07T19:10:31Z</dcterms:modified>
  <cp:revision>80</cp:revision>
  <dc:subject/>
  <dc:title>Пивной алкоголизм беда молодых</dc:title>
</cp:coreProperties>
</file>