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B06-0788-40F1-9357-A0319778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E2D-51AA-4A7D-94DE-7BC293F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D29-CACB-4B8B-9DB5-6F0D209E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BA08-4297-4854-9A69-C121B38B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CCD4-8273-480F-8256-962E1C55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5F2-A3C4-4753-88EB-37699696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CDE-3D24-4236-A0F4-90762BA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A89F-E829-448F-B8A1-149AD3B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F6E9-20C3-4626-9B78-359949F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80D3-3817-41C4-903E-94AAF765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9AF1-6A7E-414E-B679-4B46C6E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D08-EBAD-4263-AA69-8F1AFEB9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534A-55B7-4A37-9E6C-DD959F34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28C-EE69-4C33-91AB-72EDF1E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3BB-4D2C-4B8A-A5E9-2DC64BC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2699-60C0-40C1-9796-3543E78B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B1C9-FA05-4EC7-A0C8-57A9B06F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C14-4C26-42F3-9C33-2C670DF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D00-FC9E-44AD-8979-7E2043D0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C9F-A192-44E6-8C6D-F2AF0224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3B2-19FF-43A7-9753-D972A54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E5D-F3A8-4715-8062-78586F9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504-F939-4C82-985B-036BB71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F1C-C933-4248-AC20-4A2CD81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BC0B-C6EF-428E-A561-87D7A2352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7C6-598C-4BC8-8F8A-6479D534E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heme.orthodoxy.ru/pivo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вной алкоголизм          беда молод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800" y="5857920"/>
            <a:ext cx="33004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ачёва И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886280" y="2624040"/>
            <a:ext cx="4257720" cy="4233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Вред пива и пивной алкоголизм"/>
          <p:cNvPicPr/>
          <p:nvPr/>
        </p:nvPicPr>
        <p:blipFill>
          <a:blip r:embed="rId2"/>
          <a:stretch/>
        </p:blipFill>
        <p:spPr>
          <a:xfrm>
            <a:off x="1571760" y="3857760"/>
            <a:ext cx="2280960" cy="182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857160" y="2286000"/>
            <a:ext cx="43578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3071880"/>
            <a:ext cx="767556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вна женщин не берут на плантации для сборки "шишечек" хмеля, поскольку при такой работе у большинства женщин вскоре открывается кровотечение вне зависимости от внутреннего  месячного цик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28800" y="366120"/>
            <a:ext cx="79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рганизме здоровой женщины                          в сутки вырабатывается всего лишь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.3-0.7мг эстроге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 соответству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л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пьющих женщ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беет голос и характе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растительность на лице - «пивные усы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ит разрастание тканей мат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сексуальная озабоч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7160" y="1142640"/>
            <a:ext cx="7972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 содержит ряд токсических веществ, в том числе соли тяжелых металлов, вызывающих изменения в эндокринной сис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в организме мужчин при систематическом употреблении пива выделяется вещество, подавляющее выработку мужского полового гормона тестостер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 начинают вырабатываться женские половые гормоны, вызывающие изменения внешнего вида муж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9280" y="2857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Если человек начинает принимать несвойственный ему гормон, то его облик, голос, характер стремительно меняются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AURILXB"/>
          <p:cNvPicPr/>
          <p:nvPr/>
        </p:nvPicPr>
        <p:blipFill>
          <a:blip r:embed="rId1"/>
          <a:stretch/>
        </p:blipFill>
        <p:spPr>
          <a:xfrm>
            <a:off x="4883040" y="328680"/>
            <a:ext cx="25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A4XU7G9"/>
          <p:cNvPicPr/>
          <p:nvPr/>
        </p:nvPicPr>
        <p:blipFill>
          <a:blip r:embed="rId2"/>
          <a:stretch/>
        </p:blipFill>
        <p:spPr>
          <a:xfrm>
            <a:off x="1809720" y="115920"/>
            <a:ext cx="2092320" cy="241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214280" y="4643280"/>
            <a:ext cx="77155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Мужчина употребляя пиво,                     частично замещает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мужской гормон на женски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786120" y="64296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гура меняется – расширяется таз, жир откладывается по женскому типу – на бед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71680" y="3500280"/>
            <a:ext cx="54291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стаются груд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ы, заплывшие жиром,                            они интересным образ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яют облик "мужчины"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CA6WPSJN"/>
          <p:cNvPicPr/>
          <p:nvPr/>
        </p:nvPicPr>
        <p:blipFill>
          <a:blip r:embed="rId1"/>
          <a:stretch/>
        </p:blipFill>
        <p:spPr>
          <a:xfrm>
            <a:off x="5715000" y="3011400"/>
            <a:ext cx="2862360" cy="31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5" descr="CAE7GHYJ"/>
          <p:cNvPicPr/>
          <p:nvPr/>
        </p:nvPicPr>
        <p:blipFill>
          <a:blip r:embed="rId2"/>
          <a:stretch/>
        </p:blipFill>
        <p:spPr>
          <a:xfrm>
            <a:off x="1071720" y="428760"/>
            <a:ext cx="2786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4429080" y="4643280"/>
            <a:ext cx="50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 ниже поя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епенно развивается импотен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000080" y="857160"/>
            <a:ext cx="460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цы живота слабею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является "пивной живот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CA2V85AJ"/>
          <p:cNvPicPr/>
          <p:nvPr/>
        </p:nvPicPr>
        <p:blipFill>
          <a:blip r:embed="rId1"/>
          <a:stretch/>
        </p:blipFill>
        <p:spPr>
          <a:xfrm>
            <a:off x="785880" y="3286080"/>
            <a:ext cx="3757680" cy="258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ivo2"/>
          <p:cNvPicPr/>
          <p:nvPr/>
        </p:nvPicPr>
        <p:blipFill>
          <a:blip r:embed="rId2"/>
          <a:stretch/>
        </p:blipFill>
        <p:spPr>
          <a:xfrm>
            <a:off x="5786280" y="642960"/>
            <a:ext cx="26384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835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м мамам следует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ть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Марианна\Desktop\Влияние на организм челоека\gaz.n.04.3.jpg"/>
          <p:cNvPicPr/>
          <p:nvPr/>
        </p:nvPicPr>
        <p:blipFill>
          <a:blip r:embed="rId1"/>
          <a:stretch/>
        </p:blipFill>
        <p:spPr>
          <a:xfrm>
            <a:off x="5580000" y="476280"/>
            <a:ext cx="3229200" cy="41432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26" name="Picture 3" descr="C:\Users\Марианна\Desktop\Влияние на организм челоека\babybrain_ru.jpg"/>
          <p:cNvPicPr/>
          <p:nvPr/>
        </p:nvPicPr>
        <p:blipFill>
          <a:blip r:embed="rId2"/>
          <a:stretch/>
        </p:blipFill>
        <p:spPr>
          <a:xfrm>
            <a:off x="1258920" y="2565360"/>
            <a:ext cx="4643280" cy="37846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нервной системы т.к. успокаивает, снимает стресс, создает хорошее настро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хмелю пиво содержит психоактивные вещества, которые создают особый, слегка отупляющий, опьяняющий эффект, отличный от эффекта других алкогольных напитков (в больших дозах эти вещества вызывают галлюцин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кологи утверждают, что алкоголь является самым агрессивным из наркотиков, а пивной алкоголизм характеризуется особой жесто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Торнад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F:\pic002.jpg"/>
          <p:cNvPicPr/>
          <p:nvPr/>
        </p:nvPicPr>
        <p:blipFill>
          <a:blip r:embed="rId1"/>
          <a:stretch/>
        </p:blipFill>
        <p:spPr>
          <a:xfrm>
            <a:off x="928800" y="2000160"/>
            <a:ext cx="3714480" cy="414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picture.jpg"/>
          <p:cNvPicPr/>
          <p:nvPr/>
        </p:nvPicPr>
        <p:blipFill>
          <a:blip r:embed="rId2"/>
          <a:stretch/>
        </p:blipFill>
        <p:spPr>
          <a:xfrm>
            <a:off x="4929120" y="2500200"/>
            <a:ext cx="387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является важным источником полезного кремния, а с ним у вас не будет атрофии мозга, нарушения речевых функций и дезори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чек и его хорошо употреблять как мочегонное сред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я мощным мочегонным эффектом, пиво беспощадно вымывает из организ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тройматериалы" - белки, а также жиры, углеводы и микроэлемен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е кал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ят срывы сердечного ритма, возникает сухость кожи, боли в икрах, слабость в ног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 маг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я опасен тем, что меняется фон настроения, человек становится раздражительным, плаксивым, плохо с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мыванием витамина 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иммунитет, развивается гипоксия мозга, страдает интеллект, чаще возникают простудны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2960" y="11426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иво приносит пользу экономике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нято считать, что производство пива и торговля им приносит пользу бюджету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ходя из этого, потребитель пива - это истинный патриот России, помогающий отечественному производител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в РФ существует 296 пивоваренных заводов. Абсолютное их число принадлежит иностранному капиталу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евское" - Дани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Холстер" -   Гер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Миллер" -   Амер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арый мельник" -  Тур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олстяк" -   Бельг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очкарев" -  Исп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Золотая Бочка" -   Южная Афри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алтика"- Скандин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аким образом, иноземные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"благодетели"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вмещают приятное с полезным – набивают свои карманы и очищают нашу страну от "излишнего" насел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Миф 8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алкогольное пиво безвр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3040" y="17859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сперимен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еили этикетки обычного и безалкогольного пива, никто из тестируемых не определил вид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3143160" y="3571920"/>
            <a:ext cx="36435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Закончи фраз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ум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дум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ел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сдел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686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о по материалам:                                   "Особенности пивного алкоголизма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З.Коробкина  Доктор технических наук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me.orthodoxy.ru/piv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Ирина\Рабочий стол\images.jpg"/>
          <p:cNvPicPr/>
          <p:nvPr/>
        </p:nvPicPr>
        <p:blipFill>
          <a:blip r:embed="rId2"/>
          <a:stretch/>
        </p:blipFill>
        <p:spPr>
          <a:xfrm>
            <a:off x="342900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071720"/>
            <a:ext cx="83581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ь разрушает клетки головного мозга, отмирая, они попадают в кровь, затем, отфильтровываясь почками, в мочевой пузырь и далее выходят с мочо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таким становится мозг алкоголика через 10 лет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2571840" y="3643200"/>
            <a:ext cx="4214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во весьма полезно для сосудов и серд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490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57160" y="2571840"/>
            <a:ext cx="8072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ыщенность пива углекислым газом, приводит к тому, что попадая в организм, пиво быстро переполняет кровеносные сосуды. Это приводит к варикозному расширению вен и расширению границ сердца. Так возникает синдром "пивного сердца" или синдром "капронового чулка", когда сердце провисает, становится дряблым и плохо кача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нормальное и пивное сердце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4786200" y="214200"/>
            <a:ext cx="3643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риятный вкус и польза пива для пищев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ькие хмелевые добавки пива не только создают приятный вкус, но и полезны для пищеварен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28800" y="1285560"/>
            <a:ext cx="8215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полезные и целебные свойства ни приписывались хмелю, его смолы, являясь канцерогенами, неминуемо делают свое пагубное д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 что потребление именно пива повышает риск развития 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йся в пиве кобальт вызывает воспалительные процессы в пищеводе и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детород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тенции и вообще помогает при общении     с другим пол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7120" y="1163160"/>
            <a:ext cx="60865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"шишечках" хмеля, используемых для придания пиву специфического горьковатого вкуса, содержится                                     8-пренилнарингенин  – вещество, относящиеся к клас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тоэстрогенов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("фито" – растение, "эстроген" – женский половой гормон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A4X2X7K"/>
          <p:cNvPicPr/>
          <p:nvPr/>
        </p:nvPicPr>
        <p:blipFill>
          <a:blip r:embed="rId1"/>
          <a:stretch/>
        </p:blipFill>
        <p:spPr>
          <a:xfrm>
            <a:off x="811080" y="189000"/>
            <a:ext cx="2279880" cy="282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A4X2X7K"/>
          <p:cNvPicPr/>
          <p:nvPr/>
        </p:nvPicPr>
        <p:blipFill>
          <a:blip r:embed="rId2"/>
          <a:stretch/>
        </p:blipFill>
        <p:spPr>
          <a:xfrm>
            <a:off x="884160" y="3402000"/>
            <a:ext cx="2279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6:25:09Z</dcterms:created>
  <dc:creator>Паначёва И.Е.</dc:creator>
  <dc:description>Презентация к занятию элективного курса "Мой выбор-моё здоровье"</dc:description>
  <cp:keywords>Мифы и реальность </cp:keywords>
  <dc:language>en-US</dc:language>
  <cp:lastModifiedBy>Пользователь</cp:lastModifiedBy>
  <dcterms:modified xsi:type="dcterms:W3CDTF">2014-01-07T19:10:31Z</dcterms:modified>
  <cp:revision>80</cp:revision>
  <dc:subject/>
  <dc:title>Пивной алкоголизм беда молодых</dc:title>
</cp:coreProperties>
</file>