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CFD-C979-4CBA-A7CD-DBEA12D3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0E4-16C6-4329-BFAF-1E00EA66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643-E79A-4E61-9773-CDDCF63C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ABE-CB41-41CD-8044-F6C747A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772-DF40-4B9C-AD78-35FDCE3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A17-F226-4F05-B1AB-7874A2CB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460-B914-4F98-8ABE-136EE4BE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95A-F69E-4B15-891F-6B9BC99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FC6-E29C-4093-906E-6784142A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66E-05AD-4490-8459-AF5F9093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10F-9A45-4113-8A4B-D97CB5F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464-324F-4051-8A88-9E1212D7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41B-5802-43C2-9B76-88D0A6A9C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менение правового регулирования в сфере образован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5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34 детально прописаны права и гарантии для обучающихся, указаны меры их социальной поддержки и стимул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и и обязанностя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43 детально прописаны ответственность и обязанност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детально регламентирующие получение образования лицами особых катег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77 регламентирует получение образования лицами, проявившими выдающиеся способности, ст. 79 –получение образования обучающимися с ограниченными возможностям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оказание психолого-педагогической , медицинской и социальной помощи обучающимся , испытывающим трудности в освоении основных общеобразовате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2 посвящена вопросам оказания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052640"/>
          <a:ext cx="8229600" cy="54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креплено право родителей                        ( законных представителей) обучающихся получать информацию о всех видах планируемых обследовани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п.6 ч.3 ст. 44 родители обучающихся имеют право получать информацию о всех видах планируемых обследований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психологических, психолого-педагогических), давать согласие на проведение таких обследований или участие в таких обследованиях, отказаться от их проведения или участия в них, получать информацию о результа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атривается создание комиссии по урегулированию споров между участниками образовате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5 установлен порядок создания комиссии по урегулированию споров между участниками образовательных отношений по вопросам реализации права на образование в т.ч. в случаях возникновения конфликта интересов пед .работника, применения локальных нормативных актов, обжалования решений о применении к обучающемуся дисциплинарного взыск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765000"/>
          <a:ext cx="8229600" cy="586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аскрывающие академические права , свободы, ответственность и обязанности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ст.47 подробно прописаны академические права и свободы педагогических работников, в ст.48 –их ответственность и 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е нет положения , устанавливающего обязанность педагогических работников соблюдать этически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8,п.2,ч.1-педагогические работники обязаны соблюдать правовые, нравственные и этические нормы, следовать требованиям профессиональн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он не устанавливал гарантии уровня заработной платы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 включена фактическая гарантия уровня заработной платы педагогических работников- в привязке к средней зарплате по экономике субъекта РФ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егулирующие рабочее время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7 ч.5- педагогические работники имеют право на сокращенную продолжительность рабочего времени, а согласно ч.6 той же статьи в рабочее время в зависимости от занимаемой должности включается учебная(преподавательская), воспитательная  работа, индивидуальная работа с обучающимися, научная, творческая и исследовательская, а также другая пед. работа, предусмотренная трудовыми обязан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дополнительного и 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125360"/>
          <a:ext cx="8229600" cy="511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 и органов госуд. власти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 на обучение по образовательным программам среднего проф. образования за счет бюджетных ассигнований федерального бюджета не является общедоступ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68 ч.4 прием на обучение по образовательным программам среднего проф. образования за счет бюджетных ассигнований федерального бюджета, бюджетов субъектов РФ и местных бюджетов  является общедоступным. Вступительные испытания могут проводиться при приеме на обучение по профессиям и специальностям , требующим у поступающих наличия определенных творческих способностей, физических или психолог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смотрена аккредитация программ дополнительного проф.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отрена аккреди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и вступления нового закона в сил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норм Федерального закона «Об образовании в Российской Федерации» вступает в силу с 1 сентября 2013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я , регулирующие изменения финансирования – с 1 января 2014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именование( организация дополнительного образования) и изменение уставов –не позднее 1 января 2016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задачи нового закона об образован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Федеральный закон от 29.12.2012 № 273-ФЗ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равовых условий для обновления и развития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образовательных возможностей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модернизация законодательства об образова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табильности и преемственности в развитии системы образования и ее законодательных ос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собенности нового закона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ирует не только управленческие и финансово-экономические отношения в сфере образования , но и содержание образования( устанавливает требования к образовательным программам и стандарта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робно регламентирует права и ответственность участников образовательного процес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ошкольных образовательных организациях нет гарантии ограничения размера родительской пла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осит изменения в юридическую терминологию российского права  ( дает четкие определения понятиям: «образование», «воспитание», «обучение», «уровень образования»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няет термин «образовательное учреждение» на термин «образовательная организац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в РФ подразделя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ec2e4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образование включает в себ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249640" y="4059360"/>
            <a:ext cx="217008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450720" y="4925880"/>
            <a:ext cx="2121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4340160" y="3627360"/>
            <a:ext cx="212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6424560" y="3121200"/>
            <a:ext cx="2129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профессиональног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е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 бакалаври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- специалитет, магист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подготовка кадров высшей квалификации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ируется в течение всей жизни 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предполагает, что взрослые могут обучаться не только в рамках повышения своей квалификации, но и в рамках образовательных программ, интересных с точки зрения личностного роста и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тличия старого и нового закона об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84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Федеральный закон от 29.12.2012  №273-ФЗ «Об образовании в Российской Федер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нновационную и эксперименталь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0 посвящена вопросам инновационной и экспериментальной деятельности. Экспериментальная деятельность направлена на разработку , апробацию и внедрение новых образовательных технологий , образовательных ресурсов и осуществляется в форм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23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овательно проводится принцип светскости в образов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87 посвящена особенностям изучения основ духовно-нравственной культуры народов РФ и получения теологического  и религиозного образования.  Примерные основные образовательные программы 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данной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765000"/>
          <a:ext cx="8229600" cy="581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16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ламентирующие разработку и утверждение примерных образовательных програ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ст.12 примерные основные образовательные программы разрабатываются с учетом их уровня и направленности  на основе федеральных государственных образовательных станд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спользование сетевой формы реализации образовательных программ, технологий электр. обучения и дистанционных образователь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 15 посвящена использованию сетевой формы реализации образ. программ, ст.16 – программам с применением электронного обучения и дистанцион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6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проведение независимой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регламентирует функционирование независимых институтов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детально регламентирующие возникновение , изменение и прекращение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.6 регламентирует возникновение , изменение и прекращение образовательных отношений.В ст.54 установлены требования к договору об образовании, введен запрет на увеличение стоимости платных образовательных услуг после заключения такого договора, за исключением увеличения стоимости указанных услуг с учетом уровня инф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разователь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90792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закона о локальных актах образовательного учреждения не имеют регулятивного 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ст.30 устанавливают требования к содержанию и принятия локальных актов образовательной организации. При принятии локальных  нормативных актов, затрагивающих права обучающихся и работников образов. организации , должно учитываться мнение советов обучающихся , советов родителей, представительных органов обучающихся , в случаях которые предусмотрены трудовым законодательством, представительных органов работников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оне содержатся отдельные положения об органах самоуправления образовательного учре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6 подробно регламентирует создание в образовательной организации органов управления : единоличных(руководитель) и коллегиальных. Структура , порядок формирования, срок полномочий и компетенция таких органов устанавливаются уставом образовательной орган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23:41Z</dcterms:created>
  <dc:creator>Алена</dc:creator>
  <dc:description/>
  <dc:language>en-US</dc:language>
  <cp:lastModifiedBy>Алена</cp:lastModifiedBy>
  <cp:lastPrinted>2013-09-11T16:21:16Z</cp:lastPrinted>
  <dcterms:modified xsi:type="dcterms:W3CDTF">2014-01-05T14:54:40Z</dcterms:modified>
  <cp:revision>33</cp:revision>
  <dc:subject/>
  <dc:title>Педагогический совет 12 сентября 2013год</dc:title>
</cp:coreProperties>
</file>