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C1F-6270-44C8-8090-86CF771D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7D6C-2121-4E02-91A4-C5317D24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D5F-1B43-4045-8322-A792ED8D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AF78-99C6-4365-9FA4-ED3B895A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F7D-D936-442B-9509-7DC7B2D8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BA4-3BA3-4871-AD2E-D1EC887F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A2B-725C-451D-BE02-C95F571C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76A-A340-4437-AC29-62A85B5B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657-45A7-4CEC-A9EA-67ACC0C3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481-1EE4-4BCA-807B-686AF5C3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F0A-6B84-441C-B89B-290747F1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E70-D973-47FF-9015-B430801C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C01B-3F84-4EBE-A166-F89AC1FF33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63128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зменение правового регулирования в сфере образовани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ой статус обучающихся  и их родителей  ( законных представителе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151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ам обучающихся посвящены отдельные положения зак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т.34 детально прописаны права и гарантии для обучающихся, указаны меры их социальной поддержки и стимул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ственности и обязанностям обучающихся посвящены отдельные положения зак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т.43 детально прописаны ответственность и обязанности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, детально регламентирующие получение образования лицами особых катего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77 регламентирует получение образования лицами, проявившими выдающиеся способности, ст. 79 –получение образования обучающимися с ограниченными возможностями здоров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, регулирующие оказание психолого-педагогической , медицинской и социальной помощи обучающимся , испытывающим трудности в освоении основных общеобразовательных програ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42 посвящена вопросам оказания психолого-педагогической, медицинской и социальной помощи обучающимся, испытывающим трудности в освоении основных общеобразовательных программ, развитии и социальной адап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ой статус обучающихся  и их родителей  ( законных представителе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052640"/>
          <a:ext cx="8229600" cy="5456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25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закреплено право родителей                        ( законных представителей) обучающихся получать информацию о всех видах планируемых обследований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но п.6 ч.3 ст. 44 родители обучающихся имеют право получать информацию о всех видах планируемых обследований обучаю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психологических, психолого-педагогических), давать согласие на проведение таких обследований или участие в таких обследованиях, отказаться от их проведения или участия в них, получать информацию о результа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едусматривается создание комиссии по урегулированию споров между участниками образовательных отно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45 установлен порядок создания комиссии по урегулированию споров между участниками образовательных отношений по вопросам реализации права на образование в т.ч. в случаях возникновения конфликта интересов пед .работника, применения локальных нормативных актов, обжалования решений о применении к обучающемуся дисциплинарного взыск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ой статус педагогических работ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9640" y="765000"/>
          <a:ext cx="8229600" cy="5864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сутствуют положения , раскрывающие академические права , свободы, ответственность и обязанности педагогически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ст.47 подробно прописаны академические права и свободы педагогических работников, в ст.48 –их ответственность и обяза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законе нет положения , устанавливающего обязанность педагогических работников соблюдать этические н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.48,п.2,ч.1-педагогические работники обязаны соблюдать правовые, нравственные и этические нормы, следовать требованиям профессиональной э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кон не устанавливал гарантии уровня заработной платы педагогически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закон включена фактическая гарантия уровня заработной платы педагогических работников- в привязке к средней зарплате по экономике субъекта РФ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4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сутствуют положения , регулирующие рабочее время педагогически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.47 ч.5- педагогические работники имеют право на сокращенную продолжительность рабочего времени, а согласно ч.6 той же статьи в рабочее время в зависимости от занимаемой должности включается учебная(преподавательская), воспитательная  работа, индивидуальная работа с обучающимися, научная, творческая и исследовательская, а также другая пед. работа, предусмотренная трудовыми обязанн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енности дополнительного и профессионально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125360"/>
          <a:ext cx="8229600" cy="5116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я дополнительного образования детей относится к полномочиям органов местного самоуправления муниципальных районов и городских окру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я дополнительного образования детей относится к полномочиям органов местного самоуправления муниципальных районов и городских округов и органов госуд. власти субъектов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ем на обучение по образовательным программам среднего проф. образования за счет бюджетных ассигнований федерального бюджета не является общедоступ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68 ч.4 прием на обучение по образовательным программам среднего проф. образования за счет бюджетных ассигнований федерального бюджета, бюджетов субъектов РФ и местных бюджетов  является общедоступным. Вступительные испытания могут проводиться при приеме на обучение по профессиям и специальностям , требующим у поступающих наличия определенных творческих способностей, физических или психологических каче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усмотрена аккредитация программ дополнительного проф.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едусмотрена аккреди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оки вступления нового закона в сил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ая часть норм Федерального закона «Об образовании в Российской Федерации» вступает в силу с 1 сентября 2013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я , регулирующие изменения финансирования – с 1 января 2014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именование( организация дополнительного образования) и изменение уставов –не позднее 1 января 2016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е задачи нового закона об образован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Федеральный закон от 29.12.2012 № 273-ФЗ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Об образовании в Российской Федерации»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правовых условий для обновления и развития системы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ширение образовательных возможностей гражд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ая модернизация законодательства об образован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стабильности и преемственности в развитии системы образования и ее законодательных ос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особенности нового закона об образов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гулирует не только управленческие и финансово-экономические отношения в сфере образования , но и содержание образования( устанавливает требования к образовательным программам и стандартам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робно регламентирует права и ответственность участников образовательного процесс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дошкольных образовательных организациях нет гарантии ограничения размера родительской пла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осит изменения в юридическую терминологию российского права  ( дает четкие определения понятиям: «образование», «воспитание», «обучение», «уровень образования»и т.д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няет термин «образовательное учреждение» на термин «образовательная организаци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разование в РФ подразделяе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dec2e4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фессиональное 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полнительное образо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фессиональное обу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щее образование включает в себ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2249640" y="4059360"/>
            <a:ext cx="2170080" cy="1189080"/>
          </a:xfrm>
          <a:prstGeom prst="rect">
            <a:avLst/>
          </a:prstGeom>
          <a:ln w="0">
            <a:noFill/>
          </a:ln>
        </p:spPr>
      </p:pic>
      <p:pic>
        <p:nvPicPr>
          <p:cNvPr id="50" name="Скругленный прямоугольник 4" descr=""/>
          <p:cNvPicPr/>
          <p:nvPr/>
        </p:nvPicPr>
        <p:blipFill>
          <a:blip r:embed="rId2"/>
          <a:stretch/>
        </p:blipFill>
        <p:spPr>
          <a:xfrm>
            <a:off x="450720" y="4925880"/>
            <a:ext cx="2121120" cy="1193760"/>
          </a:xfrm>
          <a:prstGeom prst="rect">
            <a:avLst/>
          </a:prstGeom>
          <a:ln w="0">
            <a:noFill/>
          </a:ln>
        </p:spPr>
      </p:pic>
      <p:pic>
        <p:nvPicPr>
          <p:cNvPr id="51" name="Скругленный прямоугольник 5" descr=""/>
          <p:cNvPicPr/>
          <p:nvPr/>
        </p:nvPicPr>
        <p:blipFill>
          <a:blip r:embed="rId3"/>
          <a:stretch/>
        </p:blipFill>
        <p:spPr>
          <a:xfrm>
            <a:off x="4340160" y="3627360"/>
            <a:ext cx="2121120" cy="1189080"/>
          </a:xfrm>
          <a:prstGeom prst="rect">
            <a:avLst/>
          </a:prstGeom>
          <a:ln w="0">
            <a:noFill/>
          </a:ln>
        </p:spPr>
      </p:pic>
      <p:pic>
        <p:nvPicPr>
          <p:cNvPr id="52" name="Скругленный прямоугольник 8" descr=""/>
          <p:cNvPicPr/>
          <p:nvPr/>
        </p:nvPicPr>
        <p:blipFill>
          <a:blip r:embed="rId4"/>
          <a:stretch/>
        </p:blipFill>
        <p:spPr>
          <a:xfrm>
            <a:off x="6424560" y="3121200"/>
            <a:ext cx="212904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стема профессионального образ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нее профессиональное образ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шее образование – бакалаври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шее образование- специалитет, магист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шее образование –подготовка кадров высшей квалификации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полнительное образов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гулируется в течение всей жизни и включает в себ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ое образование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ое образование взросл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ое профессиональное образ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он предполагает, что взрослые могут обучаться не только в рамках повышения своей квалификации, но и в рамках образовательных программ, интересных с точки зрения личностного роста и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отличия старого и нового закона об образован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840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c2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Федеральный закон от 29.12.2012  №273-ФЗ «Об образовании в Российской Федерац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c2e4"/>
                    </a:solidFill>
                  </a:tcPr>
                </a:tc>
              </a:tr>
              <a:tr h="1584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регулирующие инновационную и экспериментальную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20 посвящена вопросам инновационной и экспериментальной деятельности. Экспериментальная деятельность направлена на разработку , апробацию и внедрение новых образовательных технологий , образовательных ресурсов и осуществляется в форме эксперимен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234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довательно проводится принцип светскости в образова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87 посвящена особенностям изучения основ духовно-нравственной культуры народов РФ и получения теологического  и религиозного образования.  Примерные основные образовательные программы проходят экспертизу в централизованной религиозной организации на предмет соответствия их содержания вероучению, историческим и культурным традициям данной орган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a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образовательного проце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765000"/>
          <a:ext cx="8229600" cy="5815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c2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c2e4"/>
                    </a:solidFill>
                  </a:tcPr>
                </a:tc>
              </a:tr>
              <a:tr h="116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регламентирующие разработку и утверждение примерных образовательных програм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но ст.12 примерные основные образовательные программы разрабатываются с учетом их уровня и направленности  на основе федеральных государственных образовательных станда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6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регулирующие использование сетевой формы реализации образовательных программ, технологий электр. обучения и дистанционных образователь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 15 посвящена использованию сетевой формы реализации образ. программ, ст.16 – программам с применением электронного обучения и дистанционного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6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, регулирующие проведение независимой оценки качества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он регламентирует функционирование независимых институтов оценки качества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детально регламентирующие возникновение , изменение и прекращение образовательных отно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.6 регламентирует возникновение , изменение и прекращение образовательных отношений.В ст.54 установлены требования к договору об образовании, введен запрет на увеличение стоимости платных образовательных услуг после заключения такого договора, за исключением увеличения стоимости указанных услуг с учетом уровня инфля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ой статус образовательных учреждений и организ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907920"/>
          <a:ext cx="8229600" cy="589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30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мы закона о локальных актах образовательного учреждения не имеют регулятивного зна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мы ст.30 устанавливают требования к содержанию и принятия локальных актов образовательной организации. При принятии локальных  нормативных актов, затрагивающих права обучающихся и работников образов. организации , должно учитываться мнение советов обучающихся , советов родителей, представительных органов обучающихся , в случаях которые предусмотрены трудовым законодательством, представительных органов работников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9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законе содержатся отдельные положения об органах самоуправления образовательного учрежд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26 подробно регламентирует создание в образовательной организации органов управления : единоличных(руководитель) и коллегиальных. Структура , порядок формирования, срок полномочий и компетенция таких органов устанавливаются уставом образовательной организ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7:23:41Z</dcterms:created>
  <dc:creator>Алена</dc:creator>
  <dc:description/>
  <dc:language>en-US</dc:language>
  <cp:lastModifiedBy>Алена</cp:lastModifiedBy>
  <cp:lastPrinted>2013-09-11T16:21:16Z</cp:lastPrinted>
  <dcterms:modified xsi:type="dcterms:W3CDTF">2014-01-05T14:54:40Z</dcterms:modified>
  <cp:revision>33</cp:revision>
  <dc:subject/>
  <dc:title>Педагогический совет 12 сентября 2013год</dc:title>
</cp:coreProperties>
</file>