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B7C-9725-4F51-A519-A551DDB5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DEC-89FD-4A4D-BD5A-AB76E5E7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454-27F4-4862-A823-B24F0755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28E-A52E-421A-904F-63778B96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E764-B4D8-4B16-8562-040E7B7E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70EA-69FE-4B6C-A8D4-E21052DB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7D1C-6DDA-4ECF-840B-73D46A6A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6AB-3058-4309-AB03-F5D2BB35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3A1-1977-4018-A764-07D557BF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01F6-9347-4E7A-BF51-00322FD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F191-563E-4833-8588-549E7DD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047-10B0-4F52-8EBC-AD5DAEA1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89AB-FEFE-42D8-836E-B8B0ADB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8A18-E01A-459E-B907-D06C0BC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19C3-D6AF-48B7-909F-C5745232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FB04-F691-42F2-9D9C-6B5CCB22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42E-4AF7-41E8-A506-69CD7CAD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C2AF-6CEA-46B0-A3CF-8833CDC4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A9C5-DCA6-438D-84CB-66AF372F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0F8F-1B36-4676-AABD-62E006E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D14B-B0C4-49BD-BD5E-96ED739D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0DF1-6890-4AEE-88F3-910E4BB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19E-7699-42F9-9AD9-BF38F29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CA4B-2AE8-4B14-9740-07FDD03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FDD5-01F3-4151-A071-43D3E38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D53B-4010-4E0F-9284-AED6ECD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BA2D-B174-4954-AF8B-4C673FE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C88A-A617-4F53-8436-81B8D0E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D842-117B-4F76-BA80-1A902B8B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7F91-A6E8-4B0E-8F55-421B7BFB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1414-5ED7-4B97-B6CD-014DD01B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C551-3A24-40B3-9000-56DAE3F5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C654-C25C-4DC2-A8F7-D8CAF89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B2A-9C36-43A3-9407-9E59D4BA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B9BE-09DF-4276-AB2D-7A09E3DF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5F8E-9AC4-4BBA-8527-7C013DCB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F611-B77D-4860-83C9-8E274158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26EF-3F05-4496-BA36-5D9DB69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98F6-6E43-40E7-88B1-C749E6D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8130-0B44-4274-A6D8-132EAEE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EA17-14D3-4449-B8E2-2767136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1242-841E-4BA6-A2E9-46780694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417D-2214-4E86-91F7-7C1639BB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BBBF-9F75-4443-BCE3-6DB606ED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1FC-782E-45DF-B52F-3E17CFD9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60BE4-DBD8-4A92-921F-4B1BD58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AAD2-0971-4D2A-B794-60E6DE69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663A-672B-4EB1-B1F0-B7CE1D64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05CA-2310-4E4D-AE5C-AF9A7DA6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7720-71E8-4EA0-9808-08D870D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84FE-1CC7-4CB7-B19E-50D9AA03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00C6-A284-4489-ACA9-DDF59D8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26FB5-97EC-4048-AEAE-FFB1C59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7678-9B65-4E1D-B4E6-3DDFCEF5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6C8D-9BC7-48D2-97C9-1AA60C76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6CC-EDF7-4D5B-BFB5-97093F83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D2C1-80C2-4505-A070-AFAF989F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4D99A-DAA1-4792-BD9A-25DAAA34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0EAB-4FB7-454B-B7C5-8CCB93A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E4DF-7D43-4413-A414-1DF0022D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0DA5-AB4F-4ADB-835A-5F4BA84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7BB1-6607-454D-99B8-83D5A77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C4FD-F453-49E1-A2B4-9143B571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0771-8638-49A3-AA28-4B7695B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EE6E4-5E46-465F-B192-40FA372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AC94-2937-49E0-ABB7-FDAB134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184-DC5D-4B0A-8DFB-DC6C3B5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D4A19-0913-4B9F-98D0-AB408094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BBA22-4D28-441C-B2D2-768973AB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FA73-9B8A-496D-B449-DD3E7E54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C9B6-3F34-4CEA-9C6C-97CFD2A1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06D7-FFA9-49F2-A94C-BA8471F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9E18-88D5-48C3-80E9-E32DCD3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261AA-E7C7-42DC-8971-50A08A4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2B7D-74E8-4CF1-A20C-2753C96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A0D77-1480-4918-A008-34F0A94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8D50-E7ED-451A-BB28-C0F62FB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4EF-45D2-4B74-8344-8F40727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E2EC-67A5-4C06-8CFC-FB52E3D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7A0F-EA30-4E53-8237-97ABF40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C498-F927-46DF-913C-358F8BDD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E865-4513-4096-A5BB-475EF67E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1CE3-5BE0-4E12-8D3D-5361A10A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439-BCCA-4BD9-BA75-AE22748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D049-B56F-482A-AEE2-0A08C02A4DC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1A2-2DB7-4C72-8903-58ADCD79AA5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88A3-81C7-41D5-94C7-0ABE1EB4FEB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9A3F-9571-44D1-B585-1A75AFAFB34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A15-C5CF-4671-8CB3-64578D7884D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624-4391-41D4-A3B7-5108C683571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655A-C77C-4433-B1D3-DEDF2B62C35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Особенности композиции рассказа Л.Н.Толстого «После бала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1066680" y="0"/>
            <a:ext cx="7848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Обобщение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ветлые, радостные краски бала, беззаботное веселье молодых людей не подозревающих о существовании другого, страшного мира, резко оттеняют мрачную картину, нарисованную во второй части рассказа. Контрастное изображение героев, их психологическое состояние, обстановка, в которой они действуют, позволяет писателю выявить сущность их характеров и в то же время обнажить социальные противоречия царской России.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отрите иллюстрации к рассказу Л.Н.Толстого «После бала»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вы думаете, удалось ли художникам передать настроение и пафос рассказа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2" name="Рисунок 7" descr="http://files.school-collection.edu.ru/dlrstore/b046c5e1-6be2-45df-a453-ca817602e19a/%5bLI8RK_8-02%5d_%5bIL_01%5d-k.jpg"/>
          <p:cNvPicPr/>
          <p:nvPr/>
        </p:nvPicPr>
        <p:blipFill>
          <a:blip r:embed="rId1"/>
          <a:stretch/>
        </p:blipFill>
        <p:spPr>
          <a:xfrm>
            <a:off x="2133720" y="838080"/>
            <a:ext cx="4343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Тест по рассказу Л.Н.Толстого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«После бала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1. Жанр произведен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повесть;    б) очерк;             в) рассказ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2. Раскрытию идеи произведения помогает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антитеза;    б) гипербола;  в) олицетворение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3. Число рассказчиков в произведении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один;      б) два;                    в) несколько.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      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4. Авторская позиц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скрыта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выражена в авторском повествовании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ередана одним из персонажей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42640" y="10666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5.Роль вступления в произведение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показать время и место действия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познакомить с участниками событий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ознакомить с рассказчиком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6. Поворотом  одной и той же стилистической фигуры  («…все так же падали с двух сторон удары на спотыкающегося, корчившегося человека, и все так же били барабаны и свистела флейта, и все так же твердым шагом двигалась … статная фигура полковника…») автор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воспроизводит унылый свист флейты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показывает полковника в новой роли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ередает ужас совершающегося 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7. Произведение заставляет задуматься о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) судьбе полковник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) личной ответственности человека за жизнь обществ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) любви Ивана Васильевича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8. Тема произведения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) повествование о любви Ивана Васильевич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) рассказ о полковнике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) показ николаевской России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9. Образ полковника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) типичен;     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) трагичен;  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) исключителен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10. Тон повествования в этом произведении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) нейтрален;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 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) эмоционально окрашен;       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) протокольно су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ишите отзыв о рассказе Л.Н.Толстого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используйте план работ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680" y="762120"/>
            <a:ext cx="7925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зыв может быть написан в виде рассуждения, которое обычно содержи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езис (мнение читателя о произведени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ельства справедливости этого тезис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вод (общая оценка произведения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В работе над отзывом вам помогут следующие вопрос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 Какова тема и основная мысль произведени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. Где и когда происходят изображённые в произведении событи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 Какие места в рассказе произвели на вас наиболее сильное впечатление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. Кто из героев особенно понравился или не понравился и почему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5. Что вам запомнилось, что показалось необычным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. Над какими вопросами рассказ заставил задуматьс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. Помогли ли вам лучше понять рассказ помещённые в нём  иллюстрации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 урока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Раскрыть идейный смысл рассказа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Раскрыть особенности композиции рассказа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оверка домашнего задания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просы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Что хочет сказать писатель своим рассказом читателям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Составьте словесный портрет героя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(  полковника, Вареньки, Ивана Васильевича (на выбор) по плану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внешний вид,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ведение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тупки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тношение к окружающим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Почему рассказ назван не «Бал», а «После бала», хотя описание бала занимает значительную часть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2. Как объяснить поведение отца Вареньки – его характером или порядками в тогдашней армии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3. Можно ли сказать, что рассказ Л.Н.Толстого открывает нам одну из страниц исторического прошлого России? Какую именно?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4. Против чего направлен рассказ «После бала»? От чего зависят , по мысли автора, перемены в человеческих отношениях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Назовите отличительные черты полковника и его поведение на бал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Что было общего у отца и у дочери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Откуда видно, что полковник заботливый и любящий отец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Кого напоминает полковник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42640" y="1447920"/>
            <a:ext cx="7791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Лев Николаевич не зря подчеркивает сходство полковника с императором Николаем 1 (усы, как у царя; николаевская выправка; сапоги, «построенные батальонным сапожником»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итаем воспоминание  Анны Федоровны Тютчевой о Николае 1 и о  смерти ег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1)Глубоко искренний в своих убеждениях, часто героический и великий в своей преданности тому делу, в котором он видел миссию, возложенную на него провидением, можно сказать, что Николай I был донкихотом самодержавия, донкихотом страшным и зловредным, потому что обладал всемогуществом, позволившим ему подчинять всё своей фанатической и устарелой теории и попирать ногами самые законные стремления и права своего века. Вот почему этот человек, соединявший с душою великодушной и рыцарской характер редкого благородства и честности, сердце горячее и нежное и ум возвышенный и просвещённый, хотя и лишённый широты, вот почему этот человек мог быть для России в течение своего 30-летнего царствования тираном и деспотом, систематически душившим в управляемой им стране всякое проявление инициативы и жизни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663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9.Почему внимательный и любящий отец оказывается жесток по отношению к солдатам? Был ли он двуличным человеком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0. По убеждению Л.Н.Толстого , в ходе русской истории возникло две России – Россия образованная, далёкая от природы, и Россия мужицкая, близкая к природе. В этом для писателя состояла драма русской жизни. Он мечтал, чтобы эти два начала соединились, чтобы Россия стала единой.  Но, будучи писателем - реалистом,  он изображает ту действительность, которую видел и которую оценивал с точки зрения своих художественно – исторических взглядов. Как же отразились исторические взгляды писателя Л.Н.Толстого в рассказе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мпозиция произведения - расположение и взаимосвязь его частей, порядок изложения событ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мпозиция помогает нам лучше понять замысел и идею автора, мысли и чувства, его вдохновлявшие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 Л. Н. Толстого «После бала» композиционно разбит на две части, совершенно различные по настроению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Первая част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священа описанию бала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Вторая част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 сцена страшного наказания солдата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fnfif</cp:lastModifiedBy>
  <dcterms:modified xsi:type="dcterms:W3CDTF">2011-06-29T06:25:38Z</dcterms:modified>
  <cp:revision>32</cp:revision>
  <dc:subject/>
  <dc:title>Слайд 1</dc:title>
</cp:coreProperties>
</file>