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35F-3366-4860-A33C-7EC0F61F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045-7A1A-44C5-BEF0-1E85FB3B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DC6-19F3-4147-BE9C-9677A3E0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7E7-184D-4A28-8B85-E794E3EA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FDCC-DDB9-4D9A-9DE0-A1ED56A9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4FFC-8B12-4940-813F-FF39B074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2803-C209-401C-8B3E-E06068D8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4E33-FB5D-4A32-9C80-A916A458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5E4A-D884-4E92-B4FF-6BC6D07A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4246-6347-4FBE-989A-4985DD74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7759-E92D-4220-8E0D-25E93AC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D5C-55FD-4539-A651-26A5C71E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F932-1CAD-4E51-8B44-5972D87B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7A23-5BE6-4686-865C-ADD2CDBC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FF8D-8AEE-4E33-A0E4-F6F4CE0E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8D00-58F1-4B5B-B331-D6A0A534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BB9B-EB66-4C70-9F1A-0D28CFFE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E73A-8D7F-4697-8A36-6B351BAD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CE00-AC18-4621-A134-640C7440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72C8-7AE2-4DEE-8CF8-F0DFBE9D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DA44-D783-4169-BE28-F554BF13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8A32-49BD-4752-A59F-7BD572CC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1B7-8441-406F-97C8-D271F65A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855A-1302-4794-8CE9-F6D28155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E45E-4D0D-4079-B693-ECF74B11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A29D-5108-4010-AC69-43620154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DA6D-F4AF-426E-8ACB-F78BC301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55FA-DFF0-46BC-BB4B-B4F5405D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96ED-2848-451F-BDA5-C3C53EF5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07E5-B1EF-41CA-9E6C-B1468F04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29DE-C126-4234-9CEE-34B93B08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C7627-5154-4320-B3AC-BE27D607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9684C-600C-4445-A16F-A710C4EE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E0D-3E90-4D9F-8DB1-433847EE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82A7E-6EC6-4B76-A9EA-EF4606F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A667-C218-42FA-9131-638B0520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00D9-894C-49A5-867D-74745665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3995-1602-4290-B629-F1929D5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A5F3-429A-471D-97B4-BD07637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1A6D5-53FD-4F25-85E5-A700D251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AF97-0956-475E-943A-0FFD94DA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5DA6-D1A3-4E52-98F8-130EFA4A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EBF2-C6C8-4C71-BB32-810C99DE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9D1D-6642-401B-BCAE-78BC7E03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CF3-7E4B-40B7-81E4-284D505F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29FD-954C-4247-8234-109EA937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0741-4651-4A8D-B140-B9F02EB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0D53-70E3-408F-B5C6-DAA06BCE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A78B-459E-4D83-9D60-DCB5CDE2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FE05-983F-41FC-8160-C6E03FB5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1C30-2FC3-4CD7-AC76-33694B9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58520-8A0A-4028-9724-89873A26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BB67B-45C6-404D-B4F6-32AA194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42DAB-2D2F-46AC-B163-74151891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E76F6-01A5-4FCC-A579-3384312C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90A-4021-48EE-A796-E8863E01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3F42-62D0-424F-95B8-213FE800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1B5B5-DCE4-4DEE-8BE5-99C80A13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EC52C-A10D-41E7-8F43-93008F35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CC47-DCCF-4630-AD5B-D4426CEF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C6AF-A42E-4CC1-AFD0-66742C24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3BDFF-FD72-4A02-ACD2-4D412E28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0A71-C984-413B-A4B4-D15CB9DC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C0772-4B39-42BC-8268-5D15312C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D3C2-DB47-41D0-9B7B-27B549E0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FF3BE-95FD-44FC-A152-3DE42E4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16E-ADEF-4B82-ABAD-44A2BE16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4B413-2A3E-4E45-8615-6D8AD76B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C336D-FC70-4528-BCB8-918433EC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C1ED-EE84-419D-BD4A-394E5CDF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40EBC-4836-4C12-BC87-0E3B0EB1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BD89-102B-48CC-9DE9-4A608A95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0B3C7-623F-40AF-A2F7-7D7E8F61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A46C7-2781-4F41-907E-D93066A9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BC59-80C3-440F-B1AC-DA2517A1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F3535-4816-4F94-803A-46AFEF72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1C025-35F7-42BA-89D4-684E151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F3C-8082-467F-A829-8B9ECC03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F9BA4-547E-4D49-968D-25C5468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970D-A6F4-40F0-BD47-9D13F828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95378-E8E1-4FC2-9787-5634B25D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1DEBD-E561-410C-8FB4-4A703569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B063F-FA79-4B88-83D4-8AC06E2C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1FA-2479-4336-9909-23DE811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FE9-4E2A-41AE-B3A9-40199A9AE80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CBBD-03C0-46D1-94AD-DE6080AFC75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53BF-C6C8-4FC1-8E76-09B2DF885C0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B372-6FFA-4DA0-83D5-CEC12BE3C00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6BD1-C0AC-46F8-A8D2-4DBC7E73AD1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175-6125-4D5A-9255-89F45C74A5E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EA2B-E004-43D8-BAC6-3EF182065D8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сс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rbel"/>
              </a:rPr>
              <a:t>Особенности композиции рассказа Л.Н.Толстого «После бала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Рисунок 3" descr=""/>
          <p:cNvPicPr/>
          <p:nvPr/>
        </p:nvPicPr>
        <p:blipFill>
          <a:blip r:embed="rId1"/>
          <a:stretch/>
        </p:blipFill>
        <p:spPr>
          <a:xfrm>
            <a:off x="1066680" y="0"/>
            <a:ext cx="7848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обенности композиции рассказа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Обобщение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ветлые, радостные краски бала, беззаботное веселье молодых людей не подозревающих о существовании другого, страшного мира, резко оттеняют мрачную картину, нарисованную во второй части рассказа. Контрастное изображение героев, их психологическое состояние, обстановка, в которой они действуют, позволяет писателю выявить сущность их характеров и в то же время обнажить социальные противоречия царской России.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абота с иллюстрациям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мотрите иллюстрации к рассказу Л.Н.Толстого «После бала»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вы думаете, удалось ли художникам передать настроение и пафос рассказа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абота с иллюстрациям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2" name="Рисунок 7" descr="http://files.school-collection.edu.ru/dlrstore/b046c5e1-6be2-45df-a453-ca817602e19a/%5bLI8RK_8-02%5d_%5bIL_01%5d-k.jpg"/>
          <p:cNvPicPr/>
          <p:nvPr/>
        </p:nvPicPr>
        <p:blipFill>
          <a:blip r:embed="rId1"/>
          <a:stretch/>
        </p:blipFill>
        <p:spPr>
          <a:xfrm>
            <a:off x="2133720" y="838080"/>
            <a:ext cx="4343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абота с иллюстрациям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91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Тест по рассказу Л.Н.Толстого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«После бала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1. Жанр произведения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повесть;    б) очерк;             в) рассказ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2. Раскрытию идеи произведения помогает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антитеза;    б) гипербола;  в) олицетворение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3. Число рассказчиков в произведении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один;      б) два;                    в) несколько.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      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4. Авторская позиция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скрыта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) выражена в авторском повествовании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) передана одним из персонажей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Тест по рассказу Л.Н.Толстого «После бала»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142640" y="10666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5.Роль вступления в произведение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показать время и место действия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) познакомить с участниками событий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) познакомить с рассказчиком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6. Поворотом  одной и той же стилистической фигуры  («…все так же падали с двух сторон удары на спотыкающегося, корчившегося человека, и все так же били барабаны и свистела флейта, и все так же твердым шагом двигалась … статная фигура полковника…») автор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) воспроизводит унылый свист флейты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) показывает полковника в новой роли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) передает ужас совершающегося 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Тест по рассказу Л.Н.Толстого «После бала»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7. Произведение заставляет задуматься о: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) судьбе полковника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б) личной ответственности человека за жизнь общества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) любви Ивана Васильевича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8. Тема произведения: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) повествование о любви Ивана Васильевича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б) рассказ о полковнике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) показ николаевской России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Тест по рассказу Л.Н.Толстого «После бала»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9. Образ полковника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) типичен;          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) трагичен;       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) исключителен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10. Тон повествования в этом произведении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) нейтрален;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 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) эмоционально окрашен;               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) протокольно сух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пишите отзыв о рассказе Л.Н.Толстого «После бала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используйте план работ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680" y="762120"/>
            <a:ext cx="7925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зыв может быть написан в виде рассуждения, которое обычно содержи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езис (мнение читателя о произведении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азательства справедливости этого тезис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вод (общая оценка произведения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rbel"/>
              </a:rPr>
              <a:t>В работе над отзывом вам помогут следующие вопрос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. Какова тема и основная мысль произведения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2. Где и когда происходят изображённые в произведении события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. Какие места в рассказе произвели на вас наиболее сильное впечатление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. Кто из героев особенно понравился или не понравился и почему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5. Что вам запомнилось, что показалось необычным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6. Над какими вопросами рассказ заставил задуматься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7. Помогли ли вам лучше понять рассказ помещённые в нём  иллюстрации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и урока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Раскрыть идейный смысл рассказа «После бала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Раскрыть особенности композиции рассказа «После бала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оверка домашнего задания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просы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Что хочет сказать писатель своим рассказом читателям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Составьте словесный портрет героя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(  полковника, Вареньки, Ивана Васильевича (на выбор) по плану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внешний вид,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ведение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тупки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тношение к окружающим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Почему рассказ назван не «Бал», а «После бала», хотя описание бала занимает значительную часть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2. Как объяснить поведение отца Вареньки – его характером или порядками в тогдашней армии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3. Можно ли сказать, что рассказ Л.Н.Толстого открывает нам одну из страниц исторического прошлого России? Какую именно?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4. Против чего направлен рассказ «После бала»? От чего зависят , по мысли автора, перемены в человеческих отношениях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Назовите отличительные черты полковника и его поведение на бал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Что было общего у отца и у дочери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Откуда видно, что полковник заботливый и любящий отец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Кого напоминает полковник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42640" y="1447920"/>
            <a:ext cx="7791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Лев Николаевич не зря подчеркивает сходство полковника с императором Николаем 1 (усы, как у царя; николаевская выправка; сапоги, «построенные батальонным сапожником»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итаем воспоминание  Анны Федоровны Тютчевой о Николае 1 и о  смерти ег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1)Глубоко искренний в своих убеждениях, часто героический и великий в своей преданности тому делу, в котором он видел миссию, возложенную на него провидением, можно сказать, что Николай I был донкихотом самодержавия, донкихотом страшным и зловредным, потому что обладал всемогуществом, позволившим ему подчинять всё своей фанатической и устарелой теории и попирать ногами самые законные стремления и права своего века. Вот почему этот человек, соединявший с душою великодушной и рыцарской характер редкого благородства и честности, сердце горячее и нежное и ум возвышенный и просвещённый, хотя и лишённый широты, вот почему этот человек мог быть для России в течение своего 30-летнего царствования тираном и деспотом, систематически душившим в управляемой им стране всякое проявление инициативы и жизни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опросы для анализа рассказа «После бала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663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9.Почему внимательный и любящий отец оказывается жесток по отношению к солдатам? Был ли он двуличным человеком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0. По убеждению Л.Н.Толстого , в ходе русской истории возникло две России – Россия образованная, далёкая от природы, и Россия мужицкая, близкая к природе. В этом для писателя состояла драма русской жизни. Он мечтал, чтобы эти два начала соединились, чтобы Россия стала единой.  Но, будучи писателем - реалистом,  он изображает ту действительность, которую видел и которую оценивал с точки зрения своих художественно – исторических взглядов. Как же отразились исторические взгляды писателя Л.Н.Толстого в рассказе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обенности композиции рассказ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мпозиция произведения - расположение и взаимосвязь его частей, порядок изложения событ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мпозиция помогает нам лучше понять замысел и идею автора, мысли и чувства, его вдохновлявшие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обенности композиции рассказа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з Л. Н. Толстого «После бала» композиционно разбит на две части, совершенно различные по настроению.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Первая часть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священа описанию бала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Вторая часть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- сцена страшного наказания солдата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fnfif</cp:lastModifiedBy>
  <dcterms:modified xsi:type="dcterms:W3CDTF">2011-06-29T06:25:38Z</dcterms:modified>
  <cp:revision>32</cp:revision>
  <dc:subject/>
  <dc:title>Слайд 1</dc:title>
</cp:coreProperties>
</file>