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829-3A9A-4101-9EEE-09F28889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D54-3997-4541-9B13-A2625EFB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145-CAA1-43C7-9152-77F84720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E55-632C-46CA-9AB2-855CFB00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7BB2-9902-4D38-81FF-6F6294D8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3BA1-F935-46DF-9235-4C3B2CE3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C1BD-2A56-4BC5-A380-C0DC34C0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D846-CCCD-4899-8814-9EBA498B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3929-6E78-46D4-9B81-96344836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BBEB-B159-4385-84F8-6CC63D8F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B1A2-37C6-4AA2-BF9A-C16C5223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593-6F27-476C-9956-03EA4C44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E81E-C4E1-407E-8B3A-B9031664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6753-2F0A-463A-96D1-47A778FF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BEE3-2777-46BD-B5B6-2746D71A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4FAB-EA94-4D3A-B303-BF330426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D0CF-508E-4D09-9875-4365CE99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70EB-5960-430F-AD7F-2644818C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455EA-28A5-45C0-9F1B-208B5B1B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B180-3C7E-4ADC-8865-DF395F4B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26D4-E5E7-404D-A7BB-2D66D453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361D-06CE-4524-B446-6E6B7C22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8AB-895C-4F4A-A01E-A9B75D6D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9699-DF99-4FEA-BDCC-1036643B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0519-C657-4650-8972-85ACC41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4101-B352-4A48-8211-33DE7147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18DE-18EE-4AC6-9E04-F1909E1D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D8E6D-14B6-41AC-8587-ABD29456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B365-BA01-4EF1-8C6A-E10B3139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C731-4A68-456B-A8E6-059D018C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A0D1B-9DBA-4396-886D-2DB70CFC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7042-6507-4040-945D-989B0AF0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FE891-989B-4817-9732-B624C004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2C7-03D6-470B-BEAA-7699668A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E9548-E8DD-4FE9-830C-87ED1EC7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429CE-ACB3-434C-A79A-86E3A4E2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BFFD-CEEF-4FCF-8D44-8831AB63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0832E-2F91-4F66-9E6C-F3592E9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A5790-472D-4228-B432-8DAE2922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C101-53AB-406A-B6B2-357B3193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D764-D1FC-4026-8E7B-F9C0E8D5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06B1-1781-4CAA-A350-9F820885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001B8-9934-4574-8F32-5F7DE74C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85BE5-87F7-4AC9-AF66-DD4197B3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301-990F-48EE-B1CA-F927C7EE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9D339-151B-4C72-984E-B6EB1A79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8AD0-C6C1-48FD-8D6A-9C65C65F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B006E-11DD-4A23-9E55-2B831404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905DC-E9F9-46A3-BC4C-74A42BF2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EF236-3C02-4418-8C43-AE087A31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3C03C-D384-44A3-A80B-794E37EE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60AA0-40BB-42F2-9304-87F2DF53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0B2E4-0409-465B-9D88-C02BE1A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6F825-2B7C-46B9-978D-F8362997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AE605-618A-4570-B286-FEBD9113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ED9-CED0-4AF3-BF82-7A40092F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9C165-C0B0-4693-BF1B-64CE4C28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6EF61-6CD1-47E3-83A0-F53A2F32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A1C49-B57B-45DF-9ABE-CC2F18A1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28335-7EF5-4C21-83DD-63B8CCA8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9913C-D216-4295-BEEB-13B42421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CF52B-E409-4203-98B8-BB90096A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A12EE-2DB6-46A8-86D9-67A2A20B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573D3-C891-4CED-BA97-94B37E02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B0E9B-8F24-45C7-BC4E-D969CF66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A804F-97D9-47AE-8541-DFC72811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EB3-CD39-40FC-8861-FB37035B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9F9F3-4167-47B9-99AA-5BDD0758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EFDAE-BD69-43C5-8116-37D30FB9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1D542-22F2-4C9F-A63F-8BDA9316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78BEE-EB0F-4167-9157-E97851D3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AC02E-3E75-4843-A53D-F77AB708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B9FCE-3E9C-4267-A0BA-151B79AE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3E6B1-2EB5-446C-A02A-7E96090A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1DF21-6120-44C3-85A2-A1654EF7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8B044-DA6D-4D7C-A790-6A66AB17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F6651-0411-4727-9CF4-FB7E79D1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A0B-C202-48B3-A5D2-06D5F6A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9E95B-C978-446E-B3AC-D8126251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62E38-6CFB-40BA-A5F8-3229EB16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068C9-E688-4DEB-A932-FE241C2F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3AC35-D4AE-4826-B5FE-7972255D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38BCE-70CE-4CBB-865A-4BA3A868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752-C218-4324-B092-8CABC123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E3D2-6D5C-41CE-9EDD-913D014CCB8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8396-C00E-432A-9817-43FBE7F87F8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9459-91F1-4802-AA4B-AB467C66C21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4086-9FB8-49B0-BA7D-4C5D5C36A15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83E8-8E59-4186-8075-2EC3790C36E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639B-D7F2-4403-A29E-A58E0AFF4FC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5BB1-7CC7-4BE7-9A9E-23D5F7FD3BB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сс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rbel"/>
              </a:rPr>
              <a:t>Особенности композиции рассказа Л.Н.Толстого «После бала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Рисунок 3" descr=""/>
          <p:cNvPicPr/>
          <p:nvPr/>
        </p:nvPicPr>
        <p:blipFill>
          <a:blip r:embed="rId1"/>
          <a:stretch/>
        </p:blipFill>
        <p:spPr>
          <a:xfrm>
            <a:off x="1066680" y="0"/>
            <a:ext cx="7848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обенности композиции рассказа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Обобщение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ветлые, радостные краски бала, беззаботное веселье молодых людей не подозревающих о существовании другого, страшного мира, резко оттеняют мрачную картину, нарисованную во второй части рассказа. Контрастное изображение героев, их психологическое состояние, обстановка, в которой они действуют, позволяет писателю выявить сущность их характеров и в то же время обнажить социальные противоречия царской России.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абота с иллюстрациям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мотрите иллюстрации к рассказу Л.Н.Толстого «После бала»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 вы думаете, удалось ли художникам передать настроение и пафос рассказа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абота с иллюстрациям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2" name="Рисунок 7" descr="http://files.school-collection.edu.ru/dlrstore/b046c5e1-6be2-45df-a453-ca817602e19a/%5bLI8RK_8-02%5d_%5bIL_01%5d-k.jpg"/>
          <p:cNvPicPr/>
          <p:nvPr/>
        </p:nvPicPr>
        <p:blipFill>
          <a:blip r:embed="rId1"/>
          <a:stretch/>
        </p:blipFill>
        <p:spPr>
          <a:xfrm>
            <a:off x="2133720" y="838080"/>
            <a:ext cx="4343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абота с иллюстрациям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91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Тест по рассказу Л.Н.Толстого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 «После бала»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1. Жанр произведения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повесть;    б) очерк;             в) рассказ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2. Раскрытию идеи произведения помогает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антитеза;    б) гипербола;  в) олицетворение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3. Число рассказчиков в произведении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один;      б) два;                    в) несколько.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      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4. Авторская позиция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скрыта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б) выражена в авторском повествовании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) передана одним из персонажей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Тест по рассказу Л.Н.Толстого «После бала»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142640" y="10666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5.Роль вступления в произведение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показать время и место действия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б) познакомить с участниками событий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) познакомить с рассказчиком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6. Поворотом  одной и той же стилистической фигуры  («…все так же падали с двух сторон удары на спотыкающегося, корчившегося человека, и все так же били барабаны и свистела флейта, и все так же твердым шагом двигалась … статная фигура полковника…») автор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воспроизводит унылый свист флейты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б) показывает полковника в новой роли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) передает ужас совершающегося 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Тест по рассказу Л.Н.Толстого «После бала»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7. Произведение заставляет задуматься о: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) судьбе полковника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б) личной ответственности человека за жизнь общества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) любви Ивана Васильевича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8. Тема произведения: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) повествование о любви Ивана Васильевича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б) рассказ о полковнике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) показ николаевской России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Тест по рассказу Л.Н.Толстого «После бала»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9. Образ полковника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) типичен;                  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) трагичен;               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) исключителен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10. Тон повествования в этом произведении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) нейтрален;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 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) эмоционально окрашен;               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) протокольно сух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пишите отзыв о рассказе Л.Н.Толстого «После бала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используйте план работы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6680" y="762120"/>
            <a:ext cx="7925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тзыв может быть написан в виде рассуждения, которое обычно содержи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езис (мнение читателя о произведении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азательства справедливости этого тезис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вод (общая оценка произведения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rbel"/>
              </a:rPr>
              <a:t>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rbel"/>
              </a:rPr>
              <a:t>В работе над отзывом вам помогут следующие вопросы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. Какова тема и основная мысль произведения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2. Где и когда происходят изображённые в произведении события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. Какие места в рассказе произвели на вас наиболее сильное впечатление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. Кто из героев особенно понравился или не понравился и почему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5. Что вам запомнилось, что показалось необычным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6. Над какими вопросами рассказ заставил задуматься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7. Помогли ли вам лучше понять рассказ помещённые в нём  иллюстрации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и урока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Раскрыть идейный смысл рассказа «После бала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Раскрыть особенности композиции рассказа «После бала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оверка домашнего задания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просы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Что хочет сказать писатель своим рассказом читателям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Составьте словесный портрет героя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(  полковника, Вареньки, Ивана Васильевича (на выбор) по плану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внешний вид,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ведение,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тупки,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тношение к окружающим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опросы для анализа рассказа «После бала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Почему рассказ назван не «Бал», а «После бала», хотя описание бала занимает значительную часть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2. Как объяснить поведение отца Вареньки – его характером или порядками в тогдашней армии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3. Можно ли сказать, что рассказ Л.Н.Толстого открывает нам одну из страниц исторического прошлого России? Какую именно?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4. Против чего направлен рассказ «После бала»? От чего зависят , по мысли автора, перемены в человеческих отношениях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опросы для анализа рассказа «После бала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Назовите отличительные черты полковника и его поведение на бал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Что было общего у отца и у дочери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Откуда видно, что полковник заботливый и любящий отец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Кого напоминает полковник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опросы для анализа рассказа «После бала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42640" y="1447920"/>
            <a:ext cx="7791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Лев Николаевич не зря подчеркивает сходство полковника с императором Николаем 1 (усы, как у царя; николаевская выправка; сапоги, «построенные батальонным сапожником»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Читаем воспоминание  Анны Федоровны Тютчевой о Николае 1 и о  смерти ег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1)Глубоко искренний в своих убеждениях, часто героический и великий в своей преданности тому делу, в котором он видел миссию, возложенную на него провидением, можно сказать, что Николай I был донкихотом самодержавия, донкихотом страшным и зловредным, потому что обладал всемогуществом, позволившим ему подчинять всё своей фанатической и устарелой теории и попирать ногами самые законные стремления и права своего века. Вот почему этот человек, соединявший с душою великодушной и рыцарской характер редкого благородства и честности, сердце горячее и нежное и ум возвышенный и просвещённый, хотя и лишённый широты, вот почему этот человек мог быть для России в течение своего 30-летнего царствования тираном и деспотом, систематически душившим в управляемой им стране всякое проявление инициативы и жизни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опросы для анализа рассказа «После бала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6632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9.Почему внимательный и любящий отец оказывается жесток по отношению к солдатам? Был ли он двуличным человеком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0. По убеждению Л.Н.Толстого , в ходе русской истории возникло две России – Россия образованная, далёкая от природы, и Россия мужицкая, близкая к природе. В этом для писателя состояла драма русской жизни. Он мечтал, чтобы эти два начала соединились, чтобы Россия стала единой.  Но, будучи писателем - реалистом,  он изображает ту действительность, которую видел и которую оценивал с точки зрения своих художественно – исторических взглядов. Как же отразились исторические взгляды писателя Л.Н.Толстого в рассказе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обенности композиции рассказ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мпозиция произведения - расположение и взаимосвязь его частей, порядок изложения событи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мпозиция помогает нам лучше понять замысел и идею автора, мысли и чувства, его вдохновлявшие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обенности композиции рассказа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каз Л. Н. Толстого «После бала» композиционно разбит на две части, совершенно различные по настроению.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rbel"/>
              </a:rPr>
              <a:t>Первая часть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священа описанию бала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rbel"/>
              </a:rPr>
              <a:t>Вторая часть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- сцена страшного наказания солдата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fnfif</cp:lastModifiedBy>
  <dcterms:modified xsi:type="dcterms:W3CDTF">2011-06-29T06:25:38Z</dcterms:modified>
  <cp:revision>32</cp:revision>
  <dc:subject/>
  <dc:title>Слайд 1</dc:title>
</cp:coreProperties>
</file>