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11.wmf" ContentType="image/x-wmf"/>
  <Override PartName="/ppt/media/image4.jpeg" ContentType="image/jpeg"/>
  <Override PartName="/ppt/media/image6.gif" ContentType="image/gif"/>
  <Override PartName="/ppt/media/image9.wmf" ContentType="image/x-wmf"/>
  <Override PartName="/ppt/media/image7.gif" ContentType="image/gif"/>
  <Override PartName="/ppt/media/image8.jpeg" ContentType="image/jpeg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AD0-061A-4F24-9817-152610BB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69B-24A9-4D97-A91C-E4E3D692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CD0-007D-479B-A2B6-8E48A144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0AF-BE0F-4175-84D2-4CB75682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59B2-0041-40CE-A5A7-05564668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15F8-DBA8-4135-BC3E-76A00758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7D4F-6F2B-4CFD-8253-9ACEE3D8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965A-CE6E-47CA-B473-F11CB81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8430-074D-43C6-98C8-5640B006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51F9-EB17-4BE8-AA5B-4BE6AB3E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95FA-315B-4267-9342-18055A53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ACE-C780-441D-8480-B9418B4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E38C-9BF7-4EDD-97F7-CBDF8628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F984-B89E-4669-A819-61E1B64E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0225-6A39-40A0-9167-30C518E0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A46B-0E2B-4B39-9C75-D8664DFB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19D3-8125-44EB-8D06-68692E9D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AC1-F67C-4BEF-B8A1-A39E7183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043-0DFB-4565-BA3E-113463C6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F58-B804-4CDD-8CA7-31C0B641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746-E6CD-4D26-BB1D-05DB5A8F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FEA-F9F6-4C85-A178-2326EC2A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D4A-ADF8-4F85-A215-208D9546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D3B-5527-40BC-A85C-803D83D6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0D86-1B31-4EC5-861B-090697CC34E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4B3B-4F87-47E6-80A6-70409736FAE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hool429.ru/wp-content/uploads/0334715e06b9ab5889917236443286a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43280" y="404280"/>
            <a:ext cx="6121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Муниципаль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гимназия № 15 им.Н.Н.Белоусова</a:t>
            </a:r>
            <a:endParaRPr b="1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92360" y="2997360"/>
            <a:ext cx="6146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Основы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педагогического мастерства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. Сочи, 2009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374920" cy="2100240"/>
          </a:xfrm>
          <a:prstGeom prst="rect">
            <a:avLst/>
          </a:prstGeom>
          <a:ln w="0">
            <a:noFill/>
          </a:ln>
        </p:spPr>
      </p:pic>
      <p:pic>
        <p:nvPicPr>
          <p:cNvPr id="170" name="14" descr=""/>
          <p:cNvPicPr/>
          <p:nvPr/>
        </p:nvPicPr>
        <p:blipFill>
          <a:blip r:embed="rId2"/>
          <a:stretch/>
        </p:blipFill>
        <p:spPr>
          <a:xfrm>
            <a:off x="7093080" y="4522680"/>
            <a:ext cx="1590480" cy="141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Учебное занятие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по теме «Типы речи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23, 2 этаж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Русский язы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 </a:t>
            </a: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10 клас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информационно-коммуникационных технологий на основе мультимедийной презентации включает в себя теоретический материал по типам речи, развитие практических навыков определения типов текстов, определение стилей. В ходе учебного занятия повторяются правила орфографии и пунктуации, выполняются тестовые зад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Самохина В.А., учитель русского языка 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литературы высшей катего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948360" y="4581360"/>
            <a:ext cx="1827360" cy="1887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Учебное занятие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по теме “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V family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”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46, 4 этаж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Английский язы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5 клас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информационно-коммуникационных технологий, проектной технологии включает в себя работу над развитием навыков монологической и диалогической речи, расширение словарного запаса, знаний о стране изучаемого языка, развитие творческого мышления. диалогической речи, расширение словарного запаса, знаний о стране изучаемого языка, развитие творческого мышле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 ходе урока используются методы и приемы критического мышл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Пискунова Т.Г., учитель английского языка высшей катего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817640" cy="1481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Урок – путешествие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«В гостях с Симпсов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9.45 – 10.25, каб. 26, 2 эта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Немецкий язы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9 клас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нный электронный урок по немецкому языку для учащихся 9-го класса разработан в качестве учебного пособия к учебнику «Шаги 5», но может быть использован также с другими учебниками при изучении страноведческого материал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нный электронный урок построен с применением средств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ower Point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в форме деловой игры - викторины. Он может быть использован на любом этапе работы. Но особенно эффективным может быть его применение на обобщающих уроках повторения по пройденным темам. Данный электронный урок по немецкому языку для учащихся 9-го класса разработан в качестве учебного пособия к учебнику «Шаги 5», но может быть использован также с другими учебниками при изучении страноведческого материал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нный электронный урок построен с применением средств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ower Point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в форме деловой игры - викторины. Он может быть использован на любом этапе работы. Но особенно эффективным может быть его применение на обобщающих уроках повторения по пройденным темам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cc"/>
                </a:solidFill>
                <a:latin typeface="Verdana"/>
              </a:rPr>
              <a:t>Герштенцвейг В.Р., учитель немецкого языка высшей категори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164360" y="907920"/>
            <a:ext cx="1171440" cy="1057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Мастер-класс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по использованию технологии критического мышл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cc"/>
                </a:solidFill>
                <a:uFillTx/>
                <a:latin typeface="Verdana"/>
              </a:rPr>
              <a:t>10.40 – 11.20, каб. 30, 3 эта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стер-класс дает теоретические основы технологии критического мышления, в практической форме знакомит с приемами, использующимися в технологии, проходит в интерактивном режим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Verdana"/>
              </a:rPr>
              <a:t>Безверхая О.В., зам. директора по научно-методической работе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Verdana"/>
              </a:rPr>
              <a:t>учитель английского языка высшей категор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983360" y="4941720"/>
            <a:ext cx="1160640" cy="172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Установочный семина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cc"/>
                </a:solidFill>
                <a:uFillTx/>
                <a:latin typeface="Verdana"/>
              </a:rPr>
              <a:t>8.00 – 8.40, каб. 30, 3 эта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еминар обозначает цели проведения «основ педагогического мастерства», знакомит с программой проведения мероприятия, дает теоретические основы личностно-ориентированного подход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Verdana"/>
              </a:rPr>
              <a:t>О.В.Безверхая, зам. директора по научно-методической работе, учитель английского языка высшей категор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20000" y="4869000"/>
            <a:ext cx="1871640" cy="1720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4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99"/>
                </a:solidFill>
                <a:latin typeface="Verdana"/>
              </a:rPr>
              <a:t>Личностно ориентированное обучение - это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356560"/>
            <a:ext cx="75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- способ организации обучения, в процессе которого обеспечивается всемерный учет возможностей и способностей обучаемых и создаются необходимые условия для развития их индивидуальных способностей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Цель такого обучения</a:t>
            </a:r>
            <a:r>
              <a:rPr b="1" i="1" lang="en-US" sz="2400" spc="-1" strike="noStrike">
                <a:solidFill>
                  <a:srgbClr val="006699"/>
                </a:solidFill>
                <a:latin typeface="Arial"/>
              </a:rPr>
              <a:t> —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создание условий для обеспечения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собственной учебной деятельности обучающихся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, учета и развития индивидуальных особеннос­тей школьников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33000"/>
            <a:ext cx="8915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Verdana"/>
              </a:rPr>
              <a:t>Основной отличительный признак личностно ориентированного обучения – </a:t>
            </a:r>
            <a:r>
              <a:rPr b="1" lang="en-US" sz="3600" spc="-1" strike="noStrike">
                <a:solidFill>
                  <a:srgbClr val="cc00cc"/>
                </a:solidFill>
                <a:latin typeface="Verdana"/>
              </a:rPr>
              <a:t>позиция</a:t>
            </a:r>
            <a:r>
              <a:rPr b="0" lang="en-US" sz="3600" spc="-1" strike="noStrike">
                <a:solidFill>
                  <a:srgbClr val="cc00cc"/>
                </a:solidFill>
                <a:latin typeface="Verdana"/>
              </a:rPr>
              <a:t>, которую занимают учащиес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888840" y="1879560"/>
            <a:ext cx="7366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708280"/>
            <a:ext cx="403848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и традиционном обучении учащиеся поставлены в позицию объектов обуче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781360"/>
            <a:ext cx="4572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и ЛОО учащиеся поставлены в позицию субъектов обуче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867280" y="4508640"/>
            <a:ext cx="2017800" cy="201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692360" y="4581360"/>
            <a:ext cx="1719000" cy="201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Критерии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личностно-ориентированного урок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здание учителем в начале урока положительного эмоционального настроя на работ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общение ученикам не только темы урока (его содержания), но и целей, форм организации их деятельност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Гибкая организация учебной деятельности школьников в зависимости от целей урока (его этапов): сообщение материала, выполнение творческих заданий, взаимопроверка, анализ работы друг с другом с учетом их индивидуальных особенносте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тимулирование учеников к выбору различных способов выполнения задани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спользование разнообразного дидактического материала, позволяющего ученику проявлять личностную избирательность к типу, виду и форме учебного задания, характеру его выполнени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ктивизация субъектного опыта ученика, его использование в процессе урок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нализ ответа ученика не только с позиции правильности, но и с учетом того, как ученик рассуждал, каким способом решал, где и почему ошибся, высказал ли оригинальные соображени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обладающая форма общения с классом (диалог, полилог)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дпочитаемые учителем формы работы с классом: проверка домашних заданий, изложение знаний, самостоятельная работа с учебником, коллективное решение творческих задач, взаимопроверка учениками выполненного задания, анализ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азных способов решения и т.п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Учебное занятие по теме «Игрушки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8.50 – 9.30, каб. 47, 4 эта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Английский язы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Verdana"/>
              </a:rPr>
              <a:t>2 клас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игровых технологий как одно из направлений личностно-ориентированного подхода. Игровые технологии способствуют снятию напряжения, эмоциональной разрядки, общению учащихся друг с другом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cc"/>
                </a:solidFill>
                <a:uFillTx/>
                <a:latin typeface="Verdana"/>
              </a:rPr>
              <a:t>Лобова Людмила Юрьевна, учитель английского языка высшей категор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Урок формирования новых знаний по теме «Формула суммы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первых членов арифметической прогрессии»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37, 3 эта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Алгебра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9 клас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99"/>
                </a:solidFill>
                <a:uFillTx/>
                <a:latin typeface="Verdana"/>
              </a:rPr>
              <a:t>Учебное занятие с применением личностно-ориентированного подхода. Используемые приемы: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оздание проблемной ситуаци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обеспечивает мотивационную готовность и положительный настрой учащихся  к работе на уроке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адачи различного уровня сложности (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т решения «по алгоритму» до использования частично-поискового метода) способствуют развитию индивидуальности учащихс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работа в группах и парах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зволяет развивать коммуникативные навык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спользование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сведений из математик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межпредметная связь физики и математики, связь с жизнью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(деление наследства, распределение продуктов и т.д.) позволяют формировать интерес к предмету, развивают познавательные потребности учащихся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Ткаченко Ирина Николаевна, учитель математики высшей категори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451640" y="765000"/>
            <a:ext cx="1366920" cy="135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нтегрированный урок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по теме с «Туризм и рекреационные ресурсы Европы»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cc"/>
                </a:solidFill>
                <a:uFillTx/>
                <a:latin typeface="Verdana"/>
              </a:rPr>
              <a:t>8.00 – 10.25, каб. 32, 3 этаж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cc"/>
                </a:solidFill>
                <a:uFillTx/>
                <a:latin typeface="Verdana"/>
              </a:rPr>
              <a:t>география, истор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cc"/>
                </a:solidFill>
                <a:uFillTx/>
                <a:latin typeface="Verdana"/>
              </a:rPr>
              <a:t>11с клас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 уроке «Туризм и рекреационные районы Европы» раскрываются  страны, в которых большого развития достигла туристическая отрасль. Урок проходит в форме деловой игры: группа учащихся - туристическое агенство, рекламирующее свой маршрут в выбранную страну. Визитная карточка страны сопровождается презентациями, слайд-шоу, музыкой, исполнением танцев, выставкой сувениров стран, национальной кухне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рок  с демонстрацией умений школьников широко использовать для мотивации предмета Интернет-ресурсы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Verdana"/>
              </a:rPr>
              <a:t>Вовенко Л.Г., учитель географии высшей категор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Verdana"/>
              </a:rPr>
              <a:t>Дудакова Л.В., учитель истории высшей категор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88080" y="4797360"/>
            <a:ext cx="1263960" cy="1657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Комбинированный урок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по теме «Социалистическая индустриализация»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40, 4 этаж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Обществозн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9 клас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технологии критического мышления представляет собой урок – лабораторное занятие с элементами деловой игры. В ходе учебного занятия используются различные формы работы с классом: фронтальная, групповая; опережающие задания, для представления большого статистического материала предлагается «рабочий листок». Для контроля используются тестовые зада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Буряк И.В., учитель истории и обществозна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высшей катего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653000"/>
            <a:ext cx="1766880" cy="191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24:20Z</dcterms:created>
  <dc:creator>Оля</dc:creator>
  <dc:description/>
  <dc:language>en-US</dc:language>
  <cp:lastModifiedBy>Безверхая</cp:lastModifiedBy>
  <dcterms:modified xsi:type="dcterms:W3CDTF">2009-12-10T09:49:35Z</dcterms:modified>
  <cp:revision>14</cp:revision>
  <dc:subject/>
  <dc:title>Муниципальное общеобразовательное учреждение гимназия № 15 им.Н.Н.Белоусова</dc:title>
</cp:coreProperties>
</file>