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gif" ContentType="image/gif"/>
  <Override PartName="/ppt/media/image11.wmf" ContentType="image/x-wmf"/>
  <Override PartName="/ppt/media/image4.jpeg" ContentType="image/jpeg"/>
  <Override PartName="/ppt/media/image6.gif" ContentType="image/gif"/>
  <Override PartName="/ppt/media/image9.wmf" ContentType="image/x-wmf"/>
  <Override PartName="/ppt/media/image7.gif" ContentType="image/gif"/>
  <Override PartName="/ppt/media/image8.jpeg" ContentType="image/jpeg"/>
  <Override PartName="/ppt/media/image1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C7F6-AC2F-405C-85FD-E7FED1EB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E3AD-2326-4DBB-B2DF-B5265021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B2D-6A1F-4A63-86B1-11C8D217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0500-0928-4CE5-A4F3-61D51D5A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9BB1-10E6-4B46-9D6F-91DFF9B6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A04E-27E2-4582-ABB7-D7F51B39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1CD6-9788-499E-BB0B-95C9AB98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B01A-D57E-441D-A20D-11331760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1CBA-6184-40DF-8CAA-BF0082BB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8468-152F-492E-A4FF-0AAD4775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F505-2FEA-4B0D-968F-657D1293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070-3648-40F4-8141-FBDF4212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EF9A-95B2-43EB-9641-6EBCA033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A607-D6A2-4A16-97C7-5206FD78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E5D4-8736-4A39-A350-C0598036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1651-7A67-4B85-8A07-2CCC0F1B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8923-5A5D-43D2-A8B3-39D1E799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A7F1-E1AF-4F96-B02A-4616B345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901-22C3-4148-A1C1-4CE54573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55C-AAAF-4327-A479-7F7258A7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0C1-291C-4EC9-BB4C-17D3C0E9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FA37-9D8F-4ED7-9BC6-8997E654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5CB-CB63-4B44-B001-7CABEC14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3773-DE7B-4E74-B7EE-23CFEEDF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98F8-E3AD-4023-AD20-AAADEA1E4129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989E-4B01-49BD-8813-867E971FB66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chool429.ru/wp-content/uploads/0334715e06b9ab5889917236443286a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43280" y="404280"/>
            <a:ext cx="6121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Verdana"/>
              </a:rPr>
              <a:t>Муниципаль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Verdana"/>
              </a:rPr>
              <a:t>гимназия № 15 им.Н.Н.Белоусова</a:t>
            </a:r>
            <a:endParaRPr b="1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692360" y="2997360"/>
            <a:ext cx="6146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Основы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педагогического мастерства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г. Сочи, 2009</a:t>
            </a: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374920" cy="2100240"/>
          </a:xfrm>
          <a:prstGeom prst="rect">
            <a:avLst/>
          </a:prstGeom>
          <a:ln w="0">
            <a:noFill/>
          </a:ln>
        </p:spPr>
      </p:pic>
      <p:pic>
        <p:nvPicPr>
          <p:cNvPr id="170" name="14" descr=""/>
          <p:cNvPicPr/>
          <p:nvPr/>
        </p:nvPicPr>
        <p:blipFill>
          <a:blip r:embed="rId2"/>
          <a:stretch/>
        </p:blipFill>
        <p:spPr>
          <a:xfrm>
            <a:off x="7093080" y="4522680"/>
            <a:ext cx="1590480" cy="1419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Учебное занятие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по теме «Типы речи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8.50 – 9.30, каб. 23, 2 этаж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Русский язык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 </a:t>
            </a: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10 клас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чебное занятие с использованием информационно-коммуникационных технологий на основе мультимедийной презентации включает в себя теоретический материал по типам речи, развитие практических навыков определения типов текстов, определение стилей. В ходе учебного занятия повторяются правила орфографии и пунктуации, выполняются тестовые зада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Verdana"/>
              </a:rPr>
              <a:t>Самохина В.А., учитель русского языка 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Verdana"/>
              </a:rPr>
              <a:t>литературы высшей категор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948360" y="4581360"/>
            <a:ext cx="1827360" cy="1887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Учебное занятие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 по теме “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TV family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”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8.50 – 9.30, каб. 46, 4 этаж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Английский язык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5 клас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чебное занятие с использованием информационно-коммуникационных технологий, проектной технологии включает в себя работу над развитием навыков монологической и диалогической речи, расширение словарного запаса, знаний о стране изучаемого языка, развитие творческого мышления. диалогической речи, расширение словарного запаса, знаний о стране изучаемого языка, развитие творческого мышления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 ходе урока используются методы и приемы критического мышлен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Verdana"/>
              </a:rPr>
              <a:t>Пискунова Т.Г., учитель английского языка высшей категор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732720" y="1268280"/>
            <a:ext cx="1817640" cy="1481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Урок – путешествие 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«В гостях с Симпсов»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cc"/>
                </a:solidFill>
                <a:uFillTx/>
                <a:latin typeface="Verdana"/>
              </a:rPr>
              <a:t>9.45 – 10.25, каб. 26, 2 этаж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cc"/>
                </a:solidFill>
                <a:uFillTx/>
                <a:latin typeface="Verdana"/>
              </a:rPr>
              <a:t>Немецкий язык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cc"/>
                </a:solidFill>
                <a:uFillTx/>
                <a:latin typeface="Verdana"/>
              </a:rPr>
              <a:t>9 класс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Данный электронный урок по немецкому языку для учащихся 9-го класса разработан в качестве учебного пособия к учебнику «Шаги 5», но может быть использован также с другими учебниками при изучении страноведческого материал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Данный электронный урок построен с применением средств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Power Point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в форме деловой игры - викторины. Он может быть использован на любом этапе работы. Но особенно эффективным может быть его применение на обобщающих уроках повторения по пройденным темам. Данный электронный урок по немецкому языку для учащихся 9-го класса разработан в качестве учебного пособия к учебнику «Шаги 5», но может быть использован также с другими учебниками при изучении страноведческого материал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Данный электронный урок построен с применением средств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Power Point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в форме деловой игры - викторины. Он может быть использован на любом этапе работы. Но особенно эффективным может быть его применение на обобщающих уроках повторения по пройденным темам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cc"/>
                </a:solidFill>
                <a:latin typeface="Verdana"/>
              </a:rPr>
              <a:t>Герштенцвейг В.Р., учитель немецкого языка высшей категори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164360" y="907920"/>
            <a:ext cx="1171440" cy="1057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Мастер-класс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по использованию технологии критического мышления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cc"/>
                </a:solidFill>
                <a:uFillTx/>
                <a:latin typeface="Verdana"/>
              </a:rPr>
              <a:t>10.40 – 11.20, каб. 30, 3 этаж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астер-класс дает теоретические основы технологии критического мышления, в практической форме знакомит с приемами, использующимися в технологии, проходит в интерактивном режим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Verdana"/>
              </a:rPr>
              <a:t>Безверхая О.В., зам. директора по научно-методической работе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Verdana"/>
              </a:rPr>
              <a:t>учитель английского языка высшей категори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983360" y="4941720"/>
            <a:ext cx="1160640" cy="172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Установочный семинар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cc"/>
                </a:solidFill>
                <a:uFillTx/>
                <a:latin typeface="Verdana"/>
              </a:rPr>
              <a:t>8.00 – 8.40, каб. 30, 3 этаж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еминар обозначает цели проведения «основ педагогического мастерства», знакомит с программой проведения мероприятия, дает теоретические основы личностно-ориентированного подход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Verdana"/>
              </a:rPr>
              <a:t>О.В.Безверхая, зам. директора по научно-методической работе, учитель английского языка высшей категор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020000" y="4869000"/>
            <a:ext cx="1871640" cy="1720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34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99"/>
                </a:solidFill>
                <a:latin typeface="Verdana"/>
              </a:rPr>
              <a:t>Личностно ориентированное обучение - это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2356560"/>
            <a:ext cx="759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- способ организации обучения, в процессе которого обеспечивается всемерный учет возможностей и способностей обучаемых и создаются необходимые условия для развития их индивидуальных способностей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Цель такого обучения</a:t>
            </a:r>
            <a:r>
              <a:rPr b="1" i="1" lang="en-US" sz="2400" spc="-1" strike="noStrike">
                <a:solidFill>
                  <a:srgbClr val="006699"/>
                </a:solidFill>
                <a:latin typeface="Arial"/>
              </a:rPr>
              <a:t> —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создание условий для обеспечения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собственной учебной деятельности обучающихся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, учета и развития индивидуальных особеннос­тей школьников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333000"/>
            <a:ext cx="89154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Verdana"/>
              </a:rPr>
              <a:t>Основной отличительный признак личностно ориентированного обучения – </a:t>
            </a:r>
            <a:r>
              <a:rPr b="1" lang="en-US" sz="3600" spc="-1" strike="noStrike">
                <a:solidFill>
                  <a:srgbClr val="cc00cc"/>
                </a:solidFill>
                <a:latin typeface="Verdana"/>
              </a:rPr>
              <a:t>позиция</a:t>
            </a:r>
            <a:r>
              <a:rPr b="0" lang="en-US" sz="3600" spc="-1" strike="noStrike">
                <a:solidFill>
                  <a:srgbClr val="cc00cc"/>
                </a:solidFill>
                <a:latin typeface="Verdana"/>
              </a:rPr>
              <a:t>, которую занимают учащиеся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888840" y="1879560"/>
            <a:ext cx="7366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2708280"/>
            <a:ext cx="4038480" cy="18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ри традиционном обучении учащиеся поставлены в позицию объектов обучения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781360"/>
            <a:ext cx="45720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ри ЛОО учащиеся поставлены в позицию субъектов обучения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867280" y="4508640"/>
            <a:ext cx="2017800" cy="2017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692360" y="4581360"/>
            <a:ext cx="1719000" cy="2016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440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Критерии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личностно-ориентированного урок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оздание учителем в начале урока положительного эмоционального настроя на работу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ообщение ученикам не только темы урока (его содержания), но и целей, форм организации их деятельност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Гибкая организация учебной деятельности школьников в зависимости от целей урока (его этапов): сообщение материала, выполнение творческих заданий, взаимопроверка, анализ работы друг с другом с учетом их индивидуальных особенностей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тимулирование учеников к выбору различных способов выполнения заданий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Использование разнообразного дидактического материала, позволяющего ученику проявлять личностную избирательность к типу, виду и форме учебного задания, характеру его выполнения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Активизация субъектного опыта ученика, его использование в процессе урока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Анализ ответа ученика не только с позиции правильности, но и с учетом того, как ученик рассуждал, каким способом решал, где и почему ошибся, высказал ли оригинальные соображения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еобладающая форма общения с классом (диалог, полилог)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едпочитаемые учителем формы работы с классом: проверка домашних заданий, изложение знаний, самостоятельная работа с учебником, коллективное решение творческих задач, взаимопроверка учениками выполненного задания, анализ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разных способов решения и т.п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Учебное занятие по теме «Игрушки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Verdana"/>
              </a:rPr>
              <a:t>8.50 – 9.30, каб. 47, 4 этаж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Verdana"/>
              </a:rPr>
              <a:t>Английский язык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Verdana"/>
              </a:rPr>
              <a:t>2 клас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чебное занятие с использованием игровых технологий как одно из направлений личностно-ориентированного подхода. Игровые технологии способствуют снятию напряжения, эмоциональной разрядки, общению учащихся друг с другом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cc"/>
                </a:solidFill>
                <a:uFillTx/>
                <a:latin typeface="Verdana"/>
              </a:rPr>
              <a:t>Лобова Людмила Юрьевна, учитель английского языка высшей категор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Урок формирования новых знаний по теме «Формула суммы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n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-первых членов арифметической прогрессии».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cc"/>
                </a:solidFill>
                <a:uFillTx/>
                <a:latin typeface="Verdana"/>
              </a:rPr>
              <a:t>8.50 – 9.30, каб. 37, 3 этаж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cc"/>
                </a:solidFill>
                <a:uFillTx/>
                <a:latin typeface="Verdana"/>
              </a:rPr>
              <a:t>Алгебра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cc"/>
                </a:solidFill>
                <a:uFillTx/>
                <a:latin typeface="Verdana"/>
              </a:rPr>
              <a:t>9 класс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99"/>
                </a:solidFill>
                <a:uFillTx/>
                <a:latin typeface="Verdana"/>
              </a:rPr>
              <a:t>Учебное занятие с применением личностно-ориентированного подхода. Используемые приемы: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создание проблемной ситуации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обеспечивает мотивационную готовность и положительный настрой учащихся  к работе на уроке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задачи различного уровня сложности (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т решения «по алгоритму» до использования частично-поискового метода) способствуют развитию индивидуальности учащихся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работа в группах и парах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озволяет развивать коммуникативные навык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использование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сведений из математики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межпредметная связь физики и математики, связь с жизнью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(деление наследства, распределение продуктов и т.д.) позволяют формировать интерес к предмету, развивают познавательные потребности учащихся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cc"/>
                </a:solidFill>
                <a:uFillTx/>
                <a:latin typeface="Verdana"/>
              </a:rPr>
              <a:t>Ткаченко Ирина Николаевна, учитель математики высшей категори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451640" y="765000"/>
            <a:ext cx="1366920" cy="1352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Интегрированный урок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по теме с «Туризм и рекреационные ресурсы Европы»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cc"/>
                </a:solidFill>
                <a:uFillTx/>
                <a:latin typeface="Verdana"/>
              </a:rPr>
              <a:t>8.00 – 10.25, каб. 32, 3 этаж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cc"/>
                </a:solidFill>
                <a:uFillTx/>
                <a:latin typeface="Verdana"/>
              </a:rPr>
              <a:t>география, истор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cc"/>
                </a:solidFill>
                <a:uFillTx/>
                <a:latin typeface="Verdana"/>
              </a:rPr>
              <a:t>11с клас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а уроке «Туризм и рекреационные районы Европы» раскрываются  страны, в которых большого развития достигла туристическая отрасль. Урок проходит в форме деловой игры: группа учащихся - туристическое агенство, рекламирующее свой маршрут в выбранную страну. Визитная карточка страны сопровождается презентациями, слайд-шоу, музыкой, исполнением танцев, выставкой сувениров стран, национальной кухне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Урок  с демонстрацией умений школьников широко использовать для мотивации предмета Интернет-ресурсы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Verdana"/>
              </a:rPr>
              <a:t>Вовенко Л.Г., учитель географии высшей категори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Verdana"/>
              </a:rPr>
              <a:t>Дудакова Л.В., учитель истории высшей категори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588080" y="4797360"/>
            <a:ext cx="1263960" cy="1657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Комбинированный урок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по теме «Социалистическая индустриализация»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8.50 – 9.30, каб. 40, 4 этаж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Обществознан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9 клас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чебное занятие с использованием технологии критического мышления представляет собой урок – лабораторное занятие с элементами деловой игры. В ходе учебного занятия используются различные формы работы с классом: фронтальная, групповая; опережающие задания, для представления большого статистического материала предлагается «рабочий листок». Для контроля используются тестовые задания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Verdana"/>
              </a:rPr>
              <a:t>Буряк И.В., учитель истории и обществознания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Verdana"/>
              </a:rPr>
              <a:t>высшей категор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653000"/>
            <a:ext cx="1766880" cy="1915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3:24:20Z</dcterms:created>
  <dc:creator>Оля</dc:creator>
  <dc:description/>
  <dc:language>en-US</dc:language>
  <cp:lastModifiedBy>Безверхая</cp:lastModifiedBy>
  <dcterms:modified xsi:type="dcterms:W3CDTF">2009-12-10T09:49:35Z</dcterms:modified>
  <cp:revision>14</cp:revision>
  <dc:subject/>
  <dc:title>Муниципальное общеобразовательное учреждение гимназия № 15 им.Н.Н.Белоусова</dc:title>
</cp:coreProperties>
</file>