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11.wmf" ContentType="image/x-wmf"/>
  <Override PartName="/ppt/media/image4.jpeg" ContentType="image/jpeg"/>
  <Override PartName="/ppt/media/image6.gif" ContentType="image/gif"/>
  <Override PartName="/ppt/media/image9.wmf" ContentType="image/x-wmf"/>
  <Override PartName="/ppt/media/image7.gif" ContentType="image/gif"/>
  <Override PartName="/ppt/media/image8.jpeg" ContentType="image/jpeg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085-9DE2-431E-ACE3-18048B84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966-730A-448C-9CC0-66904909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E0A-8985-4D00-AF78-23B41AA9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668-B892-46B0-A6CA-FE418A90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573C-D66E-41FB-B4FC-B6CD985E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62F1-7D34-44E6-8F8C-9BFA0EE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3EC7-75B7-4D12-AD20-32872652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CB8-30F6-4A16-8F49-A9DEF4D2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936A-F76D-46A0-97AF-D2F698E5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79C7-C6E2-4EFE-83DE-4F076F98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7E97-1FB0-4687-9AC1-0213559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712-9FDC-410A-9CD2-94A6B30C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55CB-DB9A-48AE-8294-8AC672D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2D62-4886-4BF5-AD2A-CD4130C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F76-09C2-47F0-8228-F1DB9AE5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7D3C-F0B1-481A-850B-AB623746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1C5-0D4E-4437-9B71-63D2947A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725-E0A4-48A1-818A-4DF455EE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05B-9188-4D94-917C-B928A376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E94-A8B0-49EC-899F-9BCC5F83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61F-B11B-4F01-9D9C-1B076FD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A7A-3BE7-4C47-B8B3-591760D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844-0AA0-4257-99F6-BF62C02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EE7-5025-467D-B1F5-8F86B66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B62B-0741-432D-888A-6118A11F407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3942-2EE7-413A-BF54-FBE315D07A4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429.ru/wp-content/uploads/0334715e06b9ab5889917236443286a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6121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Муниципаль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гимназия № 15 им.Н.Н.Белоусова</a:t>
            </a:r>
            <a:endParaRPr b="1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92360" y="2997360"/>
            <a:ext cx="6146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Основы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едагогического мастерства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. Сочи, 2009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4920" cy="2100240"/>
          </a:xfrm>
          <a:prstGeom prst="rect">
            <a:avLst/>
          </a:prstGeom>
          <a:ln w="0">
            <a:noFill/>
          </a:ln>
        </p:spPr>
      </p:pic>
      <p:pic>
        <p:nvPicPr>
          <p:cNvPr id="170" name="14" descr=""/>
          <p:cNvPicPr/>
          <p:nvPr/>
        </p:nvPicPr>
        <p:blipFill>
          <a:blip r:embed="rId2"/>
          <a:stretch/>
        </p:blipFill>
        <p:spPr>
          <a:xfrm>
            <a:off x="7093080" y="4522680"/>
            <a:ext cx="1590480" cy="1419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чебное занятие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по теме «Типы речи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23, 2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Русский язы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 </a:t>
            </a: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10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нформационно-коммуникационных технологий на основе мультимедийной презентации включает в себя теоретический материал по типам речи, развитие практических навыков определения типов текстов, определение стилей. В ходе учебного занятия повторяются правила орфографии и пунктуации, выполняются тестовые зад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Самохина В.А., учитель русского языка 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литературы 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827360" cy="188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чебное занятие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по теме “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V family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46, 4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Английский язы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5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нформационно-коммуникационных технологий, проектной технологии включает в себя работу над развитием навыков монологической и диалогической речи, расширение словарного запаса, знаний о стране изучаемого языка, развитие творческого мышления. диалогической речи, расширение словарного запаса, знаний о стране изучаемого языка, развитие творческого мышл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ходе урока используются методы и приемы критического мыш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Пискунова Т.Г., учитель английского языка 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817640" cy="148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рок – путешествие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«В гостях с Симпсов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.45 – 10.25, каб. 26, 2 эта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Немецкий язы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 немецкому языку для учащихся 9-го класса разработан в качестве учебного пособия к учебнику «Шаги 5», но может быть использован также с другими учебниками при изучении страноведческого материа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строен с применением средств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wer Point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форме деловой игры - викторины. Он может быть использован на любом этапе работы. Но особенно эффективным может быть его применение на обобщающих уроках повторения по пройденным темам. Данный электронный урок по немецкому языку для учащихся 9-го класса разработан в качестве учебного пособия к учебнику «Шаги 5», но может быть использован также с другими учебниками при изучении страноведческого материа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й электронный урок построен с применением средств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wer Point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форме деловой игры - викторины. Он может быть использован на любом этапе работы. Но особенно эффективным может быть его применение на обобщающих уроках повторения по пройденным темам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cc"/>
                </a:solidFill>
                <a:latin typeface="Verdana"/>
              </a:rPr>
              <a:t>Герштенцвейг В.Р., учитель немецкого языка высшей категори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17144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Мастер-класс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о использованию технологии критического мышл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cc"/>
                </a:solidFill>
                <a:uFillTx/>
                <a:latin typeface="Verdana"/>
              </a:rPr>
              <a:t>10.40 – 11.20, каб. 30, 3 эта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стер-класс дает теоретические основы технологии критического мышления, в практической форме знакомит с приемами, использующимися в технологии, проходит в интерактивном режи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Verdana"/>
              </a:rPr>
              <a:t>Безверхая О.В., зам. директора по научно-методической работ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Verdana"/>
              </a:rPr>
              <a:t>учитель английского языка высшей категор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983360" y="4941720"/>
            <a:ext cx="1160640" cy="172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становочный семина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cc"/>
                </a:solidFill>
                <a:uFillTx/>
                <a:latin typeface="Verdana"/>
              </a:rPr>
              <a:t>8.00 – 8.40, каб. 30, 3 эта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минар обозначает цели проведения «основ педагогического мастерства», знакомит с программой проведения мероприятия, дает теоретические основы личностно-ориентированного под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О.В.Безверхая, зам. директора по научно-методической работе, учитель английского языка высшей категор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4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Verdana"/>
              </a:rPr>
              <a:t>Личностно ориентированное обучение - эт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356560"/>
            <a:ext cx="75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- способ организации обучения, в процессе которого обеспечивается всемерный учет возможностей и способностей обучаемых и создаются необходимые условия для развития их индивидуальных способностей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Цель такого обучения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 —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создание условий для обеспечения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собственной учебной деятельности обучающихся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, учета и развития индивидуальных особеннос­тей школьников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Основной отличительный признак личностно ориентированного обучения – </a:t>
            </a:r>
            <a:r>
              <a:rPr b="1" lang="en-US" sz="3600" spc="-1" strike="noStrike">
                <a:solidFill>
                  <a:srgbClr val="cc00cc"/>
                </a:solidFill>
                <a:latin typeface="Verdana"/>
              </a:rPr>
              <a:t>позиция</a:t>
            </a: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, которую занимают учащиес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1879560"/>
            <a:ext cx="7366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708280"/>
            <a:ext cx="403848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и традиционном обучении учащиеся поставлены в позицию объектов обуч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781360"/>
            <a:ext cx="4572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и ЛОО учащиеся поставлены в позицию субъектов обуч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867280" y="4508640"/>
            <a:ext cx="2017800" cy="201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4581360"/>
            <a:ext cx="1719000" cy="201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Критерии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ичностно-ориентированного уро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здание учителем в начале урока положительного эмоционального настроя на работ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общение ученикам не только темы урока (его содержания), но и целей, форм организации их деятельност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Гибкая организация учебной деятельности школьников в зависимости от целей урока (его этапов): сообщение материала, выполнение творческих заданий, взаимопроверка, анализ работы друг с другом с учетом их индивидуальных особенност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тимулирование учеников к выбору различных способов выполнения задани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ование разнообразного дидактического материала, позволяющего ученику проявлять личностную избирательность к типу, виду и форме учебного задания, характеру его выполне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ктивизация субъектного опыта ученика, его использование в процессе урок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нализ ответа ученика не только с позиции правильности, но и с учетом того, как ученик рассуждал, каким способом решал, где и почему ошибся, высказал ли оригинальные соображени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обладающая форма общения с классом (диалог, полилог)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почитаемые учителем формы работы с классом: проверка домашних заданий, изложение знаний, самостоятельная работа с учебником, коллективное решение творческих задач, взаимопроверка учениками выполненного задания, анализ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зных способов решения и т.п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Учебное занятие по теме «Игрушк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8.50 – 9.30, каб. 47, 4 эта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Английский язы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игровых технологий как одно из направлений личностно-ориентированного подхода. Игровые технологии способствуют снятию напряжения, эмоциональной разрядки, общению учащихся друг с друго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cc"/>
                </a:solidFill>
                <a:uFillTx/>
                <a:latin typeface="Verdana"/>
              </a:rPr>
              <a:t>Лобова Людмила Юрьевна, учитель английского языка высшей категор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рок формирования новых знаний по теме «Формула суммы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-первых членов арифметической прогрессии»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37, 3 эта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Алгебр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99"/>
                </a:solidFill>
                <a:uFillTx/>
                <a:latin typeface="Verdana"/>
              </a:rPr>
              <a:t>Учебное занятие с применением личностно-ориентированного подхода. Используемые приемы: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оздание проблемной ситуаци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обеспечивает мотивационную готовность и положительный настрой учащихся  к работе на уроке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адачи различного уровня сложности (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т решения «по алгоритму» до использования частично-поискового метода) способствуют развитию индивидуальности учащихся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бота в группах и парах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зволяет развивать коммуникативные навык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ование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сведений из математик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межпредметная связь физики и математики, связь с жизнью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деление наследства, распределение продуктов и т.д.) позволяют формировать интерес к предмету, развивают познавательные потребности учащихс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cc"/>
                </a:solidFill>
                <a:uFillTx/>
                <a:latin typeface="Verdana"/>
              </a:rPr>
              <a:t>Ткаченко Ирина Николаевна, учитель математики высшей категори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451640" y="765000"/>
            <a:ext cx="1366920" cy="13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нтегрированный урок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по теме с «Туризм и рекреационные ресурсы Европы»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8.00 – 10.25, каб. 32, 3 эта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география, истор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cc"/>
                </a:solidFill>
                <a:uFillTx/>
                <a:latin typeface="Verdana"/>
              </a:rPr>
              <a:t>11с клас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 уроке «Туризм и рекреационные районы Европы» раскрываются  страны, в которых большого развития достигла туристическая отрасль. Урок проходит в форме деловой игры: группа учащихся - туристическое агенство, рекламирующее свой маршрут в выбранную страну. Визитная карточка страны сопровождается презентациями, слайд-шоу, музыкой, исполнением танцев, выставкой сувениров стран, национальной кухн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рок  с демонстрацией умений школьников широко использовать для мотивации предмета Интернет-ресурс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Verdana"/>
              </a:rPr>
              <a:t>Вовенко Л.Г., учитель географии высшей категор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Verdana"/>
              </a:rPr>
              <a:t>Дудакова Л.В., учитель истории высшей категор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88080" y="4797360"/>
            <a:ext cx="1263960" cy="165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Комбинированный урок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о теме «Социалистическая индустриализация»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8.50 – 9.30, каб. 40, 4 этаж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Обществозн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cc"/>
                </a:solidFill>
                <a:uFillTx/>
                <a:latin typeface="Verdana"/>
              </a:rPr>
              <a:t>9 клас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бное занятие с использованием технологии критического мышления представляет собой урок – лабораторное занятие с элементами деловой игры. В ходе учебного занятия используются различные формы работы с классом: фронтальная, групповая; опережающие задания, для представления большого статистического материала предлагается «рабочий листок». Для контроля используются тестовые зад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Буряк И.В., учитель истории и обществозна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Verdana"/>
              </a:rPr>
              <a:t>высшей катего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653000"/>
            <a:ext cx="1766880" cy="191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4:20Z</dcterms:created>
  <dc:creator>Оля</dc:creator>
  <dc:description/>
  <dc:language>en-US</dc:language>
  <cp:lastModifiedBy>Безверхая</cp:lastModifiedBy>
  <dcterms:modified xsi:type="dcterms:W3CDTF">2009-12-10T09:49:35Z</dcterms:modified>
  <cp:revision>14</cp:revision>
  <dc:subject/>
  <dc:title>Муниципальное общеобразовательное учреждение гимназия № 15 им.Н.Н.Белоусова</dc:title>
</cp:coreProperties>
</file>