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6DF-2098-4348-8D68-63561CC0F3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1BF-124D-498C-9F1C-C2FD7CB67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3710-B755-4253-927F-AE326974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9577-6AFF-4B72-A005-12012F1F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6178-A059-4084-B692-4343418F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DCD5-CFFD-4DF0-A7E1-68D5432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35A6-2817-4C76-A96E-0C798226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370-9B52-49A9-AE8A-5667A7A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5B2-6BC5-48C4-B66E-2D296886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20F-51A8-45F3-8A07-0F362E86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348-6621-4E64-A568-535B93F3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6639-4B90-4F2A-B641-6A5B698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5900-232E-4586-B1DA-187A034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40DE-3682-477C-9C49-60D3A10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3CB-3D93-4C8A-910C-D703310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26E6-ACB7-482C-AD20-6698117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B739-3306-452C-AB2B-D1D42E1C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1B62-EB1E-4C92-B828-7D9493CF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A12-E863-4D83-8CD9-B60143E9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630E-2B8D-4DF7-998D-91A649D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5A35-F7B9-4C17-AF0F-93C50FC6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2D77-3757-4873-ADB3-69C4644E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0AE2-C597-45B5-AD84-D9C689B5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8370-8133-4A6B-843B-1D3948B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0C3E-7FEB-4072-97FE-32CDBA6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5E57-0974-42D5-BC07-85D6DCD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23C-A79F-4FE6-953F-088F4EA8C9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49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02"/>
          <p:cNvPicPr/>
          <p:nvPr/>
        </p:nvPicPr>
        <p:blipFill>
          <a:blip r:embed="rId5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02"/>
          <p:cNvPicPr/>
          <p:nvPr/>
        </p:nvPicPr>
        <p:blipFill>
          <a:blip r:embed="rId6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7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8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03"/>
          <p:cNvPicPr/>
          <p:nvPr/>
        </p:nvPicPr>
        <p:blipFill>
          <a:blip r:embed="rId9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7"/>
          <p:cNvSpPr/>
          <p:nvPr/>
        </p:nvSpPr>
        <p:spPr>
          <a:xfrm>
            <a:off x="800568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4F4A-F983-4872-92CA-FD4E8218BB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Формирование </a:t>
            </a:r>
            <a:r>
              <a:rPr b="1" lang="en-US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rial"/>
              </a:rPr>
              <a:t>культуры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здорового образа жизни</a:t>
            </a:r>
            <a:endParaRPr b="1" lang="en-US" sz="44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68000" y="594972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Выполнила студентка 2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Чиж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95280" y="1336680"/>
            <a:ext cx="842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д здоровым образом жизни следует понимать типичные формы и способы повседневной жизнедеятельности человека, которые укрепляют и совершенствуют резервные возможности организма, обеспечивая тем самым успешное выполнение своих социальных и профессиональных функций независимо от политических, экономических и социально-психологических ситуаций. И выражает ориентированность деятельности личности в направлении формирования, сохранения и укрепления как и индивидуального, так и общественно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ewomans.com/wp-content/uploads/2010/12/healthy_skin_healthy_lifestyle.jpg"/>
          <p:cNvPicPr/>
          <p:nvPr/>
        </p:nvPicPr>
        <p:blipFill>
          <a:blip r:embed="rId1"/>
          <a:stretch/>
        </p:blipFill>
        <p:spPr>
          <a:xfrm>
            <a:off x="3273480" y="3724200"/>
            <a:ext cx="4541760" cy="303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Особенности процесса формирования представлений в ЗОЖ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395280" y="148428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равильно организованный труд может принести вред здоровью. Поэтому большое значение имеет налаживание рациональн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к, умеющий со школьной поры правильно организовать режим своего труда и отдыха, в будущем надолго сохранит бодрость и творческую актив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ый образ жизни формируется всеми сторонами и проявлениями общества, связан с личностно-мотивационным воплощением индивидом своих социальных, психологических и физиологических возможностей и способностей. От того, насколько успешно удается сформировать и закрепить в сознании принципы и навыки здорового образа жизни в молодом возрасте, зависит в последующем вся деятельность, препятствующая раскрытию потенциала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тимальный двигательный реж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циональное пит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али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эмо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http://www.vlivkor.com/uploads/posts/1180020251_img1.gif"/>
          <p:cNvPicPr/>
          <p:nvPr/>
        </p:nvPicPr>
        <p:blipFill>
          <a:blip r:embed="rId1"/>
          <a:stretch/>
        </p:blipFill>
        <p:spPr>
          <a:xfrm>
            <a:off x="6372360" y="5094360"/>
            <a:ext cx="2303280" cy="17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fat-man.ru/wp-content/uploads/2009/09/a003.jpg"/>
          <p:cNvPicPr/>
          <p:nvPr/>
        </p:nvPicPr>
        <p:blipFill>
          <a:blip r:embed="rId1"/>
          <a:stretch/>
        </p:blipFill>
        <p:spPr>
          <a:xfrm>
            <a:off x="4932360" y="4151160"/>
            <a:ext cx="4108320" cy="2633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395280" y="1476360"/>
            <a:ext cx="8424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жим дня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одно из основных условий здорового образа жизни. Четкое выполнение хотя бы в течение нескольких недель заранее продуманного и разумно составленного распорядка дня поможет школьнику выработать у себя динамический стереотип. Его физиологическая основа — формирование в коре больших полушарий определенной последовательности процессов возбуждения и торможения, необходимых для эффектив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учения о динамическом стереотипе И. П. Павлов подчеркивал, что его создание - длительный труд. Закрепившиеся привычки к регулярным занятиям, к разумно организованному распорядку дня помогают поддерживать в течение учебного года хорошую работоспособ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рационального режима дня должна проводиться с учетом особенностей работы конкретного высшего учебного заведения (расписания занятии), оптимального использования имеющихся условий, понимания своих индивидуальных особенностей, в том числе и биоритмов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имо разумного распорядка дня выделим следующие составные части рационального образа жизни школьника, от соблюдения которых зависят успех в учебе и хорошее здоровье: гигиена умственного труда, правильное питание, сон, оптимальная двигательная активность, избавление от вредных привы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http://healyou.ru/wp-content/uploads/zdor365.jpg"/>
          <p:cNvPicPr/>
          <p:nvPr/>
        </p:nvPicPr>
        <p:blipFill>
          <a:blip r:embed="rId1"/>
          <a:stretch/>
        </p:blipFill>
        <p:spPr>
          <a:xfrm>
            <a:off x="5022720" y="3932280"/>
            <a:ext cx="4084920" cy="294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395280" y="1341360"/>
            <a:ext cx="842472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ый режим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ым условием гармоничного развития личности школьника является достаточная двигательная активность. Говоря об оптимальном двигательном режиме, следует учитывать не только исходное состояние здоровья, но и частоту, и систематичность применяемых нагрузок. Занятия должны базироваться на принципах постепенности и последовательности, повторности и систематичности, индивидуализации и регулярности. Доказано, что наилучший оздоровительный эффект (в плане тренировки сердечно-сосудистой и дыхательной систем) дают циклические упражнения аэробного характера: ходьба, легкий бег, плавание, лыжные и велосипедные прогулки. В комплекс ежедневных упражнений необходимо включить также упражнения на гиб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малоподвижных детей очень слабые мышцы. Они н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нии поддерживать тело в правильном положен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них развивается плохая осанка, образуется суту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истематических занятиях физической культур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спортом происходит непрерывное совершенств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ов и систем организме человека. В этом гла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м и заключается положительное влияние физ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ы на укрепление здоровь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primetimeschools.com/blog/wp-content/uploads/2011/03/healthy_children.jpg"/>
          <p:cNvPicPr/>
          <p:nvPr/>
        </p:nvPicPr>
        <p:blipFill>
          <a:blip r:embed="rId1"/>
          <a:stretch/>
        </p:blipFill>
        <p:spPr>
          <a:xfrm>
            <a:off x="5940360" y="2565360"/>
            <a:ext cx="2857680" cy="4124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йдем к следующему фактору здорового образа жизни, влияющему на здоровье человека, к проблеме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я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следнее десятилетие возрос интерес к проблеме питания, так как правильное питание обеспечивает нормальное течение процессов роста и развития организма, а также сохранение здоровья. Человек издавна использовал питание в качестве одного из важнейших средств для укрепления здоровья. Недаром древнегреческие мудрецы утверждали: человек есть суть то, что ест, а Сенека писал, что умеренное питание повышает умственные способности. Ум, говорил он, тупеет от пресыщ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у правильной организации питания детей в различные возрастные периоды должны быть положены следующие основные принцип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рный прием пищи через определенные промежутки времени - главное условие, с которого необходимо начинать организацию питан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етей должно соответствовать уровню развития и функциональным возможностям организма в конкретный возрастно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тельные вещества (белки, жиры, углеводы), поступающие в организм вместе с пищей, должны находиться в определенном соотношении между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олжно быть индивидуальным с учетом особенностей ребенка, состояния здоровья, реакции на пищу и друг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font-clima.com/wp-content/uploads/2011/02/reading-books.jpg"/>
          <p:cNvPicPr/>
          <p:nvPr/>
        </p:nvPicPr>
        <p:blipFill>
          <a:blip r:embed="rId1"/>
          <a:stretch/>
        </p:blipFill>
        <p:spPr>
          <a:xfrm>
            <a:off x="5187960" y="3498840"/>
            <a:ext cx="3956040" cy="33591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эт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Сохранение и укрепление здоровья невозможны без соблюдения правил личной гигиены – комплекса мероприятий по уходу за кожей тела, волосами, полостью рта, одеждой и обув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гиена умственного труд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следующий компонент здорового образа жизни. Можно выделить три вида умственной деятельности. 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тносится легкая умственная работа: чтение художественной литературы, разговор с интересным собеседником. Такая деятельность может продолжаться длительное время без появления утом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ой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 умственной деятельности можно назвать «оперативным мышлением», так как он характерен для труда операторов, диспетчеров. У школьников – это повторение пройденного материала, решение математических задач по известному алгоритму, перевод иностранного текста на русский язык, В данном случае психофизиологические механизмы мозга работают с большим напряжением. Эффективно подобная деятельность может продолжаться 1,5—2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е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у относится работа, отличающаяся наиболее высокой интенсивностью. Это усвоение новой информации, создание новых представлений на базе старых. При такого рода деятельности происходит наиболее активное функционирование физиологических механизмов, осуществляющих процессы мышления и запомина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happynews.com/living/livingimages/cover-children.jpg"/>
          <p:cNvPicPr/>
          <p:nvPr/>
        </p:nvPicPr>
        <p:blipFill>
          <a:blip r:embed="rId1"/>
          <a:stretch/>
        </p:blipFill>
        <p:spPr>
          <a:xfrm>
            <a:off x="5897520" y="2637000"/>
            <a:ext cx="2995560" cy="2993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395280" y="129852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вестно, что основа работы по совершенствованию своей психики самовнушение. Оно повышает эмоциональный тонус, укрепляет уверенность и силу воли. Психическая закалка стимулирует и физиологические защитные механизмы: иммунитет, функцию эндокринных желез. Так мысли укрепляют тело и наоборот: безволие, снижение эмоционального настроя способствуют ухудшению самочувствия, расшатыванию психического и физического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я 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х эмоциях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ледует также помн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в педагогике поощрение считается более эффекти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ычагом  воздействия на ребенка, чем наказ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ывая вышеизложенное, напрашивается вывод, чт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ощряя ребенка, мы сохраняем и  укрепляем его здоров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мотрев условия, необходимые для формирования здоров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жизни сделаем вывод, что молодое поколение наиболе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приимчиво различным обучающим и формирующим воздейств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овательно, здоровый образ жизни формировать необходимо начиная с детского возраста, тогда забота о собственном здоровье как основной ценности станет естественной формой повед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ыводы: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395280" y="1628640"/>
            <a:ext cx="8353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лученные материалы явно указывают на необходимость воспитания у учащихся потребностей в здоровье, формирования у них научных представлений о сущность ЗОЖ и выработки индивидуального способа валеологически обоснован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зультатов дает основания считать, что одной из причин роста патологической пораженности учащихся является их завышенная оценка своего здоровья и, как следствие этого, неадекватное отношение к собственному организму. Этот вывод еще раз указывает на актуальность валеологического образования школьников, в рамках которого важное место должно занять обучение методам валеологического самоанализа и коррекция свое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C:\Documents and Settings\Admin\Рабочий стол\images.jpeg"/>
          <p:cNvPicPr/>
          <p:nvPr/>
        </p:nvPicPr>
        <p:blipFill>
          <a:blip r:embed="rId1"/>
          <a:stretch/>
        </p:blipFill>
        <p:spPr>
          <a:xfrm>
            <a:off x="4356000" y="4653000"/>
            <a:ext cx="3192480" cy="21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ведение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95280" y="1341360"/>
            <a:ext cx="842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а здорового образа жизни (ЗОЖ) человека есть один из результатов социализации личности в общественной среде. Чем выше приоритет здоровья в обществе, тем выше культура здорового образа жизни каждого его члена. Если создать мощную здоровьесберегающую среду, то культура здорового образа жизни каждого ее представителя значительно повыс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591080" y="3529080"/>
            <a:ext cx="339408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95280" y="1341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совместными усилиями родителей, педагогов формировать у детей понятие здорового образа жизни, воспитывать соответствующие навыки и привычки, что будет способствовать эффективности мер социальной защиты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http://www.tuberose.com/Graphics/Drugging_Children.jpeg"/>
          <p:cNvPicPr/>
          <p:nvPr/>
        </p:nvPicPr>
        <p:blipFill>
          <a:blip r:embed="rId1"/>
          <a:stretch/>
        </p:blipFill>
        <p:spPr>
          <a:xfrm>
            <a:off x="2266920" y="2852640"/>
            <a:ext cx="4683240" cy="35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85680" y="1289160"/>
            <a:ext cx="842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a227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В основу программы формирования культуры здорового и безопасного образа жизни положены принципы</a:t>
            </a:r>
            <a:r>
              <a:rPr b="1" lang="en-US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Акту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Доступ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ложительного ори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297320" y="3284640"/>
            <a:ext cx="4305240" cy="28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187280" y="4762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просветительской и мотива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628640"/>
          <a:ext cx="7996320" cy="490392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398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итарно-просветительская работа по формир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ого образа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накомство детей, родителей с основными понятиями – здоровье, здоровый образ жизн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ормирование навыков здорового образа жизни, гигиены, правил   личной безопас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условий для мотивации и стимулирования здорового образа жизн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здоровь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лассных часов и общешкольных мероприятий по пропаганде здорового образа жизни, формированию навыков ЗОЖ, гигиены и лич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еспечение условий для ранней диагностики заболеваний, профилактики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здание условий, предотвращающих ухудшение состояние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помощи детям, перенесшим заболевания, в адаптации к учебному процесс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филактика травмат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питания детей: режим питания; эстетика помещений; пропаганда культуры питания в семь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санитарии и гигиены: генеральные уборки классных комнат, школы; соблюдение санитарно-гигиенических требован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 утомляемости: проведение подвижных перемен; оборудование зон отдых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культурно-оздоровительная, спортивно-массов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Укрепление здоровья детей средствами физической культуры и спорт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Пропаганда физической культуры, спорта, туризма в семье.      3. Всемерное развитие и содействие детскому и взрослому спорту и туризму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объёма и повышение качества оздоровительной и спортивно-массовой работы в прогимназии: организация подвижных игр;          соревнований по отдельным видам спорта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ртакиады, дни здоровья, 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к организации физкультурно-оздоровительной и спортивно-массовой работе с детьми тренеров ДЮСШ, родителе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44520" y="1341360"/>
            <a:ext cx="84247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Сомат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кущее состояние органов и систем организма человека, - основу которого составляет биологическая программа индивидуального</a:t>
            </a:r>
            <a:r>
              <a:rPr b="0" i="1" lang="en-US" sz="1800" spc="-1" strike="noStrike">
                <a:solidFill>
                  <a:srgbClr val="c00000"/>
                </a:solidFill>
                <a:latin typeface="comic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вития, опосредованная базовыми потребностями, доминирующими на различных этапах онтогенетического развития. Эти потребности, во-первых, являются пусковым механизмом развития человека, а во-вторых, обеспечивают индивидуализацию эт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Физ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уровень роста и развития органов и систем организма, - основу которого составляют морфофизиологические и функциональные резервы, обеспечивающие адаптационные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9640" y="2602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2d48"/>
                </a:solidFill>
                <a:latin typeface="Arial"/>
              </a:rPr>
              <a:t>В настоящее время принято выделить несколько компонентов (видов)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324000" y="1557360"/>
            <a:ext cx="83516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сихическое здоровь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остояние психической сферы, - основу которого составляет состояние общего душевного комфорта, обеспечивающее адекватную поведенческую реакцию. Такое состояние обусловлено как биологическими, так и социальными потребностями, в также возможностями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равственное здоровье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– комплекс характеристик мотивационной и потребностно-информативной сферы жизнедеятельности, - основу которого определяет система ценностей, установок и мотивов поведения индивида в обществе. Нравственным здоровьем опосредована духовность человека, так как оно связано с общечеловеческими истинами добра, любв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39:01Z</dcterms:created>
  <dc:creator>Admin</dc:creator>
  <dc:description/>
  <dc:language>en-US</dc:language>
  <cp:lastModifiedBy>ZooM</cp:lastModifiedBy>
  <dcterms:modified xsi:type="dcterms:W3CDTF">2013-12-03T20:40:34Z</dcterms:modified>
  <cp:revision>74</cp:revision>
  <dc:subject/>
  <dc:title>Воспитание культуры здорового образа жизни</dc:title>
</cp:coreProperties>
</file>