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631D-38D1-40F3-89E2-9348A4FDFF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CD4E-9087-426E-8D7B-84BA3981AD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818F-75D0-4090-B887-12AB37FF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A25F-930F-46E5-8656-A778FED7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B23E-28C6-4308-AE66-4F0360C2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D6C6-16CF-4462-9B3C-5FCCC610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4A9E-5774-4C18-8F1F-9FBF509C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E3B-1A56-444E-B411-A6DB2640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2EE5-D146-4429-957C-1A696B9A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379E-6FDF-459A-B0B0-7CA33AC6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DDF5-62EF-44F8-B312-A8D3306E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134E-DF09-4FB9-9CFE-BE8978D4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5ABC-5FC5-48D8-930F-B801D731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0E162-6F83-4A80-9A60-B978B6D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0D44-9CA4-4557-A850-654472D0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2714-0B79-45DE-83E3-14E95200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C491-A7D0-43D1-855D-A37AFBDD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9A7-076C-41E1-A7C0-7A6AA960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DE6E-BCC3-4CE6-8EE4-FEA72AEE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EBCB-D998-4949-8C1A-1AB7EA28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7B0C-DD2F-4BD8-88E4-2DBFC857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9E4F-2016-4B80-866E-73EDEE94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0080-20CF-4FB0-9E19-5EBDDD93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20B4-F65B-478D-BDD7-EDEBF0F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FC32-8E07-47FF-B7D5-69F437F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714E-1618-4273-95BC-0257118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5B69-C51D-43C8-80FF-8C3A44433B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49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e7f4ce"/>
                </a:gs>
                <a:gs pos="100000">
                  <a:srgbClr val="aad9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a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559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a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aad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4" descr="02"/>
          <p:cNvPicPr/>
          <p:nvPr/>
        </p:nvPicPr>
        <p:blipFill>
          <a:blip r:embed="rId5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559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02"/>
          <p:cNvPicPr/>
          <p:nvPr/>
        </p:nvPicPr>
        <p:blipFill>
          <a:blip r:embed="rId6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7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8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03"/>
          <p:cNvPicPr/>
          <p:nvPr/>
        </p:nvPicPr>
        <p:blipFill>
          <a:blip r:embed="rId9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7"/>
          <p:cNvSpPr/>
          <p:nvPr/>
        </p:nvSpPr>
        <p:spPr>
          <a:xfrm>
            <a:off x="800568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c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7363-55A4-4F79-97F6-332AA2B416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 </a:t>
            </a: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Формирование </a:t>
            </a:r>
            <a:r>
              <a:rPr b="1" lang="en-US" sz="4400" spc="-1" strike="noStrike">
                <a:solidFill>
                  <a:srgbClr val="f1fbee"/>
                </a:solidFill>
                <a:latin typeface="Adventure"/>
              </a:rPr>
              <a:t> </a:t>
            </a:r>
            <a:r>
              <a:rPr b="1" lang="ru-RU" sz="4400" spc="-1" strike="noStrike">
                <a:solidFill>
                  <a:srgbClr val="f1fbee"/>
                </a:solidFill>
                <a:latin typeface="Arial"/>
              </a:rPr>
              <a:t>культуры </a:t>
            </a:r>
            <a:r>
              <a:rPr b="1" lang="ru-RU" sz="4400" spc="-1" strike="noStrike">
                <a:solidFill>
                  <a:srgbClr val="f1fbee"/>
                </a:solidFill>
                <a:latin typeface="Adventure"/>
              </a:rPr>
              <a:t>здорового образа жизни</a:t>
            </a:r>
            <a:endParaRPr b="1" lang="en-US" sz="44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268000" y="5949720"/>
            <a:ext cx="5715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3c60"/>
                </a:solidFill>
                <a:latin typeface="Adventure"/>
              </a:rPr>
              <a:t>Выполнила студентка 2 ку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63c60"/>
                </a:solidFill>
                <a:latin typeface="Adventure"/>
              </a:rPr>
              <a:t>Чижова 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95280" y="1336680"/>
            <a:ext cx="8424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под здоровым образом жизни следует понимать типичные формы и способы повседневной жизнедеятельности человека, которые укрепляют и совершенствуют резервные возможности организма, обеспечивая тем самым успешное выполнение своих социальных и профессиональных функций независимо от политических, экономических и социально-психологических ситуаций. И выражает ориентированность деятельности личности в направлении формирования, сохранения и укрепления как и индивидуального, так и общественно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ewomans.com/wp-content/uploads/2010/12/healthy_skin_healthy_lifestyle.jpg"/>
          <p:cNvPicPr/>
          <p:nvPr/>
        </p:nvPicPr>
        <p:blipFill>
          <a:blip r:embed="rId1"/>
          <a:stretch/>
        </p:blipFill>
        <p:spPr>
          <a:xfrm>
            <a:off x="3273480" y="3724200"/>
            <a:ext cx="4541760" cy="303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dventure"/>
              </a:rPr>
              <a:t>Особенности процесса формирования представлений в ЗОЖ.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395280" y="148428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равильно организованный труд может принести вред здоровью. Поэтому большое значение имеет налаживание рациональн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к, умеющий со школьной поры правильно организовать режим своего труда и отдыха, в будущем надолго сохранит бодрость и творческую актив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ый образ жизни формируется всеми сторонами и проявлениями общества, связан с личностно-мотивационным воплощением индивидом своих социальных, психологических и физиологических возможностей и способностей. От того, насколько успешно удается сформировать и закрепить в сознании принципы и навыки здорового образа жизни в молодом возрасте, зависит в последующем вся деятельность, препятствующая раскрытию потенциала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современным представлениям в понятие здорового образа жизни входят следующие составля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тимальный двигательный режи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каз от вредных пристрастий (курение, употребление алкогольных напитков и наркотических вещест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циональное пит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али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ая гигие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эмо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http://www.vlivkor.com/uploads/posts/1180020251_img1.gif"/>
          <p:cNvPicPr/>
          <p:nvPr/>
        </p:nvPicPr>
        <p:blipFill>
          <a:blip r:embed="rId1"/>
          <a:stretch/>
        </p:blipFill>
        <p:spPr>
          <a:xfrm>
            <a:off x="6372360" y="5094360"/>
            <a:ext cx="2303280" cy="171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fat-man.ru/wp-content/uploads/2009/09/a003.jpg"/>
          <p:cNvPicPr/>
          <p:nvPr/>
        </p:nvPicPr>
        <p:blipFill>
          <a:blip r:embed="rId1"/>
          <a:stretch/>
        </p:blipFill>
        <p:spPr>
          <a:xfrm>
            <a:off x="4932360" y="4151160"/>
            <a:ext cx="4108320" cy="2633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395280" y="1476360"/>
            <a:ext cx="8424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жим дня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одно из основных условий здорового образа жизни. Четкое выполнение хотя бы в течение нескольких недель заранее продуманного и разумно составленного распорядка дня поможет школьнику выработать у себя динамический стереотип. Его физиологическая основа — формирование в коре больших полушарий определенной последовательности процессов возбуждения и торможения, необходимых для эффективн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учения о динамическом стереотипе И. П. Павлов подчеркивал, что его создание - длительный труд. Закрепившиеся привычки к регулярным занятиям, к разумно организованному распорядку дня помогают поддерживать в течение учебного года хорошую работоспособ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рационального режима дня должна проводиться с учетом особенностей работы конкретного высшего учебного заведения (расписания занятии), оптимального использования имеющихся условий, понимания своих индивидуальных особенностей, в том числе и биоритмов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имо разумного распорядка дня выделим следующие составные части рационального образа жизни школьника, от соблюдения которых зависят успех в учебе и хорошее здоровье: гигиена умственного труда, правильное питание, сон, оптимальная двигательная активность, избавление от вредных привы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http://healyou.ru/wp-content/uploads/zdor365.jpg"/>
          <p:cNvPicPr/>
          <p:nvPr/>
        </p:nvPicPr>
        <p:blipFill>
          <a:blip r:embed="rId1"/>
          <a:stretch/>
        </p:blipFill>
        <p:spPr>
          <a:xfrm>
            <a:off x="5022720" y="3932280"/>
            <a:ext cx="4084920" cy="2949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395280" y="1341360"/>
            <a:ext cx="842472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ющий фактор здорового образа жизни –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игательный режим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ым условием гармоничного развития личности школьника является достаточная двигательная активность. Говоря об оптимальном двигательном режиме, следует учитывать не только исходное состояние здоровья, но и частоту, и систематичность применяемых нагрузок. Занятия должны базироваться на принципах постепенности и последовательности, повторности и систематичности, индивидуализации и регулярности. Доказано, что наилучший оздоровительный эффект (в плане тренировки сердечно-сосудистой и дыхательной систем) дают циклические упражнения аэробного характера: ходьба, легкий бег, плавание, лыжные и велосипедные прогулки. В комплекс ежедневных упражнений необходимо включить также упражнения на гиб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малоподвижных детей очень слабые мышцы. Они н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нии поддерживать тело в правильном положен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них развивается плохая осанка, образуется суту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систематических занятиях физической культур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спортом происходит непрерывное совершенств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ов и систем организме человека. В этом глав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м и заключается положительное влияние физ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ы на укрепление здоровь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8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primetimeschools.com/blog/wp-content/uploads/2011/03/healthy_children.jpg"/>
          <p:cNvPicPr/>
          <p:nvPr/>
        </p:nvPicPr>
        <p:blipFill>
          <a:blip r:embed="rId1"/>
          <a:stretch/>
        </p:blipFill>
        <p:spPr>
          <a:xfrm>
            <a:off x="5940360" y="2565360"/>
            <a:ext cx="2857680" cy="4124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395280" y="134136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йдем к следующему фактору здорового образа жизни, влияющему на здоровье человека, к проблеме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я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следнее десятилетие возрос интерес к проблеме питания, так как правильное питание обеспечивает нормальное течение процессов роста и развития организма, а также сохранение здоровья. Человек издавна использовал питание в качестве одного из важнейших средств для укрепления здоровья. Недаром древнегреческие мудрецы утверждали: человек есть суть то, что ест, а Сенека писал, что умеренное питание повышает умственные способности. Ум, говорил он, тупеет от пресыще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7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снову правильной организации питания детей в различные возрастные периоды должны быть положены следующие основные принцип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рный прием пищи через определенные промежутки времени - главное условие, с которого необходимо начинать организацию питан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е детей должно соответствовать уровню развития и функциональным возможностям организма в конкретный возрастно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тельные вещества (белки, жиры, углеводы), поступающие в организм вместе с пищей, должны находиться в определенном соотношении между со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тание должно быть индивидуальным с учетом особенностей ребенка, состояния здоровья, реакции на пищу и друго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font-clima.com/wp-content/uploads/2011/02/reading-books.jpg"/>
          <p:cNvPicPr/>
          <p:nvPr/>
        </p:nvPicPr>
        <p:blipFill>
          <a:blip r:embed="rId1"/>
          <a:stretch/>
        </p:blipFill>
        <p:spPr>
          <a:xfrm>
            <a:off x="5187960" y="3498840"/>
            <a:ext cx="3956040" cy="33591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395280" y="134136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ующий фактор здорового образа жизни – это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ая гигиена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Сохранение и укрепление здоровья невозможны без соблюдения правил личной гигиены – комплекса мероприятий по уходу за кожей тела, волосами, полостью рта, одеждой и обув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гиена умственного труда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следующий компонент здорового образа жизни. Можно выделить три вида умственной деятельности. К </a:t>
            </a: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му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относится легкая умственная работа: чтение художественной литературы, разговор с интересным собеседником. Такая деятельность может продолжаться длительное время без появления утом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ой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ид умственной деятельности можно назвать «оперативным мышлением», так как он характерен для труда операторов, диспетчеров. У школьников – это повторение пройденного материала, решение математических задач по известному алгоритму, перевод иностранного текста на русский язык, В данном случае психофизиологические механизмы мозга работают с большим напряжением. Эффективно подобная деятельность может продолжаться 1,5—2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</a:t>
            </a: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ему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иду относится работа, отличающаяся наиболее высокой интенсивностью. Это усвоение новой информации, создание новых представлений на базе старых. При такого рода деятельности происходит наиболее активное функционирование физиологических механизмов, осуществляющих процессы мышления и запомина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5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happynews.com/living/livingimages/cover-children.jpg"/>
          <p:cNvPicPr/>
          <p:nvPr/>
        </p:nvPicPr>
        <p:blipFill>
          <a:blip r:embed="rId1"/>
          <a:stretch/>
        </p:blipFill>
        <p:spPr>
          <a:xfrm>
            <a:off x="5897520" y="2637000"/>
            <a:ext cx="2995560" cy="2993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395280" y="1298520"/>
            <a:ext cx="8424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вестно, что основа работы по совершенствованию своей психики самовнушение. Оно повышает эмоциональный тонус, укрепляет уверенность и силу воли. Психическая закалка стимулирует и физиологические защитные механизмы: иммунитет, функцию эндокринных желез. Так мысли укрепляют тело и наоборот: безволие, снижение эмоционального настроя способствуют ухудшению самочувствия, расшатыванию психического и физического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я о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х эмоциях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ледует также помни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в педагогике поощрение считается более эффектив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ычагом  воздействия на ребенка, чем наказ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ывая вышеизложенное, напрашивается вывод, чт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ощряя ребенка, мы сохраняем и  укрепляем его здоров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наобор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мотрев условия, необходимые для формирования здоров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жизни сделаем вывод, что молодое поколение наиболе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приимчиво различным обучающим и формирующим воздейств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овательно, здоровый образ жизни формировать необходимо начиная с детского возраста, тогда забота о собственном здоровье как основной ценности станет естественной формой поведения.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[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dventure"/>
              </a:rPr>
              <a:t>Выводы: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395280" y="1628640"/>
            <a:ext cx="8353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полученные материалы явно указывают на необходимость воспитания у учащихся потребностей в здоровье, формирования у них научных представлений о сущность ЗОЖ и выработки индивидуального способа валеологически обоснованного пове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результатов дает основания считать, что одной из причин роста патологической пораженности учащихся является их завышенная оценка своего здоровья и, как следствие этого, неадекватное отношение к собственному организму. Этот вывод еще раз указывает на актуальность валеологического образования школьников, в рамках которого важное место должно занять обучение методам валеологического самоанализа и коррекция своего образа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C:\Documents and Settings\Admin\Рабочий стол\images.jpeg"/>
          <p:cNvPicPr/>
          <p:nvPr/>
        </p:nvPicPr>
        <p:blipFill>
          <a:blip r:embed="rId1"/>
          <a:stretch/>
        </p:blipFill>
        <p:spPr>
          <a:xfrm>
            <a:off x="4356000" y="4653000"/>
            <a:ext cx="3192480" cy="21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3c60"/>
                </a:solidFill>
                <a:latin typeface="Adventure"/>
              </a:rPr>
              <a:t>Введение</a:t>
            </a: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95280" y="1341360"/>
            <a:ext cx="842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а здорового образа жизни (ЗОЖ) человека есть один из результатов социализации личности в общественной среде. Чем выше приоритет здоровья в обществе, тем выше культура здорового образа жизни каждого его члена. Если создать мощную здоровьесберегающую среду, то культура здорового образа жизни каждого ее представителя значительно повыс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C:\Documents and Settings\Admin\Рабочий стол\default.jpeg"/>
          <p:cNvPicPr/>
          <p:nvPr/>
        </p:nvPicPr>
        <p:blipFill>
          <a:blip r:embed="rId1"/>
          <a:stretch/>
        </p:blipFill>
        <p:spPr>
          <a:xfrm>
            <a:off x="4591080" y="3529080"/>
            <a:ext cx="339408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395280" y="1341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 совместными усилиями родителей, педагогов формировать у детей понятие здорового образа жизни, воспитывать соответствующие навыки и привычки, что будет способствовать эффективности мер социальной защиты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http://www.tuberose.com/Graphics/Drugging_Children.jpeg"/>
          <p:cNvPicPr/>
          <p:nvPr/>
        </p:nvPicPr>
        <p:blipFill>
          <a:blip r:embed="rId1"/>
          <a:stretch/>
        </p:blipFill>
        <p:spPr>
          <a:xfrm>
            <a:off x="2266920" y="2852640"/>
            <a:ext cx="4683240" cy="35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3c60"/>
                </a:solidFill>
                <a:latin typeface="Adventure"/>
              </a:rPr>
              <a:t>.</a:t>
            </a:r>
            <a:endParaRPr b="1" lang="en-US" sz="3200" spc="-1" strike="noStrike">
              <a:solidFill>
                <a:srgbClr val="063c6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85680" y="1289160"/>
            <a:ext cx="842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a227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В основу программы формирования культуры здорового и безопасного образа жизни положены принципы</a:t>
            </a:r>
            <a:r>
              <a:rPr b="1" lang="en-US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Акту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Доступ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Положительного ориен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42d4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2d48"/>
                </a:solidFill>
                <a:latin typeface="Times New Roman"/>
                <a:ea typeface="Times New Roman"/>
              </a:rPr>
              <a:t>Последов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Documents and Settings\Admin\Рабочий стол\default.jpeg"/>
          <p:cNvPicPr/>
          <p:nvPr/>
        </p:nvPicPr>
        <p:blipFill>
          <a:blip r:embed="rId1"/>
          <a:stretch/>
        </p:blipFill>
        <p:spPr>
          <a:xfrm>
            <a:off x="4297320" y="3284640"/>
            <a:ext cx="4305240" cy="28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187280" y="4762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просветительской и мотива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8040" y="1628640"/>
          <a:ext cx="7996320" cy="490392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398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итарно-просветительская работа по формир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ого образа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Знакомство детей, родителей с основными понятиями – здоровье, здоровый образ жизн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Формирование навыков здорового образа жизни, гигиены, правил   личной безопасност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условий для мотивации и стимулирования здорового образа жизн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здоровь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лассных часов и общешкольных мероприятий по пропаганде здорового образа жизни, формированию навыков ЗОЖ, гигиены и личной безопас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5336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420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еспечение условий для ранней диагностики заболеваний, профилактики здоровь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здание условий, предотвращающих ухудшение состояние здоровь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помощи детям, перенесшим заболевания, в адаптации к учебному процессу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филактика травмат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мер по улучшению питания детей: режим питания; эстетика помещений; пропаганда культуры питания в семье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мер по улучшению санитарии и гигиены: генеральные уборки классных комнат, школы; соблюдение санитарно-гигиенических требован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ка утомляемости: проведение подвижных перемен; оборудование зон отдых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63c6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533600"/>
          <a:ext cx="8229600" cy="512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bbeaa8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5760">
                      <a:solidFill>
                        <a:srgbClr val="bbeaa8"/>
                      </a:solidFill>
                    </a:lnT>
                    <a:lnB w="18720">
                      <a:solidFill>
                        <a:srgbClr val="bbeaa8"/>
                      </a:solidFill>
                    </a:lnB>
                    <a:solidFill>
                      <a:srgbClr val="5598cf"/>
                    </a:solidFill>
                  </a:tcPr>
                </a:tc>
              </a:tr>
              <a:tr h="420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культурно-оздоровительная, спортивно-массов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   Укрепление здоровья детей средствами физической культуры и спорт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Пропаганда физической культуры, спорта, туризма в семье.      3. Всемерное развитие и содействие детскому и взрослому спорту и туризму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объёма и повышение качества оздоровительной и спортивно-массовой работы в прогимназии: организация подвижных игр;          соревнований по отдельным видам спорта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артакиады, дни здоровья, 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к организации физкультурно-оздоровительной и спортивно-массовой работе с детьми тренеров ДЮСШ, родителе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aa8"/>
                      </a:solidFill>
                    </a:lnL>
                    <a:lnR w="5760">
                      <a:solidFill>
                        <a:srgbClr val="bbeaa8"/>
                      </a:solidFill>
                    </a:lnR>
                    <a:lnT w="18720">
                      <a:solidFill>
                        <a:srgbClr val="bbeaa8"/>
                      </a:solidFill>
                    </a:lnT>
                    <a:lnB w="5760">
                      <a:solidFill>
                        <a:srgbClr val="bbeaa8"/>
                      </a:solidFill>
                    </a:lnB>
                    <a:solidFill>
                      <a:srgbClr val="d1dde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44520" y="1341360"/>
            <a:ext cx="842472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Соматическое здоровье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текущее состояние органов и систем организма человека, - основу которого составляет биологическая программа индивидуального</a:t>
            </a:r>
            <a:r>
              <a:rPr b="0" i="1" lang="en-US" sz="1800" spc="-1" strike="noStrike">
                <a:solidFill>
                  <a:srgbClr val="c00000"/>
                </a:solidFill>
                <a:latin typeface="comic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вития, опосредованная базовыми потребностями, доминирующими на различных этапах онтогенетического развития. Эти потребности, во-первых, являются пусковым механизмом развития человека, а во-вторых, обеспечивают индивидуализацию эт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Физическое здоровье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уровень роста и развития органов и систем организма, - основу которого составляют морфофизиологические и функциональные резервы, обеспечивающие адаптационные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539640" y="2602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2d48"/>
                </a:solidFill>
                <a:latin typeface="Arial"/>
              </a:rPr>
              <a:t>В настоящее время принято выделить несколько компонентов (видов)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324000" y="1557360"/>
            <a:ext cx="835164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сихическое здоровье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–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состояние психической сферы, - основу которого составляет состояние общего душевного комфорта, обеспечивающее адекватную поведенческую реакцию. Такое состояние обусловлено как биологическими, так и социальными потребностями, в также возможностями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равственное здоровье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 – комплекс характеристик мотивационной и потребностно-информативной сферы жизнедеятельности, - основу которого определяет система ценностей, установок и мотивов поведения индивида в обществе. Нравственным здоровьем опосредована духовность человека, так как оно связано с общечеловеческими истинами добра, любв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9:39:01Z</dcterms:created>
  <dc:creator>Admin</dc:creator>
  <dc:description/>
  <dc:language>en-US</dc:language>
  <cp:lastModifiedBy>ZooM</cp:lastModifiedBy>
  <dcterms:modified xsi:type="dcterms:W3CDTF">2013-12-03T20:40:34Z</dcterms:modified>
  <cp:revision>74</cp:revision>
  <dc:subject/>
  <dc:title>Воспитание культуры здорового образа жизни</dc:title>
</cp:coreProperties>
</file>