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26D-7CEF-49F8-892B-FEFD57B43B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78A2-5998-4E1A-BA52-28D84525D0FF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9C49-5229-43B8-AA4C-D4FFFE10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5FA8-3871-4DD3-8984-4E6A6EC3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852-CB4E-4941-9319-75854185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E255-4925-443D-BF89-468B091C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A8D0-06D9-41C0-995B-7AD27EBF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6E7-006C-446A-9FDF-D14D755E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400C-6DDF-48C1-809F-8CE48B0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2AB8-D1E4-4987-BFC2-51F7A70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8A9A-BA0F-4DD3-B00A-778A3014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E865-B119-4D60-9BB4-83E2B0D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9CD8-E142-4DE6-A7A9-2DF85FF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701F-CC66-4874-94B1-F7D1DB4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7D62-65DB-47C9-9B3D-6D85D7D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4FC-555D-4173-9A47-65CA1EC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5DEB-9A71-44F3-9444-E9445B2C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F238-CE32-4E01-B8AF-31B32952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F7FD-DD09-42C6-9B71-EF66D269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6D53-B9CF-4AB2-B2F5-21D925BF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0E71-FCE6-4764-8BAA-16BAF5BB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FEEC-1A83-476B-A167-4806780C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8F67-B958-4A13-ACCB-67940DD1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B2EA-AF8F-4048-922A-54B575F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A9CB-B715-41DD-BC29-8625C0A5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96C4-6B49-41DF-B05C-3877BA48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21DF-0702-4D0E-AEB1-C087232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4083-BBF9-4630-9B53-8F10DEC4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53E9-D075-4EF5-AE34-521C12A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C405-ABF0-4D1A-AA6F-7671BACF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360B-32B2-48F5-BB6A-23F5BA56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3D4A-6CAA-4A9F-8C4C-5E26EBEE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59E9-5168-4BB9-B9A3-232FF96A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642D-643B-4633-BB9D-A644E5E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3ADB-39A2-4BF2-BC5D-5B65434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239A-4F12-4084-8E6B-FDD2041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A6BD-108B-4972-997C-A815468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098E-6564-4A36-858B-E725D19D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2AD1-D5A7-4F82-8E05-655C287350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14CA-CDB1-488F-9977-506536AD0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21E1-7A2A-4DF4-BAA4-E104E50F62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festival.1september.ru/articles/560632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830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«Орнамент - математическое воплощение красоты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5640" y="3758760"/>
            <a:ext cx="70563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читель математик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ОУ Хотьковская средняя общеобразовательная школа №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дорова Валентина Викторовн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564000" y="6045120"/>
            <a:ext cx="165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01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имеры русского орнамен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4" descr="images"/>
          <p:cNvPicPr/>
          <p:nvPr/>
        </p:nvPicPr>
        <p:blipFill>
          <a:blip r:embed="rId1"/>
          <a:stretch/>
        </p:blipFill>
        <p:spPr>
          <a:xfrm>
            <a:off x="900000" y="1341360"/>
            <a:ext cx="222912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s"/>
          <p:cNvPicPr/>
          <p:nvPr/>
        </p:nvPicPr>
        <p:blipFill>
          <a:blip r:embed="rId2"/>
          <a:stretch/>
        </p:blipFill>
        <p:spPr>
          <a:xfrm>
            <a:off x="6516720" y="1484280"/>
            <a:ext cx="2336760" cy="23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22"/>
          <p:cNvPicPr/>
          <p:nvPr/>
        </p:nvPicPr>
        <p:blipFill>
          <a:blip r:embed="rId3"/>
          <a:stretch/>
        </p:blipFill>
        <p:spPr>
          <a:xfrm>
            <a:off x="2340000" y="4005360"/>
            <a:ext cx="4968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еобразования, используемые для создания орнамент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раллельный перен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нтральн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ев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араллельный перено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0" name="Picture 4" descr="параллельный перенос"/>
          <p:cNvPicPr/>
          <p:nvPr/>
        </p:nvPicPr>
        <p:blipFill>
          <a:blip r:embed="rId1"/>
          <a:stretch/>
        </p:blipFill>
        <p:spPr>
          <a:xfrm>
            <a:off x="2340000" y="1268280"/>
            <a:ext cx="4248000" cy="3606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6000" y="537372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араллельном переносе все точки фигуры смещаются в одном  и том же направлении на одно и то же расстоя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альн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4" descr="центральная симметрия"/>
          <p:cNvPicPr/>
          <p:nvPr/>
        </p:nvPicPr>
        <p:blipFill>
          <a:blip r:embed="rId1"/>
          <a:stretch/>
        </p:blipFill>
        <p:spPr>
          <a:xfrm>
            <a:off x="1042920" y="1628640"/>
            <a:ext cx="7561440" cy="259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640" y="5013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центральной симметрии каждая точка переходит в точку симметричную ей относительно фиксированной точ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сев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Picture 4" descr="осевая симметрия"/>
          <p:cNvPicPr/>
          <p:nvPr/>
        </p:nvPicPr>
        <p:blipFill>
          <a:blip r:embed="rId1"/>
          <a:stretch/>
        </p:blipFill>
        <p:spPr>
          <a:xfrm>
            <a:off x="1979640" y="119700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севой симметрии каждая точка фигуры переходит в точку, симметричную ей относительно фиксированной пря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воро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4" descr="поворот"/>
          <p:cNvPicPr/>
          <p:nvPr/>
        </p:nvPicPr>
        <p:blipFill>
          <a:blip r:embed="rId1"/>
          <a:stretch/>
        </p:blipFill>
        <p:spPr>
          <a:xfrm>
            <a:off x="2340000" y="1197000"/>
            <a:ext cx="4321080" cy="3740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овороте все точки фигуры поворачиваются на один и тот же угол вокруг одной и той же точки – центра поворо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осев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1803600" cy="217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1726920" cy="2146320"/>
          </a:xfrm>
          <a:prstGeom prst="rect">
            <a:avLst/>
          </a:prstGeom>
          <a:ln w="0">
            <a:noFill/>
          </a:ln>
        </p:spPr>
      </p:pic>
      <p:sp>
        <p:nvSpPr>
          <p:cNvPr id="214" name="Line 6"/>
          <p:cNvSpPr/>
          <p:nvPr/>
        </p:nvSpPr>
        <p:spPr>
          <a:xfrm flipV="1">
            <a:off x="4716360" y="24922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763640" y="5013360"/>
            <a:ext cx="5688000" cy="142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692360" y="1844640"/>
            <a:ext cx="633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4"/>
          <a:stretch/>
        </p:blipFill>
        <p:spPr>
          <a:xfrm>
            <a:off x="4788000" y="479736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8097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25 -2.22222E-006 L 0.45625 -2.22222E-006 E">
                                      <p:cBhvr>
                                        <p:cTn id="14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центральн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1719360" cy="211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4248000" cy="1976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547640" y="1628640"/>
            <a:ext cx="633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7848720" cy="211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Рисунок1"/>
          <p:cNvPicPr/>
          <p:nvPr/>
        </p:nvPicPr>
        <p:blipFill>
          <a:blip r:embed="rId2"/>
          <a:stretch/>
        </p:blipFill>
        <p:spPr>
          <a:xfrm>
            <a:off x="611280" y="1628640"/>
            <a:ext cx="368928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Рисунок1"/>
          <p:cNvPicPr/>
          <p:nvPr/>
        </p:nvPicPr>
        <p:blipFill>
          <a:blip r:embed="rId3"/>
          <a:stretch/>
        </p:blipFill>
        <p:spPr>
          <a:xfrm>
            <a:off x="468360" y="1628640"/>
            <a:ext cx="368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44393 0.00139 E">
                                      <p:cBhvr>
                                        <p:cTn id="168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Цель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демонстрировать возможности законов геометрии при создании различных орнаментов, украшающих многие предметы декоративно-прикладного искусст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торить и расширить знания об известных видах симметр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ся выделять и описывать симметрию в рисунке орнам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бщить и систематизировать сведения, использующиеся при создании орнам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1434960" cy="17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1655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251000" cy="151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4"/>
          <a:stretch/>
        </p:blipFill>
        <p:spPr>
          <a:xfrm>
            <a:off x="2627280" y="1989000"/>
            <a:ext cx="1585800" cy="1257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5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6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36720" cy="25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736720" cy="257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7370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92000" y="1268280"/>
            <a:ext cx="8352000" cy="1125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47640" y="3068640"/>
            <a:ext cx="8496360" cy="884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719280" y="4797360"/>
            <a:ext cx="8424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6048360" cy="362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9"/>
          <p:cNvSpPr/>
          <p:nvPr/>
        </p:nvSpPr>
        <p:spPr>
          <a:xfrm>
            <a:off x="6516720" y="1817640"/>
            <a:ext cx="24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так, мы с вами познакомились с историей развития орнамента и узнали, какие бывают виды орнамен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спользуемые источник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.В. Слесарева «Чудесная тайна геометр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а в школе,  О.Э. Анацко, Е.М. Ханукович,  Бинарный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льман Я.И. «Занимательная геометр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festival.1september.ru/articles/560632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050920" y="3141720"/>
            <a:ext cx="5618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3311280" cy="2562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73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иды орнамент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Рисунок 17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2843280" y="2492280"/>
            <a:ext cx="358128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2314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скост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87280" y="530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остной орнамент представляет украшение, выполненное на плоскости с помощью линий. Плоскостные орнаменты применяются при украшении одежды, росписи стен зданий в виде бордюров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68360" y="213372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133720"/>
            <a:ext cx="3601800" cy="676080"/>
            <a:chOff x="2987640" y="2133720"/>
            <a:chExt cx="3601800" cy="676080"/>
          </a:xfrm>
        </p:grpSpPr>
        <p:pic>
          <p:nvPicPr>
            <p:cNvPr id="159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1971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4932000" y="2133720"/>
              <a:ext cx="16574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7"/>
          <p:cNvSpPr/>
          <p:nvPr/>
        </p:nvSpPr>
        <p:spPr>
          <a:xfrm>
            <a:off x="3493080" y="1556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нутри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6"/>
          <p:cNvGrpSpPr/>
          <p:nvPr/>
        </p:nvGrpSpPr>
        <p:grpSpPr>
          <a:xfrm>
            <a:off x="2627280" y="3716280"/>
            <a:ext cx="4567320" cy="676440"/>
            <a:chOff x="2627280" y="3716280"/>
            <a:chExt cx="4567320" cy="676440"/>
          </a:xfrm>
        </p:grpSpPr>
        <p:pic>
          <p:nvPicPr>
            <p:cNvPr id="163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2627280" y="3716280"/>
              <a:ext cx="17733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5" descr=""/>
            <p:cNvPicPr/>
            <p:nvPr/>
          </p:nvPicPr>
          <p:blipFill>
            <a:blip r:embed="rId4"/>
            <a:stretch/>
          </p:blipFill>
          <p:spPr>
            <a:xfrm>
              <a:off x="4356000" y="3716280"/>
              <a:ext cx="2838600" cy="6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7"/>
          <p:cNvGrpSpPr/>
          <p:nvPr/>
        </p:nvGrpSpPr>
        <p:grpSpPr>
          <a:xfrm>
            <a:off x="2484360" y="5445000"/>
            <a:ext cx="4824000" cy="676080"/>
            <a:chOff x="2484360" y="5445000"/>
            <a:chExt cx="4824000" cy="676080"/>
          </a:xfrm>
        </p:grpSpPr>
        <p:pic>
          <p:nvPicPr>
            <p:cNvPr id="166" name="Рисунок 6" descr=""/>
            <p:cNvPicPr/>
            <p:nvPr/>
          </p:nvPicPr>
          <p:blipFill>
            <a:blip r:embed="rId5"/>
            <a:stretch/>
          </p:blipFill>
          <p:spPr>
            <a:xfrm>
              <a:off x="2484360" y="5445000"/>
              <a:ext cx="267300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"/>
            <p:cNvPicPr/>
            <p:nvPr/>
          </p:nvPicPr>
          <p:blipFill>
            <a:blip r:embed="rId6"/>
            <a:stretch/>
          </p:blipFill>
          <p:spPr>
            <a:xfrm>
              <a:off x="5112720" y="5445000"/>
              <a:ext cx="21956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13"/>
          <p:cNvSpPr/>
          <p:nvPr/>
        </p:nvSpPr>
        <p:spPr>
          <a:xfrm>
            <a:off x="3564720" y="321264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полосе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31640" y="479700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) С двух сторон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Линейный (варианты расположения)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етчат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1979640" y="1484280"/>
            <a:ext cx="5184360" cy="2373120"/>
            <a:chOff x="1979640" y="1484280"/>
            <a:chExt cx="5184360" cy="2373120"/>
          </a:xfrm>
        </p:grpSpPr>
        <p:pic>
          <p:nvPicPr>
            <p:cNvPr id="173" name="Рисунок 8" descr=""/>
            <p:cNvPicPr/>
            <p:nvPr/>
          </p:nvPicPr>
          <p:blipFill>
            <a:blip r:embed="rId1"/>
            <a:stretch/>
          </p:blipFill>
          <p:spPr>
            <a:xfrm>
              <a:off x="1979640" y="1484280"/>
              <a:ext cx="2622240" cy="23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4567680" y="1536480"/>
              <a:ext cx="2596320" cy="23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7"/>
          <p:cNvSpPr/>
          <p:nvPr/>
        </p:nvSpPr>
        <p:spPr>
          <a:xfrm>
            <a:off x="826920" y="42926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ой из разновидностей орнамента является сетчатый орнамент. Сетчатым его называют потому, что его композиция строится при помощи сетки. Сетчатый орнамент применяется для оформления пола, потолка, стен помещения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1692360" y="1268280"/>
            <a:ext cx="5616000" cy="2879640"/>
            <a:chOff x="1692360" y="1268280"/>
            <a:chExt cx="5616000" cy="2879640"/>
          </a:xfrm>
        </p:grpSpPr>
        <p:pic>
          <p:nvPicPr>
            <p:cNvPr id="178" name="Рисунок 10" descr=""/>
            <p:cNvPicPr/>
            <p:nvPr/>
          </p:nvPicPr>
          <p:blipFill>
            <a:blip r:embed="rId1"/>
            <a:stretch/>
          </p:blipFill>
          <p:spPr>
            <a:xfrm>
              <a:off x="1692360" y="1268280"/>
              <a:ext cx="25999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Рисунок 11" descr=""/>
            <p:cNvPicPr/>
            <p:nvPr/>
          </p:nvPicPr>
          <p:blipFill>
            <a:blip r:embed="rId2"/>
            <a:stretch/>
          </p:blipFill>
          <p:spPr>
            <a:xfrm>
              <a:off x="4656960" y="1437840"/>
              <a:ext cx="2651400" cy="26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8"/>
          <p:cNvSpPr/>
          <p:nvPr/>
        </p:nvSpPr>
        <p:spPr>
          <a:xfrm>
            <a:off x="900000" y="522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орнаментом называют узор, декоративные элементы которого сгруппированы так, что создают центрическое движение. Замкнутый орнамент чаще всего используется для украшения салфеток, скатертей, тарелок и т.д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еоме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050920" y="1413000"/>
            <a:ext cx="5689440" cy="2728440"/>
            <a:chOff x="2050920" y="1413000"/>
            <a:chExt cx="5689440" cy="2728440"/>
          </a:xfrm>
        </p:grpSpPr>
        <p:pic>
          <p:nvPicPr>
            <p:cNvPr id="183" name="Рисунок 21" descr=""/>
            <p:cNvPicPr/>
            <p:nvPr/>
          </p:nvPicPr>
          <p:blipFill>
            <a:blip r:embed="rId1"/>
            <a:stretch/>
          </p:blipFill>
          <p:spPr>
            <a:xfrm>
              <a:off x="2050920" y="1413000"/>
              <a:ext cx="2609280" cy="27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Рисунок 22" descr=""/>
            <p:cNvPicPr/>
            <p:nvPr/>
          </p:nvPicPr>
          <p:blipFill>
            <a:blip r:embed="rId2"/>
            <a:stretch/>
          </p:blipFill>
          <p:spPr>
            <a:xfrm>
              <a:off x="5066280" y="1594080"/>
              <a:ext cx="2674080" cy="24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7"/>
          <p:cNvSpPr/>
          <p:nvPr/>
        </p:nvSpPr>
        <p:spPr>
          <a:xfrm>
            <a:off x="826920" y="4869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геометрическом орнаменте в качестве мотива выступают геометрические фигуры: круг, квадрат, треугольник и т.д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астительн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1763640" y="1413000"/>
            <a:ext cx="5472000" cy="2663280"/>
            <a:chOff x="1763640" y="1413000"/>
            <a:chExt cx="5472000" cy="2663280"/>
          </a:xfrm>
        </p:grpSpPr>
        <p:pic>
          <p:nvPicPr>
            <p:cNvPr id="188" name="Рисунок 12" descr=""/>
            <p:cNvPicPr/>
            <p:nvPr/>
          </p:nvPicPr>
          <p:blipFill>
            <a:blip r:embed="rId1"/>
            <a:stretch/>
          </p:blipFill>
          <p:spPr>
            <a:xfrm>
              <a:off x="1763640" y="1413000"/>
              <a:ext cx="258516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4775760" y="1413000"/>
              <a:ext cx="2459880" cy="26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7"/>
          <p:cNvSpPr/>
          <p:nvPr/>
        </p:nvSpPr>
        <p:spPr>
          <a:xfrm>
            <a:off x="1332000" y="472428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растительном – формы заимствованы из мира природы, например: листья растений, плоды, цветы, веточки и т.д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усский орнамен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86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наментальные композиции, как украшения предметов быта, на Руси существовали очень давно. Крестьянские избы украшались резным узором. На окнах висели занавески, вышитые причудливым орнаментом и весь дом был наполнен расписной посудой, вышивкой и круже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сский орнамент очень разнообразен. Декоративные элементы составлялись из символов и отражали чувства и интересы крестьянина. Цвет в узоре имел особое значение. Красный цвет выражал восторг, радос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6:05:31Z</dcterms:created>
  <dc:creator>User</dc:creator>
  <dc:description/>
  <dc:language>en-US</dc:language>
  <cp:lastModifiedBy>Коля</cp:lastModifiedBy>
  <dcterms:modified xsi:type="dcterms:W3CDTF">2013-03-29T15:31:04Z</dcterms:modified>
  <cp:revision>26</cp:revision>
  <dc:subject/>
  <dc:title>«Орнамент - математическое воплощение красоты»</dc:title>
</cp:coreProperties>
</file>