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A04-FE52-4B3A-B260-423F8D6AA0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15F5-640F-4EC8-B9CC-398AA58F8C75}" type="slidenum">
              <a:rPr b="1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FD50-7E12-495F-B223-36FED33F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2259-F6E4-47EA-9472-66875FC1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D345-5B70-4EBB-999E-A61EB369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B396-63F0-4A39-B9E0-9D8EAD4A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9064-978B-48A2-834D-021A72C9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D253-EAA8-46DD-B6E7-D3438E85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3F21-C30B-4924-8401-C53CC6FD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3ED-34B5-460C-AC03-76CD2AB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1948-3D29-431E-9459-982CEB2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B459-40EA-4291-9C9E-3520C85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BCE-62F4-4270-B39A-CAA905D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88C0-6251-445B-824F-0F469700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F1ED-A8D7-44A8-8DA0-CFFDE7B3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83C0-D6D7-4CDA-BE72-7714E0B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812F-9FBC-4930-B8F7-68D8AE8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43B3-C7E0-491F-B8D9-56B7B3CA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42FE-5879-4B05-A4F4-D279DDA8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8F03-6971-451F-98C2-23967251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3241-BC56-47BB-A05E-328495F4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BF3C-B118-4844-8FFC-79B05240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49D0-F492-4D59-BCC6-BD0E6531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B763-D7CB-48F9-93DA-44EC492B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21B7-7E0C-4B7F-8AD3-E1738B3D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0DD7-AA55-4BED-AADA-61835DA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4F3C-0995-4F05-A949-79B133F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AB4FC-4C7D-4FB9-8C2C-5AAD483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101D-DC03-452C-875B-1692CFB9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0BBC-DFA5-457D-85D2-CA16EB88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747B-C6D5-4C2C-8695-8FF7A117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A74A-C984-4DC8-8E39-B2353FF3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8893-C77D-4A10-A2C8-9FEC9316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6D54-9908-4877-AD55-99634EA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8213-5AF3-4C28-87A4-A53CAC80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BF5A-2EBA-4B97-BD90-F57852F7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8545-EC65-4269-954F-95814A8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8819-5809-4CE5-B028-233066E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C2B-3F5E-42B8-A67C-A8746E5E97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3320-6B2A-4AC2-8C66-25C2486A47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9C89-F414-4CF4-9060-EC5A704331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festival.1september.ru/articles/560632/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830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«Орнамент - математическое воплощение красоты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5640" y="3758760"/>
            <a:ext cx="705636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читель математик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ОУ Хотьковская средняя общеобразовательная школа №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Сидорова Валентина Викторовн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564000" y="6045120"/>
            <a:ext cx="165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01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22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имеры русского орнамен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4" descr="images"/>
          <p:cNvPicPr/>
          <p:nvPr/>
        </p:nvPicPr>
        <p:blipFill>
          <a:blip r:embed="rId1"/>
          <a:stretch/>
        </p:blipFill>
        <p:spPr>
          <a:xfrm>
            <a:off x="900000" y="1341360"/>
            <a:ext cx="222912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mages"/>
          <p:cNvPicPr/>
          <p:nvPr/>
        </p:nvPicPr>
        <p:blipFill>
          <a:blip r:embed="rId2"/>
          <a:stretch/>
        </p:blipFill>
        <p:spPr>
          <a:xfrm>
            <a:off x="6516720" y="1484280"/>
            <a:ext cx="2336760" cy="2325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22"/>
          <p:cNvPicPr/>
          <p:nvPr/>
        </p:nvPicPr>
        <p:blipFill>
          <a:blip r:embed="rId3"/>
          <a:stretch/>
        </p:blipFill>
        <p:spPr>
          <a:xfrm>
            <a:off x="2340000" y="4005360"/>
            <a:ext cx="4968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еобразования, используемые для создания орнамента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араллельный перен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ентральная симмет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евая симмет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араллельный перенос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0" name="Picture 4" descr="параллельный перенос"/>
          <p:cNvPicPr/>
          <p:nvPr/>
        </p:nvPicPr>
        <p:blipFill>
          <a:blip r:embed="rId1"/>
          <a:stretch/>
        </p:blipFill>
        <p:spPr>
          <a:xfrm>
            <a:off x="2340000" y="1268280"/>
            <a:ext cx="4248000" cy="3606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6000" y="5373720"/>
            <a:ext cx="7283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параллельном переносе все точки фигуры смещаются в одном  и том же направлении на одно и то же расстоя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нтральная симметр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Picture 4" descr="центральная симметрия"/>
          <p:cNvPicPr/>
          <p:nvPr/>
        </p:nvPicPr>
        <p:blipFill>
          <a:blip r:embed="rId1"/>
          <a:stretch/>
        </p:blipFill>
        <p:spPr>
          <a:xfrm>
            <a:off x="1042920" y="1628640"/>
            <a:ext cx="7561440" cy="2597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640" y="5013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центральной симметрии каждая точка переходит в точку симметричную ей относительно фиксированной точ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севая симметр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Picture 4" descr="осевая симметрия"/>
          <p:cNvPicPr/>
          <p:nvPr/>
        </p:nvPicPr>
        <p:blipFill>
          <a:blip r:embed="rId1"/>
          <a:stretch/>
        </p:blipFill>
        <p:spPr>
          <a:xfrm>
            <a:off x="1979640" y="119700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5157360"/>
            <a:ext cx="7283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осевой симметрии каждая точка фигуры переходит в точку, симметричную ей относительно фиксированной пря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воро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Picture 4" descr="поворот"/>
          <p:cNvPicPr/>
          <p:nvPr/>
        </p:nvPicPr>
        <p:blipFill>
          <a:blip r:embed="rId1"/>
          <a:stretch/>
        </p:blipFill>
        <p:spPr>
          <a:xfrm>
            <a:off x="2340000" y="1197000"/>
            <a:ext cx="4321080" cy="3740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2920" y="5157360"/>
            <a:ext cx="7283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повороте все точки фигуры поворачиваются на один и тот же угол вокруг одной и той же точки – центра поворо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намента с помощью осевой симметрии и параллельного пере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1803600" cy="217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1726920" cy="2146320"/>
          </a:xfrm>
          <a:prstGeom prst="rect">
            <a:avLst/>
          </a:prstGeom>
          <a:ln w="0">
            <a:noFill/>
          </a:ln>
        </p:spPr>
      </p:pic>
      <p:sp>
        <p:nvSpPr>
          <p:cNvPr id="214" name="Line 6"/>
          <p:cNvSpPr/>
          <p:nvPr/>
        </p:nvSpPr>
        <p:spPr>
          <a:xfrm flipV="1">
            <a:off x="4716360" y="24922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1763640" y="5013360"/>
            <a:ext cx="5688000" cy="142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692360" y="1844640"/>
            <a:ext cx="633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4"/>
          <a:stretch/>
        </p:blipFill>
        <p:spPr>
          <a:xfrm>
            <a:off x="4788000" y="4797360"/>
            <a:ext cx="3603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0536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8097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25 -2.22222E-006 L 0.45625 -2.22222E-006 E">
                                      <p:cBhvr>
                                        <p:cTn id="145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орнамента с помощью центральной симметрии и параллельного пере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1676520" cy="207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720720" cy="7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3"/>
          <a:stretch/>
        </p:blipFill>
        <p:spPr>
          <a:xfrm>
            <a:off x="4716360" y="2565360"/>
            <a:ext cx="1719360" cy="211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"/>
          <p:cNvPicPr/>
          <p:nvPr/>
        </p:nvPicPr>
        <p:blipFill>
          <a:blip r:embed="rId4"/>
          <a:stretch/>
        </p:blipFill>
        <p:spPr>
          <a:xfrm>
            <a:off x="2340000" y="4653000"/>
            <a:ext cx="4248000" cy="1976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1"/>
          <p:cNvSpPr/>
          <p:nvPr/>
        </p:nvSpPr>
        <p:spPr>
          <a:xfrm>
            <a:off x="1547640" y="1628640"/>
            <a:ext cx="633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39640" y="4581360"/>
            <a:ext cx="7848720" cy="211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Рисунок1"/>
          <p:cNvPicPr/>
          <p:nvPr/>
        </p:nvPicPr>
        <p:blipFill>
          <a:blip r:embed="rId2"/>
          <a:stretch/>
        </p:blipFill>
        <p:spPr>
          <a:xfrm>
            <a:off x="611280" y="1628640"/>
            <a:ext cx="368928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Рисунок1"/>
          <p:cNvPicPr/>
          <p:nvPr/>
        </p:nvPicPr>
        <p:blipFill>
          <a:blip r:embed="rId3"/>
          <a:stretch/>
        </p:blipFill>
        <p:spPr>
          <a:xfrm>
            <a:off x="468360" y="1628640"/>
            <a:ext cx="3689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33333E-006 L 0.44393 0.00139 E">
                                      <p:cBhvr>
                                        <p:cTn id="168" dur="3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Цель: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демонстрировать возможности законов геометрии при создании различных орнаментов, украшающих многие предметы декоративно-прикладного искусст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вторить и расширить знания об известных видах симметр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ся выделять и описывать симметрию в рисунке орнам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общить и систематизировать сведения, использующиеся при создании орнаме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1434960" cy="1700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1655640" cy="1314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1251000" cy="1512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4"/>
          <a:stretch/>
        </p:blipFill>
        <p:spPr>
          <a:xfrm>
            <a:off x="2627280" y="1989000"/>
            <a:ext cx="1585800" cy="1257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5"/>
          <a:stretch/>
        </p:blipFill>
        <p:spPr>
          <a:xfrm>
            <a:off x="4284720" y="2997360"/>
            <a:ext cx="171360" cy="218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"/>
          <p:cNvPicPr/>
          <p:nvPr/>
        </p:nvPicPr>
        <p:blipFill>
          <a:blip r:embed="rId6"/>
          <a:stretch/>
        </p:blipFill>
        <p:spPr>
          <a:xfrm>
            <a:off x="4284720" y="2997360"/>
            <a:ext cx="17136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736720" cy="25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736720" cy="2578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7370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учен орнаме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6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92000" y="1268280"/>
            <a:ext cx="8352000" cy="1125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47640" y="3068640"/>
            <a:ext cx="8496360" cy="884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719280" y="4797360"/>
            <a:ext cx="8424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лучен орнаме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46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6048360" cy="36226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9"/>
          <p:cNvSpPr/>
          <p:nvPr/>
        </p:nvSpPr>
        <p:spPr>
          <a:xfrm>
            <a:off x="6516720" y="1817640"/>
            <a:ext cx="244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параллельного переноса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осевой симметрии и параллельного переноса.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помощью осевой симметрии и параллельного переноса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так, мы с вами познакомились с историей развития орнамента и узнали, какие бывают виды орнамен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спользуемые источник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.В. Слесарева «Чудесная тайна геометр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тематика в школе,  О.Э. Анацко, Е.М. Ханукович,  Бинарный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ru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ельман Я.И. «Занимательная геометр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festival.1september.ru/articles/560632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050920" y="3141720"/>
            <a:ext cx="5618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324000" y="3933720"/>
            <a:ext cx="3311280" cy="2562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673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иды орнамент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Рисунок 17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2843280" y="2492280"/>
            <a:ext cx="358128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19280" y="1341360"/>
            <a:ext cx="2314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скост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87280" y="5300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скостной орнамент представляет украшение, выполненное на плоскости с помощью линий. Плоскостные орнаменты применяются при украшении одежды, росписи стен зданий в виде бордюров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68360" y="213372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133720"/>
            <a:ext cx="3601800" cy="676080"/>
            <a:chOff x="2987640" y="2133720"/>
            <a:chExt cx="3601800" cy="676080"/>
          </a:xfrm>
        </p:grpSpPr>
        <p:pic>
          <p:nvPicPr>
            <p:cNvPr id="159" name="Рисунок 2" descr=""/>
            <p:cNvPicPr/>
            <p:nvPr/>
          </p:nvPicPr>
          <p:blipFill>
            <a:blip r:embed="rId1"/>
            <a:stretch/>
          </p:blipFill>
          <p:spPr>
            <a:xfrm>
              <a:off x="2987640" y="2133720"/>
              <a:ext cx="19713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Рисунок 3" descr=""/>
            <p:cNvPicPr/>
            <p:nvPr/>
          </p:nvPicPr>
          <p:blipFill>
            <a:blip r:embed="rId2"/>
            <a:stretch/>
          </p:blipFill>
          <p:spPr>
            <a:xfrm>
              <a:off x="4932000" y="2133720"/>
              <a:ext cx="16574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7"/>
          <p:cNvSpPr/>
          <p:nvPr/>
        </p:nvSpPr>
        <p:spPr>
          <a:xfrm>
            <a:off x="3493080" y="15566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нутри полосы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2" name="Group 16"/>
          <p:cNvGrpSpPr/>
          <p:nvPr/>
        </p:nvGrpSpPr>
        <p:grpSpPr>
          <a:xfrm>
            <a:off x="2627280" y="3716280"/>
            <a:ext cx="4567320" cy="676440"/>
            <a:chOff x="2627280" y="3716280"/>
            <a:chExt cx="4567320" cy="676440"/>
          </a:xfrm>
        </p:grpSpPr>
        <p:pic>
          <p:nvPicPr>
            <p:cNvPr id="163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2627280" y="3716280"/>
              <a:ext cx="17733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5" descr=""/>
            <p:cNvPicPr/>
            <p:nvPr/>
          </p:nvPicPr>
          <p:blipFill>
            <a:blip r:embed="rId4"/>
            <a:stretch/>
          </p:blipFill>
          <p:spPr>
            <a:xfrm>
              <a:off x="4356000" y="3716280"/>
              <a:ext cx="2838600" cy="6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7"/>
          <p:cNvGrpSpPr/>
          <p:nvPr/>
        </p:nvGrpSpPr>
        <p:grpSpPr>
          <a:xfrm>
            <a:off x="2484360" y="5445000"/>
            <a:ext cx="4824000" cy="676080"/>
            <a:chOff x="2484360" y="5445000"/>
            <a:chExt cx="4824000" cy="676080"/>
          </a:xfrm>
        </p:grpSpPr>
        <p:pic>
          <p:nvPicPr>
            <p:cNvPr id="166" name="Рисунок 6" descr=""/>
            <p:cNvPicPr/>
            <p:nvPr/>
          </p:nvPicPr>
          <p:blipFill>
            <a:blip r:embed="rId5"/>
            <a:stretch/>
          </p:blipFill>
          <p:spPr>
            <a:xfrm>
              <a:off x="2484360" y="5445000"/>
              <a:ext cx="2673000" cy="66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7" descr=""/>
            <p:cNvPicPr/>
            <p:nvPr/>
          </p:nvPicPr>
          <p:blipFill>
            <a:blip r:embed="rId6"/>
            <a:stretch/>
          </p:blipFill>
          <p:spPr>
            <a:xfrm>
              <a:off x="5112720" y="5445000"/>
              <a:ext cx="2195640" cy="6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Rectangle 13"/>
          <p:cNvSpPr/>
          <p:nvPr/>
        </p:nvSpPr>
        <p:spPr>
          <a:xfrm>
            <a:off x="3564720" y="321264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 полосе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3131640" y="479700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) С двух сторон полосы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Линейный (варианты расположения)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етчаты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1979640" y="1484280"/>
            <a:ext cx="5184360" cy="2373120"/>
            <a:chOff x="1979640" y="1484280"/>
            <a:chExt cx="5184360" cy="2373120"/>
          </a:xfrm>
        </p:grpSpPr>
        <p:pic>
          <p:nvPicPr>
            <p:cNvPr id="173" name="Рисунок 8" descr=""/>
            <p:cNvPicPr/>
            <p:nvPr/>
          </p:nvPicPr>
          <p:blipFill>
            <a:blip r:embed="rId1"/>
            <a:stretch/>
          </p:blipFill>
          <p:spPr>
            <a:xfrm>
              <a:off x="1979640" y="1484280"/>
              <a:ext cx="2622240" cy="23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Рисунок 9" descr=""/>
            <p:cNvPicPr/>
            <p:nvPr/>
          </p:nvPicPr>
          <p:blipFill>
            <a:blip r:embed="rId2"/>
            <a:stretch/>
          </p:blipFill>
          <p:spPr>
            <a:xfrm>
              <a:off x="4567680" y="1536480"/>
              <a:ext cx="2596320" cy="23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 Box 7"/>
          <p:cNvSpPr/>
          <p:nvPr/>
        </p:nvSpPr>
        <p:spPr>
          <a:xfrm>
            <a:off x="826920" y="429264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ой из разновидностей орнамента является сетчатый орнамент. Сетчатым его называют потому, что его композиция строится при помощи сетки. Сетчатый орнамент применяется для оформления пола, потолка, стен помещения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Центрически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1692360" y="1268280"/>
            <a:ext cx="5616000" cy="2879640"/>
            <a:chOff x="1692360" y="1268280"/>
            <a:chExt cx="5616000" cy="2879640"/>
          </a:xfrm>
        </p:grpSpPr>
        <p:pic>
          <p:nvPicPr>
            <p:cNvPr id="178" name="Рисунок 10" descr=""/>
            <p:cNvPicPr/>
            <p:nvPr/>
          </p:nvPicPr>
          <p:blipFill>
            <a:blip r:embed="rId1"/>
            <a:stretch/>
          </p:blipFill>
          <p:spPr>
            <a:xfrm>
              <a:off x="1692360" y="1268280"/>
              <a:ext cx="25999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Рисунок 11" descr=""/>
            <p:cNvPicPr/>
            <p:nvPr/>
          </p:nvPicPr>
          <p:blipFill>
            <a:blip r:embed="rId2"/>
            <a:stretch/>
          </p:blipFill>
          <p:spPr>
            <a:xfrm>
              <a:off x="4656960" y="1437840"/>
              <a:ext cx="2651400" cy="26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8"/>
          <p:cNvSpPr/>
          <p:nvPr/>
        </p:nvSpPr>
        <p:spPr>
          <a:xfrm>
            <a:off x="900000" y="52293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e5ff"/>
                </a:solidFill>
                <a:latin typeface="Garamond"/>
              </a:rPr>
              <a:t>Центрическ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орнаментом называют узор, декоративные элементы которого сгруппированы так, что создают центрическое движение. Замкнутый орнамент чаще всего используется для украшения салфеток, скатертей, тарелок и т.д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Геометрически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2" name="Group 6"/>
          <p:cNvGrpSpPr/>
          <p:nvPr/>
        </p:nvGrpSpPr>
        <p:grpSpPr>
          <a:xfrm>
            <a:off x="2050920" y="1413000"/>
            <a:ext cx="5689440" cy="2728440"/>
            <a:chOff x="2050920" y="1413000"/>
            <a:chExt cx="5689440" cy="2728440"/>
          </a:xfrm>
        </p:grpSpPr>
        <p:pic>
          <p:nvPicPr>
            <p:cNvPr id="183" name="Рисунок 21" descr=""/>
            <p:cNvPicPr/>
            <p:nvPr/>
          </p:nvPicPr>
          <p:blipFill>
            <a:blip r:embed="rId1"/>
            <a:stretch/>
          </p:blipFill>
          <p:spPr>
            <a:xfrm>
              <a:off x="2050920" y="1413000"/>
              <a:ext cx="2609280" cy="27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Рисунок 22" descr=""/>
            <p:cNvPicPr/>
            <p:nvPr/>
          </p:nvPicPr>
          <p:blipFill>
            <a:blip r:embed="rId2"/>
            <a:stretch/>
          </p:blipFill>
          <p:spPr>
            <a:xfrm>
              <a:off x="5066280" y="1594080"/>
              <a:ext cx="2674080" cy="242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 Box 7"/>
          <p:cNvSpPr/>
          <p:nvPr/>
        </p:nvSpPr>
        <p:spPr>
          <a:xfrm>
            <a:off x="826920" y="486900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геометрическом орнаменте в качестве мотива выступают геометрические фигуры: круг, квадрат, треугольник и т.д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астительны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1763640" y="1413000"/>
            <a:ext cx="5472000" cy="2663280"/>
            <a:chOff x="1763640" y="1413000"/>
            <a:chExt cx="5472000" cy="2663280"/>
          </a:xfrm>
        </p:grpSpPr>
        <p:pic>
          <p:nvPicPr>
            <p:cNvPr id="188" name="Рисунок 12" descr=""/>
            <p:cNvPicPr/>
            <p:nvPr/>
          </p:nvPicPr>
          <p:blipFill>
            <a:blip r:embed="rId1"/>
            <a:stretch/>
          </p:blipFill>
          <p:spPr>
            <a:xfrm>
              <a:off x="1763640" y="1413000"/>
              <a:ext cx="2585160" cy="25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4775760" y="1413000"/>
              <a:ext cx="2459880" cy="26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7"/>
          <p:cNvSpPr/>
          <p:nvPr/>
        </p:nvSpPr>
        <p:spPr>
          <a:xfrm>
            <a:off x="1332000" y="472428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растительном – формы заимствованы из мира природы, например: листья растений, плоды, цветы, веточки и т.д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Русский орнамент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686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наментальные композиции, как украшения предметов быта, на Руси существовали очень давно. Крестьянские избы украшались резным узором. На окнах висели занавески, вышитые причудливым орнаментом и весь дом был наполнен расписной посудой, вышивкой и кружев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усский орнамент очень разнообразен. Декоративные элементы составлялись из символов и отражали чувства и интересы крестьянина. Цвет в узоре имел особое значение. Красный цвет выражал восторг, радост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6:05:31Z</dcterms:created>
  <dc:creator>User</dc:creator>
  <dc:description/>
  <dc:language>en-US</dc:language>
  <cp:lastModifiedBy>Коля</cp:lastModifiedBy>
  <dcterms:modified xsi:type="dcterms:W3CDTF">2013-03-29T15:31:04Z</dcterms:modified>
  <cp:revision>26</cp:revision>
  <dc:subject/>
  <dc:title>«Орнамент - математическое воплощение красоты»</dc:title>
</cp:coreProperties>
</file>