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AEB1-9945-49B8-8DA3-F79BB11429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B70C-6B47-429E-86A0-C19E4BC02391}" type="slidenum">
              <a:rPr b="1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01C7F-2BA3-4A32-8446-52DF2FB6B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D7486-5F30-455F-92B9-7B93E285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10C14-5FE8-4DFC-8792-8DC4864C8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010E4-825F-4CA8-A6B5-B42C6129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38F4-5B1C-425E-8823-B8A9F474A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B6B4-F12F-4680-9EC3-6274DE77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7E63-B158-4E6D-963A-0A2DAA61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3E93-6FA3-468F-A3B2-BED608AE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71AE-EF6F-417F-BD15-9A4F406C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9914-BEEB-4E4E-978F-77CDBC9E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9638-3820-4861-B350-66F1137D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409FA-D8D8-448F-BB4E-001DD39E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4A14-1C4E-442A-A394-486F3D34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AA4D-0B62-4548-AD55-6350EC4E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744F-6E60-48C7-9DC2-4A730677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F824-2928-4047-BA0A-920737006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4C35-9873-4995-8FA5-A0AACDD1E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F7E77-8707-43B8-B229-6956E9B9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370CC-9216-4B30-8EA8-878D6EAE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34265-A6D1-4A4F-B193-B4BE78EB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6AE66-FC4F-4ACE-B69B-5B7C5C8A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D7D8C-FD56-4789-81B3-4BCCAE71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3A2E6-3F7D-4DA9-B77C-DA9D6B50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88259-5C30-4DA3-B138-4D8144C5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327BA-A1B4-415E-95D2-F64F6CFE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B5D27-2104-4F51-903D-4A138E22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5353C-8E56-4AFA-A1AD-B4EAB9A1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51726-D4A3-4B9E-8D29-F282C91D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89833-B352-4DA0-A1D4-861A24C07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30F83-5A7D-4395-8DE8-ED0CDB3E6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F3F9E-DCD9-4E6A-8F02-B047F7E6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34DAD-CA53-4DC9-9E5E-77F2A47B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C3357-4D95-43B7-8878-0AEF35F9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AEA8A-4271-41D6-91A1-38068B2B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C1FCE-CBEB-4F57-8DDD-8FF4E2F8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490D1-5A01-4E8C-B158-9E8193DE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1F55-8133-4549-BC7C-3F65EF1146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F11E-DB72-4CF0-97F4-94E16E3397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8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D63A-6F71-4753-8FAD-BB353DC646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ru.wikipedia.org/" TargetMode="External"/><Relationship Id="rId2" Type="http://schemas.openxmlformats.org/officeDocument/2006/relationships/hyperlink" Target="http://festival.1september.ru/articles/560632/" TargetMode="Externa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640" y="83016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«Орнамент - математическое воплощение красоты»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15640" y="3758760"/>
            <a:ext cx="7056360" cy="17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Учитель математик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МОУ Хотьковская средняя общеобразовательная школа №5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Сидорова Валентина Викторовна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3564000" y="6045120"/>
            <a:ext cx="1657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011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72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22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Примеры русского орнамент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4" name="Picture 4" descr="images"/>
          <p:cNvPicPr/>
          <p:nvPr/>
        </p:nvPicPr>
        <p:blipFill>
          <a:blip r:embed="rId1"/>
          <a:stretch/>
        </p:blipFill>
        <p:spPr>
          <a:xfrm>
            <a:off x="900000" y="1341360"/>
            <a:ext cx="2229120" cy="2592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images"/>
          <p:cNvPicPr/>
          <p:nvPr/>
        </p:nvPicPr>
        <p:blipFill>
          <a:blip r:embed="rId2"/>
          <a:stretch/>
        </p:blipFill>
        <p:spPr>
          <a:xfrm>
            <a:off x="6516720" y="1484280"/>
            <a:ext cx="2336760" cy="2325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22"/>
          <p:cNvPicPr/>
          <p:nvPr/>
        </p:nvPicPr>
        <p:blipFill>
          <a:blip r:embed="rId3"/>
          <a:stretch/>
        </p:blipFill>
        <p:spPr>
          <a:xfrm>
            <a:off x="2340000" y="4005360"/>
            <a:ext cx="496872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Преобразования, используемые для создания орнамента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араллельный перено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Центральная симметр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севая симметр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воро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Параллельный перенос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0" name="Picture 4" descr="параллельный перенос"/>
          <p:cNvPicPr/>
          <p:nvPr/>
        </p:nvPicPr>
        <p:blipFill>
          <a:blip r:embed="rId1"/>
          <a:stretch/>
        </p:blipFill>
        <p:spPr>
          <a:xfrm>
            <a:off x="2340000" y="1268280"/>
            <a:ext cx="4248000" cy="36068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16000" y="5373720"/>
            <a:ext cx="72835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 параллельном переносе все точки фигуры смещаются в одном  и том же направлении на одно и то же расстояни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Центральная симметрия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3" name="Picture 4" descr="центральная симметрия"/>
          <p:cNvPicPr/>
          <p:nvPr/>
        </p:nvPicPr>
        <p:blipFill>
          <a:blip r:embed="rId1"/>
          <a:stretch/>
        </p:blipFill>
        <p:spPr>
          <a:xfrm>
            <a:off x="1042920" y="1628640"/>
            <a:ext cx="7561440" cy="25974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71640" y="5013360"/>
            <a:ext cx="73454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 центральной симметрии каждая точка переходит в точку симметричную ей относительно фиксированной точк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Осевая симметрия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6" name="Picture 4" descr="осевая симметрия"/>
          <p:cNvPicPr/>
          <p:nvPr/>
        </p:nvPicPr>
        <p:blipFill>
          <a:blip r:embed="rId1"/>
          <a:stretch/>
        </p:blipFill>
        <p:spPr>
          <a:xfrm>
            <a:off x="1979640" y="1197000"/>
            <a:ext cx="5184720" cy="37447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0000" y="5157360"/>
            <a:ext cx="72835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 осевой симметрии каждая точка фигуры переходит в точку, симметричную ей относительно фиксированной прямо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Поворот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9" name="Picture 4" descr="поворот"/>
          <p:cNvPicPr/>
          <p:nvPr/>
        </p:nvPicPr>
        <p:blipFill>
          <a:blip r:embed="rId1"/>
          <a:stretch/>
        </p:blipFill>
        <p:spPr>
          <a:xfrm>
            <a:off x="2340000" y="1197000"/>
            <a:ext cx="4321080" cy="37400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42920" y="5157360"/>
            <a:ext cx="72835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 повороте все точки фигуры поворачиваются на один и тот же угол вокруг одной и той же точки – центра поворот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орнамента с помощью осевой симметрии и параллельного перен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1803600" cy="2178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"/>
          <p:cNvPicPr/>
          <p:nvPr/>
        </p:nvPicPr>
        <p:blipFill>
          <a:blip r:embed="rId2"/>
          <a:stretch/>
        </p:blipFill>
        <p:spPr>
          <a:xfrm>
            <a:off x="5651640" y="2565360"/>
            <a:ext cx="1726920" cy="2146320"/>
          </a:xfrm>
          <a:prstGeom prst="rect">
            <a:avLst/>
          </a:prstGeom>
          <a:ln w="0">
            <a:noFill/>
          </a:ln>
        </p:spPr>
      </p:pic>
      <p:sp>
        <p:nvSpPr>
          <p:cNvPr id="214" name="Line 6"/>
          <p:cNvSpPr/>
          <p:nvPr/>
        </p:nvSpPr>
        <p:spPr>
          <a:xfrm flipV="1">
            <a:off x="4716360" y="249228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7" descr=""/>
          <p:cNvPicPr/>
          <p:nvPr/>
        </p:nvPicPr>
        <p:blipFill>
          <a:blip r:embed="rId3"/>
          <a:stretch/>
        </p:blipFill>
        <p:spPr>
          <a:xfrm>
            <a:off x="1763640" y="5013360"/>
            <a:ext cx="5688000" cy="14223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8"/>
          <p:cNvSpPr/>
          <p:nvPr/>
        </p:nvSpPr>
        <p:spPr>
          <a:xfrm>
            <a:off x="1692360" y="1844640"/>
            <a:ext cx="633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евая симметрия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7" name="Picture 9" descr=""/>
          <p:cNvPicPr/>
          <p:nvPr/>
        </p:nvPicPr>
        <p:blipFill>
          <a:blip r:embed="rId4"/>
          <a:stretch/>
        </p:blipFill>
        <p:spPr>
          <a:xfrm>
            <a:off x="4788000" y="4797360"/>
            <a:ext cx="360360" cy="2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ллельный пере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9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005360" cy="2448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4005360" cy="2448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6" descr=""/>
          <p:cNvPicPr/>
          <p:nvPr/>
        </p:nvPicPr>
        <p:blipFill>
          <a:blip r:embed="rId3"/>
          <a:stretch/>
        </p:blipFill>
        <p:spPr>
          <a:xfrm>
            <a:off x="539640" y="4653000"/>
            <a:ext cx="809784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625 -2.22222E-006 L 0.45625 -2.22222E-006 E">
                                      <p:cBhvr>
                                        <p:cTn id="145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орнамента с помощью центральной симметрии и параллельного перен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1676520" cy="2070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"/>
          <p:cNvPicPr/>
          <p:nvPr/>
        </p:nvPicPr>
        <p:blipFill>
          <a:blip r:embed="rId2"/>
          <a:stretch/>
        </p:blipFill>
        <p:spPr>
          <a:xfrm>
            <a:off x="3924360" y="3284640"/>
            <a:ext cx="720720" cy="712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"/>
          <p:cNvPicPr/>
          <p:nvPr/>
        </p:nvPicPr>
        <p:blipFill>
          <a:blip r:embed="rId3"/>
          <a:stretch/>
        </p:blipFill>
        <p:spPr>
          <a:xfrm>
            <a:off x="4716360" y="2565360"/>
            <a:ext cx="1719360" cy="2116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"/>
          <p:cNvPicPr/>
          <p:nvPr/>
        </p:nvPicPr>
        <p:blipFill>
          <a:blip r:embed="rId4"/>
          <a:stretch/>
        </p:blipFill>
        <p:spPr>
          <a:xfrm>
            <a:off x="2340000" y="4653000"/>
            <a:ext cx="4248000" cy="19764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1"/>
          <p:cNvSpPr/>
          <p:nvPr/>
        </p:nvSpPr>
        <p:spPr>
          <a:xfrm>
            <a:off x="1547640" y="1628640"/>
            <a:ext cx="6336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альная симметрия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ллельный пере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539640" y="4581360"/>
            <a:ext cx="7848720" cy="21193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8" descr="Рисунок1"/>
          <p:cNvPicPr/>
          <p:nvPr/>
        </p:nvPicPr>
        <p:blipFill>
          <a:blip r:embed="rId2"/>
          <a:stretch/>
        </p:blipFill>
        <p:spPr>
          <a:xfrm>
            <a:off x="611280" y="1628640"/>
            <a:ext cx="3689280" cy="2286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9" descr="Рисунок1"/>
          <p:cNvPicPr/>
          <p:nvPr/>
        </p:nvPicPr>
        <p:blipFill>
          <a:blip r:embed="rId3"/>
          <a:stretch/>
        </p:blipFill>
        <p:spPr>
          <a:xfrm>
            <a:off x="468360" y="1628640"/>
            <a:ext cx="3689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3.33333E-006 L 0.44393 0.00139 E">
                                      <p:cBhvr>
                                        <p:cTn id="168" dur="3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67564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Цель: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Продемонстрировать возможности законов геометрии при создании различных орнаментов, украшающих многие предметы декоративно-прикладного искусств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вторить и расширить знания об известных видах симметри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учиться выделять и описывать симметрию в рисунке орнамен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бобщить и систематизировать сведения, использующиеся при создании орнаме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ор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3924360" y="1268280"/>
            <a:ext cx="1434960" cy="17002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"/>
          <p:cNvPicPr/>
          <p:nvPr/>
        </p:nvPicPr>
        <p:blipFill>
          <a:blip r:embed="rId2"/>
          <a:stretch/>
        </p:blipFill>
        <p:spPr>
          <a:xfrm>
            <a:off x="4572000" y="2997360"/>
            <a:ext cx="1655640" cy="1314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"/>
          <p:cNvPicPr/>
          <p:nvPr/>
        </p:nvPicPr>
        <p:blipFill>
          <a:blip r:embed="rId3"/>
          <a:stretch/>
        </p:blipFill>
        <p:spPr>
          <a:xfrm>
            <a:off x="3348000" y="3284640"/>
            <a:ext cx="1251000" cy="1512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"/>
          <p:cNvPicPr/>
          <p:nvPr/>
        </p:nvPicPr>
        <p:blipFill>
          <a:blip r:embed="rId4"/>
          <a:stretch/>
        </p:blipFill>
        <p:spPr>
          <a:xfrm>
            <a:off x="2627280" y="1989000"/>
            <a:ext cx="1585800" cy="1257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"/>
          <p:cNvPicPr/>
          <p:nvPr/>
        </p:nvPicPr>
        <p:blipFill>
          <a:blip r:embed="rId5"/>
          <a:stretch/>
        </p:blipFill>
        <p:spPr>
          <a:xfrm>
            <a:off x="4284720" y="2997360"/>
            <a:ext cx="171360" cy="218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1" descr=""/>
          <p:cNvPicPr/>
          <p:nvPr/>
        </p:nvPicPr>
        <p:blipFill>
          <a:blip r:embed="rId6"/>
          <a:stretch/>
        </p:blipFill>
        <p:spPr>
          <a:xfrm>
            <a:off x="4284720" y="2997360"/>
            <a:ext cx="17136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араллельный перен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2736720" cy="2577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"/>
          <p:cNvPicPr/>
          <p:nvPr/>
        </p:nvPicPr>
        <p:blipFill>
          <a:blip r:embed="rId2"/>
          <a:stretch/>
        </p:blipFill>
        <p:spPr>
          <a:xfrm>
            <a:off x="3203640" y="2492280"/>
            <a:ext cx="2736720" cy="25783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"/>
          <p:cNvPicPr/>
          <p:nvPr/>
        </p:nvPicPr>
        <p:blipFill>
          <a:blip r:embed="rId3"/>
          <a:stretch/>
        </p:blipFill>
        <p:spPr>
          <a:xfrm>
            <a:off x="6227640" y="2565360"/>
            <a:ext cx="273708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олучен орнамен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46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792000" y="1268280"/>
            <a:ext cx="8352000" cy="1125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647640" y="3068640"/>
            <a:ext cx="8496360" cy="8841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"/>
          <p:cNvPicPr/>
          <p:nvPr/>
        </p:nvPicPr>
        <p:blipFill>
          <a:blip r:embed="rId3"/>
          <a:stretch/>
        </p:blipFill>
        <p:spPr>
          <a:xfrm>
            <a:off x="719280" y="4797360"/>
            <a:ext cx="842472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олучен орнамен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46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7" descr=""/>
          <p:cNvPicPr/>
          <p:nvPr/>
        </p:nvPicPr>
        <p:blipFill>
          <a:blip r:embed="rId1"/>
          <a:stretch/>
        </p:blipFill>
        <p:spPr>
          <a:xfrm>
            <a:off x="684360" y="1917720"/>
            <a:ext cx="6048360" cy="36226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9"/>
          <p:cNvSpPr/>
          <p:nvPr/>
        </p:nvSpPr>
        <p:spPr>
          <a:xfrm>
            <a:off x="6516720" y="1817640"/>
            <a:ext cx="2448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 помощью параллельного переноса. 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 помощью осевой симметрии и параллельного переноса.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 помощью осевой симметрии и параллельного переноса. 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аключе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так, мы с вами познакомились с историей развития орнамента и узнали, какие бывают виды орнамен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Используемые источники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.В. Слесарева «Чудесная тайна геометрии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атематика в школе,  О.Э. Анацко, Е.М. Ханукович,  Бинарный уро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ru.wikipedia.or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рельман Я.И. «Занимательная геометрия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festival.1september.ru/articles/560632/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050920" y="3141720"/>
            <a:ext cx="56181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324000" y="3933720"/>
            <a:ext cx="3311280" cy="25624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2"/>
          <a:stretch/>
        </p:blipFill>
        <p:spPr>
          <a:xfrm>
            <a:off x="5292720" y="189000"/>
            <a:ext cx="367344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иды орнамента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4" name="Рисунок 17" descr=""/>
          <p:cNvPicPr/>
          <p:nvPr/>
        </p:nvPicPr>
        <p:blipFill>
          <a:blip r:embed="rId1">
            <a:alphaModFix amt="76000"/>
          </a:blip>
          <a:stretch/>
        </p:blipFill>
        <p:spPr>
          <a:xfrm>
            <a:off x="2843280" y="2492280"/>
            <a:ext cx="3581280" cy="26384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419280" y="1341360"/>
            <a:ext cx="23144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лоскостно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1187280" y="530064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оскостной орнамент представляет украшение, выполненное на плоскости с помощью линий. Плоскостные орнаменты применяются при украшении одежды, росписи стен зданий в виде бордюров.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468360" y="2133720"/>
            <a:ext cx="8229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8" name="Group 15"/>
          <p:cNvGrpSpPr/>
          <p:nvPr/>
        </p:nvGrpSpPr>
        <p:grpSpPr>
          <a:xfrm>
            <a:off x="2987640" y="2133720"/>
            <a:ext cx="3601800" cy="676080"/>
            <a:chOff x="2987640" y="2133720"/>
            <a:chExt cx="3601800" cy="676080"/>
          </a:xfrm>
        </p:grpSpPr>
        <p:pic>
          <p:nvPicPr>
            <p:cNvPr id="159" name="Рисунок 2" descr=""/>
            <p:cNvPicPr/>
            <p:nvPr/>
          </p:nvPicPr>
          <p:blipFill>
            <a:blip r:embed="rId1"/>
            <a:stretch/>
          </p:blipFill>
          <p:spPr>
            <a:xfrm>
              <a:off x="2987640" y="2133720"/>
              <a:ext cx="197136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Рисунок 3" descr=""/>
            <p:cNvPicPr/>
            <p:nvPr/>
          </p:nvPicPr>
          <p:blipFill>
            <a:blip r:embed="rId2"/>
            <a:stretch/>
          </p:blipFill>
          <p:spPr>
            <a:xfrm>
              <a:off x="4932000" y="2133720"/>
              <a:ext cx="1657440" cy="67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Rectangle 7"/>
          <p:cNvSpPr/>
          <p:nvPr/>
        </p:nvSpPr>
        <p:spPr>
          <a:xfrm>
            <a:off x="3493080" y="1556640"/>
            <a:ext cx="23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Внутри полосы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62" name="Group 16"/>
          <p:cNvGrpSpPr/>
          <p:nvPr/>
        </p:nvGrpSpPr>
        <p:grpSpPr>
          <a:xfrm>
            <a:off x="2627280" y="3716280"/>
            <a:ext cx="4567320" cy="676440"/>
            <a:chOff x="2627280" y="3716280"/>
            <a:chExt cx="4567320" cy="676440"/>
          </a:xfrm>
        </p:grpSpPr>
        <p:pic>
          <p:nvPicPr>
            <p:cNvPr id="163" name="Рисунок 4" descr=""/>
            <p:cNvPicPr/>
            <p:nvPr/>
          </p:nvPicPr>
          <p:blipFill>
            <a:blip r:embed="rId3"/>
            <a:stretch/>
          </p:blipFill>
          <p:spPr>
            <a:xfrm>
              <a:off x="2627280" y="3716280"/>
              <a:ext cx="1773360" cy="6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Рисунок 5" descr=""/>
            <p:cNvPicPr/>
            <p:nvPr/>
          </p:nvPicPr>
          <p:blipFill>
            <a:blip r:embed="rId4"/>
            <a:stretch/>
          </p:blipFill>
          <p:spPr>
            <a:xfrm>
              <a:off x="4356000" y="3716280"/>
              <a:ext cx="2838600" cy="67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Group 17"/>
          <p:cNvGrpSpPr/>
          <p:nvPr/>
        </p:nvGrpSpPr>
        <p:grpSpPr>
          <a:xfrm>
            <a:off x="2484360" y="5445000"/>
            <a:ext cx="4824000" cy="676080"/>
            <a:chOff x="2484360" y="5445000"/>
            <a:chExt cx="4824000" cy="676080"/>
          </a:xfrm>
        </p:grpSpPr>
        <p:pic>
          <p:nvPicPr>
            <p:cNvPr id="166" name="Рисунок 6" descr=""/>
            <p:cNvPicPr/>
            <p:nvPr/>
          </p:nvPicPr>
          <p:blipFill>
            <a:blip r:embed="rId5"/>
            <a:stretch/>
          </p:blipFill>
          <p:spPr>
            <a:xfrm>
              <a:off x="2484360" y="5445000"/>
              <a:ext cx="2673000" cy="66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Рисунок 7" descr=""/>
            <p:cNvPicPr/>
            <p:nvPr/>
          </p:nvPicPr>
          <p:blipFill>
            <a:blip r:embed="rId6"/>
            <a:stretch/>
          </p:blipFill>
          <p:spPr>
            <a:xfrm>
              <a:off x="5112720" y="5445000"/>
              <a:ext cx="2195640" cy="67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Rectangle 13"/>
          <p:cNvSpPr/>
          <p:nvPr/>
        </p:nvSpPr>
        <p:spPr>
          <a:xfrm>
            <a:off x="3564720" y="3212640"/>
            <a:ext cx="18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На полосе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3131640" y="4797000"/>
            <a:ext cx="30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в) С двух сторон полосы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Линейный (варианты расположения)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Сетчатый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72" name="Group 6"/>
          <p:cNvGrpSpPr/>
          <p:nvPr/>
        </p:nvGrpSpPr>
        <p:grpSpPr>
          <a:xfrm>
            <a:off x="1979640" y="1484280"/>
            <a:ext cx="5184360" cy="2373120"/>
            <a:chOff x="1979640" y="1484280"/>
            <a:chExt cx="5184360" cy="2373120"/>
          </a:xfrm>
        </p:grpSpPr>
        <p:pic>
          <p:nvPicPr>
            <p:cNvPr id="173" name="Рисунок 8" descr=""/>
            <p:cNvPicPr/>
            <p:nvPr/>
          </p:nvPicPr>
          <p:blipFill>
            <a:blip r:embed="rId1"/>
            <a:stretch/>
          </p:blipFill>
          <p:spPr>
            <a:xfrm>
              <a:off x="1979640" y="1484280"/>
              <a:ext cx="2622240" cy="236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Рисунок 9" descr=""/>
            <p:cNvPicPr/>
            <p:nvPr/>
          </p:nvPicPr>
          <p:blipFill>
            <a:blip r:embed="rId2"/>
            <a:stretch/>
          </p:blipFill>
          <p:spPr>
            <a:xfrm>
              <a:off x="4567680" y="1536480"/>
              <a:ext cx="2596320" cy="232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Text Box 7"/>
          <p:cNvSpPr/>
          <p:nvPr/>
        </p:nvSpPr>
        <p:spPr>
          <a:xfrm>
            <a:off x="826920" y="4292640"/>
            <a:ext cx="8066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дной из разновидностей орнамента является сетчатый орнамент. Сетчатым его называют потому, что его композиция строится при помощи сетки. Сетчатый орнамент применяется для оформления пола, потолка, стен помещения.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Центрический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77" name="Group 7"/>
          <p:cNvGrpSpPr/>
          <p:nvPr/>
        </p:nvGrpSpPr>
        <p:grpSpPr>
          <a:xfrm>
            <a:off x="1692360" y="1268280"/>
            <a:ext cx="5616000" cy="2879640"/>
            <a:chOff x="1692360" y="1268280"/>
            <a:chExt cx="5616000" cy="2879640"/>
          </a:xfrm>
        </p:grpSpPr>
        <p:pic>
          <p:nvPicPr>
            <p:cNvPr id="178" name="Рисунок 10" descr=""/>
            <p:cNvPicPr/>
            <p:nvPr/>
          </p:nvPicPr>
          <p:blipFill>
            <a:blip r:embed="rId1"/>
            <a:stretch/>
          </p:blipFill>
          <p:spPr>
            <a:xfrm>
              <a:off x="1692360" y="1268280"/>
              <a:ext cx="2599920" cy="28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Рисунок 11" descr=""/>
            <p:cNvPicPr/>
            <p:nvPr/>
          </p:nvPicPr>
          <p:blipFill>
            <a:blip r:embed="rId2"/>
            <a:stretch/>
          </p:blipFill>
          <p:spPr>
            <a:xfrm>
              <a:off x="4656960" y="1437840"/>
              <a:ext cx="2651400" cy="268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Text Box 8"/>
          <p:cNvSpPr/>
          <p:nvPr/>
        </p:nvSpPr>
        <p:spPr>
          <a:xfrm>
            <a:off x="900000" y="5229360"/>
            <a:ext cx="727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e5ff"/>
                </a:solidFill>
                <a:latin typeface="Garamond"/>
              </a:rPr>
              <a:t>Центрический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орнаментом называют узор, декоративные элементы которого сгруппированы так, что создают центрическое движение. Замкнутый орнамент чаще всего используется для украшения салфеток, скатертей, тарелок и т.д.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Геометрический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82" name="Group 6"/>
          <p:cNvGrpSpPr/>
          <p:nvPr/>
        </p:nvGrpSpPr>
        <p:grpSpPr>
          <a:xfrm>
            <a:off x="2050920" y="1413000"/>
            <a:ext cx="5689440" cy="2728440"/>
            <a:chOff x="2050920" y="1413000"/>
            <a:chExt cx="5689440" cy="2728440"/>
          </a:xfrm>
        </p:grpSpPr>
        <p:pic>
          <p:nvPicPr>
            <p:cNvPr id="183" name="Рисунок 21" descr=""/>
            <p:cNvPicPr/>
            <p:nvPr/>
          </p:nvPicPr>
          <p:blipFill>
            <a:blip r:embed="rId1"/>
            <a:stretch/>
          </p:blipFill>
          <p:spPr>
            <a:xfrm>
              <a:off x="2050920" y="1413000"/>
              <a:ext cx="2609280" cy="272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Рисунок 22" descr=""/>
            <p:cNvPicPr/>
            <p:nvPr/>
          </p:nvPicPr>
          <p:blipFill>
            <a:blip r:embed="rId2"/>
            <a:stretch/>
          </p:blipFill>
          <p:spPr>
            <a:xfrm>
              <a:off x="5066280" y="1594080"/>
              <a:ext cx="2674080" cy="242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Text Box 7"/>
          <p:cNvSpPr/>
          <p:nvPr/>
        </p:nvSpPr>
        <p:spPr>
          <a:xfrm>
            <a:off x="826920" y="4869000"/>
            <a:ext cx="75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геометрическом орнаменте в качестве мотива выступают геометрические фигуры: круг, квадрат, треугольник и т.д.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Растительный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87" name="Group 6"/>
          <p:cNvGrpSpPr/>
          <p:nvPr/>
        </p:nvGrpSpPr>
        <p:grpSpPr>
          <a:xfrm>
            <a:off x="1763640" y="1413000"/>
            <a:ext cx="5472000" cy="2663280"/>
            <a:chOff x="1763640" y="1413000"/>
            <a:chExt cx="5472000" cy="2663280"/>
          </a:xfrm>
        </p:grpSpPr>
        <p:pic>
          <p:nvPicPr>
            <p:cNvPr id="188" name="Рисунок 12" descr=""/>
            <p:cNvPicPr/>
            <p:nvPr/>
          </p:nvPicPr>
          <p:blipFill>
            <a:blip r:embed="rId1"/>
            <a:stretch/>
          </p:blipFill>
          <p:spPr>
            <a:xfrm>
              <a:off x="1763640" y="1413000"/>
              <a:ext cx="2585160" cy="25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Рисунок 13" descr=""/>
            <p:cNvPicPr/>
            <p:nvPr/>
          </p:nvPicPr>
          <p:blipFill>
            <a:blip r:embed="rId2"/>
            <a:stretch/>
          </p:blipFill>
          <p:spPr>
            <a:xfrm>
              <a:off x="4775760" y="1413000"/>
              <a:ext cx="2459880" cy="26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Text Box 7"/>
          <p:cNvSpPr/>
          <p:nvPr/>
        </p:nvSpPr>
        <p:spPr>
          <a:xfrm>
            <a:off x="1332000" y="472428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растительном – формы заимствованы из мира природы, например: листья растений, плоды, цветы, веточки и т.д. 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Русский орнамент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6868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рнаментальные композиции, как украшения предметов быта, на Руси существовали очень давно. Крестьянские избы украшались резным узором. На окнах висели занавески, вышитые причудливым орнаментом и весь дом был наполнен расписной посудой, вышивкой и кружев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усский орнамент очень разнообразен. Декоративные элементы составлялись из символов и отражали чувства и интересы крестьянина. Цвет в узоре имел особое значение. Красный цвет выражал восторг, радость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06:05:31Z</dcterms:created>
  <dc:creator>User</dc:creator>
  <dc:description/>
  <dc:language>en-US</dc:language>
  <cp:lastModifiedBy>Коля</cp:lastModifiedBy>
  <dcterms:modified xsi:type="dcterms:W3CDTF">2013-03-29T15:31:04Z</dcterms:modified>
  <cp:revision>26</cp:revision>
  <dc:subject/>
  <dc:title>«Орнамент - математическое воплощение красоты»</dc:title>
</cp:coreProperties>
</file>