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051D-E88D-454A-A301-AFAC78F1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403B-8B25-4F7D-9EDE-BD3960C4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AF18-550D-465E-AC5B-BDF508E9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177-7A46-4EA5-B654-99714C06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0750-CB2C-415B-A5EA-E0526E15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87BF-9663-4E50-86CE-DD33A07B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8C07-78CA-4DBF-8609-3A89F5BB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7D7B-0FDD-4E02-BA9D-9AE28DCC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227C-5A66-4194-B849-C06C20D5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3CD7-3BD8-4F90-988A-1730E5D8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7B43-497D-4C48-936C-0C46B2B0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8D7-73C7-4FDB-A2EB-1ECA4CDF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6688-3993-4C7B-B56B-852C63FC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299B-3325-416B-B65F-9484C126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3E65-2B84-48E6-B6DD-BCCC637D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6A9B-9E8E-4F10-B960-AEAE71F5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6C2F-11C5-45B5-A725-2F54689A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494-3929-4DC2-8604-E0939F6C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AD76-0E00-403D-9054-13FCD668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14C-278B-4643-B77C-F25BC4A1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9B5-D150-42D5-9FCD-194BAFB4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618-E276-423B-B9BA-DFA2B963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3F1-3B73-41B9-A64A-66A50876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82BC-BEED-4C32-9625-A23165CF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3C9B-1102-434C-ADC1-87477D8A210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14DA-6B91-4A7A-8892-0CBDE6AE249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420640"/>
            <a:ext cx="6400800" cy="4032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Организация накопительной системы оценки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Портфолио.</a:t>
            </a:r>
            <a:br>
              <a:rPr sz="4000"/>
            </a:br>
            <a:br>
              <a:rPr sz="4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Учитель начальных классов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МБОУ СОШ №1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с.Троицкое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Н.В.Ибрагимова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январь  2012 г.------------------------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нь важно организовать работу с «портфелем достижений школьника». Без этой дополнительной работы «Портфолио» превращается только в папку с работами ученик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тод «портфолио» используется в процессе обучения для того, чтобы придать смысл работе школьника через возможность обсуждения и сравнения оценок работы, которые оставил ученик, сверстники, учител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250920" y="260280"/>
          <a:ext cx="8130960" cy="5676840"/>
        </p:xfrm>
        <a:graphic>
          <a:graphicData uri="http://schemas.openxmlformats.org/drawingml/2006/table">
            <a:tbl>
              <a:tblPr/>
              <a:tblGrid>
                <a:gridCol w="2709720"/>
                <a:gridCol w="2711520"/>
                <a:gridCol w="2709720"/>
              </a:tblGrid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мпоненты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радиционное оцен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утентичное оцен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ъект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ровень усвоения учащими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ровень сформированности компетент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убъект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ч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ченик, уч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ритери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нешние (ГОС), закрытые для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ногосторонние, охватывающие различные аспекты задания, открытые для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арактер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рицательные (делается аспект на то, что НЕ выучил, НЕ запомнил, НЕ решил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ложительные, показывают учащимся, что их работа достаточно важ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мнению разработчиков ФГОС НОО, в портфолио учеников начальной школы , которое используется для оценки достижения планируемых результатов начального общего образования, целесообразно включать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 Выборки детских рабо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 Материалы стартовой диагностики, промежуточных и итоговых стандартизированных работ по отдельным предмета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 Систематизированные материалы наблюдений за процессом овладения универсальными учебными действия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 Материалы, характеризующие достижения учащихся во внеучебной (школьной и внешкольной) и досуговой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руктура «портфолио», предложенная разработчиками ФГОС НОО                                   (см. Оценка достижений планируемых результатов в начальной школе. Система заданий. В 2ч.; под ред. Г.С.Ковалёвой, О.Б.Логиновой. -М.: Просвещение, 2009.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Аутентичное оценивание» равнозначно «истинному, подлинному оцениванию», или «оцениванию реальных достижений учащихся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то делает оценивание «аутентичным»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пециально составленные задания, которые должны быть наиболее приближены к реальной ситуации, взяты из жизни, а оцениваемый должен найти или разработать процедуру, подходящую для решения данной проблемы, то есть проявить определённый уровень компетентн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ртфолио – целенаправленная коллекция работ учащихся, которая демонстрирует их усилия, прогресс, достижения в одной или более областя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ллекция должна вовлекать учащихся в отбор её содержания, определение критериев его отбора, должна содержать критерии для оценивания портфолио и свидетельства о рефлексии учащих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ртфолио действительно становится аутентичным оцениванием, если он включает в себя демонстрацию выполнения аутентичных (приближенных к реальной ситуации) зада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обое внимание уделяется включению учащихся в процесс рефлексии собственной образовательной деятельности, в процесс исследования уже осуществлённой деятельности с целью фиксации её результатов и повышения эффективности в дальнейшем. Результаты рефлексии оформляются учащимися письменно и включаются в портфоли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696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раткосрочный план действий (индивидуальный план обучения, демонстрируется последовательность         выполняемых образовательных шагов и результаты обучения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олгосрочный план действий (осуществляется рефлексия своей жизни, и определяются планы на будущее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щественно полезная добровольная деятель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тические и социальные вопрос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кусство и эстети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редства массовой информа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актические навы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еограф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остранный язы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ука и технолог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темати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итерату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тор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изическая подготов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каждого компонента портфолио разработаны задания, которые помогут учащимся проявить определённый уровень компетент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6870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Критерии оценки образовательных достижений учащихс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637000"/>
            <a:ext cx="7696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ыполнение работы свыше возраста или ступени обуч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мплексная или усложнённая презентация иде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лубинное понимание проблемы или иде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орошее обеспечение ресурсами и вдумчивое использование материал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личие элементов исследования иде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обычная презентация материа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личие высокой степени интереса и настойчив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4:30:36Z</dcterms:created>
  <dc:creator>Loner-XP</dc:creator>
  <dc:description/>
  <dc:language>en-US</dc:language>
  <cp:lastModifiedBy>администратор</cp:lastModifiedBy>
  <dcterms:modified xsi:type="dcterms:W3CDTF">2012-01-17T11:16:37Z</dcterms:modified>
  <cp:revision>24</cp:revision>
  <dc:subject/>
  <dc:title>Организация накопительной системы оценки. Портфолио.</dc:title>
</cp:coreProperties>
</file>