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106-E601-4C65-A940-05CA09BF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F3F-9D97-407B-B555-03EC8309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26A-9E4D-4EBA-86BE-F46055F2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DC0-835E-4480-A206-21FBE66F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1B4F-FBA1-4C74-95F7-54626AFC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6899-D00B-40E1-82EC-A30B8F4B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947A-7A60-4477-85C6-6CF37B6B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DCE0-331F-4E6A-AFB3-92DD3408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93CD-5659-434B-A749-134099D0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2345-DE0E-434D-8F68-8FEC27C5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295F-C1AD-43BF-B2A7-63D48ACD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16C-B770-4925-AF33-2EB87C05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F2D9-D8FB-4F05-B931-F810E33E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A488-A1FB-45FA-8BCE-9829A811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0460-9102-45B6-B265-F1DF6914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88D9-86C0-4FD6-B20D-297FA95B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A7F7-2A75-44D0-9F72-68054B82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CF3-A1C6-4318-8FF1-9A8AB70F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181-9815-42E5-A24F-C5630381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AC9-6E14-48C8-9815-63D9CE68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90E-291C-4534-9434-2A1B902E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18E-2F59-4B4E-97A6-136E791F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E54-DF2D-42FB-B599-045CD5B7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683-9C22-425E-B775-E3165915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596A-5BF6-4721-93BA-1AA33B11B5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5DC0-0BC0-4A1D-A263-D82DD6B464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20640"/>
            <a:ext cx="6400800" cy="403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Организация накопительной системы оценки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Портфолио.</a:t>
            </a:r>
            <a:br>
              <a:rPr sz="4000"/>
            </a:br>
            <a:br>
              <a:rPr sz="4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Учитель начальных классов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МБОУ СОШ №1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с.Троицкое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Н.В.Ибрагимова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январь  2012 г.------------------------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нь важно организовать работу с «портфелем достижений школьника». Без этой дополнительной работы «Портфолио» превращается только в папку с работами ученик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тод «портфолио» используется в процессе обучения для того, чтобы придать смысл работе школьника через возможность обсуждения и сравнения оценок работы, которые оставил ученик, сверстники, учите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50920" y="260280"/>
          <a:ext cx="8130960" cy="5676840"/>
        </p:xfrm>
        <a:graphic>
          <a:graphicData uri="http://schemas.openxmlformats.org/drawingml/2006/table">
            <a:tbl>
              <a:tblPr/>
              <a:tblGrid>
                <a:gridCol w="2709720"/>
                <a:gridCol w="2711520"/>
                <a:gridCol w="2709720"/>
              </a:tblGrid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мпоненты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адиционное оцен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утентичное оцен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ъект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ровень усвоения учащими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ровень сформированности компетент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убъект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еник, 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итери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нешние (ГОС), закрытые для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ногосторонние, охватывающие различные аспекты задания, открытые для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арактер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рицательные (делается аспект на то, что НЕ выучил, НЕ запомнил, НЕ решил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ложительные, показывают учащимся, что их работа достаточно важ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мнению разработчиков ФГОС НОО, в портфолио учеников начальной школы , которое используется для оценки достижения планируемых результатов начального общего образования, целесообразно включать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Выборки детских рабо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Материалы стартовой диагностики, промежуточных и итоговых стандартизированных работ по отдельным предмет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Систематизированные материалы наблюдений за процессом овладения универсальными учебными действи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Материалы, характеризующие достижения учащихся во внеучебной (школьной и внешкольной) и досуговой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уктура «портфолио», предложенная разработчиками ФГОС НОО                                   (см. Оценка достижений планируемых результатов в начальной школе. Система заданий. В 2ч.; под ред. Г.С.Ковалёвой, О.Б.Логиновой. -М.: Просвещение, 2009.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Аутентичное оценивание» равнозначно «истинному, подлинному оцениванию», или «оцениванию реальных достижений учащихся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делает оценивание «аутентичным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ециально составленные задания, которые должны быть наиболее приближены к реальной ситуации, взяты из жизни, а оцениваемый должен найти или разработать процедуру, подходящую для решения данной проблемы, то есть проявить определённый уровень компетент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ртфолио – целенаправленная коллекция работ учащихся, которая демонстрирует их усилия, прогресс, достижения в одной или более областя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ллекция должна вовлекать учащихся в отбор её содержания, определение критериев его отбора, должна содержать критерии для оценивания портфолио и свидетельства о рефлексии учащих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ртфолио действительно становится аутентичным оцениванием, если он включает в себя демонстрацию выполнения аутентичных (приближенных к реальной ситуации) зад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обое внимание уделяется включению учащихся в процесс рефлексии собственной образовательной деятельности, в процесс исследования уже осуществлённой деятельности с целью фиксации её результатов и повышения эффективности в дальнейшем. Результаты рефлексии оформляются учащимися письменно и включаются в портфоли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696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аткосрочный план действий (индивидуальный план обучения, демонстрируется последовательность         выполняемых образовательных шагов и результаты обучения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олгосрочный план действий (осуществляется рефлексия своей жизни, и определяются планы на будущее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ественно полезная добровольная деятель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ические и социальные вопрос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кусство и эстет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редства массовой информа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актические навы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ограф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остранный язы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ука и техноло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темат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терату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то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зическая подготов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каждого компонента портфолио разработаны задания, которые помогут учащимся проявить определённый уровень компетент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6870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ритерии оценки образовательных достижений учащихс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637000"/>
            <a:ext cx="7696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полнение работы свыше возраста или ступени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плексная или усложнённая презентация иде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лубинное понимание проблемы или иде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орошее обеспечение ресурсами и вдумчивое использование материал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личие элементов исследования иде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обычная презентация материа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личие высокой степени интереса и настойчив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4:30:36Z</dcterms:created>
  <dc:creator>Loner-XP</dc:creator>
  <dc:description/>
  <dc:language>en-US</dc:language>
  <cp:lastModifiedBy>администратор</cp:lastModifiedBy>
  <dcterms:modified xsi:type="dcterms:W3CDTF">2012-01-17T11:16:37Z</dcterms:modified>
  <cp:revision>24</cp:revision>
  <dc:subject/>
  <dc:title>Организация накопительной системы оценки. Портфолио.</dc:title>
</cp:coreProperties>
</file>