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B23-E952-42D2-82CD-613BD55D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783-59F9-4B29-9F18-0757127C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7D8-8A1D-4D3A-BC60-23D33014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5EA-C171-43E5-A877-A567514D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1651-1BDA-4E47-A430-EBEFFE89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ED2-1D5E-4BDD-98A0-805644C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9909-C65E-4C65-B0D8-106DC591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34F5-A0AA-4BCB-B827-0B3D242D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BAA-FE66-4BC1-A471-DC667A7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685F-A7D6-4DAC-A836-A275F561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039-718C-4486-855C-E5BD206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FA2-C683-4EFA-9D05-E3580EDA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A777-D540-4C6C-B1B5-651C74A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83E1-BD5D-4191-86B3-9B3AF47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E86B-62AC-4F89-B2E3-6A730B5F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8CA-3C37-4181-A90A-88FDFFC1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0924-D012-4B22-895E-3CC3736E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6A7-77CD-4B15-9C5D-6B2A6958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8C3-F0E5-435A-8A8C-A0398B2F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61E-19F2-4F1F-9A16-7AAD9330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386-E4FE-4A2B-A16F-5906BA3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35F-2A55-471E-9C4F-FD8BEC9E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D14-6FAD-4C49-AAE6-BC31467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778-8A75-4D27-945D-30D0B023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1F49-D447-4C25-998D-3FC3A464CC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E3B-29B3-4D6A-A2D6-1B44B789AE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20640"/>
            <a:ext cx="640080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Организация накопительной системы оценки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ортфолио.</a:t>
            </a: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МБОУ СОШ №1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с.Троицкое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Н.В.Ибрагимова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январь  2012 г.------------------------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нь важно организовать работу с «портфелем достижений школьника». Без этой дополнительной работы «Портфолио» превращается только в папку с работами учени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од «портфолио» используется в процессе обучения для того, чтобы придать смысл работе школьника через возможность обсуждения и сравнения оценок работы, которые оставил ученик, сверстники, учит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50920" y="260280"/>
          <a:ext cx="8130960" cy="5676840"/>
        </p:xfrm>
        <a:graphic>
          <a:graphicData uri="http://schemas.openxmlformats.org/drawingml/2006/table">
            <a:tbl>
              <a:tblPr/>
              <a:tblGrid>
                <a:gridCol w="2709720"/>
                <a:gridCol w="2711520"/>
                <a:gridCol w="2709720"/>
              </a:tblGrid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мпоненты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адиционное оцен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утентичное оцен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ъект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ровень усвоения учащими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ровень сформированности компетен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бъект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, 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итери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нешние (ГОС), закрытые для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ногосторонние, охватывающие различные аспекты задания, открытые для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арактер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рицательные (делается аспект на то, что НЕ выучил, НЕ запомнил, НЕ решил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ложительные, показывают учащимся, что их работа достаточно важ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мнению разработчиков ФГОС НОО, в портфолио учеников начальной школы , которое используется для оценки достижения планируемых результатов начального общего образования, целесообразно включать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Выборки детских рабо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Материалы стартовой диагностики, промежуточных и итоговых стандартизированных работ по отдельным предмет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Систематизированные материалы наблюдений за процессом овладения универсальными учебными действи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Материалы, характеризующие достижения учащихся во внеучебной (школьной и внешкольной) и досугов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уктура «портфолио», предложенная разработчиками ФГОС НОО                                   (см. Оценка достижений планируемых результатов в начальной школе. Система заданий. В 2ч.; под ред. Г.С.Ковалёвой, О.Б.Логиновой. -М.: Просвещение, 2009.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Аутентичное оценивание» равнозначно «истинному, подлинному оцениванию», или «оцениванию реальных достижений учащихс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делает оценивание «аутентичным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ециально составленные задания, которые должны быть наиболее приближены к реальной ситуации, взяты из жизни, а оцениваемый должен найти или разработать процедуру, подходящую для решения данной проблемы, то есть проявить определённый уровень компетент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ртфолио – целенаправленная коллекция работ учащихся, которая демонстрирует их усилия, прогресс, достижения в одной или более област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ллекция должна вовлекать учащихся в отбор её содержания, определение критериев его отбора, должна содержать критерии для оценивания портфолио и свидетельства о рефлексии учащих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ртфолио действительно становится аутентичным оцениванием, если он включает в себя демонстрацию выполнения аутентичных (приближенных к реальной ситуации) зад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обое внимание уделяется включению учащихся в процесс рефлексии собственной образовательной деятельности, в процесс исследования уже осуществлённой деятельности с целью фиксации её результатов и повышения эффективности в дальнейшем. Результаты рефлексии оформляются учащимися письменно и включаются в портфоли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696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аткосрочный план действий (индивидуальный план обучения, демонстрируется последовательность         выполняемых образовательных шагов и результаты обучения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лгосрочный план действий (осуществляется рефлексия своей жизни, и определяются планы на будуще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ественно полезная доброволь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ические и социальны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усство и эстет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редства массовой информа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ктические навы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ограф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остранный язы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ка и техноло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мат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терату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о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зическая подготов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каждого компонента портфолио разработаны задания, которые помогут учащимся проявить определённый уровень компетент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ритерии оценки образовательных достижений учащих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637000"/>
            <a:ext cx="7696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олнение работы свыше возраста или ступени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лексная или усложнённая презентация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лубинное понимание проблемы или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рошее обеспечение ресурсами и вдумчивое использование материа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ичие элементов исследования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бычная презентация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ичие высокой степени интереса и настойчив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4:30:36Z</dcterms:created>
  <dc:creator>Loner-XP</dc:creator>
  <dc:description/>
  <dc:language>en-US</dc:language>
  <cp:lastModifiedBy>администратор</cp:lastModifiedBy>
  <dcterms:modified xsi:type="dcterms:W3CDTF">2012-01-17T11:16:37Z</dcterms:modified>
  <cp:revision>24</cp:revision>
  <dc:subject/>
  <dc:title>Организация накопительной системы оценки. Портфолио.</dc:title>
</cp:coreProperties>
</file>