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47A-1DA9-4B2D-ABD8-2AD7400D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D48-6EE9-4038-A031-97A1937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BC5-4566-4988-8587-14D93F34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68B-4FF9-49F4-8EF7-F6F5A4B2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537-4A54-4B57-84EC-6D76398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151-62DE-4194-A267-84DF41C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BFA-EB8A-4E6E-B561-6C95450A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EEB-C677-4B27-BEB1-F647CFD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A88-EB3B-4F00-9D5A-CD2E7455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68D-DEE2-4C95-9EFE-4571196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79A-B545-4CEA-8F93-C410164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B08-0A09-4463-BBD2-9A92F9B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26C-F6F3-4BAD-8C2A-17F29310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56894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Объем 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кону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4720" y="2997360"/>
            <a:ext cx="265752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68000" y="1557360"/>
            <a:ext cx="65725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боту выполн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цы 11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У «Тугустемирская СО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удряшова Нат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усаева Гуль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610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Тео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280" y="2565000"/>
            <a:ext cx="7343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ъем конуса равен одной трети произведения площади основания на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04000" y="4653000"/>
            <a:ext cx="18763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836640"/>
            <a:ext cx="6480000" cy="5689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Рассмотрим конус с объем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радиус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высотой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вершиной в точке О. Введем ось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так, как показано на рисунке 1 (ОМ – ось конуса). Произвольное сечение конуса плоскостью, перпендикулярной к оси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является кругом с центром в точке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пересечения этой плоскости с осью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Обозначим радиус этого круга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а площадь сечения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), где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– абсцисса точки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из подобия  прямоугольных треугольников О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А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ОМА следует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Откуда                    .  Так как                           ,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рименяя основную формулу для вычисления объемов тел при а = 0,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олу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лощадь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основания конуса равна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,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 , поэ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259272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93528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51640" y="1268280"/>
            <a:ext cx="154944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4392720" cy="84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03640" y="3573360"/>
            <a:ext cx="1441440" cy="560520"/>
          </a:xfrm>
          <a:prstGeom prst="rect">
            <a:avLst/>
          </a:prstGeom>
          <a:ln w="9360">
            <a:solidFill>
              <a:srgbClr val="fa060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403280" y="5877000"/>
            <a:ext cx="1297080" cy="601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еченного конуса, высота которого рав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а площади осн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вычисляется по формул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9281000">
            <a:off x="0" y="259920"/>
            <a:ext cx="180036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553080" cy="998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54440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Задачи для закрепления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700280"/>
            <a:ext cx="7273800" cy="43210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1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Цилиндр и конус имеют равные радиусы оснований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авные высоты. Объем конуса равен 40 с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айдит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м цилин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Боковые ребра правильной треугольной пирами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яют с основанием угол 60°. Найдите объ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ного около пирамиды конуса, если сторо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ия пирамиды рав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2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АВС, АС = СВ = 2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 = 48. Треугольник вращается вокруг оси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ходящей через вершину В и перпендикулярн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. Найдите объем тела вра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66920" cy="131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4:04:33Z</dcterms:created>
  <dc:creator>User</dc:creator>
  <dc:description/>
  <dc:language>en-US</dc:language>
  <cp:lastModifiedBy>User</cp:lastModifiedBy>
  <dcterms:modified xsi:type="dcterms:W3CDTF">2008-02-22T12:56:13Z</dcterms:modified>
  <cp:revision>5</cp:revision>
  <dc:subject/>
  <dc:title>Объем конуса</dc:title>
</cp:coreProperties>
</file>