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gif" ContentType="image/gif"/>
  <Override PartName="/ppt/media/image1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211-3275-4277-943A-D8E2D2E5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AEE-7372-4AE3-8C5B-71D89436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3FC-3FC7-422B-B852-64FF1B9F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A73-FFD9-4E3A-9BA7-4229D560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79C-4711-4D4C-B9C9-DAC34835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CB7-0C93-486F-A53A-8E38EA0C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E40-B8D5-45AF-9CA4-6AE280A9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B1D-4F63-40BA-A642-91BB717E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8F1-9FA9-469C-BFBC-2F59BF37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1AF-0409-4C54-B3F4-1533B8B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609-0868-48F6-AE36-25F2A971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AC5-F50C-4B6A-842C-173DB7BE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136C-4481-47C6-9376-63C23C04F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56894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Monotype Corsiva"/>
              </a:rPr>
              <a:t>Объем 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Monotype Corsiva"/>
              </a:rPr>
              <a:t>кону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84720" y="2997360"/>
            <a:ext cx="2657520" cy="3247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68000" y="1557360"/>
            <a:ext cx="65725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боту выполн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ченицы 11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У «Тугустемирская СОШ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Кудряшова Нат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Дусаева Гуль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261000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Теор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71280" y="2565000"/>
            <a:ext cx="73436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бъем конуса равен одной трети произведения площади основания на выс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87632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04000" y="4653000"/>
            <a:ext cx="187632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836640"/>
            <a:ext cx="6480000" cy="5689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Рассмотрим конус с объемом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радиусом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высотой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и вершиной в точке О. Введем ось О</a:t>
            </a:r>
            <a:r>
              <a:rPr b="1" lang="en-US" sz="1600" spc="-1" strike="noStrike" baseline="-25000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так, как показано на рисунке 1 (ОМ – ось конуса). Произвольное сечение конуса плоскостью, перпендикулярной к оси О</a:t>
            </a:r>
            <a:r>
              <a:rPr b="1" lang="en-US" sz="1600" spc="-1" strike="noStrike" baseline="-25000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является кругом с центром в точке М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пересечения этой плоскости с осью О</a:t>
            </a:r>
            <a:r>
              <a:rPr b="1" lang="en-US" sz="1600" spc="-1" strike="noStrike" baseline="-25000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. Обозначим радиус этого круга через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а площадь сечения через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), где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– абсцисса точки М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. из подобия  прямоугольных треугольников ОМ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А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и ОМА следует, ч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Откуда                    .  Так как                           ,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Применяя основную формулу для вычисления объемов тел при а = 0,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получ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Площадь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основания конуса равна π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2,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= π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2 , поэ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2592720" cy="57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935280" cy="48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451640" y="1268280"/>
            <a:ext cx="1549440" cy="266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258920" y="4653000"/>
            <a:ext cx="4392720" cy="84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203640" y="3573360"/>
            <a:ext cx="1441440" cy="560520"/>
          </a:xfrm>
          <a:prstGeom prst="rect">
            <a:avLst/>
          </a:prstGeom>
          <a:ln w="9360">
            <a:solidFill>
              <a:srgbClr val="fa060c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403280" y="5877000"/>
            <a:ext cx="1297080" cy="601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След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еченного конуса, высота которого рав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,а площади осно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вн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, вычисляется по формул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19281000">
            <a:off x="0" y="259920"/>
            <a:ext cx="180036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6553080" cy="998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54440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Задачи для закрепления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1700280"/>
            <a:ext cx="7273800" cy="43210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А 1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Цилиндр и конус имеют равные радиусы оснований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авные высоты. Объем конуса равен 40 с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айдит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м цилин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Боковые ребра правильной треугольной пирами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ляют с основанием угол 60°. Найдите объ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ного около пирамиды конуса, если сторон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ия пирамиды рав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А 2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АВС, АС = СВ = 25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 = 48. Треугольник вращается вокруг оси,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ходящей через вершину В и перпендикулярно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. Найдите объем тела вра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366920" cy="131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4:04:33Z</dcterms:created>
  <dc:creator>User</dc:creator>
  <dc:description/>
  <dc:language>en-US</dc:language>
  <cp:lastModifiedBy>User</cp:lastModifiedBy>
  <dcterms:modified xsi:type="dcterms:W3CDTF">2008-02-22T12:56:13Z</dcterms:modified>
  <cp:revision>5</cp:revision>
  <dc:subject/>
  <dc:title>Объем конуса</dc:title>
</cp:coreProperties>
</file>