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8C8-AC96-4D05-988C-9C536D9F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6192-FA07-46E2-AF50-25986113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1A0D-0492-479D-ADAF-186D3A74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2E1-773D-4BAC-BA21-3FF13785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FCA65-B650-4CB6-954A-E98D9E95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E446B-7F13-43DF-AD2A-D6DD046A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BA784-BD5F-4104-9617-527E67EC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B15B7-8777-4536-A40B-D46354E1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C4558-9BCA-4282-BAF5-46A7D059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B9654-174A-4313-8B3D-1B84D7C9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3911A-E2AC-40D4-AD8C-B9A2D2B1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41E-DBB2-4274-93A0-A199A337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003E9-B92E-4A93-8EF0-FEDAF91D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DE451-C940-4FB3-BC19-0921815D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3F746-00EB-4F52-A1A6-D68FE3F4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DCA85-E4E1-4C3A-B7C7-64CB136A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4DE45-539D-46BC-8367-0AE2B9CA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83D3B-88A8-4239-A72D-D91B3608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25BF4-1E2F-4104-A075-488EBBFB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07261-3672-4EEE-887B-CE25956B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7463D-9601-4C2C-A72D-3C10380F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B07F7-E3FB-4B9D-A433-FF152380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492-4E79-4398-9D9D-373A3011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83353-A7B0-4AE6-9112-C582D52A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D218C-ABB1-4F74-8FAA-C1331550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FB2E2-1509-484B-8CA5-C068A628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20342-C977-46D8-A8F6-B896CD25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5400F-4F93-4695-9474-F74E1874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BD3F0-D5B9-40F5-859D-ED5BA67F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A1273-ADC7-46EF-9F99-B0B2FE8C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4A7E65-C6A0-4526-8466-077C096A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55357D-3492-498D-9CA3-5DF1E671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4D2751-3F81-48C1-8E26-DCD481BE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F2D1-FB48-4955-973A-4BD19311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931D16-3E31-469D-87C0-C89D05A2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14A36B-FC7D-4D04-AA1A-1A5BB871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61DE6C-8158-4154-B59C-5D9C8BA1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107890-28E8-4CEC-8830-F85EF0E1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9FB600-BCE7-40D1-839F-A4B886B1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227A8C-06F2-42D1-8A09-3D68E5C3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7F4625-55C8-4B7C-8E4E-583BF50E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B748B4-1A8C-41C6-BF5D-D2190A11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47FC68-AB6E-4A44-A85F-95946F9A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08151A-C702-4C1F-A5AC-F8A011F8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9A27-BBA2-4DF0-BE7C-7BA74F57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6C40E-765A-46BC-8908-830AE0A1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480114-1739-42C5-BE4C-FE6E39F0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A52328-8F45-4CED-9A6D-959E4A83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91A99-FB1A-4C18-9B53-C7D8E5B0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3E6049-4F8E-4D51-9CFD-96A6F30D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6464C-56D1-4786-BEDD-65F04BE5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B597A4-01EC-45E9-A3A8-0B2C4BB4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E4A79E-1538-49F9-B438-C2E84A77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8FA565-70C2-4214-9D3B-E56ABDA9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E8D9C5-F4AD-4D71-BC06-6AE3E169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267-F8D7-43D1-BB5A-53FA83D7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F1B17-FD51-4277-A957-239AC611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CBBD16-F440-4D22-9B81-1E6C13BB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46952F-223D-4F9D-B5B7-9DEA905A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4FE2DD-1EE6-4FDA-B4A3-357A2CF1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3A292E-A094-44A0-9293-A57259C6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F05151-F00D-48A7-B89D-327F4E90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695B81-3ED5-4FE7-BA11-EA15C1F8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0389E5-E039-407A-AB8C-49652478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1D9853-7EF6-43C1-B180-BF935BDE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DD556-0565-4915-850B-AF23A120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245D-409C-4216-9EE4-F02CA738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B581BA-7DDB-4F73-BFE6-5488A3E3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AD666F-D71D-4C9E-8DD6-2FB75237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AC42BE-1C22-4574-A3FD-5611DCFF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704-F8D4-411A-A7CD-F6289F9C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426-A2A8-47C7-AC42-521067E6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081A-E0B1-4BAF-8132-10EC406B8C3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D269-FE0C-47F4-B6E9-D52FE547D92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BF1D-5BAB-49EE-BA9D-5D22D069DE6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EB5B-865D-428F-B1BB-EB1BED3D34C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27D3-ECFC-4E7D-A534-3A17BE80C54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2597-5D4F-434D-86E8-D32534FE31D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24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                                                           </a:t>
            </a: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Работу выполнил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                                                           </a:t>
            </a: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ученики 7 «А» класса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                                                           </a:t>
            </a: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Никитин Андрей 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                                                           </a:t>
            </a: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Шамоян Максим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                                                           </a:t>
            </a: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Артем Федотов.           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2" descr=""/>
          <p:cNvPicPr/>
          <p:nvPr/>
        </p:nvPicPr>
        <p:blipFill>
          <a:blip r:embed="rId1"/>
          <a:stretch/>
        </p:blipFill>
        <p:spPr>
          <a:xfrm>
            <a:off x="450720" y="493560"/>
            <a:ext cx="8321760" cy="1659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onstantia"/>
              </a:rPr>
              <a:t>Мы выбрали эту тему так как она нас очень заинтересовала тем , что геометрия Лобачевского очень полезна в современном мире, и мы хотим немного рассказать вам о ней: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Любая теория современной науки считается единственно верной, пока  не создана следующая. Это своеобразная аксиома развития науки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Этот факт многократно подтверждался. Физика Ньютона переросла в релятивистскую физику, а та в квантовую. Теория флогистона стала химией, а самозарождение мышей из грязи обернулось биологией. Такова судьба всех наук, и нельзя сказать, что сегодняшнее открытие через двадцать лет не окажется грандиозной ошибкой. Но это тоже нормально – ещё Ломоносов говорил: «Алхимия – мать химии: дочь не виновата, что её мать глуповата»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Участь эта не обошла и геометрию. Традиционная Евклидова геометрия переросла в неевклидову, геометрию Лобачевского. Именно этому разделу математики, его истории и особенностям и посвящен этот проект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42920" y="1643040"/>
            <a:ext cx="650088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Иногда говорят, что в геометрии Лобачевского параллельные прямые пересекаются в бесконечности. Но это не совсем так. Есть только немного другое свойство параллельности: через одну точку вне прямой можно провести бесконечно много прямых, параллельных данной. Это видно на рисунке 1. Причем параллельность сохраняется только в сторону уменьшения расстояния между прямыми. Этот, казалось бы, простой факт доказывается, что сумма углов треугольника равна 180</a:t>
            </a:r>
            <a:r>
              <a:rPr b="0" lang="ru-RU" sz="1500" spc="-1" strike="noStrike" baseline="30000">
                <a:solidFill>
                  <a:srgbClr val="ffffff"/>
                </a:solidFill>
                <a:latin typeface="Constantia"/>
              </a:rPr>
              <a:t>о</a:t>
            </a: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? Классическое доказательство приведено на рисунке 2. Используется свойство углов при накрест лежащих прямых, и выходит, что </a:t>
            </a:r>
            <a:r>
              <a:rPr b="0" lang="ru-RU" sz="15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1+</a:t>
            </a:r>
            <a:r>
              <a:rPr b="0" lang="ru-RU" sz="15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2+</a:t>
            </a:r>
            <a:r>
              <a:rPr b="0" lang="ru-RU" sz="15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3=180</a:t>
            </a:r>
            <a:r>
              <a:rPr b="0" lang="ru-RU" sz="1500" spc="-1" strike="noStrike" baseline="30000">
                <a:solidFill>
                  <a:srgbClr val="ffffff"/>
                </a:solidFill>
                <a:latin typeface="Constantia"/>
              </a:rPr>
              <a:t>о</a:t>
            </a: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. Но так как в геометрии Лобачевского параллельность сохраняется только в одном направлении, то для нахождения суммы углов треугольника*, то нужно провести две прямые, параллельные данной в разные стороны. Что получается, видно на рисунке 3. Понятно, что теперь сумма углов треугольника меньше 180</a:t>
            </a:r>
            <a:r>
              <a:rPr b="0" lang="ru-RU" sz="1500" spc="-1" strike="noStrike" baseline="30000">
                <a:solidFill>
                  <a:srgbClr val="ffffff"/>
                </a:solidFill>
                <a:latin typeface="Constantia"/>
              </a:rPr>
              <a:t>о</a:t>
            </a: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. Эта разница была названа Лобачевским дефектом треугольника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Одними из важных объектов на плоскости Лобачевского являются пучки прямых. Но чтобы описать эти пучки, сначала надо уяснить, что в плоскости Лобачевского есть три типа расположения прямых: прямые или параллельны, или пересекаются, или являются , меняет всю геометрию. Как, например, в геометрии Евклида </a:t>
            </a: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Заголовок 2" descr=""/>
          <p:cNvPicPr/>
          <p:nvPr/>
        </p:nvPicPr>
        <p:blipFill>
          <a:blip r:embed="rId1"/>
          <a:stretch/>
        </p:blipFill>
        <p:spPr>
          <a:xfrm>
            <a:off x="450720" y="0"/>
            <a:ext cx="8663040" cy="193212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2"/>
          <p:cNvGrpSpPr/>
          <p:nvPr/>
        </p:nvGrpSpPr>
        <p:grpSpPr>
          <a:xfrm>
            <a:off x="6526080" y="1428840"/>
            <a:ext cx="2617920" cy="1213920"/>
            <a:chOff x="6526080" y="1428840"/>
            <a:chExt cx="2617920" cy="1213920"/>
          </a:xfrm>
        </p:grpSpPr>
        <p:sp>
          <p:nvSpPr>
            <p:cNvPr id="259" name="AutoShape 3"/>
            <p:cNvSpPr/>
            <p:nvPr/>
          </p:nvSpPr>
          <p:spPr>
            <a:xfrm>
              <a:off x="7083360" y="1428840"/>
              <a:ext cx="2060640" cy="12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4"/>
            <p:cNvSpPr/>
            <p:nvPr/>
          </p:nvSpPr>
          <p:spPr>
            <a:xfrm>
              <a:off x="7126560" y="2414520"/>
              <a:ext cx="6861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Calibri"/>
                </a:rPr>
                <a:t>рис 1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5"/>
            <p:cNvSpPr/>
            <p:nvPr/>
          </p:nvSpPr>
          <p:spPr>
            <a:xfrm>
              <a:off x="6554520" y="2300400"/>
              <a:ext cx="176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6"/>
            <p:cNvSpPr/>
            <p:nvPr/>
          </p:nvSpPr>
          <p:spPr>
            <a:xfrm>
              <a:off x="6611760" y="1671840"/>
              <a:ext cx="1760040" cy="38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7"/>
            <p:cNvSpPr/>
            <p:nvPr/>
          </p:nvSpPr>
          <p:spPr>
            <a:xfrm flipV="1">
              <a:off x="6526080" y="1671840"/>
              <a:ext cx="1760040" cy="5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8"/>
            <p:cNvSpPr/>
            <p:nvPr/>
          </p:nvSpPr>
          <p:spPr>
            <a:xfrm flipV="1">
              <a:off x="6611760" y="1843200"/>
              <a:ext cx="180324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9"/>
          <p:cNvGrpSpPr/>
          <p:nvPr/>
        </p:nvGrpSpPr>
        <p:grpSpPr>
          <a:xfrm>
            <a:off x="6572160" y="2643120"/>
            <a:ext cx="2470320" cy="1440000"/>
            <a:chOff x="6572160" y="2643120"/>
            <a:chExt cx="2470320" cy="1440000"/>
          </a:xfrm>
        </p:grpSpPr>
        <p:sp>
          <p:nvSpPr>
            <p:cNvPr id="266" name="AutoShape 10"/>
            <p:cNvSpPr/>
            <p:nvPr/>
          </p:nvSpPr>
          <p:spPr>
            <a:xfrm>
              <a:off x="6572160" y="2643120"/>
              <a:ext cx="247032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1"/>
            <p:cNvSpPr/>
            <p:nvPr/>
          </p:nvSpPr>
          <p:spPr>
            <a:xfrm>
              <a:off x="6674760" y="2797200"/>
              <a:ext cx="231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2"/>
            <p:cNvSpPr/>
            <p:nvPr/>
          </p:nvSpPr>
          <p:spPr>
            <a:xfrm>
              <a:off x="6674760" y="3929040"/>
              <a:ext cx="231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3"/>
            <p:cNvSpPr/>
            <p:nvPr/>
          </p:nvSpPr>
          <p:spPr>
            <a:xfrm flipH="1">
              <a:off x="6932160" y="2797200"/>
              <a:ext cx="771840" cy="11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>
              <a:off x="7704360" y="2797200"/>
              <a:ext cx="720360" cy="11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5"/>
            <p:cNvSpPr/>
            <p:nvPr/>
          </p:nvSpPr>
          <p:spPr>
            <a:xfrm>
              <a:off x="7035120" y="3802320"/>
              <a:ext cx="22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7652520" y="2900160"/>
              <a:ext cx="11376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17"/>
            <p:cNvSpPr/>
            <p:nvPr/>
          </p:nvSpPr>
          <p:spPr>
            <a:xfrm>
              <a:off x="8127720" y="3761640"/>
              <a:ext cx="1540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18"/>
            <p:cNvSpPr/>
            <p:nvPr/>
          </p:nvSpPr>
          <p:spPr>
            <a:xfrm>
              <a:off x="7807680" y="2848680"/>
              <a:ext cx="2570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Text Box 19"/>
            <p:cNvSpPr/>
            <p:nvPr/>
          </p:nvSpPr>
          <p:spPr>
            <a:xfrm>
              <a:off x="7395120" y="2848680"/>
              <a:ext cx="2124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20"/>
            <p:cNvSpPr/>
            <p:nvPr/>
          </p:nvSpPr>
          <p:spPr>
            <a:xfrm>
              <a:off x="7418880" y="3936240"/>
              <a:ext cx="565920" cy="1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рис. 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Group 21"/>
          <p:cNvGrpSpPr/>
          <p:nvPr/>
        </p:nvGrpSpPr>
        <p:grpSpPr>
          <a:xfrm>
            <a:off x="6572160" y="4276800"/>
            <a:ext cx="2470320" cy="1866960"/>
            <a:chOff x="6572160" y="4276800"/>
            <a:chExt cx="2470320" cy="1866960"/>
          </a:xfrm>
        </p:grpSpPr>
        <p:sp>
          <p:nvSpPr>
            <p:cNvPr id="278" name="AutoShape 22"/>
            <p:cNvSpPr/>
            <p:nvPr/>
          </p:nvSpPr>
          <p:spPr>
            <a:xfrm>
              <a:off x="6572160" y="4500720"/>
              <a:ext cx="247032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 flipV="1">
              <a:off x="6777720" y="4401360"/>
              <a:ext cx="2161440" cy="43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6777720" y="4276800"/>
              <a:ext cx="221292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25"/>
            <p:cNvSpPr/>
            <p:nvPr/>
          </p:nvSpPr>
          <p:spPr>
            <a:xfrm>
              <a:off x="6726600" y="5832360"/>
              <a:ext cx="221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6"/>
            <p:cNvSpPr/>
            <p:nvPr/>
          </p:nvSpPr>
          <p:spPr>
            <a:xfrm flipH="1">
              <a:off x="7241040" y="4588200"/>
              <a:ext cx="668880" cy="124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7910280" y="4588200"/>
              <a:ext cx="617400" cy="124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28"/>
            <p:cNvSpPr/>
            <p:nvPr/>
          </p:nvSpPr>
          <p:spPr>
            <a:xfrm>
              <a:off x="7395480" y="5645880"/>
              <a:ext cx="2055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Text Box 29"/>
            <p:cNvSpPr/>
            <p:nvPr/>
          </p:nvSpPr>
          <p:spPr>
            <a:xfrm>
              <a:off x="8167680" y="5645880"/>
              <a:ext cx="15408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Text Box 30"/>
            <p:cNvSpPr/>
            <p:nvPr/>
          </p:nvSpPr>
          <p:spPr>
            <a:xfrm>
              <a:off x="7858800" y="4836960"/>
              <a:ext cx="10260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31"/>
            <p:cNvSpPr/>
            <p:nvPr/>
          </p:nvSpPr>
          <p:spPr>
            <a:xfrm>
              <a:off x="7910280" y="4588200"/>
              <a:ext cx="19440" cy="2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Text Box 32"/>
            <p:cNvSpPr/>
            <p:nvPr/>
          </p:nvSpPr>
          <p:spPr>
            <a:xfrm>
              <a:off x="7549560" y="4774320"/>
              <a:ext cx="172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Text Box 33"/>
            <p:cNvSpPr/>
            <p:nvPr/>
          </p:nvSpPr>
          <p:spPr>
            <a:xfrm>
              <a:off x="8064720" y="4774680"/>
              <a:ext cx="30852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34"/>
            <p:cNvSpPr/>
            <p:nvPr/>
          </p:nvSpPr>
          <p:spPr>
            <a:xfrm>
              <a:off x="7704360" y="4650120"/>
              <a:ext cx="1026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35"/>
            <p:cNvSpPr/>
            <p:nvPr/>
          </p:nvSpPr>
          <p:spPr>
            <a:xfrm flipH="1">
              <a:off x="8012880" y="4650120"/>
              <a:ext cx="1026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36"/>
            <p:cNvSpPr/>
            <p:nvPr/>
          </p:nvSpPr>
          <p:spPr>
            <a:xfrm>
              <a:off x="7607520" y="5863320"/>
              <a:ext cx="35964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рис. 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444d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2"/>
          <p:cNvGrpSpPr/>
          <p:nvPr/>
        </p:nvGrpSpPr>
        <p:grpSpPr>
          <a:xfrm>
            <a:off x="285840" y="3214800"/>
            <a:ext cx="8499240" cy="1785960"/>
            <a:chOff x="285840" y="3214800"/>
            <a:chExt cx="8499240" cy="1785960"/>
          </a:xfrm>
        </p:grpSpPr>
        <p:sp>
          <p:nvSpPr>
            <p:cNvPr id="295" name="AutoShape 27"/>
            <p:cNvSpPr/>
            <p:nvPr/>
          </p:nvSpPr>
          <p:spPr>
            <a:xfrm>
              <a:off x="285840" y="3214800"/>
              <a:ext cx="84992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26"/>
            <p:cNvSpPr/>
            <p:nvPr/>
          </p:nvSpPr>
          <p:spPr>
            <a:xfrm>
              <a:off x="1865880" y="3817080"/>
              <a:ext cx="62640" cy="2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5"/>
            <p:cNvSpPr/>
            <p:nvPr/>
          </p:nvSpPr>
          <p:spPr>
            <a:xfrm>
              <a:off x="821880" y="3469680"/>
              <a:ext cx="2322720" cy="76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4"/>
            <p:cNvSpPr/>
            <p:nvPr/>
          </p:nvSpPr>
          <p:spPr>
            <a:xfrm>
              <a:off x="1651680" y="3405960"/>
              <a:ext cx="49752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3"/>
            <p:cNvSpPr/>
            <p:nvPr/>
          </p:nvSpPr>
          <p:spPr>
            <a:xfrm flipH="1">
              <a:off x="1485000" y="3405960"/>
              <a:ext cx="829080" cy="82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22"/>
            <p:cNvSpPr/>
            <p:nvPr/>
          </p:nvSpPr>
          <p:spPr>
            <a:xfrm flipV="1">
              <a:off x="821880" y="3597480"/>
              <a:ext cx="265428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21"/>
            <p:cNvSpPr/>
            <p:nvPr/>
          </p:nvSpPr>
          <p:spPr>
            <a:xfrm>
              <a:off x="3642120" y="4809600"/>
              <a:ext cx="1824840" cy="12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рис. 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20"/>
            <p:cNvSpPr/>
            <p:nvPr/>
          </p:nvSpPr>
          <p:spPr>
            <a:xfrm>
              <a:off x="1651680" y="4426560"/>
              <a:ext cx="331560" cy="1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а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19"/>
            <p:cNvSpPr/>
            <p:nvPr/>
          </p:nvSpPr>
          <p:spPr>
            <a:xfrm>
              <a:off x="4139640" y="4490640"/>
              <a:ext cx="33156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б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960240" y="4490640"/>
              <a:ext cx="33156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в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7"/>
            <p:cNvSpPr/>
            <p:nvPr/>
          </p:nvSpPr>
          <p:spPr>
            <a:xfrm>
              <a:off x="3476520" y="4362840"/>
              <a:ext cx="2488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6"/>
            <p:cNvSpPr/>
            <p:nvPr/>
          </p:nvSpPr>
          <p:spPr>
            <a:xfrm>
              <a:off x="3808080" y="3597480"/>
              <a:ext cx="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5"/>
            <p:cNvSpPr/>
            <p:nvPr/>
          </p:nvSpPr>
          <p:spPr>
            <a:xfrm>
              <a:off x="4139640" y="3597480"/>
              <a:ext cx="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4"/>
            <p:cNvSpPr/>
            <p:nvPr/>
          </p:nvSpPr>
          <p:spPr>
            <a:xfrm>
              <a:off x="4471560" y="3597480"/>
              <a:ext cx="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3"/>
            <p:cNvSpPr/>
            <p:nvPr/>
          </p:nvSpPr>
          <p:spPr>
            <a:xfrm>
              <a:off x="4803480" y="3597480"/>
              <a:ext cx="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2"/>
            <p:cNvSpPr/>
            <p:nvPr/>
          </p:nvSpPr>
          <p:spPr>
            <a:xfrm>
              <a:off x="5135400" y="3597480"/>
              <a:ext cx="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1"/>
            <p:cNvSpPr/>
            <p:nvPr/>
          </p:nvSpPr>
          <p:spPr>
            <a:xfrm>
              <a:off x="5466960" y="3597480"/>
              <a:ext cx="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0"/>
            <p:cNvSpPr/>
            <p:nvPr/>
          </p:nvSpPr>
          <p:spPr>
            <a:xfrm>
              <a:off x="5798880" y="3597480"/>
              <a:ext cx="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9"/>
            <p:cNvSpPr/>
            <p:nvPr/>
          </p:nvSpPr>
          <p:spPr>
            <a:xfrm flipV="1">
              <a:off x="6462360" y="4298760"/>
              <a:ext cx="2156400" cy="19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 flipV="1">
              <a:off x="6462360" y="4235040"/>
              <a:ext cx="199044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7"/>
            <p:cNvSpPr/>
            <p:nvPr/>
          </p:nvSpPr>
          <p:spPr>
            <a:xfrm flipV="1">
              <a:off x="6462360" y="4171320"/>
              <a:ext cx="1990440" cy="6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6"/>
            <p:cNvSpPr/>
            <p:nvPr/>
          </p:nvSpPr>
          <p:spPr>
            <a:xfrm>
              <a:off x="6462360" y="4107600"/>
              <a:ext cx="19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5"/>
            <p:cNvSpPr/>
            <p:nvPr/>
          </p:nvSpPr>
          <p:spPr>
            <a:xfrm>
              <a:off x="6462360" y="3980160"/>
              <a:ext cx="215640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4"/>
            <p:cNvSpPr/>
            <p:nvPr/>
          </p:nvSpPr>
          <p:spPr>
            <a:xfrm>
              <a:off x="6462360" y="3789000"/>
              <a:ext cx="199044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3"/>
            <p:cNvSpPr/>
            <p:nvPr/>
          </p:nvSpPr>
          <p:spPr>
            <a:xfrm>
              <a:off x="6628320" y="3597480"/>
              <a:ext cx="1824840" cy="19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Rectangle 37"/>
          <p:cNvSpPr/>
          <p:nvPr/>
        </p:nvSpPr>
        <p:spPr>
          <a:xfrm>
            <a:off x="357120" y="5395320"/>
            <a:ext cx="8501040" cy="1433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444d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521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Несмотря на все кажущиеся странности, геометрия Лобачевского является настоящей геометрией нашего мира, и Евклидова является только её составной частью. Но в пределах ежедневных измерений Евклидова геометрия дает исчезающе малые ошибки, и мы пользуемся именно ею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521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38"/>
          <p:cNvSpPr/>
          <p:nvPr/>
        </p:nvSpPr>
        <p:spPr>
          <a:xfrm>
            <a:off x="428760" y="227880"/>
            <a:ext cx="8143920" cy="260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444d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r" pos="521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ходящимися.</a:t>
            </a:r>
            <a:br>
              <a:rPr sz="1500"/>
            </a:b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r" pos="521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* Здесь и далее подразумевается геометрия Лобачевского, если нет оговорки на геометрию Евклид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r" pos="521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Так вот, первый вид пучков образован прямыми, имеющими общую точку – центр пучка (рис. 4а). Пучок расходящихся прямых – это перпендикуляры к одной прямой –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оси пучка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(рис. 4б). Из этого определения выходит интересное и, казалось бы, абсурдное утверждение, что два перпендикуляра к одной прямой непараллельны, и отличие от геометрии Евклид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r" pos="521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И, наконец, пучок, образуемый прямыми, параллельными данной прямой в заданном направлении (рис. 4в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огда Евклид формулировал пятый постулат, вряд ли он знал, какую бурю тот вызовет. Когда Лобачевский отказался от пятого постулата, он не знал, что его «воображаемая геометрия» на поверку окажется реальной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льзя сказать, что неевклидова геометрия единственно правильна. На данный момент к ней нет никаких претензий. Но, может быть, через много лет она устареет – или это произойдет быстрее? Так или иначе, но наука никогда не будет стоять на месте, и когда – нибудь и этот проект окажется макулатурой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о думаю, что этого времени он успеет исполнить свое предназначение – рассказать и заинтересовать читателя настоящей геометрией нашего мира. Именно из-за популярного характера в нем нет ни строгих доказательств, ни полного описания неевклидовой геометрии. Но для поверхностного ознакомления с ней он вполне годен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3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8:52:32Z</dcterms:created>
  <dc:creator>werr</dc:creator>
  <dc:description/>
  <dc:language>en-US</dc:language>
  <cp:lastModifiedBy>1</cp:lastModifiedBy>
  <dcterms:modified xsi:type="dcterms:W3CDTF">2013-04-15T09:12:56Z</dcterms:modified>
  <cp:revision>46</cp:revision>
  <dc:subject/>
  <dc:title>Лобачевский и его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