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B03-7640-4847-A324-78C50D12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E39-9CA7-47BE-B6E3-45D2DCBA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97F0-60DA-4375-8033-F989E6A5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41F-12C4-47E1-B5BE-A159E14C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81449-EB42-4614-97F5-4FAE5F19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4721A-77A0-4011-87B6-906D94AE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0BFC2-ADCB-4238-B9A1-126914B1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529BC-B130-4B8D-9939-8A5F21C9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EF1F1-4E55-4750-8F59-6763DB46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1D5F2-EF98-4713-8640-2C078B01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8E1EC-84EB-4FA6-8120-B3FA4DC9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9763-CF5B-4DC2-BDEC-44885946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9FFF3-5CE7-42D2-AC08-10D4E9EA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E81E4-8FD2-4717-928D-82CE5A14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E4694-B920-4BA9-B1C6-E7DC2DEB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0ACA1-6C6B-4FD8-839D-D0F5E36F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8B50A-A115-4A85-BBC0-FD976A15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003C9-21BD-496C-BE92-FCD42744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E3FD6-E9A4-4632-8F96-B8CC1487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032A6-6265-4EAD-9139-BC0A90E1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23E8F-2A73-4CEE-9016-1A1F1268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9A60F-03A0-4667-9061-E3BA65E3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EFA7-552C-49D4-A6A4-859DA687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F118B-03EB-439F-B217-13429F1B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44D6E-BF5B-4B8A-A268-E26663A4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F6918-F652-4019-A00E-F7608955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826BD-D449-43CC-AEEE-713E4681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6E1C4-FF19-4956-9396-24EA572E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14330-EA39-47AB-8C3D-6CE192C3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D644B-7D3E-44D1-A656-870ED732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EBDC5-68F6-4F05-BA3F-82C4B5BF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602A0D-F5CB-4954-B161-22D9B568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BE9294-D624-4C2B-B4A7-F52845F5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2A89-4E0A-4D8E-96A2-7618AB7A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0E0180-0FC9-4383-8C7D-1323FE1E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ADF442-4AA1-4FF3-A488-A1D6CF2F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175D40-C5C3-4620-9C06-93C8095E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E953A5-5C54-4A79-AB7A-8CF59A42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42D67C-083B-4DC7-8091-780D7ABB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FFAFD9-B2E9-445C-BCD4-DB5AB55D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CBAF9D-BA77-4A48-9A69-C592F166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54BEBD-2DFE-47AE-817C-BE91D2FA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AA1B38-42A0-4FD1-A9C5-7369769F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4549FF-220E-4093-9A5C-91EE5521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823-1F97-4F2F-A19B-61B10A04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4EBA6E-088E-4515-B6B1-E66F776F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41832B-94DF-4A08-B64F-13A686C8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81FB66-9D2C-47BF-B793-4E657E64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57D59B-78ED-4877-B015-C6C6543E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EC7861-C53E-425D-A9E1-5E227EEF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410F88-5E62-4C9C-9D37-E31B1D3A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FEB921-7461-41A5-8CB6-D15CB332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5F3284-272E-42E9-BE89-5D3FF4F2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F4CC63-B905-4B9F-87F5-81A1440F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83031C-FB32-42C0-BA7D-F6E4CE7F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638-63D8-4E9F-88AB-C2360464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E5DD53-D20E-4FBD-AFE5-41C8F087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4C5F8D-2881-4783-8AB8-7C17E89E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C4402F-CD1E-41B3-A9A1-5E641091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97D3D2-FC04-4FE0-A652-CD1B8591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53FE7-A464-4F5E-8BC3-8113F78D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516B7-577D-42BE-A723-76C2F501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451104-5725-480F-AD20-044C85AF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CDFCD-84FD-413A-A4CC-F8B11C9D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FCA82C-E624-4A48-8616-2D283031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91747-FD6B-4B9D-90E9-810F0F58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6B7-D5D5-4953-9C7D-FDF7067B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D9B5BC-5842-4BA3-8386-1AAA0478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9FAB28-AB03-4453-AF59-F9F5745E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9D2BFE-C85E-4B45-B4AD-269563A2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D2EE-1CA7-4B9A-8EA1-528ADC53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5739-B5CD-4499-A78F-E3FF92EC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221E-BD31-45FA-A2D9-3209EE747DD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0F83-3F46-4307-AA8F-1F062B38211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AC4D-52E7-46C2-AFC4-1DBD935F97D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2145-57D7-4D24-B65F-06458205BE6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2DEC-AF7E-4B43-8D49-A8576D88C42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D824-17CF-40B7-9DD5-5E0F5562160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24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                                                           </a:t>
            </a: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Работу выполнил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                                                           </a:t>
            </a: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ученики 7 «А» класса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                                                           </a:t>
            </a: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Никитин Андрей 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                                                           </a:t>
            </a: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Шамоян Максим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                                                           </a:t>
            </a: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Артем Федотов.            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2" descr=""/>
          <p:cNvPicPr/>
          <p:nvPr/>
        </p:nvPicPr>
        <p:blipFill>
          <a:blip r:embed="rId1"/>
          <a:stretch/>
        </p:blipFill>
        <p:spPr>
          <a:xfrm>
            <a:off x="450720" y="493560"/>
            <a:ext cx="8321760" cy="1659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onstantia"/>
              </a:rPr>
              <a:t>Мы выбрали эту тему так как она нас очень заинтересовала тем , что геометрия Лобачевского очень полезна в современном мире, и мы хотим немного рассказать вам о ней: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Любая теория современной науки считается единственно верной, пока  не создана следующая. Это своеобразная аксиома развития науки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Этот факт многократно подтверждался. Физика Ньютона переросла в релятивистскую физику, а та в квантовую. Теория флогистона стала химией, а самозарождение мышей из грязи обернулось биологией. Такова судьба всех наук, и нельзя сказать, что сегодняшнее открытие через двадцать лет не окажется грандиозной ошибкой. Но это тоже нормально – ещё Ломоносов говорил: «Алхимия – мать химии: дочь не виновата, что её мать глуповата»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Участь эта не обошла и геометрию. Традиционная Евклидова геометрия переросла в неевклидову, геометрию Лобачевского. Именно этому разделу математики, его истории и особенностям и посвящен этот проект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42920" y="1643040"/>
            <a:ext cx="650088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Иногда говорят, что в геометрии Лобачевского параллельные прямые пересекаются в бесконечности. Но это не совсем так. Есть только немного другое свойство параллельности: через одну точку вне прямой можно провести бесконечно много прямых, параллельных данной. Это видно на рисунке 1. Причем параллельность сохраняется только в сторону уменьшения расстояния между прямыми. Этот, казалось бы, простой факт доказывается, что сумма углов треугольника равна 180</a:t>
            </a:r>
            <a:r>
              <a:rPr b="0" lang="ru-RU" sz="1500" spc="-1" strike="noStrike" baseline="30000">
                <a:solidFill>
                  <a:srgbClr val="ffffff"/>
                </a:solidFill>
                <a:latin typeface="Constantia"/>
              </a:rPr>
              <a:t>о</a:t>
            </a: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? Классическое доказательство приведено на рисунке 2. Используется свойство углов при накрест лежащих прямых, и выходит, что </a:t>
            </a:r>
            <a:r>
              <a:rPr b="0" lang="ru-RU" sz="15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1+</a:t>
            </a:r>
            <a:r>
              <a:rPr b="0" lang="ru-RU" sz="15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2+</a:t>
            </a:r>
            <a:r>
              <a:rPr b="0" lang="ru-RU" sz="15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3=180</a:t>
            </a:r>
            <a:r>
              <a:rPr b="0" lang="ru-RU" sz="1500" spc="-1" strike="noStrike" baseline="30000">
                <a:solidFill>
                  <a:srgbClr val="ffffff"/>
                </a:solidFill>
                <a:latin typeface="Constantia"/>
              </a:rPr>
              <a:t>о</a:t>
            </a: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. Но так как в геометрии Лобачевского параллельность сохраняется только в одном направлении, то для нахождения суммы углов треугольника*, то нужно провести две прямые, параллельные данной в разные стороны. Что получается, видно на рисунке 3. Понятно, что теперь сумма углов треугольника меньше 180</a:t>
            </a:r>
            <a:r>
              <a:rPr b="0" lang="ru-RU" sz="1500" spc="-1" strike="noStrike" baseline="30000">
                <a:solidFill>
                  <a:srgbClr val="ffffff"/>
                </a:solidFill>
                <a:latin typeface="Constantia"/>
              </a:rPr>
              <a:t>о</a:t>
            </a: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. Эта разница была названа Лобачевским дефектом треугольника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Одними из важных объектов на плоскости Лобачевского являются пучки прямых. Но чтобы описать эти пучки, сначала надо уяснить, что в плоскости Лобачевского есть три типа расположения прямых: прямые или параллельны, или пересекаются, или являются , меняет всю геометрию. Как, например, в геометрии Евклида </a:t>
            </a: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Заголовок 2" descr=""/>
          <p:cNvPicPr/>
          <p:nvPr/>
        </p:nvPicPr>
        <p:blipFill>
          <a:blip r:embed="rId1"/>
          <a:stretch/>
        </p:blipFill>
        <p:spPr>
          <a:xfrm>
            <a:off x="450720" y="0"/>
            <a:ext cx="8663040" cy="193212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2"/>
          <p:cNvGrpSpPr/>
          <p:nvPr/>
        </p:nvGrpSpPr>
        <p:grpSpPr>
          <a:xfrm>
            <a:off x="6526080" y="1428840"/>
            <a:ext cx="2617920" cy="1213920"/>
            <a:chOff x="6526080" y="1428840"/>
            <a:chExt cx="2617920" cy="1213920"/>
          </a:xfrm>
        </p:grpSpPr>
        <p:sp>
          <p:nvSpPr>
            <p:cNvPr id="259" name="AutoShape 3"/>
            <p:cNvSpPr/>
            <p:nvPr/>
          </p:nvSpPr>
          <p:spPr>
            <a:xfrm>
              <a:off x="7083360" y="1428840"/>
              <a:ext cx="2060640" cy="12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4"/>
            <p:cNvSpPr/>
            <p:nvPr/>
          </p:nvSpPr>
          <p:spPr>
            <a:xfrm>
              <a:off x="7126560" y="2414520"/>
              <a:ext cx="6861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Calibri"/>
                </a:rPr>
                <a:t>рис 1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5"/>
            <p:cNvSpPr/>
            <p:nvPr/>
          </p:nvSpPr>
          <p:spPr>
            <a:xfrm>
              <a:off x="6554520" y="2300400"/>
              <a:ext cx="176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6"/>
            <p:cNvSpPr/>
            <p:nvPr/>
          </p:nvSpPr>
          <p:spPr>
            <a:xfrm>
              <a:off x="6611760" y="1671840"/>
              <a:ext cx="1760040" cy="38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7"/>
            <p:cNvSpPr/>
            <p:nvPr/>
          </p:nvSpPr>
          <p:spPr>
            <a:xfrm flipV="1">
              <a:off x="6526080" y="1671840"/>
              <a:ext cx="1760040" cy="5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8"/>
            <p:cNvSpPr/>
            <p:nvPr/>
          </p:nvSpPr>
          <p:spPr>
            <a:xfrm flipV="1">
              <a:off x="6611760" y="1843200"/>
              <a:ext cx="180324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9"/>
          <p:cNvGrpSpPr/>
          <p:nvPr/>
        </p:nvGrpSpPr>
        <p:grpSpPr>
          <a:xfrm>
            <a:off x="6572160" y="2643120"/>
            <a:ext cx="2470320" cy="1440000"/>
            <a:chOff x="6572160" y="2643120"/>
            <a:chExt cx="2470320" cy="1440000"/>
          </a:xfrm>
        </p:grpSpPr>
        <p:sp>
          <p:nvSpPr>
            <p:cNvPr id="266" name="AutoShape 10"/>
            <p:cNvSpPr/>
            <p:nvPr/>
          </p:nvSpPr>
          <p:spPr>
            <a:xfrm>
              <a:off x="6572160" y="2643120"/>
              <a:ext cx="247032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1"/>
            <p:cNvSpPr/>
            <p:nvPr/>
          </p:nvSpPr>
          <p:spPr>
            <a:xfrm>
              <a:off x="6674760" y="2797200"/>
              <a:ext cx="231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2"/>
            <p:cNvSpPr/>
            <p:nvPr/>
          </p:nvSpPr>
          <p:spPr>
            <a:xfrm>
              <a:off x="6674760" y="3929040"/>
              <a:ext cx="231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3"/>
            <p:cNvSpPr/>
            <p:nvPr/>
          </p:nvSpPr>
          <p:spPr>
            <a:xfrm flipH="1">
              <a:off x="6932160" y="2797200"/>
              <a:ext cx="771840" cy="11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>
              <a:off x="7704360" y="2797200"/>
              <a:ext cx="720360" cy="11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5"/>
            <p:cNvSpPr/>
            <p:nvPr/>
          </p:nvSpPr>
          <p:spPr>
            <a:xfrm>
              <a:off x="7035120" y="3802320"/>
              <a:ext cx="22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7652520" y="2900160"/>
              <a:ext cx="11376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17"/>
            <p:cNvSpPr/>
            <p:nvPr/>
          </p:nvSpPr>
          <p:spPr>
            <a:xfrm>
              <a:off x="8127720" y="3761640"/>
              <a:ext cx="1540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Text Box 18"/>
            <p:cNvSpPr/>
            <p:nvPr/>
          </p:nvSpPr>
          <p:spPr>
            <a:xfrm>
              <a:off x="7807680" y="2848680"/>
              <a:ext cx="2570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Text Box 19"/>
            <p:cNvSpPr/>
            <p:nvPr/>
          </p:nvSpPr>
          <p:spPr>
            <a:xfrm>
              <a:off x="7395120" y="2848680"/>
              <a:ext cx="2124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20"/>
            <p:cNvSpPr/>
            <p:nvPr/>
          </p:nvSpPr>
          <p:spPr>
            <a:xfrm>
              <a:off x="7418880" y="3936240"/>
              <a:ext cx="565920" cy="1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рис. 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Group 21"/>
          <p:cNvGrpSpPr/>
          <p:nvPr/>
        </p:nvGrpSpPr>
        <p:grpSpPr>
          <a:xfrm>
            <a:off x="6572160" y="4276800"/>
            <a:ext cx="2470320" cy="1866960"/>
            <a:chOff x="6572160" y="4276800"/>
            <a:chExt cx="2470320" cy="1866960"/>
          </a:xfrm>
        </p:grpSpPr>
        <p:sp>
          <p:nvSpPr>
            <p:cNvPr id="278" name="AutoShape 22"/>
            <p:cNvSpPr/>
            <p:nvPr/>
          </p:nvSpPr>
          <p:spPr>
            <a:xfrm>
              <a:off x="6572160" y="4500720"/>
              <a:ext cx="247032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 flipV="1">
              <a:off x="6777720" y="4401360"/>
              <a:ext cx="2161440" cy="43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6777720" y="4276800"/>
              <a:ext cx="221292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25"/>
            <p:cNvSpPr/>
            <p:nvPr/>
          </p:nvSpPr>
          <p:spPr>
            <a:xfrm>
              <a:off x="6726600" y="5832360"/>
              <a:ext cx="221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6"/>
            <p:cNvSpPr/>
            <p:nvPr/>
          </p:nvSpPr>
          <p:spPr>
            <a:xfrm flipH="1">
              <a:off x="7241040" y="4588200"/>
              <a:ext cx="668880" cy="124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7910280" y="4588200"/>
              <a:ext cx="617400" cy="124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28"/>
            <p:cNvSpPr/>
            <p:nvPr/>
          </p:nvSpPr>
          <p:spPr>
            <a:xfrm>
              <a:off x="7395480" y="5645880"/>
              <a:ext cx="2055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Text Box 29"/>
            <p:cNvSpPr/>
            <p:nvPr/>
          </p:nvSpPr>
          <p:spPr>
            <a:xfrm>
              <a:off x="8167680" y="5645880"/>
              <a:ext cx="15408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Text Box 30"/>
            <p:cNvSpPr/>
            <p:nvPr/>
          </p:nvSpPr>
          <p:spPr>
            <a:xfrm>
              <a:off x="7858800" y="4836960"/>
              <a:ext cx="10260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31"/>
            <p:cNvSpPr/>
            <p:nvPr/>
          </p:nvSpPr>
          <p:spPr>
            <a:xfrm>
              <a:off x="7910280" y="4588200"/>
              <a:ext cx="19440" cy="2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Text Box 32"/>
            <p:cNvSpPr/>
            <p:nvPr/>
          </p:nvSpPr>
          <p:spPr>
            <a:xfrm>
              <a:off x="7549560" y="4774320"/>
              <a:ext cx="172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Text Box 33"/>
            <p:cNvSpPr/>
            <p:nvPr/>
          </p:nvSpPr>
          <p:spPr>
            <a:xfrm>
              <a:off x="8064720" y="4774680"/>
              <a:ext cx="30852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34"/>
            <p:cNvSpPr/>
            <p:nvPr/>
          </p:nvSpPr>
          <p:spPr>
            <a:xfrm>
              <a:off x="7704360" y="4650120"/>
              <a:ext cx="1026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35"/>
            <p:cNvSpPr/>
            <p:nvPr/>
          </p:nvSpPr>
          <p:spPr>
            <a:xfrm flipH="1">
              <a:off x="8012880" y="4650120"/>
              <a:ext cx="1026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36"/>
            <p:cNvSpPr/>
            <p:nvPr/>
          </p:nvSpPr>
          <p:spPr>
            <a:xfrm>
              <a:off x="7607520" y="5863320"/>
              <a:ext cx="35964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рис. 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444d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2"/>
          <p:cNvGrpSpPr/>
          <p:nvPr/>
        </p:nvGrpSpPr>
        <p:grpSpPr>
          <a:xfrm>
            <a:off x="285840" y="3214800"/>
            <a:ext cx="8499240" cy="1785960"/>
            <a:chOff x="285840" y="3214800"/>
            <a:chExt cx="8499240" cy="1785960"/>
          </a:xfrm>
        </p:grpSpPr>
        <p:sp>
          <p:nvSpPr>
            <p:cNvPr id="295" name="AutoShape 27"/>
            <p:cNvSpPr/>
            <p:nvPr/>
          </p:nvSpPr>
          <p:spPr>
            <a:xfrm>
              <a:off x="285840" y="3214800"/>
              <a:ext cx="84992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26"/>
            <p:cNvSpPr/>
            <p:nvPr/>
          </p:nvSpPr>
          <p:spPr>
            <a:xfrm>
              <a:off x="1865880" y="3817080"/>
              <a:ext cx="62640" cy="2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5"/>
            <p:cNvSpPr/>
            <p:nvPr/>
          </p:nvSpPr>
          <p:spPr>
            <a:xfrm>
              <a:off x="821880" y="3469680"/>
              <a:ext cx="2322720" cy="76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4"/>
            <p:cNvSpPr/>
            <p:nvPr/>
          </p:nvSpPr>
          <p:spPr>
            <a:xfrm>
              <a:off x="1651680" y="3405960"/>
              <a:ext cx="49752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3"/>
            <p:cNvSpPr/>
            <p:nvPr/>
          </p:nvSpPr>
          <p:spPr>
            <a:xfrm flipH="1">
              <a:off x="1485000" y="3405960"/>
              <a:ext cx="829080" cy="82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22"/>
            <p:cNvSpPr/>
            <p:nvPr/>
          </p:nvSpPr>
          <p:spPr>
            <a:xfrm flipV="1">
              <a:off x="821880" y="3597480"/>
              <a:ext cx="265428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21"/>
            <p:cNvSpPr/>
            <p:nvPr/>
          </p:nvSpPr>
          <p:spPr>
            <a:xfrm>
              <a:off x="3642120" y="4809600"/>
              <a:ext cx="1824840" cy="12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рис. 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20"/>
            <p:cNvSpPr/>
            <p:nvPr/>
          </p:nvSpPr>
          <p:spPr>
            <a:xfrm>
              <a:off x="1651680" y="4426560"/>
              <a:ext cx="331560" cy="1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а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19"/>
            <p:cNvSpPr/>
            <p:nvPr/>
          </p:nvSpPr>
          <p:spPr>
            <a:xfrm>
              <a:off x="4139640" y="4490640"/>
              <a:ext cx="33156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б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960240" y="4490640"/>
              <a:ext cx="33156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в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7"/>
            <p:cNvSpPr/>
            <p:nvPr/>
          </p:nvSpPr>
          <p:spPr>
            <a:xfrm>
              <a:off x="3476520" y="4362840"/>
              <a:ext cx="2488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6"/>
            <p:cNvSpPr/>
            <p:nvPr/>
          </p:nvSpPr>
          <p:spPr>
            <a:xfrm>
              <a:off x="3808080" y="3597480"/>
              <a:ext cx="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5"/>
            <p:cNvSpPr/>
            <p:nvPr/>
          </p:nvSpPr>
          <p:spPr>
            <a:xfrm>
              <a:off x="4139640" y="3597480"/>
              <a:ext cx="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4"/>
            <p:cNvSpPr/>
            <p:nvPr/>
          </p:nvSpPr>
          <p:spPr>
            <a:xfrm>
              <a:off x="4471560" y="3597480"/>
              <a:ext cx="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3"/>
            <p:cNvSpPr/>
            <p:nvPr/>
          </p:nvSpPr>
          <p:spPr>
            <a:xfrm>
              <a:off x="4803480" y="3597480"/>
              <a:ext cx="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2"/>
            <p:cNvSpPr/>
            <p:nvPr/>
          </p:nvSpPr>
          <p:spPr>
            <a:xfrm>
              <a:off x="5135400" y="3597480"/>
              <a:ext cx="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1"/>
            <p:cNvSpPr/>
            <p:nvPr/>
          </p:nvSpPr>
          <p:spPr>
            <a:xfrm>
              <a:off x="5466960" y="3597480"/>
              <a:ext cx="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0"/>
            <p:cNvSpPr/>
            <p:nvPr/>
          </p:nvSpPr>
          <p:spPr>
            <a:xfrm>
              <a:off x="5798880" y="3597480"/>
              <a:ext cx="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9"/>
            <p:cNvSpPr/>
            <p:nvPr/>
          </p:nvSpPr>
          <p:spPr>
            <a:xfrm flipV="1">
              <a:off x="6462360" y="4298760"/>
              <a:ext cx="2156400" cy="19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 flipV="1">
              <a:off x="6462360" y="4235040"/>
              <a:ext cx="199044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7"/>
            <p:cNvSpPr/>
            <p:nvPr/>
          </p:nvSpPr>
          <p:spPr>
            <a:xfrm flipV="1">
              <a:off x="6462360" y="4171320"/>
              <a:ext cx="1990440" cy="6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6"/>
            <p:cNvSpPr/>
            <p:nvPr/>
          </p:nvSpPr>
          <p:spPr>
            <a:xfrm>
              <a:off x="6462360" y="4107600"/>
              <a:ext cx="19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5"/>
            <p:cNvSpPr/>
            <p:nvPr/>
          </p:nvSpPr>
          <p:spPr>
            <a:xfrm>
              <a:off x="6462360" y="3980160"/>
              <a:ext cx="215640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4"/>
            <p:cNvSpPr/>
            <p:nvPr/>
          </p:nvSpPr>
          <p:spPr>
            <a:xfrm>
              <a:off x="6462360" y="3789000"/>
              <a:ext cx="199044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3"/>
            <p:cNvSpPr/>
            <p:nvPr/>
          </p:nvSpPr>
          <p:spPr>
            <a:xfrm>
              <a:off x="6628320" y="3597480"/>
              <a:ext cx="1824840" cy="19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Rectangle 37"/>
          <p:cNvSpPr/>
          <p:nvPr/>
        </p:nvSpPr>
        <p:spPr>
          <a:xfrm>
            <a:off x="357120" y="5395320"/>
            <a:ext cx="8501040" cy="1433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444d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521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Несмотря на все кажущиеся странности, геометрия Лобачевского является настоящей геометрией нашего мира, и Евклидова является только её составной частью. Но в пределах ежедневных измерений Евклидова геометрия дает исчезающе малые ошибки, и мы пользуемся именно ею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521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38"/>
          <p:cNvSpPr/>
          <p:nvPr/>
        </p:nvSpPr>
        <p:spPr>
          <a:xfrm>
            <a:off x="428760" y="227880"/>
            <a:ext cx="8143920" cy="260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444d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r" pos="521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ходящимися.</a:t>
            </a:r>
            <a:br>
              <a:rPr sz="1500"/>
            </a:b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r" pos="521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* Здесь и далее подразумевается геометрия Лобачевского, если нет оговорки на геометрию Евклид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r" pos="521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Так вот, первый вид пучков образован прямыми, имеющими общую точку – центр пучка (рис. 4а). Пучок расходящихся прямых – это перпендикуляры к одной прямой –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оси пучка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(рис. 4б). Из этого определения выходит интересное и, казалось бы, абсурдное утверждение, что два перпендикуляра к одной прямой непараллельны, и отличие от геометрии Евклид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r" pos="521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И, наконец, пучок, образуемый прямыми, параллельными данной прямой в заданном направлении (рис. 4в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огда Евклид формулировал пятый постулат, вряд ли он знал, какую бурю тот вызовет. Когда Лобачевский отказался от пятого постулата, он не знал, что его «воображаемая геометрия» на поверку окажется реальной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льзя сказать, что неевклидова геометрия единственно правильна. На данный момент к ней нет никаких претензий. Но, может быть, через много лет она устареет – или это произойдет быстрее? Так или иначе, но наука никогда не будет стоять на месте, и когда – нибудь и этот проект окажется макулатурой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о думаю, что этого времени он успеет исполнить свое предназначение – рассказать и заинтересовать читателя настоящей геометрией нашего мира. Именно из-за популярного характера в нем нет ни строгих доказательств, ни полного описания неевклидовой геометрии. Но для поверхностного ознакомления с ней он вполне годен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3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8:52:32Z</dcterms:created>
  <dc:creator>werr</dc:creator>
  <dc:description/>
  <dc:language>en-US</dc:language>
  <cp:lastModifiedBy>1</cp:lastModifiedBy>
  <dcterms:modified xsi:type="dcterms:W3CDTF">2013-04-15T09:12:56Z</dcterms:modified>
  <cp:revision>46</cp:revision>
  <dc:subject/>
  <dc:title>Лобачевский и его гео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