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B37-6C6B-41A0-8164-886B02D2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305-B2CF-4C3B-A9A6-3103B37F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4C4-CE6E-411B-8DD0-8F1BF440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3BA-7FBA-42F4-9D3E-58198E74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9F8E5-DA25-4799-8193-513B47D1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D3B9A-CD98-422A-ADCB-B2221DEB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4306D-D4A3-46FC-89F9-8BBA704E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A6A04-180C-48C3-88BB-72E54CFA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01606-5543-47E5-98C5-FC1B489F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DFD07-4611-4463-896E-7F2F8305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B58A9-C3D6-4653-AA17-68897DE7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469-7083-47EC-9A0E-4BF8230E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65ADD-3D0F-4E99-BB55-37BB2118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A25CE-A061-4CA2-9497-C4137121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AA8AB-A55D-4E23-9464-556A474C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0FE25-7438-4B45-B084-6BBF875B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515E8-9A1B-418C-A350-EE67E14F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3AD2-3872-4BCF-8A1D-4E2CAA87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E028-4730-4A41-8987-39EF1DF8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0570-5D04-4E12-B644-235F4C3B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113B-54DD-4CAA-BFC6-D8E09B04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5B21-8D28-4391-943D-EA26B570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4B4-8777-46BA-80F1-83D90EB1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5CA1-49E0-423D-AFE8-F2BB662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4F09-EF46-44B9-99FA-5DCFD130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FA49-F412-4F4B-80C9-E61C1321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2049-81A7-41E4-AF00-8DEFB58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11BF-DF72-4968-8CE5-2B308780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DDEB-6E95-403D-96FE-AFDF657F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C62F-0F1B-42F3-B9C1-712C380E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9D7E51-1301-4CBA-B593-8DB39EEB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E5059-874A-42CF-844D-C2C65D30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0A548C-548C-4EC5-B31D-295295D9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2284-183F-4FAA-AA1A-569E02A8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177F8-A37C-4F38-9A00-20099ABA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7737F-0E20-42A7-971B-0E9F413D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4D39EF-D8D1-4143-BB09-75552514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6180E-5C09-4390-B423-857BE0FC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61FA6-3C9D-4B39-B549-C721969F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239E4-4139-474B-9991-B26F1419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F1B62-F6BB-4911-82B4-CA9295A5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6E799E-44F9-4EAA-BE4C-898EA509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6AF4B-89CC-4A9A-BDB9-92656755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733BB-0503-4492-9052-182B73B0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EE2-A116-4572-BDF9-DA3614A3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CDD8F-271A-4687-8F65-B8BE2B86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E1AB9-7F87-4DD8-B55C-3DCB3BB8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F80A9-B259-480E-8D0F-B490BF07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B5E8B-475E-42B3-8807-7558C15C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B5196-E4EB-4404-992D-870CD2C0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55458-087A-4222-BDF8-252C418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2DC6A-6DA1-4C70-88BC-9300BE2C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5D3CA-2A8C-4E8E-98FB-2B4F049B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BFCA8-9B97-4EF3-9E81-39A04CF4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27172-599B-457A-8EEB-91E4FC19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1EC-F79A-4044-8F98-3524FA38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8510A-94D3-4ACB-B352-21703594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F64A2-91AC-4309-BEFD-BF4A8925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4F4EB-6085-4E84-AF6B-37B99177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A8B032-9B62-48F7-B8DC-97C99B57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F60F1-682F-44A6-9A8F-301AFFB3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77AC3-C474-45A1-A16D-5EFB3F83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42E32-29BD-4872-B579-E668F509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1E0B0-0E8B-4692-A53C-BE775558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5D57D5-E9D6-4DF2-A81F-299BABE2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6BEB8-2832-497B-BF21-1D3FCE9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605-DE93-4594-A964-4A72AA64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DF3E3-75C2-4F86-B488-789DE175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2D07E-A0E5-4BB9-8CBD-4B85C1F0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3944D-7271-4D63-9CE7-7848657C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149-4843-47B6-8FB2-32E45ABF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304-27CC-43CB-AE6C-F9811507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A70C-AEB9-4EA3-A45D-0734C045D33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62EF-248E-4818-999B-8420F63CA35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2C55-E38D-47FC-8AFA-CF69D77C9D2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CB90-727A-4D7A-8AA5-87D0F496D44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01BB-4D46-4716-B5FE-4354451BA92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9727-B06A-4794-9402-E1F87BAF143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24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Работу выполнил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ученики 7 «А» класса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Никитин Андрей 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Шамоян Максим,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                                                           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Артем Федотов.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2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321760" cy="1659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onstantia"/>
              </a:rPr>
              <a:t>Мы выбрали эту тему так как она нас очень заинтересовала тем , что геометрия Лобачевского очень полезна в современном мире, и мы хотим немного рассказать вам о ней: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Этот факт многократно подтверждался. Физика Ньютона переросла в релятивистскую физику, а та в квантовую. Теория флогистона стала химией, а самозарождение мышей из грязи обернулось биологией. Такова судьба всех наук, и нельзя сказать, что сегодняшнее открытие через двадцать лет не окажется грандиозной ошибкой. Но это тоже нормально – ещё Ломоносов говорил: «Алхимия – мать химии: дочь не виновата, что её мать глуповата»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Участь эта не обошла и геометрию. Традиционная Евклидова геометрия переросла в неевклидову, геометрию Лобачевского. Именно этому разделу математики, его истории и особенностям и посвящен этот проект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42920" y="1643040"/>
            <a:ext cx="65008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Иногда говорят, что в геометрии Лобачевского параллельные прямые пересекаются в бесконечности. Но это не совсем так. Есть только немного другое свойство параллельности: через одну точку вне прямой можно провести бесконечно много прямых, параллельных данной. Это видно на рисунке 1. Причем параллельность сохраняется только в сторону уменьшения расстояния между прямыми. Этот, казалось бы, простой факт доказывается, что сумма углов треугольника равна 180</a:t>
            </a:r>
            <a:r>
              <a:rPr b="0" lang="ru-RU" sz="15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? Классическое доказательство приведено на рисунке 2. Используется свойство углов при накрест лежащих прямых, и выходит, что </a:t>
            </a:r>
            <a:r>
              <a:rPr b="0" lang="ru-RU" sz="15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1+</a:t>
            </a:r>
            <a:r>
              <a:rPr b="0" lang="ru-RU" sz="15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2+</a:t>
            </a:r>
            <a:r>
              <a:rPr b="0" lang="ru-RU" sz="15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3=180</a:t>
            </a:r>
            <a:r>
              <a:rPr b="0" lang="ru-RU" sz="15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. Но так как в геометрии Лобачевского параллельность сохраняется только в одном направлении, то для нахождения суммы углов треугольника*, то нужно провести две прямые, параллельные данной в разные стороны. Что получается, видно на рисунке 3. Понятно, что теперь сумма углов треугольника меньше 180</a:t>
            </a:r>
            <a:r>
              <a:rPr b="0" lang="ru-RU" sz="1500" spc="-1" strike="noStrike" baseline="30000">
                <a:solidFill>
                  <a:srgbClr val="ffffff"/>
                </a:solidFill>
                <a:latin typeface="Constantia"/>
              </a:rPr>
              <a:t>о</a:t>
            </a: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. Эта разница была названа Лобачевским дефектом треугольника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nstantia"/>
              </a:rPr>
              <a:t>Одними из важных объектов на плоскости Лобачевского являются пучки прямых. Но чтобы описать эти пучки, сначала надо уяснить, что в плоскости Лобачевского есть три типа расположения прямых: прямые или параллельны, или пересекаются, или являются , меняет всю геометрию. Как, например, в геометрии Евклида </a:t>
            </a: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7" name="Заголовок 2" descr=""/>
          <p:cNvPicPr/>
          <p:nvPr/>
        </p:nvPicPr>
        <p:blipFill>
          <a:blip r:embed="rId1"/>
          <a:stretch/>
        </p:blipFill>
        <p:spPr>
          <a:xfrm>
            <a:off x="450720" y="0"/>
            <a:ext cx="8663040" cy="193212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2"/>
          <p:cNvGrpSpPr/>
          <p:nvPr/>
        </p:nvGrpSpPr>
        <p:grpSpPr>
          <a:xfrm>
            <a:off x="6526080" y="1428840"/>
            <a:ext cx="2617920" cy="1213920"/>
            <a:chOff x="6526080" y="1428840"/>
            <a:chExt cx="2617920" cy="1213920"/>
          </a:xfrm>
        </p:grpSpPr>
        <p:sp>
          <p:nvSpPr>
            <p:cNvPr id="259" name="AutoShape 3"/>
            <p:cNvSpPr/>
            <p:nvPr/>
          </p:nvSpPr>
          <p:spPr>
            <a:xfrm>
              <a:off x="7083360" y="1428840"/>
              <a:ext cx="2060640" cy="12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Text Box 4"/>
            <p:cNvSpPr/>
            <p:nvPr/>
          </p:nvSpPr>
          <p:spPr>
            <a:xfrm>
              <a:off x="7126560" y="2414520"/>
              <a:ext cx="686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ffff"/>
                  </a:solidFill>
                  <a:latin typeface="Calibri"/>
                </a:rPr>
                <a:t>рис 1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>
              <a:off x="6554520" y="2300400"/>
              <a:ext cx="17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6"/>
            <p:cNvSpPr/>
            <p:nvPr/>
          </p:nvSpPr>
          <p:spPr>
            <a:xfrm>
              <a:off x="6611760" y="1671840"/>
              <a:ext cx="1760040" cy="38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7"/>
            <p:cNvSpPr/>
            <p:nvPr/>
          </p:nvSpPr>
          <p:spPr>
            <a:xfrm flipV="1">
              <a:off x="6526080" y="1671840"/>
              <a:ext cx="1760040" cy="5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8"/>
            <p:cNvSpPr/>
            <p:nvPr/>
          </p:nvSpPr>
          <p:spPr>
            <a:xfrm flipV="1">
              <a:off x="6611760" y="1843200"/>
              <a:ext cx="180324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9"/>
          <p:cNvGrpSpPr/>
          <p:nvPr/>
        </p:nvGrpSpPr>
        <p:grpSpPr>
          <a:xfrm>
            <a:off x="6572160" y="2643120"/>
            <a:ext cx="2470320" cy="1440000"/>
            <a:chOff x="6572160" y="2643120"/>
            <a:chExt cx="2470320" cy="1440000"/>
          </a:xfrm>
        </p:grpSpPr>
        <p:sp>
          <p:nvSpPr>
            <p:cNvPr id="266" name="AutoShape 10"/>
            <p:cNvSpPr/>
            <p:nvPr/>
          </p:nvSpPr>
          <p:spPr>
            <a:xfrm>
              <a:off x="6572160" y="2643120"/>
              <a:ext cx="24703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"/>
            <p:cNvSpPr/>
            <p:nvPr/>
          </p:nvSpPr>
          <p:spPr>
            <a:xfrm>
              <a:off x="6674760" y="2797200"/>
              <a:ext cx="23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2"/>
            <p:cNvSpPr/>
            <p:nvPr/>
          </p:nvSpPr>
          <p:spPr>
            <a:xfrm>
              <a:off x="6674760" y="3929040"/>
              <a:ext cx="23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3"/>
            <p:cNvSpPr/>
            <p:nvPr/>
          </p:nvSpPr>
          <p:spPr>
            <a:xfrm flipH="1">
              <a:off x="6932160" y="2797200"/>
              <a:ext cx="771840" cy="11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7704360" y="2797200"/>
              <a:ext cx="720360" cy="11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7035120" y="3802320"/>
              <a:ext cx="22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7652520" y="2900160"/>
              <a:ext cx="11376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17"/>
            <p:cNvSpPr/>
            <p:nvPr/>
          </p:nvSpPr>
          <p:spPr>
            <a:xfrm>
              <a:off x="8127720" y="3761640"/>
              <a:ext cx="1540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>
              <a:off x="7807680" y="2848680"/>
              <a:ext cx="25704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>
              <a:off x="7395120" y="2848680"/>
              <a:ext cx="212400" cy="15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20"/>
            <p:cNvSpPr/>
            <p:nvPr/>
          </p:nvSpPr>
          <p:spPr>
            <a:xfrm>
              <a:off x="7418880" y="3936240"/>
              <a:ext cx="565920" cy="1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рис. 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21"/>
          <p:cNvGrpSpPr/>
          <p:nvPr/>
        </p:nvGrpSpPr>
        <p:grpSpPr>
          <a:xfrm>
            <a:off x="6572160" y="4276800"/>
            <a:ext cx="2470320" cy="1866960"/>
            <a:chOff x="6572160" y="4276800"/>
            <a:chExt cx="2470320" cy="1866960"/>
          </a:xfrm>
        </p:grpSpPr>
        <p:sp>
          <p:nvSpPr>
            <p:cNvPr id="278" name="AutoShape 22"/>
            <p:cNvSpPr/>
            <p:nvPr/>
          </p:nvSpPr>
          <p:spPr>
            <a:xfrm>
              <a:off x="6572160" y="4500720"/>
              <a:ext cx="247032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 flipV="1">
              <a:off x="6777720" y="4401360"/>
              <a:ext cx="2161440" cy="43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6777720" y="4276800"/>
              <a:ext cx="221292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5"/>
            <p:cNvSpPr/>
            <p:nvPr/>
          </p:nvSpPr>
          <p:spPr>
            <a:xfrm>
              <a:off x="6726600" y="5832360"/>
              <a:ext cx="22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6"/>
            <p:cNvSpPr/>
            <p:nvPr/>
          </p:nvSpPr>
          <p:spPr>
            <a:xfrm flipH="1">
              <a:off x="7241040" y="4588200"/>
              <a:ext cx="668880" cy="12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7910280" y="4588200"/>
              <a:ext cx="617400" cy="124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28"/>
            <p:cNvSpPr/>
            <p:nvPr/>
          </p:nvSpPr>
          <p:spPr>
            <a:xfrm>
              <a:off x="7395480" y="5645880"/>
              <a:ext cx="2055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29"/>
            <p:cNvSpPr/>
            <p:nvPr/>
          </p:nvSpPr>
          <p:spPr>
            <a:xfrm>
              <a:off x="8167680" y="5645880"/>
              <a:ext cx="1540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30"/>
            <p:cNvSpPr/>
            <p:nvPr/>
          </p:nvSpPr>
          <p:spPr>
            <a:xfrm>
              <a:off x="7858800" y="4836960"/>
              <a:ext cx="10260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1"/>
            <p:cNvSpPr/>
            <p:nvPr/>
          </p:nvSpPr>
          <p:spPr>
            <a:xfrm>
              <a:off x="7910280" y="4588200"/>
              <a:ext cx="19440" cy="2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32"/>
            <p:cNvSpPr/>
            <p:nvPr/>
          </p:nvSpPr>
          <p:spPr>
            <a:xfrm>
              <a:off x="7549560" y="4774320"/>
              <a:ext cx="172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33"/>
            <p:cNvSpPr/>
            <p:nvPr/>
          </p:nvSpPr>
          <p:spPr>
            <a:xfrm>
              <a:off x="8064720" y="4774680"/>
              <a:ext cx="30852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34"/>
            <p:cNvSpPr/>
            <p:nvPr/>
          </p:nvSpPr>
          <p:spPr>
            <a:xfrm>
              <a:off x="7704360" y="4650120"/>
              <a:ext cx="1026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35"/>
            <p:cNvSpPr/>
            <p:nvPr/>
          </p:nvSpPr>
          <p:spPr>
            <a:xfrm flipH="1">
              <a:off x="8012880" y="4650120"/>
              <a:ext cx="1026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36"/>
            <p:cNvSpPr/>
            <p:nvPr/>
          </p:nvSpPr>
          <p:spPr>
            <a:xfrm>
              <a:off x="7607520" y="5863320"/>
              <a:ext cx="35964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040" rIns="41040" tIns="20520" bIns="205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ffffff"/>
                  </a:solidFill>
                  <a:latin typeface="Calibri"/>
                </a:rPr>
                <a:t>рис. 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444d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2"/>
          <p:cNvGrpSpPr/>
          <p:nvPr/>
        </p:nvGrpSpPr>
        <p:grpSpPr>
          <a:xfrm>
            <a:off x="285840" y="3214800"/>
            <a:ext cx="8499240" cy="1785960"/>
            <a:chOff x="285840" y="3214800"/>
            <a:chExt cx="8499240" cy="1785960"/>
          </a:xfrm>
        </p:grpSpPr>
        <p:sp>
          <p:nvSpPr>
            <p:cNvPr id="295" name="AutoShape 27"/>
            <p:cNvSpPr/>
            <p:nvPr/>
          </p:nvSpPr>
          <p:spPr>
            <a:xfrm>
              <a:off x="285840" y="3214800"/>
              <a:ext cx="84992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26"/>
            <p:cNvSpPr/>
            <p:nvPr/>
          </p:nvSpPr>
          <p:spPr>
            <a:xfrm>
              <a:off x="1865880" y="3817080"/>
              <a:ext cx="62640" cy="2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5"/>
            <p:cNvSpPr/>
            <p:nvPr/>
          </p:nvSpPr>
          <p:spPr>
            <a:xfrm>
              <a:off x="821880" y="3469680"/>
              <a:ext cx="2322720" cy="76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1651680" y="3405960"/>
              <a:ext cx="49752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3"/>
            <p:cNvSpPr/>
            <p:nvPr/>
          </p:nvSpPr>
          <p:spPr>
            <a:xfrm flipH="1">
              <a:off x="1485000" y="3405960"/>
              <a:ext cx="829080" cy="82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"/>
            <p:cNvSpPr/>
            <p:nvPr/>
          </p:nvSpPr>
          <p:spPr>
            <a:xfrm flipV="1">
              <a:off x="821880" y="3597480"/>
              <a:ext cx="265428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1"/>
            <p:cNvSpPr/>
            <p:nvPr/>
          </p:nvSpPr>
          <p:spPr>
            <a:xfrm>
              <a:off x="3642120" y="4809600"/>
              <a:ext cx="1824840" cy="1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рис. 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0"/>
            <p:cNvSpPr/>
            <p:nvPr/>
          </p:nvSpPr>
          <p:spPr>
            <a:xfrm>
              <a:off x="1651680" y="4426560"/>
              <a:ext cx="331560" cy="1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а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19"/>
            <p:cNvSpPr/>
            <p:nvPr/>
          </p:nvSpPr>
          <p:spPr>
            <a:xfrm>
              <a:off x="4139640" y="4490640"/>
              <a:ext cx="3315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б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960240" y="4490640"/>
              <a:ext cx="3315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в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7"/>
            <p:cNvSpPr/>
            <p:nvPr/>
          </p:nvSpPr>
          <p:spPr>
            <a:xfrm>
              <a:off x="3476520" y="4362840"/>
              <a:ext cx="2488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6"/>
            <p:cNvSpPr/>
            <p:nvPr/>
          </p:nvSpPr>
          <p:spPr>
            <a:xfrm>
              <a:off x="380808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5"/>
            <p:cNvSpPr/>
            <p:nvPr/>
          </p:nvSpPr>
          <p:spPr>
            <a:xfrm>
              <a:off x="413964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4"/>
            <p:cNvSpPr/>
            <p:nvPr/>
          </p:nvSpPr>
          <p:spPr>
            <a:xfrm>
              <a:off x="447156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3"/>
            <p:cNvSpPr/>
            <p:nvPr/>
          </p:nvSpPr>
          <p:spPr>
            <a:xfrm>
              <a:off x="480348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>
              <a:off x="513540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1"/>
            <p:cNvSpPr/>
            <p:nvPr/>
          </p:nvSpPr>
          <p:spPr>
            <a:xfrm>
              <a:off x="546696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0"/>
            <p:cNvSpPr/>
            <p:nvPr/>
          </p:nvSpPr>
          <p:spPr>
            <a:xfrm>
              <a:off x="5798880" y="3597480"/>
              <a:ext cx="0" cy="89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9"/>
            <p:cNvSpPr/>
            <p:nvPr/>
          </p:nvSpPr>
          <p:spPr>
            <a:xfrm flipV="1">
              <a:off x="6462360" y="4298760"/>
              <a:ext cx="215640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462360" y="4235040"/>
              <a:ext cx="1990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7"/>
            <p:cNvSpPr/>
            <p:nvPr/>
          </p:nvSpPr>
          <p:spPr>
            <a:xfrm flipV="1">
              <a:off x="6462360" y="4171320"/>
              <a:ext cx="1990440" cy="6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6"/>
            <p:cNvSpPr/>
            <p:nvPr/>
          </p:nvSpPr>
          <p:spPr>
            <a:xfrm>
              <a:off x="6462360" y="4107600"/>
              <a:ext cx="19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5"/>
            <p:cNvSpPr/>
            <p:nvPr/>
          </p:nvSpPr>
          <p:spPr>
            <a:xfrm>
              <a:off x="6462360" y="3980160"/>
              <a:ext cx="21564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"/>
            <p:cNvSpPr/>
            <p:nvPr/>
          </p:nvSpPr>
          <p:spPr>
            <a:xfrm>
              <a:off x="6462360" y="3789000"/>
              <a:ext cx="199044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3"/>
            <p:cNvSpPr/>
            <p:nvPr/>
          </p:nvSpPr>
          <p:spPr>
            <a:xfrm>
              <a:off x="6628320" y="3597480"/>
              <a:ext cx="182484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Rectangle 37"/>
          <p:cNvSpPr/>
          <p:nvPr/>
        </p:nvSpPr>
        <p:spPr>
          <a:xfrm>
            <a:off x="357120" y="5395320"/>
            <a:ext cx="8501040" cy="143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444d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Несмотря на все кажущиеся странности, геометрия Лобачевского является настоящей геометрией нашего мира, и Евклидова является только её составной частью. Но в пределах ежедневных измерений Евклидова геометрия дает исчезающе малые ошибки, и мы пользуемся именно ею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38"/>
          <p:cNvSpPr/>
          <p:nvPr/>
        </p:nvSpPr>
        <p:spPr>
          <a:xfrm>
            <a:off x="428760" y="227880"/>
            <a:ext cx="8143920" cy="260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444d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ходящимися.</a:t>
            </a:r>
            <a:br>
              <a:rPr sz="1500"/>
            </a:b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* Здесь и далее подразумевается геометрия Лобачевского, если нет оговорки на геометрию Евклид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 вот, первый вид пучков образован прямыми, имеющими общую точку – центр пучка (рис. 4а). Пучок расходящихся прямых – это перпендикуляры к одной прямой –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оси пучка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(рис. 4б). Из этого определения выходит интересное и, казалось бы, абсурдное утверждение, что два перпендикуляра к одной прямой непараллельны, и отличие от геометрии Евклид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r" pos="5211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И, наконец, пучок, образуемый прямыми, параллельными данной прямой в заданном направлении (рис. 4в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гда Евклид формулировал пятый постулат, вряд ли он знал, какую бурю тот вызовет. Когда Лобачевский отказался от пятого постулата, он не знал, что его «воображаемая геометрия» на поверку окажется реально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льзя сказать, что неевклидова геометрия единственно правильна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, и когда – нибудь и этот проект окажется макулатуро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о думаю, что этого времени он успеет исполнить свое предназначение – рассказать и заинтересовать читателя настоящей геометрией нашего мира. Именно из-за популярного характера в нем нет ни строгих доказательств, ни полного описания неевклидовой геометрии. Но для поверхностного ознакомления с ней он вполне годен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dc:language>en-US</dc:language>
  <cp:lastModifiedBy>1</cp:lastModifiedBy>
  <dcterms:modified xsi:type="dcterms:W3CDTF">2013-04-15T09:12:56Z</dcterms:modified>
  <cp:revision>46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