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37.jpeg" ContentType="image/jpeg"/>
  <Override PartName="/ppt/media/image42.jpeg" ContentType="image/jpeg"/>
  <Override PartName="/ppt/media/image12.jpeg" ContentType="image/jpeg"/>
  <Override PartName="/ppt/media/image41.gif" ContentType="image/gif"/>
  <Override PartName="/ppt/media/image39.jpeg" ContentType="image/jpeg"/>
  <Override PartName="/ppt/media/image8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4072-4AE0-4478-844B-ECFD1D28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A646-3BFA-45DB-A720-80478B61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C0C0-7CE3-4353-A05B-994B1DF4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F2F0-46B6-4CA6-A70F-C5B54EBE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D67D-AB22-48C4-8DAA-92A3BE43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0387-5332-4213-93B9-AF9E1D32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FEE5-8B20-4A10-8C97-E4E15A9C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BEA9-CDA3-4D12-9257-5FE74EE4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D701-DC16-4815-87CD-D4814896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02D3-0124-45DD-94DD-BB813151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BB91-BBEB-468E-ABD4-B5D7F575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BC3F-7315-41EE-AC8B-FF931CC8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7F9E-AFB3-4226-960C-6F23FDCE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6E3C-EAB6-4316-951C-633421CA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E153-A8A0-4440-BD69-ED84DA4B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7F63-14FA-4D7C-BFFE-B4D1A59C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88EA-FBCF-4007-B234-447770D0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6BEE-C679-4C43-A5E7-29D12F61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678E-0B54-4DF4-A3EB-C936051A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2BDE-5611-44AA-98F3-2A04D4BB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ACA9-B8DA-43FD-8AA7-AFACA48B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7E1B-9F0D-4CAE-837B-6BBCD2EA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477A-7474-4444-BF59-9DAD3E35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3C38-C0FE-4FE1-AA06-D786D4AB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E600-9AFB-4DC4-89AB-8A77B499CDE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FE9C-68E2-4663-84A1-1023A8DE8F9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gif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ffcc"/>
                </a:solidFill>
                <a:latin typeface="Arial"/>
              </a:rPr>
              <a:t>Национальные особенности русских</a:t>
            </a:r>
            <a:br>
              <a:rPr sz="5100"/>
            </a:b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03280" y="3733920"/>
            <a:ext cx="374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ыполнила ученица 9 класса Печерская Лена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403884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ОСОБЕННОСТИ РУССКОЙ КУХНИ.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Закуск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Широк и разнообразен ассортимент холодных закусок. Известное в некоторых странах русское слово "закуска" обозначает преимущественно рыбные блюда - соленые или острые. Подают их с хреном, уксусом, рассолами, чесночной заправкой и другими приправами, придающими этим закускам особую пикантность и остроту. Особый вкус блюдам придавали различные масла, преимущественно растительные (оливковое, конопляное, ореховое, маковое и значительно позднее - подсолнечное), и пряности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7480" y="2249640"/>
            <a:ext cx="2540160" cy="3230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ОСОБЕННОСТИ РУССКОЙ КУХНИ. Меды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Меды, хоть и получили на Руси широкое распространение, никогда не были напитками обыденными, общедоступными. Они предназначались главным образом для пиршеств, торжеств в сословиях весьма состоятельных. Каких только медов не знавали наши предки! Судите сами по названиям сохранившихся рецептов: "Астраханский", "Античный липец", "Балбузан", "Бордосский", "Боярский", "Питейный" и т.д. Из меда изготовляли различные сладкие блюда и напитки. Появились классические русские напитки - квас, сбитень, медовуха. Иностранцы, посещавшие Россию во времена Петра I, с восторгом отзывались о сбитне, называя его "русским глинтвейном"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148360" y="1989000"/>
            <a:ext cx="3251160" cy="38102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РУССКИЕ НАЦИОНАЛЬНЫЕ ПРАЗДНИКИ</a:t>
            </a:r>
            <a:br>
              <a:rPr sz="40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Verdana"/>
              </a:rPr>
              <a:t>Новый год (в ночь с 31 декабря на 1 января)</a:t>
            </a: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. Принято декорировать помещение украшенной новогодней ёлкой или ветками. В полночь на 1 января слушается поздравление главы государства и бой курантов. </a:t>
            </a:r>
            <a:br>
              <a:rPr sz="1000"/>
            </a:b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Verdana"/>
              </a:rPr>
              <a:t>Рождество Христово (7 января по новому стилю и 25 декабря по юлианскому календарю)</a:t>
            </a: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— православный праздник. В ночь перед рождеством принято гадать, что никогда не одобрялось православной церковью. Особенно популярны были гадания девушек о будущем замужестве. Праздник отмечается торжественным праздничным ужином. Традиция отмечать Рождество официально восстановлена в постсоветской России. </a:t>
            </a: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eaeaea"/>
                </a:solidFill>
                <a:latin typeface="Verdana"/>
              </a:rPr>
              <a:t>Старый Новый год (в ночь с 13 января на 14 января по новому стилю и соответственно в ночь с 31 декабря на 1 января по старому стилю)</a:t>
            </a: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— Новый год по юлианскому календарю). Отмечается аналогично Новому году, но без поздравления главы государства и боя курантов, так как праздник неофициальный. </a:t>
            </a: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eaeaea"/>
                </a:solidFill>
                <a:latin typeface="Verdana"/>
              </a:rPr>
              <a:t>Крещение (19 января по новому стилю)</a:t>
            </a: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— православный праздник. В ночь на Крещение принято освящать воду в церкви. С Крещением связывают наступление особенно сильных «Крещенских морозов». Практикуется также купание в проруби, вырубленной в виде креста (иордани). </a:t>
            </a: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eaeaea"/>
                </a:solidFill>
                <a:latin typeface="Verdana"/>
              </a:rPr>
              <a:t>День защитника Отечества (23 февраля)</a:t>
            </a: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— широко отмечаемый мужской праздник, установленный при советской власти, а в постсоветской России ставший выходным днём. Женщины поздравляют мужчин и дарят им подарки. Поздравления принимают также женщины-военнослужащие, а также участницы войн. </a:t>
            </a:r>
            <a:br>
              <a:rPr sz="1000"/>
            </a:b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64000" y="2133720"/>
            <a:ext cx="2664000" cy="20383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РУССКИЕ НАЦИОНАЛЬНЫЕ ПРАЗДНИКИ</a:t>
            </a:r>
            <a:br>
              <a:rPr sz="40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753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aeaea"/>
                </a:solidFill>
                <a:latin typeface="Verdana"/>
              </a:rPr>
              <a:t>Масленица («Масленичная неделя»)</a:t>
            </a: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 — неделя перед Великим Постом. Имеет древние языческие корни. В ходе всей недели пекут и едят блины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eaeaea"/>
                </a:solidFill>
                <a:latin typeface="Verdana"/>
              </a:rPr>
              <a:t>Вербное воскресенье</a:t>
            </a: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 — православный праздник (вход Господень в Иерусалим). Принято декорировать помещение ветками вербы, символизирующими пальмовые ветви тех, кто встречал Иисуса Христа.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eaeaea"/>
                </a:solidFill>
                <a:latin typeface="Verdana"/>
              </a:rPr>
              <a:t>Пасха</a:t>
            </a: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 — православный праздник Светлого Воскресения Господа Иисуса Христа. Праздничная еда — пасха (творог с цукатами), куличи, крашенные в красный цвет и сваренные вкрутую яйца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eaeaea"/>
                </a:solidFill>
                <a:latin typeface="Verdana"/>
              </a:rPr>
              <a:t>День Победы над гитлеровской Германией (9 мая)</a:t>
            </a: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 — официальный всероссийский праздник. Принято посещать захоронения воинов, погибших в ходе Второй мировой войны, и поминать павших. Ветераны надевают ордена и медали и принимают поздравления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eaeaea"/>
                </a:solidFill>
                <a:latin typeface="Verdana"/>
              </a:rPr>
              <a:t>День знаний (1 сентября).</a:t>
            </a: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 Повсеместно отмечается школьниками и учителями как первый день учебного года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eaeaea"/>
                </a:solidFill>
                <a:latin typeface="Verdana"/>
              </a:rPr>
              <a:t>День народного единства (4 ноября).</a:t>
            </a: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 День победы русских над польскими оккупантами в 1612 году. В этот день отмечается и православный праздник — Казанская, ведь Дмитрий Пожарский вошёл в Китай-город с Казанскою иконой Божьей Матери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003640" y="2133720"/>
            <a:ext cx="3770640" cy="28843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4789080" y="260280"/>
            <a:ext cx="39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Русские сувенир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24000" y="260280"/>
            <a:ext cx="14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Гжел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5" name="Picture 7" descr="ist1010"/>
          <p:cNvPicPr/>
          <p:nvPr/>
        </p:nvPicPr>
        <p:blipFill>
          <a:blip r:embed="rId1"/>
          <a:stretch/>
        </p:blipFill>
        <p:spPr>
          <a:xfrm>
            <a:off x="7740720" y="5157720"/>
            <a:ext cx="1200240" cy="1514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сервиз кофейный"/>
          <p:cNvPicPr/>
          <p:nvPr/>
        </p:nvPicPr>
        <p:blipFill>
          <a:blip r:embed="rId2"/>
          <a:stretch/>
        </p:blipFill>
        <p:spPr>
          <a:xfrm>
            <a:off x="4859280" y="1012680"/>
            <a:ext cx="3889440" cy="3022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свинья-копилка"/>
          <p:cNvPicPr/>
          <p:nvPr/>
        </p:nvPicPr>
        <p:blipFill>
          <a:blip r:embed="rId3"/>
          <a:stretch/>
        </p:blipFill>
        <p:spPr>
          <a:xfrm>
            <a:off x="4859280" y="4292640"/>
            <a:ext cx="2301840" cy="2365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чайница"/>
          <p:cNvPicPr/>
          <p:nvPr/>
        </p:nvPicPr>
        <p:blipFill>
          <a:blip r:embed="rId4"/>
          <a:stretch/>
        </p:blipFill>
        <p:spPr>
          <a:xfrm>
            <a:off x="179280" y="907920"/>
            <a:ext cx="4148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4356000" y="1341360"/>
            <a:ext cx="478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e855b"/>
                </a:solidFill>
                <a:latin typeface="Arial"/>
                <a:ea typeface="Arial"/>
              </a:rPr>
              <a:t>Самовар раздула Тул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e855b"/>
                </a:solidFill>
                <a:latin typeface="Arial"/>
                <a:ea typeface="Arial"/>
              </a:rPr>
              <a:t>Тула – древняя земля –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e855b"/>
                </a:solidFill>
                <a:latin typeface="Arial"/>
                <a:ea typeface="Arial"/>
              </a:rPr>
              <a:t>Белой скатертью взмахнул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e855b"/>
                </a:solidFill>
                <a:latin typeface="Arial"/>
                <a:ea typeface="Arial"/>
              </a:rPr>
              <a:t>От Заречья до Кремл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e855b"/>
                </a:solidFill>
                <a:latin typeface="Arial"/>
                <a:ea typeface="Arial"/>
              </a:rPr>
              <a:t>Самовар гудит и топче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e855b"/>
                </a:solidFill>
                <a:latin typeface="Arial"/>
                <a:ea typeface="Arial"/>
              </a:rPr>
              <a:t>Топку в небо белый ды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e855b"/>
                </a:solidFill>
                <a:latin typeface="Arial"/>
                <a:ea typeface="Arial"/>
              </a:rPr>
              <a:t>Где ты ни был днём ли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e855b"/>
                </a:solidFill>
                <a:latin typeface="Arial"/>
                <a:ea typeface="Arial"/>
              </a:rPr>
              <a:t>                                    </a:t>
            </a:r>
            <a:r>
              <a:rPr b="1" i="1" lang="en-US" sz="2400" spc="-1" strike="noStrike">
                <a:solidFill>
                  <a:srgbClr val="5e855b"/>
                </a:solidFill>
                <a:latin typeface="Arial"/>
                <a:ea typeface="Arial"/>
              </a:rPr>
              <a:t>ночью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e855b"/>
                </a:solidFill>
                <a:latin typeface="Arial"/>
                <a:ea typeface="Arial"/>
              </a:rPr>
              <a:t>Словно дома рядом с ни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929840" y="260280"/>
            <a:ext cx="39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Тульский самовар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1" name="Picture 6" descr="3d89537752b40937741dfbd9fe991d8c"/>
          <p:cNvPicPr/>
          <p:nvPr/>
        </p:nvPicPr>
        <p:blipFill>
          <a:blip r:embed="rId1"/>
          <a:stretch/>
        </p:blipFill>
        <p:spPr>
          <a:xfrm>
            <a:off x="250920" y="4149720"/>
            <a:ext cx="3809880" cy="2540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fcd34331372b87e6f010bef2cb31d808"/>
          <p:cNvPicPr/>
          <p:nvPr/>
        </p:nvPicPr>
        <p:blipFill>
          <a:blip r:embed="rId2"/>
          <a:stretch/>
        </p:blipFill>
        <p:spPr>
          <a:xfrm>
            <a:off x="826920" y="189000"/>
            <a:ext cx="2540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447480" y="250920"/>
            <a:ext cx="19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Хохлом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4" name="Picture 12" descr="Шестигранник большой"/>
          <p:cNvPicPr/>
          <p:nvPr/>
        </p:nvPicPr>
        <p:blipFill>
          <a:blip r:embed="rId1"/>
          <a:srcRect l="9841" t="0" r="9841" b="0"/>
          <a:stretch/>
        </p:blipFill>
        <p:spPr>
          <a:xfrm>
            <a:off x="179280" y="2421000"/>
            <a:ext cx="4591080" cy="4286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Плошка"/>
          <p:cNvPicPr/>
          <p:nvPr/>
        </p:nvPicPr>
        <p:blipFill>
          <a:blip r:embed="rId2"/>
          <a:stretch/>
        </p:blipFill>
        <p:spPr>
          <a:xfrm>
            <a:off x="4932360" y="3990960"/>
            <a:ext cx="4025880" cy="2600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Хохлома купить 11.jpg"/>
          <p:cNvPicPr/>
          <p:nvPr/>
        </p:nvPicPr>
        <p:blipFill>
          <a:blip r:embed="rId3"/>
          <a:stretch/>
        </p:blipFill>
        <p:spPr>
          <a:xfrm>
            <a:off x="4932360" y="260280"/>
            <a:ext cx="405144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304920" y="179280"/>
            <a:ext cx="45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Дымковская игруш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8" name="Picture 6" descr="Дымковская игрушка"/>
          <p:cNvPicPr/>
          <p:nvPr/>
        </p:nvPicPr>
        <p:blipFill>
          <a:blip r:embed="rId1"/>
          <a:stretch/>
        </p:blipFill>
        <p:spPr>
          <a:xfrm>
            <a:off x="0" y="549360"/>
            <a:ext cx="2857680" cy="3609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221388394"/>
          <p:cNvPicPr/>
          <p:nvPr/>
        </p:nvPicPr>
        <p:blipFill>
          <a:blip r:embed="rId2"/>
          <a:stretch/>
        </p:blipFill>
        <p:spPr>
          <a:xfrm>
            <a:off x="6732720" y="189000"/>
            <a:ext cx="2228760" cy="3666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click?url=http%3A%2F%2Fmuseums"/>
          <p:cNvPicPr/>
          <p:nvPr/>
        </p:nvPicPr>
        <p:blipFill>
          <a:blip r:embed="rId3"/>
          <a:stretch/>
        </p:blipFill>
        <p:spPr>
          <a:xfrm>
            <a:off x="5219640" y="4083120"/>
            <a:ext cx="3743280" cy="2582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dimk_big"/>
          <p:cNvPicPr/>
          <p:nvPr/>
        </p:nvPicPr>
        <p:blipFill>
          <a:blip r:embed="rId4"/>
          <a:stretch/>
        </p:blipFill>
        <p:spPr>
          <a:xfrm>
            <a:off x="1476360" y="4076640"/>
            <a:ext cx="3384720" cy="2563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dimk1"/>
          <p:cNvPicPr/>
          <p:nvPr/>
        </p:nvPicPr>
        <p:blipFill>
          <a:blip r:embed="rId5"/>
          <a:stretch/>
        </p:blipFill>
        <p:spPr>
          <a:xfrm>
            <a:off x="3780000" y="907920"/>
            <a:ext cx="2655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303120" y="324000"/>
            <a:ext cx="57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Матрёшки Сергиев- Поса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4" name="Picture 5" descr="Сергиев _ Посад"/>
          <p:cNvPicPr/>
          <p:nvPr/>
        </p:nvPicPr>
        <p:blipFill>
          <a:blip r:embed="rId1"/>
          <a:stretch/>
        </p:blipFill>
        <p:spPr>
          <a:xfrm>
            <a:off x="179280" y="4437000"/>
            <a:ext cx="3311640" cy="2208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 Набор матрешек \&quot;Красная Шапочка\&quot;, арт.54"/>
          <p:cNvPicPr/>
          <p:nvPr/>
        </p:nvPicPr>
        <p:blipFill>
          <a:blip r:embed="rId2"/>
          <a:stretch/>
        </p:blipFill>
        <p:spPr>
          <a:xfrm>
            <a:off x="179280" y="1989000"/>
            <a:ext cx="3240360" cy="2160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Набор матрешек \&quot;Семейка\&quot;, арт.507"/>
          <p:cNvPicPr/>
          <p:nvPr/>
        </p:nvPicPr>
        <p:blipFill>
          <a:blip r:embed="rId3"/>
          <a:stretch/>
        </p:blipFill>
        <p:spPr>
          <a:xfrm>
            <a:off x="3708360" y="4437000"/>
            <a:ext cx="3240000" cy="2160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Набор матрешек \&quot;Репка\&quot;, арт.57"/>
          <p:cNvPicPr/>
          <p:nvPr/>
        </p:nvPicPr>
        <p:blipFill>
          <a:blip r:embed="rId4"/>
          <a:stretch/>
        </p:blipFill>
        <p:spPr>
          <a:xfrm>
            <a:off x="3635280" y="1916280"/>
            <a:ext cx="3382920" cy="2255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sp_matroshka"/>
          <p:cNvPicPr/>
          <p:nvPr/>
        </p:nvPicPr>
        <p:blipFill>
          <a:blip r:embed="rId5"/>
          <a:stretch/>
        </p:blipFill>
        <p:spPr>
          <a:xfrm>
            <a:off x="7093080" y="2708280"/>
            <a:ext cx="1904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Балалайка"/>
          <p:cNvPicPr/>
          <p:nvPr/>
        </p:nvPicPr>
        <p:blipFill>
          <a:blip r:embed="rId1"/>
          <a:stretch/>
        </p:blipFill>
        <p:spPr>
          <a:xfrm>
            <a:off x="3433680" y="2276640"/>
            <a:ext cx="2747880" cy="4329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Балалайка"/>
          <p:cNvPicPr/>
          <p:nvPr/>
        </p:nvPicPr>
        <p:blipFill>
          <a:blip r:embed="rId2"/>
          <a:stretch/>
        </p:blipFill>
        <p:spPr>
          <a:xfrm>
            <a:off x="6588000" y="3645000"/>
            <a:ext cx="2324160" cy="2984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Балалайка"/>
          <p:cNvPicPr/>
          <p:nvPr/>
        </p:nvPicPr>
        <p:blipFill>
          <a:blip r:embed="rId3"/>
          <a:stretch/>
        </p:blipFill>
        <p:spPr>
          <a:xfrm>
            <a:off x="6662880" y="189000"/>
            <a:ext cx="2334960" cy="3024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Балалайка"/>
          <p:cNvPicPr/>
          <p:nvPr/>
        </p:nvPicPr>
        <p:blipFill>
          <a:blip r:embed="rId4"/>
          <a:stretch/>
        </p:blipFill>
        <p:spPr>
          <a:xfrm>
            <a:off x="250920" y="2276640"/>
            <a:ext cx="2879640" cy="42973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2"/>
          <p:cNvSpPr/>
          <p:nvPr/>
        </p:nvSpPr>
        <p:spPr>
          <a:xfrm>
            <a:off x="808200" y="179280"/>
            <a:ext cx="23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Балалайк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Население и религия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121932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России русские составляют 116 млн 80% (2002, перепись). Основная религия — православное христианство (90% верующих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934320" y="1447920"/>
            <a:ext cx="2209680" cy="1743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724360" y="3573360"/>
            <a:ext cx="2286000" cy="30974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425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Хозяйст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Русские относятся к славянской группе индоевропейской языковой семьи. Хозяйство было представлено земледелием( выращивали зерновые : озимую рожь, ячмень, овес) животноводством, лесным промыслом, рыболовством, зверобойным промыслом, солеварение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12" descr="pict0026"/>
          <p:cNvPicPr/>
          <p:nvPr/>
        </p:nvPicPr>
        <p:blipFill>
          <a:blip r:embed="rId1"/>
          <a:stretch/>
        </p:blipFill>
        <p:spPr>
          <a:xfrm>
            <a:off x="6084720" y="3645000"/>
            <a:ext cx="2305080" cy="2705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356000" y="260280"/>
            <a:ext cx="4535640" cy="28242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32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Жилищ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Поселения: села, сельские общины, сельское поселение уличного типа. Жилища: деревянные дома, срубные или каркасные стены. Жилища были 2х или 3х камерного типа. «дом –двор» : сени, хозяйственный двор, хлев. Изба соединялась со двором кровлей. На усадьбе располагались амбары, бани. Дома украшала резная роспись ,наличники на окнах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500720" y="3500280"/>
            <a:ext cx="4411440" cy="22258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960720" y="0"/>
            <a:ext cx="5183280" cy="22766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Русские национальные костюмы</a:t>
            </a:r>
            <a:br>
              <a:rPr sz="40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95640" y="981000"/>
            <a:ext cx="4680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Одежда: предпочтительны были льняные, конопляные и шерстяные ткани. Мужской костюм: штаны, туникообразная рубаха (без швов на плечах), пояс, шапки. Женский костюм: длинная, подвязанная поясом рубаха, несшитая юбка, сарафан, душегрейка, кокошник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Армяк (ермяк, лабамах, ормяк, рябик, сермяк, харапай, хоропой, ярмяк)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— верхняя одежда, преимущественно мужская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Балахон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— женская и мужская верхняя одежда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Бахилы (бредни, бродни, бутыли, ловчаги, осташи, сапоги черепанские)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— мужская рабочая и промысловая обувь из кожи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Валенки (валенцы, волнушечки, выходки, сапоги валяные, катанки, катанцы, пимы)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— мужская, женская обувь для зимы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398680" cy="3197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908000" y="3789360"/>
            <a:ext cx="1581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Русские национальные костюмы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34136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Душегрейка (душегрея, каратайка, коротена, коротень, коротенька, перо, подсердёчник)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— нагрудная женская одежда на лямках, как правило, из дорогих фабричных тканей — бархата, плиса, парчи, полупарчи, шёлка — с подкладкой, часто на вате или кудели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Казакин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— верхняя женская и мужская одежда для весны, лета, осен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Зипун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— мужская и женская верхняя одежда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Жилет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— нагрудная мужская одежда из тканей фабричного производства — шерсти, сукна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77960" y="1600200"/>
            <a:ext cx="3395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Русские национальные костюмы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Гайтан (итан, почёпка, чапочка)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— женское украшение, тесьма для обшивки ворота рубах, передников и т.п. Термин употреблялся для нескольких видов украшени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1. В южнорусских губерниях гайтаны представляли собой длинную, шириной до 10 см, полосу ткани, украшенной бисером, вышивкой, тканым узором, или длинную, низанную из разноцветного бисера полосу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2. Гайтан — это и шнурок, которым зашнуровывались башмаки, а также разноцветная тесьма, использовавшаяся для обшивки ворота рубах, лямок сарафана, подола юбок и т. п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003640" y="1268280"/>
            <a:ext cx="1949760" cy="3527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372360" y="2924280"/>
            <a:ext cx="2433600" cy="35290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ТРАДИЦИИ РУССКОГО ЗАСТОЛЬЯ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432108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Все, что формировалось на начальном этапе русской кулинарной традиции, остаётся неизменным и по сегодняшний день. Главные составляющие традиционного русского стола: чёрный ржаной хлеб, который остаётся любимым и по сей день, разнообразные супы и каши приготовляемые практически каждый день, а также наши традиционные напитки - мед, квас и водка. </a:t>
            </a: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003640" y="1628640"/>
            <a:ext cx="3264120" cy="37846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8800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ОСОБЕННОСТИ РУССКОЙ КУХНИ.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Супы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Ни в одной другой национальной кухне не представлено такое разнообразие супов. С глубокой древности и до наших дней сохранился богатый ассортимент первых блюд и, в частности, заправочных супов (щей, борщей, рассольников), солянок. Одних только щей в русской кухне насчитывается более 60 видов. Это щи с мясом, рыбой, головизной, грибами, щи ленивые, суточные, зеленые, щи из крапивы с говядиной и т.д. Любимыми нашими блюдами являются борщ (московский, ленинградский, сибирский, борщ с грибами и черносливом), рыбные и мясные солянки, уха. Разнообразен ассортимент супов на крупяной и крупяно-овощной основе, холодных супов на квасе и свекольном отваре: окрошка,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932360" y="2421000"/>
            <a:ext cx="4038480" cy="28972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6:29:05Z</dcterms:created>
  <dc:creator>USER</dc:creator>
  <dc:description/>
  <dc:language>en-US</dc:language>
  <cp:lastModifiedBy>USER</cp:lastModifiedBy>
  <dcterms:modified xsi:type="dcterms:W3CDTF">2011-10-27T18:53:55Z</dcterms:modified>
  <cp:revision>4</cp:revision>
  <dc:subject/>
  <dc:title>Слайд 1</dc:title>
</cp:coreProperties>
</file>