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42.jpeg" ContentType="image/jpeg"/>
  <Override PartName="/ppt/media/image12.jpeg" ContentType="image/jpeg"/>
  <Override PartName="/ppt/media/image41.gif" ContentType="image/gif"/>
  <Override PartName="/ppt/media/image39.jpeg" ContentType="image/jpeg"/>
  <Override PartName="/ppt/media/image8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5F9-38ED-415B-903E-557C10E8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C3A-8272-47E2-83C4-AC15E49C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C75-C71F-42CE-A3E0-8E141BD3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24D-9989-4EF9-AE16-CA1E3630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EB8-5174-4C95-B530-7B5A7C86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BFA-D238-4FED-8AE4-EB965066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24AF-4FC2-426E-8276-70628D9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CDD-0AF1-4958-B122-E26A585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71DB-50C7-400D-AE2F-5D577400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E7C7-CE2D-4D92-9753-183B620C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A75D-5B63-428D-A933-66AA3469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2E9-CABB-4BDC-BFCB-BDFDA82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4431-5876-4DC0-8EAE-8E57415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0721-2F46-4883-B290-8D5DA37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BC0-8252-4504-B39E-4DB4138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1925-9C4C-43C6-A08E-F9A23A29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BF33-0931-4709-9D02-CC5AE30D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546-7220-42C1-8ABE-422EA95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EF0-C518-41F1-AD2B-60CF5CB0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E8D-A28D-400B-BB70-0358FEB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B01-4D70-48FB-A9E0-60478FF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E6A-C91E-4FEE-80B2-CE7420D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CC3-3133-4C23-A7CC-478D7C0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C96-DB4D-4DC5-A5A2-76FC23E8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45B-7FA9-458C-9FA3-B7DF7CC4C7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3F0-2C5E-4F00-915E-A7861883AB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cc"/>
                </a:solidFill>
                <a:latin typeface="Arial"/>
              </a:rPr>
              <a:t>Национальные особенности русских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03280" y="3733920"/>
            <a:ext cx="374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полнила ученица 9 класса Печерская Лен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0388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ОБЕННОСТИ РУССКОЙ КУХНИ.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Закуск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Широк и разнообразен ассортимент холодных закусок. Известное в некоторых странах русское слово "закуска" обозначает преимущественно рыбные блюда - соленые или острые. Подают их с хреном, уксусом, рассолами, чесночной заправкой и другими приправами, придающими этим закускам особую пикантность и остроту. Особый вкус блюдам придавали различные масла, преимущественно растительные (оливковое, конопляное, ореховое, маковое и значительно позднее - подсолнечное), и пряности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7480" y="2249640"/>
            <a:ext cx="2540160" cy="3230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ОБЕННОСТИ РУССКОЙ КУХНИ. Мед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еды, хоть и получили на Руси широкое распространение, никогда не были напитками обыденными, общедоступными. Они предназначались главным образом для пиршеств, торжеств в сословиях весьма состоятельных. Каких только медов не знавали наши предки! Судите сами по названиям сохранившихся рецептов: "Астраханский", "Античный липец", "Балбузан", "Бордосский", "Боярский", "Питейный" и т.д. Из меда изготовляли различные сладкие блюда и напитки. Появились классические русские напитки - квас, сбитень, медовуха. Иностранцы, посещавшие Россию во времена Петра I, с восторгом отзывались о сбитне, называя его "русским глинтвейном"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251160" cy="3810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ПРАЗДНИК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Новый год (в ночь с 31 декабря на 1 января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. Принято декорировать помещение украшенной новогодней ёлкой или ветками. В полночь на 1 января слушается поздравление главы государства и бой курантов. </a:t>
            </a:r>
            <a:br>
              <a:rPr sz="1000"/>
            </a:b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Рождество Христово (7 января по новому стилю и 25 декабря по юлианскому календар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православный праздник. В ночь перед рождеством принято гадать, что никогда не одобрялось православной церковью. Особенно популярны были гадания девушек о будущем замужестве. Праздник отмечается торжественным праздничным ужином. Традиция отмечать Рождество официально восстановлена в постсоветской России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Старый Новый год (в ночь с 13 января на 14 января по новому стилю и соответственно в ночь с 31 декабря на 1 января по старому стил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Новый год по юлианскому календарю). Отмечается аналогично Новому году, но без поздравления главы государства и боя курантов, так как праздник неофициальный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Крещение (19 января по новому стил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православный праздник. В ночь на Крещение принято освящать воду в церкви. С Крещением связывают наступление особенно сильных «Крещенских морозов». Практикуется также купание в проруби, вырубленной в виде креста (иордани)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День защитника Отечества (23 февраля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широко отмечаемый мужской праздник, установленный при советской власти, а в постсоветской России ставший выходным днём. Женщины поздравляют мужчин и дарят им подарки. Поздравления принимают также женщины-военнослужащие, а также участницы войн. </a:t>
            </a:r>
            <a:br>
              <a:rPr sz="1000"/>
            </a:b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64000" y="2133720"/>
            <a:ext cx="2664000" cy="2038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ПРАЗДНИК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Масленица («Масленичная неделя»)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неделя перед Великим Постом. Имеет древние языческие корни. В ходе всей недели пекут и едят блины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Вербное воскресенье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православный праздник (вход Господень в Иерусалим). Принято декорировать помещение ветками вербы, символизирующими пальмовые ветви тех, кто встречал Иисуса Христ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Пасха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православный праздник Светлого Воскресения Господа Иисуса Христа. Праздничная еда — пасха (творог с цукатами), куличи, крашенные в красный цвет и сваренные вкрутую яйца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Победы над гитлеровской Германией (9 мая)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официальный всероссийский праздник. Принято посещать захоронения воинов, погибших в ходе Второй мировой войны, и поминать павших. Ветераны надевают ордена и медали и принимают поздравления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знаний (1 сентября).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Повсеместно отмечается школьниками и учителями как первый день учебного года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народного единства (4 ноября).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День победы русских над польскими оккупантами в 1612 году. В этот день отмечается и православный праздник — Казанская, ведь Дмитрий Пожарский вошёл в Китай-город с Казанскою иконой Божьей Матери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770640" cy="2884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усские сувени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ж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7" descr="ist1010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356000" y="1341360"/>
            <a:ext cx="47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амовар раздула Ту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Тула – древняя земля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Белой скатертью взмахну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От Заречья до Кремл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амовар гудит и топч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Топку в небо белый д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Где ты ни был днём л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ночью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ловно дома рядом с ни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929840" y="26028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ульский самова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6" descr="3d89537752b40937741dfbd9fe991d8c"/>
          <p:cNvPicPr/>
          <p:nvPr/>
        </p:nvPicPr>
        <p:blipFill>
          <a:blip r:embed="rId1"/>
          <a:stretch/>
        </p:blipFill>
        <p:spPr>
          <a:xfrm>
            <a:off x="250920" y="414972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cd34331372b87e6f010bef2cb31d808"/>
          <p:cNvPicPr/>
          <p:nvPr/>
        </p:nvPicPr>
        <p:blipFill>
          <a:blip r:embed="rId2"/>
          <a:stretch/>
        </p:blipFill>
        <p:spPr>
          <a:xfrm>
            <a:off x="826920" y="18900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Хохлом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Picture 12" descr="Шестигранник большой"/>
          <p:cNvPicPr/>
          <p:nvPr/>
        </p:nvPicPr>
        <p:blipFill>
          <a:blip r:embed="rId1"/>
          <a:srcRect l="9841" t="0" r="9841" b="0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Плошка"/>
          <p:cNvPicPr/>
          <p:nvPr/>
        </p:nvPicPr>
        <p:blipFill>
          <a:blip r:embed="rId2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ымковская игруш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6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221388394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ick?url=http%3A%2F%2Fmuseums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dimk_big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dimk1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Матрёшки Сергиев- Поса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4" name="Picture 5" descr="Сергиев _ Посад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sp_matroshka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Балалай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Население и религия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219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оссии русские составляют 116 млн 80% (2002, перепись). Основная религия — православное христианство (90% верующих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209680" cy="1743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2286000" cy="3097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озяй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Русские относятся к славянской группе индоевропейской языковой семьи. Хозяйство было представлено земледелием( выращивали зерновые : озимую рожь, ячмень, овес) животноводством, лесным промыслом, рыболовством, зверобойным промыслом, солеварени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12" descr="pict0026"/>
          <p:cNvPicPr/>
          <p:nvPr/>
        </p:nvPicPr>
        <p:blipFill>
          <a:blip r:embed="rId1"/>
          <a:stretch/>
        </p:blipFill>
        <p:spPr>
          <a:xfrm>
            <a:off x="6084720" y="3645000"/>
            <a:ext cx="2305080" cy="27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535640" cy="2824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селения: села, сельские общины, сельское поселение уличного типа. Жилища: деревянные дома, срубные или каркасные стены. Жилища были 2х или 3х камерного типа. «дом –двор» : сени, хозяйственный двор, хлев. Изба соединялась со двором кровлей. На усадьбе располагались амбары, бани. Дома украшала резная роспись ,наличники на окнах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00720" y="3500280"/>
            <a:ext cx="4411440" cy="2225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2276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640" y="98100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дежда: предпочтительны были льняные, конопляные и шерстяные ткани. Мужской костюм: штаны, туникообразная рубаха (без швов на плечах), пояс, шапки. Женский костюм: длинная, подвязанная поясом рубаха, несшитая юбка, сарафан, душегрейка, кокошни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Армяк (ермяк, лабамах, ормяк, рябик, сермяк, харапай, хоропой, ярмяк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верхняя одежда, преимущественно мужска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Балахо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женская и мужская верхняя одежд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Бахилы (бредни, бродни, бутыли, ловчаги, осташи, сапоги черепанские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 рабочая и промысловая обувь из кож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Валенки (валенцы, волнушечки, выходки, сапоги валяные, катанки, катанцы, пимы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, женская обувь для зим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98680" cy="3197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3789360"/>
            <a:ext cx="158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ушегрейка (душегрея, каратайка, коротена, коротень, коротенька, перо, подсердёчник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нагрудная женская одежда на лямках, как правило, из дорогих фабричных тканей — бархата, плиса, парчи, полупарчи, шёлка — с подкладкой, часто на вате или кудел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Казаки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верхняя женская и мужская одежда для весны, лета, осе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Зипу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 и женская верхняя одежд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Жилет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нагрудная мужская одежда из тканей фабричного производства — шерсти, сук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Гайтан (итан, почёпка, чапочка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женское украшение, тесьма для обшивки ворота рубах, передников и т.п. Термин употреблялся для нескольких видов украшен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. В южнорусских губерниях гайтаны представляли собой длинную, шириной до 10 см, полосу ткани, украшенной бисером, вышивкой, тканым узором, или длинную, низанную из разноцветного бисера полосу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. Гайтан — это и шнурок, которым зашнуровывались башмаки, а также разноцветная тесьма, использовавшаяся для обшивки ворота рубах, лямок сарафана, подола юбок и т. п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1949760" cy="352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433600" cy="352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ТРАДИЦИИ РУССКОГО ЗАСТОЛЬ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43210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е, что формировалось на начальном этапе русской кулинарной традиции, остаётся неизменным и по сегодняшний день. Главные составляющие традиционного русского стола: чёрный ржаной хлеб, который остаётся любимым и по сей день, разнообразные супы и каши приготовляемые практически каждый день, а также наши традиционные напитки - мед, квас и водка. 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264120" cy="3784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80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ОБЕННОСТИ РУССКОЙ КУХНИ.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упы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и в одной другой национальной кухне не представлено такое разнообразие супов. С глубокой древности и до наших дней сохранился богатый ассортимент первых блюд и, в частности, заправочных супов (щей, борщей, рассольников), солянок. Одних только щей в русской кухне насчитывается более 60 видов. Это щи с мясом, рыбой, головизной, грибами, щи ленивые, суточные, зеленые, щи из крапивы с говядиной и т.д. Любимыми нашими блюдами являются борщ (московский, ленинградский, сибирский, борщ с грибами и черносливом), рыбные и мясные солянки, уха. Разнообразен ассортимент супов на крупяной и крупяно-овощной основе, холодных супов на квасе и свекольном отваре: окрошка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4038480" cy="2897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29:05Z</dcterms:created>
  <dc:creator>USER</dc:creator>
  <dc:description/>
  <dc:language>en-US</dc:language>
  <cp:lastModifiedBy>USER</cp:lastModifiedBy>
  <dcterms:modified xsi:type="dcterms:W3CDTF">2011-10-27T18:53:55Z</dcterms:modified>
  <cp:revision>4</cp:revision>
  <dc:subject/>
  <dc:title>Слайд 1</dc:title>
</cp:coreProperties>
</file>