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7.jpeg" ContentType="image/jpeg"/>
  <Override PartName="/ppt/media/image42.jpeg" ContentType="image/jpeg"/>
  <Override PartName="/ppt/media/image12.jpeg" ContentType="image/jpeg"/>
  <Override PartName="/ppt/media/image41.gif" ContentType="image/gif"/>
  <Override PartName="/ppt/media/image39.jpeg" ContentType="image/jpeg"/>
  <Override PartName="/ppt/media/image8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3F5-4631-4F32-BD75-D08CCE23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D3E-3019-47AE-BE84-EE3AF297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9F6-BC73-4071-818E-09D7712B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F5E-BED6-418F-B664-522A9A9A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6A59-6715-413B-B339-FA3F81C7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D807-C7FD-4713-83FC-35B065B0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E532-7FD9-4127-B65D-F4A4B3E1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CFA2-B354-4128-AF53-2B6AF731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1CC0-8D7F-4F6B-9B47-4A5EA78F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2B3A-5843-464C-BA6F-6EA0001F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94E2-04A5-4568-A17D-E55F590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DFB-9390-4560-8086-2E1DE3C7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7B93-3CEA-4F7B-8DC2-0F93243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AB55-E624-449A-9544-2B711E1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3D34-09AD-4572-9D0A-AEA36E8E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72A2-246A-483E-8831-E90693A6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6E81-714F-4244-8B7F-32BA8AE2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C32-F193-40B0-AC66-279BA75C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3C8-FFCF-44D1-886D-E3A4A772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065-FBB3-49DA-B175-3FBA3EB2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0FE-33A7-43DE-9182-1A4386AB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38B-50BB-4850-83EC-E04DAF01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ADB-C39A-4EC9-A396-FF1B9986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0E0-2FC7-41A9-B60D-7043B8F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AA82-7EAB-40E7-9B8A-12F95F0D9EB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39D3-A379-410B-B691-938F52BB215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cc"/>
                </a:solidFill>
                <a:latin typeface="Arial"/>
              </a:rPr>
              <a:t>Национальные особенности русских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03280" y="3733920"/>
            <a:ext cx="374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ыполнила ученица 9 класса Печерская Лена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0388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СОБЕННОСТИ РУССКОЙ КУХНИ.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Закуск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Широк и разнообразен ассортимент холодных закусок. Известное в некоторых странах русское слово "закуска" обозначает преимущественно рыбные блюда - соленые или острые. Подают их с хреном, уксусом, рассолами, чесночной заправкой и другими приправами, придающими этим закускам особую пикантность и остроту. Особый вкус блюдам придавали различные масла, преимущественно растительные (оливковое, конопляное, ореховое, маковое и значительно позднее - подсолнечное), и пряности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7480" y="2249640"/>
            <a:ext cx="2540160" cy="3230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ОСОБЕННОСТИ РУССКОЙ КУХНИ. Мед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еды, хоть и получили на Руси широкое распространение, никогда не были напитками обыденными, общедоступными. Они предназначались главным образом для пиршеств, торжеств в сословиях весьма состоятельных. Каких только медов не знавали наши предки! Судите сами по названиям сохранившихся рецептов: "Астраханский", "Античный липец", "Балбузан", "Бордосский", "Боярский", "Питейный" и т.д. Из меда изготовляли различные сладкие блюда и напитки. Появились классические русские напитки - квас, сбитень, медовуха. Иностранцы, посещавшие Россию во времена Петра I, с восторгом отзывались о сбитне, называя его "русским глинтвейном"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3251160" cy="3810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УССКИЕ НАЦИОНАЛЬНЫЕ ПРАЗДНИК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Новый год (в ночь с 31 декабря на 1 января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. Принято декорировать помещение украшенной новогодней ёлкой или ветками. В полночь на 1 января слушается поздравление главы государства и бой курантов. </a:t>
            </a:r>
            <a:br>
              <a:rPr sz="1000"/>
            </a:b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Рождество Христово (7 января по новому стилю и 25 декабря по юлианскому календарю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православный праздник. В ночь перед рождеством принято гадать, что никогда не одобрялось православной церковью. Особенно популярны были гадания девушек о будущем замужестве. Праздник отмечается торжественным праздничным ужином. Традиция отмечать Рождество официально восстановлена в постсоветской России. 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Старый Новый год (в ночь с 13 января на 14 января по новому стилю и соответственно в ночь с 31 декабря на 1 января по старому стилю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Новый год по юлианскому календарю). Отмечается аналогично Новому году, но без поздравления главы государства и боя курантов, так как праздник неофициальный. 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Крещение (19 января по новому стилю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православный праздник. В ночь на Крещение принято освящать воду в церкви. С Крещением связывают наступление особенно сильных «Крещенских морозов». Практикуется также купание в проруби, вырубленной в виде креста (иордани). 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eaeaea"/>
                </a:solidFill>
                <a:latin typeface="Verdana"/>
              </a:rPr>
              <a:t>День защитника Отечества (23 февраля)</a:t>
            </a: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— широко отмечаемый мужской праздник, установленный при советской власти, а в постсоветской России ставший выходным днём. Женщины поздравляют мужчин и дарят им подарки. Поздравления принимают также женщины-военнослужащие, а также участницы войн. </a:t>
            </a:r>
            <a:br>
              <a:rPr sz="1000"/>
            </a:b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64000" y="2133720"/>
            <a:ext cx="2664000" cy="2038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УССКИЕ НАЦИОНАЛЬНЫЕ ПРАЗДНИКИ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Масленица («Масленичная неделя»)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неделя перед Великим Постом. Имеет древние языческие корни. В ходе всей недели пекут и едят блины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Вербное воскресенье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православный праздник (вход Господень в Иерусалим). Принято декорировать помещение ветками вербы, символизирующими пальмовые ветви тех, кто встречал Иисуса Христ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Пасха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православный праздник Светлого Воскресения Господа Иисуса Христа. Праздничная еда — пасха (творог с цукатами), куличи, крашенные в красный цвет и сваренные вкрутую яйца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День Победы над гитлеровской Германией (9 мая)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— официальный всероссийский праздник. Принято посещать захоронения воинов, погибших в ходе Второй мировой войны, и поминать павших. Ветераны надевают ордена и медали и принимают поздравления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День знаний (1 сентября).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Повсеместно отмечается школьниками и учителями как первый день учебного года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День народного единства (4 ноября).</a:t>
            </a: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 День победы русских над польскими оккупантами в 1612 году. В этот день отмечается и православный праздник — Казанская, ведь Дмитрий Пожарский вошёл в Китай-город с Казанскою иконой Божьей Матери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3770640" cy="2884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789080" y="26028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Русские сувенир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24000" y="26028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ж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7" descr="ist1010"/>
          <p:cNvPicPr/>
          <p:nvPr/>
        </p:nvPicPr>
        <p:blipFill>
          <a:blip r:embed="rId1"/>
          <a:stretch/>
        </p:blipFill>
        <p:spPr>
          <a:xfrm>
            <a:off x="7740720" y="5157720"/>
            <a:ext cx="1200240" cy="1514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сервиз кофейный"/>
          <p:cNvPicPr/>
          <p:nvPr/>
        </p:nvPicPr>
        <p:blipFill>
          <a:blip r:embed="rId2"/>
          <a:stretch/>
        </p:blipFill>
        <p:spPr>
          <a:xfrm>
            <a:off x="4859280" y="1012680"/>
            <a:ext cx="3889440" cy="3022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свинья-копилка"/>
          <p:cNvPicPr/>
          <p:nvPr/>
        </p:nvPicPr>
        <p:blipFill>
          <a:blip r:embed="rId3"/>
          <a:stretch/>
        </p:blipFill>
        <p:spPr>
          <a:xfrm>
            <a:off x="4859280" y="4292640"/>
            <a:ext cx="2301840" cy="2365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чайница"/>
          <p:cNvPicPr/>
          <p:nvPr/>
        </p:nvPicPr>
        <p:blipFill>
          <a:blip r:embed="rId4"/>
          <a:stretch/>
        </p:blipFill>
        <p:spPr>
          <a:xfrm>
            <a:off x="179280" y="907920"/>
            <a:ext cx="4148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356000" y="1341360"/>
            <a:ext cx="47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Самовар раздула Ту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Тула – древняя земля –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Белой скатертью взмахну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От Заречья до Кремл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Самовар гудит и топч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Топку в небо белый д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Где ты ни был днём ли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ночью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e855b"/>
                </a:solidFill>
                <a:latin typeface="Arial"/>
                <a:ea typeface="Arial"/>
              </a:rPr>
              <a:t>Словно дома рядом с ни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929840" y="26028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Тульский самова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1" name="Picture 6" descr="3d89537752b40937741dfbd9fe991d8c"/>
          <p:cNvPicPr/>
          <p:nvPr/>
        </p:nvPicPr>
        <p:blipFill>
          <a:blip r:embed="rId1"/>
          <a:stretch/>
        </p:blipFill>
        <p:spPr>
          <a:xfrm>
            <a:off x="250920" y="414972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fcd34331372b87e6f010bef2cb31d808"/>
          <p:cNvPicPr/>
          <p:nvPr/>
        </p:nvPicPr>
        <p:blipFill>
          <a:blip r:embed="rId2"/>
          <a:stretch/>
        </p:blipFill>
        <p:spPr>
          <a:xfrm>
            <a:off x="826920" y="18900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447480" y="25092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Хохлом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Picture 12" descr="Шестигранник большой"/>
          <p:cNvPicPr/>
          <p:nvPr/>
        </p:nvPicPr>
        <p:blipFill>
          <a:blip r:embed="rId1"/>
          <a:srcRect l="9841" t="0" r="9841" b="0"/>
          <a:stretch/>
        </p:blipFill>
        <p:spPr>
          <a:xfrm>
            <a:off x="179280" y="2421000"/>
            <a:ext cx="4591080" cy="4286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Плошка"/>
          <p:cNvPicPr/>
          <p:nvPr/>
        </p:nvPicPr>
        <p:blipFill>
          <a:blip r:embed="rId2"/>
          <a:stretch/>
        </p:blipFill>
        <p:spPr>
          <a:xfrm>
            <a:off x="4932360" y="3990960"/>
            <a:ext cx="4025880" cy="2600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Хохлома купить 11.jpg"/>
          <p:cNvPicPr/>
          <p:nvPr/>
        </p:nvPicPr>
        <p:blipFill>
          <a:blip r:embed="rId3"/>
          <a:stretch/>
        </p:blipFill>
        <p:spPr>
          <a:xfrm>
            <a:off x="4932360" y="260280"/>
            <a:ext cx="4051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04920" y="179280"/>
            <a:ext cx="45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ымковская игруш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Picture 6" descr="Дымковская игрушка"/>
          <p:cNvPicPr/>
          <p:nvPr/>
        </p:nvPicPr>
        <p:blipFill>
          <a:blip r:embed="rId1"/>
          <a:stretch/>
        </p:blipFill>
        <p:spPr>
          <a:xfrm>
            <a:off x="0" y="549360"/>
            <a:ext cx="2857680" cy="3609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221388394"/>
          <p:cNvPicPr/>
          <p:nvPr/>
        </p:nvPicPr>
        <p:blipFill>
          <a:blip r:embed="rId2"/>
          <a:stretch/>
        </p:blipFill>
        <p:spPr>
          <a:xfrm>
            <a:off x="6732720" y="189000"/>
            <a:ext cx="2228760" cy="3666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click?url=http%3A%2F%2Fmuseums"/>
          <p:cNvPicPr/>
          <p:nvPr/>
        </p:nvPicPr>
        <p:blipFill>
          <a:blip r:embed="rId3"/>
          <a:stretch/>
        </p:blipFill>
        <p:spPr>
          <a:xfrm>
            <a:off x="5219640" y="4083120"/>
            <a:ext cx="3743280" cy="258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dimk_big"/>
          <p:cNvPicPr/>
          <p:nvPr/>
        </p:nvPicPr>
        <p:blipFill>
          <a:blip r:embed="rId4"/>
          <a:stretch/>
        </p:blipFill>
        <p:spPr>
          <a:xfrm>
            <a:off x="1476360" y="4076640"/>
            <a:ext cx="3384720" cy="2563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dimk1"/>
          <p:cNvPicPr/>
          <p:nvPr/>
        </p:nvPicPr>
        <p:blipFill>
          <a:blip r:embed="rId5"/>
          <a:stretch/>
        </p:blipFill>
        <p:spPr>
          <a:xfrm>
            <a:off x="3780000" y="907920"/>
            <a:ext cx="2655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03120" y="324000"/>
            <a:ext cx="57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Матрёшки Сергиев- Поса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4" name="Picture 5" descr="Сергиев _ Посад"/>
          <p:cNvPicPr/>
          <p:nvPr/>
        </p:nvPicPr>
        <p:blipFill>
          <a:blip r:embed="rId1"/>
          <a:stretch/>
        </p:blipFill>
        <p:spPr>
          <a:xfrm>
            <a:off x="179280" y="443700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 Набор матрешек \&quot;Красная Шапочка\&quot;, арт.54"/>
          <p:cNvPicPr/>
          <p:nvPr/>
        </p:nvPicPr>
        <p:blipFill>
          <a:blip r:embed="rId2"/>
          <a:stretch/>
        </p:blipFill>
        <p:spPr>
          <a:xfrm>
            <a:off x="179280" y="1989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Набор матрешек \&quot;Семейка\&quot;, арт.507"/>
          <p:cNvPicPr/>
          <p:nvPr/>
        </p:nvPicPr>
        <p:blipFill>
          <a:blip r:embed="rId3"/>
          <a:stretch/>
        </p:blipFill>
        <p:spPr>
          <a:xfrm>
            <a:off x="3708360" y="443700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Набор матрешек \&quot;Репка\&quot;, арт.57"/>
          <p:cNvPicPr/>
          <p:nvPr/>
        </p:nvPicPr>
        <p:blipFill>
          <a:blip r:embed="rId4"/>
          <a:stretch/>
        </p:blipFill>
        <p:spPr>
          <a:xfrm>
            <a:off x="3635280" y="191628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sp_matroshka"/>
          <p:cNvPicPr/>
          <p:nvPr/>
        </p:nvPicPr>
        <p:blipFill>
          <a:blip r:embed="rId5"/>
          <a:stretch/>
        </p:blipFill>
        <p:spPr>
          <a:xfrm>
            <a:off x="7093080" y="2708280"/>
            <a:ext cx="190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Балалайка"/>
          <p:cNvPicPr/>
          <p:nvPr/>
        </p:nvPicPr>
        <p:blipFill>
          <a:blip r:embed="rId1"/>
          <a:stretch/>
        </p:blipFill>
        <p:spPr>
          <a:xfrm>
            <a:off x="3433680" y="2276640"/>
            <a:ext cx="2747880" cy="4329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Балалайка"/>
          <p:cNvPicPr/>
          <p:nvPr/>
        </p:nvPicPr>
        <p:blipFill>
          <a:blip r:embed="rId2"/>
          <a:stretch/>
        </p:blipFill>
        <p:spPr>
          <a:xfrm>
            <a:off x="6588000" y="3645000"/>
            <a:ext cx="2324160" cy="2984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Балалайка"/>
          <p:cNvPicPr/>
          <p:nvPr/>
        </p:nvPicPr>
        <p:blipFill>
          <a:blip r:embed="rId3"/>
          <a:stretch/>
        </p:blipFill>
        <p:spPr>
          <a:xfrm>
            <a:off x="6662880" y="189000"/>
            <a:ext cx="2334960" cy="3024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Балалайка"/>
          <p:cNvPicPr/>
          <p:nvPr/>
        </p:nvPicPr>
        <p:blipFill>
          <a:blip r:embed="rId4"/>
          <a:stretch/>
        </p:blipFill>
        <p:spPr>
          <a:xfrm>
            <a:off x="250920" y="2276640"/>
            <a:ext cx="2879640" cy="42973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2"/>
          <p:cNvSpPr/>
          <p:nvPr/>
        </p:nvSpPr>
        <p:spPr>
          <a:xfrm>
            <a:off x="808200" y="17928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Балалай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Население и религия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121932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России русские составляют 116 млн 80% (2002, перепись). Основная религия — православное христианство (90% верующих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934320" y="1447920"/>
            <a:ext cx="2209680" cy="1743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2286000" cy="3097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25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Хозяйст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Русские относятся к славянской группе индоевропейской языковой семьи. Хозяйство было представлено земледелием( выращивали зерновые : озимую рожь, ячмень, овес) животноводством, лесным промыслом, рыболовством, зверобойным промыслом, солеварени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12" descr="pict0026"/>
          <p:cNvPicPr/>
          <p:nvPr/>
        </p:nvPicPr>
        <p:blipFill>
          <a:blip r:embed="rId1"/>
          <a:stretch/>
        </p:blipFill>
        <p:spPr>
          <a:xfrm>
            <a:off x="6084720" y="3645000"/>
            <a:ext cx="2305080" cy="270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4535640" cy="28242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32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Жилищ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оселения: села, сельские общины, сельское поселение уличного типа. Жилища: деревянные дома, срубные или каркасные стены. Жилища были 2х или 3х камерного типа. «дом –двор» : сени, хозяйственный двор, хлев. Изба соединялась со двором кровлей. На усадьбе располагались амбары, бани. Дома украшала резная роспись ,наличники на окнах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00720" y="3500280"/>
            <a:ext cx="4411440" cy="2225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60720" y="0"/>
            <a:ext cx="5183280" cy="2276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усские национальные костюмы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95640" y="981000"/>
            <a:ext cx="4680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дежда: предпочтительны были льняные, конопляные и шерстяные ткани. Мужской костюм: штаны, туникообразная рубаха (без швов на плечах), пояс, шапки. Женский костюм: длинная, подвязанная поясом рубаха, несшитая юбка, сарафан, душегрейка, кокошник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Армяк (ермяк, лабамах, ормяк, рябик, сермяк, харапай, хоропой, ярмяк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верхняя одежда, преимущественно мужска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Балахо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женская и мужская верхняя одежд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Бахилы (бредни, бродни, бутыли, ловчаги, осташи, сапоги черепанские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мужская рабочая и промысловая обувь из кож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Валенки (валенцы, волнушечки, выходки, сапоги валяные, катанки, катанцы, пимы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мужская, женская обувь для зим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398680" cy="3197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8000" y="3789360"/>
            <a:ext cx="1581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Русские национальные костюм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Душегрейка (душегрея, каратайка, коротена, коротень, коротенька, перо, подсердёчник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нагрудная женская одежда на лямках, как правило, из дорогих фабричных тканей — бархата, плиса, парчи, полупарчи, шёлка — с подкладкой, часто на вате или кудели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Казаки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верхняя женская и мужская одежда для весны, лета, осени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Зипу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мужская и женская верхняя одежд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Жилет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нагрудная мужская одежда из тканей фабричного производства — шерсти, сук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Русские национальные костюм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Гайтан (итан, почёпка, чапочка)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— женское украшение, тесьма для обшивки ворота рубах, передников и т.п. Термин употреблялся для нескольких видов украшени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1. В южнорусских губерниях гайтаны представляли собой длинную, шириной до 10 см, полосу ткани, украшенной бисером, вышивкой, тканым узором, или длинную, низанную из разноцветного бисера полосу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2. Гайтан — это и шнурок, которым зашнуровывались башмаки, а также разноцветная тесьма, использовавшаяся для обшивки ворота рубах, лямок сарафана, подола юбок и т. п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1949760" cy="3527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433600" cy="352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ТРАДИЦИИ РУССКОГО ЗАСТОЛЬ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43210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се, что формировалось на начальном этапе русской кулинарной традиции, остаётся неизменным и по сегодняшний день. Главные составляющие традиционного русского стола: чёрный ржаной хлеб, который остаётся любимым и по сей день, разнообразные супы и каши приготовляемые практически каждый день, а также наши традиционные напитки - мед, квас и водка. 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3264120" cy="37846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8800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ОБЕННОСТИ РУССКОЙ КУХНИ.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Супы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и в одной другой национальной кухне не представлено такое разнообразие супов. С глубокой древности и до наших дней сохранился богатый ассортимент первых блюд и, в частности, заправочных супов (щей, борщей, рассольников), солянок. Одних только щей в русской кухне насчитывается более 60 видов. Это щи с мясом, рыбой, головизной, грибами, щи ленивые, суточные, зеленые, щи из крапивы с говядиной и т.д. Любимыми нашими блюдами являются борщ (московский, ленинградский, сибирский, борщ с грибами и черносливом), рыбные и мясные солянки, уха. Разнообразен ассортимент супов на крупяной и крупяно-овощной основе, холодных супов на квасе и свекольном отваре: окрошка,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4038480" cy="28972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6:29:05Z</dcterms:created>
  <dc:creator>USER</dc:creator>
  <dc:description/>
  <dc:language>en-US</dc:language>
  <cp:lastModifiedBy>USER</cp:lastModifiedBy>
  <dcterms:modified xsi:type="dcterms:W3CDTF">2011-10-27T18:53:55Z</dcterms:modified>
  <cp:revision>4</cp:revision>
  <dc:subject/>
  <dc:title>Слайд 1</dc:title>
</cp:coreProperties>
</file>