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F336-70C4-4DF3-AE12-6607DA82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C00-CE9A-417A-8B34-4498FAD3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5B17-E036-413D-8DF4-2E7CCFEE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BC2E-9DE4-4E95-97F8-FD2954D3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AD38-7DB7-4E9B-85C9-8C30AA4E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D424-7F0B-4B97-A455-1357BDA6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E297-F007-4DE7-ABFE-9839BEC9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4E22-28C0-4981-B6D3-3EF48F45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162E-6E01-471C-8EFF-843A6C95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7A06-6A63-45EC-9B52-7E062BAE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0B94-0895-44E0-AC01-3B473ABE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00F4-0934-4D6B-8C71-345E9CF3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9A64-549B-4DCE-8C3E-C10D92FC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DF46-E349-43FD-A22D-F4D5792E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7871-8112-4030-8081-37670B4A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6FDB-A6BF-44CC-BD9A-4B57E5A2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3318-90B1-4896-856A-3CFD36AB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AC1-A881-4C4F-9102-9198352C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14D-50AB-43A0-8457-702F88DE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2226-395A-40FD-AABD-27967C08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B50-219D-4B27-AEF9-17ACD0C4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7CC-3474-4826-8278-9F0BC4A4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DF09-F6B7-4B64-A327-F27AB968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911F-3BF6-47CE-B5AB-D25E8275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18C8-0A08-47E1-908E-10A4DA075DA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D492-15CE-4362-815F-CC932ACF731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Презентаци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на тему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«Музыкальные инструменты России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Владимирский рожок - самый русский из народных инструментов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2967120" cy="415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лож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Баян и аккордеон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824360" cy="34070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140360" y="3216240"/>
            <a:ext cx="389880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домр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треугольни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 rot="19339800">
            <a:off x="2700360" y="1628280"/>
            <a:ext cx="3110040" cy="49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маракас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340000" y="2060640"/>
            <a:ext cx="3679920" cy="27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5680" y="239760"/>
            <a:ext cx="7338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БУБЕ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053320" cy="36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692360" y="173160"/>
            <a:ext cx="5391000" cy="6684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Василий Андреев – основатель Великорусского оркестра народных музыкальных инструментов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050920" y="1473120"/>
            <a:ext cx="3800520" cy="53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1" i="1" lang="en-US" sz="3200" spc="-1" strike="noStrike">
                <a:solidFill>
                  <a:srgbClr val="000066"/>
                </a:solidFill>
                <a:latin typeface="Brush Script MT"/>
              </a:rPr>
              <a:t>Народные музыкальные инструменты России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6553080" cy="494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Балалайки: прима, секундовые, альтовые, басовые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Домры: пиколло, малые, альтовые, басовые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7416720" cy="586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0066"/>
                </a:solidFill>
                <a:latin typeface="Arial"/>
              </a:rPr>
              <a:t>Великорусский оркестр народных музыкальных инструментов России</a:t>
            </a:r>
            <a:endParaRPr b="0" lang="en-US" sz="3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7885080" cy="45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риложение к презентации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(конспект урока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Цель: 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Воспитывать любовь к искусству русского народа, обобщить представление учащихся о русских народных инструментах России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. Рассказать об истории русских народных инструмента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. Воспитывать уважение к народному искусств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. Углубить знания о ценностях своего наро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. Развивать творческие способности, фантазию, воображение в процессе игры на музыкальных инструмента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Внимательно слушайте музыку, смотрите на экран и на слух определяйте, какие музыкальные инструменты вам знакомы и какие вы услышите в русской народной мелод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634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БАЛАЛАЙ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6197760" cy="464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Флей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en-US" sz="4900" spc="-1" strike="noStrike">
                <a:solidFill>
                  <a:srgbClr val="000066"/>
                </a:solidFill>
                <a:latin typeface="Arial"/>
              </a:rPr>
              <a:t>ксилофон</a:t>
            </a:r>
            <a:endParaRPr b="0" lang="en-US" sz="49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6836040" cy="459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гусли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6476760" cy="49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рожок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709596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8:15:23Z</dcterms:created>
  <dc:creator>Татьяна</dc:creator>
  <dc:description/>
  <dc:language>en-US</dc:language>
  <cp:lastModifiedBy>Татьяна</cp:lastModifiedBy>
  <dcterms:modified xsi:type="dcterms:W3CDTF">2011-02-05T14:01:47Z</dcterms:modified>
  <cp:revision>4</cp:revision>
  <dc:subject/>
  <dc:title> «Народные музыкальные инструменты России»</dc:title>
</cp:coreProperties>
</file>