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2A9-2243-431F-B0D8-1493073E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D2F-BA1F-4E57-80B8-F24DC745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388-1C53-4B7D-89A1-8154D040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869-4D05-492B-BE23-C66FD810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D871-33E7-4EB9-9CF8-3604B92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B3F-6006-4756-B1DF-6FB39E1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2C0-07F5-45F9-9045-3B83996C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07B2-3B4A-436A-8649-B467FED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229B-CAD9-4F4B-BA19-E1C37DA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04D-F0CF-49BE-99BE-8F5C4E6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B37B-BA28-423B-AFF8-C0F8616C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2B5-BCDA-458A-A319-9086851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815-09A1-4344-B63C-A8A77BE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D137-E928-43AC-9CC0-D149437E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2DAD-C85D-4724-9B31-683F47AB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52EC-0511-431E-9B49-972B98E0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EA08-490D-4898-B4EE-D49F7459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036-462A-4C3C-AFDB-27EB5FF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B65-F8FA-4624-93FB-59B90E2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113-B10F-401F-A923-BE5AB2F2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FB0-FD78-4BB4-978E-8CF2B35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5BA-157A-4E7D-885F-5673C2F8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2FA-A904-4029-B2A9-63825D7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25D-0275-4D19-8FE3-17F0AF7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A9A0-993F-4EB3-92F7-81C15D93273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0690-1D2C-484F-9AE6-FC303CA033E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тему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«Музыкальные инструменты Росси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ладимирский рожок - самый русский из народных инструментов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29671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лож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Баян и аккордеон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824360" cy="340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40360" y="3216240"/>
            <a:ext cx="38988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дом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rot="19339800">
            <a:off x="2700360" y="1628280"/>
            <a:ext cx="3110040" cy="49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арака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36799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239760"/>
            <a:ext cx="733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УБЕ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053320" cy="36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92360" y="173160"/>
            <a:ext cx="5391000" cy="668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асилий Андреев – основатель Великорусского оркестра народных музыкальных инструменто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1473120"/>
            <a:ext cx="38005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Brush Script MT"/>
              </a:rPr>
              <a:t>Народные музыкальные инструменты России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55308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Балалайки: прима, секундовые, альтовые, басовы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омры: пиколло, малые, альтовые, басовые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416720" cy="586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66"/>
                </a:solidFill>
                <a:latin typeface="Arial"/>
              </a:rPr>
              <a:t>Великорусский оркестр народных музыкальных инструментов России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788508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ложение к презентац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конспект урок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Цель: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оспитывать любовь к искусству русского народа, обобщить представление учащихся о русских народных инструментах Росс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ссказать об истории русских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Воспитывать уважение к народному искусств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Углубить знания о ценностях своего на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Развивать творческие способности, фантазию, воображение в процессе игры на музыкальных инструмента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нимательно слушайте музыку, смотрите на экран и на слух определяйте, какие музыкальные инструменты вам знакомы и какие вы услышите в русской народной мело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АЛАЛАЙ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197760" cy="46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Флей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ксилофон</a:t>
            </a:r>
            <a:endParaRPr b="0" lang="en-US" sz="49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6836040" cy="45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усл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7676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ожок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09596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15:23Z</dcterms:created>
  <dc:creator>Татьяна</dc:creator>
  <dc:description/>
  <dc:language>en-US</dc:language>
  <cp:lastModifiedBy>Татьяна</cp:lastModifiedBy>
  <dcterms:modified xsi:type="dcterms:W3CDTF">2011-02-05T14:01:47Z</dcterms:modified>
  <cp:revision>4</cp:revision>
  <dc:subject/>
  <dc:title> «Народные музыкальные инструменты России»</dc:title>
</cp:coreProperties>
</file>