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75B-FB54-40BB-9C92-F0FF74AA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A57-2926-4BD2-8F0A-C21042C1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476-2DB0-4AF7-998F-53C7410E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062-7630-4CA8-A5C4-E9F122A7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D34A-AD5B-4965-9BD3-4DFB48F2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C013-C58C-4453-8954-0B265C02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60A3-495C-40BE-BB3B-D951ED82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099E-23BE-4176-AC29-59F95F91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B574-574F-46F3-BF3E-788E76B4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FF71-7A54-4441-A8F0-846D0320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EDDE-499A-44E2-8591-8CEEADD4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494-CA35-4139-ACFE-5C8119B1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C669-49E9-46D1-8D69-6724F4CB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9FFB-98F9-4871-9E5E-091AA5A5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57C8-6148-4BD6-8E6C-C24DD35C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B465-26D6-4E24-AEB1-7BE10E5A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3C72-46D0-482B-AF64-E8ACAEC9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B66-6C4F-4ADE-A68E-17950E36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9BD-F5C6-4639-B706-82F16F49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08C-3CF3-4550-A6E7-39BF1DEC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2B1-4925-4AEF-AE02-D3D400DC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2D4-8659-4D93-A732-4DA448B2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B10-E2C6-4C6C-8332-65E1CD0F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910-E32D-4C40-A305-23B6B582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8649-5D09-4DDA-8B3F-7A463A4D048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2C2C-30F7-46E5-8E7F-2C2341E357E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Презентац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на тему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«Музыкальные инструменты России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Владимирский рожок - самый русский из народных инструментов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296712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лож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Баян и аккордеон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824360" cy="3407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140360" y="3216240"/>
            <a:ext cx="389880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дом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треугольни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 rot="19339800">
            <a:off x="2700360" y="1628280"/>
            <a:ext cx="3110040" cy="49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маракас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367992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5680" y="239760"/>
            <a:ext cx="7338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БУБЕ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053320" cy="36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692360" y="173160"/>
            <a:ext cx="5391000" cy="668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Василий Андреев – основатель Великорусского оркестра народных музыкальных инструментов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50920" y="1473120"/>
            <a:ext cx="380052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Brush Script MT"/>
              </a:rPr>
              <a:t>Народные музыкальные инструменты России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6553080" cy="494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Балалайки: прима, секундовые, альтовые, басовые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Домры: пиколло, малые, альтовые, басовые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7416720" cy="586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66"/>
                </a:solidFill>
                <a:latin typeface="Arial"/>
              </a:rPr>
              <a:t>Великорусский оркестр народных музыкальных инструментов России</a:t>
            </a:r>
            <a:endParaRPr b="0" lang="en-US" sz="3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7885080" cy="45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иложение к презентации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(конспект урока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Цель: 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оспитывать любовь к искусству русского народа, обобщить представление учащихся о русских народных инструментах России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. Рассказать об истории русских народных инструмент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. Воспитывать уважение к народному искусств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. Углубить знания о ценностях своего нар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. Развивать творческие способности, фантазию, воображение в процессе игры на музыкальных инструмента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нимательно слушайте музыку, смотрите на экран и на слух определяйте, какие музыкальные инструменты вам знакомы и какие вы услышите в русской народной мелод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34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БАЛАЛАЙ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6197760" cy="46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Флей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4900" spc="-1" strike="noStrike">
                <a:solidFill>
                  <a:srgbClr val="000066"/>
                </a:solidFill>
                <a:latin typeface="Arial"/>
              </a:rPr>
              <a:t>ксилофон</a:t>
            </a:r>
            <a:endParaRPr b="0" lang="en-US" sz="49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6836040" cy="45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гусли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76760" cy="49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рожок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09596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8:15:23Z</dcterms:created>
  <dc:creator>Татьяна</dc:creator>
  <dc:description/>
  <dc:language>en-US</dc:language>
  <cp:lastModifiedBy>Татьяна</cp:lastModifiedBy>
  <dcterms:modified xsi:type="dcterms:W3CDTF">2011-02-05T14:01:47Z</dcterms:modified>
  <cp:revision>4</cp:revision>
  <dc:subject/>
  <dc:title> «Народные музыкальные инструменты России»</dc:title>
</cp:coreProperties>
</file>