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5.gif" ContentType="image/gif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8D3-8E9D-4007-AAE4-B5BAFAF8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007-5DCB-428E-B49A-6C356AA9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FBF-2B6F-4593-9E7A-82FB59C1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86A-1FB3-42B4-A9FB-8DE647BB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59C8-65EE-418B-9C88-CE73F0B4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6335-9C88-42A9-A326-FF223A25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9723-1D3D-443C-8BD6-FC15FD7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2BCF-7AC0-44A4-B514-93E3EBB8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8B73-CFD6-4645-8CF5-62E47A82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D2C3-B031-4AF9-B945-DE627E99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E3A-5DEC-45E6-B8AB-2F32CCA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AAF-834F-4D35-8135-A28B0B1F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19A3-FDA8-4AE2-BDC6-E066C459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ED47-76A8-4ABC-BA97-DC0658B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DC96-2B4D-4093-834B-7A82F808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DD99-81D9-4415-93AE-DDDF4FFB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85BF-AEC3-4A24-90E3-4F525D40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8D7-1E8D-4565-A848-C797E65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511-57C9-40DD-A2C0-6DA465A4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37E-00FF-4C52-B33A-D6B4CC7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F56-D201-42BB-A9FF-95D29206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648-E30A-423A-8287-E6EA73C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9DE-AC27-4676-913B-9DFD4235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2FC7-A015-4632-A641-79BFABBD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5656-F000-48A0-B9A0-CCBA9DAD0A12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A055-0E4B-432A-A333-D95094C49E3E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Геометрия 7 класс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4495680"/>
            <a:ext cx="70167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Начальные геометрические с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66"/>
                </a:solidFill>
                <a:latin typeface="Tahoma"/>
              </a:rPr>
              <a:t>Решение зада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4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+CB=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x+3x=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x=2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28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7=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4∙4=16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м, 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=28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=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, CB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4" name="Picture 15" descr="8"/>
          <p:cNvPicPr/>
          <p:nvPr/>
        </p:nvPicPr>
        <p:blipFill>
          <a:blip r:embed="rId1"/>
          <a:stretch/>
        </p:blipFill>
        <p:spPr>
          <a:xfrm>
            <a:off x="4211640" y="2421000"/>
            <a:ext cx="35290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змерение угл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21" descr="MCj02906520000[1]"/>
          <p:cNvPicPr/>
          <p:nvPr/>
        </p:nvPicPr>
        <p:blipFill>
          <a:blip r:embed="rId1"/>
          <a:stretch/>
        </p:blipFill>
        <p:spPr>
          <a:xfrm>
            <a:off x="2916360" y="2844720"/>
            <a:ext cx="3960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измерение углов"/>
          <p:cNvPicPr/>
          <p:nvPr/>
        </p:nvPicPr>
        <p:blipFill>
          <a:blip r:embed="rId1"/>
          <a:srcRect l="8494" t="9056" r="10304" b="3326"/>
          <a:stretch/>
        </p:blipFill>
        <p:spPr>
          <a:xfrm>
            <a:off x="1258920" y="1268280"/>
            <a:ext cx="72007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C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B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5˚+ 21˚= 66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6˚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2060640"/>
          <a:ext cx="2808360" cy="26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B = 4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 = 21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15" descr="9"/>
          <p:cNvPicPr/>
          <p:nvPr/>
        </p:nvPicPr>
        <p:blipFill>
          <a:blip r:embed="rId1"/>
          <a:stretch/>
        </p:blipFill>
        <p:spPr>
          <a:xfrm>
            <a:off x="5435640" y="2133720"/>
            <a:ext cx="288144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K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F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K 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K =36˚- 21˚= 15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˚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K = 36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F = 21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K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Picture 15" descr="10"/>
          <p:cNvPicPr/>
          <p:nvPr/>
        </p:nvPicPr>
        <p:blipFill>
          <a:blip r:embed="rId1"/>
          <a:stretch/>
        </p:blipFill>
        <p:spPr>
          <a:xfrm>
            <a:off x="4211640" y="2421000"/>
            <a:ext cx="2665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42920" y="2060640"/>
          <a:ext cx="3024360" cy="2139840"/>
        </p:xfrm>
        <a:graphic>
          <a:graphicData uri="http://schemas.openxmlformats.org/drawingml/2006/table">
            <a:tbl>
              <a:tblPr/>
              <a:tblGrid>
                <a:gridCol w="3024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 = 72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BC=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B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B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15" descr="11"/>
          <p:cNvPicPr/>
          <p:nvPr/>
        </p:nvPicPr>
        <p:blipFill>
          <a:blip r:embed="rId1"/>
          <a:stretch/>
        </p:blipFill>
        <p:spPr>
          <a:xfrm>
            <a:off x="5435640" y="2133720"/>
            <a:ext cx="3456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 = 100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BD= 4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Picture 15" descr="12"/>
          <p:cNvPicPr/>
          <p:nvPr/>
        </p:nvPicPr>
        <p:blipFill>
          <a:blip r:embed="rId1"/>
          <a:stretch/>
        </p:blipFill>
        <p:spPr>
          <a:xfrm>
            <a:off x="5508720" y="198900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1052640"/>
            <a:ext cx="7086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87280" y="2349360"/>
          <a:ext cx="3313440" cy="1938600"/>
        </p:xfrm>
        <a:graphic>
          <a:graphicData uri="http://schemas.openxmlformats.org/drawingml/2006/table">
            <a:tbl>
              <a:tblPr/>
              <a:tblGrid>
                <a:gridCol w="331344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 = 10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=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: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C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BD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 txBox="1"/>
          <p:nvPr/>
        </p:nvSpPr>
        <p:spPr>
          <a:xfrm>
            <a:off x="4642920" y="2060280"/>
            <a:ext cx="346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3280" y="3715920"/>
            <a:ext cx="346716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1" descr="12"/>
          <p:cNvPicPr/>
          <p:nvPr/>
        </p:nvPicPr>
        <p:blipFill>
          <a:blip r:embed="rId1"/>
          <a:stretch/>
        </p:blipFill>
        <p:spPr>
          <a:xfrm>
            <a:off x="5867280" y="2276640"/>
            <a:ext cx="29876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межные уг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6" descr="ric5"/>
          <p:cNvPicPr/>
          <p:nvPr/>
        </p:nvPicPr>
        <p:blipFill>
          <a:blip r:embed="rId1"/>
          <a:stretch/>
        </p:blipFill>
        <p:spPr>
          <a:xfrm>
            <a:off x="2050920" y="2617920"/>
            <a:ext cx="51134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+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15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2400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змерение отрез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splash3"/>
          <p:cNvPicPr/>
          <p:nvPr/>
        </p:nvPicPr>
        <p:blipFill>
          <a:blip r:embed="rId1"/>
          <a:stretch/>
        </p:blipFill>
        <p:spPr>
          <a:xfrm>
            <a:off x="2806560" y="3098880"/>
            <a:ext cx="4064040" cy="279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+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9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=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15" descr="14"/>
          <p:cNvPicPr/>
          <p:nvPr/>
        </p:nvPicPr>
        <p:blipFill>
          <a:blip r:embed="rId1"/>
          <a:stretch/>
        </p:blipFill>
        <p:spPr>
          <a:xfrm>
            <a:off x="5435640" y="2349360"/>
            <a:ext cx="3024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=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: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14" descr="13"/>
          <p:cNvPicPr/>
          <p:nvPr/>
        </p:nvPicPr>
        <p:blipFill>
          <a:blip r:embed="rId1"/>
          <a:stretch/>
        </p:blipFill>
        <p:spPr>
          <a:xfrm>
            <a:off x="5435640" y="2349360"/>
            <a:ext cx="309708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87280" y="2060640"/>
          <a:ext cx="2808360" cy="330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OE = 37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15" descr="15"/>
          <p:cNvPicPr/>
          <p:nvPr/>
        </p:nvPicPr>
        <p:blipFill>
          <a:blip r:embed="rId1"/>
          <a:stretch/>
        </p:blipFill>
        <p:spPr>
          <a:xfrm>
            <a:off x="5435640" y="2276640"/>
            <a:ext cx="31687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2060640"/>
          <a:ext cx="2808360" cy="330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A = 108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A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смежные уг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15" descr="16"/>
          <p:cNvPicPr/>
          <p:nvPr/>
        </p:nvPicPr>
        <p:blipFill>
          <a:blip r:embed="rId1"/>
          <a:stretch/>
        </p:blipFill>
        <p:spPr>
          <a:xfrm>
            <a:off x="5435640" y="2276640"/>
            <a:ext cx="3240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ертикальные уг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5" descr="sova2"/>
          <p:cNvPicPr/>
          <p:nvPr/>
        </p:nvPicPr>
        <p:blipFill>
          <a:blip r:embed="rId1"/>
          <a:stretch/>
        </p:blipFill>
        <p:spPr>
          <a:xfrm>
            <a:off x="3419640" y="2852640"/>
            <a:ext cx="22795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060640"/>
          <a:ext cx="2808360" cy="193680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BOC = 23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A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C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15" descr="17"/>
          <p:cNvPicPr/>
          <p:nvPr/>
        </p:nvPicPr>
        <p:blipFill>
          <a:blip r:embed="rId1"/>
          <a:stretch/>
        </p:blipFill>
        <p:spPr>
          <a:xfrm>
            <a:off x="5435640" y="1989000"/>
            <a:ext cx="302400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87280" y="206064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AOB = 5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D = 25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15" descr="18"/>
          <p:cNvPicPr/>
          <p:nvPr/>
        </p:nvPicPr>
        <p:blipFill>
          <a:blip r:embed="rId1"/>
          <a:stretch/>
        </p:blipFill>
        <p:spPr>
          <a:xfrm>
            <a:off x="5508720" y="2060640"/>
            <a:ext cx="31687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2060640"/>
          <a:ext cx="2808360" cy="2504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биссектриса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O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OD = 32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15" descr="19"/>
          <p:cNvPicPr/>
          <p:nvPr/>
        </p:nvPicPr>
        <p:blipFill>
          <a:blip r:embed="rId1"/>
          <a:stretch/>
        </p:blipFill>
        <p:spPr>
          <a:xfrm>
            <a:off x="5508720" y="1989000"/>
            <a:ext cx="3313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720" y="3716280"/>
            <a:ext cx="3672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2060640"/>
          <a:ext cx="2808360" cy="20667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 +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B +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B = 210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D, </a:t>
                      </a: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ahoma"/>
                          <a:cs typeface="Tahoma"/>
                        </a:rPr>
                        <a:t>ے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DOC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6" name="Picture 14" descr="17"/>
          <p:cNvPicPr/>
          <p:nvPr/>
        </p:nvPicPr>
        <p:blipFill>
          <a:blip r:embed="rId1"/>
          <a:stretch/>
        </p:blipFill>
        <p:spPr>
          <a:xfrm>
            <a:off x="5508720" y="2060640"/>
            <a:ext cx="31669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11640" y="3860280"/>
            <a:ext cx="41702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AB+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 6+9=1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1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А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=6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=9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С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42" descr="РИС1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прыгающая обезьянка"/>
          <p:cNvPicPr/>
          <p:nvPr/>
        </p:nvPicPr>
        <p:blipFill>
          <a:blip r:embed="rId1"/>
          <a:stretch/>
        </p:blipFill>
        <p:spPr>
          <a:xfrm>
            <a:off x="3635280" y="3429000"/>
            <a:ext cx="2808360" cy="27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cpacibo"/>
          <p:cNvPicPr/>
          <p:nvPr/>
        </p:nvPicPr>
        <p:blipFill>
          <a:blip r:embed="rId2"/>
          <a:stretch/>
        </p:blipFill>
        <p:spPr>
          <a:xfrm>
            <a:off x="2268360" y="1112760"/>
            <a:ext cx="5399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5" dur="indefinite" restart="never" nodeType="tmRoot">
          <p:childTnLst>
            <p:seq>
              <p:cTn id="2076" dur="indefinite" nodeType="mainSeq">
                <p:childTnLst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nodeType="clickEffect" fill="hold">
                      <p:stCondLst>
                        <p:cond delay="indefinite"/>
                      </p:stCondLst>
                      <p:childTnLst>
                        <p:par>
                          <p:cTn id="2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11640" y="3860280"/>
            <a:ext cx="41702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=MK+K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K=MP-KP=12-3=9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9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87280" y="2060640"/>
          <a:ext cx="2808360" cy="2604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K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15" descr="РИС2"/>
          <p:cNvPicPr/>
          <p:nvPr/>
        </p:nvPicPr>
        <p:blipFill>
          <a:blip r:embed="rId1"/>
          <a:stretch/>
        </p:blipFill>
        <p:spPr>
          <a:xfrm>
            <a:off x="4211640" y="2421000"/>
            <a:ext cx="4176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280" y="3573360"/>
            <a:ext cx="493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M=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N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M+LN= 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LM+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L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2∙L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M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M=(KM+LN)-KN=(9+8)-12=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7280" y="2060640"/>
          <a:ext cx="2808360" cy="3017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N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15" descr="3"/>
          <p:cNvPicPr/>
          <p:nvPr/>
        </p:nvPicPr>
        <p:blipFill>
          <a:blip r:embed="rId1"/>
          <a:stretch/>
        </p:blipFill>
        <p:spPr>
          <a:xfrm>
            <a:off x="4140360" y="2421000"/>
            <a:ext cx="37447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11640" y="3573000"/>
            <a:ext cx="417024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T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        HD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T+HD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HT+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FH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2∙H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T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D=(FT+HD)-HT=(11+9)-5=1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15 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7280" y="2060640"/>
          <a:ext cx="2808360" cy="301788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9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15" descr="4"/>
          <p:cNvPicPr/>
          <p:nvPr/>
        </p:nvPicPr>
        <p:blipFill>
          <a:blip r:embed="rId1"/>
          <a:stretch/>
        </p:blipFill>
        <p:spPr>
          <a:xfrm>
            <a:off x="4140360" y="2349360"/>
            <a:ext cx="3960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11640" y="3860280"/>
            <a:ext cx="41054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=AB+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D=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B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условию задачи АВ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значит АС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.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58920" y="2565360"/>
          <a:ext cx="2808360" cy="21398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В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казать: АС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15" descr="5"/>
          <p:cNvPicPr/>
          <p:nvPr/>
        </p:nvPicPr>
        <p:blipFill>
          <a:blip r:embed="rId1"/>
          <a:stretch/>
        </p:blipFill>
        <p:spPr>
          <a:xfrm>
            <a:off x="4211640" y="2421000"/>
            <a:ext cx="39607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+EF=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+3x=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x=2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2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4=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∙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=18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6 см, 18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F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, F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15" descr="6"/>
          <p:cNvPicPr/>
          <p:nvPr/>
        </p:nvPicPr>
        <p:blipFill>
          <a:blip r:embed="rId1"/>
          <a:stretch/>
        </p:blipFill>
        <p:spPr>
          <a:xfrm>
            <a:off x="4211640" y="2349360"/>
            <a:ext cx="381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дача №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11640" y="1989000"/>
            <a:ext cx="41702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4720" y="3357360"/>
            <a:ext cx="41702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x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огд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+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P+PE=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+3+x=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+3=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x=21-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=18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2=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9см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9=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вет: 9 см, 12с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060640"/>
          <a:ext cx="2808360" cy="257796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о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езок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P=PE+3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, KP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Picture 15" descr="7"/>
          <p:cNvPicPr/>
          <p:nvPr/>
        </p:nvPicPr>
        <p:blipFill>
          <a:blip r:embed="rId1"/>
          <a:stretch/>
        </p:blipFill>
        <p:spPr>
          <a:xfrm>
            <a:off x="4211640" y="2349360"/>
            <a:ext cx="31687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0:20:43Z</dcterms:created>
  <dc:creator>User</dc:creator>
  <dc:description/>
  <dc:language>en-US</dc:language>
  <cp:lastModifiedBy>User</cp:lastModifiedBy>
  <dcterms:modified xsi:type="dcterms:W3CDTF">2012-05-06T01:48:49Z</dcterms:modified>
  <cp:revision>21</cp:revision>
  <dc:subject/>
  <dc:title> Геометрия 7 класс.</dc:title>
</cp:coreProperties>
</file>