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F792-C006-49D8-9D0A-75CA94DFE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9675-9B9B-4234-AB58-B12D798C4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556-2DB2-4EF4-9B01-3E00EA77A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74B-EC4B-42AC-BE6B-35596984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346-865B-4F24-BF7B-0A9317D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31738-8233-4048-ADE4-8AB86DF2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D58A-AD8C-41E7-9650-8526FB4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AF41D-F47D-4762-B91D-D9C8CE7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4A844-148F-4870-908C-34D790D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BA052-B8F5-4CEF-AA14-7350028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D128A-ACF4-434B-B21B-480B73A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3E833-6DEE-4248-9ADF-65F037E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30821-4B7C-4EF4-9510-F100865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93B74-CE7B-4648-9962-B15DEE90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60B-D16F-4A96-8AF2-C70F3FDD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B9-F24B-430B-B62E-77F84A46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55B5-5405-486F-81D0-DD8D1F1E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2731-8460-4531-8FF2-C19F1B9F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A3DD-EDC5-485B-95C1-31C7662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D8A3-FBB3-4128-8327-90023DF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687B-F504-4756-A54B-4BE0F987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388-B983-4D70-A001-79445A17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3F8-3D1B-4C4E-A650-9C46040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53D-BC8B-4C6D-95A7-8D55746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845-AEB3-4540-B8E2-482318F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8D39-1470-47BE-97A7-5DC5841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64E9-8134-43A7-A132-810AE66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DE7-D440-4C85-868A-B1C39649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B7A-BAC4-4D5F-A953-2B42F127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893A-6D4D-400F-BBE7-BA38A2CB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7A50-E61A-4675-8FCE-06FE827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9153-FD62-46E4-ACB4-09D0C8D3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B486-06F4-4708-819B-C9E34A4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BB34-47B3-4ECD-A675-7DE8EA9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711-0E08-4CB1-80E5-6ED692C9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6BAB-6714-46F6-8383-60D85218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FCED-2A8B-4A7F-9001-788EB0F6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5AEF-8B8B-4C59-8215-0A42100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AB55-7D74-4E85-AE2B-8728ED9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F130-532E-4757-9421-5780F52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22EC-8992-413A-99AD-ADA2B614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1945-19A1-47B8-885D-BF00DCC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B129-9DC9-4196-8811-6B4D50EB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8B4E-9EA2-464B-A296-DF81C050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B6F8-5B1B-430F-91C0-C266DA3D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FC6-1313-4F02-9B4A-E325749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4D1A-4A30-49CA-951E-721EEA1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93BF-97B3-4D2F-90EA-CA3D8E9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355B-D57B-46EC-9A7B-5A7DF95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114F-0613-4A74-85B5-92D80D7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DBCA-90AE-4756-A9D4-CE0DF331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42A0-F2AF-4D0F-9466-DAA9788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F6CF-9023-4852-ABCC-00F64D5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D065-163C-4826-A1FC-F8EDBF44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6118-4370-4F38-8F54-CA29558B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441A-6247-4F5D-96C9-76D57F2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66A-D44F-4D11-83FC-A448164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C9FE-D047-4854-B51A-7A2EDEC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A3BDE-E9FA-47CA-AEFF-0C216AC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534F-29C5-4337-BC75-060B030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DFD92-480D-4EAD-AED0-B3CF5B64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F700-8A9F-4CCC-8397-969C7B1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E7A0-884C-48BD-BE35-9713082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8BCF-4C62-4C50-B603-19F7852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41D4-A16B-4A08-8FCB-184D042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12BA-9CF2-4709-A849-4D65C66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4F01-3C5E-4C15-B337-DC26CDEE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995-3806-45AF-8D9E-EF054B02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B07F-0415-40E3-B49E-1A2FE6F0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6C080-59BC-4D87-ABEB-2BD9B89D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2917-2E96-4AEB-8E6B-2FC2D088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EC01-CDF1-4CB3-B31C-3C7132D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6FE7-D761-45EA-ADC3-011B6CB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85405-6F4E-4A1A-A915-0D3D067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13C5-EB0A-405D-A04C-5B38503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81C97-7FB6-4D06-BF4A-92541B3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D5784-224B-41FB-81DC-796E73B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F33D-4C63-47C0-AE76-7D940DF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A47-20D9-405A-BEDA-98A1D4AB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14C3-3CC2-464D-8C9E-FC1C7826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4F2E-3276-4615-BC96-00F02428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B1B3-EDA7-4103-A5E7-4D148E2D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228AD-5E70-4791-86D1-357DAFE5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C8218-55BF-413E-884B-B7AB412E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6080B-5473-4BC1-BD64-725D35A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22CF-C972-49C7-9560-4868D069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DCBA-DA49-4252-8CD9-25EB486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7079-3960-4EFA-AA4E-6859630F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A56DE-E5FE-4AB6-903D-B9291B0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8FB-4674-46D6-86E6-BF24C51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4575-114E-4D09-92E5-B69EC6B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713A-5424-4FC1-B790-6BBCCE9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D25A-F974-4AD1-ADC5-99A205A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1894-9F79-42CA-BE74-6FAFCB5E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5D9E-BE11-4E82-A049-53EF73D9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1FFD2-6115-43FA-BB16-FD2C7CCE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3AFB-FB98-42B3-A82C-65CE86B9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A191-9336-45FE-9D0B-6EC18D5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AA04-61BD-4330-A522-56F9D19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3649-6FB1-4A98-AEF4-DBABC598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A58-B1F4-440D-ACBD-B5EB74E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2F82-0AF1-4B43-BAA2-98D22DF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7B6F0-588F-4F77-BBE7-77F8C42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8FCA1-1C5F-4426-820E-CEFE444F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35878-9354-40CF-BB21-032BF7E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2C98-946E-4243-8809-2735EEC7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20BC-2101-44A9-918E-9DA1E531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B80C-B1EC-41C3-A08C-933741A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02D9-A23A-4D28-9379-9966BE20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937F0-E8EA-4925-AFC0-E332C174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95B9F-1FEB-4551-9BFB-667064D8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A48-FEC3-4C38-9CE5-7614CD841C4F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D687-4CA8-4B69-B42C-9BB57AD3C7BC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D445-4ADD-4B8A-BF11-A24A4BED85DE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73A-8E9B-41E9-AE06-E301CDA08B25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FBE9-B390-40C1-BB2B-DEFC3B257707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C98-5CFD-4016-92B6-E8863F2EC943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B8D-41F6-4DB1-A382-A242DEC9DE0A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6512-0871-400A-AE48-6870510A40BA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665-6C2E-4101-BEE4-D11684B650C6}" type="slidenum">
              <a:rPr b="0" lang="ru-RU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566720" y="2206800"/>
            <a:ext cx="6986880" cy="3444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4429080"/>
            <a:ext cx="8458200" cy="21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2117"/>
                </a:solidFill>
                <a:latin typeface="Franklin Gothic Book"/>
              </a:rPr>
              <a:t>Разработала: преподаватель высшей категории Зеленкина Т.М</a:t>
            </a: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2117"/>
                </a:solidFill>
                <a:latin typeface="Franklin Gothic Book"/>
              </a:rPr>
              <a:t>   </a:t>
            </a:r>
            <a:endParaRPr b="0" lang="en-US" sz="16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785960" y="357120"/>
            <a:ext cx="691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ЕВОЕ ГОСУДАРСТВЕННОЕ ОБРАЗОВАТЕЛЬНОЕ УЧРЕЖДЕНИЕ НАЧАЛЬНОГО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Е УЧИЛИЩЕ №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4857840" y="32148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804960" y="23760"/>
            <a:ext cx="7888320" cy="185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Подготовка преподавателя к уроку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Самостоятельная работа учащихся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Работа на уроке с использованием возможностей интерактивной доск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-презентации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Уроки с использованием цифровых носителей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pic>
        <p:nvPicPr>
          <p:cNvPr id="415" name="Picture 4" descr="I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2413080" y="2571840"/>
            <a:ext cx="1373040" cy="1401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I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6072120" y="2286000"/>
            <a:ext cx="1643040" cy="1508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I:\Program Files\Microsoft Office\MEDIA\CAGCAT10\j0299171.wmf"/>
          <p:cNvPicPr/>
          <p:nvPr/>
        </p:nvPicPr>
        <p:blipFill>
          <a:blip r:embed="rId4"/>
          <a:stretch/>
        </p:blipFill>
        <p:spPr>
          <a:xfrm>
            <a:off x="8001000" y="5572080"/>
            <a:ext cx="90792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I:\Program Files\Microsoft Office\MEDIA\CAGCAT10\j0301252.wmf"/>
          <p:cNvPicPr/>
          <p:nvPr/>
        </p:nvPicPr>
        <p:blipFill>
          <a:blip r:embed="rId5"/>
          <a:stretch/>
        </p:blipFill>
        <p:spPr>
          <a:xfrm>
            <a:off x="3195720" y="5643720"/>
            <a:ext cx="1447560" cy="123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3" descr=""/>
          <p:cNvPicPr/>
          <p:nvPr/>
        </p:nvPicPr>
        <p:blipFill>
          <a:blip r:embed="rId1"/>
          <a:stretch/>
        </p:blipFill>
        <p:spPr>
          <a:xfrm>
            <a:off x="743040" y="237960"/>
            <a:ext cx="795024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«Скачивание» рефератов, докладов,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    </a:t>
            </a:r>
            <a:r>
              <a:rPr b="0" lang="ru-RU" sz="2700" spc="-1" strike="noStrike">
                <a:solidFill>
                  <a:srgbClr val="4f271c"/>
                </a:solidFill>
                <a:latin typeface="Franklin Gothic Book"/>
              </a:rPr>
              <a:t>сообщений из Интернетисточников</a:t>
            </a:r>
            <a:endParaRPr b="0" lang="en-US" sz="27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оиск материалов для подготовки к урокам- проектам, беседам, семинарам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71c"/>
                </a:solidFill>
                <a:latin typeface="Franklin Gothic Book"/>
              </a:rPr>
              <a:t>Презентации учащихся по окончанию исследовательских работ ( отчеты)</a:t>
            </a:r>
            <a:endParaRPr b="0" lang="en-US" sz="3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71c"/>
                </a:solidFill>
                <a:latin typeface="Franklin Gothic Book"/>
              </a:rPr>
              <a:t>Обработка данных, полученных в результате эскперимента  с использованием компьютерных программ, оформление лабораторных и практических работ</a:t>
            </a:r>
            <a:endParaRPr b="0" lang="en-US" sz="20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9101160" cy="1689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ы»: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умение работать  с электронными цифровыми носителями; в системе Интернет, владеть навыками пользования компьютером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6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широкий спектр используемых материалов для подготовки  к урокам-проектам, конференциям, интегрированным урокам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«</a:t>
            </a: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Минусы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механическое «скачивание»материала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неумение работать с учебником, вести записи в тетрад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отсутствие накопления личных знаний ученика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Работа учащихся на уроке с использованием интерактивных технологий: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тестирование - промежуточно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                         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итоговое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в виртуальной химической лаборатории ( групповая или индивидуальная)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оформление лабораторного журнала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работа на интерактивной доске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Franklin Gothic Book"/>
              </a:rPr>
              <a:t>«ПЛЮС»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умение работать с дополнительными источниками информаци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интерес к предмету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повышается самооценка учащегося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f271c"/>
                </a:solidFill>
                <a:latin typeface="Franklin Gothic Book"/>
              </a:rPr>
              <a:t>« минус»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не все имеют навыки работы с компьютером, необходимы уроки предварительной подготовки;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4f271c"/>
                </a:solidFill>
                <a:latin typeface="Franklin Gothic Book"/>
              </a:rPr>
              <a:t>-  недостаточная оснащенность ПК учебных классов</a:t>
            </a:r>
            <a:endParaRPr b="0" lang="en-US" sz="28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4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информационно-коммуникационные технологии значительно расширяют возможность педагога в подготовке и проведении современного урок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дают широкие возможности в поиске научных данных, новых педагогических технологий, передового опыта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позволяют повысить познавательный интерес учащихся к изучаемому предмету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;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дают навыки работы с электронными цифровыми носителями;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f271c"/>
                </a:solidFill>
                <a:latin typeface="Franklin Gothic Book"/>
              </a:rPr>
              <a:t>- развивают абстрактное мышление и индуктивные навыки в процессе получения новых знаний</a:t>
            </a:r>
            <a:endParaRPr b="0" lang="en-US" sz="24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Franklin Gothic Book"/>
              </a:rPr>
              <a:t> </a:t>
            </a:r>
            <a:r>
              <a:rPr b="0" lang="ru-RU" sz="8800" spc="-1" strike="noStrike">
                <a:solidFill>
                  <a:srgbClr val="4f271c"/>
                </a:solidFill>
                <a:latin typeface="Franklin Gothic Book"/>
              </a:rPr>
              <a:t>Спасибо           за      внимание</a:t>
            </a:r>
            <a:r>
              <a:rPr b="0" lang="ru-RU" sz="4800" spc="-1" strike="noStrike">
                <a:solidFill>
                  <a:srgbClr val="4f271c"/>
                </a:solidFill>
                <a:latin typeface="Franklin Gothic Book"/>
              </a:rPr>
              <a:t>  </a:t>
            </a:r>
            <a:r>
              <a:rPr b="0" lang="ru-RU" sz="6600" spc="-1" strike="noStrike">
                <a:solidFill>
                  <a:srgbClr val="4f271c"/>
                </a:solidFill>
                <a:latin typeface="Franklin Gothic Book"/>
              </a:rPr>
              <a:t>!</a:t>
            </a:r>
            <a:endParaRPr b="0" lang="en-US" sz="6600" spc="-1" strike="noStrike">
              <a:solidFill>
                <a:srgbClr val="4f271c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0:59:27Z</dcterms:created>
  <dc:creator>SERGEJ</dc:creator>
  <dc:description/>
  <dc:language>en-US</dc:language>
  <cp:lastModifiedBy>ПУ№58</cp:lastModifiedBy>
  <dcterms:modified xsi:type="dcterms:W3CDTF">2010-02-19T07:18:01Z</dcterms:modified>
  <cp:revision>63</cp:revision>
  <dc:subject/>
  <dc:title>Слайд 1</dc:title>
</cp:coreProperties>
</file>