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AF5-E707-4A62-9C1B-5B241DC31E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912C-17FC-460E-8CFE-77D5F8EBE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FE66-2AAB-444F-AEC1-5595AE9A4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75C-6381-4D28-AA7F-C9E3A063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64A-913E-4604-B049-9FAFA104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02A0-AFE9-472F-944C-CD3CFC30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94F4A-9A74-46CF-A022-E007F0D6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5D56D-F69C-490E-AA4D-53235308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1B4B-D685-4B24-877A-38909BE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E11F9-6C01-4407-9A6E-7CAF836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64DE5-8E6F-4CE9-B41D-35B6EEF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83A9C-0F26-477A-A70B-5331CD8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CD888-FDB2-4EB0-A5DE-826A6B39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E87CD-AB31-42BD-AC6B-DA3CA08E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483-FA82-43C4-8E5E-91021269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2E7-EC95-41BE-BE62-BF1C0864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A345-DE9A-44CE-8278-E94135B4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948C-4CB5-441E-BEC3-815BACF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F47-E37C-4A44-A227-47250CA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21AF-3694-4526-9B10-21181EE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093-FC6B-4D32-8493-8BACA86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FBFE-B345-4D04-A24E-89CB9939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A94-8306-4737-B4EB-8361901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CB9-9785-4FB7-8A54-287F106C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0AF5-3DC0-464E-866E-A8B601C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1DC6-A8BC-49ED-8A87-66826C6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4F27-A5BE-48EA-840F-3551856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1546-47DE-4967-A53B-31B9CE01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0853-7C7D-434A-8870-FFD688F6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A330-85E0-44E8-B927-F52B6295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AB5C-B4D1-49FC-9C08-0A1EC04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518C-7863-404A-A75F-D06C146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D048-E733-4787-BD35-D4C28C83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0E67-5DBD-40FB-8EF3-C657625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AAB-53A4-48B3-84EA-154EC669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3E25-04EA-409C-BFDB-3DBFDB5D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9675-48FA-4E9C-9A44-F8504D8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48E1-AD5C-47D9-8E40-B2CB3AF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32B3-AF5F-4AF4-B3F6-068A6411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390B-353D-45F7-9777-4850775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CC53-0627-4586-8A8B-3B2340A4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BA44-A497-4853-9D5E-0AF40B39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A466-77AD-4B3A-97EF-4406ABD2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ED64-D51D-4BE7-8BC8-6A8168E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3A09-F836-46BD-BBBD-2AB9EB6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96A-99A4-4973-AEDD-41550AA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553C-9D6E-4CD2-9671-EF7921F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B670-0676-47D6-8773-5F3DC321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1652-5612-4E1C-AF35-265460C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67D9-44B4-46EC-9C63-F51E80C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F569-D43E-4DE7-BBBD-ABD2F10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EC45-797F-412D-BE85-EEEB2F8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15B9-9011-4FEF-B70F-2278434F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79F3-6D50-4C64-93A7-F8B045D7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D4CF-F2F7-40D0-A236-85B4D2C2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C06E-B2FE-43B6-85EB-05C4F6B4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8D2-2E7F-4239-945D-16412E91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B7F9-C27F-4A53-A41B-983D9CD4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DC08-E445-462C-B9BD-DC3BEF37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C1CA-F171-4782-A09B-0E21C10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319A-4143-4DE6-B00A-324BA3DD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0144B-D19E-4D6A-8CA4-07A6D20D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D623A-04E2-4D5D-AD16-D1DAA52B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7909F-A82D-49DB-AF99-AE0A5C2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33FA-529F-4840-9C56-F165A8D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44CF1-1C75-473F-A8AC-9C4E182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108E-0FDF-415A-BC27-F78EA171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C8B-046B-4601-8B22-0597E0B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35EA-924E-42E4-88DD-00DAA10D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23E2-CFF7-4701-8B7C-81F2536A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71F4-8A11-4DDE-A9FF-28E479DF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D8EE-ADCC-430B-B368-9995003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06AA9-F7F3-4631-8B1C-A7C8AA0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6EE6-3A6D-45C8-A353-DBAFD58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E731-DD70-4B93-9A25-AB48AD08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EBA47-6EA5-433F-AF6E-AA79CBA8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050E-7081-43AB-B6EA-7CF042F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09CC-098F-4F2C-BCF1-E38F01F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323-6D5D-42C9-A4EB-346BB3F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C5DD-6100-49C8-9541-CC778AF8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21B2-A5DC-4509-A9EB-E8C87CBC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9EDA-A479-4546-895A-EF60D1EA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531F0-68C9-4C8B-9FBB-4CE7E174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BC9C8-985F-4607-B1A1-3B4F421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6A70-E991-4616-A268-338B4BEA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6C3BC-1EDA-4C61-A141-C4E4EFFC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FBC3A-C5A4-42B0-9508-9FF5178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5113-C1B1-42A3-82E1-D17CDEE7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3294-8486-4CBB-AA99-38168EE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7EC-13B1-4C43-A331-973B662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924C-12D8-4F02-A63C-2CCA0D3D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CEB8-880A-434A-811B-B98AD88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0656F-F9CC-4570-8286-21D65DF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FA09-5175-4C9F-827D-B21BE888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D285-0EB7-4926-A42A-7BB1684B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E632-B489-4CB8-9A32-A38E4E7C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8E170-7BED-4BDE-8018-3F463D1A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C097D-34A7-4123-BBDE-DD7E932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D3A63-88E4-49D5-90DF-5822A845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D1999-A155-4AC8-B273-210BB38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16F-5219-4489-97D6-2F46920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7701-E6CF-426B-A006-976CE756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7BDB2-4B10-46DC-A895-5B7CCEC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B8FD-6A8A-4E0A-B54C-EC0624B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DBDC8-02AE-43CC-AD80-4419F44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48FC-999C-47B2-B94D-AD519A0D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0CAE-730C-461A-844F-F481A970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B51D4-FDEA-4F81-B793-839C4F2E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19D21-727A-4CE1-A86F-308569AB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018F4-7775-41CC-95F6-CDABF91A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DDFDB-E757-432C-9C4B-CA3B733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D8FB-B874-431D-9F44-6007D0C12F32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2C0-FA0F-43B8-8240-7C2390397545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91FF-19B2-47F5-97CB-E49B97B1852F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AE3C-D572-4818-AD56-287A1EEB23E5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C68-C20D-419A-AB8A-D7D2417C3815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CED-70CF-4F91-A6B8-79555D83D829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D01-DFDE-4F0D-B114-D96AD49071F7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359F-1E31-4113-9AE0-394BA0149E03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C5D-CB24-4D74-932F-7BB8C55DAA44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566720" y="2206800"/>
            <a:ext cx="6986880" cy="3444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440" y="4429080"/>
            <a:ext cx="8458200" cy="21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2117"/>
                </a:solidFill>
                <a:latin typeface="Franklin Gothic Book"/>
              </a:rPr>
              <a:t>Разработала: преподаватель высшей категории Зеленкина Т.М</a:t>
            </a:r>
            <a:r>
              <a:rPr b="0" lang="ru-RU" sz="1600" spc="-1" strike="noStrike">
                <a:solidFill>
                  <a:srgbClr val="442117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f271c"/>
              </a:solidFill>
              <a:latin typeface="Franklin Gothic Book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2117"/>
                </a:solidFill>
                <a:latin typeface="Franklin Gothic Book"/>
              </a:rPr>
              <a:t>   </a:t>
            </a:r>
            <a:endParaRPr b="0" lang="en-US" sz="16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785960" y="357120"/>
            <a:ext cx="691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ЕВОЕ ГОСУДАРСТВЕННОЕ ОБРАЗОВАТЕЛЬНОЕ УЧРЕЖДЕНИЕ НАЧАЛЬНОГО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Е УЧИЛИЩЕ №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4857840" y="321480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804960" y="23760"/>
            <a:ext cx="7888320" cy="1854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Подготовка преподавателя к уроку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Самостоятельная работа учащихся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Работа на уроке с использованием возможностей интерактивной доски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Уроки-презентации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Уроки с использованием цифровых носителей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pic>
        <p:nvPicPr>
          <p:cNvPr id="415" name="Picture 4" descr="I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2413080" y="2571840"/>
            <a:ext cx="1373040" cy="1401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I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6072120" y="228600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I:\Program Files\Microsoft Office\MEDIA\CAGCAT10\j0299171.wmf"/>
          <p:cNvPicPr/>
          <p:nvPr/>
        </p:nvPicPr>
        <p:blipFill>
          <a:blip r:embed="rId4"/>
          <a:stretch/>
        </p:blipFill>
        <p:spPr>
          <a:xfrm>
            <a:off x="8001000" y="5572080"/>
            <a:ext cx="907920" cy="1071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I:\Program Files\Microsoft Office\MEDIA\CAGCAT10\j0301252.wmf"/>
          <p:cNvPicPr/>
          <p:nvPr/>
        </p:nvPicPr>
        <p:blipFill>
          <a:blip r:embed="rId5"/>
          <a:stretch/>
        </p:blipFill>
        <p:spPr>
          <a:xfrm>
            <a:off x="3195720" y="5643720"/>
            <a:ext cx="1447560" cy="123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3" descr=""/>
          <p:cNvPicPr/>
          <p:nvPr/>
        </p:nvPicPr>
        <p:blipFill>
          <a:blip r:embed="rId1"/>
          <a:stretch/>
        </p:blipFill>
        <p:spPr>
          <a:xfrm>
            <a:off x="743040" y="237960"/>
            <a:ext cx="795024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«Скачивание» рефератов, докладов,</a:t>
            </a:r>
            <a:endParaRPr b="0" lang="en-US" sz="2700" spc="-1" strike="noStrike">
              <a:solidFill>
                <a:srgbClr val="4f271c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    </a:t>
            </a: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сообщений из Интернетисточников</a:t>
            </a:r>
            <a:endParaRPr b="0" lang="en-US" sz="27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Поиск материалов для подготовки к урокам- проектам, беседам, семинарам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Презентации учащихся по окончанию исследовательских работ ( отчеты)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Franklin Gothic Book"/>
              </a:rPr>
              <a:t>Обработка данных, полученных в результате эскперимента  с использованием компьютерных программ, оформление лабораторных и практических работ</a:t>
            </a:r>
            <a:endParaRPr b="0" lang="en-US" sz="20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9101160" cy="1689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«Плюсы»: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умение работать  с электронными цифровыми носителями; в системе Интернет, владеть навыками пользования компьютером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широкий спектр используемых материалов для подготовки  к урокам-проектам, конференциям, интегрированным урокам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«</a:t>
            </a: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Минусы»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механическое «скачивание»материала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неумение работать с учебником, вести записи в тетрад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отсутствие накопления личных знаний ученика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Franklin Gothic Book"/>
              </a:rPr>
              <a:t>Работа учащихся на уроке с использованием интерактивных технологий: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тестирование - промежуточное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                         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итоговое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работа в виртуальной химической лаборатории ( групповая или индивидуальная)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оформление лабораторного журнала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работа на интерактивной доске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«ПЛЮС»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умение работать с дополнительными источниками информаци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повышается интерес к предмету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повышается самооценка учащегося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4f271c"/>
                </a:solidFill>
                <a:latin typeface="Franklin Gothic Book"/>
              </a:rPr>
              <a:t>« минус»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не все имеют навыки работы с компьютером, необходимы уроки предварительной подготовк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 недостаточная оснащенность ПК учебных классов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4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информационно-коммуникационные технологии значительно расширяют возможность педагога в подготовке и проведении современного урока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дают широкие возможности в поиске научных данных, новых педагогических технологий, передового опыта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позволяют повысить познавательный интерес учащихся к изучаемому предмету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дают навыки работы с электронными цифровыми носителями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развивают абстрактное мышление и индуктивные навыки в процессе получения новых знаний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8800" spc="-1" strike="noStrike">
                <a:solidFill>
                  <a:srgbClr val="4f271c"/>
                </a:solidFill>
                <a:latin typeface="Franklin Gothic Book"/>
              </a:rPr>
              <a:t>Спасибо           за      внимание</a:t>
            </a:r>
            <a:r>
              <a:rPr b="0" lang="ru-RU" sz="4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6600" spc="-1" strike="noStrike">
                <a:solidFill>
                  <a:srgbClr val="4f271c"/>
                </a:solidFill>
                <a:latin typeface="Franklin Gothic Book"/>
              </a:rPr>
              <a:t>!</a:t>
            </a:r>
            <a:endParaRPr b="0" lang="en-US" sz="66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0:59:27Z</dcterms:created>
  <dc:creator>SERGEJ</dc:creator>
  <dc:description/>
  <dc:language>en-US</dc:language>
  <cp:lastModifiedBy>ПУ№58</cp:lastModifiedBy>
  <dcterms:modified xsi:type="dcterms:W3CDTF">2010-02-19T07:18:01Z</dcterms:modified>
  <cp:revision>63</cp:revision>
  <dc:subject/>
  <dc:title>Слайд 1</dc:title>
</cp:coreProperties>
</file>