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CFA-1A8D-441B-8E43-CE7253DBF8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B27-8851-49FE-BCD6-EC07F987E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F65-D401-463E-A028-63B3A21FA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707-391E-440A-A3BF-1A29426B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8A4-FA5E-4952-9940-93709389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5B5FF-747E-468E-BF4B-6FE82FB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F4AAF-28A7-4169-8B8E-5A31A9E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15947-4F2E-4B1A-B29A-ECFE03EB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702DC-D02E-4B44-B19E-C268DC0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75327-6CAD-4398-8294-CCD9D04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80231-6F8E-4AB3-866D-5C30F5C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A1292-A6F8-4E97-B31A-1C3EBAD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A74BD-0E97-40B2-B27A-B63EC7C7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7AB5-AA50-4F36-B327-F3A1975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640-8301-4067-97AD-F0FB8D93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FA4-67E9-4D50-B5D5-7881F159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7DAD-FBBC-423E-8601-5AAF588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C62-CB6B-446C-B709-482CB082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A0D-B304-4A0B-9D4F-FFDC0B8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DC1A-501A-4B34-A81C-4BA5E5D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289-25C8-4C14-B094-E5A40582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66B-71FF-4100-BCD5-96BD2BD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D984-9F62-4577-A6D8-454F6DF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A9B-DBE1-44DB-98BD-7990683C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8AC-BC1D-4F0B-A43E-BE77B7A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D168-5835-48F9-B80A-F41BC3A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C85-A070-49D2-8FC4-CF186BCE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24CD-DF21-44B0-9D97-0884F036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048-B9B4-45C0-9660-44E7DA4A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74D4-C922-4C1C-B438-3C43FBE0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AA92-2796-4F25-9BC1-902F631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E11F-F66D-462D-B6AD-104711F2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7BDD-BB92-44B1-B933-181AFA94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6B29-6C44-4B13-8458-BEFA16B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AD5-4659-4A7B-9C12-7F3016E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4E3F-85C2-4BAE-8F53-FE167D8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67A4-0919-44F1-95E7-DF25149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4C74-D366-4893-8CFA-0BABFCE2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710D-A644-40F7-A655-1195715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EA04-FD86-4C8D-A9A5-AE3E114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95A7-21FC-4B7F-87D2-9F86B3A5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5302-77F6-43BA-A0FF-06FF44F7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A7E4-191B-4D61-9C12-FD77280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3AFB-64DE-4D7A-9265-B941D7E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19EE-0404-4563-BB50-B8A720F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C1A-2A3D-4EF2-BB6A-40F46B75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F510-738C-4123-BA23-F804079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B27D-58FB-4068-B603-002446FD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4A22-46A8-4395-A2EC-11331CA9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F338-B761-44DE-A477-D197012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2F7A-950C-43A5-A45F-2011149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D01F-DAE7-41AC-9118-9383A73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2E00-F9F1-4999-AB95-A6052CD8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28A2-4647-4827-A795-AA8CBC15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4B87-C9C8-4B1E-B397-FC5C7299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D1EBA-FD58-4DEE-B4ED-59C2AC3F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CAE-035D-4DD4-9A9D-8E80819A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BCC4-4061-4F5C-A66A-780D4F8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2D68-75D9-41F0-A834-BF2F768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AA15-13B4-46EB-85D0-026130B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6A27-726A-4061-A99A-9FEFF84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C9B0-D3D5-40F8-9725-911007B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976ED-98E5-41A4-A9F1-BCDB80C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9E808-B12E-4EDF-8622-031C4DF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B4F2-F022-4C0D-9B51-EC39021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A2D4-23CD-45BF-891D-A27D861F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4E64-5C73-4773-A38D-1D1D81D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CF3-195C-43C3-9551-E974C355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569A-6659-48AD-AF27-34536D49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D0A1D-AE1B-4372-AB17-921A7B91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6848-8B44-46E1-BDFB-6DC19EB3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0D7E4-1F72-460D-8D9E-DAC72DE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3BE3-B0C8-4BFD-95F5-CCFD4DA8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71050-7FD6-4758-B5CC-70D5505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3A3AE-2E62-4421-916F-0A496C3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8138-3426-43DE-ABDA-6E798B73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C04E-40EA-488B-9CFC-BF4B9CA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F0B9-C93D-4F93-9435-0D6D9D0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13B-7B0C-4F9C-B554-0E6D6F6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3788-841A-4814-A0CF-C888A59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4F43-19C8-40BF-88F7-FB7E04E6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81F49-D466-4DC7-92FF-5672BEC1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58D3-E185-4592-A05C-BFCE6D36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DF27-5D01-4FD9-A50D-9A7E7C93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1FC54-4309-4100-8FB9-7837256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B287-A7E7-4024-9B9E-4AF2202A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86F4-7B45-4231-B1A2-B54AC858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6BDE-8422-4F5E-9E59-6B89E984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5306-4CB6-4E92-8E8F-94B460C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217-68EA-4F62-BF7F-FA9B159B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A23EC-D459-4C30-A054-4F03970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1417-4693-46D0-B63B-601DBFD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139C-2C0B-4A6E-9E19-4FE0CD5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8FF2A-A3B4-407A-9EB1-5FEA3151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BB96B-3C83-4D8C-B8FD-E4DEE733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44AC-D6DC-42F1-9811-23148B3B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9D54-6B1E-423E-85D5-71E06B0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3393-21B7-41C4-B140-AA52324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B6ADD-820A-42E3-BD78-906FF5E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F74B4-B23E-4F29-A481-46FBF3A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927-334E-4CB0-8A65-958A5DB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89E7F-7C63-43AD-BBC0-6072B5BF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D2F5-342E-4A76-850D-53A1FCF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3863-6FDC-4D4D-8451-AED08EC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C8A6-4EF7-4AD6-9B53-71F8DA2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9AD25-9B1D-4E9E-B232-7368CAA4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A6BF-A09C-4BDE-9ACA-B8780341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4783-F4FA-421C-9E01-E22F0CBD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1260F-1C9C-40AE-B93B-42777B7D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E4796-D521-41D2-BED8-F5A3657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18CB-B976-4AF0-B3A9-9C851D2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B46-0368-462A-B554-80F2E8E0A4AC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0694-D1BF-4236-A75E-5925763F4FE9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8D27-3212-438D-8BAB-B637E69303B9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EB63-FA34-4075-87DC-FEF7284CD781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11A-F722-4BB8-92FC-DAE265A6F23D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DE7E-DD73-4BE4-8974-F996E90F8F93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B92D-9EE5-44DF-8CDC-1659A7036FCC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B84E-6786-4AAD-9766-F04856DA7D5A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190-5893-43B4-900D-E4CB414396F8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566720" y="2206800"/>
            <a:ext cx="6986880" cy="3444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4429080"/>
            <a:ext cx="8458200" cy="21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2117"/>
                </a:solidFill>
                <a:latin typeface="Franklin Gothic Book"/>
              </a:rPr>
              <a:t>Разработала: преподаватель высшей категории Зеленкина Т.М</a:t>
            </a: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   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785960" y="357120"/>
            <a:ext cx="691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ЕВОЕ ГОСУДАРСТВЕННОЕ ОБРАЗОВАТЕЛЬНОЕ УЧРЕЖДЕНИЕ НАЧАЛЬНОГО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Е УЧИЛИЩЕ №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4857840" y="32148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804960" y="23760"/>
            <a:ext cx="7888320" cy="185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Подготовка преподавателя к уроку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Самостоятельная работа учащихся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Работа на уроке с использованием возможностей интерактивной доск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-презентаци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 с использованием цифровых носителей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pic>
        <p:nvPicPr>
          <p:cNvPr id="415" name="Picture 4" descr="I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2413080" y="2571840"/>
            <a:ext cx="1373040" cy="1401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I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6072120" y="228600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I:\Program Files\Microsoft Office\MEDIA\CAGCAT10\j0299171.wmf"/>
          <p:cNvPicPr/>
          <p:nvPr/>
        </p:nvPicPr>
        <p:blipFill>
          <a:blip r:embed="rId4"/>
          <a:stretch/>
        </p:blipFill>
        <p:spPr>
          <a:xfrm>
            <a:off x="8001000" y="5572080"/>
            <a:ext cx="90792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I:\Program Files\Microsoft Office\MEDIA\CAGCAT10\j0301252.wmf"/>
          <p:cNvPicPr/>
          <p:nvPr/>
        </p:nvPicPr>
        <p:blipFill>
          <a:blip r:embed="rId5"/>
          <a:stretch/>
        </p:blipFill>
        <p:spPr>
          <a:xfrm>
            <a:off x="3195720" y="5643720"/>
            <a:ext cx="1447560" cy="123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3" descr=""/>
          <p:cNvPicPr/>
          <p:nvPr/>
        </p:nvPicPr>
        <p:blipFill>
          <a:blip r:embed="rId1"/>
          <a:stretch/>
        </p:blipFill>
        <p:spPr>
          <a:xfrm>
            <a:off x="743040" y="237960"/>
            <a:ext cx="795024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«Скачивание» рефератов, докладов,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    </a:t>
            </a: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сообщений из Интернетисточников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оиск материалов для подготовки к урокам- проектам, беседам, семинарам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резентации учащихся по окончанию исследовательских работ ( отчеты)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Franklin Gothic Book"/>
              </a:rPr>
              <a:t>Обработка данных, полученных в результате эскперимента  с использованием компьютерных программ, оформление лабораторных и практических работ</a:t>
            </a:r>
            <a:endParaRPr b="0" lang="en-US" sz="20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9101160" cy="1689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ы»: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умение работать  с электронными цифровыми носителями; в системе Интернет, владеть навыками пользования компьютером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широкий спектр используемых материалов для подготовки  к урокам-проектам, конференциям, интегрированным урокам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«</a:t>
            </a: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Минусы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механическое «скачивание»материала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неумение работать с учебником, вести записи в тетрад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отсутствие накопления личных знаний ученика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Работа учащихся на уроке с использованием интерактивных технологий: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тестирование - промежуточно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                       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итоговое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в виртуальной химической лаборатории ( групповая или индивидуальная)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оформление лабораторного журнала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на интерактивной доск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умение работать с дополнительными источниками информаци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интерес к предмету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самооценка учащегося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« минус»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не все имеют навыки работы с компьютером, необходимы уроки предварительной подготовк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 недостаточная оснащенность ПК учебных классов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4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информационно-коммуникационные технологии значительно расширяют возможность педагога в подготовке и проведении современного урок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дают широкие возможности в поиске научных данных, новых педагогических технологий, передового опыт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позволяют повысить познавательный интерес учащихся к изучаемому предмету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дают навыки работы с электронными цифровыми носителями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развивают абстрактное мышление и индуктивные навыки в процессе получения новых знаний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8800" spc="-1" strike="noStrike">
                <a:solidFill>
                  <a:srgbClr val="4f271c"/>
                </a:solidFill>
                <a:latin typeface="Franklin Gothic Book"/>
              </a:rPr>
              <a:t>Спасибо           за      внимание</a:t>
            </a:r>
            <a:r>
              <a:rPr b="0" lang="ru-RU" sz="4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6600" spc="-1" strike="noStrike">
                <a:solidFill>
                  <a:srgbClr val="4f271c"/>
                </a:solidFill>
                <a:latin typeface="Franklin Gothic Book"/>
              </a:rPr>
              <a:t>!</a:t>
            </a:r>
            <a:endParaRPr b="0" lang="en-US" sz="66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0:59:27Z</dcterms:created>
  <dc:creator>SERGEJ</dc:creator>
  <dc:description/>
  <dc:language>en-US</dc:language>
  <cp:lastModifiedBy>ПУ№58</cp:lastModifiedBy>
  <dcterms:modified xsi:type="dcterms:W3CDTF">2010-02-19T07:18:01Z</dcterms:modified>
  <cp:revision>63</cp:revision>
  <dc:subject/>
  <dc:title>Слайд 1</dc:title>
</cp:coreProperties>
</file>