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F53C-3BD4-4D34-9C60-1A9A987B6CC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013B-5CCC-47C9-B931-67F335CB575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D9EF-0B02-43BE-96BB-A74C2F1C50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D7FEE-4201-4F74-96A1-CA3139E77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8D5B-7EC8-4F0C-941A-10B8D9005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66D8B-C514-4E37-A5D4-639EB91D9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4BD3F-6A47-40EE-A7A8-085DEEE58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44F50-CFE4-47AE-92EB-99433D438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A49EB-ECB7-4F44-8EC2-746767E69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C994A-0F97-4C37-9F58-5734FE089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E515-C966-4482-9D28-127D0E139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EB211-CC32-43E8-AAD7-E90A773D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F802C-24DD-40C7-9C2A-E3CAB3009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3599-0026-4ADA-8400-19620E4FD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3C20A-C064-46C5-AC27-EDAB6ED8A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13C7-379B-4DA3-AE3D-E5B03287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DBE8F-97E2-4F2A-8860-D7CFAD801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7ADEC-6984-4929-A4FE-45F04C03B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CD1C8-0621-4161-BDF5-558069B6A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955C7-18A4-4A65-8474-BEBE2123A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EEE8DDB-CA08-4779-9C27-A968D3CC8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6B3445-9385-428C-8D41-C0707BE7A6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EB3729-BE38-4712-9AE9-B79778B2B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D781C4-9E9B-4A3E-BBC0-F1049AAA8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DFCA6D-6565-424E-843E-2EE9C0EBA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C85F-A744-4000-A835-03E749D5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1136A5-65EB-42AE-BBCF-5ACAF21A7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A8DE03-4C0A-4495-8241-5801B0A98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91D967-2927-4DC2-9B08-7C3305063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AF4C30-4CAA-4CA9-889B-5C341CE49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432AAD-B7D3-4681-A051-4F859522A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AE3A39-E799-4B95-856A-B2367A658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DA2534F-A94C-41D5-865A-1CC419BC7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F9D62-E997-485D-8680-4DF36FB675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E5321-D92F-4289-BA2B-2A80DD140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D9B00-195A-4731-862B-8955D57525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C0E38-3CED-4E8F-B33F-6523CFF52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873BF8-E114-41CB-BE03-ACAF69207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31922-CAF2-4DB5-BD9E-76EA1BED4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462A5-AAE4-4F9C-B099-B4AA9B91F4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77344-0949-4A98-9A77-86AF44A9A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09CE3-E73B-4BE5-8257-D0FBC6B7A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819BB-1054-43DE-B970-EADA3995C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7DF50-AA2C-4A25-954C-37F6C14D0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B7D1D-2E26-4AB2-8218-6680FBF254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2817AE-3BEF-4BDE-A95D-F076C2223B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AD69D7-1EA9-497C-A86B-06B487CAF5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36BAE-9870-4FFF-BE33-39A47C36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9BB02C-9B1C-4DC8-93BF-EE8A49535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F395E6-7629-47A1-B6BE-A2474428A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460D9E-5DF3-4B30-9A56-A50EEFC19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8D3AA6-1AD9-47B0-8BCD-AEE41EB73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4416C3-AD74-4025-88FF-99E5CFEC7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A89AE6-8501-4445-912F-581D3B2D9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27EC08-6273-4768-8D4B-552C5E8CE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DE2588-B70C-4F45-852C-72D54080B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73854F-AA1F-4EFE-9B47-3CDB80C2A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3557F9-A304-49F3-B6DF-C49820D89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8171D-5B40-4D6F-8B15-C7319CD4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603774-0E33-4C42-A677-693E672EF9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D04AC21-AAFC-49A4-B3D5-3099851949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7B4727-ED2E-4812-BD4D-8F8143B0A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90A2B8-A50B-42A0-9C61-7B9BDE99E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B322F93-E654-4573-B5E2-AB3421875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4AD923-D51D-44BC-96EB-ACCC7B5ED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8A9878-0B4A-47C6-A8CC-0C300AE0E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EEB5AC0-05F0-47CA-BD2D-825B19A7B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8289308-18D9-4604-A1DE-7381DC93E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4E8795-1293-4C3B-A013-F206136A1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1DE3-C8AB-48A1-83C8-28A4F424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D9F7859-C5D3-4A93-A5DC-57574FBA9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0ED80E2-6145-444F-BBE0-ECACACCF1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E9B1295-A4D6-4959-8D11-3391FAC8DF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99DD27A-59CA-44DA-9144-A4D99EFCAE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F6F77C-4378-4903-91FE-A4168B81F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79C347-EACA-4895-8D38-FB3B96602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F453D8-2FB3-4369-A0F5-EA087DB41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E6F39C-D987-4310-ABB9-4F2875357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B3DEE1-F61F-4F6C-9DFA-04DBA143BC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8970FA-4488-4B3D-8C78-53E4CA3C9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5818-25DB-40C6-A692-EC2576C12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6A7FDD-DB36-453C-AEEE-CB9E044DE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DB6EC0-8DC7-4369-903E-914675A60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A45D2C-EE06-45FB-941F-88BDD13C0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FAF986-DDC8-4CA4-A348-696E07421F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5DC4939-620D-411B-8B34-F2BDF20FAE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415D-952B-46BA-A37A-0E3EB96B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9406-9A4D-4974-B874-B4FFC44AC03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1203-7ABB-4C84-9DDB-B2A4216B3FE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C0CD-6E27-4D8C-9D4C-9D4DB225B91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DB78-2040-42D5-858F-DC366AB2997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75B5-1694-41D3-ACE8-DD2EF9456D2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5201-BD5E-49FF-9EED-326FE7A1474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1141-984A-4B11-9F82-10F0E1A35CD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762120"/>
            <a:ext cx="8366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i="1" lang="ru-RU" sz="2700" spc="-1" strike="noStrike">
                <a:solidFill>
                  <a:srgbClr val="002060"/>
                </a:solidFill>
                <a:latin typeface="Century Schoolbook"/>
              </a:rPr>
              <a:t>                  </a:t>
            </a:r>
            <a:r>
              <a:rPr b="1" lang="ru-RU" sz="3200" spc="-1" strike="noStrike">
                <a:solidFill>
                  <a:srgbClr val="990000"/>
                </a:solidFill>
                <a:latin typeface="Times New Roman"/>
                <a:ea typeface="Times New Roman"/>
              </a:rPr>
              <a:t>Н. С. ЛЕСКОВ «ЛЕВША»</a:t>
            </a:r>
            <a:br>
              <a:rPr sz="3200"/>
            </a:br>
            <a:r>
              <a:rPr b="1" lang="ru-RU" sz="3200" spc="-1" strike="noStrike">
                <a:solidFill>
                  <a:srgbClr val="990000"/>
                </a:solidFill>
                <a:latin typeface="Times New Roman"/>
                <a:ea typeface="Times New Roman"/>
              </a:rPr>
              <a:t>                 ОБРАЗ ГЛАВНОГО ГЕРОЯ</a:t>
            </a:r>
            <a:br>
              <a:rPr sz="3200"/>
            </a:br>
            <a:br>
              <a:rPr sz="3200"/>
            </a:br>
            <a:endParaRPr b="0" lang="en-US" sz="3200" spc="-1" strike="noStrike">
              <a:solidFill>
                <a:srgbClr val="575f6d"/>
              </a:solidFill>
              <a:latin typeface="Century Schoolbook"/>
            </a:endParaRPr>
          </a:p>
        </p:txBody>
      </p:sp>
      <p:sp>
        <p:nvSpPr>
          <p:cNvPr id="359" name="Прямоугольник 2"/>
          <p:cNvSpPr/>
          <p:nvPr/>
        </p:nvSpPr>
        <p:spPr>
          <a:xfrm>
            <a:off x="609480" y="5105520"/>
            <a:ext cx="7696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Автор презентации:Тхазаплижев Идар, учащийся 6 класса</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 МОУСОШ №17 (г.Клин)</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Руководитель: Захарова Ирина Николаевна, </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учитель русского языка и литературы </a:t>
            </a:r>
            <a:endParaRPr b="0" lang="en-US" sz="1600" spc="-1" strike="noStrike">
              <a:solidFill>
                <a:srgbClr val="000000"/>
              </a:solidFill>
              <a:latin typeface="Times New Roman"/>
            </a:endParaRPr>
          </a:p>
        </p:txBody>
      </p:sp>
      <p:pic>
        <p:nvPicPr>
          <p:cNvPr id="360" name="Рисунок 4" descr="C:\Documents and Settings\Администратор\Рабочий стол\в инет\Иллюстрации\image013.jpg"/>
          <p:cNvPicPr/>
          <p:nvPr/>
        </p:nvPicPr>
        <p:blipFill>
          <a:blip r:embed="rId1"/>
          <a:stretch/>
        </p:blipFill>
        <p:spPr>
          <a:xfrm>
            <a:off x="2057400" y="1371600"/>
            <a:ext cx="4648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96960" y="1098720"/>
            <a:ext cx="7772400" cy="63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ХУДОЖЕСТВЕННЫЕ ОСОБЕННОСТИ</a:t>
            </a:r>
            <a:br>
              <a:rPr sz="3200"/>
            </a:br>
            <a:endParaRPr b="0" lang="en-US" sz="3200" spc="-1" strike="noStrike">
              <a:solidFill>
                <a:srgbClr val="575f6d"/>
              </a:solidFill>
              <a:latin typeface="Century Schoolbook"/>
            </a:endParaRPr>
          </a:p>
        </p:txBody>
      </p:sp>
      <p:sp>
        <p:nvSpPr>
          <p:cNvPr id="389" name="Rectangle 1"/>
          <p:cNvSpPr/>
          <p:nvPr/>
        </p:nvSpPr>
        <p:spPr>
          <a:xfrm>
            <a:off x="811080" y="1769400"/>
            <a:ext cx="754380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первых изданий посчитали, что вклад Лескова в создание повести минимален и что он якобы только пересказал легенду, которая ходила среди тульских мастеров. Лесков с этим мнением спорил и объяснял, что произведение практически полностью выдумано им: «Все, что есть чисто народного в «сказе о тульском левше и стальной блохе», заключается в следующей шутке или прибаутке: «англичане из стали блоху сделали, а наши туляки ее подковали да им назад отослали». Более ничего нет «о блохе», а о «левше», как о герое всей истории её и о выразителе русского народа, нет никаких народных сказов, и я считаю невозможным, что об нем кто-нибудь «давно слышал», потому что, — приходится признаться, — я весь этот рассказ сочинил в мае месяце прошлого года, и левша есть лицо мною выдуманно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817560"/>
            <a:ext cx="7696080" cy="120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ХУДОЖЕСТВЕННЫЕ ОСОБЕННОСТИ</a:t>
            </a:r>
            <a:br>
              <a:rPr sz="3600"/>
            </a:br>
            <a:endParaRPr b="0" lang="en-US" sz="3600" spc="-1" strike="noStrike">
              <a:solidFill>
                <a:srgbClr val="575f6d"/>
              </a:solidFill>
              <a:latin typeface="Century Schoolbook"/>
            </a:endParaRPr>
          </a:p>
        </p:txBody>
      </p:sp>
      <p:sp>
        <p:nvSpPr>
          <p:cNvPr id="391" name="Прямоугольник 2"/>
          <p:cNvSpPr/>
          <p:nvPr/>
        </p:nvSpPr>
        <p:spPr>
          <a:xfrm>
            <a:off x="747720" y="1752480"/>
            <a:ext cx="7620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 это пример русского сказа. Повествование выглядит как устный рассказ, в котором автор, незнакомый с иностранными словами, коверкает их самым неожиданным образом. Настоящее богатство произведения — это особый язык повести, который пересыпан каламбурами и словами, возникшими в фантазии писателя, своеобразной народной этимологией: </a:t>
            </a:r>
            <a:r>
              <a:rPr b="1" i="1" lang="ru-RU" sz="1800" spc="-1" strike="noStrike">
                <a:solidFill>
                  <a:srgbClr val="002060"/>
                </a:solidFill>
                <a:latin typeface="Times New Roman"/>
              </a:rPr>
              <a:t>нимфозория</a:t>
            </a:r>
            <a:r>
              <a:rPr b="1" lang="ru-RU" sz="1800" spc="-1" strike="noStrike">
                <a:solidFill>
                  <a:srgbClr val="002060"/>
                </a:solidFill>
                <a:latin typeface="Times New Roman"/>
              </a:rPr>
              <a:t>, </a:t>
            </a:r>
            <a:r>
              <a:rPr b="1" i="1" lang="ru-RU" sz="1800" spc="-1" strike="noStrike">
                <a:solidFill>
                  <a:srgbClr val="002060"/>
                </a:solidFill>
                <a:latin typeface="Times New Roman"/>
              </a:rPr>
              <a:t>мелкоскоп</a:t>
            </a:r>
            <a:r>
              <a:rPr b="1" lang="ru-RU" sz="1800" spc="-1" strike="noStrike">
                <a:solidFill>
                  <a:srgbClr val="002060"/>
                </a:solidFill>
                <a:latin typeface="Times New Roman"/>
              </a:rPr>
              <a:t>, </a:t>
            </a:r>
            <a:r>
              <a:rPr b="1" i="1" lang="ru-RU" sz="1800" spc="-1" strike="noStrike">
                <a:solidFill>
                  <a:srgbClr val="002060"/>
                </a:solidFill>
                <a:latin typeface="Times New Roman"/>
              </a:rPr>
              <a:t>клеветон</a:t>
            </a:r>
            <a:r>
              <a:rPr b="1" lang="ru-RU" sz="1800" spc="-1" strike="noStrike">
                <a:solidFill>
                  <a:srgbClr val="002060"/>
                </a:solidFill>
                <a:latin typeface="Times New Roman"/>
              </a:rPr>
              <a:t> и др.</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отмечали, что при всей внешней лубочности и гротеске в произведении Лескова отчётливо проступает национально-патриотическая тема, призыв к осознанию роли отдельно взятого человека в делах государственного масштаба. В своих последних словах умирающий Левша обращается к царю: «…у англичан ружья кирпичом не чистят. Пусть чтобы и у нас не чистили, а то, храни бог войны, они стрелять не годятс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49240" y="4952520"/>
            <a:ext cx="7467840" cy="129564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2060"/>
                </a:solidFill>
                <a:uFillTx/>
                <a:latin typeface="Times New Roman"/>
                <a:ea typeface="Times New Roman"/>
              </a:rPr>
              <a:t>ЛЕВША</a:t>
            </a:r>
            <a:r>
              <a:rPr b="1" lang="ru-RU" sz="1800" spc="-1" strike="noStrike">
                <a:solidFill>
                  <a:srgbClr val="002060"/>
                </a:solidFill>
                <a:latin typeface="Times New Roman"/>
                <a:ea typeface="Times New Roman"/>
              </a:rPr>
              <a:t> - ТАЛАНТЛИВЫЙ РУССКИЙ МАСТЕРОВОЙ, ОРУЖЕЙНИК.</a:t>
            </a:r>
            <a:br>
              <a:rPr sz="1800"/>
            </a:br>
            <a:r>
              <a:rPr b="1" lang="ru-RU" sz="18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1800" spc="-1" strike="noStrike">
              <a:solidFill>
                <a:srgbClr val="575f6d"/>
              </a:solidFill>
              <a:latin typeface="Century Schoolbook"/>
            </a:endParaRPr>
          </a:p>
        </p:txBody>
      </p:sp>
      <p:pic>
        <p:nvPicPr>
          <p:cNvPr id="393" name="Рисунок 1" descr=""/>
          <p:cNvPicPr/>
          <p:nvPr/>
        </p:nvPicPr>
        <p:blipFill>
          <a:blip r:embed="rId1"/>
          <a:stretch/>
        </p:blipFill>
        <p:spPr>
          <a:xfrm>
            <a:off x="1600200" y="1371600"/>
            <a:ext cx="2362320" cy="3657600"/>
          </a:xfrm>
          <a:prstGeom prst="rect">
            <a:avLst/>
          </a:prstGeom>
          <a:ln cap="sq" w="38160">
            <a:solidFill>
              <a:srgbClr val="000000"/>
            </a:solidFill>
            <a:miter/>
          </a:ln>
          <a:effectLst>
            <a:outerShdw dist="38183" dir="2700000" blurRad="0" rotWithShape="0">
              <a:srgbClr val="000000">
                <a:alpha val="43000"/>
              </a:srgbClr>
            </a:outerShdw>
          </a:effectLst>
        </p:spPr>
      </p:pic>
      <p:sp>
        <p:nvSpPr>
          <p:cNvPr id="394" name="Заголовок 1"/>
          <p:cNvSpPr/>
          <p:nvPr/>
        </p:nvSpPr>
        <p:spPr>
          <a:xfrm>
            <a:off x="696960" y="762120"/>
            <a:ext cx="7772400" cy="63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000000"/>
              </a:solidFill>
              <a:latin typeface="Times New Roman"/>
            </a:endParaRPr>
          </a:p>
        </p:txBody>
      </p:sp>
      <p:pic>
        <p:nvPicPr>
          <p:cNvPr id="395" name="Picture 2" descr="C:\Documents and Settings\User13-4.IPK0\Рабочий стол\марафон\Марафон десятый\Левша.jpeg"/>
          <p:cNvPicPr/>
          <p:nvPr/>
        </p:nvPicPr>
        <p:blipFill>
          <a:blip r:embed="rId2"/>
          <a:stretch/>
        </p:blipFill>
        <p:spPr>
          <a:xfrm>
            <a:off x="4952880" y="1371600"/>
            <a:ext cx="2743200" cy="3657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609480"/>
            <a:ext cx="6964560" cy="85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sp>
        <p:nvSpPr>
          <p:cNvPr id="397" name="Прямоугольник 3"/>
          <p:cNvSpPr/>
          <p:nvPr/>
        </p:nvSpPr>
        <p:spPr>
          <a:xfrm>
            <a:off x="838080" y="5181480"/>
            <a:ext cx="7467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Матвей Иванович Платов</a:t>
            </a:r>
            <a:r>
              <a:rPr b="1" lang="ru-RU" sz="2000" spc="-1" strike="noStrike">
                <a:solidFill>
                  <a:srgbClr val="002060"/>
                </a:solidFill>
                <a:latin typeface="Times New Roman"/>
              </a:rPr>
              <a:t> (1753 – 1818) – русский военный, граф, казачий атаман, генерал от кавалерии. Участвовал во всех войнах России конца </a:t>
            </a:r>
            <a:r>
              <a:rPr b="1" lang="en-US" sz="2000" spc="-1" strike="noStrike">
                <a:solidFill>
                  <a:srgbClr val="002060"/>
                </a:solidFill>
                <a:latin typeface="Times New Roman"/>
              </a:rPr>
              <a:t>XVIII –</a:t>
            </a:r>
            <a:r>
              <a:rPr b="1" lang="ru-RU" sz="2000" spc="-1" strike="noStrike">
                <a:solidFill>
                  <a:srgbClr val="002060"/>
                </a:solidFill>
                <a:latin typeface="Times New Roman"/>
              </a:rPr>
              <a:t> начала </a:t>
            </a:r>
            <a:r>
              <a:rPr b="1" lang="en-US" sz="2000" spc="-1" strike="noStrike">
                <a:solidFill>
                  <a:srgbClr val="002060"/>
                </a:solidFill>
                <a:latin typeface="Times New Roman"/>
              </a:rPr>
              <a:t>XIX</a:t>
            </a:r>
            <a:r>
              <a:rPr b="1" lang="ru-RU" sz="2000" spc="-1" strike="noStrike">
                <a:solidFill>
                  <a:srgbClr val="002060"/>
                </a:solidFill>
                <a:latin typeface="Times New Roman"/>
              </a:rPr>
              <a:t> века.</a:t>
            </a:r>
            <a:endParaRPr b="0" lang="en-US" sz="2000" spc="-1" strike="noStrike">
              <a:solidFill>
                <a:srgbClr val="000000"/>
              </a:solidFill>
              <a:latin typeface="Times New Roman"/>
            </a:endParaRPr>
          </a:p>
        </p:txBody>
      </p:sp>
      <p:pic>
        <p:nvPicPr>
          <p:cNvPr id="398" name="Рисунок 4" descr=""/>
          <p:cNvPicPr/>
          <p:nvPr/>
        </p:nvPicPr>
        <p:blipFill>
          <a:blip r:embed="rId1"/>
          <a:stretch/>
        </p:blipFill>
        <p:spPr>
          <a:xfrm>
            <a:off x="1374840" y="1447920"/>
            <a:ext cx="3174840" cy="3670200"/>
          </a:xfrm>
          <a:prstGeom prst="rect">
            <a:avLst/>
          </a:prstGeom>
          <a:ln w="0">
            <a:noFill/>
          </a:ln>
        </p:spPr>
      </p:pic>
      <p:pic>
        <p:nvPicPr>
          <p:cNvPr id="399" name="Рисунок 6" descr=""/>
          <p:cNvPicPr/>
          <p:nvPr/>
        </p:nvPicPr>
        <p:blipFill>
          <a:blip r:embed="rId2"/>
          <a:stretch/>
        </p:blipFill>
        <p:spPr>
          <a:xfrm>
            <a:off x="4952880" y="1447920"/>
            <a:ext cx="295128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Прямоугольник 2"/>
          <p:cNvSpPr/>
          <p:nvPr/>
        </p:nvSpPr>
        <p:spPr>
          <a:xfrm>
            <a:off x="3733920" y="2809800"/>
            <a:ext cx="45720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Александр I</a:t>
            </a:r>
            <a:r>
              <a:rPr b="1" lang="ru-RU" sz="2000" spc="-1" strike="noStrike">
                <a:solidFill>
                  <a:srgbClr val="002060"/>
                </a:solidFill>
                <a:latin typeface="Times New Roman"/>
              </a:rPr>
              <a:t> Павлович (1777 - 1825 ) - государь император и самодержец Всероссийский (с  марта 1801 года), старший сын императора Павла I и Марии Фёдоровны.</a:t>
            </a:r>
            <a:endParaRPr b="0" lang="en-US" sz="2000" spc="-1" strike="noStrike">
              <a:solidFill>
                <a:srgbClr val="000000"/>
              </a:solidFill>
              <a:latin typeface="Times New Roman"/>
            </a:endParaRPr>
          </a:p>
        </p:txBody>
      </p:sp>
      <p:sp>
        <p:nvSpPr>
          <p:cNvPr id="401" name="PlaceHolder 1"/>
          <p:cNvSpPr>
            <a:spLocks noGrp="1"/>
          </p:cNvSpPr>
          <p:nvPr>
            <p:ph type="title"/>
          </p:nvPr>
        </p:nvSpPr>
        <p:spPr>
          <a:xfrm>
            <a:off x="1095120" y="81720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ОСНОВНЫЕ ПЕРСОНАЖИ</a:t>
            </a:r>
            <a:endParaRPr b="0" lang="en-US" sz="3200" spc="-1" strike="noStrike">
              <a:solidFill>
                <a:srgbClr val="575f6d"/>
              </a:solidFill>
              <a:latin typeface="Century Schoolbook"/>
            </a:endParaRPr>
          </a:p>
        </p:txBody>
      </p:sp>
      <p:pic>
        <p:nvPicPr>
          <p:cNvPr id="402" name="Рисунок 4" descr=""/>
          <p:cNvPicPr/>
          <p:nvPr/>
        </p:nvPicPr>
        <p:blipFill>
          <a:blip r:embed="rId1"/>
          <a:stretch/>
        </p:blipFill>
        <p:spPr>
          <a:xfrm>
            <a:off x="1066680" y="1905120"/>
            <a:ext cx="2514600" cy="344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68580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pic>
        <p:nvPicPr>
          <p:cNvPr id="404" name="Рисунок 1" descr=""/>
          <p:cNvPicPr/>
          <p:nvPr/>
        </p:nvPicPr>
        <p:blipFill>
          <a:blip r:embed="rId1"/>
          <a:stretch/>
        </p:blipFill>
        <p:spPr>
          <a:xfrm>
            <a:off x="947880" y="1752480"/>
            <a:ext cx="3319200" cy="4280040"/>
          </a:xfrm>
          <a:prstGeom prst="rect">
            <a:avLst/>
          </a:prstGeom>
          <a:ln w="0">
            <a:noFill/>
          </a:ln>
        </p:spPr>
      </p:pic>
      <p:sp>
        <p:nvSpPr>
          <p:cNvPr id="405" name="Прямоугольник 3"/>
          <p:cNvSpPr/>
          <p:nvPr/>
        </p:nvSpPr>
        <p:spPr>
          <a:xfrm>
            <a:off x="4419720" y="2819520"/>
            <a:ext cx="38401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rPr>
              <a:t>Никола́й I (1796</a:t>
            </a:r>
            <a:r>
              <a:rPr b="1" lang="en-US" sz="2000" spc="-1" strike="noStrike">
                <a:solidFill>
                  <a:srgbClr val="002060"/>
                </a:solidFill>
                <a:latin typeface="Times New Roman"/>
              </a:rPr>
              <a:t> - </a:t>
            </a:r>
            <a:r>
              <a:rPr b="1" lang="ru-RU" sz="2000" spc="-1" strike="noStrike">
                <a:solidFill>
                  <a:srgbClr val="002060"/>
                </a:solidFill>
                <a:latin typeface="Times New Roman"/>
              </a:rPr>
              <a:t>1855)</a:t>
            </a:r>
            <a:r>
              <a:rPr b="1" lang="en-US" sz="2000" spc="-1" strike="noStrike">
                <a:solidFill>
                  <a:srgbClr val="002060"/>
                </a:solidFill>
                <a:latin typeface="Times New Roman"/>
              </a:rPr>
              <a:t> -</a:t>
            </a:r>
            <a:r>
              <a:rPr b="1" lang="ru-RU" sz="2000" spc="-1" strike="noStrike">
                <a:solidFill>
                  <a:srgbClr val="002060"/>
                </a:solidFill>
                <a:latin typeface="Times New Roman"/>
              </a:rPr>
              <a:t> император Всероссийский с декабря 1825 по февраль 1855 года, царь Польский и великий князь Финляндский.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5264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5400" spc="-1" strike="noStrike">
                <a:solidFill>
                  <a:srgbClr val="c00000"/>
                </a:solidFill>
                <a:latin typeface="Century Schoolbook"/>
              </a:rPr>
              <a:t>ОБРАЗ ГЕРОЯ</a:t>
            </a:r>
            <a:endParaRPr b="0" lang="en-US" sz="5400" spc="-1" strike="noStrike">
              <a:solidFill>
                <a:srgbClr val="575f6d"/>
              </a:solidFill>
              <a:latin typeface="Century Schoolbook"/>
            </a:endParaRPr>
          </a:p>
        </p:txBody>
      </p:sp>
      <p:pic>
        <p:nvPicPr>
          <p:cNvPr id="407" name="Рисунок 3" descr=""/>
          <p:cNvPicPr/>
          <p:nvPr/>
        </p:nvPicPr>
        <p:blipFill>
          <a:blip r:embed="rId1"/>
          <a:stretch/>
        </p:blipFill>
        <p:spPr>
          <a:xfrm>
            <a:off x="228600" y="838080"/>
            <a:ext cx="4233960" cy="5761080"/>
          </a:xfrm>
          <a:prstGeom prst="rect">
            <a:avLst/>
          </a:prstGeom>
          <a:ln w="0">
            <a:noFill/>
          </a:ln>
        </p:spPr>
      </p:pic>
      <p:sp>
        <p:nvSpPr>
          <p:cNvPr id="408" name="TextBox 5"/>
          <p:cNvSpPr/>
          <p:nvPr/>
        </p:nvSpPr>
        <p:spPr>
          <a:xfrm>
            <a:off x="4876920" y="1828800"/>
            <a:ext cx="3504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Times New Roman"/>
                <a:ea typeface="Times New Roman"/>
              </a:rPr>
              <a:t>Левша</a:t>
            </a:r>
            <a:r>
              <a:rPr b="1" lang="ru-RU" sz="2400" spc="-1" strike="noStrike">
                <a:solidFill>
                  <a:srgbClr val="002060"/>
                </a:solidFill>
                <a:latin typeface="Times New Roman"/>
                <a:ea typeface="Times New Roman"/>
              </a:rPr>
              <a:t> - талантливый русский мастеровой, оружейник.</a:t>
            </a:r>
            <a:br>
              <a:rPr sz="2400"/>
            </a:br>
            <a:r>
              <a:rPr b="1" lang="ru-RU" sz="24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0000"/>
                </a:solidFill>
                <a:latin typeface="Times New Roman"/>
                <a:ea typeface="Times New Roman"/>
              </a:rPr>
              <a:t>СПАСИБО ЗА ВНИМАНИЕ!</a:t>
            </a:r>
            <a:endParaRPr b="0" lang="en-US" sz="5400" spc="-1" strike="noStrike">
              <a:solidFill>
                <a:srgbClr val="575f6d"/>
              </a:solidFill>
              <a:latin typeface="Century Schoolbook"/>
            </a:endParaRPr>
          </a:p>
        </p:txBody>
      </p:sp>
      <p:pic>
        <p:nvPicPr>
          <p:cNvPr id="410" name="Рисунок 1" descr=""/>
          <p:cNvPicPr/>
          <p:nvPr/>
        </p:nvPicPr>
        <p:blipFill>
          <a:blip r:embed="rId1"/>
          <a:stretch/>
        </p:blipFill>
        <p:spPr>
          <a:xfrm>
            <a:off x="2971800" y="2706840"/>
            <a:ext cx="3200400" cy="346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609120"/>
            <a:ext cx="769608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БИОГРАФИЧЕСКАЯ СПРАВКА ОБ АВТОРЕ</a:t>
            </a:r>
            <a:endParaRPr b="0" lang="en-US" sz="3200" spc="-1" strike="noStrike">
              <a:solidFill>
                <a:srgbClr val="575f6d"/>
              </a:solidFill>
              <a:latin typeface="Century Schoolbook"/>
            </a:endParaRPr>
          </a:p>
        </p:txBody>
      </p:sp>
      <p:sp>
        <p:nvSpPr>
          <p:cNvPr id="362" name="Прямоугольник 1"/>
          <p:cNvSpPr/>
          <p:nvPr/>
        </p:nvSpPr>
        <p:spPr>
          <a:xfrm>
            <a:off x="4351320" y="1517760"/>
            <a:ext cx="3962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Николай Семенович Лесков родился 4 (16) февраля 1831 года в селе Горохове, Орловской губернии, в семье небогатого судейского служащего.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Первоначальное образование Лесков получил в доме богатых родственников. В 1841 году он поступил в орловскую гимназию, но учился неровно и в 1846 году, не выдержав переводных экзаменов, начал службу писцом в Орловской палате уголовного суда. В 1857 году  Лесков стал служить в частной компании дальнего родственника, англичанина А. Я. Шкотта. </a:t>
            </a:r>
            <a:endParaRPr b="0" lang="en-US" sz="1800" spc="-1" strike="noStrike">
              <a:solidFill>
                <a:srgbClr val="000000"/>
              </a:solidFill>
              <a:latin typeface="Times New Roman"/>
            </a:endParaRPr>
          </a:p>
        </p:txBody>
      </p:sp>
      <p:pic>
        <p:nvPicPr>
          <p:cNvPr id="363" name="Рисунок 2" descr=""/>
          <p:cNvPicPr/>
          <p:nvPr/>
        </p:nvPicPr>
        <p:blipFill>
          <a:blip r:embed="rId1"/>
          <a:stretch/>
        </p:blipFill>
        <p:spPr>
          <a:xfrm>
            <a:off x="863640" y="1643040"/>
            <a:ext cx="3367080" cy="4102200"/>
          </a:xfrm>
          <a:prstGeom prst="rect">
            <a:avLst/>
          </a:prstGeom>
          <a:ln w="0">
            <a:noFill/>
          </a:ln>
        </p:spPr>
      </p:pic>
      <p:sp>
        <p:nvSpPr>
          <p:cNvPr id="364" name="Прямоугольник 3"/>
          <p:cNvSpPr/>
          <p:nvPr/>
        </p:nvSpPr>
        <p:spPr>
          <a:xfrm>
            <a:off x="871560" y="574056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ортрет Н. Лескова работы В. Серов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609480"/>
            <a:ext cx="696456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ИТЕРАТУРНАЯ ДЕЯТЕЛЬНОСТЬ</a:t>
            </a:r>
            <a:endParaRPr b="0" lang="en-US" sz="3600" spc="-1" strike="noStrike">
              <a:solidFill>
                <a:srgbClr val="575f6d"/>
              </a:solidFill>
              <a:latin typeface="Century Schoolbook"/>
            </a:endParaRPr>
          </a:p>
        </p:txBody>
      </p:sp>
      <p:sp>
        <p:nvSpPr>
          <p:cNvPr id="366" name="Прямоугольник 2"/>
          <p:cNvSpPr/>
          <p:nvPr/>
        </p:nvSpPr>
        <p:spPr>
          <a:xfrm>
            <a:off x="3200400" y="1590840"/>
            <a:ext cx="50292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В 1864 году вышел в свет роман Лескова «Некуда», в 1870 году  - роман «На ножах».  Лучшие произведения «Леди Макбет Мценского уезда» (1865 г.), «Воительница» (1866 г.), хроники «Старые годы в селе Плодомасове» (1869 г.) и «Захудалый род» (1874 г.) прошли почти незамеченными.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Лесков вошёл в литературу как знаток духовной и бытовой жизни народа. Он был блестящим стилизатором, имитировавшим язык 18 века (цикл рассказов «Заметки неизвестного», 1884 г.), владевшим эзоповской манерой («Заячий ремиз», 1894 г.), любившим красочный стиль (легенда «Прекрасная Аза», 1887 г.), умевшим писать и изысканно просто (рассказ «Под Рождество обидели», 1890 г.).       </a:t>
            </a:r>
            <a:endParaRPr b="0" lang="en-US" sz="1800" spc="-1" strike="noStrike">
              <a:solidFill>
                <a:srgbClr val="000000"/>
              </a:solidFill>
              <a:latin typeface="Times New Roman"/>
            </a:endParaRPr>
          </a:p>
        </p:txBody>
      </p:sp>
      <p:pic>
        <p:nvPicPr>
          <p:cNvPr id="367" name="Рисунок 3" descr=""/>
          <p:cNvPicPr/>
          <p:nvPr/>
        </p:nvPicPr>
        <p:blipFill>
          <a:blip r:embed="rId1"/>
          <a:stretch/>
        </p:blipFill>
        <p:spPr>
          <a:xfrm>
            <a:off x="-1600200" y="2743200"/>
            <a:ext cx="495288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3960" y="762120"/>
            <a:ext cx="769608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НАРОДНАЯ ПАМЯТЬ</a:t>
            </a:r>
            <a:endParaRPr b="0" lang="en-US" sz="3600" spc="-1" strike="noStrike">
              <a:solidFill>
                <a:srgbClr val="575f6d"/>
              </a:solidFill>
              <a:latin typeface="Century Schoolbook"/>
            </a:endParaRPr>
          </a:p>
        </p:txBody>
      </p:sp>
      <p:sp>
        <p:nvSpPr>
          <p:cNvPr id="369" name="Прямоугольник 1"/>
          <p:cNvSpPr/>
          <p:nvPr/>
        </p:nvSpPr>
        <p:spPr>
          <a:xfrm>
            <a:off x="833400" y="5257800"/>
            <a:ext cx="7467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следние пять лет жизни Лесков тяжело страдал от постоянных приступов астмы. 21 февраля (5 марта) 1825 года писатель скончался. Похоронен Н. С. Лесков  на Волковом  кладбище в Санкт-Петербурге. </a:t>
            </a:r>
            <a:endParaRPr b="0" lang="en-US" sz="1800" spc="-1" strike="noStrike">
              <a:solidFill>
                <a:srgbClr val="000000"/>
              </a:solidFill>
              <a:latin typeface="Times New Roman"/>
            </a:endParaRPr>
          </a:p>
        </p:txBody>
      </p:sp>
      <p:pic>
        <p:nvPicPr>
          <p:cNvPr id="370" name="Рисунок 2" descr=""/>
          <p:cNvPicPr/>
          <p:nvPr/>
        </p:nvPicPr>
        <p:blipFill>
          <a:blip r:embed="rId1"/>
          <a:stretch/>
        </p:blipFill>
        <p:spPr>
          <a:xfrm>
            <a:off x="1143000" y="1690560"/>
            <a:ext cx="2209680" cy="2946600"/>
          </a:xfrm>
          <a:prstGeom prst="rect">
            <a:avLst/>
          </a:prstGeom>
          <a:ln w="0">
            <a:noFill/>
          </a:ln>
        </p:spPr>
      </p:pic>
      <p:sp>
        <p:nvSpPr>
          <p:cNvPr id="371" name="Прямоугольник 4"/>
          <p:cNvSpPr/>
          <p:nvPr/>
        </p:nvSpPr>
        <p:spPr>
          <a:xfrm>
            <a:off x="762120" y="4687920"/>
            <a:ext cx="2971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Могила Н. С. Лесков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а Волковом кладбище .</a:t>
            </a:r>
            <a:endParaRPr b="0" lang="en-US" sz="1400" spc="-1" strike="noStrike">
              <a:solidFill>
                <a:srgbClr val="000000"/>
              </a:solidFill>
              <a:latin typeface="Times New Roman"/>
            </a:endParaRPr>
          </a:p>
        </p:txBody>
      </p:sp>
      <p:sp>
        <p:nvSpPr>
          <p:cNvPr id="372" name="Прямоугольник 5"/>
          <p:cNvSpPr/>
          <p:nvPr/>
        </p:nvSpPr>
        <p:spPr>
          <a:xfrm>
            <a:off x="4387320" y="4687920"/>
            <a:ext cx="274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амятник Н. С. Лескову в Орле.</a:t>
            </a:r>
            <a:endParaRPr b="0" lang="en-US" sz="1400" spc="-1" strike="noStrike">
              <a:solidFill>
                <a:srgbClr val="000000"/>
              </a:solidFill>
              <a:latin typeface="Times New Roman"/>
            </a:endParaRPr>
          </a:p>
        </p:txBody>
      </p:sp>
      <p:pic>
        <p:nvPicPr>
          <p:cNvPr id="373" name="Рисунок 7" descr=""/>
          <p:cNvPicPr/>
          <p:nvPr/>
        </p:nvPicPr>
        <p:blipFill>
          <a:blip r:embed="rId2"/>
          <a:stretch/>
        </p:blipFill>
        <p:spPr>
          <a:xfrm>
            <a:off x="3795840" y="1690560"/>
            <a:ext cx="4184640" cy="296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18960" y="456840"/>
            <a:ext cx="6964200" cy="896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ЕВШЕ» Н. С. ЛЕСКОВА </a:t>
            </a:r>
            <a:endParaRPr b="0" lang="en-US" sz="3600" spc="-1" strike="noStrike">
              <a:solidFill>
                <a:srgbClr val="575f6d"/>
              </a:solidFill>
              <a:latin typeface="Century Schoolbook"/>
            </a:endParaRPr>
          </a:p>
        </p:txBody>
      </p:sp>
      <p:pic>
        <p:nvPicPr>
          <p:cNvPr id="375" name="Рисунок 2" descr=""/>
          <p:cNvPicPr/>
          <p:nvPr/>
        </p:nvPicPr>
        <p:blipFill>
          <a:blip r:embed="rId1"/>
          <a:stretch/>
        </p:blipFill>
        <p:spPr>
          <a:xfrm>
            <a:off x="3284640" y="1600200"/>
            <a:ext cx="2592360" cy="4133880"/>
          </a:xfrm>
          <a:prstGeom prst="rect">
            <a:avLst/>
          </a:prstGeom>
          <a:ln w="0">
            <a:noFill/>
          </a:ln>
        </p:spPr>
      </p:pic>
      <p:sp>
        <p:nvSpPr>
          <p:cNvPr id="376" name="Прямоугольник 3"/>
          <p:cNvSpPr/>
          <p:nvPr/>
        </p:nvSpPr>
        <p:spPr>
          <a:xfrm>
            <a:off x="3103920" y="5867280"/>
            <a:ext cx="327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 С. Лесков «Левша», обложка книги.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89000" y="609480"/>
            <a:ext cx="698832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ИСТОРИЯ СОЗДАНИЯ «ЛЕВШИ»</a:t>
            </a:r>
            <a:endParaRPr b="0" lang="en-US" sz="3600" spc="-1" strike="noStrike">
              <a:solidFill>
                <a:srgbClr val="575f6d"/>
              </a:solidFill>
              <a:latin typeface="Century Schoolbook"/>
            </a:endParaRPr>
          </a:p>
        </p:txBody>
      </p:sp>
      <p:sp>
        <p:nvSpPr>
          <p:cNvPr id="378" name="Прямоугольник 2"/>
          <p:cNvSpPr/>
          <p:nvPr/>
        </p:nvSpPr>
        <p:spPr>
          <a:xfrm>
            <a:off x="819000" y="1600200"/>
            <a:ext cx="7467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была создана и впервые напечатана в журнале «Русь» в 1881 году под заглавием «Сказ о тульском косом Левше и о стальной блохе (Цеховая легенда)». Отдельным изданием произведение вышло в 1882 год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ри публикации в «Руси», а также в отдельном издании повесть сопровождалась предисловием:</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Я не могу сказать, где именно родилась первая заводка баснословия о стальной блохе, то есть завелась ли она в Туле, на Ижме или в Сестрорецке, но, очевидно, она пошла из одного из этих мест. Во всяком случае сказ о стальной блохе есть специально оружейничья легенда, и она выражает собою гордость русских мастеров ружейного дела. В ней изображается борьба наших мастеров с английскими мастерами, из которой наши вышли победоносно и англичан совершенно посрамили и унизили... Я записал эту легенду в Сестрорецке по тамошнему сказу от старого оружейника...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54144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0" name="Прямоугольник 2"/>
          <p:cNvSpPr/>
          <p:nvPr/>
        </p:nvSpPr>
        <p:spPr>
          <a:xfrm>
            <a:off x="762120" y="3211560"/>
            <a:ext cx="7619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В сюжете произведения смешаны выдуманные и реальные исторические события. Император</a:t>
            </a:r>
            <a:r>
              <a:rPr b="1" lang="en-US" sz="1800" spc="-1" strike="noStrike">
                <a:solidFill>
                  <a:srgbClr val="002060"/>
                </a:solidFill>
                <a:latin typeface="Times New Roman"/>
              </a:rPr>
              <a:t> </a:t>
            </a:r>
            <a:r>
              <a:rPr b="1" lang="ru-RU" sz="1800" spc="-1" strike="noStrike">
                <a:solidFill>
                  <a:srgbClr val="002060"/>
                </a:solidFill>
                <a:latin typeface="Times New Roman"/>
              </a:rPr>
              <a:t>Александр I во время поездки по Европе посетил Англию, где в числе прочих диковинок ему продемонстрировали крошечную стальную блоху, которая могла танцевать. Император приобрёл блоху и привёз её в Петербург. Спустя несколько лет, после смерти Александра I и восшествия на престол Николая I, блоху нашли среди вещей покойного государя и долго не могли понять, в чём смысл «нимфозории». Атаман Платов, который сопровождал Александра I в поездке по Европе, появился во дворце и объяснил, что это образец искусства английских механиков, но тут же заметил, что русские мастера своё дело знают не хуже.</a:t>
            </a:r>
            <a:endParaRPr b="0" lang="en-US" sz="1800" spc="-1" strike="noStrike">
              <a:solidFill>
                <a:srgbClr val="000000"/>
              </a:solidFill>
              <a:latin typeface="Times New Roman"/>
            </a:endParaRPr>
          </a:p>
        </p:txBody>
      </p:sp>
      <p:pic>
        <p:nvPicPr>
          <p:cNvPr id="381" name="Рисунок 1" descr=""/>
          <p:cNvPicPr/>
          <p:nvPr/>
        </p:nvPicPr>
        <p:blipFill>
          <a:blip r:embed="rId1"/>
          <a:stretch/>
        </p:blipFill>
        <p:spPr>
          <a:xfrm>
            <a:off x="3313080" y="1295280"/>
            <a:ext cx="2630520" cy="19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88720" y="68544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СЮЖЕТ «ЛЕВШИ» </a:t>
            </a:r>
            <a:endParaRPr b="0" lang="en-US" sz="3200" spc="-1" strike="noStrike">
              <a:solidFill>
                <a:srgbClr val="575f6d"/>
              </a:solidFill>
              <a:latin typeface="Century Schoolbook"/>
            </a:endParaRPr>
          </a:p>
        </p:txBody>
      </p:sp>
      <p:sp>
        <p:nvSpPr>
          <p:cNvPr id="383" name="Прямоугольник 2"/>
          <p:cNvSpPr/>
          <p:nvPr/>
        </p:nvSpPr>
        <p:spPr>
          <a:xfrm>
            <a:off x="838080" y="1258920"/>
            <a:ext cx="7516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Николай I поручил Платову </a:t>
            </a:r>
            <a:r>
              <a:rPr b="1" lang="en-US" sz="1800" spc="-1" strike="noStrike">
                <a:solidFill>
                  <a:srgbClr val="002060"/>
                </a:solidFill>
                <a:latin typeface="Times New Roman"/>
              </a:rPr>
              <a:t>c</a:t>
            </a:r>
            <a:r>
              <a:rPr b="1" lang="ru-RU" sz="1800" spc="-1" strike="noStrike">
                <a:solidFill>
                  <a:srgbClr val="002060"/>
                </a:solidFill>
                <a:latin typeface="Times New Roman"/>
              </a:rPr>
              <a:t>реди местных умельцев найти тех, кто мог бы достойно ответить на вызов англичан.</a:t>
            </a:r>
            <a:r>
              <a:rPr b="1" lang="en-US" sz="1800" spc="-1" strike="noStrike">
                <a:solidFill>
                  <a:srgbClr val="002060"/>
                </a:solidFill>
                <a:latin typeface="Times New Roman"/>
              </a:rPr>
              <a:t> </a:t>
            </a:r>
            <a:r>
              <a:rPr b="1" lang="ru-RU" sz="1800" spc="-1" strike="noStrike">
                <a:solidFill>
                  <a:srgbClr val="002060"/>
                </a:solidFill>
                <a:latin typeface="Times New Roman"/>
              </a:rPr>
              <a:t>Будучи в Туле, Платов вызвал троих самых известных местных оружейников во главе с мастеровым Левша, показал им блоху и попросил придумать нечто такое, что превзошло бы замысел англичан. Возвращаясь на обратном пути, Платов заглянул в Тулу, где троица продолжала работать над заказом. Забрав Левшу с неоконченной, как считал Платов, работой, он отправился в Петербург. В столице выяснилось, что туляки превзошли англичан, подковав блоху.</a:t>
            </a:r>
            <a:endParaRPr b="0" lang="en-US" sz="1800" spc="-1" strike="noStrike">
              <a:solidFill>
                <a:srgbClr val="000000"/>
              </a:solidFill>
              <a:latin typeface="Times New Roman"/>
            </a:endParaRPr>
          </a:p>
        </p:txBody>
      </p:sp>
      <p:pic>
        <p:nvPicPr>
          <p:cNvPr id="384" name="Рисунок 4" descr=""/>
          <p:cNvPicPr/>
          <p:nvPr/>
        </p:nvPicPr>
        <p:blipFill>
          <a:blip r:embed="rId1"/>
          <a:stretch/>
        </p:blipFill>
        <p:spPr>
          <a:xfrm>
            <a:off x="2779560" y="3813120"/>
            <a:ext cx="3657600" cy="242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88960"/>
            <a:ext cx="7315200" cy="706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6" name="Прямоугольник 2"/>
          <p:cNvSpPr/>
          <p:nvPr/>
        </p:nvSpPr>
        <p:spPr>
          <a:xfrm>
            <a:off x="3621240" y="1395360"/>
            <a:ext cx="473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Государь и весь двор были восхищены работой тульских мастеров. Государь распорядился отослать подкованную блоху в Англию, чтобы показать умение русских мастеров, и также послать Левшу. В Англии Левше продемонстрировали местные заводы, организацию работы и предложили остаться в Европе, но он отказался. На обратном пути в Россию Левша держал с полшкипером пари, по которому они должны были перепить друг друга. По приезде в Петербург Левша, не получив вовремя медицинскую помощь, скончался в простонародной больнице, где «неведомого сословия всех умирать принимают». </a:t>
            </a:r>
            <a:endParaRPr b="0" lang="en-US" sz="1800" spc="-1" strike="noStrike">
              <a:solidFill>
                <a:srgbClr val="000000"/>
              </a:solidFill>
              <a:latin typeface="Times New Roman"/>
            </a:endParaRPr>
          </a:p>
        </p:txBody>
      </p:sp>
      <p:pic>
        <p:nvPicPr>
          <p:cNvPr id="387" name="Рисунок 3" descr=""/>
          <p:cNvPicPr/>
          <p:nvPr/>
        </p:nvPicPr>
        <p:blipFill>
          <a:blip r:embed="rId1"/>
          <a:stretch/>
        </p:blipFill>
        <p:spPr>
          <a:xfrm>
            <a:off x="838080" y="1724040"/>
            <a:ext cx="27100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dc:creator>
  <dc:description/>
  <dc:language>en-US</dc:language>
  <cp:lastModifiedBy>Ira</cp:lastModifiedBy>
  <dcterms:modified xsi:type="dcterms:W3CDTF">2013-12-09T13:25:43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