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FCC-156D-4807-9C0C-D11DD875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876-6F41-4525-A171-BB3318FC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AF8-61D4-4BC3-BE50-61136228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115-768B-4312-9FE6-E00DA715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46E-AA24-404D-AE0B-C23A870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D08-23FD-4D08-97D6-42D9E14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A15-E300-4F0B-ABBC-D670313F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A60-D995-47F2-8DD0-242C074B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536-D27D-4F93-8CA6-9EAFAD0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CFA-3A52-4D1F-AA94-70D8023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424-82BE-4330-A6C2-F7FF34B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123-C71D-4774-83A3-5AB022DC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009900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2DA1-12CF-4D04-8D18-AC1B8CD74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ртрет лермонтова"/>
          <p:cNvPicPr/>
          <p:nvPr/>
        </p:nvPicPr>
        <p:blipFill>
          <a:blip r:embed="rId1"/>
          <a:stretch/>
        </p:blipFill>
        <p:spPr>
          <a:xfrm>
            <a:off x="826920" y="836640"/>
            <a:ext cx="3635640" cy="272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35600" y="182520"/>
            <a:ext cx="869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№2 к презентации для занятий по РСВ и ФП в 8 к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еме «М.Ю. Лермон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02080" y="5656320"/>
            <a:ext cx="54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сурдопедаго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охина Еле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504680" y="2276640"/>
            <a:ext cx="441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.Ю.Лермонт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ятиго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Домик Лермонтова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554720" y="22971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ик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Здесь лермонтов и Столыпин встречали гостей"/>
          <p:cNvPicPr/>
          <p:nvPr/>
        </p:nvPicPr>
        <p:blipFill>
          <a:blip r:embed="rId2"/>
          <a:stretch/>
        </p:blipFill>
        <p:spPr>
          <a:xfrm>
            <a:off x="3995640" y="335772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22360" y="481644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Налево - буф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орожные сундуки в приёмной"/>
          <p:cNvPicPr/>
          <p:nvPr/>
        </p:nvPicPr>
        <p:blipFill>
          <a:blip r:embed="rId1"/>
          <a:stretch/>
        </p:blipFill>
        <p:spPr>
          <a:xfrm>
            <a:off x="468360" y="69228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29280" y="136044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ёмная. Дорожные сунд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омната Столыпина"/>
          <p:cNvPicPr/>
          <p:nvPr/>
        </p:nvPicPr>
        <p:blipFill>
          <a:blip r:embed="rId2"/>
          <a:stretch/>
        </p:blipFill>
        <p:spPr>
          <a:xfrm>
            <a:off x="4859280" y="285264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98880" y="6021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мната Столыпина-дяди Лермонтова"/>
          <p:cNvPicPr/>
          <p:nvPr/>
        </p:nvPicPr>
        <p:blipFill>
          <a:blip r:embed="rId1"/>
          <a:stretch/>
        </p:blipFill>
        <p:spPr>
          <a:xfrm>
            <a:off x="324000" y="47628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914720" y="236844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ната Столыпи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яди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тол, за которым работал Лермонтов"/>
          <p:cNvPicPr/>
          <p:nvPr/>
        </p:nvPicPr>
        <p:blipFill>
          <a:blip r:embed="rId2"/>
          <a:stretch/>
        </p:blipFill>
        <p:spPr>
          <a:xfrm>
            <a:off x="4716360" y="3429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20" y="479736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, за которым работал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Лермонтовская половина"/>
          <p:cNvPicPr/>
          <p:nvPr/>
        </p:nvPicPr>
        <p:blipFill>
          <a:blip r:embed="rId1"/>
          <a:stretch/>
        </p:blipFill>
        <p:spPr>
          <a:xfrm>
            <a:off x="468360" y="26028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13440" y="328464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ская половина до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тол и кресло Лермонтова"/>
          <p:cNvPicPr/>
          <p:nvPr/>
        </p:nvPicPr>
        <p:blipFill>
          <a:blip r:embed="rId2"/>
          <a:stretch/>
        </p:blipFill>
        <p:spPr>
          <a:xfrm>
            <a:off x="5219640" y="1268280"/>
            <a:ext cx="34196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295600" y="76500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 и кресло 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Сени"/>
          <p:cNvPicPr/>
          <p:nvPr/>
        </p:nvPicPr>
        <p:blipFill>
          <a:blip r:embed="rId3"/>
          <a:stretch/>
        </p:blipFill>
        <p:spPr>
          <a:xfrm>
            <a:off x="1042920" y="382428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5490000" y="5897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Экспозиция в доме Верзилиных"/>
          <p:cNvPicPr/>
          <p:nvPr/>
        </p:nvPicPr>
        <p:blipFill>
          <a:blip r:embed="rId1"/>
          <a:stretch/>
        </p:blipFill>
        <p:spPr>
          <a:xfrm>
            <a:off x="539640" y="47628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130360" y="8571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зиция в доме Верзили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_563"/>
          <p:cNvPicPr/>
          <p:nvPr/>
        </p:nvPicPr>
        <p:blipFill>
          <a:blip r:embed="rId2"/>
          <a:stretch/>
        </p:blipFill>
        <p:spPr>
          <a:xfrm>
            <a:off x="5148360" y="1989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f_564"/>
          <p:cNvPicPr/>
          <p:nvPr/>
        </p:nvPicPr>
        <p:blipFill>
          <a:blip r:embed="rId3"/>
          <a:stretch/>
        </p:blipFill>
        <p:spPr>
          <a:xfrm>
            <a:off x="1042920" y="357336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223600" y="515772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й комнате был выз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уэль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48:56Z</dcterms:created>
  <dc:creator>Администратор</dc:creator>
  <dc:description/>
  <dc:language>en-US</dc:language>
  <cp:lastModifiedBy>Коля</cp:lastModifiedBy>
  <dcterms:modified xsi:type="dcterms:W3CDTF">2013-04-28T13:50:05Z</dcterms:modified>
  <cp:revision>5</cp:revision>
  <dc:subject/>
  <dc:title>Слайд 1</dc:title>
</cp:coreProperties>
</file>