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40CD-7084-4266-BEF9-4B28DD87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6BF-A84A-4CDD-88EA-3C241A15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9D62-F1C0-46CB-904F-37CD58E5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D554-BD38-4072-A41A-961ED354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58E-6180-43E9-A040-67C5E154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52C-CEDC-4F4C-8ED2-F3F8B552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3B5-75BE-4B55-83A5-81FD1C8E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AC95-AB31-4857-8806-1CB14155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99B2-68DD-41D1-863D-3D421F8F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381-9B69-4D28-9973-DA9395CA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105B-69B0-4385-B84E-3C1D4D0E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A32-A8B5-4B5B-AC27-FC0D0274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009900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2EA7-97D3-497C-A5A7-BD169298F1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Портрет лермонтова"/>
          <p:cNvPicPr/>
          <p:nvPr/>
        </p:nvPicPr>
        <p:blipFill>
          <a:blip r:embed="rId1"/>
          <a:stretch/>
        </p:blipFill>
        <p:spPr>
          <a:xfrm>
            <a:off x="826920" y="836640"/>
            <a:ext cx="3635640" cy="2727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435600" y="182520"/>
            <a:ext cx="869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ожение №2 к презентации для занятий по РСВ и ФП в 8 к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теме «М.Ю. Лермонт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802080" y="5656320"/>
            <a:ext cx="540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 сурдопедагог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охина Елена Геннад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504680" y="2276640"/>
            <a:ext cx="4415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-муз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.Ю.Лермонто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Пятигорс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Домик Лермонтова"/>
          <p:cNvPicPr/>
          <p:nvPr/>
        </p:nvPicPr>
        <p:blipFill>
          <a:blip r:embed="rId1"/>
          <a:stretch/>
        </p:blipFill>
        <p:spPr>
          <a:xfrm>
            <a:off x="539640" y="40464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554720" y="229716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ик Лермонт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Здесь лермонтов и Столыпин встречали гостей"/>
          <p:cNvPicPr/>
          <p:nvPr/>
        </p:nvPicPr>
        <p:blipFill>
          <a:blip r:embed="rId2"/>
          <a:stretch/>
        </p:blipFill>
        <p:spPr>
          <a:xfrm>
            <a:off x="3995640" y="3357720"/>
            <a:ext cx="4140360" cy="3105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522360" y="481644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ёмная. Налево - буф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Дорожные сундуки в приёмной"/>
          <p:cNvPicPr/>
          <p:nvPr/>
        </p:nvPicPr>
        <p:blipFill>
          <a:blip r:embed="rId1"/>
          <a:stretch/>
        </p:blipFill>
        <p:spPr>
          <a:xfrm>
            <a:off x="468360" y="692280"/>
            <a:ext cx="3887640" cy="291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129280" y="136044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ёмная. Дорожные сунду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Комната Столыпина"/>
          <p:cNvPicPr/>
          <p:nvPr/>
        </p:nvPicPr>
        <p:blipFill>
          <a:blip r:embed="rId2"/>
          <a:stretch/>
        </p:blipFill>
        <p:spPr>
          <a:xfrm>
            <a:off x="4859280" y="2852640"/>
            <a:ext cx="4105440" cy="30798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398880" y="602136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ната Столыпина-дяди Лермонт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Комната Столыпина-дяди Лермонтова"/>
          <p:cNvPicPr/>
          <p:nvPr/>
        </p:nvPicPr>
        <p:blipFill>
          <a:blip r:embed="rId1"/>
          <a:stretch/>
        </p:blipFill>
        <p:spPr>
          <a:xfrm>
            <a:off x="324000" y="476280"/>
            <a:ext cx="4284360" cy="3213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4914720" y="2368440"/>
            <a:ext cx="25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ната Столыпин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яди Лермонт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Стол, за которым работал Лермонтов"/>
          <p:cNvPicPr/>
          <p:nvPr/>
        </p:nvPicPr>
        <p:blipFill>
          <a:blip r:embed="rId2"/>
          <a:stretch/>
        </p:blipFill>
        <p:spPr>
          <a:xfrm>
            <a:off x="4716360" y="342900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2520" y="4797360"/>
            <a:ext cx="45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л, за которым работал Лермо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Лермонтовская половина"/>
          <p:cNvPicPr/>
          <p:nvPr/>
        </p:nvPicPr>
        <p:blipFill>
          <a:blip r:embed="rId1"/>
          <a:stretch/>
        </p:blipFill>
        <p:spPr>
          <a:xfrm>
            <a:off x="468360" y="260280"/>
            <a:ext cx="3744720" cy="2809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13440" y="328464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рмонтовская половина до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Стол и кресло Лермонтова"/>
          <p:cNvPicPr/>
          <p:nvPr/>
        </p:nvPicPr>
        <p:blipFill>
          <a:blip r:embed="rId2"/>
          <a:stretch/>
        </p:blipFill>
        <p:spPr>
          <a:xfrm>
            <a:off x="5219640" y="1268280"/>
            <a:ext cx="3419640" cy="2565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5295600" y="76500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л и кресло Лермонт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Сени"/>
          <p:cNvPicPr/>
          <p:nvPr/>
        </p:nvPicPr>
        <p:blipFill>
          <a:blip r:embed="rId3"/>
          <a:stretch/>
        </p:blipFill>
        <p:spPr>
          <a:xfrm>
            <a:off x="1042920" y="382428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5490000" y="58975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Экспозиция в доме Верзилиных"/>
          <p:cNvPicPr/>
          <p:nvPr/>
        </p:nvPicPr>
        <p:blipFill>
          <a:blip r:embed="rId1"/>
          <a:stretch/>
        </p:blipFill>
        <p:spPr>
          <a:xfrm>
            <a:off x="539640" y="47628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5130360" y="857160"/>
            <a:ext cx="39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позиция в доме Верзили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f_563"/>
          <p:cNvPicPr/>
          <p:nvPr/>
        </p:nvPicPr>
        <p:blipFill>
          <a:blip r:embed="rId2"/>
          <a:stretch/>
        </p:blipFill>
        <p:spPr>
          <a:xfrm>
            <a:off x="5148360" y="1989000"/>
            <a:ext cx="3779640" cy="283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f_564"/>
          <p:cNvPicPr/>
          <p:nvPr/>
        </p:nvPicPr>
        <p:blipFill>
          <a:blip r:embed="rId3"/>
          <a:stretch/>
        </p:blipFill>
        <p:spPr>
          <a:xfrm>
            <a:off x="1042920" y="3573360"/>
            <a:ext cx="3995640" cy="2997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5223600" y="5157720"/>
            <a:ext cx="34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й комнате был выз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уэль Лермо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48:56Z</dcterms:created>
  <dc:creator>Администратор</dc:creator>
  <dc:description/>
  <dc:language>en-US</dc:language>
  <cp:lastModifiedBy>Коля</cp:lastModifiedBy>
  <dcterms:modified xsi:type="dcterms:W3CDTF">2013-04-28T13:50:05Z</dcterms:modified>
  <cp:revision>5</cp:revision>
  <dc:subject/>
  <dc:title>Слайд 1</dc:title>
</cp:coreProperties>
</file>