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6E1-2EF4-490D-B1D1-4BBA20C5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5B6-C9C1-4AEE-BDBA-9420EBA8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EC9-0D91-4942-A1F4-6A6E3FE2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5DB-E23D-4CEB-A9DB-320DD0A5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8B7-9044-4201-B250-F41B0B2A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BBC-CA68-4BF5-B134-93A55A63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EED-5A1E-42E9-B042-EBBB32EC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B91-7ADE-42D6-ACB8-9F1BDFDE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C59-69B4-4AC0-BE1E-FB8E66DF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DAE-0F5A-4394-90FF-4A55B88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9BD-812E-4612-9E5F-E1F9CC91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411-807C-4049-BF3F-136D8593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009900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B5AD-06B3-4C1E-BAB7-E8C5DE6A3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ортрет лермонтова"/>
          <p:cNvPicPr/>
          <p:nvPr/>
        </p:nvPicPr>
        <p:blipFill>
          <a:blip r:embed="rId1"/>
          <a:stretch/>
        </p:blipFill>
        <p:spPr>
          <a:xfrm>
            <a:off x="826920" y="836640"/>
            <a:ext cx="3635640" cy="2727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35600" y="182520"/>
            <a:ext cx="869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№2 к презентации для занятий по РСВ и ФП в 8 к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еме «М.Ю. Лермон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802080" y="5656320"/>
            <a:ext cx="54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сурдопедаго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охина Елена Генн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504680" y="2276640"/>
            <a:ext cx="441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-муз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.Ю.Лермонт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ятигорс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Домик Лермонтова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554720" y="22971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ик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Здесь лермонтов и Столыпин встречали гостей"/>
          <p:cNvPicPr/>
          <p:nvPr/>
        </p:nvPicPr>
        <p:blipFill>
          <a:blip r:embed="rId2"/>
          <a:stretch/>
        </p:blipFill>
        <p:spPr>
          <a:xfrm>
            <a:off x="3995640" y="3357720"/>
            <a:ext cx="4140360" cy="310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22360" y="481644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ёмная. Налево - буф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Дорожные сундуки в приёмной"/>
          <p:cNvPicPr/>
          <p:nvPr/>
        </p:nvPicPr>
        <p:blipFill>
          <a:blip r:embed="rId1"/>
          <a:stretch/>
        </p:blipFill>
        <p:spPr>
          <a:xfrm>
            <a:off x="468360" y="69228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129280" y="136044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ёмная. Дорожные сунду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Комната Столыпина"/>
          <p:cNvPicPr/>
          <p:nvPr/>
        </p:nvPicPr>
        <p:blipFill>
          <a:blip r:embed="rId2"/>
          <a:stretch/>
        </p:blipFill>
        <p:spPr>
          <a:xfrm>
            <a:off x="4859280" y="285264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98880" y="602136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ната Столыпина-дяди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омната Столыпина-дяди Лермонтова"/>
          <p:cNvPicPr/>
          <p:nvPr/>
        </p:nvPicPr>
        <p:blipFill>
          <a:blip r:embed="rId1"/>
          <a:stretch/>
        </p:blipFill>
        <p:spPr>
          <a:xfrm>
            <a:off x="324000" y="476280"/>
            <a:ext cx="428436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914720" y="236844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ната Столыпи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яди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Стол, за которым работал Лермонтов"/>
          <p:cNvPicPr/>
          <p:nvPr/>
        </p:nvPicPr>
        <p:blipFill>
          <a:blip r:embed="rId2"/>
          <a:stretch/>
        </p:blipFill>
        <p:spPr>
          <a:xfrm>
            <a:off x="4716360" y="342900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20" y="4797360"/>
            <a:ext cx="45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, за которым работал Лермо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Лермонтовская половина"/>
          <p:cNvPicPr/>
          <p:nvPr/>
        </p:nvPicPr>
        <p:blipFill>
          <a:blip r:embed="rId1"/>
          <a:stretch/>
        </p:blipFill>
        <p:spPr>
          <a:xfrm>
            <a:off x="468360" y="26028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13440" y="328464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ская половина до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Стол и кресло Лермонтова"/>
          <p:cNvPicPr/>
          <p:nvPr/>
        </p:nvPicPr>
        <p:blipFill>
          <a:blip r:embed="rId2"/>
          <a:stretch/>
        </p:blipFill>
        <p:spPr>
          <a:xfrm>
            <a:off x="5219640" y="1268280"/>
            <a:ext cx="3419640" cy="2565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295600" y="76500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 и кресло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Сени"/>
          <p:cNvPicPr/>
          <p:nvPr/>
        </p:nvPicPr>
        <p:blipFill>
          <a:blip r:embed="rId3"/>
          <a:stretch/>
        </p:blipFill>
        <p:spPr>
          <a:xfrm>
            <a:off x="1042920" y="382428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5490000" y="58975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Экспозиция в доме Верзилиных"/>
          <p:cNvPicPr/>
          <p:nvPr/>
        </p:nvPicPr>
        <p:blipFill>
          <a:blip r:embed="rId1"/>
          <a:stretch/>
        </p:blipFill>
        <p:spPr>
          <a:xfrm>
            <a:off x="539640" y="47628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130360" y="8571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озиция в доме Верзили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f_563"/>
          <p:cNvPicPr/>
          <p:nvPr/>
        </p:nvPicPr>
        <p:blipFill>
          <a:blip r:embed="rId2"/>
          <a:stretch/>
        </p:blipFill>
        <p:spPr>
          <a:xfrm>
            <a:off x="5148360" y="198900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f_564"/>
          <p:cNvPicPr/>
          <p:nvPr/>
        </p:nvPicPr>
        <p:blipFill>
          <a:blip r:embed="rId3"/>
          <a:stretch/>
        </p:blipFill>
        <p:spPr>
          <a:xfrm>
            <a:off x="1042920" y="3573360"/>
            <a:ext cx="3995640" cy="2997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5223600" y="5157720"/>
            <a:ext cx="34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й комнате был выз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уэль Лермо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48:56Z</dcterms:created>
  <dc:creator>Администратор</dc:creator>
  <dc:description/>
  <dc:language>en-US</dc:language>
  <cp:lastModifiedBy>Коля</cp:lastModifiedBy>
  <dcterms:modified xsi:type="dcterms:W3CDTF">2013-04-28T13:50:05Z</dcterms:modified>
  <cp:revision>5</cp:revision>
  <dc:subject/>
  <dc:title>Слайд 1</dc:title>
</cp:coreProperties>
</file>