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0" y="914400"/>
            <a:ext cx="100774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939960"/>
            <a:ext cx="100774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125244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0" y="15922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19288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0" y="22669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260496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0" y="29401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0" y="327960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Line 10"/>
          <p:cNvSpPr/>
          <p:nvPr/>
        </p:nvSpPr>
        <p:spPr>
          <a:xfrm>
            <a:off x="0" y="361944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Line 11"/>
          <p:cNvSpPr/>
          <p:nvPr/>
        </p:nvSpPr>
        <p:spPr>
          <a:xfrm>
            <a:off x="0" y="395460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2"/>
          <p:cNvSpPr/>
          <p:nvPr/>
        </p:nvSpPr>
        <p:spPr>
          <a:xfrm>
            <a:off x="0" y="429264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Line 13"/>
          <p:cNvSpPr/>
          <p:nvPr/>
        </p:nvSpPr>
        <p:spPr>
          <a:xfrm>
            <a:off x="0" y="46324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Line 14"/>
          <p:cNvSpPr/>
          <p:nvPr/>
        </p:nvSpPr>
        <p:spPr>
          <a:xfrm>
            <a:off x="0" y="49705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Line 15"/>
          <p:cNvSpPr/>
          <p:nvPr/>
        </p:nvSpPr>
        <p:spPr>
          <a:xfrm>
            <a:off x="0" y="53071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Line 16"/>
          <p:cNvSpPr/>
          <p:nvPr/>
        </p:nvSpPr>
        <p:spPr>
          <a:xfrm>
            <a:off x="0" y="564516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Line 17"/>
          <p:cNvSpPr/>
          <p:nvPr/>
        </p:nvSpPr>
        <p:spPr>
          <a:xfrm>
            <a:off x="0" y="598320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Line 18"/>
          <p:cNvSpPr/>
          <p:nvPr/>
        </p:nvSpPr>
        <p:spPr>
          <a:xfrm>
            <a:off x="0" y="631980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Line 19"/>
          <p:cNvSpPr/>
          <p:nvPr/>
        </p:nvSpPr>
        <p:spPr>
          <a:xfrm>
            <a:off x="0" y="665784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Line 20"/>
          <p:cNvSpPr/>
          <p:nvPr/>
        </p:nvSpPr>
        <p:spPr>
          <a:xfrm>
            <a:off x="0" y="69976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Line 21"/>
          <p:cNvSpPr/>
          <p:nvPr/>
        </p:nvSpPr>
        <p:spPr>
          <a:xfrm>
            <a:off x="0" y="733284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" name="Group 22"/>
          <p:cNvGrpSpPr/>
          <p:nvPr/>
        </p:nvGrpSpPr>
        <p:grpSpPr>
          <a:xfrm>
            <a:off x="503280" y="1717560"/>
            <a:ext cx="301320" cy="280800"/>
            <a:chOff x="503280" y="1717560"/>
            <a:chExt cx="301320" cy="280800"/>
          </a:xfrm>
        </p:grpSpPr>
        <p:sp>
          <p:nvSpPr>
            <p:cNvPr id="22" name="Oval 23"/>
            <p:cNvSpPr/>
            <p:nvPr/>
          </p:nvSpPr>
          <p:spPr>
            <a:xfrm>
              <a:off x="503280" y="1734840"/>
              <a:ext cx="28440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4"/>
            <p:cNvSpPr/>
            <p:nvPr/>
          </p:nvSpPr>
          <p:spPr>
            <a:xfrm>
              <a:off x="520200" y="1717560"/>
              <a:ext cx="284400" cy="2620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Group 25"/>
          <p:cNvGrpSpPr/>
          <p:nvPr/>
        </p:nvGrpSpPr>
        <p:grpSpPr>
          <a:xfrm>
            <a:off x="503280" y="5580000"/>
            <a:ext cx="301320" cy="279000"/>
            <a:chOff x="503280" y="5580000"/>
            <a:chExt cx="301320" cy="279000"/>
          </a:xfrm>
        </p:grpSpPr>
        <p:sp>
          <p:nvSpPr>
            <p:cNvPr id="25" name="Oval 26"/>
            <p:cNvSpPr/>
            <p:nvPr/>
          </p:nvSpPr>
          <p:spPr>
            <a:xfrm>
              <a:off x="503280" y="5595480"/>
              <a:ext cx="28440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520200" y="5580000"/>
              <a:ext cx="284400" cy="261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649440" y="971640"/>
            <a:ext cx="93596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Родительское собрание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«Мотивация учебной деятельности учащихся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и создание условий для ее реализаци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0520" indent="-287280" algn="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0520" indent="-287280" algn="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0520" indent="-287280" algn="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0520" indent="-287280" algn="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Учение, лишенное всякого интереса и взятое только силой принуждения убивает в ученике охоту к овладению знаниями. Приохотить ребенка к учению гораздо более достойная задача, чем приневолит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287280" algn="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. Д. Уши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287280" algn="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287280" algn="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287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287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611600" y="5923080"/>
            <a:ext cx="4572000" cy="9144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педагог-организатор Валиева З.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03280" y="301680"/>
            <a:ext cx="9067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00"/>
                </a:solidFill>
                <a:latin typeface="Times New Roman"/>
              </a:rPr>
              <a:t>Анкета для родите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62120" y="1279440"/>
            <a:ext cx="449244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кета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учеником считаете вы своего ребенка (с высоким, средним, низким уровнем способностей к учению)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Как часто вы бываете в школе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40720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Как вы относитесь к учебе ребенк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итаю, что это его де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живаю неудачи, радуюсь его успех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казываю помощь при подготовке домашних зад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уществляю контроль за результатом об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503280" y="-44280"/>
            <a:ext cx="906768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Для формирования положительной мотивации к учению родителям нужно опираться на следующие советы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0328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ресоваться делами, учёбой ребё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ощь при выполнении домашних заданий должна быть в форме совета, не подавлять самостоятельность и инициатив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11344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яснять ребёнку, что его неудачи в учёбе – это недостаток приложенных усилий, что он что-то недоучил, не доработа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ще хвалить детей за их успехи, тем самым давать стимул двигаться даль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503280" y="-36360"/>
            <a:ext cx="90676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лияние успеха на жизнедеятельность шко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936720" y="1768320"/>
            <a:ext cx="896616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и ждут и общекультурного развития, и внимание к их личностному и социальному росту, надеются на взаимопонимание со стороны учителей и признания 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пехов и достижений. Главным для нас в этих исследованиях является внутренний мир ребенка как целостное явление, в котором невозможно "разорвать" эмоции и разум, воспитание и обучение, дом и школу, друзей по класс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570960" y="3494160"/>
            <a:ext cx="4608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0" y="0"/>
            <a:ext cx="1008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b84700"/>
                </a:solidFill>
                <a:latin typeface="Times New Roman"/>
              </a:rPr>
              <a:t>Оценка школьниками своих собственных учебных результат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50328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47640" y="2627280"/>
          <a:ext cx="8856720" cy="3036960"/>
        </p:xfrm>
        <a:graphic>
          <a:graphicData uri="http://schemas.openxmlformats.org/drawingml/2006/table">
            <a:tbl>
              <a:tblPr/>
              <a:tblGrid>
                <a:gridCol w="5764320"/>
                <a:gridCol w="3092400"/>
              </a:tblGrid>
              <a:tr h="63180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волен вполн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+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64764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сегд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+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103824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часто бываю собой не доволе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+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7192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е это безразличн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1"/>
          <p:cNvSpPr/>
          <p:nvPr/>
        </p:nvSpPr>
        <p:spPr>
          <a:xfrm>
            <a:off x="181080" y="826920"/>
            <a:ext cx="989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прос был проведен в  школе 12.12.11г. принимали участие 37 учеников (2-3,4) 5-11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36720" y="178920"/>
            <a:ext cx="9144000" cy="69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Обратим внимание, что по-настоящему безразличных к своим успехам всего д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человека. Исходя из этого, правильнее говорить о том, что они часто 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хотят учить то, что им предлагается. Не удивительно, что время от времен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ребята  демонстрируют отвращение к учебе. Именно поэтому они выше все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ценят учителя, умеющего вести урок интересно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Весьма довольных также не так уж много, десять человек. Это те ребят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которые хорошо адаптированы к школе и ее требованиям, не переживают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пустяк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Основная же часть, …………….., относится к своим успех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критически. Это в определенной степени радует. Значительная часть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ощущает недовольство эпизодически, есть и ученики, у которых это быв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довольно часто (……….. человек). Последняя группа нуждается в помощ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классного руководителя, тех учителей, предметы которых вызывают у ребя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какие-то труд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Недовольство копится постепенно. Мнение школьников о том, что мешает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что помогает их успешной деятельности в школе, очень интересны. То, ч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дети эмоционально реагируют на свои успехи и неудачи, мы знаем, посмотри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как они объясняют их. С этой целью был проведен опрос, позволяющий выяв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помех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омехи успешной учеб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60360" y="1065240"/>
          <a:ext cx="9360000" cy="6097680"/>
        </p:xfrm>
        <a:graphic>
          <a:graphicData uri="http://schemas.openxmlformats.org/drawingml/2006/table">
            <a:tbl>
              <a:tblPr/>
              <a:tblGrid>
                <a:gridCol w="7201080"/>
                <a:gridCol w="215892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азбросанность интересов    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азвлечения (игры, дискоте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омашние проблемы           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ереальность выполнения всех домашних заданий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тсутствие интереса к отдельным предметам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ои интересы преобладают над школьными заданиями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 меня часто бывает плохое настроение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70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умаю, не все предметы нужно учить серьезно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о моих успехов никому нет дела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21"/>
          <p:cNvSpPr/>
          <p:nvPr/>
        </p:nvSpPr>
        <p:spPr>
          <a:xfrm>
            <a:off x="511344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108000"/>
            <a:ext cx="906624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Помехи успешной учеб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36720" y="1493640"/>
            <a:ext cx="86328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вным мотивом у большинства человек  является отсутствие интереса к отдельным предметам. Значительная группа учащихся имеет важный стимул к учебе – интерес (разбросанность интересов, наличие какого-нибудь собственного интереса). Безразличие взрослых к успехам школьников выделили  отдельные ученики.    Такое положение наблюдается в среднем звене. В старших классах  школьники считают, что есть достаточно большой перечень обстоятельств, которые могут изменить их отношение к учебе в лучшую сторон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503280" y="301680"/>
            <a:ext cx="9067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Факторы, способствующие успешной учеб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03280" y="1260360"/>
          <a:ext cx="9039240" cy="5950080"/>
        </p:xfrm>
        <a:graphic>
          <a:graphicData uri="http://schemas.openxmlformats.org/drawingml/2006/table">
            <a:tbl>
              <a:tblPr/>
              <a:tblGrid>
                <a:gridCol w="7273800"/>
                <a:gridCol w="1765440"/>
              </a:tblGrid>
              <a:tr h="103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удет возможность свободного выбора глубины изучения некоторых предме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103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тношения между учениками и учителями будут носить более свободный характер.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103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величится количество предметов, которые будут      готовить к реальной жизни.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Если буду уверен, что тот, кто лучше учится, будет  лучше ж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 школе всегда можно найти взрослого человека, который поможет мне решить мои личные проблемы.   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103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ы будем не просто заучивать материал, а что-то делать самостоятельно.          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21" name="Text Box 15"/>
          <p:cNvSpPr/>
          <p:nvPr/>
        </p:nvSpPr>
        <p:spPr>
          <a:xfrm>
            <a:off x="511344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36720" y="1186920"/>
            <a:ext cx="8632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ым мотивом у ……… человек  является отсутствие интереса к отдельным предметам. Значительная группа учащихся имеет важный стимул к учебе – интерес (разбросанность интересов, наличие какого-нибудь собственного интереса). Безразличие взрослых к успехам школьников выделили …. челов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положение наблюдается в среднем звене. В старших классах школьники считают, что есть достаточно большой перечень обстоятельств, которые могут изменить их отношение к учебе в лучшую сторон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503280" y="0"/>
            <a:ext cx="9067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СТРОЕНИЕ, С КОТОРЫМ ДЕТИ ИДУТ В ШКО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565200"/>
          <a:ext cx="10080720" cy="7080120"/>
        </p:xfrm>
        <a:graphic>
          <a:graphicData uri="http://schemas.openxmlformats.org/drawingml/2006/table">
            <a:tbl>
              <a:tblPr/>
              <a:tblGrid>
                <a:gridCol w="5616720"/>
                <a:gridCol w="1439640"/>
                <a:gridCol w="1297080"/>
                <a:gridCol w="1727280"/>
              </a:tblGrid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част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едк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 опасением, что не выучил урок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 удовольстви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60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 радостью, что встречу друз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60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 желанием получить новые зн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69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 опасением встретить вредного  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оюсь не справиться с контрольн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Иду потому, что так над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 тревогой, ведь встреча с личным  враг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69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чеба меня тяготит, портит         настро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60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не безразлич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47"/>
          <p:cNvSpPr/>
          <p:nvPr/>
        </p:nvSpPr>
        <p:spPr>
          <a:xfrm>
            <a:off x="511344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725400" y="250920"/>
            <a:ext cx="906804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Что же такое мотивация? От чего она зависи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чему один ребенок учится с радость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 другой - с безразличием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тивация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о внутренняя психологическая характеристика личности, которая находит выражение во внешних проявлениях, в отношении человека к окружающему миру, различным видам деятельности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без мотива или со слабым мотивом либо не осуществляется вообще, либо оказывается крайне неустойчивой. От того, как чувствует себя ученик в определенной ситуации, зависит объем усилий, которые он прилагает в своей учебе.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этому важно, чтобы весь процесс обучения вызывал у ребенка интенсивное и внутреннее побуждение к знаниям, напряженному умственному тру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69760" y="547560"/>
            <a:ext cx="906588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моции детей различны: положительны, нейтральны, отрицательны. Раз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ороны жизнедеятельности школы по-разному оцениваются ребятами. Наиболее высоко они ценят общение с одноклассниками, бывает, что боятся контрольной  и вредного учителя, и личного врага среди школьников. Присутствуют черты "школы отчуждения": есть учащиеся более 10 человек из 38) идут потому что надо! Некоторым ребятам учеба  портит настроение, тяготит, преимущественно неуспевающих. Но, не смотря на это, безразличных к школе фактически 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пасение, что не выучил урок, не так велико, в основном это характерно для неуспевающих. С удовольствием идут тоже не многие (10 человек), ребя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 стремятся получить новые знания. Неподготовленность определяется иногда иными причинами (непониманием, усталостью). Но не следует утверждать, что большинство ребят, хорошо учатся, хорошо чувствуют себя в школ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начальной школе тоже был проведен тест на выявление преобладающе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строения.  Количество опрошенных составляет 8 человек, из которых у 6 преобладает позитивное состо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На настроение сильно влияет  создание ситуаций успеха в педагогическом процессе и оно же оказывает влияние не только на настроение учащихся, но и на качество обу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04720" y="301680"/>
            <a:ext cx="3316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5977080" y="3492360"/>
            <a:ext cx="39589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Урок был и остаётся основным элементом образовательного процесса. На уроке работают двое – учитель и ученик, и только правильно организованная работа может побуждать ученика учиться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863640" y="1065240"/>
            <a:ext cx="892980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комфортной атмосферы на уроке за счет вовлечения в деятельность всех учащихся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нестандартных ситуаций на уро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монстрация достижений каждого учащегося на каждом уро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863640" y="3492360"/>
            <a:ext cx="504036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ние создать ситуацию для каждого учащегося, проявить себ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ние хвалить любого ученика на каждом уроке, даже за малые достижения и успех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4720" y="301680"/>
            <a:ext cx="3316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936720" y="2124000"/>
            <a:ext cx="85676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оркестр играет вразнобой, дирижер смешон. Когда оркестр сыгран, дирижер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ется волшебник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же и в школе. Если  класс сыгран, то урок – как музы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008000" y="1474920"/>
            <a:ext cx="87123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Мотивация оказывает самое большое влияние на продуктивность учебного процесса и определяет успешность учебной деятельности. Отсутствие мотивов учения неизбежно приводит к снижению успеваемости, деградации личности, а в конечном счёте к совершению подростками правонару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121360" y="2397240"/>
            <a:ext cx="445608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504720" y="179280"/>
            <a:ext cx="907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</a:rPr>
              <a:t>Выводы 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287280" y="1332000"/>
            <a:ext cx="5110200" cy="5019480"/>
            <a:chOff x="287280" y="1332000"/>
            <a:chExt cx="5110200" cy="5019480"/>
          </a:xfrm>
        </p:grpSpPr>
        <p:pic>
          <p:nvPicPr>
            <p:cNvPr id="140" name="Picture 4" descr=""/>
            <p:cNvPicPr/>
            <p:nvPr/>
          </p:nvPicPr>
          <p:blipFill>
            <a:blip r:embed="rId1"/>
            <a:stretch/>
          </p:blipFill>
          <p:spPr>
            <a:xfrm>
              <a:off x="287280" y="1332000"/>
              <a:ext cx="511020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5"/>
            <p:cNvSpPr/>
            <p:nvPr/>
          </p:nvSpPr>
          <p:spPr>
            <a:xfrm>
              <a:off x="287280" y="1332000"/>
              <a:ext cx="5110200" cy="50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Text Box 6"/>
          <p:cNvSpPr/>
          <p:nvPr/>
        </p:nvSpPr>
        <p:spPr>
          <a:xfrm>
            <a:off x="5121360" y="1692360"/>
            <a:ext cx="4456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540400" y="1547640"/>
            <a:ext cx="45403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мотивация является особо важным и специфичным компонентом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504720" y="303120"/>
            <a:ext cx="9072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911160" y="5046840"/>
            <a:ext cx="405756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через мотивацию педагогические цели быстрее превращаются в психические цели обуч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0" y="1042920"/>
            <a:ext cx="4809960" cy="3606840"/>
            <a:chOff x="0" y="1042920"/>
            <a:chExt cx="4809960" cy="3606840"/>
          </a:xfrm>
        </p:grpSpPr>
        <p:pic>
          <p:nvPicPr>
            <p:cNvPr id="1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042920"/>
              <a:ext cx="4809960" cy="36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5"/>
            <p:cNvSpPr/>
            <p:nvPr/>
          </p:nvSpPr>
          <p:spPr>
            <a:xfrm>
              <a:off x="0" y="1042920"/>
              <a:ext cx="480996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 Box 6"/>
          <p:cNvSpPr/>
          <p:nvPr/>
        </p:nvSpPr>
        <p:spPr>
          <a:xfrm>
            <a:off x="5040360" y="1065240"/>
            <a:ext cx="48578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через мотивацию формируется определённое отношение учащихся к учебному предмету и осознаётся его ценностная значимость для личностного разви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968720" y="4067280"/>
            <a:ext cx="48578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через формирование положительной мотивации можно значительно улучшить качественные показатели познавательных процес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600" spc="-1" strike="noStrike">
                <a:solidFill>
                  <a:srgbClr val="002060"/>
                </a:solidFill>
                <a:latin typeface="Calibri"/>
              </a:rPr>
              <a:t>БЛАГОДАРЮ ВСЕХ </a:t>
            </a:r>
            <a:br>
              <a:rPr sz="4600"/>
            </a:br>
            <a:r>
              <a:rPr b="0" lang="ru-RU" sz="4600" spc="-1" strike="noStrike">
                <a:solidFill>
                  <a:srgbClr val="002060"/>
                </a:solidFill>
                <a:latin typeface="Calibri"/>
              </a:rPr>
              <a:t>ЗА ВНИМАНИЕ И УЧАСТИЕ !!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938160" y="1440"/>
            <a:ext cx="90709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временное общество ждет от школы мыслящих, инициативных, творческих выпускников с широким кругозором и прочными знани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790560" y="188604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отивац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общее название для процессов, методов, средств побуждения учащихся к продуктивной познавательной деятельности, активному освоению содержания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4388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7840"/>
                <a:tab algn="l" pos="8985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Учебная мотивация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это включение в деятельность учения, учебную деятельность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7840"/>
                <a:tab algn="l" pos="8985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14980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0328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539640"/>
            <a:ext cx="993132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539640" y="-34920"/>
            <a:ext cx="903456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Школа в условиях модернизации системы образования ищет пути, которые позволили бы выполнить этот заказ об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46200" y="1959120"/>
            <a:ext cx="442584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якое обучение,  по своей сути, есть создание условий для развития личности. Организация учебной деятельности такова, чтобы знания имели личностный смысл, при этом учитывались индивидуальные особенности учеников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294160" y="1959120"/>
            <a:ext cx="44262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этого необходим личностно-ориентированный подход в обучении, условием осуществления которого являются дифференциация процесса обучения и мотивация учеб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504720" y="108000"/>
            <a:ext cx="90727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Еще В.А. Сухомлинский говорил:«Страшная это опасность – безделье за партой; безделье шесть часов ежедневно, безделье месяцы и годы. Это развращает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04720" y="2397240"/>
            <a:ext cx="44532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пределяется 3 типа отношения к учен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ож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зразлич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отрица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121360" y="2397240"/>
            <a:ext cx="445608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М.В. Остроградский писал: « …Скука является самой опасной отравой. Она действует беспрестанно; она растет, овладевает человеком и влечет его к наибольшим излишества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504720" y="301680"/>
            <a:ext cx="3316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2"/>
          <p:cNvGrpSpPr/>
          <p:nvPr/>
        </p:nvGrpSpPr>
        <p:grpSpPr>
          <a:xfrm>
            <a:off x="5616720" y="993600"/>
            <a:ext cx="4290840" cy="3218040"/>
            <a:chOff x="5616720" y="993600"/>
            <a:chExt cx="4290840" cy="3218040"/>
          </a:xfrm>
        </p:grpSpPr>
        <p:pic>
          <p:nvPicPr>
            <p:cNvPr id="86" name="Picture 3" descr=""/>
            <p:cNvPicPr/>
            <p:nvPr/>
          </p:nvPicPr>
          <p:blipFill>
            <a:blip r:embed="rId1"/>
            <a:stretch/>
          </p:blipFill>
          <p:spPr>
            <a:xfrm>
              <a:off x="5616720" y="993600"/>
              <a:ext cx="4290840" cy="32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4"/>
            <p:cNvSpPr/>
            <p:nvPr/>
          </p:nvSpPr>
          <p:spPr>
            <a:xfrm>
              <a:off x="5616720" y="993600"/>
              <a:ext cx="4290840" cy="32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Text Box 5"/>
          <p:cNvSpPr/>
          <p:nvPr/>
        </p:nvSpPr>
        <p:spPr>
          <a:xfrm>
            <a:off x="503280" y="2050920"/>
            <a:ext cx="478620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Положительное отношение к учени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характеризуется активностью учеников в учебном процессе, умением ставить перспективные цели, предвидеть результат своей учебной деятельности, преодолевать трудности на пути достижения ц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294160" y="4211640"/>
            <a:ext cx="478656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Отрицательное отношение школьников к учению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нежелание учиться, слабая заинтересованность в успехах, нацеленность на отметку, неумение ставить цели, преодолевать трудности, отрицательное отношение к школе и учител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503280" y="250920"/>
            <a:ext cx="90676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Диагностика сформированной мотивации у учащихся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868320" y="1768320"/>
            <a:ext cx="44578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нкета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ему ты учиш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чем ходишь в школ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но ли не учиться в школе, а приобретать знания самостоятельн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47848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4440" indent="-5130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1444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нкета 2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и предло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1444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нравится на урок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1444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мешает на урок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1444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бы хотел(а), чтобы на урок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1444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108000"/>
            <a:ext cx="9067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тивация учения (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результаты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2"/>
          <p:cNvGrpSpPr/>
          <p:nvPr/>
        </p:nvGrpSpPr>
        <p:grpSpPr>
          <a:xfrm>
            <a:off x="144360" y="1565280"/>
            <a:ext cx="4753080" cy="4367160"/>
            <a:chOff x="144360" y="1565280"/>
            <a:chExt cx="4753080" cy="4367160"/>
          </a:xfrm>
        </p:grpSpPr>
        <p:pic>
          <p:nvPicPr>
            <p:cNvPr id="95" name="Picture 3" descr=""/>
            <p:cNvPicPr/>
            <p:nvPr/>
          </p:nvPicPr>
          <p:blipFill>
            <a:blip r:embed="rId1"/>
            <a:stretch/>
          </p:blipFill>
          <p:spPr>
            <a:xfrm>
              <a:off x="144360" y="1565280"/>
              <a:ext cx="4753080" cy="43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144360" y="1565280"/>
              <a:ext cx="4753080" cy="43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5"/>
          <p:cNvGrpSpPr/>
          <p:nvPr/>
        </p:nvGrpSpPr>
        <p:grpSpPr>
          <a:xfrm>
            <a:off x="4971960" y="1708200"/>
            <a:ext cx="5060880" cy="4224240"/>
            <a:chOff x="4971960" y="1708200"/>
            <a:chExt cx="5060880" cy="4224240"/>
          </a:xfrm>
        </p:grpSpPr>
        <p:pic>
          <p:nvPicPr>
            <p:cNvPr id="98" name="Picture 6" descr=""/>
            <p:cNvPicPr/>
            <p:nvPr/>
          </p:nvPicPr>
          <p:blipFill>
            <a:blip r:embed="rId2"/>
            <a:stretch/>
          </p:blipFill>
          <p:spPr>
            <a:xfrm>
              <a:off x="4971960" y="1708200"/>
              <a:ext cx="5060880" cy="42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7"/>
            <p:cNvSpPr/>
            <p:nvPr/>
          </p:nvSpPr>
          <p:spPr>
            <a:xfrm>
              <a:off x="4971960" y="1708200"/>
              <a:ext cx="5060880" cy="42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1:30Z</dcterms:created>
  <dc:creator>Сазонов</dc:creator>
  <dc:description/>
  <cp:keywords>мотивация</cp:keywords>
  <dc:language>en-US</dc:language>
  <cp:lastModifiedBy>Сазонов</cp:lastModifiedBy>
  <dcterms:modified xsi:type="dcterms:W3CDTF">2012-01-07T13:07:40Z</dcterms:modified>
  <cp:revision>40</cp:revision>
  <dc:subject>Мотивация учащихся</dc:subject>
  <dc:title>Родительское собрание на тему «Мотивация учебной деятельности учащихся и создание условий для ее реализации»</dc:title>
</cp:coreProperties>
</file>