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758-BB19-4E05-81C1-DD221F86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BFB-C013-491F-B670-9E680CD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C7A-3AEC-448F-B1E6-2A0A8A08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965-BCB7-412D-A741-FDA2BAED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040-80C6-4E5D-A24C-3AC4EB4E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1B7-5965-4154-8627-B720FBEB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34B-5850-40B2-81C0-3919D08A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467-E1A3-472B-B09F-BCCF95F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C62-89DA-4845-BFD2-9803280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C72-E15B-4A42-AB00-9D55342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0E9-475C-4C9A-914A-A6D39A8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45D-BC4F-4E2B-B323-6639DDF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88C0-02F9-48A8-B1A9-2D8CD9BE3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68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8-23T16:14:56Z</dcterms:modified>
  <cp:revision>11</cp:revision>
  <dc:subject/>
  <dc:title>Слайд 1</dc:title>
</cp:coreProperties>
</file>