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169-8754-4876-8B19-14F2E719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580-0813-444E-B252-F4C34E65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95F-50CB-4DF9-BEFA-99F7AEBC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6E3-15C4-4D8A-92A3-7F0D637E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8D4-26AE-4CCC-B6D3-8BED5697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889-8537-4D50-B02F-6EF279B1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A96-DE58-41C7-A74F-63E544B1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8AA-21D0-4712-8AE7-8574E618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951-7D70-432E-B25C-7AFB3622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D78-C105-4783-B1DD-B24471A8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2A2-9256-4D4F-8DEA-E7F487EF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D05-F489-4FBD-BCF3-94632B0C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7C25-14F6-4FDD-B54C-6E6EE596C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68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8-23T16:14:56Z</dcterms:modified>
  <cp:revision>11</cp:revision>
  <dc:subject/>
  <dc:title>Слайд 1</dc:title>
</cp:coreProperties>
</file>