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6BC-A8A8-474D-812C-DE114CBE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5D22-23F2-46CF-BF5F-9DA115AE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3BB-1B53-4467-B420-F8FB8313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79A-EF3F-4D23-ADE0-EE0091DB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382-5029-41F0-88C4-D1056DE7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A2F-DA46-4F5C-BAAE-C5FAF5AA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40F-38D2-43EB-9144-670D210A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F1A-D2FE-4E48-B4A6-59A69FCC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0AE-F818-448F-8E2D-EF6D41CB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958-E666-4AEA-B0F4-57BF1D2F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ECC-9AEA-4242-9F23-D8A7CE6B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89B-6233-4AE0-A401-0D3452C8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3413-9AB4-42D3-9E16-F2CE7277B7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68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8-23T16:14:56Z</dcterms:modified>
  <cp:revision>11</cp:revision>
  <dc:subject/>
  <dc:title>Слайд 1</dc:title>
</cp:coreProperties>
</file>