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83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2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6.jpeg" ContentType="image/jpeg"/>
  <Override PartName="/ppt/media/image3.jpeg" ContentType="image/jpeg"/>
  <Override PartName="/ppt/media/image14.jpeg" ContentType="image/jpeg"/>
  <Override PartName="/ppt/media/image41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70.jpeg" ContentType="image/jpeg"/>
  <Override PartName="/ppt/media/image65.jpeg" ContentType="image/jpeg"/>
  <Override PartName="/ppt/media/image26.png" ContentType="image/png"/>
  <Override PartName="/ppt/media/image8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75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67.jpeg" ContentType="image/jpeg"/>
  <Override PartName="/ppt/media/image54.png" ContentType="image/png"/>
  <Override PartName="/ppt/media/image76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6.gif" ContentType="image/gif"/>
  <Override PartName="/ppt/media/image51.jpeg" ContentType="image/jpeg"/>
  <Override PartName="/ppt/media/image37.jpeg" ContentType="image/jpeg"/>
  <Override PartName="/ppt/media/image20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8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CDEF-EBD8-474A-A51F-09F537960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790C-84B5-4DA7-8380-1A45ABA37F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0BCB-CCE8-4243-A053-9B3F372CF0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C94-DE1C-47DD-9A08-D156E38B7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F12A-855B-4FF4-BE3C-09522375F0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5C78-537C-41A9-AD8F-B815A7FDF2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629A-A3D8-4C5F-A7A5-902EE4A48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458-312F-4A4B-9CE7-5B751867E2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2AC-4B80-46CD-9196-A1B973590D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9CD2-3412-4425-90E6-9A035062E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EB50-CD73-4173-831D-3DA7CC6041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E8D6-1D5F-4E1C-8286-8DCB50FA8A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4C5E-F778-40F6-922E-12090895D4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8101-F606-4821-A9B5-2258B306A8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7EF4-8F60-4378-B590-08D23837AF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1198-0A61-4DC3-A344-1A025C6CD4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8F4F-F498-4A76-BE9F-815ADCA9B0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5696-AC97-4C4B-8649-035E3062F9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A76B-5281-4A2F-A6F9-A52517637A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8DA-B896-4321-A7E4-F405680DF5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AB34-8570-463F-84D5-5748BC755D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C0C0-698F-4770-8034-3B0BC17CB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9D77-93B4-4B1E-9641-48FFEBEA49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D4E0-284A-455A-833B-1DB72107BA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3CF8-EB3D-473D-96DC-C262F7E322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8A2-696E-41AB-B422-39F53A96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436-7D43-4838-960E-4AFB0E05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235-3D34-468B-8F3C-9689B65F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3D0-F26A-4C2B-A9EB-B81FA309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CE70D-84F2-468C-A0A8-87F56985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75EFC-B31A-4CFF-A831-28631DF9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5E231-6E17-4D92-A257-711DF12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25BB5-FB30-4379-BCC3-00467F50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C6494-FA7C-4471-8485-A845E56B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EC05F-6540-4336-AB4C-F761D8AB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9AD68-BD58-4870-B247-21280B8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C38-592B-4A87-9F9A-EA07847A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E3F95-E93F-4A38-8D2D-C5DF1FD9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A4053-A84C-45CB-A01E-8944AC8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68156-2C19-4932-8169-FD4684B2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DDFB6-8432-4AEF-B56F-CDE6B8A6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F838A-8D4F-443E-8E31-26FBA0A9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1185-D8EF-44F4-BE4C-A4E6C6BE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7EA1-F0B5-4CD8-8B5C-04AC518F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77EF-DA4C-4F53-96A1-814996C7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A1BB-630C-4655-B2FD-B91414F7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A622-5F94-4054-9337-860B4ED8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B3F-23D3-4ED6-9CBF-BCE8E4AE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298E-A9AF-43CF-9E75-43E4CF6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4C38-FFA0-4448-88CD-D375042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AF1C-F8EB-4025-A6DB-8FD9259F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7702-90C3-4423-9EAF-51DCFD2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5989-FF45-47D3-8ED9-2DAC306E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B8A9-1239-48EB-902C-C9020BB5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A00E-03EB-4B1E-B29C-E2193654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87CD1-47A8-4D23-8C61-5D4BF17E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B05F6-ED71-462F-B0FF-9D98CE4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BD141-DE4A-4F10-B46E-5B76630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0ED-8827-4DD0-849D-26A0652E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76DA0-6893-4164-8831-693C4903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5E254-388A-40DC-8E62-A5510DA5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E16CC-6F4E-4EDF-8803-618BB9E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2711A-DDD3-4D38-95A0-2EADC84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8F8A0-140F-4564-A917-DD5A572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41EE1-EE81-4F32-89F9-287934CF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8F147-E448-4786-9A41-506E1290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3F740-73DA-4835-8E2A-E75C46B4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6D495-1D73-4691-81B2-4C1138EE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79D-02D0-409D-8EE9-615296E2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852-7A8C-4AE7-BDF1-D0D1DA2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CA4-439A-4ED9-B521-5CB1F981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3FA-A432-4124-AAA5-91620C65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27C-7B84-4D16-A570-2F8A2F4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A0E3-6534-4D0B-AD89-E108313D4C8F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a5644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78C-B54F-48E1-AEE0-9E288D5D5B31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5D18-A1EC-46CB-B2A9-4D9014B1FBCC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7B3E-9F41-4E2C-BA28-45D8D4FB770F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ru/imgres?imgurl=http://mykuhnya.ru/images/image158.jpg&amp;imgrefurl=http://mykuhnya.ru/utvar/page_3_5.html&amp;usg=__mqFcLjzPIxDVV5MzLb49aSOaYH0=&amp;h=148&amp;w=200&amp;sz=40&amp;hl=ru&amp;start=15&amp;zoom=0&amp;tbnid=1G84gSf35pMsiM:&amp;tbnh=77&amp;tbnw=104&amp;prev=/images%3Fq%3D%25D0%25BF%25D1%2580%25D0%25B8%25D1%2581%25D0%25BF%25D0%25BE%25D1%2581%25D0%25BE%25D0%25B1%25D0%25BB%25D0%25B5%25D0%25BD%25D0%25B8%25D1%258F%2B%25D0%25B4%25D0%25BB%25D1%258F%2B%25D0%25B1%25D1%2583%25D1%2582%25D0%25B5%25D1%2580%25D0%25B1%25D1%2580%25D0%25BE%25D0%25B4%25D0%25BE%25D0%25B2%26um%3D1%26hl%3Dru%26lr%3D%26newwindow%3D1%26sa%3DG%26rlz%3D1W1GGLD_ru%26tbs%3Disch:1&amp;um=1&amp;itbs=1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google.ru/imgres?imgurl=http://www.priyatnogo.com/uploads/posts/2010-09/thumbs/1283418325_buterbrody-na-shpazhke.jpg&amp;imgrefurl=http://www.priyatnogo.com/2955-recept-buterbrodov-na-shpazhkakh.html&amp;usg=__eKO63QOBgE17k8M-TGnlOk_WauY=&amp;h=355&amp;w=450&amp;sz=32&amp;hl=ru&amp;start=9&amp;zoom=1&amp;tbnid=hOVEpr9U9OWK8M:&amp;tbnh=100&amp;tbnw=127&amp;prev=/images%3Fq%3D%25D1%2588%25D0%25BF%25D0%25B0%25D0%25B6%25D0%25BA%25D0%25B8%2B%25D0%25B4%25D0%25BB%25D1%258F%2B%25D0%25B1%25D1%2583%25D1%2582%25D0%25B5%25D1%2580%25D0%25B1%25D1%2580%25D0%25BE%25D0%25B4%25D0%25BE%25D0%25B2%26um%3D1%26hl%3Dru%26lr%3D%26newwindow%3D1%26sa%3DG%26rlz%3D1W1GGLD_ru%26tbs%3Disch:1&amp;um=1&amp;itbs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hyperlink" Target="http://www.povarenok.ru/recipes/ingredient/5165" TargetMode="External"/><Relationship Id="rId3" Type="http://schemas.openxmlformats.org/officeDocument/2006/relationships/hyperlink" Target="http://www.povarenok.ru/recipes/ingredient/2036" TargetMode="External"/><Relationship Id="rId4" Type="http://schemas.openxmlformats.org/officeDocument/2006/relationships/hyperlink" Target="http://www.povarenok.ru/recipes/ingredient/10958" TargetMode="External"/><Relationship Id="rId5" Type="http://schemas.openxmlformats.org/officeDocument/2006/relationships/hyperlink" Target="http://www.povarenok.ru/recipes/ingredient/1681" TargetMode="External"/><Relationship Id="rId6" Type="http://schemas.openxmlformats.org/officeDocument/2006/relationships/hyperlink" Target="http://www.povarenok.ru/recipes/ingredient/2866" TargetMode="External"/><Relationship Id="rId7" Type="http://schemas.openxmlformats.org/officeDocument/2006/relationships/hyperlink" Target="http://www.povarenok.ru/recipes/ingredient/2381" TargetMode="External"/><Relationship Id="rId8" Type="http://schemas.openxmlformats.org/officeDocument/2006/relationships/hyperlink" Target="http://www.povarenok.ru/recipes/ingredient/1067" TargetMode="External"/><Relationship Id="rId9" Type="http://schemas.openxmlformats.org/officeDocument/2006/relationships/hyperlink" Target="http://www.povarenok.ru/recipes/ingredient/2212" TargetMode="External"/><Relationship Id="rId10" Type="http://schemas.openxmlformats.org/officeDocument/2006/relationships/image" Target="../media/image5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varenok.ru/recipes/ingredient/2211" TargetMode="External"/><Relationship Id="rId2" Type="http://schemas.openxmlformats.org/officeDocument/2006/relationships/hyperlink" Target="http://www.povarenok.ru/recipes/ingredient/1443" TargetMode="External"/><Relationship Id="rId3" Type="http://schemas.openxmlformats.org/officeDocument/2006/relationships/hyperlink" Target="http://www.povarenok.ru/recipes/ingredient/4433" TargetMode="External"/><Relationship Id="rId4" Type="http://schemas.openxmlformats.org/officeDocument/2006/relationships/hyperlink" Target="http://www.povarenok.ru/recipes/ingredient/9148" TargetMode="External"/><Relationship Id="rId5" Type="http://schemas.openxmlformats.org/officeDocument/2006/relationships/hyperlink" Target="http://www.povarenok.ru/recipes/ingredient/1011" TargetMode="External"/><Relationship Id="rId6" Type="http://schemas.openxmlformats.org/officeDocument/2006/relationships/hyperlink" Target="http://www.povarenok.ru/recipes/ingredient/2273" TargetMode="External"/><Relationship Id="rId7" Type="http://schemas.openxmlformats.org/officeDocument/2006/relationships/hyperlink" Target="http://www.povarenok.ru/recipes/ingredient/1030" TargetMode="External"/><Relationship Id="rId8" Type="http://schemas.openxmlformats.org/officeDocument/2006/relationships/hyperlink" Target="http://www.povarenok.ru/recipes/ingredient/786" TargetMode="External"/><Relationship Id="rId9" Type="http://schemas.openxmlformats.org/officeDocument/2006/relationships/hyperlink" Target="http://www.povarenok.ru/recipes/ingredient/5604" TargetMode="External"/><Relationship Id="rId10" Type="http://schemas.openxmlformats.org/officeDocument/2006/relationships/image" Target="../media/image6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ovarenok.ru/recipes/ingredient/7138" TargetMode="External"/><Relationship Id="rId2" Type="http://schemas.openxmlformats.org/officeDocument/2006/relationships/hyperlink" Target="http://www.povarenok.ru/recipes/ingredient/1740" TargetMode="External"/><Relationship Id="rId3" Type="http://schemas.openxmlformats.org/officeDocument/2006/relationships/hyperlink" Target="http://www.povarenok.ru/recipes/ingredient/1443" TargetMode="External"/><Relationship Id="rId4" Type="http://schemas.openxmlformats.org/officeDocument/2006/relationships/hyperlink" Target="http://www.povarenok.ru/recipes/ingredient/2381" TargetMode="External"/><Relationship Id="rId5" Type="http://schemas.openxmlformats.org/officeDocument/2006/relationships/hyperlink" Target="http://www.povarenok.ru/recipes/ingredient/2213" TargetMode="External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52.jpeg"/><Relationship Id="rId4" Type="http://schemas.openxmlformats.org/officeDocument/2006/relationships/image" Target="../media/image8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hyperlink" Target="http://solingen-shop.ru/d/90328/d/4126_14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www.povarenok.ru/recipes/show/13211/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http://www.povarenok.ru/images/all/337880.jpg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ru.wikipedia.org/wiki/&#1060;&#1072;&#1081;&#1083;:Samovar.silver.jpg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www.google.ru/imgres?imgurl=http://www.dk-m.ru/UserFiles/Image/Trial/img12_17764.jpg&amp;imgrefurl=http://www.dk-m.ru/shop/UID_12.html&amp;usg=__qVGjW4Cps7CjzguMzYf3SMYyPsY=&amp;h=300&amp;w=250&amp;sz=12&amp;hl=ru&amp;start=11&amp;zoom=1&amp;tbnid=2LYqYFT9NaWSjM:&amp;tbnh=116&amp;tbnw=97&amp;prev=/images%3Fq%3D%25D1%258D%25D0%25BB%25D0%25B5%25D0%25BA%25D1%2582%25D1%2580%25D0%25BE%25D1%2587%25D0%25B0%25D0%25B9%25D0%25BD%25D0%25B8%25D0%25BA%26um%3D1%26hl%3Dru%26lr%3D%26newwindow%3D1%26sa%3DG%26rlz%3D1W1GGLD_ru%26tbs%3Disch:1&amp;um=1&amp;itbs=1" TargetMode="External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hyperlink" Target="http://www.google.ru/imgres?imgurl=http://viva.org.ua/media/tea_5.jpg&amp;imgrefurl=http://viva.org.ua/&amp;usg=__5dUkX0lBXYtH7iw9gQ7ENAqD53Q=&amp;h=314&amp;w=316&amp;sz=26&amp;hl=ru&amp;start=1&amp;zoom=1&amp;tbnid=Mh5QyfGIYTDzbM:&amp;tbnh=116&amp;tbnw=117&amp;prev=/images%3Fq%3D%25D1%2587%25D0%25B0%25D0%25B9%26um%3D1%26hl%3Dru%26lr%3D%26newwindow%3D1%26sa%3DX%26rlz%3D1W1GGLD_ru%26tbs%3Disch:1&amp;um=1&amp;itbs=1" TargetMode="External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7;&#1085;&#1090;&#1088;&#1072;&#1083;&#1100;&#1085;&#1072;&#1103;_&#1040;&#1084;&#1077;&#1088;&#1080;&#1082;&#1072;" TargetMode="External"/><Relationship Id="rId2" Type="http://schemas.openxmlformats.org/officeDocument/2006/relationships/hyperlink" Target="http://ru.wikipedia.org/wiki/1100_&#1075;&#1086;&#1076;" TargetMode="External"/><Relationship Id="rId3" Type="http://schemas.openxmlformats.org/officeDocument/2006/relationships/hyperlink" Target="http://ru.wikipedia.org/wiki/&#1040;&#1094;&#1090;&#1077;&#1082;" TargetMode="External"/><Relationship Id="rId4" Type="http://schemas.openxmlformats.org/officeDocument/2006/relationships/hyperlink" Target="http://ru.wikipedia.org/wiki/XIV_&#1074;&#1077;&#1082;" TargetMode="External"/><Relationship Id="rId5" Type="http://schemas.openxmlformats.org/officeDocument/2006/relationships/hyperlink" Target="http://ru.wikipedia.org/wiki/1519_&#1075;&#1086;&#1076;" TargetMode="External"/><Relationship Id="rId6" Type="http://schemas.openxmlformats.org/officeDocument/2006/relationships/hyperlink" Target="http://ru.wikipedia.org/wiki/&#1050;&#1086;&#1085;&#1082;&#1080;&#1089;&#1090;&#1072;&#1076;&#1086;&#1088;" TargetMode="External"/><Relationship Id="rId7" Type="http://schemas.openxmlformats.org/officeDocument/2006/relationships/hyperlink" Target="http://ru.wikipedia.org/wiki/XVII_&#1074;&#1077;&#1082;" TargetMode="External"/><Relationship Id="rId8" Type="http://schemas.openxmlformats.org/officeDocument/2006/relationships/hyperlink" Target="http://ru.wikipedia.org/wiki/&#1043;&#1091;&#1072;&#1103;&#1082;&#1080;&#1083;&#1100;" TargetMode="External"/><Relationship Id="rId9" Type="http://schemas.openxmlformats.org/officeDocument/2006/relationships/hyperlink" Target="http://ru.wikipedia.org/wiki/&#1069;&#1082;&#1074;&#1072;&#1076;&#1086;&#1088;" TargetMode="External"/><Relationship Id="rId10" Type="http://schemas.openxmlformats.org/officeDocument/2006/relationships/hyperlink" Target="http://ru.wikipedia.org/wiki/&#1050;&#1072;&#1088;&#1072;&#1082;&#1072;&#1089;" TargetMode="External"/><Relationship Id="rId11" Type="http://schemas.openxmlformats.org/officeDocument/2006/relationships/hyperlink" Target="http://ru.wikipedia.org/wiki/&#1042;&#1077;&#1085;&#1077;&#1089;&#1091;&#1101;&#1083;&#1072;" TargetMode="External"/><Relationship Id="rId12" Type="http://schemas.openxmlformats.org/officeDocument/2006/relationships/hyperlink" Target="http://ru.wikipedia.org/wiki/&#1041;&#1077;&#1083;&#1077;&#1084;" TargetMode="External"/><Relationship Id="rId13" Type="http://schemas.openxmlformats.org/officeDocument/2006/relationships/hyperlink" Target="http://ru.wikipedia.org/wiki/&#1057;&#1072;&#1083;&#1074;&#1072;&#1076;&#1086;&#1088;_(&#1041;&#1072;&#1080;&#1103;)" TargetMode="External"/><Relationship Id="rId14" Type="http://schemas.openxmlformats.org/officeDocument/2006/relationships/hyperlink" Target="http://ru.wikipedia.org/wiki/&#1041;&#1088;&#1072;&#1079;&#1080;&#1083;&#1080;&#1103;" TargetMode="External"/><Relationship Id="rId15" Type="http://schemas.openxmlformats.org/officeDocument/2006/relationships/hyperlink" Target="http://ru.wikipedia.org/wiki/XX_&#1074;&#1077;&#1082;" TargetMode="External"/><Relationship Id="rId16" Type="http://schemas.openxmlformats.org/officeDocument/2006/relationships/hyperlink" Target="http://ru.wikipedia.org/wiki/&#1057;&#1072;&#1085;-&#1058;&#1086;&#1084;&#1077;_&#1080;_&#1055;&#1088;&#1080;&#1085;&#1089;&#1080;&#1087;&#1080;" TargetMode="External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jpeg"/><Relationship Id="rId21" Type="http://schemas.openxmlformats.org/officeDocument/2006/relationships/image" Target="../media/image35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1476360" y="5950080"/>
            <a:ext cx="63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чарова НВ, учитель технологии, МОБУ СОШ №2,Тында, 2012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428920" y="4500360"/>
            <a:ext cx="42148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рок в 5 класс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706320" y="1212840"/>
            <a:ext cx="7731360" cy="287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http://t0.gstatic.com/images?q=tbn:1G84gSf35pMsiM:http://mykuhnya.ru/images/image15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357800"/>
            <a:ext cx="173700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http://t0.gstatic.com/images?q=tbn:hOVEpr9U9OWK8M:http://www.priyatnogo.com/uploads/posts/2010-09/thumbs/1283418325_buterbrody-na-shpazhk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00880" y="4286160"/>
            <a:ext cx="17240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0" y="255600"/>
            <a:ext cx="8229600" cy="1390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Бутерброд с картошкой Лук   репчатый"/>
          <p:cNvPicPr/>
          <p:nvPr/>
        </p:nvPicPr>
        <p:blipFill>
          <a:blip r:embed="rId2"/>
          <a:stretch/>
        </p:blipFill>
        <p:spPr>
          <a:xfrm>
            <a:off x="357120" y="3429000"/>
            <a:ext cx="2692440" cy="2009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Горячий бутерброд 1000 +1 Сыр твердый"/>
          <p:cNvPicPr/>
          <p:nvPr/>
        </p:nvPicPr>
        <p:blipFill>
          <a:blip r:embed="rId3"/>
          <a:stretch/>
        </p:blipFill>
        <p:spPr>
          <a:xfrm>
            <a:off x="3214800" y="1143000"/>
            <a:ext cx="2394000" cy="3000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Горячие бутерброды &quot;С любовью&quot; Ветчина"/>
          <p:cNvPicPr/>
          <p:nvPr/>
        </p:nvPicPr>
        <p:blipFill>
          <a:blip r:embed="rId4"/>
          <a:stretch/>
        </p:blipFill>
        <p:spPr>
          <a:xfrm>
            <a:off x="5857920" y="121428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Горячие бутерброды &quot;Сытный завтрак&quot; Паприка"/>
          <p:cNvPicPr/>
          <p:nvPr/>
        </p:nvPicPr>
        <p:blipFill>
          <a:blip r:embed="rId5"/>
          <a:stretch/>
        </p:blipFill>
        <p:spPr>
          <a:xfrm>
            <a:off x="5857920" y="3357720"/>
            <a:ext cx="2797200" cy="20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Бутерброд &quot;Капитан Врунгель&quot; Зелень"/>
          <p:cNvPicPr/>
          <p:nvPr/>
        </p:nvPicPr>
        <p:blipFill>
          <a:blip r:embed="rId6"/>
          <a:stretch/>
        </p:blipFill>
        <p:spPr>
          <a:xfrm>
            <a:off x="3000240" y="4286160"/>
            <a:ext cx="2870280" cy="21430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Горячие закрытые бутерброды Помидор"/>
          <p:cNvPicPr/>
          <p:nvPr/>
        </p:nvPicPr>
        <p:blipFill>
          <a:blip r:embed="rId7"/>
          <a:srcRect l="2343" t="0" r="0" b="13465"/>
          <a:stretch/>
        </p:blipFill>
        <p:spPr>
          <a:xfrm>
            <a:off x="357120" y="1214280"/>
            <a:ext cx="27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426960" y="33480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428760" y="114300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для военнослужащих американской армии был разработан супер-бутерброд, который не портится в течение … трех ле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ванской деревне Кфар Катра был изготовлен самый большой в мире бутерброд длиной 720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дорогой бутерброд можно приобрести в лондонском супермаркете за 85 фунтов стерлингов. В состав такого бутерброда входит: мраморная говядина Wagyu, ломтики фуа-гра, майонез из масла трюфелей, сыр Brie de meaux, салат руккола, перец, и помидоры чер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50 жителей Чикаго участвуют в конкурсе по приготовлению бутербродов из 20 ингредиентов за одну минуту. На скорую руку бутерброды были приготовлены за рекордно короткое время – 32 секун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28400" y="1214280"/>
            <a:ext cx="832932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 и посуд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а для какао, лож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иготов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шок какао смешать с сахаром, залить небольшим количеством молока и растирать до однородной мас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прерывном помешивании ввести горячее молоко и довести до кип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426960" y="365040"/>
            <a:ext cx="8229600" cy="1281240"/>
          </a:xfrm>
          <a:prstGeom prst="rect">
            <a:avLst/>
          </a:prstGeom>
          <a:ln w="0">
            <a:noFill/>
          </a:ln>
        </p:spPr>
      </p:pic>
      <p:pic>
        <p:nvPicPr>
          <p:cNvPr id="251" name="imgb" descr="&amp;t=1&amp;usg=__vm1rfohIkgfd8c7XW91N9jxH_Zg="/>
          <p:cNvPicPr/>
          <p:nvPr/>
        </p:nvPicPr>
        <p:blipFill>
          <a:blip r:embed="rId2"/>
          <a:stretch/>
        </p:blipFill>
        <p:spPr>
          <a:xfrm>
            <a:off x="2500200" y="3929040"/>
            <a:ext cx="3389400" cy="2514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acao3"/>
          <p:cNvPicPr/>
          <p:nvPr/>
        </p:nvPicPr>
        <p:blipFill>
          <a:blip r:embed="rId3"/>
          <a:stretch/>
        </p:blipFill>
        <p:spPr>
          <a:xfrm>
            <a:off x="285840" y="407196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253" name="imgb" descr="cocoa"/>
          <p:cNvPicPr/>
          <p:nvPr/>
        </p:nvPicPr>
        <p:blipFill>
          <a:blip r:embed="rId4"/>
          <a:stretch/>
        </p:blipFill>
        <p:spPr>
          <a:xfrm>
            <a:off x="6000840" y="4286160"/>
            <a:ext cx="29034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426960" y="85896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500040" y="1857240"/>
            <a:ext cx="636264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редиен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Сыр плавле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200 г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Чесн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лченый) — 4 зуб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Яйцо кури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2 ш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Со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кусу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6"/>
              </a:rPr>
              <a:t>Зеленый лу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жно не добавлять, по вкусу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7"/>
              </a:rPr>
              <a:t>Хле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лый) — 8 лом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8"/>
              </a:rPr>
              <a:t>Масло раститель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жарки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9"/>
              </a:rPr>
              <a:t>Пере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кусу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499760"/>
            <a:ext cx="521496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ики"остренькие"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Рисунок 136" descr="Бутербродики &quot;остренькие&quot; Соль"/>
          <p:cNvPicPr/>
          <p:nvPr/>
        </p:nvPicPr>
        <p:blipFill>
          <a:blip r:embed="rId10"/>
          <a:stretch/>
        </p:blipFill>
        <p:spPr>
          <a:xfrm>
            <a:off x="5286240" y="3786120"/>
            <a:ext cx="3157560" cy="2357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799920" y="21420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799920" y="21420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30" descr="Бутербродики &quot;остренькие&quot; ингредиенты"/>
          <p:cNvPicPr/>
          <p:nvPr/>
        </p:nvPicPr>
        <p:blipFill>
          <a:blip r:embed="rId1"/>
          <a:stretch/>
        </p:blipFill>
        <p:spPr>
          <a:xfrm>
            <a:off x="714240" y="285840"/>
            <a:ext cx="239256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31" descr="Бутербродики &quot;остренькие&quot;"/>
          <p:cNvPicPr/>
          <p:nvPr/>
        </p:nvPicPr>
        <p:blipFill>
          <a:blip r:embed="rId2"/>
          <a:stretch/>
        </p:blipFill>
        <p:spPr>
          <a:xfrm>
            <a:off x="714240" y="2214720"/>
            <a:ext cx="2357640" cy="17604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32" descr="фото Бутербродики &quot;остренькие&quot;"/>
          <p:cNvPicPr/>
          <p:nvPr/>
        </p:nvPicPr>
        <p:blipFill>
          <a:blip r:embed="rId3"/>
          <a:stretch/>
        </p:blipFill>
        <p:spPr>
          <a:xfrm>
            <a:off x="857160" y="4143240"/>
            <a:ext cx="1785960" cy="23814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3"/>
          <p:cNvSpPr/>
          <p:nvPr/>
        </p:nvSpPr>
        <p:spPr>
          <a:xfrm>
            <a:off x="335772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ый сыр натираем на крупной терке, добавляем чеснок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4071960" y="3214800"/>
            <a:ext cx="10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яйц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6"/>
          <p:cNvSpPr/>
          <p:nvPr/>
        </p:nvSpPr>
        <p:spPr>
          <a:xfrm>
            <a:off x="3500280" y="5072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хорошенько смешиваем, добавляем соль, перец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34" descr="Бутербродики &quot;остренькие&quot; Чеснок"/>
          <p:cNvPicPr/>
          <p:nvPr/>
        </p:nvPicPr>
        <p:blipFill>
          <a:blip r:embed="rId1"/>
          <a:stretch/>
        </p:blipFill>
        <p:spPr>
          <a:xfrm>
            <a:off x="785880" y="2571840"/>
            <a:ext cx="2428920" cy="18129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35" descr="Бутербродики &quot;остренькие&quot; Яйцо   куриное"/>
          <p:cNvPicPr/>
          <p:nvPr/>
        </p:nvPicPr>
        <p:blipFill>
          <a:blip r:embed="rId2"/>
          <a:stretch/>
        </p:blipFill>
        <p:spPr>
          <a:xfrm>
            <a:off x="785880" y="4554360"/>
            <a:ext cx="2415960" cy="18036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33" descr="Бутербродики &quot;остренькие&quot; Сыр плавленый"/>
          <p:cNvPicPr/>
          <p:nvPr/>
        </p:nvPicPr>
        <p:blipFill>
          <a:blip r:embed="rId3"/>
          <a:stretch/>
        </p:blipFill>
        <p:spPr>
          <a:xfrm>
            <a:off x="785880" y="571680"/>
            <a:ext cx="2428920" cy="18126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7"/>
          <p:cNvSpPr/>
          <p:nvPr/>
        </p:nvSpPr>
        <p:spPr>
          <a:xfrm>
            <a:off x="350028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лук зеленый и снова все перемеши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3429000" y="3143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у смесь выкладываем на ломтики хле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3429000" y="48578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жариваем на растительном масле с двух сторон (сначала сторону с начинкой) небольшом огне, чтобы начинка хорошенько прожар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428760" y="1143000"/>
          <a:ext cx="6095880" cy="5375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968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 для "Горячие бутерброды"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3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Бато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1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Помидо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вежий средний) — 3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Чеснo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2-3 з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Колбаса варена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3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Лук репчат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реднего размера) — 1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Сыр тверд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5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Майоне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1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Кетчуп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1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Масло сливочно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50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3" name="Рисунок 190" descr="Горячие бутерброды Кетчуп"/>
          <p:cNvPicPr/>
          <p:nvPr/>
        </p:nvPicPr>
        <p:blipFill>
          <a:blip r:embed="rId10"/>
          <a:stretch/>
        </p:blipFill>
        <p:spPr>
          <a:xfrm>
            <a:off x="5715000" y="4071960"/>
            <a:ext cx="2774880" cy="20718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5"/>
          <p:cNvSpPr/>
          <p:nvPr/>
        </p:nvSpPr>
        <p:spPr>
          <a:xfrm>
            <a:off x="728280" y="35712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80" descr="Горячие бутерброды ингредиенты"/>
          <p:cNvPicPr/>
          <p:nvPr/>
        </p:nvPicPr>
        <p:blipFill>
          <a:blip r:embed="rId1"/>
          <a:stretch/>
        </p:blipFill>
        <p:spPr>
          <a:xfrm>
            <a:off x="1000080" y="214200"/>
            <a:ext cx="2049480" cy="15303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81" descr="Горячие бутерброды"/>
          <p:cNvPicPr/>
          <p:nvPr/>
        </p:nvPicPr>
        <p:blipFill>
          <a:blip r:embed="rId2"/>
          <a:stretch/>
        </p:blipFill>
        <p:spPr>
          <a:xfrm>
            <a:off x="428760" y="1785960"/>
            <a:ext cx="2071440" cy="15462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82" descr="фото Горячие бутерброды"/>
          <p:cNvPicPr/>
          <p:nvPr/>
        </p:nvPicPr>
        <p:blipFill>
          <a:blip r:embed="rId3"/>
          <a:stretch/>
        </p:blipFill>
        <p:spPr>
          <a:xfrm>
            <a:off x="928800" y="3429000"/>
            <a:ext cx="2071440" cy="15462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3143160" y="107172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зываем противень сливоч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7"/>
          <p:cNvSpPr/>
          <p:nvPr/>
        </p:nvSpPr>
        <p:spPr>
          <a:xfrm>
            <a:off x="3286080" y="2286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ем батон на ломтики и укладываем их на проти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3214800" y="3929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кусочек хлеба чуть-чуть смазываем сливоч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183" descr="Горячие бутерброды Батон"/>
          <p:cNvPicPr/>
          <p:nvPr/>
        </p:nvPicPr>
        <p:blipFill>
          <a:blip r:embed="rId4"/>
          <a:stretch/>
        </p:blipFill>
        <p:spPr>
          <a:xfrm>
            <a:off x="428760" y="5072040"/>
            <a:ext cx="2104920" cy="15717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0"/>
          <p:cNvSpPr/>
          <p:nvPr/>
        </p:nvSpPr>
        <p:spPr>
          <a:xfrm>
            <a:off x="3214800" y="5429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ем помидор тонкими ломтиками и укладываем на ба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84" descr="Горячие бутерброды Помидор"/>
          <p:cNvPicPr/>
          <p:nvPr/>
        </p:nvPicPr>
        <p:blipFill>
          <a:blip r:embed="rId1"/>
          <a:stretch/>
        </p:blipFill>
        <p:spPr>
          <a:xfrm>
            <a:off x="428760" y="285840"/>
            <a:ext cx="2071440" cy="15462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185" descr="Горячие бутерброды Чеснoк"/>
          <p:cNvPicPr/>
          <p:nvPr/>
        </p:nvPicPr>
        <p:blipFill>
          <a:blip r:embed="rId2"/>
          <a:stretch/>
        </p:blipFill>
        <p:spPr>
          <a:xfrm>
            <a:off x="1143000" y="1857240"/>
            <a:ext cx="2071800" cy="1546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5"/>
          <p:cNvSpPr/>
          <p:nvPr/>
        </p:nvSpPr>
        <p:spPr>
          <a:xfrm>
            <a:off x="3429000" y="92880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 выдавливаем через чеснокодавилку и укладываем на помид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3286080" y="2428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басу режем соломкой и укладываем следующим сло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186" descr="Горячие бутерброды Колбаса  вареная"/>
          <p:cNvPicPr/>
          <p:nvPr/>
        </p:nvPicPr>
        <p:blipFill>
          <a:blip r:embed="rId3"/>
          <a:stretch/>
        </p:blipFill>
        <p:spPr>
          <a:xfrm>
            <a:off x="428760" y="3429000"/>
            <a:ext cx="2143080" cy="16002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8"/>
          <p:cNvSpPr/>
          <p:nvPr/>
        </p:nvSpPr>
        <p:spPr>
          <a:xfrm>
            <a:off x="3357720" y="4000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жем тонкими полукольцами и укладываем поверх кол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187" descr="Горячие бутерброды Лук репчатый"/>
          <p:cNvPicPr/>
          <p:nvPr/>
        </p:nvPicPr>
        <p:blipFill>
          <a:blip r:embed="rId4"/>
          <a:stretch/>
        </p:blipFill>
        <p:spPr>
          <a:xfrm>
            <a:off x="1071720" y="5072040"/>
            <a:ext cx="2071440" cy="154620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0"/>
          <p:cNvSpPr/>
          <p:nvPr/>
        </p:nvSpPr>
        <p:spPr>
          <a:xfrm>
            <a:off x="3511440" y="550080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иваем майонез и кетч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89" descr="Горячие бутерброды Майонез"/>
          <p:cNvPicPr/>
          <p:nvPr/>
        </p:nvPicPr>
        <p:blipFill>
          <a:blip r:embed="rId1"/>
          <a:stretch/>
        </p:blipFill>
        <p:spPr>
          <a:xfrm>
            <a:off x="357120" y="2428920"/>
            <a:ext cx="2295720" cy="17143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8"/>
          <p:cNvSpPr/>
          <p:nvPr/>
        </p:nvSpPr>
        <p:spPr>
          <a:xfrm>
            <a:off x="321480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зываем каждый бутерброд, много не надо, иначе потечет на проти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88" descr="Горячие бутерброды Сыр твердый"/>
          <p:cNvPicPr/>
          <p:nvPr/>
        </p:nvPicPr>
        <p:blipFill>
          <a:blip r:embed="rId2"/>
          <a:stretch/>
        </p:blipFill>
        <p:spPr>
          <a:xfrm>
            <a:off x="785880" y="571680"/>
            <a:ext cx="2295360" cy="17143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2"/>
          <p:cNvSpPr/>
          <p:nvPr/>
        </p:nvSpPr>
        <p:spPr>
          <a:xfrm>
            <a:off x="3429000" y="2428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ыпаем каждый бутерброд тертым сыром. Ставим в духовку минут на 15-20. Температура духовки средняя. Бутерброды должны зарумян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190" descr="Горячие бутерброды Кетчуп"/>
          <p:cNvPicPr/>
          <p:nvPr/>
        </p:nvPicPr>
        <p:blipFill>
          <a:blip r:embed="rId3"/>
          <a:stretch/>
        </p:blipFill>
        <p:spPr>
          <a:xfrm>
            <a:off x="928800" y="4357800"/>
            <a:ext cx="2500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1500120"/>
            <a:ext cx="8229600" cy="36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«Живи дитя природы, будь весел и здоров, и кушай бутерброды на грани двух миров»</a:t>
            </a:r>
            <a:r>
              <a:rPr b="0" i="1" lang="ru-RU" sz="44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адим Шефн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500040" y="11430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редиенты для "Горячие закрытые бутерброды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428760" y="1643040"/>
            <a:ext cx="481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"/>
              </a:rPr>
              <a:t>Окорочок кури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дрышко) — 1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Сы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усочек размером с 3 спичечных коробка, в граммах - не знаю скольк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Помид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ясистый среднего размера) — 1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Хле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резанный квадратными кусками) — 8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Зел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-6 веточек петрушки и ук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2" descr="Горячие закрытые бутерброды Помидор"/>
          <p:cNvPicPr/>
          <p:nvPr/>
        </p:nvPicPr>
        <p:blipFill>
          <a:blip r:embed="rId6"/>
          <a:srcRect l="2343" t="0" r="0" b="13465"/>
          <a:stretch/>
        </p:blipFill>
        <p:spPr>
          <a:xfrm>
            <a:off x="5286240" y="4000680"/>
            <a:ext cx="3454560" cy="242856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728280" y="35712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Горячие закрытые бутерброды ингредиенты"/>
          <p:cNvPicPr/>
          <p:nvPr/>
        </p:nvPicPr>
        <p:blipFill>
          <a:blip r:embed="rId1"/>
          <a:srcRect l="0" t="0" r="655" b="8674"/>
          <a:stretch/>
        </p:blipFill>
        <p:spPr>
          <a:xfrm>
            <a:off x="571680" y="285840"/>
            <a:ext cx="1954080" cy="2071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Горячие закрытые бутерброды"/>
          <p:cNvPicPr/>
          <p:nvPr/>
        </p:nvPicPr>
        <p:blipFill>
          <a:blip r:embed="rId2"/>
          <a:srcRect l="0" t="0" r="0" b="12148"/>
          <a:stretch/>
        </p:blipFill>
        <p:spPr>
          <a:xfrm>
            <a:off x="1071720" y="2428920"/>
            <a:ext cx="2000160" cy="2027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фото Горячие закрытые бутерброды"/>
          <p:cNvPicPr/>
          <p:nvPr/>
        </p:nvPicPr>
        <p:blipFill>
          <a:blip r:embed="rId3"/>
          <a:srcRect l="0" t="0" r="655" b="9461"/>
          <a:stretch/>
        </p:blipFill>
        <p:spPr>
          <a:xfrm>
            <a:off x="500040" y="4502160"/>
            <a:ext cx="1928880" cy="1981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3500280" y="7142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енный окорачок охлаждаем, отделяем мясо от костей, перемалываем в бленд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3714840" y="27860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 натираем на те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9"/>
          <p:cNvSpPr/>
          <p:nvPr/>
        </p:nvSpPr>
        <p:spPr>
          <a:xfrm>
            <a:off x="3429000" y="49291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ы очищаем от семян (жидкость нам ни к чему), по желанию можно избавиться и от кожицы. Нарезаем мелкими куб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Горячие закрытые бутерброды Окорочок куриный"/>
          <p:cNvPicPr/>
          <p:nvPr/>
        </p:nvPicPr>
        <p:blipFill>
          <a:blip r:embed="rId1"/>
          <a:srcRect l="0" t="0" r="0" b="9947"/>
          <a:stretch/>
        </p:blipFill>
        <p:spPr>
          <a:xfrm>
            <a:off x="500040" y="428760"/>
            <a:ext cx="2157480" cy="221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Горячие закрытые бутерброды Сыр"/>
          <p:cNvPicPr/>
          <p:nvPr/>
        </p:nvPicPr>
        <p:blipFill>
          <a:blip r:embed="rId2"/>
          <a:srcRect l="0" t="0" r="655" b="9516"/>
          <a:stretch/>
        </p:blipFill>
        <p:spPr>
          <a:xfrm>
            <a:off x="1428840" y="2714760"/>
            <a:ext cx="2030400" cy="2071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Горячие закрытые бутерброды Помидор"/>
          <p:cNvPicPr/>
          <p:nvPr/>
        </p:nvPicPr>
        <p:blipFill>
          <a:blip r:embed="rId3"/>
          <a:srcRect l="0" t="0" r="655" b="12607"/>
          <a:stretch/>
        </p:blipFill>
        <p:spPr>
          <a:xfrm>
            <a:off x="500040" y="4857840"/>
            <a:ext cx="2354400" cy="164304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7"/>
          <p:cNvSpPr/>
          <p:nvPr/>
        </p:nvSpPr>
        <p:spPr>
          <a:xfrm>
            <a:off x="3714840" y="1285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оединяем, добавляем мелко порезанную зел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8"/>
          <p:cNvSpPr/>
          <p:nvPr/>
        </p:nvSpPr>
        <p:spPr>
          <a:xfrm>
            <a:off x="3857760" y="2500200"/>
            <a:ext cx="4929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нарезаем квадратами, подходящими для бутербродницы. Выкладываем на кусок хлеба начинку, закрываем вторым куском и отправляем в разогретую и смазанную сливочным маслом бутербродницу на пару-тройку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http://t2.gstatic.com/images?q=tbn:-QFmNDyIyONqXM:http://mykuhnya.ru/images/image167.jpg"/>
          <p:cNvPicPr/>
          <p:nvPr/>
        </p:nvPicPr>
        <p:blipFill>
          <a:blip r:embed="rId4"/>
          <a:stretch/>
        </p:blipFill>
        <p:spPr>
          <a:xfrm>
            <a:off x="7143840" y="4456080"/>
            <a:ext cx="1571400" cy="20606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5" descr="Тостер для бутербродов SC-1119 "/>
          <p:cNvPicPr/>
          <p:nvPr/>
        </p:nvPicPr>
        <p:blipFill>
          <a:blip r:embed="rId5"/>
          <a:stretch/>
        </p:blipFill>
        <p:spPr>
          <a:xfrm>
            <a:off x="4857840" y="4857840"/>
            <a:ext cx="202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2876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м можно готовить бутерброд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почему при приготовлении бутербродов надо особенно тщательно соблюдать санитарно-гигиенические требова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нужно обращать внимание , давая оценку приготовленным бутерброда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горячие напитки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ем отличается приготовление чая от кака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использовать зачерствевший хлеб и оставшиеся кусочки хлеб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solingenshop.ru/?mode=product&amp;product_id=1246540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www.o-ede.ru/lib/view.php?id=790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http://supercook.r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povarenok.ru/recipes/show/34395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914400" y="165240"/>
            <a:ext cx="8229600" cy="2412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86080" y="4714560"/>
            <a:ext cx="58579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С режущими инструмент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15722"/>
          <p:cNvPicPr/>
          <p:nvPr/>
        </p:nvPicPr>
        <p:blipFill>
          <a:blip r:embed="rId2"/>
          <a:stretch/>
        </p:blipFill>
        <p:spPr>
          <a:xfrm>
            <a:off x="428760" y="500040"/>
            <a:ext cx="1785960" cy="2057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3071880" y="235728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С электронагревательными приб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9" descr="http://solingen-shop.ru/d/90328/d/29004201_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Тостер для бутербродов SC-1119 "/>
          <p:cNvPicPr/>
          <p:nvPr/>
        </p:nvPicPr>
        <p:blipFill>
          <a:blip r:embed="rId5"/>
          <a:stretch/>
        </p:blipFill>
        <p:spPr>
          <a:xfrm>
            <a:off x="1714680" y="2571840"/>
            <a:ext cx="2076120" cy="167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empt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858080" y="5572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3286080" y="5643720"/>
            <a:ext cx="521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Правила санит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500040" y="158760"/>
            <a:ext cx="8229600" cy="16765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5" descr="Тостер для бутербродов SC-1119 "/>
          <p:cNvPicPr/>
          <p:nvPr/>
        </p:nvPicPr>
        <p:blipFill>
          <a:blip r:embed="rId2"/>
          <a:stretch/>
        </p:blipFill>
        <p:spPr>
          <a:xfrm>
            <a:off x="4673520" y="1785960"/>
            <a:ext cx="2131920" cy="1785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Микроволновая печь AEG MCD 2540 EM"/>
          <p:cNvPicPr/>
          <p:nvPr/>
        </p:nvPicPr>
        <p:blipFill>
          <a:blip r:embed="rId3"/>
          <a:stretch/>
        </p:blipFill>
        <p:spPr>
          <a:xfrm>
            <a:off x="2000160" y="3714840"/>
            <a:ext cx="2702160" cy="1714320"/>
          </a:xfrm>
          <a:prstGeom prst="rect">
            <a:avLst/>
          </a:prstGeom>
          <a:ln w="0">
            <a:noFill/>
          </a:ln>
        </p:spPr>
      </p:pic>
      <p:pic>
        <p:nvPicPr>
          <p:cNvPr id="194" name="imgb" descr="23154"/>
          <p:cNvPicPr/>
          <p:nvPr/>
        </p:nvPicPr>
        <p:blipFill>
          <a:blip r:embed="rId4"/>
          <a:stretch/>
        </p:blipFill>
        <p:spPr>
          <a:xfrm>
            <a:off x="5214960" y="4357800"/>
            <a:ext cx="2063880" cy="1857240"/>
          </a:xfrm>
          <a:prstGeom prst="rect">
            <a:avLst/>
          </a:prstGeom>
          <a:ln w="0">
            <a:noFill/>
          </a:ln>
        </p:spPr>
      </p:pic>
      <p:pic>
        <p:nvPicPr>
          <p:cNvPr id="195" name="imgb" descr="elektroplitka"/>
          <p:cNvPicPr/>
          <p:nvPr/>
        </p:nvPicPr>
        <p:blipFill>
          <a:blip r:embed="rId5"/>
          <a:srcRect l="21998" t="0" r="20796" b="0"/>
          <a:stretch/>
        </p:blipFill>
        <p:spPr>
          <a:xfrm>
            <a:off x="7000920" y="1500120"/>
            <a:ext cx="1731960" cy="2786040"/>
          </a:xfrm>
          <a:prstGeom prst="rect">
            <a:avLst/>
          </a:prstGeom>
          <a:ln w="0">
            <a:noFill/>
          </a:ln>
        </p:spPr>
      </p:pic>
      <p:pic>
        <p:nvPicPr>
          <p:cNvPr id="196" name="imgb" descr="147244"/>
          <p:cNvPicPr/>
          <p:nvPr/>
        </p:nvPicPr>
        <p:blipFill>
          <a:blip r:embed="rId6"/>
          <a:srcRect l="2410" t="0" r="3000" b="5263"/>
          <a:stretch/>
        </p:blipFill>
        <p:spPr>
          <a:xfrm>
            <a:off x="2857680" y="5500800"/>
            <a:ext cx="2214360" cy="1184040"/>
          </a:xfrm>
          <a:prstGeom prst="rect">
            <a:avLst/>
          </a:prstGeom>
          <a:ln w="0">
            <a:noFill/>
          </a:ln>
        </p:spPr>
      </p:pic>
      <p:pic>
        <p:nvPicPr>
          <p:cNvPr id="197" name="imgb" descr="15770287"/>
          <p:cNvPicPr/>
          <p:nvPr/>
        </p:nvPicPr>
        <p:blipFill>
          <a:blip r:embed="rId7"/>
          <a:srcRect l="5499" t="8750" r="4498" b="9997"/>
          <a:stretch/>
        </p:blipFill>
        <p:spPr>
          <a:xfrm>
            <a:off x="428760" y="1714680"/>
            <a:ext cx="2071440" cy="18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Новая хлебопечка LG HB2001BY 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57680" y="1785960"/>
            <a:ext cx="1682640" cy="185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180px-Samova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7120" y="4357800"/>
            <a:ext cx="1500120" cy="1858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http://t2.gstatic.com/images?q=tbn:2LYqYFT9NaWSjM:http://www.dk-m.ru/UserFiles/Image/Trial/img12_17764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408800" y="4714920"/>
            <a:ext cx="1373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971640" y="404640"/>
            <a:ext cx="763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batDi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batDi"/>
              <a:ea typeface="ArbatDi"/>
            </a:endParaRPr>
          </a:p>
        </p:txBody>
      </p:sp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00040" y="189000"/>
            <a:ext cx="8229600" cy="22795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2"/>
          <p:cNvSpPr/>
          <p:nvPr/>
        </p:nvSpPr>
        <p:spPr>
          <a:xfrm>
            <a:off x="642960" y="2428920"/>
            <a:ext cx="22716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ч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7"/>
          <p:cNvSpPr/>
          <p:nvPr/>
        </p:nvSpPr>
        <p:spPr>
          <a:xfrm>
            <a:off x="3500280" y="3429000"/>
            <a:ext cx="22860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коф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8"/>
          <p:cNvSpPr/>
          <p:nvPr/>
        </p:nvSpPr>
        <p:spPr>
          <a:xfrm>
            <a:off x="6286680" y="2357280"/>
            <a:ext cx="22860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кака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ая со стрелкой 40" descr=""/>
          <p:cNvPicPr/>
          <p:nvPr/>
        </p:nvPicPr>
        <p:blipFill>
          <a:blip r:embed="rId2"/>
          <a:stretch/>
        </p:blipFill>
        <p:spPr>
          <a:xfrm>
            <a:off x="6168960" y="145080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ая со стрелкой 44" descr=""/>
          <p:cNvPicPr/>
          <p:nvPr/>
        </p:nvPicPr>
        <p:blipFill>
          <a:blip r:embed="rId3"/>
          <a:stretch/>
        </p:blipFill>
        <p:spPr>
          <a:xfrm>
            <a:off x="2054160" y="145080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ая со стрелкой 51" descr=""/>
          <p:cNvPicPr/>
          <p:nvPr/>
        </p:nvPicPr>
        <p:blipFill>
          <a:blip r:embed="rId4"/>
          <a:stretch/>
        </p:blipFill>
        <p:spPr>
          <a:xfrm>
            <a:off x="4273560" y="1901880"/>
            <a:ext cx="743040" cy="1736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Рисунок6"/>
          <p:cNvPicPr/>
          <p:nvPr/>
        </p:nvPicPr>
        <p:blipFill>
          <a:blip r:embed="rId5"/>
          <a:stretch/>
        </p:blipFill>
        <p:spPr>
          <a:xfrm>
            <a:off x="3857760" y="4500720"/>
            <a:ext cx="1576080" cy="21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ttp://t0.gstatic.com/images?q=tbn:Mh5QyfGIYTDzbM:http://viva.org.ua/media/tea_5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2800" y="3643200"/>
            <a:ext cx="1944720" cy="1928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ttp://www.jagannath.ru/upload/iblock/f46/7506773.jpg"/>
          <p:cNvPicPr/>
          <p:nvPr/>
        </p:nvPicPr>
        <p:blipFill>
          <a:blip r:embed="rId8"/>
          <a:stretch/>
        </p:blipFill>
        <p:spPr>
          <a:xfrm>
            <a:off x="6500880" y="3643200"/>
            <a:ext cx="19288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8571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 - история кофе овеяна легендами и мифами. Одна из легенд говорит, будто бы субстанция, которую Елена смешивала с вином, чтобы «снять печаль и гнев с души», - была не чем иным, как коф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Европу кофе был привезен в 1626 году итальянцем Пьетро делла Валл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Францию кофе попадает в период правления Людовика ХIV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глии первая кофейня появилась в Лондоне в 1652 год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ю кофе впервые попал при царе Алексее Михайлович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I, фактически ввел культ кофе. После Петра I покровительницей кофе стала Анна Иоанновна, по велению которой в 1740 году в столице  открывается кофейный д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ое распространение кофе пошло после войны 1812 год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214" name="imgb" descr="&amp;t=1&amp;usg=__NVceVN4W2LL58d635NMvMqwS3Ks="/>
          <p:cNvPicPr/>
          <p:nvPr/>
        </p:nvPicPr>
        <p:blipFill>
          <a:blip r:embed="rId2"/>
          <a:stretch/>
        </p:blipFill>
        <p:spPr>
          <a:xfrm>
            <a:off x="500040" y="5357880"/>
            <a:ext cx="1692360" cy="1357200"/>
          </a:xfrm>
          <a:prstGeom prst="rect">
            <a:avLst/>
          </a:prstGeom>
          <a:ln w="0">
            <a:noFill/>
          </a:ln>
        </p:spPr>
      </p:pic>
      <p:pic>
        <p:nvPicPr>
          <p:cNvPr id="215" name="imgb" descr="&amp;t=1&amp;usg=__y5a_DBaAWb4VHr4Oe65m6k_xX-M="/>
          <p:cNvPicPr/>
          <p:nvPr/>
        </p:nvPicPr>
        <p:blipFill>
          <a:blip r:embed="rId3"/>
          <a:stretch/>
        </p:blipFill>
        <p:spPr>
          <a:xfrm>
            <a:off x="2857680" y="5357880"/>
            <a:ext cx="1446120" cy="1333440"/>
          </a:xfrm>
          <a:prstGeom prst="rect">
            <a:avLst/>
          </a:prstGeom>
          <a:ln w="0">
            <a:noFill/>
          </a:ln>
        </p:spPr>
      </p:pic>
      <p:pic>
        <p:nvPicPr>
          <p:cNvPr id="216" name="imgb" descr="&amp;t=1&amp;usg=__yoMjib63DKSIRYxECAeoqSmCSdI="/>
          <p:cNvPicPr/>
          <p:nvPr/>
        </p:nvPicPr>
        <p:blipFill>
          <a:blip r:embed="rId4"/>
          <a:stretch/>
        </p:blipFill>
        <p:spPr>
          <a:xfrm>
            <a:off x="5143680" y="5357880"/>
            <a:ext cx="1625400" cy="1298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200px-CoffeePalestineStereo"/>
          <p:cNvPicPr/>
          <p:nvPr/>
        </p:nvPicPr>
        <p:blipFill>
          <a:blip r:embed="rId5"/>
          <a:stretch/>
        </p:blipFill>
        <p:spPr>
          <a:xfrm>
            <a:off x="7572240" y="5276880"/>
            <a:ext cx="1285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о исторически родом из Южной Америки, история его возделывания начинается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"/>
              </a:rPr>
              <a:t>Центральной Амер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1100 го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 н. э.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Ацте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ли какао с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XIV ве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1519 год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анские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6"/>
              </a:rPr>
              <a:t>конкистадор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езли какао в Европ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7"/>
              </a:rPr>
              <a:t>XVII ве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ми регионами возделывания был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8"/>
              </a:rPr>
              <a:t>Гуаяки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9"/>
              </a:rPr>
              <a:t>Эквадо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0"/>
              </a:rPr>
              <a:t>Карака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1"/>
              </a:rPr>
              <a:t>Венесуэл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2"/>
              </a:rPr>
              <a:t>Беле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3"/>
              </a:rPr>
              <a:t>Салвад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4"/>
              </a:rPr>
              <a:t>Бразил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начале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5"/>
              </a:rPr>
              <a:t>XX ве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ым большим производителем какао стала португальская колония группа острово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6"/>
              </a:rPr>
              <a:t>Сан-Томе и Принсип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17"/>
          <a:stretch/>
        </p:blipFill>
        <p:spPr>
          <a:xfrm>
            <a:off x="426960" y="298440"/>
            <a:ext cx="8229600" cy="1281240"/>
          </a:xfrm>
          <a:prstGeom prst="rect">
            <a:avLst/>
          </a:prstGeom>
          <a:ln w="0">
            <a:noFill/>
          </a:ln>
        </p:spPr>
      </p:pic>
      <p:pic>
        <p:nvPicPr>
          <p:cNvPr id="220" name="imgb" descr="1018_big"/>
          <p:cNvPicPr/>
          <p:nvPr/>
        </p:nvPicPr>
        <p:blipFill>
          <a:blip r:embed="rId18"/>
          <a:stretch/>
        </p:blipFill>
        <p:spPr>
          <a:xfrm>
            <a:off x="4500720" y="3929040"/>
            <a:ext cx="1411200" cy="1847880"/>
          </a:xfrm>
          <a:prstGeom prst="rect">
            <a:avLst/>
          </a:prstGeom>
          <a:ln w="0">
            <a:noFill/>
          </a:ln>
        </p:spPr>
      </p:pic>
      <p:pic>
        <p:nvPicPr>
          <p:cNvPr id="221" name="imgb" descr="DELO-schokolad-29hi"/>
          <p:cNvPicPr/>
          <p:nvPr/>
        </p:nvPicPr>
        <p:blipFill>
          <a:blip r:embed="rId19"/>
          <a:stretch/>
        </p:blipFill>
        <p:spPr>
          <a:xfrm>
            <a:off x="5952960" y="4500720"/>
            <a:ext cx="2905200" cy="2179440"/>
          </a:xfrm>
          <a:prstGeom prst="rect">
            <a:avLst/>
          </a:prstGeom>
          <a:ln w="0">
            <a:noFill/>
          </a:ln>
        </p:spPr>
      </p:pic>
      <p:pic>
        <p:nvPicPr>
          <p:cNvPr id="222" name="imgb" descr="chokolad"/>
          <p:cNvPicPr/>
          <p:nvPr/>
        </p:nvPicPr>
        <p:blipFill>
          <a:blip r:embed="rId20"/>
          <a:stretch/>
        </p:blipFill>
        <p:spPr>
          <a:xfrm>
            <a:off x="2571840" y="5143680"/>
            <a:ext cx="1928880" cy="1487160"/>
          </a:xfrm>
          <a:prstGeom prst="rect">
            <a:avLst/>
          </a:prstGeom>
          <a:ln w="0">
            <a:noFill/>
          </a:ln>
        </p:spPr>
      </p:pic>
      <p:pic>
        <p:nvPicPr>
          <p:cNvPr id="223" name="imgb" descr="cocoa"/>
          <p:cNvPicPr/>
          <p:nvPr/>
        </p:nvPicPr>
        <p:blipFill>
          <a:blip r:embed="rId21"/>
          <a:stretch/>
        </p:blipFill>
        <p:spPr>
          <a:xfrm>
            <a:off x="285840" y="3786120"/>
            <a:ext cx="2343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Б.М. Кустодиев &quot;Купчиха на балконе.&quot;"/>
          <p:cNvPicPr/>
          <p:nvPr/>
        </p:nvPicPr>
        <p:blipFill>
          <a:blip r:embed="rId1"/>
          <a:stretch/>
        </p:blipFill>
        <p:spPr>
          <a:xfrm>
            <a:off x="285840" y="928800"/>
            <a:ext cx="1857240" cy="28922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214200" y="378612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М. Кустодиев "Купчиха на балконе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59" descr="К.Коровин &quot;За чаем.&quot;"/>
          <p:cNvPicPr/>
          <p:nvPr/>
        </p:nvPicPr>
        <p:blipFill>
          <a:blip r:embed="rId2"/>
          <a:stretch/>
        </p:blipFill>
        <p:spPr>
          <a:xfrm>
            <a:off x="2349360" y="963720"/>
            <a:ext cx="3294360" cy="27511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4"/>
          <p:cNvSpPr/>
          <p:nvPr/>
        </p:nvSpPr>
        <p:spPr>
          <a:xfrm>
            <a:off x="3364920" y="364320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Коровин "За чаем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642960" y="6357960"/>
            <a:ext cx="22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Серебрякова "За обедом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44" descr="В.Довбенко &quot;Завтрак.&quot;"/>
          <p:cNvPicPr/>
          <p:nvPr/>
        </p:nvPicPr>
        <p:blipFill>
          <a:blip r:embed="rId3"/>
          <a:stretch/>
        </p:blipFill>
        <p:spPr>
          <a:xfrm>
            <a:off x="5786280" y="1000080"/>
            <a:ext cx="2953080" cy="26049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9"/>
          <p:cNvSpPr/>
          <p:nvPr/>
        </p:nvSpPr>
        <p:spPr>
          <a:xfrm>
            <a:off x="6220080" y="364320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Довбенко "Завтрак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20" descr="Вербное воскресенье."/>
          <p:cNvPicPr/>
          <p:nvPr/>
        </p:nvPicPr>
        <p:blipFill>
          <a:blip r:embed="rId4"/>
          <a:stretch/>
        </p:blipFill>
        <p:spPr>
          <a:xfrm>
            <a:off x="5500800" y="4000680"/>
            <a:ext cx="3274920" cy="23572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3"/>
          <p:cNvSpPr/>
          <p:nvPr/>
        </p:nvSpPr>
        <p:spPr>
          <a:xfrm>
            <a:off x="6504840" y="635796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бное воскресен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92" descr="З.Серебрякова &quot;За обедом.&quot;"/>
          <p:cNvPicPr/>
          <p:nvPr/>
        </p:nvPicPr>
        <p:blipFill>
          <a:blip r:embed="rId5"/>
          <a:stretch/>
        </p:blipFill>
        <p:spPr>
          <a:xfrm>
            <a:off x="285840" y="4000680"/>
            <a:ext cx="2857320" cy="24080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3" descr="А.Матвеева &quot;Натюрморт с самоваром.&quot;"/>
          <p:cNvPicPr/>
          <p:nvPr/>
        </p:nvPicPr>
        <p:blipFill>
          <a:blip r:embed="rId6"/>
          <a:stretch/>
        </p:blipFill>
        <p:spPr>
          <a:xfrm>
            <a:off x="3500280" y="3929040"/>
            <a:ext cx="1717920" cy="264312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2" descr=""/>
          <p:cNvPicPr/>
          <p:nvPr/>
        </p:nvPicPr>
        <p:blipFill>
          <a:blip r:embed="rId7"/>
          <a:stretch/>
        </p:blipFill>
        <p:spPr>
          <a:xfrm>
            <a:off x="426960" y="103320"/>
            <a:ext cx="82296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428760" y="1000080"/>
            <a:ext cx="492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могут быть как холодной, так и горячей закуской. Горячие бутерброды представляют собой тот же обычный бутерброд (вместо масла здесь уместно использовать различные соусы – майонез, горчица, кетчуп), только разогреваемый в процессе приготовления и употребляемый в горячем виде. Поверх начинки такого бутерброда кладут сыр (либо кусочком, либо натертый) как только сыр начинает плавиться в процессе разогревания – горячий бутерброд готов к употреблени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тартинки"/>
          <p:cNvPicPr/>
          <p:nvPr/>
        </p:nvPicPr>
        <p:blipFill>
          <a:blip r:embed="rId2"/>
          <a:stretch/>
        </p:blipFill>
        <p:spPr>
          <a:xfrm>
            <a:off x="5214960" y="3929040"/>
            <a:ext cx="3619440" cy="2637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многослойные бутерброд"/>
          <p:cNvPicPr/>
          <p:nvPr/>
        </p:nvPicPr>
        <p:blipFill>
          <a:blip r:embed="rId3"/>
          <a:stretch/>
        </p:blipFill>
        <p:spPr>
          <a:xfrm>
            <a:off x="5214960" y="1071720"/>
            <a:ext cx="36194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9:24:52Z</dcterms:created>
  <dc:creator>ЛИА</dc:creator>
  <dc:description/>
  <dc:language>en-US</dc:language>
  <cp:lastModifiedBy>Илья</cp:lastModifiedBy>
  <dcterms:modified xsi:type="dcterms:W3CDTF">2013-12-10T22:48:08Z</dcterms:modified>
  <cp:revision>75</cp:revision>
  <dc:subject/>
  <dc:title>Слайд 1</dc:title>
</cp:coreProperties>
</file>