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83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43.png" ContentType="image/png"/>
  <Override PartName="/ppt/media/image5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42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11.jpeg" ContentType="image/jpeg"/>
  <Override PartName="/ppt/media/image28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1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6.jpeg" ContentType="image/jpeg"/>
  <Override PartName="/ppt/media/image3.jpeg" ContentType="image/jpeg"/>
  <Override PartName="/ppt/media/image14.jpeg" ContentType="image/jpeg"/>
  <Override PartName="/ppt/media/image41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70.jpeg" ContentType="image/jpeg"/>
  <Override PartName="/ppt/media/image65.jpeg" ContentType="image/jpeg"/>
  <Override PartName="/ppt/media/image26.png" ContentType="image/png"/>
  <Override PartName="/ppt/media/image8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81.jpeg" ContentType="image/jpeg"/>
  <Override PartName="/ppt/media/image75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67.jpeg" ContentType="image/jpeg"/>
  <Override PartName="/ppt/media/image54.png" ContentType="image/png"/>
  <Override PartName="/ppt/media/image76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27.jpeg" ContentType="image/jpeg"/>
  <Override PartName="/ppt/media/image50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6.gif" ContentType="image/gif"/>
  <Override PartName="/ppt/media/image51.jpeg" ContentType="image/jpeg"/>
  <Override PartName="/ppt/media/image37.jpeg" ContentType="image/jpeg"/>
  <Override PartName="/ppt/media/image20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9.jpeg" ContentType="image/jpeg"/>
  <Override PartName="/ppt/media/image8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7D87-1F91-497F-9CF7-9BFD77D81A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1DCF-6F24-48BA-8A8F-3A1CE5EF29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9AFC-D901-420E-9407-6AD31D6ECD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6269-83B9-455A-816D-10E0BA8425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F447-D3C9-4255-95A4-01994A6743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9569-DD8C-4BF6-92EA-AA948E649A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49F7-3A17-4502-A3FC-37A9969E82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69C4-9070-428A-87AD-FCD56889E5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23C0-4FC1-4462-BAAD-0813491008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0FAD-617A-4B61-9E56-791133FAE3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6A39-7E19-40C6-AADB-3C243B423D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BCB7-A6BC-43C5-9E66-991243AFEF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728D-6857-4E42-A4F7-7CB7840CCF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9483-DD80-4917-97FB-FF3336A219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C554-9FEE-4A94-9310-0927D6D7F5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DA67-4521-4014-BE06-64A0E35050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F7DE-74EC-46E2-B11F-EDC456E9C8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486B-C988-4DD5-A514-52CF8A4C57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33DA-4076-4865-AECF-261C22CEB9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B29C-5EB5-421C-8D9F-334956F542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05D5-B298-4DBD-BEEF-BC22B32771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4039-92BB-4CD0-BF5E-86CA526BEC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0633-638A-44EE-B30C-11AE352952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0994-B27A-466E-920C-5072A95A3B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AF9B-2C79-4C01-A474-389CA40F9C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F5E-5761-4453-B901-045CFBC8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AF4-6095-4E53-86E6-E90F5220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601-0DB5-42AA-97C9-5C7830E5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0C1-6AA9-49C3-8816-022BE003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38FA7-AAEA-4614-ADCE-72DE4967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1700E-D6FD-4595-A821-9B9A7FB7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6DA24-C482-44B5-8C36-B20C7F0C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08271-4DE0-4F8C-8B01-CF4C8895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9D981-A4CB-47B8-B431-E5121C8B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43760-9E8D-41F0-B447-D9D7A8AF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34FCC-DF60-43AD-A709-9A5B0D8A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507-50AF-4292-A374-E582553F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6F5AA-0518-482F-B41A-06C6443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55F8D-9953-4EA9-9DFD-BECB241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2BA9B-AD6C-4B27-A50C-2C6000CF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8F849-1607-4B0F-BE59-FFE53142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41266-C017-43CE-A616-EC5B2006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263B-8675-4C3C-A5FB-2A58D752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DFFB-3410-40E1-BC7F-E66D477D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19EF-E06B-4F3E-A3BF-F0635B12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7D2E-370B-452D-B585-32B5FDBF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3D9A0-1A84-444D-AA0B-3D090597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342-D62A-411F-8A04-7A185B1C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BBB7-A3E8-4038-A6F7-603E54F1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83A6-8FFD-4619-B700-3B2482EE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34DA-8C72-4068-8D11-05AC430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F0DC-4146-4DC3-9A80-8219279B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3B0A4-9424-49ED-9C21-77B61990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CFA3-9FE1-4B74-BB8B-D9F45874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130F-9456-4856-8611-79E6EE60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307BEE-E977-442D-8FFF-3B225AA2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F8468-8E22-4013-9E74-426D1DD8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A17B2-26E1-4EB6-B4E7-867B4B55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979-AE6C-40AF-965F-8E3F3959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D82C8-BE0F-46A1-8D10-23A65A07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A70C60-B881-4FB4-BA33-4F79D18B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2E2F62-28FA-4C29-9EE2-9427D472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88049-FE5E-4FD5-ACC1-A83F6AA0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50A7C-512D-44FD-B926-9D60FDE1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28D083-0AE6-49D5-B9D8-ECA0CD6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0EB21-A5AB-41B7-B2D3-C9BC0A74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38B9B2-B4E1-4947-AE99-58D2B355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7A54C-AAF5-43CB-A230-887DD35F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F22-89D1-4C2F-B1AF-922B65E9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3A1-B942-4106-9ADB-9399A765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827-D455-458C-A461-F3D898D1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6FC-A8AA-4B48-A69F-34A8AB5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43E-D76C-431E-837D-D37A022C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9D7A-694E-40C3-A3B3-CA607DE69F18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5644e"/>
          </a:solidFill>
          <a:ln w="38160">
            <a:solidFill>
              <a:srgbClr val="a5644e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6E7D-E019-4628-9E02-8CC62731EF03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206B-A109-4D19-8B4D-D36E2D90B940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5D56-A1D4-4E41-B6D3-755D12208DA1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ru/imgres?imgurl=http://mykuhnya.ru/images/image158.jpg&amp;imgrefurl=http://mykuhnya.ru/utvar/page_3_5.html&amp;usg=__mqFcLjzPIxDVV5MzLb49aSOaYH0=&amp;h=148&amp;w=200&amp;sz=40&amp;hl=ru&amp;start=15&amp;zoom=0&amp;tbnid=1G84gSf35pMsiM:&amp;tbnh=77&amp;tbnw=104&amp;prev=/images%3Fq%3D%25D0%25BF%25D1%2580%25D0%25B8%25D1%2581%25D0%25BF%25D0%25BE%25D1%2581%25D0%25BE%25D0%25B1%25D0%25BB%25D0%25B5%25D0%25BD%25D0%25B8%25D1%258F%2B%25D0%25B4%25D0%25BB%25D1%258F%2B%25D0%25B1%25D1%2583%25D1%2582%25D0%25B5%25D1%2580%25D0%25B1%25D1%2580%25D0%25BE%25D0%25B4%25D0%25BE%25D0%25B2%26um%3D1%26hl%3Dru%26lr%3D%26newwindow%3D1%26sa%3DG%26rlz%3D1W1GGLD_ru%26tbs%3Disch:1&amp;um=1&amp;itbs=1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google.ru/imgres?imgurl=http://www.priyatnogo.com/uploads/posts/2010-09/thumbs/1283418325_buterbrody-na-shpazhke.jpg&amp;imgrefurl=http://www.priyatnogo.com/2955-recept-buterbrodov-na-shpazhkakh.html&amp;usg=__eKO63QOBgE17k8M-TGnlOk_WauY=&amp;h=355&amp;w=450&amp;sz=32&amp;hl=ru&amp;start=9&amp;zoom=1&amp;tbnid=hOVEpr9U9OWK8M:&amp;tbnh=100&amp;tbnw=127&amp;prev=/images%3Fq%3D%25D1%2588%25D0%25BF%25D0%25B0%25D0%25B6%25D0%25BA%25D0%25B8%2B%25D0%25B4%25D0%25BB%25D1%258F%2B%25D0%25B1%25D1%2583%25D1%2582%25D0%25B5%25D1%2580%25D0%25B1%25D1%2580%25D0%25BE%25D0%25B4%25D0%25BE%25D0%25B2%26um%3D1%26hl%3Dru%26lr%3D%26newwindow%3D1%26sa%3DG%26rlz%3D1W1GGLD_ru%26tbs%3Disch:1&amp;um=1&amp;itbs=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hyperlink" Target="http://www.povarenok.ru/recipes/ingredient/5165" TargetMode="External"/><Relationship Id="rId3" Type="http://schemas.openxmlformats.org/officeDocument/2006/relationships/hyperlink" Target="http://www.povarenok.ru/recipes/ingredient/2036" TargetMode="External"/><Relationship Id="rId4" Type="http://schemas.openxmlformats.org/officeDocument/2006/relationships/hyperlink" Target="http://www.povarenok.ru/recipes/ingredient/10958" TargetMode="External"/><Relationship Id="rId5" Type="http://schemas.openxmlformats.org/officeDocument/2006/relationships/hyperlink" Target="http://www.povarenok.ru/recipes/ingredient/1681" TargetMode="External"/><Relationship Id="rId6" Type="http://schemas.openxmlformats.org/officeDocument/2006/relationships/hyperlink" Target="http://www.povarenok.ru/recipes/ingredient/2866" TargetMode="External"/><Relationship Id="rId7" Type="http://schemas.openxmlformats.org/officeDocument/2006/relationships/hyperlink" Target="http://www.povarenok.ru/recipes/ingredient/2381" TargetMode="External"/><Relationship Id="rId8" Type="http://schemas.openxmlformats.org/officeDocument/2006/relationships/hyperlink" Target="http://www.povarenok.ru/recipes/ingredient/1067" TargetMode="External"/><Relationship Id="rId9" Type="http://schemas.openxmlformats.org/officeDocument/2006/relationships/hyperlink" Target="http://www.povarenok.ru/recipes/ingredient/2212" TargetMode="External"/><Relationship Id="rId10" Type="http://schemas.openxmlformats.org/officeDocument/2006/relationships/image" Target="../media/image5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varenok.ru/recipes/ingredient/2211" TargetMode="External"/><Relationship Id="rId2" Type="http://schemas.openxmlformats.org/officeDocument/2006/relationships/hyperlink" Target="http://www.povarenok.ru/recipes/ingredient/1443" TargetMode="External"/><Relationship Id="rId3" Type="http://schemas.openxmlformats.org/officeDocument/2006/relationships/hyperlink" Target="http://www.povarenok.ru/recipes/ingredient/4433" TargetMode="External"/><Relationship Id="rId4" Type="http://schemas.openxmlformats.org/officeDocument/2006/relationships/hyperlink" Target="http://www.povarenok.ru/recipes/ingredient/9148" TargetMode="External"/><Relationship Id="rId5" Type="http://schemas.openxmlformats.org/officeDocument/2006/relationships/hyperlink" Target="http://www.povarenok.ru/recipes/ingredient/1011" TargetMode="External"/><Relationship Id="rId6" Type="http://schemas.openxmlformats.org/officeDocument/2006/relationships/hyperlink" Target="http://www.povarenok.ru/recipes/ingredient/2273" TargetMode="External"/><Relationship Id="rId7" Type="http://schemas.openxmlformats.org/officeDocument/2006/relationships/hyperlink" Target="http://www.povarenok.ru/recipes/ingredient/1030" TargetMode="External"/><Relationship Id="rId8" Type="http://schemas.openxmlformats.org/officeDocument/2006/relationships/hyperlink" Target="http://www.povarenok.ru/recipes/ingredient/786" TargetMode="External"/><Relationship Id="rId9" Type="http://schemas.openxmlformats.org/officeDocument/2006/relationships/hyperlink" Target="http://www.povarenok.ru/recipes/ingredient/5604" TargetMode="External"/><Relationship Id="rId10" Type="http://schemas.openxmlformats.org/officeDocument/2006/relationships/image" Target="../media/image6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ovarenok.ru/recipes/ingredient/7138" TargetMode="External"/><Relationship Id="rId2" Type="http://schemas.openxmlformats.org/officeDocument/2006/relationships/hyperlink" Target="http://www.povarenok.ru/recipes/ingredient/1740" TargetMode="External"/><Relationship Id="rId3" Type="http://schemas.openxmlformats.org/officeDocument/2006/relationships/hyperlink" Target="http://www.povarenok.ru/recipes/ingredient/1443" TargetMode="External"/><Relationship Id="rId4" Type="http://schemas.openxmlformats.org/officeDocument/2006/relationships/hyperlink" Target="http://www.povarenok.ru/recipes/ingredient/2381" TargetMode="External"/><Relationship Id="rId5" Type="http://schemas.openxmlformats.org/officeDocument/2006/relationships/hyperlink" Target="http://www.povarenok.ru/recipes/ingredient/2213" TargetMode="External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52.jpeg"/><Relationship Id="rId4" Type="http://schemas.openxmlformats.org/officeDocument/2006/relationships/image" Target="../media/image8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hyperlink" Target="http://solingen-shop.ru/d/90328/d/4126_14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hyperlink" Target="http://www.povarenok.ru/recipes/show/13211/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hyperlink" Target="http://www.povarenok.ru/images/all/337880.jpg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ru.wikipedia.org/wiki/&#1060;&#1072;&#1081;&#1083;:Samovar.silver.jpg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http://www.google.ru/imgres?imgurl=http://www.dk-m.ru/UserFiles/Image/Trial/img12_17764.jpg&amp;imgrefurl=http://www.dk-m.ru/shop/UID_12.html&amp;usg=__qVGjW4Cps7CjzguMzYf3SMYyPsY=&amp;h=300&amp;w=250&amp;sz=12&amp;hl=ru&amp;start=11&amp;zoom=1&amp;tbnid=2LYqYFT9NaWSjM:&amp;tbnh=116&amp;tbnw=97&amp;prev=/images%3Fq%3D%25D1%258D%25D0%25BB%25D0%25B5%25D0%25BA%25D1%2582%25D1%2580%25D0%25BE%25D1%2587%25D0%25B0%25D0%25B9%25D0%25BD%25D0%25B8%25D0%25BA%26um%3D1%26hl%3Dru%26lr%3D%26newwindow%3D1%26sa%3DG%26rlz%3D1W1GGLD_ru%26tbs%3Disch:1&amp;um=1&amp;itbs=1" TargetMode="External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hyperlink" Target="http://www.google.ru/imgres?imgurl=http://viva.org.ua/media/tea_5.jpg&amp;imgrefurl=http://viva.org.ua/&amp;usg=__5dUkX0lBXYtH7iw9gQ7ENAqD53Q=&amp;h=314&amp;w=316&amp;sz=26&amp;hl=ru&amp;start=1&amp;zoom=1&amp;tbnid=Mh5QyfGIYTDzbM:&amp;tbnh=116&amp;tbnw=117&amp;prev=/images%3Fq%3D%25D1%2587%25D0%25B0%25D0%25B9%26um%3D1%26hl%3Dru%26lr%3D%26newwindow%3D1%26sa%3DX%26rlz%3D1W1GGLD_ru%26tbs%3Disch:1&amp;um=1&amp;itbs=1" TargetMode="External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7;&#1085;&#1090;&#1088;&#1072;&#1083;&#1100;&#1085;&#1072;&#1103;_&#1040;&#1084;&#1077;&#1088;&#1080;&#1082;&#1072;" TargetMode="External"/><Relationship Id="rId2" Type="http://schemas.openxmlformats.org/officeDocument/2006/relationships/hyperlink" Target="http://ru.wikipedia.org/wiki/1100_&#1075;&#1086;&#1076;" TargetMode="External"/><Relationship Id="rId3" Type="http://schemas.openxmlformats.org/officeDocument/2006/relationships/hyperlink" Target="http://ru.wikipedia.org/wiki/&#1040;&#1094;&#1090;&#1077;&#1082;" TargetMode="External"/><Relationship Id="rId4" Type="http://schemas.openxmlformats.org/officeDocument/2006/relationships/hyperlink" Target="http://ru.wikipedia.org/wiki/XIV_&#1074;&#1077;&#1082;" TargetMode="External"/><Relationship Id="rId5" Type="http://schemas.openxmlformats.org/officeDocument/2006/relationships/hyperlink" Target="http://ru.wikipedia.org/wiki/1519_&#1075;&#1086;&#1076;" TargetMode="External"/><Relationship Id="rId6" Type="http://schemas.openxmlformats.org/officeDocument/2006/relationships/hyperlink" Target="http://ru.wikipedia.org/wiki/&#1050;&#1086;&#1085;&#1082;&#1080;&#1089;&#1090;&#1072;&#1076;&#1086;&#1088;" TargetMode="External"/><Relationship Id="rId7" Type="http://schemas.openxmlformats.org/officeDocument/2006/relationships/hyperlink" Target="http://ru.wikipedia.org/wiki/XVII_&#1074;&#1077;&#1082;" TargetMode="External"/><Relationship Id="rId8" Type="http://schemas.openxmlformats.org/officeDocument/2006/relationships/hyperlink" Target="http://ru.wikipedia.org/wiki/&#1043;&#1091;&#1072;&#1103;&#1082;&#1080;&#1083;&#1100;" TargetMode="External"/><Relationship Id="rId9" Type="http://schemas.openxmlformats.org/officeDocument/2006/relationships/hyperlink" Target="http://ru.wikipedia.org/wiki/&#1069;&#1082;&#1074;&#1072;&#1076;&#1086;&#1088;" TargetMode="External"/><Relationship Id="rId10" Type="http://schemas.openxmlformats.org/officeDocument/2006/relationships/hyperlink" Target="http://ru.wikipedia.org/wiki/&#1050;&#1072;&#1088;&#1072;&#1082;&#1072;&#1089;" TargetMode="External"/><Relationship Id="rId11" Type="http://schemas.openxmlformats.org/officeDocument/2006/relationships/hyperlink" Target="http://ru.wikipedia.org/wiki/&#1042;&#1077;&#1085;&#1077;&#1089;&#1091;&#1101;&#1083;&#1072;" TargetMode="External"/><Relationship Id="rId12" Type="http://schemas.openxmlformats.org/officeDocument/2006/relationships/hyperlink" Target="http://ru.wikipedia.org/wiki/&#1041;&#1077;&#1083;&#1077;&#1084;" TargetMode="External"/><Relationship Id="rId13" Type="http://schemas.openxmlformats.org/officeDocument/2006/relationships/hyperlink" Target="http://ru.wikipedia.org/wiki/&#1057;&#1072;&#1083;&#1074;&#1072;&#1076;&#1086;&#1088;_(&#1041;&#1072;&#1080;&#1103;)" TargetMode="External"/><Relationship Id="rId14" Type="http://schemas.openxmlformats.org/officeDocument/2006/relationships/hyperlink" Target="http://ru.wikipedia.org/wiki/&#1041;&#1088;&#1072;&#1079;&#1080;&#1083;&#1080;&#1103;" TargetMode="External"/><Relationship Id="rId15" Type="http://schemas.openxmlformats.org/officeDocument/2006/relationships/hyperlink" Target="http://ru.wikipedia.org/wiki/XX_&#1074;&#1077;&#1082;" TargetMode="External"/><Relationship Id="rId16" Type="http://schemas.openxmlformats.org/officeDocument/2006/relationships/hyperlink" Target="http://ru.wikipedia.org/wiki/&#1057;&#1072;&#1085;-&#1058;&#1086;&#1084;&#1077;_&#1080;_&#1055;&#1088;&#1080;&#1085;&#1089;&#1080;&#1087;&#1080;" TargetMode="External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jpeg"/><Relationship Id="rId21" Type="http://schemas.openxmlformats.org/officeDocument/2006/relationships/image" Target="../media/image35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1476360" y="5950080"/>
            <a:ext cx="63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вчарова НВ, учитель технологии, МОБУ СОШ №2,Тында, 2012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428920" y="4500360"/>
            <a:ext cx="42148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Урок в 5 класс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706320" y="1212840"/>
            <a:ext cx="7731360" cy="2871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http://t0.gstatic.com/images?q=tbn:1G84gSf35pMsiM:http://mykuhnya.ru/images/image15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4357800"/>
            <a:ext cx="1737000" cy="128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http://t0.gstatic.com/images?q=tbn:hOVEpr9U9OWK8M:http://www.priyatnogo.com/uploads/posts/2010-09/thumbs/1283418325_buterbrody-na-shpazhk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00880" y="4286160"/>
            <a:ext cx="17240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0" y="255600"/>
            <a:ext cx="8229600" cy="1390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Бутерброд с картошкой Лук   репчатый"/>
          <p:cNvPicPr/>
          <p:nvPr/>
        </p:nvPicPr>
        <p:blipFill>
          <a:blip r:embed="rId2"/>
          <a:stretch/>
        </p:blipFill>
        <p:spPr>
          <a:xfrm>
            <a:off x="357120" y="3429000"/>
            <a:ext cx="2692440" cy="2009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Горячий бутерброд 1000 +1 Сыр твердый"/>
          <p:cNvPicPr/>
          <p:nvPr/>
        </p:nvPicPr>
        <p:blipFill>
          <a:blip r:embed="rId3"/>
          <a:stretch/>
        </p:blipFill>
        <p:spPr>
          <a:xfrm>
            <a:off x="3214800" y="1143000"/>
            <a:ext cx="2394000" cy="3000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Горячие бутерброды &quot;С любовью&quot; Ветчина"/>
          <p:cNvPicPr/>
          <p:nvPr/>
        </p:nvPicPr>
        <p:blipFill>
          <a:blip r:embed="rId4"/>
          <a:stretch/>
        </p:blipFill>
        <p:spPr>
          <a:xfrm>
            <a:off x="5857920" y="1214280"/>
            <a:ext cx="2774880" cy="2071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Горячие бутерброды &quot;Сытный завтрак&quot; Паприка"/>
          <p:cNvPicPr/>
          <p:nvPr/>
        </p:nvPicPr>
        <p:blipFill>
          <a:blip r:embed="rId5"/>
          <a:stretch/>
        </p:blipFill>
        <p:spPr>
          <a:xfrm>
            <a:off x="5857920" y="3357720"/>
            <a:ext cx="2797200" cy="208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Бутерброд &quot;Капитан Врунгель&quot; Зелень"/>
          <p:cNvPicPr/>
          <p:nvPr/>
        </p:nvPicPr>
        <p:blipFill>
          <a:blip r:embed="rId6"/>
          <a:stretch/>
        </p:blipFill>
        <p:spPr>
          <a:xfrm>
            <a:off x="3000240" y="4286160"/>
            <a:ext cx="2870280" cy="21430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Горячие закрытые бутерброды Помидор"/>
          <p:cNvPicPr/>
          <p:nvPr/>
        </p:nvPicPr>
        <p:blipFill>
          <a:blip r:embed="rId7"/>
          <a:srcRect l="2343" t="0" r="0" b="13465"/>
          <a:stretch/>
        </p:blipFill>
        <p:spPr>
          <a:xfrm>
            <a:off x="357120" y="1214280"/>
            <a:ext cx="2743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426960" y="33480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428760" y="114300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для военнослужащих американской армии был разработан супер-бутерброд, который не портится в течение … трех лет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ванской деревне Кфар Катра был изготовлен самый большой в мире бутерброд длиной 720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дорогой бутерброд можно приобрести в лондонском супермаркете за 85 фунтов стерлингов. В состав такого бутерброда входит: мраморная говядина Wagyu, ломтики фуа-гра, майонез из масла трюфелей, сыр Brie de meaux, салат руккола, перец, и помидоры чер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50 жителей Чикаго участвуют в конкурсе по приготовлению бутербродов из 20 ингредиентов за одну минуту. На скорую руку бутерброды были приготовлены за рекордно короткое время – 32 секун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28400" y="1214280"/>
            <a:ext cx="8329320" cy="15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85400" indent="-1854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 и посуд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уда для какао, лож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иготовл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шок какао смешать с сахаром, залить небольшим количеством молока и растирать до однородной мас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прерывном помешивании ввести горячее молоко и довести до кип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426960" y="365040"/>
            <a:ext cx="8229600" cy="1281240"/>
          </a:xfrm>
          <a:prstGeom prst="rect">
            <a:avLst/>
          </a:prstGeom>
          <a:ln w="0">
            <a:noFill/>
          </a:ln>
        </p:spPr>
      </p:pic>
      <p:pic>
        <p:nvPicPr>
          <p:cNvPr id="251" name="imgb" descr="&amp;t=1&amp;usg=__vm1rfohIkgfd8c7XW91N9jxH_Zg="/>
          <p:cNvPicPr/>
          <p:nvPr/>
        </p:nvPicPr>
        <p:blipFill>
          <a:blip r:embed="rId2"/>
          <a:stretch/>
        </p:blipFill>
        <p:spPr>
          <a:xfrm>
            <a:off x="2500200" y="3929040"/>
            <a:ext cx="3389400" cy="2514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acao3"/>
          <p:cNvPicPr/>
          <p:nvPr/>
        </p:nvPicPr>
        <p:blipFill>
          <a:blip r:embed="rId3"/>
          <a:stretch/>
        </p:blipFill>
        <p:spPr>
          <a:xfrm>
            <a:off x="285840" y="407196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253" name="imgb" descr="cocoa"/>
          <p:cNvPicPr/>
          <p:nvPr/>
        </p:nvPicPr>
        <p:blipFill>
          <a:blip r:embed="rId4"/>
          <a:stretch/>
        </p:blipFill>
        <p:spPr>
          <a:xfrm>
            <a:off x="6000840" y="4286160"/>
            <a:ext cx="29034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426960" y="85896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500040" y="1857240"/>
            <a:ext cx="636264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редиент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2"/>
              </a:rPr>
              <a:t>Сыр плавле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200 г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3"/>
              </a:rPr>
              <a:t>Чесно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лченый) — 4 зуб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4"/>
              </a:rPr>
              <a:t>Яйцо кури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2 ш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5"/>
              </a:rPr>
              <a:t>Сол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вкусу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6"/>
              </a:rPr>
              <a:t>Зеленый лу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жно не добавлять, по вкусу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7"/>
              </a:rPr>
              <a:t>Хле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лый) — 8 лом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8"/>
              </a:rPr>
              <a:t>Масло раститель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жарки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Wingdings 2" charset="2"/>
              <a:buChar char="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9"/>
              </a:rPr>
              <a:t>Перец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вкусу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499760"/>
            <a:ext cx="5214960" cy="4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ики"остренькие"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Рисунок 136" descr="Бутербродики &quot;остренькие&quot; Соль"/>
          <p:cNvPicPr/>
          <p:nvPr/>
        </p:nvPicPr>
        <p:blipFill>
          <a:blip r:embed="rId10"/>
          <a:stretch/>
        </p:blipFill>
        <p:spPr>
          <a:xfrm>
            <a:off x="5286240" y="3786120"/>
            <a:ext cx="3157560" cy="23576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5"/>
          <p:cNvSpPr/>
          <p:nvPr/>
        </p:nvSpPr>
        <p:spPr>
          <a:xfrm>
            <a:off x="799920" y="21420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799920" y="21420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130" descr="Бутербродики &quot;остренькие&quot; ингредиенты"/>
          <p:cNvPicPr/>
          <p:nvPr/>
        </p:nvPicPr>
        <p:blipFill>
          <a:blip r:embed="rId1"/>
          <a:stretch/>
        </p:blipFill>
        <p:spPr>
          <a:xfrm>
            <a:off x="714240" y="285840"/>
            <a:ext cx="239256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31" descr="Бутербродики &quot;остренькие&quot;"/>
          <p:cNvPicPr/>
          <p:nvPr/>
        </p:nvPicPr>
        <p:blipFill>
          <a:blip r:embed="rId2"/>
          <a:stretch/>
        </p:blipFill>
        <p:spPr>
          <a:xfrm>
            <a:off x="714240" y="2214720"/>
            <a:ext cx="2357640" cy="17604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32" descr="фото Бутербродики &quot;остренькие&quot;"/>
          <p:cNvPicPr/>
          <p:nvPr/>
        </p:nvPicPr>
        <p:blipFill>
          <a:blip r:embed="rId3"/>
          <a:stretch/>
        </p:blipFill>
        <p:spPr>
          <a:xfrm>
            <a:off x="857160" y="4143240"/>
            <a:ext cx="1785960" cy="23814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13"/>
          <p:cNvSpPr/>
          <p:nvPr/>
        </p:nvSpPr>
        <p:spPr>
          <a:xfrm>
            <a:off x="3357720" y="1357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ый сыр натираем на крупной терке, добавляем чеснок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5"/>
          <p:cNvSpPr/>
          <p:nvPr/>
        </p:nvSpPr>
        <p:spPr>
          <a:xfrm>
            <a:off x="4071960" y="3214800"/>
            <a:ext cx="10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яйц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6"/>
          <p:cNvSpPr/>
          <p:nvPr/>
        </p:nvSpPr>
        <p:spPr>
          <a:xfrm>
            <a:off x="3500280" y="5072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хорошенько смешиваем, добавляем соль, перец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34" descr="Бутербродики &quot;остренькие&quot; Чеснок"/>
          <p:cNvPicPr/>
          <p:nvPr/>
        </p:nvPicPr>
        <p:blipFill>
          <a:blip r:embed="rId1"/>
          <a:stretch/>
        </p:blipFill>
        <p:spPr>
          <a:xfrm>
            <a:off x="785880" y="2571840"/>
            <a:ext cx="2428920" cy="18129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35" descr="Бутербродики &quot;остренькие&quot; Яйцо   куриное"/>
          <p:cNvPicPr/>
          <p:nvPr/>
        </p:nvPicPr>
        <p:blipFill>
          <a:blip r:embed="rId2"/>
          <a:stretch/>
        </p:blipFill>
        <p:spPr>
          <a:xfrm>
            <a:off x="785880" y="4554360"/>
            <a:ext cx="2415960" cy="18036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33" descr="Бутербродики &quot;остренькие&quot; Сыр плавленый"/>
          <p:cNvPicPr/>
          <p:nvPr/>
        </p:nvPicPr>
        <p:blipFill>
          <a:blip r:embed="rId3"/>
          <a:stretch/>
        </p:blipFill>
        <p:spPr>
          <a:xfrm>
            <a:off x="785880" y="571680"/>
            <a:ext cx="2428920" cy="181260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7"/>
          <p:cNvSpPr/>
          <p:nvPr/>
        </p:nvSpPr>
        <p:spPr>
          <a:xfrm>
            <a:off x="3500280" y="1357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лук зеленый и снова все перемеши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3429000" y="3143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у смесь выкладываем на ломтики хле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9"/>
          <p:cNvSpPr/>
          <p:nvPr/>
        </p:nvSpPr>
        <p:spPr>
          <a:xfrm>
            <a:off x="3429000" y="48578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жариваем на растительном масле с двух сторон (сначала сторону с начинкой) небольшом огне, чтобы начинка хорошенько прожар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428760" y="1143000"/>
          <a:ext cx="6095880" cy="5375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968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гредиенты для "Горячие бутерброды"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36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Бато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1 ш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Помидо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вежий средний) — 3 ш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Чеснo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2-3 зуб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Колбаса варена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30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Лук репчат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реднего размера) — 1 ш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Сыр тверд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5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Майоне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10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Кетчуп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10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Масло сливочно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50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3" name="Рисунок 190" descr="Горячие бутерброды Кетчуп"/>
          <p:cNvPicPr/>
          <p:nvPr/>
        </p:nvPicPr>
        <p:blipFill>
          <a:blip r:embed="rId10"/>
          <a:stretch/>
        </p:blipFill>
        <p:spPr>
          <a:xfrm>
            <a:off x="5715000" y="4071960"/>
            <a:ext cx="2774880" cy="20718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5"/>
          <p:cNvSpPr/>
          <p:nvPr/>
        </p:nvSpPr>
        <p:spPr>
          <a:xfrm>
            <a:off x="728280" y="35712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80" descr="Горячие бутерброды ингредиенты"/>
          <p:cNvPicPr/>
          <p:nvPr/>
        </p:nvPicPr>
        <p:blipFill>
          <a:blip r:embed="rId1"/>
          <a:stretch/>
        </p:blipFill>
        <p:spPr>
          <a:xfrm>
            <a:off x="1000080" y="214200"/>
            <a:ext cx="2049480" cy="15303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81" descr="Горячие бутерброды"/>
          <p:cNvPicPr/>
          <p:nvPr/>
        </p:nvPicPr>
        <p:blipFill>
          <a:blip r:embed="rId2"/>
          <a:stretch/>
        </p:blipFill>
        <p:spPr>
          <a:xfrm>
            <a:off x="428760" y="1785960"/>
            <a:ext cx="2071440" cy="15462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82" descr="фото Горячие бутерброды"/>
          <p:cNvPicPr/>
          <p:nvPr/>
        </p:nvPicPr>
        <p:blipFill>
          <a:blip r:embed="rId3"/>
          <a:stretch/>
        </p:blipFill>
        <p:spPr>
          <a:xfrm>
            <a:off x="928800" y="3429000"/>
            <a:ext cx="2071440" cy="15462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6"/>
          <p:cNvSpPr/>
          <p:nvPr/>
        </p:nvSpPr>
        <p:spPr>
          <a:xfrm>
            <a:off x="3143160" y="107172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зываем противень сливочны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7"/>
          <p:cNvSpPr/>
          <p:nvPr/>
        </p:nvSpPr>
        <p:spPr>
          <a:xfrm>
            <a:off x="3286080" y="2286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ем батон на ломтики и укладываем их на проти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3214800" y="3929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кусочек хлеба чуть-чуть смазываем сливочным ма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183" descr="Горячие бутерброды Батон"/>
          <p:cNvPicPr/>
          <p:nvPr/>
        </p:nvPicPr>
        <p:blipFill>
          <a:blip r:embed="rId4"/>
          <a:stretch/>
        </p:blipFill>
        <p:spPr>
          <a:xfrm>
            <a:off x="428760" y="5072040"/>
            <a:ext cx="2104920" cy="157176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0"/>
          <p:cNvSpPr/>
          <p:nvPr/>
        </p:nvSpPr>
        <p:spPr>
          <a:xfrm>
            <a:off x="3214800" y="5429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ем помидор тонкими ломтиками и укладываем на ба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84" descr="Горячие бутерброды Помидор"/>
          <p:cNvPicPr/>
          <p:nvPr/>
        </p:nvPicPr>
        <p:blipFill>
          <a:blip r:embed="rId1"/>
          <a:stretch/>
        </p:blipFill>
        <p:spPr>
          <a:xfrm>
            <a:off x="428760" y="285840"/>
            <a:ext cx="2071440" cy="15462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185" descr="Горячие бутерброды Чеснoк"/>
          <p:cNvPicPr/>
          <p:nvPr/>
        </p:nvPicPr>
        <p:blipFill>
          <a:blip r:embed="rId2"/>
          <a:stretch/>
        </p:blipFill>
        <p:spPr>
          <a:xfrm>
            <a:off x="1143000" y="1857240"/>
            <a:ext cx="2071800" cy="1546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5"/>
          <p:cNvSpPr/>
          <p:nvPr/>
        </p:nvSpPr>
        <p:spPr>
          <a:xfrm>
            <a:off x="3429000" y="928800"/>
            <a:ext cx="50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к выдавливаем через чеснокодавилку и укладываем на помид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6"/>
          <p:cNvSpPr/>
          <p:nvPr/>
        </p:nvSpPr>
        <p:spPr>
          <a:xfrm>
            <a:off x="3286080" y="2428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басу режем соломкой и укладываем следующим сло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186" descr="Горячие бутерброды Колбаса  вареная"/>
          <p:cNvPicPr/>
          <p:nvPr/>
        </p:nvPicPr>
        <p:blipFill>
          <a:blip r:embed="rId3"/>
          <a:stretch/>
        </p:blipFill>
        <p:spPr>
          <a:xfrm>
            <a:off x="428760" y="3429000"/>
            <a:ext cx="2143080" cy="16002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8"/>
          <p:cNvSpPr/>
          <p:nvPr/>
        </p:nvSpPr>
        <p:spPr>
          <a:xfrm>
            <a:off x="3357720" y="40006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режем тонкими полукольцами и укладываем поверх кол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187" descr="Горячие бутерброды Лук репчатый"/>
          <p:cNvPicPr/>
          <p:nvPr/>
        </p:nvPicPr>
        <p:blipFill>
          <a:blip r:embed="rId4"/>
          <a:stretch/>
        </p:blipFill>
        <p:spPr>
          <a:xfrm>
            <a:off x="1071720" y="5072040"/>
            <a:ext cx="2071440" cy="154620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10"/>
          <p:cNvSpPr/>
          <p:nvPr/>
        </p:nvSpPr>
        <p:spPr>
          <a:xfrm>
            <a:off x="3511440" y="5500800"/>
            <a:ext cx="34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иваем майонез и кетч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89" descr="Горячие бутерброды Майонез"/>
          <p:cNvPicPr/>
          <p:nvPr/>
        </p:nvPicPr>
        <p:blipFill>
          <a:blip r:embed="rId1"/>
          <a:stretch/>
        </p:blipFill>
        <p:spPr>
          <a:xfrm>
            <a:off x="357120" y="2428920"/>
            <a:ext cx="2295720" cy="171432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8"/>
          <p:cNvSpPr/>
          <p:nvPr/>
        </p:nvSpPr>
        <p:spPr>
          <a:xfrm>
            <a:off x="3214800" y="1357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зываем каждый бутерброд, много не надо, иначе потечет на проти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88" descr="Горячие бутерброды Сыр твердый"/>
          <p:cNvPicPr/>
          <p:nvPr/>
        </p:nvPicPr>
        <p:blipFill>
          <a:blip r:embed="rId2"/>
          <a:stretch/>
        </p:blipFill>
        <p:spPr>
          <a:xfrm>
            <a:off x="785880" y="571680"/>
            <a:ext cx="2295360" cy="17143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12"/>
          <p:cNvSpPr/>
          <p:nvPr/>
        </p:nvSpPr>
        <p:spPr>
          <a:xfrm>
            <a:off x="3429000" y="2428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ыпаем каждый бутерброд тертым сыром. Ставим в духовку минут на 15-20. Температура духовки средняя. Бутерброды должны зарумян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190" descr="Горячие бутерброды Кетчуп"/>
          <p:cNvPicPr/>
          <p:nvPr/>
        </p:nvPicPr>
        <p:blipFill>
          <a:blip r:embed="rId3"/>
          <a:stretch/>
        </p:blipFill>
        <p:spPr>
          <a:xfrm>
            <a:off x="928800" y="4357800"/>
            <a:ext cx="25002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8760" y="1500120"/>
            <a:ext cx="8229600" cy="36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«Живи дитя природы, будь весел и здоров, и кушай бутерброды на грани двух миров»</a:t>
            </a:r>
            <a:r>
              <a:rPr b="0" i="1" lang="ru-RU" sz="44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адим Шефн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500040" y="114300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редиенты для "Горячие закрытые бутерброды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4"/>
          <p:cNvSpPr/>
          <p:nvPr/>
        </p:nvSpPr>
        <p:spPr>
          <a:xfrm>
            <a:off x="428760" y="1643040"/>
            <a:ext cx="481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"/>
              </a:rPr>
              <a:t>Окорочок кури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дрышко) — 1 ш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2"/>
              </a:rPr>
              <a:t>Сы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усочек размером с 3 спичечных коробка, в граммах - не знаю скольк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3"/>
              </a:rPr>
              <a:t>Помид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ясистый среднего размера) — 1 ш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4"/>
              </a:rPr>
              <a:t>Хле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резанный квадратными кусками) — 8 ш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5"/>
              </a:rPr>
              <a:t>Зел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-6 веточек петрушки и укр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2" descr="Горячие закрытые бутерброды Помидор"/>
          <p:cNvPicPr/>
          <p:nvPr/>
        </p:nvPicPr>
        <p:blipFill>
          <a:blip r:embed="rId6"/>
          <a:srcRect l="2343" t="0" r="0" b="13465"/>
          <a:stretch/>
        </p:blipFill>
        <p:spPr>
          <a:xfrm>
            <a:off x="5286240" y="4000680"/>
            <a:ext cx="3454560" cy="242856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5"/>
          <p:cNvSpPr/>
          <p:nvPr/>
        </p:nvSpPr>
        <p:spPr>
          <a:xfrm>
            <a:off x="728280" y="35712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Горячие закрытые бутерброды ингредиенты"/>
          <p:cNvPicPr/>
          <p:nvPr/>
        </p:nvPicPr>
        <p:blipFill>
          <a:blip r:embed="rId1"/>
          <a:srcRect l="0" t="0" r="655" b="8674"/>
          <a:stretch/>
        </p:blipFill>
        <p:spPr>
          <a:xfrm>
            <a:off x="571680" y="285840"/>
            <a:ext cx="1954080" cy="2071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Горячие закрытые бутерброды"/>
          <p:cNvPicPr/>
          <p:nvPr/>
        </p:nvPicPr>
        <p:blipFill>
          <a:blip r:embed="rId2"/>
          <a:srcRect l="0" t="0" r="0" b="12148"/>
          <a:stretch/>
        </p:blipFill>
        <p:spPr>
          <a:xfrm>
            <a:off x="1071720" y="2428920"/>
            <a:ext cx="2000160" cy="2027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фото Горячие закрытые бутерброды"/>
          <p:cNvPicPr/>
          <p:nvPr/>
        </p:nvPicPr>
        <p:blipFill>
          <a:blip r:embed="rId3"/>
          <a:srcRect l="0" t="0" r="655" b="9461"/>
          <a:stretch/>
        </p:blipFill>
        <p:spPr>
          <a:xfrm>
            <a:off x="500040" y="4502160"/>
            <a:ext cx="1928880" cy="19810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7"/>
          <p:cNvSpPr/>
          <p:nvPr/>
        </p:nvSpPr>
        <p:spPr>
          <a:xfrm>
            <a:off x="3500280" y="7142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ренный окорачок охлаждаем, отделяем мясо от костей, перемалываем в бленд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3714840" y="27860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р натираем на те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9"/>
          <p:cNvSpPr/>
          <p:nvPr/>
        </p:nvSpPr>
        <p:spPr>
          <a:xfrm>
            <a:off x="3429000" y="49291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ы очищаем от семян (жидкость нам ни к чему), по желанию можно избавиться и от кожицы. Нарезаем мелкими куб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Горячие закрытые бутерброды Окорочок куриный"/>
          <p:cNvPicPr/>
          <p:nvPr/>
        </p:nvPicPr>
        <p:blipFill>
          <a:blip r:embed="rId1"/>
          <a:srcRect l="0" t="0" r="0" b="9947"/>
          <a:stretch/>
        </p:blipFill>
        <p:spPr>
          <a:xfrm>
            <a:off x="500040" y="428760"/>
            <a:ext cx="2157480" cy="2214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Горячие закрытые бутерброды Сыр"/>
          <p:cNvPicPr/>
          <p:nvPr/>
        </p:nvPicPr>
        <p:blipFill>
          <a:blip r:embed="rId2"/>
          <a:srcRect l="0" t="0" r="655" b="9516"/>
          <a:stretch/>
        </p:blipFill>
        <p:spPr>
          <a:xfrm>
            <a:off x="1428840" y="2714760"/>
            <a:ext cx="2030400" cy="2071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Горячие закрытые бутерброды Помидор"/>
          <p:cNvPicPr/>
          <p:nvPr/>
        </p:nvPicPr>
        <p:blipFill>
          <a:blip r:embed="rId3"/>
          <a:srcRect l="0" t="0" r="655" b="12607"/>
          <a:stretch/>
        </p:blipFill>
        <p:spPr>
          <a:xfrm>
            <a:off x="500040" y="4857840"/>
            <a:ext cx="2354400" cy="164304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7"/>
          <p:cNvSpPr/>
          <p:nvPr/>
        </p:nvSpPr>
        <p:spPr>
          <a:xfrm>
            <a:off x="3714840" y="1285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оединяем, добавляем мелко порезанную зел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8"/>
          <p:cNvSpPr/>
          <p:nvPr/>
        </p:nvSpPr>
        <p:spPr>
          <a:xfrm>
            <a:off x="3857760" y="2500200"/>
            <a:ext cx="4929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нарезаем квадратами, подходящими для бутербродницы. Выкладываем на кусок хлеба начинку, закрываем вторым куском и отправляем в разогретую и смазанную сливочным маслом бутербродницу на пару-тройку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1" descr="http://t2.gstatic.com/images?q=tbn:-QFmNDyIyONqXM:http://mykuhnya.ru/images/image167.jpg"/>
          <p:cNvPicPr/>
          <p:nvPr/>
        </p:nvPicPr>
        <p:blipFill>
          <a:blip r:embed="rId4"/>
          <a:stretch/>
        </p:blipFill>
        <p:spPr>
          <a:xfrm>
            <a:off x="7143840" y="4456080"/>
            <a:ext cx="1571400" cy="206064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5" descr="Тостер для бутербродов SC-1119 "/>
          <p:cNvPicPr/>
          <p:nvPr/>
        </p:nvPicPr>
        <p:blipFill>
          <a:blip r:embed="rId5"/>
          <a:stretch/>
        </p:blipFill>
        <p:spPr>
          <a:xfrm>
            <a:off x="4857840" y="4857840"/>
            <a:ext cx="202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2876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м можно готовить бутерброд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почему при приготовлении бутербродов надо особенно тщательно соблюдать санитарно-гигиенические требова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 нужно обращать внимание , давая оценку приготовленным бутерброда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горячие напитки вы знает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чем отличается приготовление чая от кака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использовать зачерствевший хлеб и оставшиеся кусочки хлеб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http://solingenshop.ru/?mode=product&amp;product_id=1246540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http://www.o-ede.ru/lib/view.php?id=790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http://supercook.r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povarenok.ru/recipes/show/34395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2" descr=""/>
          <p:cNvPicPr/>
          <p:nvPr/>
        </p:nvPicPr>
        <p:blipFill>
          <a:blip r:embed="rId1"/>
          <a:stretch/>
        </p:blipFill>
        <p:spPr>
          <a:xfrm>
            <a:off x="914400" y="165240"/>
            <a:ext cx="8229600" cy="2412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86080" y="4714560"/>
            <a:ext cx="58579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Times New Roman"/>
                <a:ea typeface="Times New Roman"/>
              </a:rPr>
              <a:t>С режущими инструмент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4" descr="15722"/>
          <p:cNvPicPr/>
          <p:nvPr/>
        </p:nvPicPr>
        <p:blipFill>
          <a:blip r:embed="rId2"/>
          <a:stretch/>
        </p:blipFill>
        <p:spPr>
          <a:xfrm>
            <a:off x="428760" y="500040"/>
            <a:ext cx="1785960" cy="20574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3071880" y="235728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Times New Roman"/>
                <a:ea typeface="Times New Roman"/>
              </a:rPr>
              <a:t>С электронагревательными приб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9" descr="http://solingen-shop.ru/d/90328/d/29004201_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5" descr="Тостер для бутербродов SC-1119 "/>
          <p:cNvPicPr/>
          <p:nvPr/>
        </p:nvPicPr>
        <p:blipFill>
          <a:blip r:embed="rId5"/>
          <a:stretch/>
        </p:blipFill>
        <p:spPr>
          <a:xfrm>
            <a:off x="1714680" y="2571840"/>
            <a:ext cx="2076120" cy="167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empt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858080" y="5572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3286080" y="5643720"/>
            <a:ext cx="5214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Times New Roman"/>
                <a:ea typeface="Times New Roman"/>
              </a:rPr>
              <a:t>Правила санит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500040" y="158760"/>
            <a:ext cx="8229600" cy="16765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5" descr="Тостер для бутербродов SC-1119 "/>
          <p:cNvPicPr/>
          <p:nvPr/>
        </p:nvPicPr>
        <p:blipFill>
          <a:blip r:embed="rId2"/>
          <a:stretch/>
        </p:blipFill>
        <p:spPr>
          <a:xfrm>
            <a:off x="4673520" y="1785960"/>
            <a:ext cx="2131920" cy="1785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Микроволновая печь AEG MCD 2540 EM"/>
          <p:cNvPicPr/>
          <p:nvPr/>
        </p:nvPicPr>
        <p:blipFill>
          <a:blip r:embed="rId3"/>
          <a:stretch/>
        </p:blipFill>
        <p:spPr>
          <a:xfrm>
            <a:off x="2000160" y="3714840"/>
            <a:ext cx="2702160" cy="1714320"/>
          </a:xfrm>
          <a:prstGeom prst="rect">
            <a:avLst/>
          </a:prstGeom>
          <a:ln w="0">
            <a:noFill/>
          </a:ln>
        </p:spPr>
      </p:pic>
      <p:pic>
        <p:nvPicPr>
          <p:cNvPr id="194" name="imgb" descr="23154"/>
          <p:cNvPicPr/>
          <p:nvPr/>
        </p:nvPicPr>
        <p:blipFill>
          <a:blip r:embed="rId4"/>
          <a:stretch/>
        </p:blipFill>
        <p:spPr>
          <a:xfrm>
            <a:off x="5214960" y="4357800"/>
            <a:ext cx="2063880" cy="1857240"/>
          </a:xfrm>
          <a:prstGeom prst="rect">
            <a:avLst/>
          </a:prstGeom>
          <a:ln w="0">
            <a:noFill/>
          </a:ln>
        </p:spPr>
      </p:pic>
      <p:pic>
        <p:nvPicPr>
          <p:cNvPr id="195" name="imgb" descr="elektroplitka"/>
          <p:cNvPicPr/>
          <p:nvPr/>
        </p:nvPicPr>
        <p:blipFill>
          <a:blip r:embed="rId5"/>
          <a:srcRect l="21998" t="0" r="20796" b="0"/>
          <a:stretch/>
        </p:blipFill>
        <p:spPr>
          <a:xfrm>
            <a:off x="7000920" y="1500120"/>
            <a:ext cx="1731960" cy="2786040"/>
          </a:xfrm>
          <a:prstGeom prst="rect">
            <a:avLst/>
          </a:prstGeom>
          <a:ln w="0">
            <a:noFill/>
          </a:ln>
        </p:spPr>
      </p:pic>
      <p:pic>
        <p:nvPicPr>
          <p:cNvPr id="196" name="imgb" descr="147244"/>
          <p:cNvPicPr/>
          <p:nvPr/>
        </p:nvPicPr>
        <p:blipFill>
          <a:blip r:embed="rId6"/>
          <a:srcRect l="2410" t="0" r="3000" b="5263"/>
          <a:stretch/>
        </p:blipFill>
        <p:spPr>
          <a:xfrm>
            <a:off x="2857680" y="5500800"/>
            <a:ext cx="2214360" cy="1184040"/>
          </a:xfrm>
          <a:prstGeom prst="rect">
            <a:avLst/>
          </a:prstGeom>
          <a:ln w="0">
            <a:noFill/>
          </a:ln>
        </p:spPr>
      </p:pic>
      <p:pic>
        <p:nvPicPr>
          <p:cNvPr id="197" name="imgb" descr="15770287"/>
          <p:cNvPicPr/>
          <p:nvPr/>
        </p:nvPicPr>
        <p:blipFill>
          <a:blip r:embed="rId7"/>
          <a:srcRect l="5499" t="8750" r="4498" b="9997"/>
          <a:stretch/>
        </p:blipFill>
        <p:spPr>
          <a:xfrm>
            <a:off x="428760" y="1714680"/>
            <a:ext cx="2071440" cy="187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Новая хлебопечка LG HB2001BY 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57680" y="1785960"/>
            <a:ext cx="1682640" cy="1857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180px-Samovar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7120" y="4357800"/>
            <a:ext cx="1500120" cy="1858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http://t2.gstatic.com/images?q=tbn:2LYqYFT9NaWSjM:http://www.dk-m.ru/UserFiles/Image/Trial/img12_17764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408800" y="4714920"/>
            <a:ext cx="1373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971640" y="404640"/>
            <a:ext cx="763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batDi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batDi"/>
              <a:ea typeface="ArbatDi"/>
            </a:endParaRPr>
          </a:p>
        </p:txBody>
      </p:sp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00040" y="189000"/>
            <a:ext cx="8229600" cy="22795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32"/>
          <p:cNvSpPr/>
          <p:nvPr/>
        </p:nvSpPr>
        <p:spPr>
          <a:xfrm>
            <a:off x="642960" y="2428920"/>
            <a:ext cx="2271600" cy="914400"/>
          </a:xfrm>
          <a:prstGeom prst="rect">
            <a:avLst/>
          </a:prstGeom>
          <a:solidFill>
            <a:srgbClr val="f0a22e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nstantia"/>
              </a:rPr>
              <a:t>ч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7"/>
          <p:cNvSpPr/>
          <p:nvPr/>
        </p:nvSpPr>
        <p:spPr>
          <a:xfrm>
            <a:off x="3500280" y="3429000"/>
            <a:ext cx="2286000" cy="914400"/>
          </a:xfrm>
          <a:prstGeom prst="rect">
            <a:avLst/>
          </a:prstGeom>
          <a:solidFill>
            <a:srgbClr val="f0a22e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nstantia"/>
              </a:rPr>
              <a:t>коф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8"/>
          <p:cNvSpPr/>
          <p:nvPr/>
        </p:nvSpPr>
        <p:spPr>
          <a:xfrm>
            <a:off x="6286680" y="2357280"/>
            <a:ext cx="2286000" cy="914400"/>
          </a:xfrm>
          <a:prstGeom prst="rect">
            <a:avLst/>
          </a:prstGeom>
          <a:solidFill>
            <a:srgbClr val="f0a22e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nstantia"/>
              </a:rPr>
              <a:t>кака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Прямая со стрелкой 40" descr=""/>
          <p:cNvPicPr/>
          <p:nvPr/>
        </p:nvPicPr>
        <p:blipFill>
          <a:blip r:embed="rId2"/>
          <a:stretch/>
        </p:blipFill>
        <p:spPr>
          <a:xfrm>
            <a:off x="6168960" y="1450800"/>
            <a:ext cx="1116000" cy="104796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ая со стрелкой 44" descr=""/>
          <p:cNvPicPr/>
          <p:nvPr/>
        </p:nvPicPr>
        <p:blipFill>
          <a:blip r:embed="rId3"/>
          <a:stretch/>
        </p:blipFill>
        <p:spPr>
          <a:xfrm>
            <a:off x="2054160" y="145080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ая со стрелкой 51" descr=""/>
          <p:cNvPicPr/>
          <p:nvPr/>
        </p:nvPicPr>
        <p:blipFill>
          <a:blip r:embed="rId4"/>
          <a:stretch/>
        </p:blipFill>
        <p:spPr>
          <a:xfrm>
            <a:off x="4273560" y="1901880"/>
            <a:ext cx="743040" cy="1736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Рисунок6"/>
          <p:cNvPicPr/>
          <p:nvPr/>
        </p:nvPicPr>
        <p:blipFill>
          <a:blip r:embed="rId5"/>
          <a:stretch/>
        </p:blipFill>
        <p:spPr>
          <a:xfrm>
            <a:off x="3857760" y="4500720"/>
            <a:ext cx="1576080" cy="2120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ttp://t0.gstatic.com/images?q=tbn:Mh5QyfGIYTDzbM:http://viva.org.ua/media/tea_5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2800" y="3643200"/>
            <a:ext cx="1944720" cy="1928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http://www.jagannath.ru/upload/iblock/f46/7506773.jpg"/>
          <p:cNvPicPr/>
          <p:nvPr/>
        </p:nvPicPr>
        <p:blipFill>
          <a:blip r:embed="rId8"/>
          <a:stretch/>
        </p:blipFill>
        <p:spPr>
          <a:xfrm>
            <a:off x="6500880" y="3643200"/>
            <a:ext cx="19288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85716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 - история кофе овеяна легендами и мифами. Одна из легенд говорит, будто бы субстанция, которую Елена смешивала с вином, чтобы «снять печаль и гнев с души», - была не чем иным, как коф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 Европу кофе был привезен в 1626 году итальянцем Пьетро делла Валл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Францию кофе попадает в период правления Людовика ХIV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глии первая кофейня появилась в Лондоне в 1652 год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ю кофе впервые попал при царе Алексее Михайлович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I, фактически ввел культ кофе. После Петра I покровительницей кофе стала Анна Иоанновна, по велению которой в 1740 году в столице  открывается кофейный до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ое распространение кофе пошло после войны 1812 год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229600" cy="1279440"/>
          </a:xfrm>
          <a:prstGeom prst="rect">
            <a:avLst/>
          </a:prstGeom>
          <a:ln w="0">
            <a:noFill/>
          </a:ln>
        </p:spPr>
      </p:pic>
      <p:pic>
        <p:nvPicPr>
          <p:cNvPr id="214" name="imgb" descr="&amp;t=1&amp;usg=__NVceVN4W2LL58d635NMvMqwS3Ks="/>
          <p:cNvPicPr/>
          <p:nvPr/>
        </p:nvPicPr>
        <p:blipFill>
          <a:blip r:embed="rId2"/>
          <a:stretch/>
        </p:blipFill>
        <p:spPr>
          <a:xfrm>
            <a:off x="500040" y="5357880"/>
            <a:ext cx="1692360" cy="1357200"/>
          </a:xfrm>
          <a:prstGeom prst="rect">
            <a:avLst/>
          </a:prstGeom>
          <a:ln w="0">
            <a:noFill/>
          </a:ln>
        </p:spPr>
      </p:pic>
      <p:pic>
        <p:nvPicPr>
          <p:cNvPr id="215" name="imgb" descr="&amp;t=1&amp;usg=__y5a_DBaAWb4VHr4Oe65m6k_xX-M="/>
          <p:cNvPicPr/>
          <p:nvPr/>
        </p:nvPicPr>
        <p:blipFill>
          <a:blip r:embed="rId3"/>
          <a:stretch/>
        </p:blipFill>
        <p:spPr>
          <a:xfrm>
            <a:off x="2857680" y="5357880"/>
            <a:ext cx="1446120" cy="1333440"/>
          </a:xfrm>
          <a:prstGeom prst="rect">
            <a:avLst/>
          </a:prstGeom>
          <a:ln w="0">
            <a:noFill/>
          </a:ln>
        </p:spPr>
      </p:pic>
      <p:pic>
        <p:nvPicPr>
          <p:cNvPr id="216" name="imgb" descr="&amp;t=1&amp;usg=__yoMjib63DKSIRYxECAeoqSmCSdI="/>
          <p:cNvPicPr/>
          <p:nvPr/>
        </p:nvPicPr>
        <p:blipFill>
          <a:blip r:embed="rId4"/>
          <a:stretch/>
        </p:blipFill>
        <p:spPr>
          <a:xfrm>
            <a:off x="5143680" y="5357880"/>
            <a:ext cx="1625400" cy="1298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200px-CoffeePalestineStereo"/>
          <p:cNvPicPr/>
          <p:nvPr/>
        </p:nvPicPr>
        <p:blipFill>
          <a:blip r:embed="rId5"/>
          <a:stretch/>
        </p:blipFill>
        <p:spPr>
          <a:xfrm>
            <a:off x="7572240" y="5276880"/>
            <a:ext cx="12859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0" y="9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о исторически родом из Южной Америки, история его возделывания начинается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"/>
              </a:rPr>
              <a:t>Центральной Амер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2"/>
              </a:rPr>
              <a:t>1100 год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 н. э.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3"/>
              </a:rPr>
              <a:t>Ацте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ли какао с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4"/>
              </a:rPr>
              <a:t>XIV ве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5"/>
              </a:rPr>
              <a:t>1519 год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анские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6"/>
              </a:rPr>
              <a:t>конкистадор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езли какао в Европ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7"/>
              </a:rPr>
              <a:t>XVII ве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ми регионами возделывания были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8"/>
              </a:rPr>
              <a:t>Гуаяки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9"/>
              </a:rPr>
              <a:t>Эквадор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0"/>
              </a:rPr>
              <a:t>Каракас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1"/>
              </a:rPr>
              <a:t>Венесуэл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2"/>
              </a:rPr>
              <a:t>Беле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3"/>
              </a:rPr>
              <a:t>Салвад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4"/>
              </a:rPr>
              <a:t>Бразил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начале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5"/>
              </a:rPr>
              <a:t>XX ве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ым большим производителем какао стала португальская колония группа острово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6"/>
              </a:rPr>
              <a:t>Сан-Томе и Принсип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Заголовок 2" descr=""/>
          <p:cNvPicPr/>
          <p:nvPr/>
        </p:nvPicPr>
        <p:blipFill>
          <a:blip r:embed="rId17"/>
          <a:stretch/>
        </p:blipFill>
        <p:spPr>
          <a:xfrm>
            <a:off x="426960" y="298440"/>
            <a:ext cx="8229600" cy="1281240"/>
          </a:xfrm>
          <a:prstGeom prst="rect">
            <a:avLst/>
          </a:prstGeom>
          <a:ln w="0">
            <a:noFill/>
          </a:ln>
        </p:spPr>
      </p:pic>
      <p:pic>
        <p:nvPicPr>
          <p:cNvPr id="220" name="imgb" descr="1018_big"/>
          <p:cNvPicPr/>
          <p:nvPr/>
        </p:nvPicPr>
        <p:blipFill>
          <a:blip r:embed="rId18"/>
          <a:stretch/>
        </p:blipFill>
        <p:spPr>
          <a:xfrm>
            <a:off x="4500720" y="3929040"/>
            <a:ext cx="1411200" cy="1847880"/>
          </a:xfrm>
          <a:prstGeom prst="rect">
            <a:avLst/>
          </a:prstGeom>
          <a:ln w="0">
            <a:noFill/>
          </a:ln>
        </p:spPr>
      </p:pic>
      <p:pic>
        <p:nvPicPr>
          <p:cNvPr id="221" name="imgb" descr="DELO-schokolad-29hi"/>
          <p:cNvPicPr/>
          <p:nvPr/>
        </p:nvPicPr>
        <p:blipFill>
          <a:blip r:embed="rId19"/>
          <a:stretch/>
        </p:blipFill>
        <p:spPr>
          <a:xfrm>
            <a:off x="5952960" y="4500720"/>
            <a:ext cx="2905200" cy="2179440"/>
          </a:xfrm>
          <a:prstGeom prst="rect">
            <a:avLst/>
          </a:prstGeom>
          <a:ln w="0">
            <a:noFill/>
          </a:ln>
        </p:spPr>
      </p:pic>
      <p:pic>
        <p:nvPicPr>
          <p:cNvPr id="222" name="imgb" descr="chokolad"/>
          <p:cNvPicPr/>
          <p:nvPr/>
        </p:nvPicPr>
        <p:blipFill>
          <a:blip r:embed="rId20"/>
          <a:stretch/>
        </p:blipFill>
        <p:spPr>
          <a:xfrm>
            <a:off x="2571840" y="5143680"/>
            <a:ext cx="1928880" cy="1487160"/>
          </a:xfrm>
          <a:prstGeom prst="rect">
            <a:avLst/>
          </a:prstGeom>
          <a:ln w="0">
            <a:noFill/>
          </a:ln>
        </p:spPr>
      </p:pic>
      <p:pic>
        <p:nvPicPr>
          <p:cNvPr id="223" name="imgb" descr="cocoa"/>
          <p:cNvPicPr/>
          <p:nvPr/>
        </p:nvPicPr>
        <p:blipFill>
          <a:blip r:embed="rId21"/>
          <a:stretch/>
        </p:blipFill>
        <p:spPr>
          <a:xfrm>
            <a:off x="285840" y="3786120"/>
            <a:ext cx="23432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Б.М. Кустодиев &quot;Купчиха на балконе.&quot;"/>
          <p:cNvPicPr/>
          <p:nvPr/>
        </p:nvPicPr>
        <p:blipFill>
          <a:blip r:embed="rId1"/>
          <a:stretch/>
        </p:blipFill>
        <p:spPr>
          <a:xfrm>
            <a:off x="285840" y="928800"/>
            <a:ext cx="1857240" cy="28922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214200" y="3786120"/>
            <a:ext cx="29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М. Кустодиев "Купчиха на балконе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59" descr="К.Коровин &quot;За чаем.&quot;"/>
          <p:cNvPicPr/>
          <p:nvPr/>
        </p:nvPicPr>
        <p:blipFill>
          <a:blip r:embed="rId2"/>
          <a:stretch/>
        </p:blipFill>
        <p:spPr>
          <a:xfrm>
            <a:off x="2349360" y="963720"/>
            <a:ext cx="3294360" cy="27511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4"/>
          <p:cNvSpPr/>
          <p:nvPr/>
        </p:nvSpPr>
        <p:spPr>
          <a:xfrm>
            <a:off x="3364920" y="364320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Коровин "За чаем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7"/>
          <p:cNvSpPr/>
          <p:nvPr/>
        </p:nvSpPr>
        <p:spPr>
          <a:xfrm>
            <a:off x="642960" y="6357960"/>
            <a:ext cx="22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Серебрякова "За обедом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44" descr="В.Довбенко &quot;Завтрак.&quot;"/>
          <p:cNvPicPr/>
          <p:nvPr/>
        </p:nvPicPr>
        <p:blipFill>
          <a:blip r:embed="rId3"/>
          <a:stretch/>
        </p:blipFill>
        <p:spPr>
          <a:xfrm>
            <a:off x="5786280" y="1000080"/>
            <a:ext cx="2953080" cy="26049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9"/>
          <p:cNvSpPr/>
          <p:nvPr/>
        </p:nvSpPr>
        <p:spPr>
          <a:xfrm>
            <a:off x="6220080" y="364320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Довбенко "Завтрак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20" descr="Вербное воскресенье."/>
          <p:cNvPicPr/>
          <p:nvPr/>
        </p:nvPicPr>
        <p:blipFill>
          <a:blip r:embed="rId4"/>
          <a:stretch/>
        </p:blipFill>
        <p:spPr>
          <a:xfrm>
            <a:off x="5500800" y="4000680"/>
            <a:ext cx="3274920" cy="23572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3"/>
          <p:cNvSpPr/>
          <p:nvPr/>
        </p:nvSpPr>
        <p:spPr>
          <a:xfrm>
            <a:off x="6504840" y="6357960"/>
            <a:ext cx="177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бное воскресен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92" descr="З.Серебрякова &quot;За обедом.&quot;"/>
          <p:cNvPicPr/>
          <p:nvPr/>
        </p:nvPicPr>
        <p:blipFill>
          <a:blip r:embed="rId5"/>
          <a:stretch/>
        </p:blipFill>
        <p:spPr>
          <a:xfrm>
            <a:off x="285840" y="4000680"/>
            <a:ext cx="2857320" cy="24080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23" descr="А.Матвеева &quot;Натюрморт с самоваром.&quot;"/>
          <p:cNvPicPr/>
          <p:nvPr/>
        </p:nvPicPr>
        <p:blipFill>
          <a:blip r:embed="rId6"/>
          <a:stretch/>
        </p:blipFill>
        <p:spPr>
          <a:xfrm>
            <a:off x="3500280" y="3929040"/>
            <a:ext cx="1717920" cy="264312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2" descr=""/>
          <p:cNvPicPr/>
          <p:nvPr/>
        </p:nvPicPr>
        <p:blipFill>
          <a:blip r:embed="rId7"/>
          <a:stretch/>
        </p:blipFill>
        <p:spPr>
          <a:xfrm>
            <a:off x="426960" y="103320"/>
            <a:ext cx="82296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428760" y="1000080"/>
            <a:ext cx="4929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могут быть как холодной, так и горячей закуской. Горячие бутерброды представляют собой тот же обычный бутерброд (вместо масла здесь уместно использовать различные соусы – майонез, горчица, кетчуп), только разогреваемый в процессе приготовления и употребляемый в горячем виде. Поверх начинки такого бутерброда кладут сыр (либо кусочком, либо натертый) как только сыр начинает плавиться в процессе разогревания – горячий бутерброд готов к употреблени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тартинки"/>
          <p:cNvPicPr/>
          <p:nvPr/>
        </p:nvPicPr>
        <p:blipFill>
          <a:blip r:embed="rId2"/>
          <a:stretch/>
        </p:blipFill>
        <p:spPr>
          <a:xfrm>
            <a:off x="5214960" y="3929040"/>
            <a:ext cx="3619440" cy="2637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многослойные бутерброд"/>
          <p:cNvPicPr/>
          <p:nvPr/>
        </p:nvPicPr>
        <p:blipFill>
          <a:blip r:embed="rId3"/>
          <a:stretch/>
        </p:blipFill>
        <p:spPr>
          <a:xfrm>
            <a:off x="5214960" y="1071720"/>
            <a:ext cx="361944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9:24:52Z</dcterms:created>
  <dc:creator>ЛИА</dc:creator>
  <dc:description/>
  <dc:language>en-US</dc:language>
  <cp:lastModifiedBy>Илья</cp:lastModifiedBy>
  <dcterms:modified xsi:type="dcterms:W3CDTF">2013-12-10T22:48:08Z</dcterms:modified>
  <cp:revision>75</cp:revision>
  <dc:subject/>
  <dc:title>Слайд 1</dc:title>
</cp:coreProperties>
</file>