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B25-29A8-447A-85B2-71D8E36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FAB-0148-4365-B064-31E5741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C79-C611-49A9-9515-206C38C1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0BE-F3AB-4773-AD6B-A4443F42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F834-0458-479D-9B56-0C901B26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8DD0-7D36-471C-951E-4CD7884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7F9-3044-40AC-8533-FC34AD50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E71-A7BF-4E13-830C-005F9A8C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95BD-F66E-4DDE-B3CD-76587AF5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0C2D-1083-4154-AF94-338A0F17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7CEA-6BF6-4697-BAE4-FC5EB43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DFA-FCD0-4068-9B46-95BECBCA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051-06E4-4E54-A55D-A7EF0BF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7F88-33C0-4BE1-BF70-56AE484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73E-14E6-419F-ACF2-20D881D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8481-6BD8-4DE3-998F-AE0AEBD6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C731-06AB-4F8D-B982-E10C1FF6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25F-8731-4877-9DCA-22ECD75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759-0E7E-447C-915F-56418C3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CFF-7CE6-422E-8AD0-5781D4A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866-FD6B-483F-A43F-2A044497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155-42AA-4783-AE30-A25A5B24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F39-92D9-4C59-9CE2-D359D4A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EBB-7749-449C-89A7-084C5C8C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8E2F-F098-49B7-933F-9BB9C2F29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002-45D9-46FB-99AF-E4EF52F9E0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Магические квадраты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62360" y="5181480"/>
            <a:ext cx="281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арян Я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«б»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174400" y="2045880"/>
            <a:ext cx="415764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ещё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 квадратов 3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8120" y="3200400"/>
          <a:ext cx="2736720" cy="3105000"/>
        </p:xfrm>
        <a:graphic>
          <a:graphicData uri="http://schemas.openxmlformats.org/drawingml/2006/table">
            <a:tbl>
              <a:tblPr/>
              <a:tblGrid>
                <a:gridCol w="912600"/>
                <a:gridCol w="911160"/>
                <a:gridCol w="9129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3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5320" y="1904760"/>
            <a:ext cx="61722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гических 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  порядка существует 8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95480" y="3124080"/>
          <a:ext cx="3726000" cy="3429000"/>
        </p:xfrm>
        <a:graphic>
          <a:graphicData uri="http://schemas.openxmlformats.org/drawingml/2006/table">
            <a:tbl>
              <a:tblPr/>
              <a:tblGrid>
                <a:gridCol w="932040"/>
                <a:gridCol w="931680"/>
                <a:gridCol w="930240"/>
                <a:gridCol w="932040"/>
              </a:tblGrid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4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791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азано, что магических квад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 порядка  более 13 млн.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http://tambov.fio.ru/vjpusk/vjp055/rabot/12/t3.jpg"/>
          <p:cNvPicPr/>
          <p:nvPr/>
        </p:nvPicPr>
        <p:blipFill>
          <a:blip r:embed="rId1"/>
          <a:stretch/>
        </p:blipFill>
        <p:spPr>
          <a:xfrm>
            <a:off x="2895480" y="3048120"/>
            <a:ext cx="3426120" cy="3504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5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8 порядка составлен в 18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м Леонардом Эйлером. Каждый ряд в этом квадрате даёт сумму 260, а половина ряда – 1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2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http://tambov.fio.ru/vjpusk/vjp055/rabot/12/t4.jpg"/>
          <p:cNvPicPr/>
          <p:nvPr/>
        </p:nvPicPr>
        <p:blipFill>
          <a:blip r:embed="rId1"/>
          <a:stretch/>
        </p:blipFill>
        <p:spPr>
          <a:xfrm>
            <a:off x="2286000" y="2514600"/>
            <a:ext cx="4648320" cy="4054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Магический квадрат 8 поряд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tambov.fio.ru/vjpusk/vjp055/rabot/12/t5.jpg"/>
          <p:cNvPicPr/>
          <p:nvPr/>
        </p:nvPicPr>
        <p:blipFill>
          <a:blip r:embed="rId1"/>
          <a:stretch/>
        </p:blipFill>
        <p:spPr>
          <a:xfrm>
            <a:off x="2286000" y="1981080"/>
            <a:ext cx="4530600" cy="457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9 поряд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-2657880"/>
            <a:ext cx="7632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438280" y="2666880"/>
          <a:ext cx="3505320" cy="304812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14400" y="3045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 Black"/>
              </a:rPr>
              <a:t>История появления магических квадрат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800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юбознательность - один из всегдашних верных признаков энергичного у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Джонсон, Сэмюэль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Магический квадр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– это квадрат, состоящий из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олбцов и </a:t>
            </a: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строк, в каждую клетку которого вписано число. Числа в квадрате размещены так, что в каждом горизонтальном, вертикальном и диагональном ряду получается одна и та же сумм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tambov.fio.ru/vjpusk/vjp055/rabot/12/t14.jpg"/>
          <p:cNvPicPr/>
          <p:nvPr/>
        </p:nvPicPr>
        <p:blipFill>
          <a:blip r:embed="rId1"/>
          <a:stretch/>
        </p:blipFill>
        <p:spPr>
          <a:xfrm>
            <a:off x="2895480" y="3809880"/>
            <a:ext cx="28195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изображение считается самым древним     магическим квадратом. Говорят, что он впервые появился в Китае примерно за 2800 лет до нашей э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http://tambov.fio.ru/vjpusk/vjp055/rabot/12/ist_kitay.gif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587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8385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ервы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т квадрат появился в 1 веке нашей эры. Сумма чисел в каждо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яду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http://tambov.fio.ru/vjpusk/vjp055/rabot/12/t6.jpg"/>
          <p:cNvPicPr/>
          <p:nvPr/>
        </p:nvPicPr>
        <p:blipFill>
          <a:blip r:embed="rId1"/>
          <a:stretch/>
        </p:blipFill>
        <p:spPr>
          <a:xfrm>
            <a:off x="2666880" y="2971800"/>
            <a:ext cx="3483000" cy="3505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Древнеиндийский магический квадра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Пифаг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ифагор создал метод построения квадрата, по которому можно познать характер человека, состояние его здоровья и его потенциальные возможности, раскрыть достоинства и недоста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59 0.058 -0.05859 C 0.095 -0.05859 0.125 -0.02264 0.125 0.02264 C 0.125 0.03728 0.122 0.0506 0.116 0.06258 C 0.117 0.06258 0 0.24233 0 0.24366 C 0 0.24233 -0.117 0.06258 -0.116 0.06258 C -0.122 0.0506 -0.125 0.03728 -0.125 0.02264 C -0.125 -0.02264 -0.095 -0.05859 -0.057 -0.05859 C -0.033 -0.05859 -0.012 -0.02397 0 0 Z">
                                      <p:cBhvr>
                                        <p:cTn id="5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ё правом верхнем углу размещён магический квадрат 4 поряд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мма чисел каждого ряда равна 3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http://tambov.fio.ru/vjpusk/vjp055/rabot/12/durer.jpg"/>
          <p:cNvPicPr/>
          <p:nvPr/>
        </p:nvPicPr>
        <p:blipFill>
          <a:blip r:embed="rId1"/>
          <a:stretch/>
        </p:blipFill>
        <p:spPr>
          <a:xfrm>
            <a:off x="1447920" y="2666880"/>
            <a:ext cx="290808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t7"/>
          <p:cNvPicPr/>
          <p:nvPr/>
        </p:nvPicPr>
        <p:blipFill>
          <a:blip r:embed="rId2"/>
          <a:stretch/>
        </p:blipFill>
        <p:spPr>
          <a:xfrm>
            <a:off x="5638680" y="3048120"/>
            <a:ext cx="2382840" cy="2438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агический квадрат Дюре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тинским квадратом называется квадра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клеток, в которых написаны числа от 1, до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ритом так, что в каждой строке и каждом столбце встречаются все эти числа по одному р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438280" y="2895480"/>
          <a:ext cx="3962520" cy="3657600"/>
        </p:xfrm>
        <a:graphic>
          <a:graphicData uri="http://schemas.openxmlformats.org/drawingml/2006/table">
            <a:tbl>
              <a:tblPr/>
              <a:tblGrid>
                <a:gridCol w="1422360"/>
                <a:gridCol w="1219320"/>
                <a:gridCol w="1320840"/>
              </a:tblGrid>
              <a:tr h="121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1224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1224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2240">
                      <a:solidFill>
                        <a:srgbClr val="8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 Black"/>
              </a:rPr>
              <a:t>Латинские квадр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Слово «порядок» означает в данном случае число клеток на одной стороне квадрата. Квадрат 3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3 имеет третий порядок, а квадрат 5</a:t>
            </a:r>
            <a:r>
              <a:rPr b="1" lang="ru-RU" sz="28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5 – пятый. Магический квадрат второго порядка не суще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орядок магического квадра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3:31Z</dcterms:modified>
  <cp:revision>6</cp:revision>
  <dc:subject/>
  <dc:title>Магический квадр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4000000000001024140</vt:lpwstr>
  </property>
  <property fmtid="{D5CDD505-2E9C-101B-9397-08002B2CF9AE}" pid="3" name="Version">
    <vt:r8>1</vt:r8>
  </property>
</Properties>
</file>