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667-D3C3-466A-8E60-0F1C2187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5A7-8CEB-41DB-A293-1ABFDD41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DA0-16FA-4D05-B2B7-7820E4D7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1A6-8107-4877-B919-E3903AD6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10E5-48B2-4E71-8EE9-1C534140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033-4934-4220-9376-34AA4BC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BD1-735D-4AD0-A1E6-CB08EDB6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1969-D13A-4A43-872D-73C5F0D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F30-A269-4D02-A4E6-8D4703EA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095E-EAE3-400D-BDCC-0F9E2AA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CD08-3121-4C27-8B5D-4F2DB9C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A14-C13A-465B-A135-319CEE82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8032-B48B-4B4E-B094-4B67880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2891-4DA4-4186-8928-F621C9F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8F1D-CDC6-4E69-AB6D-FD6E9D99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4D8-79CA-4D2F-B5F1-DB5A2392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5A03-EC78-4E35-94AE-0586FE03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A84-AD2F-484F-94D8-915340E5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1D0-3403-4E6E-B86C-FC3B7E2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A9E-8080-44AC-A7F7-57B913C7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E68-1FFD-4D83-9AEA-BA7E432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59B-85FE-4DC7-84B3-A583AA6B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88D-71CB-47AA-A03A-B2958B2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06B-F77A-43C3-824F-17324AC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DFC5-1D19-4152-9577-B05BE5573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BA1-3E8F-4AFE-BA58-7C0F1B97F3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Магические квадрат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2360" y="5181480"/>
            <a:ext cx="281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арян Я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«б»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174400" y="2045880"/>
            <a:ext cx="415764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ет ещё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 квадратов 3 поря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3200400"/>
          <a:ext cx="2736720" cy="3105000"/>
        </p:xfrm>
        <a:graphic>
          <a:graphicData uri="http://schemas.openxmlformats.org/drawingml/2006/table">
            <a:tbl>
              <a:tblPr/>
              <a:tblGrid>
                <a:gridCol w="912600"/>
                <a:gridCol w="911160"/>
                <a:gridCol w="9129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3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5320" y="1904760"/>
            <a:ext cx="61722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ических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  порядка существует 8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95480" y="3124080"/>
          <a:ext cx="3726000" cy="3429000"/>
        </p:xfrm>
        <a:graphic>
          <a:graphicData uri="http://schemas.openxmlformats.org/drawingml/2006/table">
            <a:tbl>
              <a:tblPr/>
              <a:tblGrid>
                <a:gridCol w="932040"/>
                <a:gridCol w="931680"/>
                <a:gridCol w="930240"/>
                <a:gridCol w="93204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4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азано, что магических квад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 порядка  более 13 млн.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http://tambov.fio.ru/vjpusk/vjp055/rabot/12/t3.jpg"/>
          <p:cNvPicPr/>
          <p:nvPr/>
        </p:nvPicPr>
        <p:blipFill>
          <a:blip r:embed="rId1"/>
          <a:stretch/>
        </p:blipFill>
        <p:spPr>
          <a:xfrm>
            <a:off x="2895480" y="3048120"/>
            <a:ext cx="3426120" cy="3504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5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3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квадрат 8 порядка составлен в 18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м Леонардом Эйлером. Каждый ряд в этом квадрате даёт сумму 260, а половина ряда – 1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http://tambov.fio.ru/vjpusk/vjp055/rabot/12/t4.jpg"/>
          <p:cNvPicPr/>
          <p:nvPr/>
        </p:nvPicPr>
        <p:blipFill>
          <a:blip r:embed="rId1"/>
          <a:stretch/>
        </p:blipFill>
        <p:spPr>
          <a:xfrm>
            <a:off x="2286000" y="2514600"/>
            <a:ext cx="4648320" cy="4054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Магический квадрат 8 поряд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tambov.fio.ru/vjpusk/vjp055/rabot/12/t5.jpg"/>
          <p:cNvPicPr/>
          <p:nvPr/>
        </p:nvPicPr>
        <p:blipFill>
          <a:blip r:embed="rId1"/>
          <a:stretch/>
        </p:blipFill>
        <p:spPr>
          <a:xfrm>
            <a:off x="2286000" y="1981080"/>
            <a:ext cx="453060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9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-26578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8280" y="2666880"/>
          <a:ext cx="3505320" cy="30481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 Black"/>
              </a:rPr>
              <a:t>История появления магических квадрат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юбознательность - один из всегдашних верных признаков энергичного у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Джонсон, Сэмюэль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Магический квадр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– это квадрат, состоящий из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столбцов и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строк, в каждую клетку которого вписано число. Числа в квадрате размещены так, что в каждом горизонтальном, вертикальном и диагональном ряду получается одна и та же сумм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tambov.fio.ru/vjpusk/vjp055/rabot/12/t14.jpg"/>
          <p:cNvPicPr/>
          <p:nvPr/>
        </p:nvPicPr>
        <p:blipFill>
          <a:blip r:embed="rId1"/>
          <a:stretch/>
        </p:blipFill>
        <p:spPr>
          <a:xfrm>
            <a:off x="2895480" y="3809880"/>
            <a:ext cx="28195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зображение считается самым древним     магическим квадратом. Говорят, что он впервые появился в Китае примерно за 2800 лет до нашей э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http://tambov.fio.ru/vjpusk/vjp055/rabot/12/ist_kitay.gif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3587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8385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ервый магический 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квадрат появился в 1 веке нашей эры. Сумма чисел в кажд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яду 3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http://tambov.fio.ru/vjpusk/vjp055/rabot/12/t6.jpg"/>
          <p:cNvPicPr/>
          <p:nvPr/>
        </p:nvPicPr>
        <p:blipFill>
          <a:blip r:embed="rId1"/>
          <a:stretch/>
        </p:blipFill>
        <p:spPr>
          <a:xfrm>
            <a:off x="2666880" y="2971800"/>
            <a:ext cx="3483000" cy="3505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Древнеиндийский магический 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Пифаг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фагор создал метод построения квадрата, по которому можно познать характер человека, состояние его здоровья и его потенциальные возможности, раскрыть достоинства и недоста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59 0.058 -0.05859 C 0.095 -0.05859 0.125 -0.02264 0.125 0.02264 C 0.125 0.03728 0.122 0.0506 0.116 0.06258 C 0.117 0.06258 0 0.24233 0 0.24366 C 0 0.24233 -0.117 0.06258 -0.116 0.06258 C -0.122 0.0506 -0.125 0.03728 -0.125 0.02264 C -0.125 -0.02264 -0.095 -0.05859 -0.057 -0.05859 C -0.033 -0.05859 -0.012 -0.02397 0 0 Z">
                                      <p:cBhvr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ё правом верхнем углу размещён магический квадрат 4 поря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мма чисел каждого ряда равна 3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http://tambov.fio.ru/vjpusk/vjp055/rabot/12/durer.jpg"/>
          <p:cNvPicPr/>
          <p:nvPr/>
        </p:nvPicPr>
        <p:blipFill>
          <a:blip r:embed="rId1"/>
          <a:stretch/>
        </p:blipFill>
        <p:spPr>
          <a:xfrm>
            <a:off x="1447920" y="2666880"/>
            <a:ext cx="290808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t7"/>
          <p:cNvPicPr/>
          <p:nvPr/>
        </p:nvPicPr>
        <p:blipFill>
          <a:blip r:embed="rId2"/>
          <a:stretch/>
        </p:blipFill>
        <p:spPr>
          <a:xfrm>
            <a:off x="5638680" y="3048120"/>
            <a:ext cx="238284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Дюре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тинским квадратом называется квадра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леток, в которых написаны числа от 1, 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итом так, что в каждой строке и каждом столбце встречаются все эти числа по одному раз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438280" y="2895480"/>
          <a:ext cx="3962520" cy="3657600"/>
        </p:xfrm>
        <a:graphic>
          <a:graphicData uri="http://schemas.openxmlformats.org/drawingml/2006/table">
            <a:tbl>
              <a:tblPr/>
              <a:tblGrid>
                <a:gridCol w="1422360"/>
                <a:gridCol w="1219320"/>
                <a:gridCol w="1320840"/>
              </a:tblGrid>
              <a:tr h="12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Латинские квадра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Слово «порядок» означает в данном случае число клеток на одной стороне квадрата. Квадрат 3</a:t>
            </a:r>
            <a:r>
              <a:rPr b="1" lang="ru-RU" sz="28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3 имеет третий порядок, а квадрат 5</a:t>
            </a:r>
            <a:r>
              <a:rPr b="1" lang="ru-RU" sz="28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 – пятый. Магический квадрат второго порядка не существ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орядок магического квадр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9T15:23:31Z</dcterms:modified>
  <cp:revision>6</cp:revision>
  <dc:subject/>
  <dc:title>Магический квадр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4000000000001024140</vt:lpwstr>
  </property>
  <property fmtid="{D5CDD505-2E9C-101B-9397-08002B2CF9AE}" pid="3" name="Version">
    <vt:r8>1</vt:r8>
  </property>
</Properties>
</file>