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1F7E-E1F7-4047-9B65-1DDC4D8C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24F7-1557-4AD7-AE2E-9AE5624B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427C-1519-40AF-8E03-3C244FAE1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6653-C532-4DE9-A549-0DE402349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6830-96D2-45DC-91B1-A0E41F002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166F-63D9-43C0-B13D-39EB20AC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FA80-AC84-481E-8453-81AA6039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463B-814F-48B2-BC9E-B03500AC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20B1-A6AD-4518-8AD5-9939A14A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02D6-1C5D-40DB-9B79-605E75D6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FC45-48E6-4A09-88F5-EB106BD1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EE2E-54CE-44E0-A29D-A5EE9671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CB28-13F1-4BCD-935F-0F69B39E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98C5-EF76-4675-A332-FE577417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2244-F0D1-4018-A814-0EFAB2FA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ABBD-3F3B-4500-9516-F6EFF8ECB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4050-9480-482D-89A3-F048D014D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2D9E-DD1B-4B49-94B3-1693E9BE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59DB-8583-4A64-AE58-90A02B83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59ED-2770-41D6-85BA-156BED5A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6D98-CD30-4900-A104-7E44746D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0DF2-A106-47B6-8388-EAED2D01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CD8C-C02D-4019-8AA6-0CF74B93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99EE-348E-45FF-A0AC-010E37A0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B97C-4799-44D3-9B9D-1B3D7CA6D6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7CDC-2507-496B-B8D8-E3FDAFF1362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b7"/>
                </a:solidFill>
                <a:latin typeface="Arial Black"/>
              </a:rPr>
              <a:t>Магические квадраты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562360" y="5181480"/>
            <a:ext cx="28191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арян Я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 «б»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174400" y="2045880"/>
            <a:ext cx="415764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уществует ещё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7 квадратов 3 поряд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048120" y="3200400"/>
          <a:ext cx="2736720" cy="3105000"/>
        </p:xfrm>
        <a:graphic>
          <a:graphicData uri="http://schemas.openxmlformats.org/drawingml/2006/table">
            <a:tbl>
              <a:tblPr/>
              <a:tblGrid>
                <a:gridCol w="912600"/>
                <a:gridCol w="911160"/>
                <a:gridCol w="912960"/>
              </a:tblGrid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Магический квадрат </a:t>
            </a:r>
            <a:br>
              <a:rPr sz="4400"/>
            </a:b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3 поряд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525320" y="1904760"/>
            <a:ext cx="6172200" cy="98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гических квадра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  порядка существует 8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895480" y="3124080"/>
          <a:ext cx="3726000" cy="3429000"/>
        </p:xfrm>
        <a:graphic>
          <a:graphicData uri="http://schemas.openxmlformats.org/drawingml/2006/table">
            <a:tbl>
              <a:tblPr/>
              <a:tblGrid>
                <a:gridCol w="932040"/>
                <a:gridCol w="931680"/>
                <a:gridCol w="930240"/>
                <a:gridCol w="932040"/>
              </a:tblGrid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Магический квадрат </a:t>
            </a:r>
            <a:br>
              <a:rPr sz="4400"/>
            </a:b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4 поряд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7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70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66320" y="1523880"/>
            <a:ext cx="77914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казано, что магических квадра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 порядка  более 13 млн.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http://tambov.fio.ru/vjpusk/vjp055/rabot/12/t3.jpg"/>
          <p:cNvPicPr/>
          <p:nvPr/>
        </p:nvPicPr>
        <p:blipFill>
          <a:blip r:embed="rId1"/>
          <a:stretch/>
        </p:blipFill>
        <p:spPr>
          <a:xfrm>
            <a:off x="2895480" y="3048120"/>
            <a:ext cx="3426120" cy="35049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Магический квадрат </a:t>
            </a:r>
            <a:br>
              <a:rPr sz="4400"/>
            </a:b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5 поряд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77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770" fill="hold"/>
                                        <p:tgtEl>
                                          <p:spTgt spid="1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80520" y="1066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7232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т квадрат 8 порядка составлен в 18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232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ликим Леонардом Эйлером. Каждый ряд в этом квадрате даёт сумму 260, а половина ряда – 13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2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http://tambov.fio.ru/vjpusk/vjp055/rabot/12/t4.jpg"/>
          <p:cNvPicPr/>
          <p:nvPr/>
        </p:nvPicPr>
        <p:blipFill>
          <a:blip r:embed="rId1"/>
          <a:stretch/>
        </p:blipFill>
        <p:spPr>
          <a:xfrm>
            <a:off x="2286000" y="2514600"/>
            <a:ext cx="4648320" cy="4054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 Black"/>
              </a:rPr>
              <a:t>Магический квадрат 8 поряд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77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770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http://tambov.fio.ru/vjpusk/vjp055/rabot/12/t5.jpg"/>
          <p:cNvPicPr/>
          <p:nvPr/>
        </p:nvPicPr>
        <p:blipFill>
          <a:blip r:embed="rId1"/>
          <a:stretch/>
        </p:blipFill>
        <p:spPr>
          <a:xfrm>
            <a:off x="2286000" y="1981080"/>
            <a:ext cx="4530600" cy="4572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Магический квадрат </a:t>
            </a:r>
            <a:br>
              <a:rPr sz="4400"/>
            </a:b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9 поряд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7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770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066680" y="-2657880"/>
            <a:ext cx="7632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438280" y="2666880"/>
          <a:ext cx="3505320" cy="3048120"/>
        </p:xfrm>
        <a:graphic>
          <a:graphicData uri="http://schemas.openxmlformats.org/drawingml/2006/table">
            <a:tbl>
              <a:tblPr/>
              <a:tblGrid>
                <a:gridCol w="1168560"/>
                <a:gridCol w="1168200"/>
                <a:gridCol w="1168560"/>
              </a:tblGrid>
              <a:tr h="9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224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224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0000"/>
                      </a:solidFill>
                    </a:lnL>
                    <a:lnR w="12240">
                      <a:solidFill>
                        <a:srgbClr val="800000"/>
                      </a:solidFill>
                    </a:lnR>
                    <a:lnT w="1224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0000"/>
                      </a:solidFill>
                    </a:lnL>
                    <a:lnR w="1224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5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2240">
                      <a:solidFill>
                        <a:srgbClr val="8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2240">
                      <a:solidFill>
                        <a:srgbClr val="8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0000"/>
                      </a:solidFill>
                    </a:lnL>
                    <a:lnR w="1224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2240">
                      <a:solidFill>
                        <a:srgbClr val="8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914400" y="30456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8000"/>
                </a:solidFill>
                <a:latin typeface="Arial Black"/>
              </a:rPr>
              <a:t>История появления магических квадратов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8988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228240"/>
            <a:ext cx="8007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Любознательность - один из всегдашних верных признаков энергичного ум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Джонсон, Сэмюэль.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Магический квадра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– это квадрат, состоящий из </a:t>
            </a: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п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 столбцов и </a:t>
            </a: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п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 строк, в каждую клетку которого вписано число. Числа в квадрате размещены так, что в каждом горизонтальном, вертикальном и диагональном ряду получается одна и та же сумм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http://tambov.fio.ru/vjpusk/vjp055/rabot/12/t14.jpg"/>
          <p:cNvPicPr/>
          <p:nvPr/>
        </p:nvPicPr>
        <p:blipFill>
          <a:blip r:embed="rId1"/>
          <a:stretch/>
        </p:blipFill>
        <p:spPr>
          <a:xfrm>
            <a:off x="2895480" y="3809880"/>
            <a:ext cx="281952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86104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изображение считается самым древним     магическим квадратом. Говорят, что он впервые появился в Китае примерно за 2800 лет до нашей э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http://tambov.fio.ru/vjpusk/vjp055/rabot/12/ist_kitay.gif"/>
          <p:cNvPicPr/>
          <p:nvPr/>
        </p:nvPicPr>
        <p:blipFill>
          <a:blip r:embed="rId1"/>
          <a:stretch/>
        </p:blipFill>
        <p:spPr>
          <a:xfrm>
            <a:off x="2514600" y="2971800"/>
            <a:ext cx="3809880" cy="35877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258840"/>
            <a:ext cx="83851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Первый магический квадра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880" y="19051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т квадрат появился в 1 веке нашей эры. Сумма чисел в каждом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яду 34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http://tambov.fio.ru/vjpusk/vjp055/rabot/12/t6.jpg"/>
          <p:cNvPicPr/>
          <p:nvPr/>
        </p:nvPicPr>
        <p:blipFill>
          <a:blip r:embed="rId1"/>
          <a:stretch/>
        </p:blipFill>
        <p:spPr>
          <a:xfrm>
            <a:off x="2666880" y="2971800"/>
            <a:ext cx="3483000" cy="35053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Древнеиндийский магический квадра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Магический квадрат Пифаго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ифагор создал метод построения квадрата, по которому можно познать характер человека, состояние его здоровья и его потенциальные возможности, раскрыть достоинства и недостат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59 0.058 -0.05859 C 0.095 -0.05859 0.125 -0.02264 0.125 0.02264 C 0.125 0.03728 0.122 0.0506 0.116 0.06258 C 0.117 0.06258 0 0.24233 0 0.24366 C 0 0.24233 -0.117 0.06258 -0.116 0.06258 C -0.122 0.0506 -0.125 0.03728 -0.125 0.02264 C -0.125 -0.02264 -0.095 -0.05859 -0.057 -0.05859 C -0.033 -0.05859 -0.012 -0.02397 0 0 Z">
                                      <p:cBhvr>
                                        <p:cTn id="56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520" y="12193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её правом верхнем углу размещён магический квадрат 4 поряд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умма чисел каждого ряда равна 34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http://tambov.fio.ru/vjpusk/vjp055/rabot/12/durer.jpg"/>
          <p:cNvPicPr/>
          <p:nvPr/>
        </p:nvPicPr>
        <p:blipFill>
          <a:blip r:embed="rId1"/>
          <a:stretch/>
        </p:blipFill>
        <p:spPr>
          <a:xfrm>
            <a:off x="1447920" y="2666880"/>
            <a:ext cx="2908080" cy="3733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t7"/>
          <p:cNvPicPr/>
          <p:nvPr/>
        </p:nvPicPr>
        <p:blipFill>
          <a:blip r:embed="rId2"/>
          <a:stretch/>
        </p:blipFill>
        <p:spPr>
          <a:xfrm>
            <a:off x="5638680" y="3048120"/>
            <a:ext cx="2382840" cy="24382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Магический квадрат Дюре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7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70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920" y="106632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атинским квадратом называется квадрат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клеток, в которых написаны числа от 1, до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притом так, что в каждой строке и каждом столбце встречаются все эти числа по одному раз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438280" y="2895480"/>
          <a:ext cx="3962520" cy="3657600"/>
        </p:xfrm>
        <a:graphic>
          <a:graphicData uri="http://schemas.openxmlformats.org/drawingml/2006/table">
            <a:tbl>
              <a:tblPr/>
              <a:tblGrid>
                <a:gridCol w="1422360"/>
                <a:gridCol w="1219320"/>
                <a:gridCol w="1320840"/>
              </a:tblGrid>
              <a:tr h="121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224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224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0000"/>
                      </a:solidFill>
                    </a:lnL>
                    <a:lnR w="12240">
                      <a:solidFill>
                        <a:srgbClr val="800000"/>
                      </a:solidFill>
                    </a:lnR>
                    <a:lnT w="1224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09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0000"/>
                      </a:solidFill>
                    </a:lnL>
                    <a:lnR w="1224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2240">
                      <a:solidFill>
                        <a:srgbClr val="8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2240">
                      <a:solidFill>
                        <a:srgbClr val="8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0000"/>
                      </a:solidFill>
                    </a:lnL>
                    <a:lnR w="1224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2240">
                      <a:solidFill>
                        <a:srgbClr val="8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 Black"/>
              </a:rPr>
              <a:t>Латинские квадраты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77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770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6840" y="2286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Слово «порядок» означает в данном случае число клеток на одной стороне квадрата. Квадрат 3</a:t>
            </a:r>
            <a:r>
              <a:rPr b="1" lang="ru-RU" sz="2800" spc="-1" strike="noStrike">
                <a:solidFill>
                  <a:srgbClr val="00cc00"/>
                </a:solidFill>
                <a:latin typeface="Symbol"/>
                <a:ea typeface="Symbol"/>
              </a:rPr>
              <a:t></a:t>
            </a: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3 имеет третий порядок, а квадрат 5</a:t>
            </a:r>
            <a:r>
              <a:rPr b="1" lang="ru-RU" sz="2800" spc="-1" strike="noStrike">
                <a:solidFill>
                  <a:srgbClr val="00cc00"/>
                </a:solidFill>
                <a:latin typeface="Symbol"/>
                <a:ea typeface="Symbol"/>
              </a:rPr>
              <a:t></a:t>
            </a: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5 – пятый. Магический квадрат второго порядка не существу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Порядок магического квадра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3-29T15:23:31Z</dcterms:modified>
  <cp:revision>6</cp:revision>
  <dc:subject/>
  <dc:title>Магический квадра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404000000000001024140</vt:lpwstr>
  </property>
  <property fmtid="{D5CDD505-2E9C-101B-9397-08002B2CF9AE}" pid="3" name="Version">
    <vt:r8>1</vt:r8>
  </property>
</Properties>
</file>