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735B-7A09-4046-90DA-108A4F22E5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85F6-F6CB-4D5D-BC9B-BD01D7CF2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EEEA-2578-455F-ABA7-09951C4BD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64C3-2692-484F-8E8C-0CAB59B9D4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3C27-D869-49CD-9303-076DB9AF7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0104-7524-4813-B3F4-F51ABB512D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2AA2-53A6-43B5-8A69-49CA2950B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35EA-1D7C-4727-A3A7-5B308D90B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4490-78D0-4B20-BBD1-292CD6C43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C6BA-4175-491E-9EA1-DA62BFA40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3E54-812B-4156-83A8-96E5C12D1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D03A-9F53-423D-89B4-8B18667C3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A274-5FF6-46C4-85CA-96C9E555AE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5018-1D8B-4D4D-84E7-FDABEF202C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CB15-7B4F-4D09-AC0D-8D5FFD5DBF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3465-7EB8-4695-A380-77894FD6D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C46B-8C2E-45B8-98F4-FCF84C925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4289-B210-4776-9528-59C74DB94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8F0D-BA2D-4672-BD96-6AFA07053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079C-BC13-49E7-8B42-F5B86A8F4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1555-D547-4BB7-ABF2-6AA1274E2C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4707-76B2-4228-B66D-87FFB4BC4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70E1-AB83-47E6-ACE1-C3D53C46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CDD6-156D-4DA5-9A8F-789AEBD9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9D63-0876-4AA6-B2E3-DF6FAE54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B20D-4B63-488B-9C9A-224117A1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EB62-BFFF-42E7-847E-4D3994AC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7FB8-8680-4021-BEE4-CB39368F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1C07-88CF-4806-9B31-3D2F0F45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26FE-40C9-4527-BB6B-080A2660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5AFF-026C-4B39-9F73-F75FE529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8607-AB1F-4898-8F88-0BB188D7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EF07-5AD1-4084-B47C-6C3356D5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60A8-99AA-4114-9221-2F856D15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7FE3-BD34-42DC-A257-CBD37017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4282-6B4B-4968-ADA7-FA894EF2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4925-D196-4B7C-9EBE-ED17A678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5208-EBE3-4151-AA02-004064CD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ED8E-28E7-4644-BA7C-586FE3DF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4F88-8193-4DF6-B526-DEE67D90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3AF4-96A6-4866-9622-DBB815E8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C979B-77BE-4C62-8889-107F2783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62E9-A142-45E8-86D4-F368DEA1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11ED-02E0-41B0-94C9-AEFEC353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A274-FBF8-4D9D-9DE3-AB04E226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9E34-C1BA-4749-883F-7A30D76C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95E9-3949-46F7-B5AA-C84C702F70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748A-6F4E-4321-9471-C07745BC96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реативный потенциал воспитанник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Заголовок 1"/>
          <p:cNvGrpSpPr/>
          <p:nvPr/>
        </p:nvGrpSpPr>
        <p:grpSpPr>
          <a:xfrm>
            <a:off x="566640" y="493560"/>
            <a:ext cx="8126640" cy="1341720"/>
            <a:chOff x="566640" y="493560"/>
            <a:chExt cx="8126640" cy="1341720"/>
          </a:xfrm>
        </p:grpSpPr>
        <p:pic>
          <p:nvPicPr>
            <p:cNvPr id="14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66640" y="493560"/>
              <a:ext cx="812664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71680" y="500040"/>
              <a:ext cx="811512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Способы стимулирования творческих способност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Содержимое 2"/>
          <p:cNvGrpSpPr/>
          <p:nvPr/>
        </p:nvGrpSpPr>
        <p:grpSpPr>
          <a:xfrm>
            <a:off x="450720" y="1974960"/>
            <a:ext cx="8242560" cy="4316400"/>
            <a:chOff x="450720" y="1974960"/>
            <a:chExt cx="8242560" cy="4316400"/>
          </a:xfrm>
        </p:grpSpPr>
        <p:pic>
          <p:nvPicPr>
            <p:cNvPr id="14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0720" y="1974960"/>
              <a:ext cx="824256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57200" y="1981080"/>
              <a:ext cx="8229600" cy="43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еспечение благоприятной атмосферы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брожелательность со стороны учителя, его отказ от критики в адрес ребёнка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огащение окружающей ребёнка среды самыми разнообразными новыми для него предметами и стимулами с целью развития его любознательности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ощрение высказывания оригинальных идей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еспечение возможностей для практики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спользование личного примера творческого подхода к решению проблем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едоставление детям возможности активно задавать вопросы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1915.jpg"/>
          <p:cNvPicPr/>
          <p:nvPr/>
        </p:nvPicPr>
        <p:blipFill>
          <a:blip r:embed="rId1"/>
          <a:stretch/>
        </p:blipFill>
        <p:spPr>
          <a:xfrm>
            <a:off x="5786280" y="2548080"/>
            <a:ext cx="3000600" cy="4000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642600"/>
            <a:ext cx="8229600" cy="5786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ажность развития творчества младшего школьника, его способностей при решении любой учебной задачи проявлять инициативу, выдумку, самостоятельность для всех является сейчас очевидным. Соотнося процесс творчества и обучения, очевидно, надо вести разговор о создании таких условий, которые содействовали бы возникновению и развитию у всех обучаемых качеств и склонностей, обычно выделяемые как характерные черты творческой личности. Эффективность работы школы определяется тем, в какой мере учебно-воспитательный процесс обеспечивает развитие творческих способностей учащихся, готовит их к жизни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ущностная структура креати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5640" y="2060640"/>
            <a:ext cx="6923160" cy="4083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ый проц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ый проду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ая лич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ая сре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руктура креативност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по Н.Ф.Вишняков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Rectangle 3"/>
          <p:cNvGrpSpPr/>
          <p:nvPr/>
        </p:nvGrpSpPr>
        <p:grpSpPr>
          <a:xfrm>
            <a:off x="450720" y="1974960"/>
            <a:ext cx="8156880" cy="4249800"/>
            <a:chOff x="450720" y="1974960"/>
            <a:chExt cx="8156880" cy="4249800"/>
          </a:xfrm>
        </p:grpSpPr>
        <p:pic>
          <p:nvPicPr>
            <p:cNvPr id="152" name="Rectangle 3" descr=""/>
            <p:cNvPicPr/>
            <p:nvPr/>
          </p:nvPicPr>
          <p:blipFill>
            <a:blip r:embed="rId1"/>
            <a:stretch/>
          </p:blipFill>
          <p:spPr>
            <a:xfrm>
              <a:off x="450720" y="1974960"/>
              <a:ext cx="8156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1981080"/>
              <a:ext cx="8147160" cy="42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</a:rPr>
                <a:t>Креативность как личностная категория, связанная с саморазвитием и самоактуализацией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</a:rPr>
                <a:t>Креативность как созидательный процесс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</a:rPr>
                <a:t>Креативность как результат деятельности, связанный с созданием новог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Рисунок 5" descr="1955.jpg"/>
          <p:cNvPicPr/>
          <p:nvPr/>
        </p:nvPicPr>
        <p:blipFill>
          <a:blip r:embed="rId2"/>
          <a:stretch/>
        </p:blipFill>
        <p:spPr>
          <a:xfrm>
            <a:off x="407880" y="420840"/>
            <a:ext cx="126864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казатели сформированности творческих способностей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3"/>
          <p:cNvGrpSpPr/>
          <p:nvPr/>
        </p:nvGrpSpPr>
        <p:grpSpPr>
          <a:xfrm>
            <a:off x="450720" y="1695600"/>
            <a:ext cx="8242560" cy="4833720"/>
            <a:chOff x="450720" y="1695600"/>
            <a:chExt cx="8242560" cy="4833720"/>
          </a:xfrm>
        </p:grpSpPr>
        <p:pic>
          <p:nvPicPr>
            <p:cNvPr id="157" name="Rectangle 3" descr=""/>
            <p:cNvPicPr/>
            <p:nvPr/>
          </p:nvPicPr>
          <p:blipFill>
            <a:blip r:embed="rId1"/>
            <a:stretch/>
          </p:blipFill>
          <p:spPr>
            <a:xfrm>
              <a:off x="450720" y="1695600"/>
              <a:ext cx="824256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57200" y="1700280"/>
              <a:ext cx="822960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Определенный уровень знаний и умений, их качество и степень их обобщенност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Степень развития психических механизмов, лежащих в основе развития творческих способностей учащихся: внимания, памяти, воображения (эти качества являются основой продуктивного мышления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Уровень развития мышления, который определяется главным образом степенью способностей умственных действий и операций, которые он способен производить в процессе учебно-познавательной деятельност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Владение приемами поисковой и творческой деятельност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ниторинг креативного потенциала личности может включать следующие качественные показател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Rectangle 3"/>
          <p:cNvGrpSpPr/>
          <p:nvPr/>
        </p:nvGrpSpPr>
        <p:grpSpPr>
          <a:xfrm>
            <a:off x="426960" y="1951200"/>
            <a:ext cx="8296200" cy="3956040"/>
            <a:chOff x="426960" y="1951200"/>
            <a:chExt cx="8296200" cy="3956040"/>
          </a:xfrm>
        </p:grpSpPr>
        <p:pic>
          <p:nvPicPr>
            <p:cNvPr id="161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951200"/>
              <a:ext cx="82962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57200" y="1981080"/>
              <a:ext cx="8229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Познавательную учебную деятельност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на должна строиться с учетом возможности проявиться в различных сферах деятельности. Это важно как источник приобретения новых знаний и нового опыта и основание для трансформации этих знаний и опыта в другие сферы деятельност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3"/>
          <p:cNvGrpSpPr/>
          <p:nvPr/>
        </p:nvGrpSpPr>
        <p:grpSpPr>
          <a:xfrm>
            <a:off x="426960" y="1182600"/>
            <a:ext cx="8296200" cy="4724640"/>
            <a:chOff x="426960" y="1182600"/>
            <a:chExt cx="8296200" cy="4724640"/>
          </a:xfrm>
        </p:grpSpPr>
        <p:pic>
          <p:nvPicPr>
            <p:cNvPr id="164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182600"/>
              <a:ext cx="82962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1214280"/>
              <a:ext cx="822960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риентация на интеллектуальную инициативу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на предполагает проявление самостоятельности при решении различных учебных и исследовательских задач, стремление найти оригинальный, альтернативный путь решения, рассмотреть проблему на более глубоком уровне или с другой стороны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Rectangle 3"/>
          <p:cNvGrpSpPr/>
          <p:nvPr/>
        </p:nvGrpSpPr>
        <p:grpSpPr>
          <a:xfrm>
            <a:off x="426960" y="1328760"/>
            <a:ext cx="8296200" cy="4578480"/>
            <a:chOff x="426960" y="1328760"/>
            <a:chExt cx="8296200" cy="4578480"/>
          </a:xfrm>
        </p:grpSpPr>
        <p:pic>
          <p:nvPicPr>
            <p:cNvPr id="167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328760"/>
              <a:ext cx="8296200" cy="45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57200" y="1357200"/>
              <a:ext cx="8229600" cy="45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Самостоятельность учебной деятельност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дполагает развитие способности к самостоятельному поиску знаний, исследованию проблем. Созданию разнообразных объектов. В чем кроется залог развития творческих возможностей личност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Rectangle 3"/>
          <p:cNvGrpSpPr/>
          <p:nvPr/>
        </p:nvGrpSpPr>
        <p:grpSpPr>
          <a:xfrm>
            <a:off x="426960" y="1255680"/>
            <a:ext cx="8296200" cy="4651560"/>
            <a:chOff x="426960" y="1255680"/>
            <a:chExt cx="8296200" cy="4651560"/>
          </a:xfrm>
        </p:grpSpPr>
        <p:pic>
          <p:nvPicPr>
            <p:cNvPr id="170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255680"/>
              <a:ext cx="8296200" cy="465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57200" y="1285920"/>
              <a:ext cx="8229600" cy="45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Активность трансформационных возможностей предметно-пространственной среды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дполагает преобразование, которое способствует реализации творческих проявлений ребенк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Rectangle 3"/>
          <p:cNvGrpSpPr/>
          <p:nvPr/>
        </p:nvGrpSpPr>
        <p:grpSpPr>
          <a:xfrm>
            <a:off x="426960" y="1395360"/>
            <a:ext cx="8296200" cy="4511880"/>
            <a:chOff x="426960" y="1395360"/>
            <a:chExt cx="8296200" cy="4511880"/>
          </a:xfrm>
        </p:grpSpPr>
        <p:pic>
          <p:nvPicPr>
            <p:cNvPr id="173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395360"/>
              <a:ext cx="8296200" cy="45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57200" y="1428840"/>
              <a:ext cx="8229600" cy="44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Сочетание индивидуальной учебной и исследовательской деятельности с ее коллективными формам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дполагает как индивидуальное обучение, так и коллективную творческую деятельност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тратегия качества воспитания предполагает реализацию идеи развития интеллектуального ресурса нации как величайшей духовной ц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ворческий потенциал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– это фактор позитивного стимулирования индивидуально-личностного роста; интеллектуальный ресурс как главная движущая сила поступательного развития человеческ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76" name="Rectangle 2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Проявление творческого поиска представляет собой совокупность признак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Rectangle 3"/>
          <p:cNvGrpSpPr/>
          <p:nvPr/>
        </p:nvGrpSpPr>
        <p:grpSpPr>
          <a:xfrm>
            <a:off x="426960" y="1951200"/>
            <a:ext cx="8296200" cy="3956040"/>
            <a:chOff x="426960" y="1951200"/>
            <a:chExt cx="8296200" cy="3956040"/>
          </a:xfrm>
        </p:grpSpPr>
        <p:pic>
          <p:nvPicPr>
            <p:cNvPr id="179" name="Rectangle 3" descr=""/>
            <p:cNvPicPr/>
            <p:nvPr/>
          </p:nvPicPr>
          <p:blipFill>
            <a:blip r:embed="rId2"/>
            <a:stretch/>
          </p:blipFill>
          <p:spPr>
            <a:xfrm>
              <a:off x="426960" y="1951200"/>
              <a:ext cx="82962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7200" y="1981080"/>
              <a:ext cx="8229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Реконструктивное творчество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Комбинаторное творчество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Творчество через аналогию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Задача педагога – фиксировать подобные проявления ребенка на предмет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Понимания и структурирования исходной информац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Постановки задачи, поиск исходной информац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Прогнозирование решений, разработка гипотез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одержимое 2"/>
          <p:cNvGrpSpPr/>
          <p:nvPr/>
        </p:nvGrpSpPr>
        <p:grpSpPr>
          <a:xfrm>
            <a:off x="420840" y="706320"/>
            <a:ext cx="8242200" cy="5585040"/>
            <a:chOff x="420840" y="706320"/>
            <a:chExt cx="8242200" cy="5585040"/>
          </a:xfrm>
        </p:grpSpPr>
        <p:pic>
          <p:nvPicPr>
            <p:cNvPr id="18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20840" y="706320"/>
              <a:ext cx="8242200" cy="55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28760" y="714240"/>
              <a:ext cx="8229600" cy="55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ворческие способности есть у каждого ребёнка. Это индивидуально – психологические особенности, отличающие одного человека от другого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т того насколько они будут развиты, зависит творческий потенциал нашего общества, так как формирование творческой личности приобретает сегодня не только теоретический смысл, но и практический смыс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Знание педагогов, что подразумевается под творческими способностями учащихся, расширит границы их проявления у дете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шей формой творческого потенциала личности является креативность как универсальная способность к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ворчеств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это стиль (качественная характеристика деятельности), т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еатив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индивидуальных психологических характеристик творческ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Заголовок 1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1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Педагогическое определение </a:t>
              </a:r>
              <a:br>
                <a:rPr sz="3200"/>
              </a:b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творческих способност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ности к созданию оригинального продукта, изделия, в процессе работы над которыми самостоятельно применены усвоенные знания, умения, навыки, проявляются хотя бы в минимальном отступлении от образца индивидуальность, худож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Заголовок 1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2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Творческие способности</a:t>
              </a:r>
              <a:r>
                <a:rPr b="0" lang="ru-RU" sz="4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ивидуальные психологические особенности ребё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Заголовок 1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2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Для определения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творческих способностей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Богоявленская Д.Б выделяет следующие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параметры: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457200" y="1980720"/>
            <a:ext cx="8229600" cy="4519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еглость мысли (количество идей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ибкость мысли (способность переключаться с одной идеи на другую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игинальность (способность производить иде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юбознатель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антастич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Заголовок 1"/>
          <p:cNvGrpSpPr/>
          <p:nvPr/>
        </p:nvGrpSpPr>
        <p:grpSpPr>
          <a:xfrm>
            <a:off x="566640" y="281160"/>
            <a:ext cx="8242560" cy="1382400"/>
            <a:chOff x="566640" y="281160"/>
            <a:chExt cx="8242560" cy="1382400"/>
          </a:xfrm>
        </p:grpSpPr>
        <p:pic>
          <p:nvPicPr>
            <p:cNvPr id="13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66640" y="281160"/>
              <a:ext cx="8242560" cy="13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71680" y="28584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Богданова Т.Г. выделяет совокупность множества способностей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 txBox="1"/>
          <p:nvPr/>
        </p:nvSpPr>
        <p:spPr>
          <a:xfrm>
            <a:off x="457200" y="1981080"/>
            <a:ext cx="8229600" cy="44481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ность рисков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вергентное мышл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ибкость в мышлении и действия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строта мыш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ность высказывать оригинальные идеи, изобретать что-то нов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гатое воображ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риятие неоднозначных вещ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ие эстетические ц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итая интуи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1198891125.jpg"/>
          <p:cNvPicPr/>
          <p:nvPr/>
        </p:nvPicPr>
        <p:blipFill>
          <a:blip r:embed="rId1"/>
          <a:stretch/>
        </p:blipFill>
        <p:spPr>
          <a:xfrm>
            <a:off x="6419880" y="3693960"/>
            <a:ext cx="1382760" cy="3067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42960" y="713880"/>
            <a:ext cx="8229600" cy="31626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кие творческие способност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естественное поведение ребёнка на фоне отсутствия стереотипов, где точкой отсчёта является норма, и чем дальше от неё, тем показатели творчества вы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4" descr="1198891125.jpg"/>
          <p:cNvPicPr/>
          <p:nvPr/>
        </p:nvPicPr>
        <p:blipFill>
          <a:blip r:embed="rId3"/>
          <a:stretch/>
        </p:blipFill>
        <p:spPr>
          <a:xfrm>
            <a:off x="822240" y="4243320"/>
            <a:ext cx="3792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Заголовок 1"/>
          <p:cNvGrpSpPr/>
          <p:nvPr/>
        </p:nvGrpSpPr>
        <p:grpSpPr>
          <a:xfrm>
            <a:off x="493560" y="420840"/>
            <a:ext cx="8242560" cy="1384200"/>
            <a:chOff x="493560" y="420840"/>
            <a:chExt cx="8242560" cy="1384200"/>
          </a:xfrm>
        </p:grpSpPr>
        <p:pic>
          <p:nvPicPr>
            <p:cNvPr id="13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93560" y="420840"/>
              <a:ext cx="82425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00040" y="42876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Условия эффективного развития творческих способностей младших школьников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1980720"/>
            <a:ext cx="8229600" cy="4519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ются ситуации выбора, процесс обучения включает задания, которые выполняются с учётом воображ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рганизуется сотворчество в детском коллективе с целого проявления и развития творческих способностей каждого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уются технологии развития творческого мышл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дится систематическое отслеживание результатов диагност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 каждого ребёнка есть разного рода да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0:16:56Z</dcterms:created>
  <dc:creator>BelGates.by</dc:creator>
  <dc:description/>
  <dc:language>en-US</dc:language>
  <cp:lastModifiedBy>coMpp</cp:lastModifiedBy>
  <dcterms:modified xsi:type="dcterms:W3CDTF">2011-07-06T04:57:54Z</dcterms:modified>
  <cp:revision>13</cp:revision>
  <dc:subject/>
  <dc:title>Креативный потенциал воспитанника</dc:title>
</cp:coreProperties>
</file>