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B20-D8AC-4D22-8E96-32D25A133B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CFB-C72D-4F25-9C75-AB901AC06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14C-22F9-4E80-A93B-E6925B978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2C6D-A275-4D94-814C-CE7DF1FFF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6FB-44C5-4F3D-A726-9C71B4EFBA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019F-CDA8-4794-9810-671F1D7DA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603-C621-4AE3-95AB-F11B543D6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7F8E-1B10-44A7-ABC8-7FDA7A039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F5CA-3AB0-47E8-8D6F-2C51C5BC3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BFB5-CFE7-4891-AB37-72E9CA212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6642-A6D8-4D7E-ABCE-9EB5A1DCA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01D4-4C44-4F4B-9B70-C65383EC7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FB65-0015-4E1B-BC5A-455AD3C7E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2A6A-A585-4F0B-AB55-67C63E8E8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37D-BFB5-4905-8D03-793D2B82D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020-CCC8-45DF-A88D-41578BFCA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824-43F5-4214-A8B2-1E48B7688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ED1-9BED-493A-826D-9FC5451AE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8E14-909A-4738-BA3E-C87188F21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30DF-02EE-420A-AFF3-D8672E002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349E-7F24-449E-BE05-6343C8395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E46-096E-43B6-B0BB-1944061AB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25B9-1737-4131-9100-1889142A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E7A3-8190-4380-B74D-E47AE72B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8775-B6BA-4DEE-B64B-FCC7D2E8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8C1D-2203-49E0-919A-724DD88F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11D-E425-4552-9915-154642AC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2DEB-240F-4A19-AFEA-5F37A35C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317-CBAC-43E3-B09C-E2979672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5F3C-9B04-44F6-A4F1-2C89491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5BBF-5396-4A44-AE37-BC187CC7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2EC5-24F4-4C48-AE6E-C1EC71AD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29B6-05C2-4B67-9A68-34DA9E36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D137-3CA8-4913-9E6C-B7BFAAC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0D89-2B42-4B0E-BB0B-CD09BBE7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4E04-50A2-48DD-9344-09A7DBC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EA5A-A441-4E42-8BE3-98F7A516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7981-BF39-424E-9794-8687964E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4690-79EF-4A82-B4E6-2D2BA3AF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FBA9-2065-41F8-9D59-03F7497B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D6B7-4507-45AA-987F-795A8E6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634A-BD0E-4767-8B47-7476F526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D76D-AA66-4520-8BB6-343DD36B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76F3-13F7-4704-893D-85F7B55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2382-71B7-44B1-8544-2D67E81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999F-7831-4BF2-865A-8530FAA2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9FC-3FBD-41D3-B0C0-C505F75BAF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C804-10C0-4E12-AA7A-AC5AA57232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реативный потенциал воспитанни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Заголовок 1"/>
          <p:cNvGrpSpPr/>
          <p:nvPr/>
        </p:nvGrpSpPr>
        <p:grpSpPr>
          <a:xfrm>
            <a:off x="566640" y="493560"/>
            <a:ext cx="8126640" cy="1341720"/>
            <a:chOff x="566640" y="493560"/>
            <a:chExt cx="8126640" cy="1341720"/>
          </a:xfrm>
        </p:grpSpPr>
        <p:pic>
          <p:nvPicPr>
            <p:cNvPr id="14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66640" y="493560"/>
              <a:ext cx="812664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71680" y="500040"/>
              <a:ext cx="81151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Способы стимулирования творческих способнос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одержимое 2"/>
          <p:cNvGrpSpPr/>
          <p:nvPr/>
        </p:nvGrpSpPr>
        <p:grpSpPr>
          <a:xfrm>
            <a:off x="450720" y="1974960"/>
            <a:ext cx="8242560" cy="4316400"/>
            <a:chOff x="450720" y="1974960"/>
            <a:chExt cx="8242560" cy="4316400"/>
          </a:xfrm>
        </p:grpSpPr>
        <p:pic>
          <p:nvPicPr>
            <p:cNvPr id="14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0720" y="1974960"/>
              <a:ext cx="824256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7200" y="1981080"/>
              <a:ext cx="8229600" cy="43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еспечение благоприятной атмосферы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брожелательность со стороны учителя, его отказ от критики в адрес ребёнка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огащение окружающей ребёнка среды самыми разнообразными новыми для него предметами и стимулами с целью развития его любознательност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ощрение высказывания оригинальных идей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еспечение возможностей для практик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ользование личного примера творческого подхода к решению проблем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едоставление детям возможности активно задавать вопросы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1915.jpg"/>
          <p:cNvPicPr/>
          <p:nvPr/>
        </p:nvPicPr>
        <p:blipFill>
          <a:blip r:embed="rId1"/>
          <a:stretch/>
        </p:blipFill>
        <p:spPr>
          <a:xfrm>
            <a:off x="5786280" y="2548080"/>
            <a:ext cx="3000600" cy="4000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642600"/>
            <a:ext cx="8229600" cy="578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жность развития творчества младшего школьника, его способностей при решении любой учебной задачи проявлять инициативу, выдумку, самостоятельность для всех является сейчас очевидным. Соотнося процесс творчества и обучения, очевидно, надо вести разговор о создании таких условий, которые содействовали бы возникновению и развитию у всех обучаемых качеств и склонностей, обычно выделяемые как характерные черты творческой личности. Эффективность работы школы определяется тем, в какой мере учебно-воспитательный процесс обеспечивает развитие творческих способностей учащихся, готовит их к жизн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ущностная структура креат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6923160" cy="4083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ый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ая л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ая сре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руктура креативност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по Н.Ф.Вишняков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Rectangle 3"/>
          <p:cNvGrpSpPr/>
          <p:nvPr/>
        </p:nvGrpSpPr>
        <p:grpSpPr>
          <a:xfrm>
            <a:off x="450720" y="1974960"/>
            <a:ext cx="8156880" cy="4249800"/>
            <a:chOff x="450720" y="1974960"/>
            <a:chExt cx="8156880" cy="4249800"/>
          </a:xfrm>
        </p:grpSpPr>
        <p:pic>
          <p:nvPicPr>
            <p:cNvPr id="152" name="Rectangle 3" descr=""/>
            <p:cNvPicPr/>
            <p:nvPr/>
          </p:nvPicPr>
          <p:blipFill>
            <a:blip r:embed="rId1"/>
            <a:stretch/>
          </p:blipFill>
          <p:spPr>
            <a:xfrm>
              <a:off x="450720" y="1974960"/>
              <a:ext cx="8156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1981080"/>
              <a:ext cx="8147160" cy="42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личностная категория, связанная с саморазвитием и самоактуализацией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созидательный процесс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результат деятельности, связанный с созданием нов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Рисунок 5" descr="1955.jpg"/>
          <p:cNvPicPr/>
          <p:nvPr/>
        </p:nvPicPr>
        <p:blipFill>
          <a:blip r:embed="rId2"/>
          <a:stretch/>
        </p:blipFill>
        <p:spPr>
          <a:xfrm>
            <a:off x="407880" y="420840"/>
            <a:ext cx="126864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казатели сформированности творческих способностей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3"/>
          <p:cNvGrpSpPr/>
          <p:nvPr/>
        </p:nvGrpSpPr>
        <p:grpSpPr>
          <a:xfrm>
            <a:off x="450720" y="1695600"/>
            <a:ext cx="8242560" cy="4833720"/>
            <a:chOff x="450720" y="1695600"/>
            <a:chExt cx="8242560" cy="4833720"/>
          </a:xfrm>
        </p:grpSpPr>
        <p:pic>
          <p:nvPicPr>
            <p:cNvPr id="157" name="Rectangle 3" descr=""/>
            <p:cNvPicPr/>
            <p:nvPr/>
          </p:nvPicPr>
          <p:blipFill>
            <a:blip r:embed="rId1"/>
            <a:stretch/>
          </p:blipFill>
          <p:spPr>
            <a:xfrm>
              <a:off x="450720" y="1695600"/>
              <a:ext cx="824256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57200" y="1700280"/>
              <a:ext cx="822960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Определенный уровень знаний и умений, их качество и степень их обобщенност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тепень развития психических механизмов, лежащих в основе развития творческих способностей учащихся: внимания, памяти, воображения (эти качества являются основой продуктивного мышления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Уровень развития мышления, который определяется главным образом степенью способностей умственных действий и операций, которые он способен производить в процессе учебно-познавательной деятельност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ладение приемами поисковой и творческой деятель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ниторинг креативного потенциала личности может включать следующие качественные показател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Rectangle 3"/>
          <p:cNvGrpSpPr/>
          <p:nvPr/>
        </p:nvGrpSpPr>
        <p:grpSpPr>
          <a:xfrm>
            <a:off x="426960" y="1951200"/>
            <a:ext cx="8296200" cy="3956040"/>
            <a:chOff x="426960" y="1951200"/>
            <a:chExt cx="8296200" cy="3956040"/>
          </a:xfrm>
        </p:grpSpPr>
        <p:pic>
          <p:nvPicPr>
            <p:cNvPr id="161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951200"/>
              <a:ext cx="82962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57200" y="1981080"/>
              <a:ext cx="8229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Познавательную учебную деятель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на должна строиться с учетом возможности проявиться в различных сферах деятельности. Это важно как источник приобретения новых знаний и нового опыта и основание для трансформации этих знаний и опыта в другие сферы деятельност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3"/>
          <p:cNvGrpSpPr/>
          <p:nvPr/>
        </p:nvGrpSpPr>
        <p:grpSpPr>
          <a:xfrm>
            <a:off x="426960" y="1182600"/>
            <a:ext cx="8296200" cy="4724640"/>
            <a:chOff x="426960" y="1182600"/>
            <a:chExt cx="8296200" cy="4724640"/>
          </a:xfrm>
        </p:grpSpPr>
        <p:pic>
          <p:nvPicPr>
            <p:cNvPr id="164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182600"/>
              <a:ext cx="82962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1214280"/>
              <a:ext cx="822960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риентация на интеллектуальную инициативу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на предполагает проявление самостоятельности при решении различных учебных и исследовательских задач, стремление найти оригинальный, альтернативный путь решения, рассмотреть проблему на более глубоком уровне или с другой сторон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Rectangle 3"/>
          <p:cNvGrpSpPr/>
          <p:nvPr/>
        </p:nvGrpSpPr>
        <p:grpSpPr>
          <a:xfrm>
            <a:off x="426960" y="1328760"/>
            <a:ext cx="8296200" cy="4578480"/>
            <a:chOff x="426960" y="1328760"/>
            <a:chExt cx="8296200" cy="4578480"/>
          </a:xfrm>
        </p:grpSpPr>
        <p:pic>
          <p:nvPicPr>
            <p:cNvPr id="167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328760"/>
              <a:ext cx="829620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57200" y="1357200"/>
              <a:ext cx="822960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Самостоятельность учебной деятель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развитие способности к самостоятельному поиску знаний, исследованию проблем. Созданию разнообразных объектов. В чем кроется залог развития творческих возможностей лич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Rectangle 3"/>
          <p:cNvGrpSpPr/>
          <p:nvPr/>
        </p:nvGrpSpPr>
        <p:grpSpPr>
          <a:xfrm>
            <a:off x="426960" y="1255680"/>
            <a:ext cx="8296200" cy="4651560"/>
            <a:chOff x="426960" y="1255680"/>
            <a:chExt cx="8296200" cy="4651560"/>
          </a:xfrm>
        </p:grpSpPr>
        <p:pic>
          <p:nvPicPr>
            <p:cNvPr id="170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255680"/>
              <a:ext cx="829620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" y="1285920"/>
              <a:ext cx="8229600" cy="45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Активность трансформационных возможностей предметно-пространственной сред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преобразование, которое способствует реализации творческих проявлений ребенк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Rectangle 3"/>
          <p:cNvGrpSpPr/>
          <p:nvPr/>
        </p:nvGrpSpPr>
        <p:grpSpPr>
          <a:xfrm>
            <a:off x="426960" y="1395360"/>
            <a:ext cx="8296200" cy="4511880"/>
            <a:chOff x="426960" y="1395360"/>
            <a:chExt cx="8296200" cy="4511880"/>
          </a:xfrm>
        </p:grpSpPr>
        <p:pic>
          <p:nvPicPr>
            <p:cNvPr id="173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395360"/>
              <a:ext cx="8296200" cy="45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57200" y="1428840"/>
              <a:ext cx="822960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Сочетание индивидуальной учебной и исследовательской деятельности с ее коллективными форма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как индивидуальное обучение, так и коллективную творческую деятель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тратегия качества воспитания предполагает реализацию идеи развития интеллектуального ресурса нации как величайшей духовной ц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кий потенциал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это фактор позитивного стимулирования индивидуально-личностного роста; интеллектуальный ресурс как главная движущая сила поступательного развития человече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Проявление творческого поиска представляет собой совокупность признак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Rectangle 3"/>
          <p:cNvGrpSpPr/>
          <p:nvPr/>
        </p:nvGrpSpPr>
        <p:grpSpPr>
          <a:xfrm>
            <a:off x="426960" y="1951200"/>
            <a:ext cx="8296200" cy="3956040"/>
            <a:chOff x="426960" y="1951200"/>
            <a:chExt cx="8296200" cy="3956040"/>
          </a:xfrm>
        </p:grpSpPr>
        <p:pic>
          <p:nvPicPr>
            <p:cNvPr id="179" name="Rectangle 3" descr=""/>
            <p:cNvPicPr/>
            <p:nvPr/>
          </p:nvPicPr>
          <p:blipFill>
            <a:blip r:embed="rId2"/>
            <a:stretch/>
          </p:blipFill>
          <p:spPr>
            <a:xfrm>
              <a:off x="426960" y="1951200"/>
              <a:ext cx="82962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7200" y="1981080"/>
              <a:ext cx="8229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Реконструктивное творчество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Комбинаторное творчество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Творчество через аналогию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Задача педагога – фиксировать подобные проявления ребенка на предме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онимания и структурирования исходной информа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остановки задачи, поиск исходной информа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рогнозирование решений, разработка гипотез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одержимое 2"/>
          <p:cNvGrpSpPr/>
          <p:nvPr/>
        </p:nvGrpSpPr>
        <p:grpSpPr>
          <a:xfrm>
            <a:off x="420840" y="706320"/>
            <a:ext cx="8242200" cy="5585040"/>
            <a:chOff x="420840" y="706320"/>
            <a:chExt cx="8242200" cy="5585040"/>
          </a:xfrm>
        </p:grpSpPr>
        <p:pic>
          <p:nvPicPr>
            <p:cNvPr id="18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20840" y="706320"/>
              <a:ext cx="8242200" cy="55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28760" y="714240"/>
              <a:ext cx="8229600" cy="55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ворческие способности есть у каждого ребёнка. Это индивидуально – психологические особенности, отличающие одного человека от другог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т того насколько они будут развиты, зависит творческий потенциал нашего общества, так как формирование творческой личности приобретает сегодня не только теоретический смысл, но и практический смыс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Знание педагогов, что подразумевается под творческими способностями учащихся, расширит границы их проявления у дет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ей формой творческого потенциала личности является креативность как универсальная способность к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это стиль (качественная характеристика деятельности), т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еатив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индивидуальных психологических характеристик творческ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1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Педагогическое определение </a:t>
              </a:r>
              <a:br>
                <a:rPr sz="3200"/>
              </a:b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творческих способнос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ности к созданию оригинального продукта, изделия, в процессе работы над которыми самостоятельно применены усвоенные знания, умения, навыки, проявляются хотя бы в минимальном отступлении от образца индивидуальность, худож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Творческие способности</a:t>
              </a: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ые психологические особенности ребё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2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Для определения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ворческих способностей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огоявленская Д.Б выделяет следующие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параметры: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глость мысли (количество идей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бкость мысли (способность переключаться с одной идеи на другую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игинальность (способность производить иде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ознатель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антастич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Заголовок 1"/>
          <p:cNvGrpSpPr/>
          <p:nvPr/>
        </p:nvGrpSpPr>
        <p:grpSpPr>
          <a:xfrm>
            <a:off x="566640" y="281160"/>
            <a:ext cx="8242560" cy="1382400"/>
            <a:chOff x="566640" y="281160"/>
            <a:chExt cx="8242560" cy="1382400"/>
          </a:xfrm>
        </p:grpSpPr>
        <p:pic>
          <p:nvPicPr>
            <p:cNvPr id="13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66640" y="281160"/>
              <a:ext cx="8242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71680" y="28584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огданова Т.Г. выделяет совокупность множества способностей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ность рисков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вергентн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ибкость в мышлении и действи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ота мыш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ность высказывать оригинальные идеи, изобретать что-то нов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гатое воображ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риятие неоднозначных вещ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ие эстетические ц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ая интуи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1198891125.jpg"/>
          <p:cNvPicPr/>
          <p:nvPr/>
        </p:nvPicPr>
        <p:blipFill>
          <a:blip r:embed="rId1"/>
          <a:stretch/>
        </p:blipFill>
        <p:spPr>
          <a:xfrm>
            <a:off x="6419880" y="3693960"/>
            <a:ext cx="1382760" cy="306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42960" y="713880"/>
            <a:ext cx="8229600" cy="3162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е творческие способнос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естественное поведение ребёнка на фоне отсутствия стереотипов, где точкой отсчёта является норма, и чем дальше от неё, тем показатели творчества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1198891125.jpg"/>
          <p:cNvPicPr/>
          <p:nvPr/>
        </p:nvPicPr>
        <p:blipFill>
          <a:blip r:embed="rId3"/>
          <a:stretch/>
        </p:blipFill>
        <p:spPr>
          <a:xfrm>
            <a:off x="822240" y="4243320"/>
            <a:ext cx="3792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Заголовок 1"/>
          <p:cNvGrpSpPr/>
          <p:nvPr/>
        </p:nvGrpSpPr>
        <p:grpSpPr>
          <a:xfrm>
            <a:off x="493560" y="420840"/>
            <a:ext cx="8242560" cy="1384200"/>
            <a:chOff x="493560" y="420840"/>
            <a:chExt cx="8242560" cy="1384200"/>
          </a:xfrm>
        </p:grpSpPr>
        <p:pic>
          <p:nvPicPr>
            <p:cNvPr id="13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93560" y="420840"/>
              <a:ext cx="82425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00040" y="42876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Условия эффективного развития творческих способностей младших школьников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ются ситуации выбора, процесс обучения включает задания, которые выполняются с учётом воображ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рганизуется сотворчество в детском коллективе с целого проявления и развития творческих способностей каждого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уются технологии развития творческого мыш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ится систематическое отслеживание результатов диагност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 каждого ребёнка есть разного рода да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16:56Z</dcterms:created>
  <dc:creator>BelGates.by</dc:creator>
  <dc:description/>
  <dc:language>en-US</dc:language>
  <cp:lastModifiedBy>coMpp</cp:lastModifiedBy>
  <dcterms:modified xsi:type="dcterms:W3CDTF">2011-07-06T04:57:54Z</dcterms:modified>
  <cp:revision>13</cp:revision>
  <dc:subject/>
  <dc:title>Креативный потенциал воспитанника</dc:title>
</cp:coreProperties>
</file>