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C112-983C-46C6-8773-4E65209362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21E8-CD81-4717-8867-D8644B516A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EB98-7C3F-4D4E-98FE-4507B22D20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29F2-12EC-4D37-B0FE-738FDFCB2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728A-FFCF-49FF-AE07-D263D12965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25C1-3811-4288-84CF-48A742C1C3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0BDB-2A34-4E01-814C-ABA9E554F4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97D4-7D10-4646-910C-A0AA0B8175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ECEC-08B9-41D3-8FEE-C96C4FD81B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88AC-57ED-4BBF-9D4A-29BD34C015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87B8-0C54-499D-B10E-03E221A620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193F-E9D1-4F6C-AB7A-75DF5610A2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0123-5692-47C6-B541-6865D8B89B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1DD2-8CB9-443C-B1A4-BABBBBB85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F328-4144-4FAF-9C59-C4D7997762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8C39-2B50-4962-BBB3-8BF2D84865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318F-37C2-428B-8DE9-70BDC508C4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CA33-5B7A-420E-9EA6-3BF406DC36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850A-D94B-4B30-83D1-50E4E4B541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6BD5-A087-48DB-B38C-C255319D22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430B-AC1B-4747-AF06-52FAA2F885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8C86-287B-402C-ADF0-360347C958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57DD3-A816-4077-8E12-627A9F21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35E61-2C28-40B5-A314-A3095AE9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86F16-D7F8-437D-A303-BCDA90CB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95C2-9BF1-4682-85F1-3531473C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03B0-7284-4ECA-B39E-AEB59489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D626-D872-4D8F-8F41-F2642BB5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5DAD-0BCC-4D2E-8053-95A43103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4980-ECE5-4F45-9E08-7FFBED29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2259-0ABE-4F6D-AC89-9422B094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A454-3B15-4341-94A0-6DBC33B3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4686-5398-4C06-BB32-0A4F6C84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07688-C97F-4DF0-8DAF-C1ECAE26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08AB-AAB6-4067-A2DC-E6ECB5D6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54F2-E016-4C68-8802-A77EFD3B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BAFC-6B0E-4582-8F2A-9CB2C13B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CBCC-EE60-473F-9D62-06BDD6B6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6330-2BEF-4AE6-868F-3C9DED76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C0CA1-4665-42D0-A183-7A561D13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7FA9E-375B-4421-97D9-0189F4FA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DA90E-4C66-438B-8D96-22F3EDC1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7296D-0124-4ADF-A8E0-F644E7C1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83E28-AC80-4DA2-AC6A-166A405A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C97B7-FC2E-463E-BA2C-6B23F994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42376-EF6D-4E47-B249-B228E9C9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2A30-3F7B-4296-8CE8-9300266A0F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20BB-0B85-40A9-A380-9BA406EC7E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Креативный потенциал воспитанник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Заголовок 1"/>
          <p:cNvGrpSpPr/>
          <p:nvPr/>
        </p:nvGrpSpPr>
        <p:grpSpPr>
          <a:xfrm>
            <a:off x="566640" y="493560"/>
            <a:ext cx="8126640" cy="1341720"/>
            <a:chOff x="566640" y="493560"/>
            <a:chExt cx="8126640" cy="1341720"/>
          </a:xfrm>
        </p:grpSpPr>
        <p:pic>
          <p:nvPicPr>
            <p:cNvPr id="14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66640" y="493560"/>
              <a:ext cx="812664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71680" y="500040"/>
              <a:ext cx="8115120" cy="13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Способы стимулирования творческих способност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Содержимое 2"/>
          <p:cNvGrpSpPr/>
          <p:nvPr/>
        </p:nvGrpSpPr>
        <p:grpSpPr>
          <a:xfrm>
            <a:off x="450720" y="1974960"/>
            <a:ext cx="8242560" cy="4316400"/>
            <a:chOff x="450720" y="1974960"/>
            <a:chExt cx="8242560" cy="4316400"/>
          </a:xfrm>
        </p:grpSpPr>
        <p:pic>
          <p:nvPicPr>
            <p:cNvPr id="14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50720" y="1974960"/>
              <a:ext cx="8242560" cy="43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57200" y="1981080"/>
              <a:ext cx="8229600" cy="43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беспечение благоприятной атмосферы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брожелательность со стороны учителя, его отказ от критики в адрес ребёнка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богащение окружающей ребёнка среды самыми разнообразными новыми для него предметами и стимулами с целью развития его любознательности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ощрение высказывания оригинальных идей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беспечение возможностей для практики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спользование личного примера творческого подхода к решению проблем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редоставление детям возможности активно задавать вопросы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1915.jpg"/>
          <p:cNvPicPr/>
          <p:nvPr/>
        </p:nvPicPr>
        <p:blipFill>
          <a:blip r:embed="rId1"/>
          <a:stretch/>
        </p:blipFill>
        <p:spPr>
          <a:xfrm>
            <a:off x="5786280" y="2548080"/>
            <a:ext cx="3000600" cy="4000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642600"/>
            <a:ext cx="8229600" cy="5786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ажность развития творчества младшего школьника, его способностей при решении любой учебной задачи проявлять инициативу, выдумку, самостоятельность для всех является сейчас очевидным. Соотнося процесс творчества и обучения, очевидно, надо вести разговор о создании таких условий, которые содействовали бы возникновению и развитию у всех обучаемых качеств и склонностей, обычно выделяемые как характерные черты творческой личности. Эффективность работы школы определяется тем, в какой мере учебно-воспитательный процесс обеспечивает развитие творческих способностей учащихся, готовит их к жизни в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ущностная структура креатив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5640" y="2060640"/>
            <a:ext cx="6923160" cy="40831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еативный проце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еативный проду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еативная лич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еативная сре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труктура креативности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по Н.Ф.Вишняково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Rectangle 3"/>
          <p:cNvGrpSpPr/>
          <p:nvPr/>
        </p:nvGrpSpPr>
        <p:grpSpPr>
          <a:xfrm>
            <a:off x="450720" y="1974960"/>
            <a:ext cx="8156880" cy="4249800"/>
            <a:chOff x="450720" y="1974960"/>
            <a:chExt cx="8156880" cy="4249800"/>
          </a:xfrm>
        </p:grpSpPr>
        <p:pic>
          <p:nvPicPr>
            <p:cNvPr id="152" name="Rectangle 3" descr=""/>
            <p:cNvPicPr/>
            <p:nvPr/>
          </p:nvPicPr>
          <p:blipFill>
            <a:blip r:embed="rId1"/>
            <a:stretch/>
          </p:blipFill>
          <p:spPr>
            <a:xfrm>
              <a:off x="450720" y="1974960"/>
              <a:ext cx="81568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7200" y="1981080"/>
              <a:ext cx="8147160" cy="42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Arial"/>
                </a:rPr>
                <a:t>Креативность как личностная категория, связанная с саморазвитием и самоактуализацией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Arial"/>
                </a:rPr>
                <a:t>Креативность как созидательный процесс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Arial"/>
                </a:rPr>
                <a:t>Креативность как результат деятельности, связанный с созданием нового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Рисунок 5" descr="1955.jpg"/>
          <p:cNvPicPr/>
          <p:nvPr/>
        </p:nvPicPr>
        <p:blipFill>
          <a:blip r:embed="rId2"/>
          <a:stretch/>
        </p:blipFill>
        <p:spPr>
          <a:xfrm>
            <a:off x="407880" y="420840"/>
            <a:ext cx="126864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показатели сформированности творческих способностей воспита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Rectangle 3"/>
          <p:cNvGrpSpPr/>
          <p:nvPr/>
        </p:nvGrpSpPr>
        <p:grpSpPr>
          <a:xfrm>
            <a:off x="450720" y="1695600"/>
            <a:ext cx="8242560" cy="4833720"/>
            <a:chOff x="450720" y="1695600"/>
            <a:chExt cx="8242560" cy="4833720"/>
          </a:xfrm>
        </p:grpSpPr>
        <p:pic>
          <p:nvPicPr>
            <p:cNvPr id="157" name="Rectangle 3" descr=""/>
            <p:cNvPicPr/>
            <p:nvPr/>
          </p:nvPicPr>
          <p:blipFill>
            <a:blip r:embed="rId1"/>
            <a:stretch/>
          </p:blipFill>
          <p:spPr>
            <a:xfrm>
              <a:off x="450720" y="1695600"/>
              <a:ext cx="824256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57200" y="1700280"/>
              <a:ext cx="8229600" cy="48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Определенный уровень знаний и умений, их качество и степень их обобщенности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Степень развития психических механизмов, лежащих в основе развития творческих способностей учащихся: внимания, памяти, воображения (эти качества являются основой продуктивного мышления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Уровень развития мышления, который определяется главным образом степенью способностей умственных действий и операций, которые он способен производить в процессе учебно-познавательной деятельности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Владение приемами поисковой и творческой деятельност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ffcccc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ниторинг креативного потенциала личности может включать следующие качественные показател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Rectangle 3"/>
          <p:cNvGrpSpPr/>
          <p:nvPr/>
        </p:nvGrpSpPr>
        <p:grpSpPr>
          <a:xfrm>
            <a:off x="426960" y="1951200"/>
            <a:ext cx="8296200" cy="3956040"/>
            <a:chOff x="426960" y="1951200"/>
            <a:chExt cx="8296200" cy="3956040"/>
          </a:xfrm>
        </p:grpSpPr>
        <p:pic>
          <p:nvPicPr>
            <p:cNvPr id="161" name="Rectangle 3" descr=""/>
            <p:cNvPicPr/>
            <p:nvPr/>
          </p:nvPicPr>
          <p:blipFill>
            <a:blip r:embed="rId1"/>
            <a:stretch/>
          </p:blipFill>
          <p:spPr>
            <a:xfrm>
              <a:off x="426960" y="1951200"/>
              <a:ext cx="829620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457200" y="1981080"/>
              <a:ext cx="82296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Arial"/>
                </a:rPr>
                <a:t>Познавательную учебную деятельность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на должна строиться с учетом возможности проявиться в различных сферах деятельности. Это важно как источник приобретения новых знаний и нового опыта и основание для трансформации этих знаний и опыта в другие сферы деятельности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3"/>
          <p:cNvGrpSpPr/>
          <p:nvPr/>
        </p:nvGrpSpPr>
        <p:grpSpPr>
          <a:xfrm>
            <a:off x="426960" y="1182600"/>
            <a:ext cx="8296200" cy="4724640"/>
            <a:chOff x="426960" y="1182600"/>
            <a:chExt cx="8296200" cy="4724640"/>
          </a:xfrm>
        </p:grpSpPr>
        <p:pic>
          <p:nvPicPr>
            <p:cNvPr id="164" name="Rectangle 3" descr=""/>
            <p:cNvPicPr/>
            <p:nvPr/>
          </p:nvPicPr>
          <p:blipFill>
            <a:blip r:embed="rId1"/>
            <a:stretch/>
          </p:blipFill>
          <p:spPr>
            <a:xfrm>
              <a:off x="426960" y="1182600"/>
              <a:ext cx="829620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57200" y="1214280"/>
              <a:ext cx="822960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риентация на интеллектуальную инициативу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на предполагает проявление самостоятельности при решении различных учебных и исследовательских задач, стремление найти оригинальный, альтернативный путь решения, рассмотреть проблему на более глубоком уровне или с другой стороны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Rectangle 3"/>
          <p:cNvGrpSpPr/>
          <p:nvPr/>
        </p:nvGrpSpPr>
        <p:grpSpPr>
          <a:xfrm>
            <a:off x="426960" y="1328760"/>
            <a:ext cx="8296200" cy="4578480"/>
            <a:chOff x="426960" y="1328760"/>
            <a:chExt cx="8296200" cy="4578480"/>
          </a:xfrm>
        </p:grpSpPr>
        <p:pic>
          <p:nvPicPr>
            <p:cNvPr id="167" name="Rectangle 3" descr=""/>
            <p:cNvPicPr/>
            <p:nvPr/>
          </p:nvPicPr>
          <p:blipFill>
            <a:blip r:embed="rId1"/>
            <a:stretch/>
          </p:blipFill>
          <p:spPr>
            <a:xfrm>
              <a:off x="426960" y="1328760"/>
              <a:ext cx="8296200" cy="457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57200" y="1357200"/>
              <a:ext cx="8229600" cy="45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Самостоятельность учебной деятельност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редполагает развитие способности к самостоятельному поиску знаний, исследованию проблем. Созданию разнообразных объектов. В чем кроется залог развития творческих возможностей личност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Rectangle 3"/>
          <p:cNvGrpSpPr/>
          <p:nvPr/>
        </p:nvGrpSpPr>
        <p:grpSpPr>
          <a:xfrm>
            <a:off x="426960" y="1255680"/>
            <a:ext cx="8296200" cy="4651560"/>
            <a:chOff x="426960" y="1255680"/>
            <a:chExt cx="8296200" cy="4651560"/>
          </a:xfrm>
        </p:grpSpPr>
        <p:pic>
          <p:nvPicPr>
            <p:cNvPr id="170" name="Rectangle 3" descr=""/>
            <p:cNvPicPr/>
            <p:nvPr/>
          </p:nvPicPr>
          <p:blipFill>
            <a:blip r:embed="rId1"/>
            <a:stretch/>
          </p:blipFill>
          <p:spPr>
            <a:xfrm>
              <a:off x="426960" y="1255680"/>
              <a:ext cx="8296200" cy="465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57200" y="1285920"/>
              <a:ext cx="8229600" cy="458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Arial"/>
                </a:rPr>
                <a:t>Активность трансформационных возможностей предметно-пространственной среды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редполагает преобразование, которое способствует реализации творческих проявлений ребенка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Rectangle 3"/>
          <p:cNvGrpSpPr/>
          <p:nvPr/>
        </p:nvGrpSpPr>
        <p:grpSpPr>
          <a:xfrm>
            <a:off x="426960" y="1395360"/>
            <a:ext cx="8296200" cy="4511880"/>
            <a:chOff x="426960" y="1395360"/>
            <a:chExt cx="8296200" cy="4511880"/>
          </a:xfrm>
        </p:grpSpPr>
        <p:pic>
          <p:nvPicPr>
            <p:cNvPr id="173" name="Rectangle 3" descr=""/>
            <p:cNvPicPr/>
            <p:nvPr/>
          </p:nvPicPr>
          <p:blipFill>
            <a:blip r:embed="rId1"/>
            <a:stretch/>
          </p:blipFill>
          <p:spPr>
            <a:xfrm>
              <a:off x="426960" y="1395360"/>
              <a:ext cx="8296200" cy="45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57200" y="1428840"/>
              <a:ext cx="8229600" cy="44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Arial"/>
                </a:rPr>
                <a:t>Сочетание индивидуальной учебной и исследовательской деятельности с ее коллективными формам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редполагает как индивидуальное обучение, так и коллективную творческую деятельность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тратегия качества воспитания предполагает реализацию идеи развития интеллектуального ресурса нации как величайшей духовной ц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ворческий потенциал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– это фактор позитивного стимулирования индивидуально-личностного роста; интеллектуальный ресурс как главная движущая сила поступательного развития человеческого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ectangle 2"/>
          <p:cNvGrpSpPr/>
          <p:nvPr/>
        </p:nvGrpSpPr>
        <p:grpSpPr>
          <a:xfrm>
            <a:off x="450720" y="450720"/>
            <a:ext cx="8242560" cy="1384560"/>
            <a:chOff x="450720" y="450720"/>
            <a:chExt cx="8242560" cy="1384560"/>
          </a:xfrm>
        </p:grpSpPr>
        <p:pic>
          <p:nvPicPr>
            <p:cNvPr id="176" name="Rectangle 2" descr=""/>
            <p:cNvPicPr/>
            <p:nvPr/>
          </p:nvPicPr>
          <p:blipFill>
            <a:blip r:embed="rId1"/>
            <a:stretch/>
          </p:blipFill>
          <p:spPr>
            <a:xfrm>
              <a:off x="450720" y="450720"/>
              <a:ext cx="824256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57200" y="457200"/>
              <a:ext cx="8229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Проявление творческого поиска представляет собой совокупность признаков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Rectangle 3"/>
          <p:cNvGrpSpPr/>
          <p:nvPr/>
        </p:nvGrpSpPr>
        <p:grpSpPr>
          <a:xfrm>
            <a:off x="426960" y="1951200"/>
            <a:ext cx="8296200" cy="3956040"/>
            <a:chOff x="426960" y="1951200"/>
            <a:chExt cx="8296200" cy="3956040"/>
          </a:xfrm>
        </p:grpSpPr>
        <p:pic>
          <p:nvPicPr>
            <p:cNvPr id="179" name="Rectangle 3" descr=""/>
            <p:cNvPicPr/>
            <p:nvPr/>
          </p:nvPicPr>
          <p:blipFill>
            <a:blip r:embed="rId2"/>
            <a:stretch/>
          </p:blipFill>
          <p:spPr>
            <a:xfrm>
              <a:off x="426960" y="1951200"/>
              <a:ext cx="829620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57200" y="1981080"/>
              <a:ext cx="82296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Реконструктивное творчество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Комбинаторное творчество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Творчество через аналогию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Задача педагога – фиксировать подобные проявления ребенка на предмет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Понимания и структурирования исходной информаци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Постановки задачи, поиск исходной информаци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Прогнозирование решений, разработка гипотез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Содержимое 2"/>
          <p:cNvGrpSpPr/>
          <p:nvPr/>
        </p:nvGrpSpPr>
        <p:grpSpPr>
          <a:xfrm>
            <a:off x="420840" y="706320"/>
            <a:ext cx="8242200" cy="5585040"/>
            <a:chOff x="420840" y="706320"/>
            <a:chExt cx="8242200" cy="5585040"/>
          </a:xfrm>
        </p:grpSpPr>
        <p:pic>
          <p:nvPicPr>
            <p:cNvPr id="18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20840" y="706320"/>
              <a:ext cx="8242200" cy="55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28760" y="714240"/>
              <a:ext cx="8229600" cy="55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Творческие способности есть у каждого ребёнка. Это индивидуально – психологические особенности, отличающие одного человека от другого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От того насколько они будут развиты, зависит творческий потенциал нашего общества, так как формирование творческой личности приобретает сегодня не только теоретический смысл, но и практический смыс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Знание педагогов, что подразумевается под творческими способностями учащихся, расширит границы их проявления у дете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шей формой творческого потенциала личности является креативность как универсальная способность к продуктив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ворчеств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это стиль (качественная характеристика деятельности), т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еативнос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совокупность индивидуальных психологических характеристик творческой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Заголовок 1"/>
          <p:cNvGrpSpPr/>
          <p:nvPr/>
        </p:nvGrpSpPr>
        <p:grpSpPr>
          <a:xfrm>
            <a:off x="450720" y="450720"/>
            <a:ext cx="8242560" cy="1384560"/>
            <a:chOff x="450720" y="450720"/>
            <a:chExt cx="8242560" cy="1384560"/>
          </a:xfrm>
        </p:grpSpPr>
        <p:pic>
          <p:nvPicPr>
            <p:cNvPr id="11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450720"/>
              <a:ext cx="824256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57200" y="457200"/>
              <a:ext cx="8229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Педагогическое определение </a:t>
              </a:r>
              <a:br>
                <a:rPr sz="3200"/>
              </a:b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творческих способност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особности к созданию оригинального продукта, изделия, в процессе работы над которыми самостоятельно применены усвоенные знания, умения, навыки, проявляются хотя бы в минимальном отступлении от образца индивидуальность, художе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Заголовок 1"/>
          <p:cNvGrpSpPr/>
          <p:nvPr/>
        </p:nvGrpSpPr>
        <p:grpSpPr>
          <a:xfrm>
            <a:off x="450720" y="450720"/>
            <a:ext cx="8242560" cy="1384560"/>
            <a:chOff x="450720" y="450720"/>
            <a:chExt cx="8242560" cy="1384560"/>
          </a:xfrm>
        </p:grpSpPr>
        <p:pic>
          <p:nvPicPr>
            <p:cNvPr id="12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450720"/>
              <a:ext cx="824256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" y="457200"/>
              <a:ext cx="8229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Arial"/>
                </a:rPr>
                <a:t>Творческие способности</a:t>
              </a:r>
              <a:r>
                <a:rPr b="0" lang="ru-RU" sz="4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дивидуальные психологические особенности ребёнка, которые не зависят от умственных способностей и проявляются в детской фантазии, воображении, особом видении мира, своей точке зрения на окружающую действи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Заголовок 1"/>
          <p:cNvGrpSpPr/>
          <p:nvPr/>
        </p:nvGrpSpPr>
        <p:grpSpPr>
          <a:xfrm>
            <a:off x="450720" y="450720"/>
            <a:ext cx="8242560" cy="1384560"/>
            <a:chOff x="450720" y="450720"/>
            <a:chExt cx="8242560" cy="1384560"/>
          </a:xfrm>
        </p:grpSpPr>
        <p:pic>
          <p:nvPicPr>
            <p:cNvPr id="12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450720"/>
              <a:ext cx="824256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57200" y="457200"/>
              <a:ext cx="8229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Для определения 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творческих способностей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Богоявленская Д.Б выделяет следующие 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параметры: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 txBox="1"/>
          <p:nvPr/>
        </p:nvSpPr>
        <p:spPr>
          <a:xfrm>
            <a:off x="457200" y="1980720"/>
            <a:ext cx="8229600" cy="45198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еглость мысли (количество идей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ибкость мысли (способность переключаться с одной идеи на другую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ригинальность (способность производить идеи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юбознательн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антастич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Заголовок 1"/>
          <p:cNvGrpSpPr/>
          <p:nvPr/>
        </p:nvGrpSpPr>
        <p:grpSpPr>
          <a:xfrm>
            <a:off x="566640" y="281160"/>
            <a:ext cx="8242560" cy="1382400"/>
            <a:chOff x="566640" y="281160"/>
            <a:chExt cx="8242560" cy="1382400"/>
          </a:xfrm>
        </p:grpSpPr>
        <p:pic>
          <p:nvPicPr>
            <p:cNvPr id="13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66640" y="281160"/>
              <a:ext cx="8242560" cy="13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71680" y="285840"/>
              <a:ext cx="8229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Богданова Т.Г. выделяет совокупность множества способностей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 txBox="1"/>
          <p:nvPr/>
        </p:nvSpPr>
        <p:spPr>
          <a:xfrm>
            <a:off x="457200" y="1981080"/>
            <a:ext cx="8229600" cy="44481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особность рискова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ивергентное мышл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ибкость в мышлении и действия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ыстрота мышл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особность высказывать оригинальные идеи, изобретать что-то ново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гатое воображ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сприятие неоднозначных вещ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сокие эстетические цен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витая интуиц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3" descr="1198891125.jpg"/>
          <p:cNvPicPr/>
          <p:nvPr/>
        </p:nvPicPr>
        <p:blipFill>
          <a:blip r:embed="rId1"/>
          <a:stretch/>
        </p:blipFill>
        <p:spPr>
          <a:xfrm>
            <a:off x="6419880" y="3693960"/>
            <a:ext cx="1382760" cy="3067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642960" y="713880"/>
            <a:ext cx="8229600" cy="31626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ские творческие способност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естественное поведение ребёнка на фоне отсутствия стереотипов, где точкой отсчёта является норма, и чем дальше от неё, тем показатели творчества вы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4" descr="1198891125.jpg"/>
          <p:cNvPicPr/>
          <p:nvPr/>
        </p:nvPicPr>
        <p:blipFill>
          <a:blip r:embed="rId3"/>
          <a:stretch/>
        </p:blipFill>
        <p:spPr>
          <a:xfrm>
            <a:off x="822240" y="4243320"/>
            <a:ext cx="37926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Заголовок 1"/>
          <p:cNvGrpSpPr/>
          <p:nvPr/>
        </p:nvGrpSpPr>
        <p:grpSpPr>
          <a:xfrm>
            <a:off x="493560" y="420840"/>
            <a:ext cx="8242560" cy="1384200"/>
            <a:chOff x="493560" y="420840"/>
            <a:chExt cx="8242560" cy="1384200"/>
          </a:xfrm>
        </p:grpSpPr>
        <p:pic>
          <p:nvPicPr>
            <p:cNvPr id="13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93560" y="420840"/>
              <a:ext cx="82425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00040" y="428760"/>
              <a:ext cx="8229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Условия эффективного развития творческих способностей младших школьников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457200" y="1980720"/>
            <a:ext cx="8229600" cy="45198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здаются ситуации выбора, процесс обучения включает задания, которые выполняются с учётом воображе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рганизуется сотворчество в детском коллективе с целого проявления и развития творческих способностей каждого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пользуются технологии развития творческого мышле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изводится систематическое отслеживание результатов диагности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У каждого ребёнка есть разного рода да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20:16:56Z</dcterms:created>
  <dc:creator>BelGates.by</dc:creator>
  <dc:description/>
  <dc:language>en-US</dc:language>
  <cp:lastModifiedBy>coMpp</cp:lastModifiedBy>
  <dcterms:modified xsi:type="dcterms:W3CDTF">2011-07-06T04:57:54Z</dcterms:modified>
  <cp:revision>13</cp:revision>
  <dc:subject/>
  <dc:title>Креативный потенциал воспитанника</dc:title>
</cp:coreProperties>
</file>