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2A2-E51A-4A41-9780-6D65E8FD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C45-7D4D-4D47-B2A6-E482D033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93D-9139-4991-BB07-10D5772D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E22-5400-4B36-A31F-6E3B8BC3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9743-7450-4F9D-B597-C3D4C463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CB7D-D505-4500-8295-1F4D7550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365B-62F9-4EE6-A607-EF81B06C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4DCB-AEA3-4A75-807A-F9119BED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BF8D-7851-4E45-894D-F4445FA9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9051-821D-4A83-AC6F-AFCAFD50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CC7D-C7AE-4757-ABE8-B47A80DC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E44-228B-420C-8586-1CD1513C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C2CF-4462-4778-8DD3-65AC9A57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AD98-26AA-4FAF-BBB5-DA0FB5B5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EF7C-76FB-4E9B-8354-E6369A13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5C01-8B70-43AC-8264-1B47AEAC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AD74-9BDA-4ADF-954D-54B133DD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F53-73BF-4B4D-B939-999FE110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28E-2D5F-4250-9D31-D12BEFC0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9A2-BA63-48E9-9ED7-7E25B642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03A-9387-4607-8470-DE684D3D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FE8-A864-4939-B8E2-2511C077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6D4-1634-43E7-BBE6-0D6D4B71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5E6-BC42-42F1-A1BA-8D7B5CBF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EB93-C2CB-4345-B7CF-9D8B4498288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081A-F08C-4AF6-A16D-F61DAB9CAB8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h6.ggpht.com/Dedushkin1/R__WAZ8RwTI/AAAAAAAAH4I/6uuV7A4h4kM/s800/image004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ushkin-book.ru/img/mars_5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g-fotki.yandex.ru/get/3309/deniskanov.1/0_22ebb_835cf1cd_X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1290600"/>
            <a:ext cx="4087800" cy="5164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1"/>
          <p:cNvSpPr/>
          <p:nvPr/>
        </p:nvSpPr>
        <p:spPr>
          <a:xfrm>
            <a:off x="304920" y="142920"/>
            <a:ext cx="8534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4495680" y="4429080"/>
            <a:ext cx="4419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втор проекта: ученица 9 класса, член кружка «Юный краевед» Николаева Татьяна. Партнёр проекта: учитель русского языка и литературы, библиотекарь Мальцева Г.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WordArt 25"/>
          <p:cNvSpPr txBox="1"/>
          <p:nvPr/>
        </p:nvSpPr>
        <p:spPr>
          <a:xfrm>
            <a:off x="228600" y="358920"/>
            <a:ext cx="86868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 Пушкин и Костромской кра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Picture 27" descr="img185"/>
          <p:cNvPicPr/>
          <p:nvPr/>
        </p:nvPicPr>
        <p:blipFill>
          <a:blip r:embed="rId2"/>
          <a:stretch/>
        </p:blipFill>
        <p:spPr>
          <a:xfrm>
            <a:off x="4876920" y="1506600"/>
            <a:ext cx="3227400" cy="2928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2286000" y="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Россоловская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«Собратья  по перу» А.С. Пушкина, связанные с костромским краем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5"/>
          <p:cNvSpPr/>
          <p:nvPr/>
        </p:nvSpPr>
        <p:spPr>
          <a:xfrm flipH="1">
            <a:off x="380520" y="838080"/>
            <a:ext cx="11430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2286000" y="990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42670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6705720" y="914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2514600"/>
            <a:ext cx="228600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авел Александрович Катен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92 - 1853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676520" y="3886200"/>
            <a:ext cx="213336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етр  Андреевич Вязем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92 - 177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4343400" y="2666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3048120" y="2895480"/>
            <a:ext cx="243828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оэтесса Анна Ивановна Готовце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99 - 187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6095880" y="2514600"/>
            <a:ext cx="359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исательница А.О. Ишим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5638680" y="1143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4648320" y="3886200"/>
            <a:ext cx="304776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авел Петрович  Свинь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87—1835)</a:t>
            </a: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Катенин"/>
          <p:cNvPicPr/>
          <p:nvPr/>
        </p:nvPicPr>
        <p:blipFill>
          <a:blip r:embed="rId1"/>
          <a:stretch/>
        </p:blipFill>
        <p:spPr>
          <a:xfrm>
            <a:off x="0" y="1371600"/>
            <a:ext cx="411624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6"/>
          <p:cNvSpPr txBox="1"/>
          <p:nvPr/>
        </p:nvSpPr>
        <p:spPr>
          <a:xfrm>
            <a:off x="304920" y="30492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вел Катен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191120" y="1753560"/>
            <a:ext cx="472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Русский писатель и театральный деятель. Участник Отечественной войны 1812. Один из руководителей Военного общества — тайной декабристской организации. К 1817 году относится знакомство с А.С. Пушкиным. С тех пор Пушкин часто посещал Катенина, проводил с ним вечера в литературных беседах и спорах. Пушкин советовался с Катениным о своих стихотворениях и поэме «Руслан и Людмил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Один из самых близких друзей поэта. Вяземский был на семь лет старше Пушкина, но это не мешало их сближению. Многие годы они вели содержательную переписку. Около 120 «В ту и другую стороны!». Порой они спорили «до упаду, до охриплости», круто расходясь в оценке творчества современников, в частности, И.А. Крылова, которого Вяземский не воспринимал как поэта, а Пушкин читал с удовольствие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380880" y="228600"/>
            <a:ext cx="8305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тр Вяземски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0" name="Picture 6" descr="Вяземский 2"/>
          <p:cNvPicPr/>
          <p:nvPr/>
        </p:nvPicPr>
        <p:blipFill>
          <a:blip r:embed="rId1"/>
          <a:stretch/>
        </p:blipFill>
        <p:spPr>
          <a:xfrm>
            <a:off x="0" y="1676520"/>
            <a:ext cx="4106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504960" y="2133360"/>
            <a:ext cx="5638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оэтесса Анна Ивановна Готовцева современница поэта, родилась в 1799 году в с. Панфилово Буйского уезда Костромской губернии в дворянской семье. Получила хорошее домашнее образование. </a:t>
            </a:r>
            <a:br>
              <a:rPr sz="1800"/>
            </a:b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ри посредстве Бартенева познакомилась в Костроме с П.А. Вяземским, который передал А.С. Пушкину стихотворение "О, Пушкин, слава наших дней". Стихотворение Готовцевой и ответ на него Пушкиным были опубликованы в журнале "Северные цветы". </a:t>
            </a:r>
            <a:br>
              <a:rPr sz="1800"/>
            </a:b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228600" y="30492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на Ивановна Готовцев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90720" y="53341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7" descr="Готовцева"/>
          <p:cNvPicPr/>
          <p:nvPr/>
        </p:nvPicPr>
        <p:blipFill>
          <a:blip r:embed="rId1"/>
          <a:stretch/>
        </p:blipFill>
        <p:spPr>
          <a:xfrm>
            <a:off x="0" y="1676520"/>
            <a:ext cx="3483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80920" y="83808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ушкин и Свиньин были достаточно хорошо знакомы. В конце 1820-х гг. на квартире Павла Петровича часто проходили литературные вечера, которые посещал А.С. Пушкин. На одном из таких вечеров, в июне 1827 г., Пушкин читал две новые главы «Евгения Онегина». В 1830-е гг. Пушкин и Свиньин одновременно работали над «Историей Петра Великого». Пушкин называл его «Российским жуком», смешно изобразил в пародийной детской сказочке «Маленький лжец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53352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вел Петрович Свинь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6" descr="Картинка 15 из 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28800"/>
            <a:ext cx="3603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48320" y="17524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оследнее письмо, написанное Пушкиным, было адресовано костромской писательнице А.О. Ишимовой. В 1834 г. она издала "Историю России в рассказах для детей", кроме того это благодаря Плетневу, доставило ей покровительство Царской Семьи и знакомство с Пушкиным, с которым она встречалась на вечерах у Плетнева. Кроме того она поместила в "Современнике" несколько сцен из "Драматических очерков" Барри Корнуэля, переведенных ею по просьбе Пушкин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533520" y="304920"/>
            <a:ext cx="784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О. Ишимов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0" name="Picture 6" descr="Ишимова"/>
          <p:cNvPicPr/>
          <p:nvPr/>
        </p:nvPicPr>
        <p:blipFill>
          <a:blip r:embed="rId1"/>
          <a:srcRect l="0" t="11762" r="0" b="0"/>
          <a:stretch/>
        </p:blipFill>
        <p:spPr>
          <a:xfrm>
            <a:off x="0" y="1523880"/>
            <a:ext cx="4729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.С. Пушкин никогда не был на Костромской земле, но был знаком с многими костромич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495288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09480" y="1600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cc"/>
                </a:solidFill>
                <a:uFillTx/>
                <a:latin typeface="Tahoma"/>
              </a:rPr>
              <a:t>Костромичи прошли через всю жизнь поэ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0" y="31240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3048120" y="205740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0" y="228600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Лицей (1811 – 1817г) Учитель истории и географии Костромич Иван Шульгин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5638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7391520" y="3352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5029200" y="32767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Дядька – слуга сержант Прокофье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7086600" y="213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7543800" y="3429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0" y="388620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Лицейский товарищ Александр Бакунин житель с. Красное-на-Волг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33412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Сестра Екатерина Бакунина (первая любовь поэта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 flipH="1">
            <a:off x="4648320" y="2209680"/>
            <a:ext cx="457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2362320" y="434340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Сватал за Н.Н. Гончарову (1831г) бывший его враг, а затем приятель – Кологривский помещик граф Федор Толстой – американец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1447560" y="20574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2209680" y="2819520"/>
            <a:ext cx="259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Иван Дмитриевич Козловский, из-под Костромы, предотвратил дуэль  с графом Сологубом в 1836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6477120" y="2286000"/>
            <a:ext cx="7596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248520" y="4572000"/>
            <a:ext cx="205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Поэт Николай Коншин житель Костромы был последним, с кем говорил Пушкин у себя дома перед дуэлью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6477120" y="3429000"/>
            <a:ext cx="29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Последнее письмо написано Пушкиным писательнице – Костромичке А.О. Ишимово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10666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1066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0"/>
          <p:cNvSpPr/>
          <p:nvPr/>
        </p:nvSpPr>
        <p:spPr>
          <a:xfrm flipH="1">
            <a:off x="4267080" y="54100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943600"/>
            <a:ext cx="32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Федор Николаевич Лугинин из Ветлужья скрасил Пушкинскую ссылку в Кишинев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657600" y="1676160"/>
            <a:ext cx="502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Историк, уроженец Костромской губернии, воспитанник Санкт-Петербургского педагогического института. В 1816 году был назначен преподавателем истории и географии в Царскосельском лицее где в то время обучался Александр Пушкин. Александр Сергеевич Пушкин относился к нему с большой симпатией. Позднее Пушкин с ним встречался в 1834 году, 1836 - 1837 годах в Петербурге на лекциях, когда И. П. Шульгин был уже ректором университета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WordArt 6"/>
          <p:cNvSpPr txBox="1"/>
          <p:nvPr/>
        </p:nvSpPr>
        <p:spPr>
          <a:xfrm>
            <a:off x="228600" y="304920"/>
            <a:ext cx="8686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цейский учитель Иван Шульг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11"/>
          <p:cNvSpPr txBox="1"/>
          <p:nvPr/>
        </p:nvSpPr>
        <p:spPr>
          <a:xfrm>
            <a:off x="152280" y="228600"/>
            <a:ext cx="8991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Г. Чернецов "Парад на Марсовом поле" 1832 г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8" name="Picture 14" descr="Картинка 7 из 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95280"/>
            <a:ext cx="422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Екатерина"/>
          <p:cNvPicPr/>
          <p:nvPr/>
        </p:nvPicPr>
        <p:blipFill>
          <a:blip r:embed="rId1"/>
          <a:stretch/>
        </p:blipFill>
        <p:spPr>
          <a:xfrm>
            <a:off x="0" y="1523880"/>
            <a:ext cx="4054320" cy="53341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8"/>
          <p:cNvSpPr txBox="1"/>
          <p:nvPr/>
        </p:nvSpPr>
        <p:spPr>
          <a:xfrm>
            <a:off x="457200" y="30492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катерина Бакуни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-8118720" y="-1874520"/>
            <a:ext cx="2538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Бакунина в юности приезжала в лицей и впервые пробудила в юном Пушкине любовь, которую он сохранил всю жизнь и отразил во многих произведени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етом она подолгу жила в Царском Селе, и следы, оставленные «ногой ее прекрасной», поэт искал в царскосельских рощах и лесах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191120" y="1523880"/>
          <a:ext cx="4952880" cy="9725040"/>
        </p:xfrm>
        <a:graphic>
          <a:graphicData uri="http://schemas.openxmlformats.org/drawingml/2006/table">
            <a:tbl>
              <a:tblPr/>
              <a:tblGrid>
                <a:gridCol w="4952880"/>
              </a:tblGrid>
              <a:tr h="9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«Я счастлив был!.. Нет, я вчера не был счастлив поутру я мучился ожиданием, с неописанным волнением стоя под окошком, смотрел на снежную дорогу – ее не видно было!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Наконец, я потерял надежду; вдруг нечаянно встречаюсь с нею на лестнице, – сладкая минута!.. Как она мила была! Как черное платье пристало к милой Бакуниной!» – восклицал Пушкин в своем лицейском дневни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Александр Бакунин</a:t>
                      </a: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лицейский товарищ А.С. Пушкина, житель села Красное – на –Волг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ыяснить, как А.С. Пушкин связан с Костромским краем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4920" y="3124080"/>
            <a:ext cx="8305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йти ответы на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Были ли у А.С. Пушкина родственники - костромичи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С кем из писателей, связанных с Костромским краем, был знаком А.С. Пушкин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С кем из костромичей был знаком А.С. Пушкин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Были ли у А.С. Пушкина знакомые галичане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>
                <a:solidFill>
                  <a:srgbClr val="3366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WordArt 7"/>
          <p:cNvSpPr txBox="1"/>
          <p:nvPr/>
        </p:nvSpPr>
        <p:spPr>
          <a:xfrm>
            <a:off x="533520" y="380880"/>
            <a:ext cx="8001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ь исследования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2743200" y="2209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и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7636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риятель А.С. Пушкина был основал первую больницу для крестьян. Юный прапорщик из Ветлужья был первым в кишиневской ссылке, кому Пушкин доверил свои душевные муки после ссылки и отразил это в своем дневнике. Лугинин являлся прапорщиком генерального штаба. С 15 мая по 19 июня 1822 года работал в военно-топографической комиссии в Кишиневе, где и встречался с Пушкиным. О встречах с Пушкиным Лугинин рассказывает в своих дневниковых записях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WordArt 5"/>
          <p:cNvSpPr txBox="1"/>
          <p:nvPr/>
        </p:nvSpPr>
        <p:spPr>
          <a:xfrm>
            <a:off x="609480" y="228600"/>
            <a:ext cx="7925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едор Лугин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Толстой"/>
          <p:cNvPicPr/>
          <p:nvPr/>
        </p:nvPicPr>
        <p:blipFill>
          <a:blip r:embed="rId1"/>
          <a:stretch/>
        </p:blipFill>
        <p:spPr>
          <a:xfrm>
            <a:off x="0" y="1676520"/>
            <a:ext cx="3909960" cy="5181480"/>
          </a:xfrm>
          <a:prstGeom prst="rect">
            <a:avLst/>
          </a:prstGeom>
          <a:ln w="0">
            <a:noFill/>
          </a:ln>
        </p:spPr>
      </p:pic>
      <p:sp>
        <p:nvSpPr>
          <p:cNvPr id="216" name="WordArt 7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едор Толстой - Американец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038480" y="1539720"/>
            <a:ext cx="47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Сватал Александра Сергеевича за Наталью Гончарову бывший его враг, с которым дело чуть не дошло до дуэли, а затем приятель  - кологривский помещик граф Федор Толстой-Американец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12" descr="Картинка 18 из 1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3352680"/>
            <a:ext cx="2813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180px-Konshin_Nikolai_Mikhailovich"/>
          <p:cNvPicPr/>
          <p:nvPr/>
        </p:nvPicPr>
        <p:blipFill>
          <a:blip r:embed="rId1"/>
          <a:stretch/>
        </p:blipFill>
        <p:spPr>
          <a:xfrm>
            <a:off x="0" y="1371600"/>
            <a:ext cx="4791240" cy="5486400"/>
          </a:xfrm>
          <a:prstGeom prst="rect">
            <a:avLst/>
          </a:prstGeom>
          <a:ln w="0">
            <a:noFill/>
          </a:ln>
        </p:spPr>
      </p:pic>
      <p:sp>
        <p:nvSpPr>
          <p:cNvPr id="220" name="WordArt 7"/>
          <p:cNvSpPr txBox="1"/>
          <p:nvPr/>
        </p:nvSpPr>
        <p:spPr>
          <a:xfrm>
            <a:off x="457200" y="228600"/>
            <a:ext cx="8229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колай Конш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4952880" y="29718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оэт Николай Коншин, житель Костромы, был последним, кто говорил с Пушкиным у него дома перед дуэлью и отразил это в воспоминаниях.</a:t>
            </a:r>
            <a:r>
              <a:rPr b="0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bartenev_3_s"/>
          <p:cNvPicPr/>
          <p:nvPr/>
        </p:nvPicPr>
        <p:blipFill>
          <a:blip r:embed="rId1"/>
          <a:srcRect l="9797" t="0" r="10233" b="0"/>
          <a:stretch/>
        </p:blipFill>
        <p:spPr>
          <a:xfrm>
            <a:off x="42840" y="1523880"/>
            <a:ext cx="4148280" cy="53341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4648320" y="183024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Юрий Никитич Бартенев родился в селе Золотово в 23 – х верстах от  Галича в 1791 году. Директор Костромской гимназии и училищ Костромской губернии с 1818 го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Друг П.А. Вяземского, который познакомил его с А.С. Пушкиным. Завязалась дружба.  Владелец знаменитого альбома, где был  автограф Александра Сергеевича. В свою очередь Бартенев подарил поэту книгу с надписью «Знаменитому Пушкину и Пушкину любимому на память от Бартенева 1830 год 31 август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WordArt 8"/>
          <p:cNvSpPr txBox="1"/>
          <p:nvPr/>
        </p:nvSpPr>
        <p:spPr>
          <a:xfrm>
            <a:off x="304920" y="22860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аличский приятель А.С. Пушкина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380880" y="228600"/>
            <a:ext cx="83822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Других костромских знакомцев (а их по подсчетом краеведов было около 20) упомяну коротко.</a:t>
            </a:r>
            <a:r>
              <a:rPr b="0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Губернаторы Костромы – А.А. Суворов и С.С. Ланс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Военачальник Н. М. Сипягин, герой войны 1812 го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лександр Бошняков – тайный агент Пушки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Историк - костромич Арсенье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ктриса  М.Д. Львова – Синецк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Picture 10" descr="0060-034"/>
          <p:cNvPicPr/>
          <p:nvPr/>
        </p:nvPicPr>
        <p:blipFill>
          <a:blip r:embed="rId1"/>
          <a:stretch/>
        </p:blipFill>
        <p:spPr>
          <a:xfrm>
            <a:off x="838080" y="2971800"/>
            <a:ext cx="2995560" cy="388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270px-Lanskoy_Sergei_%281787-1862%29"/>
          <p:cNvPicPr/>
          <p:nvPr/>
        </p:nvPicPr>
        <p:blipFill>
          <a:blip r:embed="rId2"/>
          <a:stretch/>
        </p:blipFill>
        <p:spPr>
          <a:xfrm>
            <a:off x="4191120" y="3048120"/>
            <a:ext cx="328608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7"/>
          <p:cNvSpPr/>
          <p:nvPr/>
        </p:nvSpPr>
        <p:spPr>
          <a:xfrm>
            <a:off x="7374960" y="37339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С.С. Ланс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.С. Пушкин никогда не был в наших краях, но имел прекрасных друзей на Костромской земле. Никто из костромичей, знакомых в жизни с Пушкиным, не запятнал себя ничем плохим в отношении к нему, и это приятно нам, нынешним жителям костромской земли.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6" descr="PushkinAS"/>
          <p:cNvPicPr/>
          <p:nvPr/>
        </p:nvPicPr>
        <p:blipFill>
          <a:blip r:embed="rId1"/>
          <a:stretch/>
        </p:blipFill>
        <p:spPr>
          <a:xfrm>
            <a:off x="2743200" y="3200400"/>
            <a:ext cx="2941560" cy="3657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Pushkin_26"/>
          <p:cNvPicPr/>
          <p:nvPr/>
        </p:nvPicPr>
        <p:blipFill>
          <a:blip r:embed="rId2"/>
          <a:stretch/>
        </p:blipFill>
        <p:spPr>
          <a:xfrm>
            <a:off x="6345360" y="3124080"/>
            <a:ext cx="2798640" cy="3733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Pushkin_18"/>
          <p:cNvPicPr/>
          <p:nvPr/>
        </p:nvPicPr>
        <p:blipFill>
          <a:blip r:embed="rId3"/>
          <a:stretch/>
        </p:blipFill>
        <p:spPr>
          <a:xfrm>
            <a:off x="0" y="3581280"/>
            <a:ext cx="2181240" cy="3276720"/>
          </a:xfrm>
          <a:prstGeom prst="rect">
            <a:avLst/>
          </a:prstGeom>
          <a:ln w="0">
            <a:noFill/>
          </a:ln>
        </p:spPr>
      </p:pic>
      <p:sp>
        <p:nvSpPr>
          <p:cNvPr id="233" name="WordArt 10"/>
          <p:cNvSpPr txBox="1"/>
          <p:nvPr/>
        </p:nvSpPr>
        <p:spPr>
          <a:xfrm>
            <a:off x="990720" y="228600"/>
            <a:ext cx="6933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А.А. Григоров «Из истории костромского дворянства»Кострома 1993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В. Пашин «Пушкин. Его костромские родственники, друзья, знакомцы». Кострома, 1999 го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Виктор Бочков «Скажи которая Татьяна». Москва «Современник» 1990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Ю.В. Лебедев Региональная литература 7 – 9 классы «Просвещение» Москва 2002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Ю.В. Лебедев Региональная литература 5 – 6 классы «Просвещение» Москва 2002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С.Л. Толстой Федор Толстой Американец Москва «Современник» 1990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В. Бочков Заповедная сторона Ярославль Верхне-Волжское книжное издательство 1988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Северная правда», статья «Два века с Пушкиным» 1999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Ленинский путь», статья В. Бочкова «Галичский приятель А.С. Пушкина».  1990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Ленинский путь», статья В. Пашина «Костромские Пушкины». 1984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Ленинский путь», статья В. Бочкова «Костромской воспитатель А.С. Пушкина». 1982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Ресурсы Интерн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533520" y="2286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урсы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4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1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560" y="57150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Ученица 9 класс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Николаева Татья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5" descr="DSC00750"/>
          <p:cNvPicPr/>
          <p:nvPr/>
        </p:nvPicPr>
        <p:blipFill>
          <a:blip r:embed="rId1"/>
          <a:stretch/>
        </p:blipFill>
        <p:spPr>
          <a:xfrm>
            <a:off x="990720" y="1447920"/>
            <a:ext cx="3493800" cy="43434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6"/>
          <p:cNvSpPr txBox="1"/>
          <p:nvPr/>
        </p:nvSpPr>
        <p:spPr>
          <a:xfrm>
            <a:off x="533520" y="304920"/>
            <a:ext cx="8076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ы проект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4876920" y="58672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029200" y="58672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Учитель русского языка и литературы, библиотекарь Мальцева Галина Ильинич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10" descr="P1050024"/>
          <p:cNvPicPr/>
          <p:nvPr/>
        </p:nvPicPr>
        <p:blipFill>
          <a:blip r:embed="rId2"/>
          <a:stretch/>
        </p:blipFill>
        <p:spPr>
          <a:xfrm>
            <a:off x="4952880" y="1447920"/>
            <a:ext cx="303876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Данный проект затрагивает актуальную тему по литературному краеведени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Литературное краеведение обогащает духовный мир человека, развивает эстетический вкус, кругозор, воспитывает чувство гордости за свой народ, за свою Родину; воспитывает любовь к своему кра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роект предназначен для учащихся 5 – 11 классов, изучающих литературу; для учителей, работников библиотеки, а так же для всех, кто интересуется литературой родного края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 проекте представлен материал, собранный в ходе работы с дополнительной литературой, ресурсами Интернет; материалами, опубликованными в С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838080" y="1522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нотаци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Частично-поисков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1605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сследовательски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1605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Нагляд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1605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налит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762120" y="3049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становка проблемы и темы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пределение цели и задач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бор информации о связи А.С. Пушкина с Костромским кра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 родственник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 друзья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«собратьях по перу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 знакомых костромичах и галичан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зучение и анализ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дбор иллюстрированного материа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форм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редставление и защита результатов проекта.</a:t>
            </a:r>
            <a:br>
              <a:rPr sz="2400"/>
            </a:b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533520" y="22860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работ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А.С. Пушкин никогда не был на Костромской земле, но был знаком с многими костромичами и галичан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457200" y="274680"/>
            <a:ext cx="81532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потез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Рисунок 4" descr="071013144031.jpg"/>
          <p:cNvPicPr/>
          <p:nvPr/>
        </p:nvPicPr>
        <p:blipFill>
          <a:blip r:embed="rId1"/>
          <a:stretch/>
        </p:blipFill>
        <p:spPr>
          <a:xfrm>
            <a:off x="3048120" y="2895480"/>
            <a:ext cx="3292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038120" y="1828440"/>
            <a:ext cx="4343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Гордиться славою своих предков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не только можно, но и должно,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не уважать оной есть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остыдное малодуш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                              </a:t>
            </a: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А. С. Пушки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9" descr="C:\Documents and Settings\Admin\Рабочий стол\Пушкин\683.jpg"/>
          <p:cNvPicPr/>
          <p:nvPr/>
        </p:nvPicPr>
        <p:blipFill>
          <a:blip r:embed="rId1"/>
          <a:stretch/>
        </p:blipFill>
        <p:spPr>
          <a:xfrm>
            <a:off x="152280" y="914400"/>
            <a:ext cx="30211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581280" y="1905120"/>
            <a:ext cx="556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3520" y="47242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А.С. Пушкин действительно имел родственников костромичей. Начал работу по составлению родословной Пушкина костромской краевед Александр Александрович Григо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WordArt 10"/>
          <p:cNvSpPr txBox="1"/>
          <p:nvPr/>
        </p:nvSpPr>
        <p:spPr>
          <a:xfrm>
            <a:off x="0" y="0"/>
            <a:ext cx="9144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Откуда есть и пошла" костромская ветв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ушкин Петр Петрови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(1644 - 169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45720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133720" y="24382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1337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70866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838080" y="28195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095880" y="289548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705720" y="29718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638680" y="2895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ед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21337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06668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е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21337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114300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ерг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25146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200400" y="41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Надеж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8954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22860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Александр Сергееви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70866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екс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23"/>
          <p:cNvSpPr/>
          <p:nvPr/>
        </p:nvSpPr>
        <p:spPr>
          <a:xfrm flipV="1">
            <a:off x="40384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3733920" y="3962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25"/>
          <p:cNvSpPr/>
          <p:nvPr/>
        </p:nvSpPr>
        <p:spPr>
          <a:xfrm flipV="1">
            <a:off x="373392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3200400" y="3124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сип Ганниб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708660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4724280" y="38098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7242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Tahoma"/>
              </a:rPr>
              <a:t>Мар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5638680" y="39625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33"/>
          <p:cNvSpPr/>
          <p:nvPr/>
        </p:nvSpPr>
        <p:spPr>
          <a:xfrm>
            <a:off x="80010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75438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Tahoma"/>
              </a:rPr>
              <a:t>Юр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8001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7467480" y="4800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800100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38"/>
          <p:cNvSpPr/>
          <p:nvPr/>
        </p:nvSpPr>
        <p:spPr>
          <a:xfrm>
            <a:off x="6400800" y="5257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9"/>
          <p:cNvSpPr/>
          <p:nvPr/>
        </p:nvSpPr>
        <p:spPr>
          <a:xfrm>
            <a:off x="7162920" y="5334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стромские Пушки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WordArt 40"/>
          <p:cNvSpPr txBox="1"/>
          <p:nvPr/>
        </p:nvSpPr>
        <p:spPr>
          <a:xfrm>
            <a:off x="228600" y="22860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ословное дерево Пушкиных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Александр иЮрьевич Пушкин"/>
          <p:cNvPicPr/>
          <p:nvPr/>
        </p:nvPicPr>
        <p:blipFill>
          <a:blip r:embed="rId1"/>
          <a:stretch/>
        </p:blipFill>
        <p:spPr>
          <a:xfrm>
            <a:off x="0" y="1981080"/>
            <a:ext cx="354960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7"/>
          <p:cNvSpPr txBox="1"/>
          <p:nvPr/>
        </p:nvSpPr>
        <p:spPr>
          <a:xfrm>
            <a:off x="228600" y="228600"/>
            <a:ext cx="853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ександр Юрьевич Пушк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657600" y="19810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809880" y="20574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657600" y="19810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Имя Александр дано в честь дяди поэта Александра Юрьевича Пушкина. Женившись на дочери костромского помещика Молчанова Александре и получив в  приданное усадьбу Новинки, осел в наших  краях, построил два дома в Костроме и стал родоначальником костромской ветви рода Пушкиных.</a:t>
            </a:r>
            <a:r>
              <a:rPr b="0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2" descr="img183"/>
          <p:cNvPicPr/>
          <p:nvPr/>
        </p:nvPicPr>
        <p:blipFill>
          <a:blip r:embed="rId2"/>
          <a:stretch/>
        </p:blipFill>
        <p:spPr>
          <a:xfrm>
            <a:off x="4648320" y="4273560"/>
            <a:ext cx="36576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2T10:03:56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