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018-0AB5-4B81-850F-5AE85E62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6342-157D-4243-A11A-6FB6BACC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3D6-35EB-4876-AE40-237B8593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7D9-0249-4095-9128-9ED37978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FC0D-E313-4452-8793-06B0BABC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44E9-F66D-4FC5-8E1F-F9E5D3B8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9610-55E1-450C-BB8C-725BADD3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E6BB-F638-46EA-ADC0-B82A5B9D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5AB5-08FB-49DF-AA6F-38DEDF95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2A8C-845B-4543-B174-B94E0910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262D-CC89-4CB9-8CEF-823B2F48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C30-56B7-4FEB-879A-7ADFCC12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04D4-F092-49F2-9422-72E2387C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77C0-C9E7-4E65-AD06-D3AEF355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7605-19CC-4FAA-946D-859C68CC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617A-09AA-46B1-9319-6743D7E7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4011-EA1E-40C3-8C2B-013C02B7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3068-461B-440E-8647-0E877CB9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613E-8847-40E2-9238-C5320816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907-9F0C-4BDB-A165-7FC0A2B2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B43-9CC8-4693-90E2-AA814F6A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02B4-41CA-4F58-A05E-C1E5C1A7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E7D-8E37-49E7-B2EF-59F604BC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0F43-7C44-45B8-9A41-F1546B8B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6894-21BF-4A89-921C-EDC9C4792E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109A-20DA-4ACA-828E-F5B17E8F73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Измерение угло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0020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Выполнила: Хижняк Светлана Анатоль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учитель математи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МАУ СОШ №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города Златоуста, Челябинской об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2013 го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8"/>
          <p:cNvGrpSpPr/>
          <p:nvPr/>
        </p:nvGrpSpPr>
        <p:grpSpPr>
          <a:xfrm>
            <a:off x="457200" y="1066680"/>
            <a:ext cx="8305920" cy="5486400"/>
            <a:chOff x="457200" y="1066680"/>
            <a:chExt cx="8305920" cy="5486400"/>
          </a:xfrm>
        </p:grpSpPr>
        <p:sp>
          <p:nvSpPr>
            <p:cNvPr id="272" name="Oval 4"/>
            <p:cNvSpPr/>
            <p:nvPr/>
          </p:nvSpPr>
          <p:spPr>
            <a:xfrm>
              <a:off x="1981080" y="1066680"/>
              <a:ext cx="525780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5"/>
            <p:cNvSpPr/>
            <p:nvPr/>
          </p:nvSpPr>
          <p:spPr>
            <a:xfrm>
              <a:off x="457200" y="3733920"/>
              <a:ext cx="83059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6"/>
            <p:cNvSpPr/>
            <p:nvPr/>
          </p:nvSpPr>
          <p:spPr>
            <a:xfrm>
              <a:off x="1981080" y="373392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7"/>
            <p:cNvSpPr/>
            <p:nvPr/>
          </p:nvSpPr>
          <p:spPr>
            <a:xfrm>
              <a:off x="457200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Line 9"/>
          <p:cNvSpPr/>
          <p:nvPr/>
        </p:nvSpPr>
        <p:spPr>
          <a:xfrm>
            <a:off x="4648320" y="3733920"/>
            <a:ext cx="3886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"/>
          <p:cNvSpPr/>
          <p:nvPr/>
        </p:nvSpPr>
        <p:spPr>
          <a:xfrm>
            <a:off x="4641840" y="316080"/>
            <a:ext cx="2919600" cy="3411360"/>
          </a:xfrm>
          <a:custGeom>
            <a:avLst/>
            <a:gdLst>
              <a:gd name="textAreaLeft" fmla="*/ 0 w 2919600"/>
              <a:gd name="textAreaRight" fmla="*/ 2919960 w 2919600"/>
              <a:gd name="textAreaTop" fmla="*/ 0 h 3411360"/>
              <a:gd name="textAreaBottom" fmla="*/ 3411720 h 3411360"/>
            </a:gdLst>
            <a:ahLst/>
            <a:rect l="textAreaLeft" t="textAreaTop" r="textAreaRight" b="textAreaBottom"/>
            <a:pathLst>
              <a:path w="1839" h="2149">
                <a:moveTo>
                  <a:pt x="0" y="2149"/>
                </a:moveTo>
                <a:lnTo>
                  <a:pt x="1839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2"/>
          <p:cNvSpPr/>
          <p:nvPr/>
        </p:nvSpPr>
        <p:spPr>
          <a:xfrm>
            <a:off x="78487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3"/>
          <p:cNvSpPr/>
          <p:nvPr/>
        </p:nvSpPr>
        <p:spPr>
          <a:xfrm>
            <a:off x="6781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6477120" y="3808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76960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"/>
              <p:cNvSpPr txBox="1"/>
              <p:nvPr/>
            </p:nvSpPr>
            <p:spPr>
              <a:xfrm>
                <a:off x="990720" y="4876920"/>
                <a:ext cx="60958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84" name="Group 25"/>
          <p:cNvGrpSpPr/>
          <p:nvPr/>
        </p:nvGrpSpPr>
        <p:grpSpPr>
          <a:xfrm>
            <a:off x="6095880" y="2021040"/>
            <a:ext cx="774720" cy="1712880"/>
            <a:chOff x="6095880" y="2021040"/>
            <a:chExt cx="774720" cy="1712880"/>
          </a:xfrm>
        </p:grpSpPr>
        <p:sp>
          <p:nvSpPr>
            <p:cNvPr id="285" name="Freeform 21"/>
            <p:cNvSpPr/>
            <p:nvPr/>
          </p:nvSpPr>
          <p:spPr>
            <a:xfrm>
              <a:off x="6095880" y="2057400"/>
              <a:ext cx="774720" cy="167652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1676520"/>
                <a:gd name="textAreaBottom" fmla="*/ 1676880 h 167652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24"/>
            <p:cNvGrpSpPr/>
            <p:nvPr/>
          </p:nvGrpSpPr>
          <p:grpSpPr>
            <a:xfrm>
              <a:off x="6119640" y="2021040"/>
              <a:ext cx="295560" cy="323640"/>
              <a:chOff x="6119640" y="2021040"/>
              <a:chExt cx="295560" cy="323640"/>
            </a:xfrm>
          </p:grpSpPr>
          <p:sp>
            <p:nvSpPr>
              <p:cNvPr id="287" name="Freeform 22"/>
              <p:cNvSpPr/>
              <p:nvPr/>
            </p:nvSpPr>
            <p:spPr>
              <a:xfrm>
                <a:off x="6135840" y="2049480"/>
                <a:ext cx="147600" cy="295200"/>
              </a:xfrm>
              <a:custGeom>
                <a:avLst/>
                <a:gdLst>
                  <a:gd name="textAreaLeft" fmla="*/ 0 w 147600"/>
                  <a:gd name="textAreaRight" fmla="*/ 147600 w 1476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3"/>
              <p:cNvSpPr/>
              <p:nvPr/>
            </p:nvSpPr>
            <p:spPr>
              <a:xfrm>
                <a:off x="6119640" y="2021040"/>
                <a:ext cx="295560" cy="11736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145440" y="-951480"/>
            <a:ext cx="7869600" cy="8130960"/>
            <a:chOff x="145440" y="-951480"/>
            <a:chExt cx="7869600" cy="8130960"/>
          </a:xfrm>
        </p:grpSpPr>
        <p:sp>
          <p:nvSpPr>
            <p:cNvPr id="290" name="Oval 3"/>
            <p:cNvSpPr/>
            <p:nvPr/>
          </p:nvSpPr>
          <p:spPr>
            <a:xfrm flipV="1" rot="18612000">
              <a:off x="2016000" y="1567080"/>
              <a:ext cx="5257800" cy="438084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4"/>
            <p:cNvSpPr/>
            <p:nvPr/>
          </p:nvSpPr>
          <p:spPr>
            <a:xfrm flipV="1" rot="18612000">
              <a:off x="-429120" y="1803600"/>
              <a:ext cx="8305920" cy="23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5"/>
            <p:cNvSpPr/>
            <p:nvPr/>
          </p:nvSpPr>
          <p:spPr>
            <a:xfrm flipV="1">
              <a:off x="2923200" y="1729080"/>
              <a:ext cx="3394440" cy="401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6"/>
            <p:cNvSpPr/>
            <p:nvPr/>
          </p:nvSpPr>
          <p:spPr>
            <a:xfrm flipV="1" rot="18612000">
              <a:off x="4568760" y="3644640"/>
              <a:ext cx="152280" cy="12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7"/>
          <p:cNvSpPr/>
          <p:nvPr/>
        </p:nvSpPr>
        <p:spPr>
          <a:xfrm>
            <a:off x="4648320" y="3733920"/>
            <a:ext cx="3886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8"/>
          <p:cNvSpPr/>
          <p:nvPr/>
        </p:nvSpPr>
        <p:spPr>
          <a:xfrm>
            <a:off x="4641840" y="316080"/>
            <a:ext cx="2919600" cy="3411360"/>
          </a:xfrm>
          <a:custGeom>
            <a:avLst/>
            <a:gdLst>
              <a:gd name="textAreaLeft" fmla="*/ 0 w 2919600"/>
              <a:gd name="textAreaRight" fmla="*/ 2919960 w 2919600"/>
              <a:gd name="textAreaTop" fmla="*/ 0 h 3411360"/>
              <a:gd name="textAreaBottom" fmla="*/ 3411720 h 3411360"/>
            </a:gdLst>
            <a:ahLst/>
            <a:rect l="textAreaLeft" t="textAreaTop" r="textAreaRight" b="textAreaBottom"/>
            <a:pathLst>
              <a:path w="1839" h="2149">
                <a:moveTo>
                  <a:pt x="0" y="2149"/>
                </a:moveTo>
                <a:lnTo>
                  <a:pt x="1839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78487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6781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6477120" y="3808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76960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"/>
              <p:cNvSpPr txBox="1"/>
              <p:nvPr/>
            </p:nvSpPr>
            <p:spPr>
              <a:xfrm>
                <a:off x="47520" y="533520"/>
                <a:ext cx="60008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03" name="Group 16"/>
          <p:cNvGrpSpPr/>
          <p:nvPr/>
        </p:nvGrpSpPr>
        <p:grpSpPr>
          <a:xfrm>
            <a:off x="5609160" y="1850040"/>
            <a:ext cx="1828800" cy="1938600"/>
            <a:chOff x="5609160" y="1850040"/>
            <a:chExt cx="1828800" cy="1938600"/>
          </a:xfrm>
        </p:grpSpPr>
        <p:sp>
          <p:nvSpPr>
            <p:cNvPr id="304" name="Freeform 17"/>
            <p:cNvSpPr/>
            <p:nvPr/>
          </p:nvSpPr>
          <p:spPr>
            <a:xfrm flipH="1" rot="8386800">
              <a:off x="6066360" y="1937880"/>
              <a:ext cx="914040" cy="1751400"/>
            </a:xfrm>
            <a:custGeom>
              <a:avLst/>
              <a:gdLst>
                <a:gd name="textAreaLeft" fmla="*/ -360 w 914040"/>
                <a:gd name="textAreaRight" fmla="*/ 914040 w 914040"/>
                <a:gd name="textAreaTop" fmla="*/ 0 h 1751400"/>
                <a:gd name="textAreaBottom" fmla="*/ 1751760 h 175140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18"/>
            <p:cNvGrpSpPr/>
            <p:nvPr/>
          </p:nvGrpSpPr>
          <p:grpSpPr>
            <a:xfrm>
              <a:off x="6581880" y="3405960"/>
              <a:ext cx="469440" cy="382680"/>
              <a:chOff x="6581880" y="3405960"/>
              <a:chExt cx="469440" cy="382680"/>
            </a:xfrm>
          </p:grpSpPr>
          <p:sp>
            <p:nvSpPr>
              <p:cNvPr id="306" name="Freeform 19"/>
              <p:cNvSpPr/>
              <p:nvPr/>
            </p:nvSpPr>
            <p:spPr>
              <a:xfrm flipH="1" rot="8386800">
                <a:off x="6660720" y="3425760"/>
                <a:ext cx="173880" cy="30816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 flipH="1" rot="8386800">
                <a:off x="6704640" y="3568320"/>
                <a:ext cx="347760" cy="122400"/>
              </a:xfrm>
              <a:custGeom>
                <a:avLst/>
                <a:gdLst>
                  <a:gd name="textAreaLeft" fmla="*/ 360 w 347760"/>
                  <a:gd name="textAreaRight" fmla="*/ 348480 w 3477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457200" y="1066680"/>
            <a:ext cx="8305920" cy="5486400"/>
            <a:chOff x="457200" y="1066680"/>
            <a:chExt cx="8305920" cy="5486400"/>
          </a:xfrm>
        </p:grpSpPr>
        <p:sp>
          <p:nvSpPr>
            <p:cNvPr id="309" name="Oval 3"/>
            <p:cNvSpPr/>
            <p:nvPr/>
          </p:nvSpPr>
          <p:spPr>
            <a:xfrm>
              <a:off x="1981080" y="1066680"/>
              <a:ext cx="525780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4"/>
            <p:cNvSpPr/>
            <p:nvPr/>
          </p:nvSpPr>
          <p:spPr>
            <a:xfrm>
              <a:off x="457200" y="3733920"/>
              <a:ext cx="83059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5"/>
            <p:cNvSpPr/>
            <p:nvPr/>
          </p:nvSpPr>
          <p:spPr>
            <a:xfrm>
              <a:off x="1981080" y="373392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6"/>
            <p:cNvSpPr/>
            <p:nvPr/>
          </p:nvSpPr>
          <p:spPr>
            <a:xfrm>
              <a:off x="457200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Freeform 7"/>
          <p:cNvSpPr/>
          <p:nvPr/>
        </p:nvSpPr>
        <p:spPr>
          <a:xfrm>
            <a:off x="339840" y="3730680"/>
            <a:ext cx="4308480" cy="324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714" h="2">
                <a:moveTo>
                  <a:pt x="2714" y="2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8"/>
          <p:cNvSpPr/>
          <p:nvPr/>
        </p:nvSpPr>
        <p:spPr>
          <a:xfrm>
            <a:off x="825480" y="604800"/>
            <a:ext cx="3816360" cy="312264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3122640"/>
              <a:gd name="textAreaBottom" fmla="*/ 3123000 h 3122640"/>
            </a:gdLst>
            <a:ahLst/>
            <a:rect l="textAreaLeft" t="textAreaTop" r="textAreaRight" b="textAreaBottom"/>
            <a:pathLst>
              <a:path w="2404" h="1967">
                <a:moveTo>
                  <a:pt x="2404" y="1967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9"/>
          <p:cNvSpPr/>
          <p:nvPr/>
        </p:nvSpPr>
        <p:spPr>
          <a:xfrm>
            <a:off x="12193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0"/>
          <p:cNvSpPr/>
          <p:nvPr/>
        </p:nvSpPr>
        <p:spPr>
          <a:xfrm>
            <a:off x="1600200" y="1219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1447920" y="3049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1066680" y="3809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1295280" y="4572000"/>
                <a:ext cx="60962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22" name="Group 16"/>
          <p:cNvGrpSpPr/>
          <p:nvPr/>
        </p:nvGrpSpPr>
        <p:grpSpPr>
          <a:xfrm>
            <a:off x="1600560" y="1981080"/>
            <a:ext cx="914040" cy="1712880"/>
            <a:chOff x="1600560" y="1981080"/>
            <a:chExt cx="914040" cy="1712880"/>
          </a:xfrm>
        </p:grpSpPr>
        <p:sp>
          <p:nvSpPr>
            <p:cNvPr id="323" name="Freeform 17"/>
            <p:cNvSpPr/>
            <p:nvPr/>
          </p:nvSpPr>
          <p:spPr>
            <a:xfrm flipH="1">
              <a:off x="1600200" y="2017440"/>
              <a:ext cx="914040" cy="1676520"/>
            </a:xfrm>
            <a:custGeom>
              <a:avLst/>
              <a:gdLst>
                <a:gd name="textAreaLeft" fmla="*/ -360 w 914040"/>
                <a:gd name="textAreaRight" fmla="*/ 914040 w 914040"/>
                <a:gd name="textAreaTop" fmla="*/ 0 h 1676520"/>
                <a:gd name="textAreaBottom" fmla="*/ 1676880 h 167652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18"/>
            <p:cNvGrpSpPr/>
            <p:nvPr/>
          </p:nvGrpSpPr>
          <p:grpSpPr>
            <a:xfrm>
              <a:off x="2138760" y="1981080"/>
              <a:ext cx="348120" cy="323640"/>
              <a:chOff x="2138760" y="1981080"/>
              <a:chExt cx="348120" cy="323640"/>
            </a:xfrm>
          </p:grpSpPr>
          <p:sp>
            <p:nvSpPr>
              <p:cNvPr id="325" name="Freeform 19"/>
              <p:cNvSpPr/>
              <p:nvPr/>
            </p:nvSpPr>
            <p:spPr>
              <a:xfrm flipH="1">
                <a:off x="2293560" y="2009520"/>
                <a:ext cx="173880" cy="29520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20"/>
              <p:cNvSpPr/>
              <p:nvPr/>
            </p:nvSpPr>
            <p:spPr>
              <a:xfrm flipH="1">
                <a:off x="2138400" y="1981080"/>
                <a:ext cx="348120" cy="117360"/>
              </a:xfrm>
              <a:custGeom>
                <a:avLst/>
                <a:gdLst>
                  <a:gd name="textAreaLeft" fmla="*/ -360 w 348120"/>
                  <a:gd name="textAreaRight" fmla="*/ 348120 w 3481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2"/>
          <p:cNvGrpSpPr/>
          <p:nvPr/>
        </p:nvGrpSpPr>
        <p:grpSpPr>
          <a:xfrm>
            <a:off x="1105200" y="-791640"/>
            <a:ext cx="8198280" cy="7869240"/>
            <a:chOff x="1105200" y="-791640"/>
            <a:chExt cx="8198280" cy="7869240"/>
          </a:xfrm>
        </p:grpSpPr>
        <p:sp>
          <p:nvSpPr>
            <p:cNvPr id="328" name="Oval 3"/>
            <p:cNvSpPr/>
            <p:nvPr/>
          </p:nvSpPr>
          <p:spPr>
            <a:xfrm flipV="1" rot="2324400">
              <a:off x="1920600" y="1467720"/>
              <a:ext cx="5257800" cy="445464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 rot="2324400">
              <a:off x="1163880" y="1544400"/>
              <a:ext cx="8305920" cy="238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5"/>
            <p:cNvSpPr/>
            <p:nvPr/>
          </p:nvSpPr>
          <p:spPr>
            <a:xfrm>
              <a:off x="2519280" y="2024280"/>
              <a:ext cx="4100760" cy="32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6"/>
            <p:cNvSpPr/>
            <p:nvPr/>
          </p:nvSpPr>
          <p:spPr>
            <a:xfrm flipV="1" rot="2324400">
              <a:off x="4523040" y="3628800"/>
              <a:ext cx="152280" cy="129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Freeform 7"/>
          <p:cNvSpPr/>
          <p:nvPr/>
        </p:nvSpPr>
        <p:spPr>
          <a:xfrm>
            <a:off x="339840" y="3730680"/>
            <a:ext cx="4308480" cy="324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714" h="2">
                <a:moveTo>
                  <a:pt x="2714" y="2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8"/>
          <p:cNvSpPr/>
          <p:nvPr/>
        </p:nvSpPr>
        <p:spPr>
          <a:xfrm>
            <a:off x="825480" y="604800"/>
            <a:ext cx="3816360" cy="312264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3122640"/>
              <a:gd name="textAreaBottom" fmla="*/ 3123000 h 3122640"/>
            </a:gdLst>
            <a:ahLst/>
            <a:rect l="textAreaLeft" t="textAreaTop" r="textAreaRight" b="textAreaBottom"/>
            <a:pathLst>
              <a:path w="2404" h="1967">
                <a:moveTo>
                  <a:pt x="2404" y="1967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9"/>
          <p:cNvSpPr/>
          <p:nvPr/>
        </p:nvSpPr>
        <p:spPr>
          <a:xfrm>
            <a:off x="12193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0"/>
          <p:cNvSpPr/>
          <p:nvPr/>
        </p:nvSpPr>
        <p:spPr>
          <a:xfrm>
            <a:off x="1600200" y="1219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447920" y="3049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1066680" y="3809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2"/>
              <p:cNvSpPr txBox="1"/>
              <p:nvPr/>
            </p:nvSpPr>
            <p:spPr>
              <a:xfrm>
                <a:off x="2971800" y="380880"/>
                <a:ext cx="60008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41" name="Group 16"/>
          <p:cNvGrpSpPr/>
          <p:nvPr/>
        </p:nvGrpSpPr>
        <p:grpSpPr>
          <a:xfrm>
            <a:off x="1101240" y="1854000"/>
            <a:ext cx="1937880" cy="1944360"/>
            <a:chOff x="1101240" y="1854000"/>
            <a:chExt cx="1937880" cy="1944360"/>
          </a:xfrm>
        </p:grpSpPr>
        <p:sp>
          <p:nvSpPr>
            <p:cNvPr id="342" name="Freeform 17"/>
            <p:cNvSpPr/>
            <p:nvPr/>
          </p:nvSpPr>
          <p:spPr>
            <a:xfrm rot="13486800">
              <a:off x="1536840" y="1986480"/>
              <a:ext cx="1066680" cy="167652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676520"/>
                <a:gd name="textAreaBottom" fmla="*/ 1676880 h 167652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18"/>
            <p:cNvGrpSpPr/>
            <p:nvPr/>
          </p:nvGrpSpPr>
          <p:grpSpPr>
            <a:xfrm>
              <a:off x="1521360" y="3410280"/>
              <a:ext cx="501120" cy="388080"/>
              <a:chOff x="1521360" y="3410280"/>
              <a:chExt cx="501120" cy="388080"/>
            </a:xfrm>
          </p:grpSpPr>
          <p:sp>
            <p:nvSpPr>
              <p:cNvPr id="344" name="Freeform 19"/>
              <p:cNvSpPr/>
              <p:nvPr/>
            </p:nvSpPr>
            <p:spPr>
              <a:xfrm rot="13486800">
                <a:off x="1744560" y="3438720"/>
                <a:ext cx="203040" cy="29520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0"/>
              <p:cNvSpPr/>
              <p:nvPr/>
            </p:nvSpPr>
            <p:spPr>
              <a:xfrm rot="13486800">
                <a:off x="1503360" y="3554640"/>
                <a:ext cx="406440" cy="11736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457200" y="1066680"/>
            <a:ext cx="8305920" cy="5486400"/>
            <a:chOff x="457200" y="1066680"/>
            <a:chExt cx="8305920" cy="5486400"/>
          </a:xfrm>
        </p:grpSpPr>
        <p:sp>
          <p:nvSpPr>
            <p:cNvPr id="347" name="Oval 3"/>
            <p:cNvSpPr/>
            <p:nvPr/>
          </p:nvSpPr>
          <p:spPr>
            <a:xfrm>
              <a:off x="1981080" y="1066680"/>
              <a:ext cx="525780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4"/>
            <p:cNvSpPr/>
            <p:nvPr/>
          </p:nvSpPr>
          <p:spPr>
            <a:xfrm>
              <a:off x="457200" y="3733920"/>
              <a:ext cx="83059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5"/>
            <p:cNvSpPr/>
            <p:nvPr/>
          </p:nvSpPr>
          <p:spPr>
            <a:xfrm>
              <a:off x="1981080" y="373392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6"/>
            <p:cNvSpPr/>
            <p:nvPr/>
          </p:nvSpPr>
          <p:spPr>
            <a:xfrm>
              <a:off x="457200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Freeform 7"/>
          <p:cNvSpPr/>
          <p:nvPr/>
        </p:nvSpPr>
        <p:spPr>
          <a:xfrm>
            <a:off x="339840" y="3730680"/>
            <a:ext cx="4308480" cy="324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714" h="2">
                <a:moveTo>
                  <a:pt x="2714" y="2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8"/>
          <p:cNvSpPr/>
          <p:nvPr/>
        </p:nvSpPr>
        <p:spPr>
          <a:xfrm>
            <a:off x="4335480" y="133200"/>
            <a:ext cx="306360" cy="3594240"/>
          </a:xfrm>
          <a:custGeom>
            <a:avLst/>
            <a:gdLst>
              <a:gd name="textAreaLeft" fmla="*/ 0 w 306360"/>
              <a:gd name="textAreaRight" fmla="*/ 306360 w 306360"/>
              <a:gd name="textAreaTop" fmla="*/ 0 h 3594240"/>
              <a:gd name="textAreaBottom" fmla="*/ 3594600 h 3594240"/>
            </a:gdLst>
            <a:ahLst/>
            <a:rect l="textAreaLeft" t="textAreaTop" r="textAreaRight" b="textAreaBottom"/>
            <a:pathLst>
              <a:path w="193" h="2264">
                <a:moveTo>
                  <a:pt x="193" y="2264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12193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4267080" y="609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3429000" y="2286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1066680" y="3809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1295280" y="4572000"/>
                <a:ext cx="60962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60" name="Group 16"/>
          <p:cNvGrpSpPr/>
          <p:nvPr/>
        </p:nvGrpSpPr>
        <p:grpSpPr>
          <a:xfrm>
            <a:off x="2515320" y="1447920"/>
            <a:ext cx="1904400" cy="2209320"/>
            <a:chOff x="2515320" y="1447920"/>
            <a:chExt cx="1904400" cy="2209320"/>
          </a:xfrm>
        </p:grpSpPr>
        <p:sp>
          <p:nvSpPr>
            <p:cNvPr id="361" name="Freeform 17"/>
            <p:cNvSpPr/>
            <p:nvPr/>
          </p:nvSpPr>
          <p:spPr>
            <a:xfrm flipH="1">
              <a:off x="2515320" y="1494720"/>
              <a:ext cx="1904400" cy="2162520"/>
            </a:xfrm>
            <a:custGeom>
              <a:avLst/>
              <a:gdLst>
                <a:gd name="textAreaLeft" fmla="*/ 360 w 1904400"/>
                <a:gd name="textAreaRight" fmla="*/ 1905120 w 1904400"/>
                <a:gd name="textAreaTop" fmla="*/ 0 h 2162520"/>
                <a:gd name="textAreaBottom" fmla="*/ 2162880 h 216252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Group 18"/>
            <p:cNvGrpSpPr/>
            <p:nvPr/>
          </p:nvGrpSpPr>
          <p:grpSpPr>
            <a:xfrm>
              <a:off x="3635640" y="1447920"/>
              <a:ext cx="725760" cy="416520"/>
              <a:chOff x="3635640" y="1447920"/>
              <a:chExt cx="725760" cy="416520"/>
            </a:xfrm>
          </p:grpSpPr>
          <p:sp>
            <p:nvSpPr>
              <p:cNvPr id="363" name="Freeform 19"/>
              <p:cNvSpPr/>
              <p:nvPr/>
            </p:nvSpPr>
            <p:spPr>
              <a:xfrm flipH="1">
                <a:off x="3958920" y="1484280"/>
                <a:ext cx="362520" cy="380160"/>
              </a:xfrm>
              <a:custGeom>
                <a:avLst/>
                <a:gdLst>
                  <a:gd name="textAreaLeft" fmla="*/ 0 w 362520"/>
                  <a:gd name="textAreaRight" fmla="*/ 362520 w 36252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0"/>
              <p:cNvSpPr/>
              <p:nvPr/>
            </p:nvSpPr>
            <p:spPr>
              <a:xfrm flipH="1">
                <a:off x="3635640" y="1447920"/>
                <a:ext cx="725760" cy="151200"/>
              </a:xfrm>
              <a:custGeom>
                <a:avLst/>
                <a:gdLst>
                  <a:gd name="textAreaLeft" fmla="*/ 360 w 725760"/>
                  <a:gd name="textAreaRight" fmla="*/ 726480 w 7257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3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2"/>
          <p:cNvGrpSpPr/>
          <p:nvPr/>
        </p:nvGrpSpPr>
        <p:grpSpPr>
          <a:xfrm>
            <a:off x="1791720" y="-646560"/>
            <a:ext cx="5971680" cy="8565120"/>
            <a:chOff x="1791720" y="-646560"/>
            <a:chExt cx="5971680" cy="8565120"/>
          </a:xfrm>
        </p:grpSpPr>
        <p:sp>
          <p:nvSpPr>
            <p:cNvPr id="366" name="Oval 3"/>
            <p:cNvSpPr/>
            <p:nvPr/>
          </p:nvSpPr>
          <p:spPr>
            <a:xfrm rot="15948600">
              <a:off x="1954440" y="1113120"/>
              <a:ext cx="530568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"/>
            <p:cNvSpPr/>
            <p:nvPr/>
          </p:nvSpPr>
          <p:spPr>
            <a:xfrm rot="15948600">
              <a:off x="1860480" y="2226240"/>
              <a:ext cx="83815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5"/>
            <p:cNvSpPr/>
            <p:nvPr/>
          </p:nvSpPr>
          <p:spPr>
            <a:xfrm flipH="1" flipV="1">
              <a:off x="4451760" y="1093680"/>
              <a:ext cx="387720" cy="529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6"/>
            <p:cNvSpPr/>
            <p:nvPr/>
          </p:nvSpPr>
          <p:spPr>
            <a:xfrm rot="15948600">
              <a:off x="4565880" y="3624840"/>
              <a:ext cx="15336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Freeform 7"/>
          <p:cNvSpPr/>
          <p:nvPr/>
        </p:nvSpPr>
        <p:spPr>
          <a:xfrm>
            <a:off x="339840" y="3730680"/>
            <a:ext cx="4308480" cy="324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714" h="2">
                <a:moveTo>
                  <a:pt x="2714" y="2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8"/>
          <p:cNvSpPr/>
          <p:nvPr/>
        </p:nvSpPr>
        <p:spPr>
          <a:xfrm>
            <a:off x="4335480" y="133200"/>
            <a:ext cx="306360" cy="3594240"/>
          </a:xfrm>
          <a:custGeom>
            <a:avLst/>
            <a:gdLst>
              <a:gd name="textAreaLeft" fmla="*/ 0 w 306360"/>
              <a:gd name="textAreaRight" fmla="*/ 306360 w 306360"/>
              <a:gd name="textAreaTop" fmla="*/ 0 h 3594240"/>
              <a:gd name="textAreaBottom" fmla="*/ 3594600 h 3594240"/>
            </a:gdLst>
            <a:ahLst/>
            <a:rect l="textAreaLeft" t="textAreaTop" r="textAreaRight" b="textAreaBottom"/>
            <a:pathLst>
              <a:path w="193" h="2264">
                <a:moveTo>
                  <a:pt x="193" y="2264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9"/>
          <p:cNvSpPr/>
          <p:nvPr/>
        </p:nvSpPr>
        <p:spPr>
          <a:xfrm>
            <a:off x="12193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0"/>
          <p:cNvSpPr/>
          <p:nvPr/>
        </p:nvSpPr>
        <p:spPr>
          <a:xfrm>
            <a:off x="4267080" y="609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3429000" y="2286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066680" y="3809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2"/>
              <p:cNvSpPr txBox="1"/>
              <p:nvPr/>
            </p:nvSpPr>
            <p:spPr>
              <a:xfrm>
                <a:off x="4648320" y="838080"/>
                <a:ext cx="39430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78" name="Group 16"/>
          <p:cNvGrpSpPr/>
          <p:nvPr/>
        </p:nvGrpSpPr>
        <p:grpSpPr>
          <a:xfrm>
            <a:off x="1923480" y="1335600"/>
            <a:ext cx="2989080" cy="2397600"/>
            <a:chOff x="1923480" y="1335600"/>
            <a:chExt cx="2989080" cy="2397600"/>
          </a:xfrm>
        </p:grpSpPr>
        <p:sp>
          <p:nvSpPr>
            <p:cNvPr id="379" name="Freeform 17"/>
            <p:cNvSpPr/>
            <p:nvPr/>
          </p:nvSpPr>
          <p:spPr>
            <a:xfrm flipH="1" flipV="1" rot="4450200">
              <a:off x="2541600" y="1229400"/>
              <a:ext cx="1751760" cy="2610000"/>
            </a:xfrm>
            <a:custGeom>
              <a:avLst/>
              <a:gdLst>
                <a:gd name="textAreaLeft" fmla="*/ 360 w 1751760"/>
                <a:gd name="textAreaRight" fmla="*/ 1752480 w 1751760"/>
                <a:gd name="textAreaTop" fmla="*/ 360 h 2610000"/>
                <a:gd name="textAreaBottom" fmla="*/ 2610720 h 261000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Group 18"/>
            <p:cNvGrpSpPr/>
            <p:nvPr/>
          </p:nvGrpSpPr>
          <p:grpSpPr>
            <a:xfrm>
              <a:off x="2150280" y="3004920"/>
              <a:ext cx="655920" cy="691920"/>
              <a:chOff x="2150280" y="3004920"/>
              <a:chExt cx="655920" cy="691920"/>
            </a:xfrm>
          </p:grpSpPr>
          <p:sp>
            <p:nvSpPr>
              <p:cNvPr id="381" name="Freeform 19"/>
              <p:cNvSpPr/>
              <p:nvPr/>
            </p:nvSpPr>
            <p:spPr>
              <a:xfrm flipH="1" flipV="1" rot="4450200">
                <a:off x="2372760" y="3197160"/>
                <a:ext cx="333360" cy="458640"/>
              </a:xfrm>
              <a:custGeom>
                <a:avLst/>
                <a:gdLst>
                  <a:gd name="textAreaLeft" fmla="*/ 0 w 333360"/>
                  <a:gd name="textAreaRight" fmla="*/ 333360 w 333360"/>
                  <a:gd name="textAreaTop" fmla="*/ 360 h 458640"/>
                  <a:gd name="textAreaBottom" fmla="*/ 459360 h 45864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0"/>
              <p:cNvSpPr/>
              <p:nvPr/>
            </p:nvSpPr>
            <p:spPr>
              <a:xfrm flipH="1" flipV="1" rot="4450200">
                <a:off x="1995480" y="3259440"/>
                <a:ext cx="667440" cy="182520"/>
              </a:xfrm>
              <a:custGeom>
                <a:avLst/>
                <a:gdLst>
                  <a:gd name="textAreaLeft" fmla="*/ 360 w 667440"/>
                  <a:gd name="textAreaRight" fmla="*/ 668160 w 667440"/>
                  <a:gd name="textAreaTop" fmla="*/ -36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3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457200" y="1066680"/>
            <a:ext cx="8305920" cy="5486400"/>
            <a:chOff x="457200" y="1066680"/>
            <a:chExt cx="8305920" cy="5486400"/>
          </a:xfrm>
        </p:grpSpPr>
        <p:sp>
          <p:nvSpPr>
            <p:cNvPr id="384" name="Oval 3"/>
            <p:cNvSpPr/>
            <p:nvPr/>
          </p:nvSpPr>
          <p:spPr>
            <a:xfrm>
              <a:off x="1981080" y="1066680"/>
              <a:ext cx="525780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4"/>
            <p:cNvSpPr/>
            <p:nvPr/>
          </p:nvSpPr>
          <p:spPr>
            <a:xfrm>
              <a:off x="457200" y="3733920"/>
              <a:ext cx="83059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5"/>
            <p:cNvSpPr/>
            <p:nvPr/>
          </p:nvSpPr>
          <p:spPr>
            <a:xfrm>
              <a:off x="1981080" y="373392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6"/>
            <p:cNvSpPr/>
            <p:nvPr/>
          </p:nvSpPr>
          <p:spPr>
            <a:xfrm>
              <a:off x="457200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Freeform 7"/>
          <p:cNvSpPr/>
          <p:nvPr/>
        </p:nvSpPr>
        <p:spPr>
          <a:xfrm>
            <a:off x="339840" y="3730680"/>
            <a:ext cx="4308480" cy="324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714" h="2">
                <a:moveTo>
                  <a:pt x="2714" y="2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8"/>
          <p:cNvSpPr/>
          <p:nvPr/>
        </p:nvSpPr>
        <p:spPr>
          <a:xfrm>
            <a:off x="4641840" y="987480"/>
            <a:ext cx="3071880" cy="2739960"/>
          </a:xfrm>
          <a:custGeom>
            <a:avLst/>
            <a:gdLst>
              <a:gd name="textAreaLeft" fmla="*/ 0 w 3071880"/>
              <a:gd name="textAreaRight" fmla="*/ 3072240 w 3071880"/>
              <a:gd name="textAreaTop" fmla="*/ 0 h 2739960"/>
              <a:gd name="textAreaBottom" fmla="*/ 2740320 h 2739960"/>
            </a:gdLst>
            <a:ahLst/>
            <a:rect l="textAreaLeft" t="textAreaTop" r="textAreaRight" b="textAreaBottom"/>
            <a:pathLst>
              <a:path w="1935" h="1726">
                <a:moveTo>
                  <a:pt x="0" y="1726"/>
                </a:moveTo>
                <a:lnTo>
                  <a:pt x="1935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2193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010280" y="1447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400800" y="609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1066680" y="3809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"/>
              <p:cNvSpPr txBox="1"/>
              <p:nvPr/>
            </p:nvSpPr>
            <p:spPr>
              <a:xfrm>
                <a:off x="1295280" y="4627440"/>
                <a:ext cx="609624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97" name="Group 16"/>
          <p:cNvGrpSpPr/>
          <p:nvPr/>
        </p:nvGrpSpPr>
        <p:grpSpPr>
          <a:xfrm>
            <a:off x="2516400" y="2057400"/>
            <a:ext cx="4036680" cy="1676160"/>
            <a:chOff x="2516400" y="2057400"/>
            <a:chExt cx="4036680" cy="1676160"/>
          </a:xfrm>
        </p:grpSpPr>
        <p:sp>
          <p:nvSpPr>
            <p:cNvPr id="398" name="Freeform 17"/>
            <p:cNvSpPr/>
            <p:nvPr/>
          </p:nvSpPr>
          <p:spPr>
            <a:xfrm flipH="1">
              <a:off x="2516040" y="2092680"/>
              <a:ext cx="4036680" cy="1640880"/>
            </a:xfrm>
            <a:custGeom>
              <a:avLst/>
              <a:gdLst>
                <a:gd name="textAreaLeft" fmla="*/ -360 w 4036680"/>
                <a:gd name="textAreaRight" fmla="*/ 4036680 w 4036680"/>
                <a:gd name="textAreaTop" fmla="*/ 0 h 1640880"/>
                <a:gd name="textAreaBottom" fmla="*/ 1641240 h 164088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18"/>
            <p:cNvGrpSpPr/>
            <p:nvPr/>
          </p:nvGrpSpPr>
          <p:grpSpPr>
            <a:xfrm>
              <a:off x="4891320" y="2057400"/>
              <a:ext cx="1538280" cy="316080"/>
              <a:chOff x="4891320" y="2057400"/>
              <a:chExt cx="1538280" cy="316080"/>
            </a:xfrm>
          </p:grpSpPr>
          <p:sp>
            <p:nvSpPr>
              <p:cNvPr id="400" name="Freeform 19"/>
              <p:cNvSpPr/>
              <p:nvPr/>
            </p:nvSpPr>
            <p:spPr>
              <a:xfrm flipH="1">
                <a:off x="5577120" y="2085120"/>
                <a:ext cx="768240" cy="288360"/>
              </a:xfrm>
              <a:custGeom>
                <a:avLst/>
                <a:gdLst>
                  <a:gd name="textAreaLeft" fmla="*/ 360 w 768240"/>
                  <a:gd name="textAreaRight" fmla="*/ 768960 w 76824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"/>
              <p:cNvSpPr/>
              <p:nvPr/>
            </p:nvSpPr>
            <p:spPr>
              <a:xfrm flipH="1">
                <a:off x="4890960" y="2057400"/>
                <a:ext cx="1538280" cy="114480"/>
              </a:xfrm>
              <a:custGeom>
                <a:avLst/>
                <a:gdLst>
                  <a:gd name="textAreaLeft" fmla="*/ -360 w 1538280"/>
                  <a:gd name="textAreaRight" fmla="*/ 1538280 w 153828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3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831240" y="17640"/>
            <a:ext cx="8721360" cy="8569080"/>
            <a:chOff x="831240" y="17640"/>
            <a:chExt cx="8721360" cy="8569080"/>
          </a:xfrm>
        </p:grpSpPr>
        <p:sp>
          <p:nvSpPr>
            <p:cNvPr id="403" name="Oval 3"/>
            <p:cNvSpPr/>
            <p:nvPr/>
          </p:nvSpPr>
          <p:spPr>
            <a:xfrm rot="19185600">
              <a:off x="1907280" y="1093680"/>
              <a:ext cx="525780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4"/>
            <p:cNvSpPr/>
            <p:nvPr/>
          </p:nvSpPr>
          <p:spPr>
            <a:xfrm rot="19185600">
              <a:off x="1318680" y="3418200"/>
              <a:ext cx="83059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5"/>
            <p:cNvSpPr/>
            <p:nvPr/>
          </p:nvSpPr>
          <p:spPr>
            <a:xfrm flipV="1">
              <a:off x="2554200" y="2053800"/>
              <a:ext cx="4013640" cy="339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6"/>
            <p:cNvSpPr/>
            <p:nvPr/>
          </p:nvSpPr>
          <p:spPr>
            <a:xfrm rot="19185600">
              <a:off x="4513680" y="3651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Freeform 7"/>
          <p:cNvSpPr/>
          <p:nvPr/>
        </p:nvSpPr>
        <p:spPr>
          <a:xfrm>
            <a:off x="339840" y="3730680"/>
            <a:ext cx="4308480" cy="324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714" h="2">
                <a:moveTo>
                  <a:pt x="2714" y="2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8"/>
          <p:cNvSpPr/>
          <p:nvPr/>
        </p:nvSpPr>
        <p:spPr>
          <a:xfrm>
            <a:off x="4641840" y="987480"/>
            <a:ext cx="3071880" cy="2739960"/>
          </a:xfrm>
          <a:custGeom>
            <a:avLst/>
            <a:gdLst>
              <a:gd name="textAreaLeft" fmla="*/ 0 w 3071880"/>
              <a:gd name="textAreaRight" fmla="*/ 3072240 w 3071880"/>
              <a:gd name="textAreaTop" fmla="*/ 0 h 2739960"/>
              <a:gd name="textAreaBottom" fmla="*/ 2740320 h 2739960"/>
            </a:gdLst>
            <a:ahLst/>
            <a:rect l="textAreaLeft" t="textAreaTop" r="textAreaRight" b="textAreaBottom"/>
            <a:pathLst>
              <a:path w="1935" h="1726">
                <a:moveTo>
                  <a:pt x="0" y="1726"/>
                </a:moveTo>
                <a:lnTo>
                  <a:pt x="1935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9"/>
          <p:cNvSpPr/>
          <p:nvPr/>
        </p:nvSpPr>
        <p:spPr>
          <a:xfrm>
            <a:off x="12193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010280" y="1447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6400800" y="609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3"/>
          <p:cNvSpPr/>
          <p:nvPr/>
        </p:nvSpPr>
        <p:spPr>
          <a:xfrm>
            <a:off x="1066680" y="3809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3092400" y="4952880"/>
                <a:ext cx="600552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16" name="Group 16"/>
          <p:cNvGrpSpPr/>
          <p:nvPr/>
        </p:nvGrpSpPr>
        <p:grpSpPr>
          <a:xfrm>
            <a:off x="2094840" y="678600"/>
            <a:ext cx="4256280" cy="4480200"/>
            <a:chOff x="2094840" y="678600"/>
            <a:chExt cx="4256280" cy="4480200"/>
          </a:xfrm>
        </p:grpSpPr>
        <p:sp>
          <p:nvSpPr>
            <p:cNvPr id="417" name="Freeform 17"/>
            <p:cNvSpPr/>
            <p:nvPr/>
          </p:nvSpPr>
          <p:spPr>
            <a:xfrm rot="18016800">
              <a:off x="2469960" y="1477800"/>
              <a:ext cx="3505320" cy="288180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2881800"/>
                <a:gd name="textAreaBottom" fmla="*/ 2882160 h 288180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8"/>
            <p:cNvGrpSpPr/>
            <p:nvPr/>
          </p:nvGrpSpPr>
          <p:grpSpPr>
            <a:xfrm>
              <a:off x="2095200" y="2428200"/>
              <a:ext cx="852840" cy="1370520"/>
              <a:chOff x="2095200" y="2428200"/>
              <a:chExt cx="852840" cy="1370520"/>
            </a:xfrm>
          </p:grpSpPr>
          <p:sp>
            <p:nvSpPr>
              <p:cNvPr id="419" name="Freeform 19"/>
              <p:cNvSpPr/>
              <p:nvPr/>
            </p:nvSpPr>
            <p:spPr>
              <a:xfrm rot="18016800">
                <a:off x="2227320" y="3129480"/>
                <a:ext cx="666720" cy="506880"/>
              </a:xfrm>
              <a:custGeom>
                <a:avLst/>
                <a:gdLst>
                  <a:gd name="textAreaLeft" fmla="*/ 0 w 666720"/>
                  <a:gd name="textAreaRight" fmla="*/ 667080 w 666720"/>
                  <a:gd name="textAreaTop" fmla="*/ 0 h 506880"/>
                  <a:gd name="textAreaBottom" fmla="*/ 507240 h 50688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0"/>
              <p:cNvSpPr/>
              <p:nvPr/>
            </p:nvSpPr>
            <p:spPr>
              <a:xfrm rot="18016800">
                <a:off x="1850760" y="2954880"/>
                <a:ext cx="1335600" cy="201240"/>
              </a:xfrm>
              <a:custGeom>
                <a:avLst/>
                <a:gdLst>
                  <a:gd name="textAreaLeft" fmla="*/ 0 w 1335600"/>
                  <a:gd name="textAreaRight" fmla="*/ 1335960 w 13356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3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2"/>
          <p:cNvGrpSpPr/>
          <p:nvPr/>
        </p:nvGrpSpPr>
        <p:grpSpPr>
          <a:xfrm>
            <a:off x="1041480" y="120960"/>
            <a:ext cx="8116560" cy="8616240"/>
            <a:chOff x="1041480" y="120960"/>
            <a:chExt cx="8116560" cy="8616240"/>
          </a:xfrm>
        </p:grpSpPr>
        <p:sp>
          <p:nvSpPr>
            <p:cNvPr id="422" name="Oval 3"/>
            <p:cNvSpPr/>
            <p:nvPr/>
          </p:nvSpPr>
          <p:spPr>
            <a:xfrm rot="17971800">
              <a:off x="1995480" y="1086840"/>
              <a:ext cx="525744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"/>
            <p:cNvSpPr/>
            <p:nvPr/>
          </p:nvSpPr>
          <p:spPr>
            <a:xfrm rot="17971800">
              <a:off x="1731600" y="3019320"/>
              <a:ext cx="830556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5"/>
            <p:cNvSpPr/>
            <p:nvPr/>
          </p:nvSpPr>
          <p:spPr>
            <a:xfrm flipV="1">
              <a:off x="3362400" y="1447200"/>
              <a:ext cx="2591280" cy="45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6"/>
            <p:cNvSpPr/>
            <p:nvPr/>
          </p:nvSpPr>
          <p:spPr>
            <a:xfrm rot="17971800">
              <a:off x="4600800" y="362520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Freeform 7"/>
          <p:cNvSpPr/>
          <p:nvPr/>
        </p:nvSpPr>
        <p:spPr>
          <a:xfrm>
            <a:off x="4648320" y="281160"/>
            <a:ext cx="1914480" cy="3452760"/>
          </a:xfrm>
          <a:custGeom>
            <a:avLst/>
            <a:gdLst>
              <a:gd name="textAreaLeft" fmla="*/ 0 w 1914480"/>
              <a:gd name="textAreaRight" fmla="*/ 1914840 w 1914480"/>
              <a:gd name="textAreaTop" fmla="*/ 0 h 3452760"/>
              <a:gd name="textAreaBottom" fmla="*/ 3453120 h 3452760"/>
            </a:gdLst>
            <a:ahLst/>
            <a:rect l="textAreaLeft" t="textAreaTop" r="textAreaRight" b="textAreaBottom"/>
            <a:pathLst>
              <a:path w="1206" h="2175">
                <a:moveTo>
                  <a:pt x="0" y="2175"/>
                </a:moveTo>
                <a:lnTo>
                  <a:pt x="1206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8"/>
          <p:cNvSpPr/>
          <p:nvPr/>
        </p:nvSpPr>
        <p:spPr>
          <a:xfrm>
            <a:off x="2462040" y="663480"/>
            <a:ext cx="2179800" cy="306396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3063960"/>
              <a:gd name="textAreaBottom" fmla="*/ 3064320 h 3063960"/>
            </a:gdLst>
            <a:ahLst/>
            <a:rect l="textAreaLeft" t="textAreaTop" r="textAreaRight" b="textAreaBottom"/>
            <a:pathLst>
              <a:path w="1373" h="1930">
                <a:moveTo>
                  <a:pt x="1373" y="1930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9"/>
          <p:cNvSpPr/>
          <p:nvPr/>
        </p:nvSpPr>
        <p:spPr>
          <a:xfrm>
            <a:off x="6248520" y="609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274320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2666880" y="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6477120" y="6094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2"/>
              <p:cNvSpPr txBox="1"/>
              <p:nvPr/>
            </p:nvSpPr>
            <p:spPr>
              <a:xfrm>
                <a:off x="4419720" y="4724280"/>
                <a:ext cx="441936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35" name="Group 16"/>
          <p:cNvGrpSpPr/>
          <p:nvPr/>
        </p:nvGrpSpPr>
        <p:grpSpPr>
          <a:xfrm>
            <a:off x="3508560" y="1429200"/>
            <a:ext cx="2045160" cy="1341720"/>
            <a:chOff x="3508560" y="1429200"/>
            <a:chExt cx="2045160" cy="1341720"/>
          </a:xfrm>
        </p:grpSpPr>
        <p:sp>
          <p:nvSpPr>
            <p:cNvPr id="436" name="Freeform 17"/>
            <p:cNvSpPr/>
            <p:nvPr/>
          </p:nvSpPr>
          <p:spPr>
            <a:xfrm rot="17345400">
              <a:off x="4158720" y="1167840"/>
              <a:ext cx="774720" cy="186408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1864080"/>
                <a:gd name="textAreaBottom" fmla="*/ 1864440 h 186408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Group 18"/>
            <p:cNvGrpSpPr/>
            <p:nvPr/>
          </p:nvGrpSpPr>
          <p:grpSpPr>
            <a:xfrm>
              <a:off x="3508560" y="1846440"/>
              <a:ext cx="393120" cy="381600"/>
              <a:chOff x="3508560" y="1846440"/>
              <a:chExt cx="393120" cy="381600"/>
            </a:xfrm>
          </p:grpSpPr>
          <p:sp>
            <p:nvSpPr>
              <p:cNvPr id="438" name="Freeform 19"/>
              <p:cNvSpPr/>
              <p:nvPr/>
            </p:nvSpPr>
            <p:spPr>
              <a:xfrm rot="17345400">
                <a:off x="3648600" y="1940400"/>
                <a:ext cx="147600" cy="327960"/>
              </a:xfrm>
              <a:custGeom>
                <a:avLst/>
                <a:gdLst>
                  <a:gd name="textAreaLeft" fmla="*/ 0 w 147600"/>
                  <a:gd name="textAreaRight" fmla="*/ 147600 w 147600"/>
                  <a:gd name="textAreaTop" fmla="*/ 0 h 327960"/>
                  <a:gd name="textAreaBottom" fmla="*/ 328320 h 32796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0"/>
              <p:cNvSpPr/>
              <p:nvPr/>
            </p:nvSpPr>
            <p:spPr>
              <a:xfrm rot="17345400">
                <a:off x="3470400" y="1942200"/>
                <a:ext cx="295560" cy="1303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3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-82800" y="-41400"/>
            <a:ext cx="8417520" cy="8709840"/>
            <a:chOff x="-82800" y="-41400"/>
            <a:chExt cx="8417520" cy="8709840"/>
          </a:xfrm>
        </p:grpSpPr>
        <p:sp>
          <p:nvSpPr>
            <p:cNvPr id="441" name="Oval 3"/>
            <p:cNvSpPr/>
            <p:nvPr/>
          </p:nvSpPr>
          <p:spPr>
            <a:xfrm rot="3250800">
              <a:off x="2035440" y="999720"/>
              <a:ext cx="525780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4"/>
            <p:cNvSpPr/>
            <p:nvPr/>
          </p:nvSpPr>
          <p:spPr>
            <a:xfrm rot="3250800">
              <a:off x="-662040" y="3066480"/>
              <a:ext cx="83059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5"/>
            <p:cNvSpPr/>
            <p:nvPr/>
          </p:nvSpPr>
          <p:spPr>
            <a:xfrm>
              <a:off x="3094920" y="1519560"/>
              <a:ext cx="3077280" cy="426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6"/>
            <p:cNvSpPr/>
            <p:nvPr/>
          </p:nvSpPr>
          <p:spPr>
            <a:xfrm rot="3250800">
              <a:off x="4579560" y="3605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Freeform 7"/>
          <p:cNvSpPr/>
          <p:nvPr/>
        </p:nvSpPr>
        <p:spPr>
          <a:xfrm>
            <a:off x="4648320" y="281160"/>
            <a:ext cx="1914480" cy="3452760"/>
          </a:xfrm>
          <a:custGeom>
            <a:avLst/>
            <a:gdLst>
              <a:gd name="textAreaLeft" fmla="*/ 0 w 1914480"/>
              <a:gd name="textAreaRight" fmla="*/ 1914840 w 1914480"/>
              <a:gd name="textAreaTop" fmla="*/ 0 h 3452760"/>
              <a:gd name="textAreaBottom" fmla="*/ 3453120 h 3452760"/>
            </a:gdLst>
            <a:ahLst/>
            <a:rect l="textAreaLeft" t="textAreaTop" r="textAreaRight" b="textAreaBottom"/>
            <a:pathLst>
              <a:path w="1206" h="2175">
                <a:moveTo>
                  <a:pt x="0" y="2175"/>
                </a:moveTo>
                <a:lnTo>
                  <a:pt x="1206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8"/>
          <p:cNvSpPr/>
          <p:nvPr/>
        </p:nvSpPr>
        <p:spPr>
          <a:xfrm>
            <a:off x="2462040" y="663480"/>
            <a:ext cx="2179800" cy="306396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3063960"/>
              <a:gd name="textAreaBottom" fmla="*/ 3064320 h 3063960"/>
            </a:gdLst>
            <a:ahLst/>
            <a:rect l="textAreaLeft" t="textAreaTop" r="textAreaRight" b="textAreaBottom"/>
            <a:pathLst>
              <a:path w="1373" h="1930">
                <a:moveTo>
                  <a:pt x="1373" y="1930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9"/>
          <p:cNvSpPr/>
          <p:nvPr/>
        </p:nvSpPr>
        <p:spPr>
          <a:xfrm>
            <a:off x="6248520" y="609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274320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4114800" y="35053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2666880" y="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6477120" y="6094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2"/>
              <p:cNvSpPr txBox="1"/>
              <p:nvPr/>
            </p:nvSpPr>
            <p:spPr>
              <a:xfrm>
                <a:off x="566640" y="4495680"/>
                <a:ext cx="435132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54" name="Group 16"/>
          <p:cNvGrpSpPr/>
          <p:nvPr/>
        </p:nvGrpSpPr>
        <p:grpSpPr>
          <a:xfrm>
            <a:off x="3494520" y="1438920"/>
            <a:ext cx="2041560" cy="1609560"/>
            <a:chOff x="3494520" y="1438920"/>
            <a:chExt cx="2041560" cy="1609560"/>
          </a:xfrm>
        </p:grpSpPr>
        <p:sp>
          <p:nvSpPr>
            <p:cNvPr id="455" name="Freeform 17"/>
            <p:cNvSpPr/>
            <p:nvPr/>
          </p:nvSpPr>
          <p:spPr>
            <a:xfrm flipV="1" rot="14598000">
              <a:off x="4058280" y="1337400"/>
              <a:ext cx="890280" cy="1811880"/>
            </a:xfrm>
            <a:custGeom>
              <a:avLst/>
              <a:gdLst>
                <a:gd name="textAreaLeft" fmla="*/ 0 w 890280"/>
                <a:gd name="textAreaRight" fmla="*/ 890640 w 890280"/>
                <a:gd name="textAreaTop" fmla="*/ -360 h 1811880"/>
                <a:gd name="textAreaBottom" fmla="*/ 1811880 h 181188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18"/>
            <p:cNvGrpSpPr/>
            <p:nvPr/>
          </p:nvGrpSpPr>
          <p:grpSpPr>
            <a:xfrm>
              <a:off x="5139720" y="1889280"/>
              <a:ext cx="396360" cy="443520"/>
              <a:chOff x="5139720" y="1889280"/>
              <a:chExt cx="396360" cy="443520"/>
            </a:xfrm>
          </p:grpSpPr>
          <p:sp>
            <p:nvSpPr>
              <p:cNvPr id="457" name="Freeform 19"/>
              <p:cNvSpPr/>
              <p:nvPr/>
            </p:nvSpPr>
            <p:spPr>
              <a:xfrm flipV="1" rot="14598000">
                <a:off x="5235480" y="2025720"/>
                <a:ext cx="169200" cy="31860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-360 h 318600"/>
                  <a:gd name="textAreaBottom" fmla="*/ 318600 h 31860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0"/>
              <p:cNvSpPr/>
              <p:nvPr/>
            </p:nvSpPr>
            <p:spPr>
              <a:xfrm flipV="1" rot="14598000">
                <a:off x="5233320" y="2005560"/>
                <a:ext cx="339120" cy="127080"/>
              </a:xfrm>
              <a:custGeom>
                <a:avLst/>
                <a:gdLst>
                  <a:gd name="textAreaLeft" fmla="*/ 0 w 339120"/>
                  <a:gd name="textAreaRight" fmla="*/ 339480 w 339120"/>
                  <a:gd name="textAreaTop" fmla="*/ -360 h 127080"/>
                  <a:gd name="textAreaBottom" fmla="*/ 127080 h 12708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йствия с десятичными дроб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57200" y="356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973440" y="-1204560"/>
            <a:ext cx="8368200" cy="8698680"/>
            <a:chOff x="973440" y="-1204560"/>
            <a:chExt cx="8368200" cy="8698680"/>
          </a:xfrm>
        </p:grpSpPr>
        <p:sp>
          <p:nvSpPr>
            <p:cNvPr id="460" name="Oval 3"/>
            <p:cNvSpPr/>
            <p:nvPr/>
          </p:nvSpPr>
          <p:spPr>
            <a:xfrm rot="14121600">
              <a:off x="2001600" y="1207800"/>
              <a:ext cx="525744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4"/>
            <p:cNvSpPr/>
            <p:nvPr/>
          </p:nvSpPr>
          <p:spPr>
            <a:xfrm rot="14121600">
              <a:off x="1668240" y="1603800"/>
              <a:ext cx="830556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5"/>
            <p:cNvSpPr/>
            <p:nvPr/>
          </p:nvSpPr>
          <p:spPr>
            <a:xfrm flipH="1" flipV="1">
              <a:off x="3167640" y="1652400"/>
              <a:ext cx="2988720" cy="432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6"/>
            <p:cNvSpPr/>
            <p:nvPr/>
          </p:nvSpPr>
          <p:spPr>
            <a:xfrm rot="14121600">
              <a:off x="4564080" y="370764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Freeform 7"/>
          <p:cNvSpPr/>
          <p:nvPr/>
        </p:nvSpPr>
        <p:spPr>
          <a:xfrm>
            <a:off x="2935440" y="3733920"/>
            <a:ext cx="1712880" cy="3093840"/>
          </a:xfrm>
          <a:custGeom>
            <a:avLst/>
            <a:gdLst>
              <a:gd name="textAreaLeft" fmla="*/ 0 w 1712880"/>
              <a:gd name="textAreaRight" fmla="*/ 1713240 w 1712880"/>
              <a:gd name="textAreaTop" fmla="*/ 0 h 3093840"/>
              <a:gd name="textAreaBottom" fmla="*/ 3094200 h 3093840"/>
            </a:gdLst>
            <a:ahLst/>
            <a:rect l="textAreaLeft" t="textAreaTop" r="textAreaRight" b="textAreaBottom"/>
            <a:pathLst>
              <a:path w="1079" h="1949">
                <a:moveTo>
                  <a:pt x="1079" y="0"/>
                </a:moveTo>
                <a:lnTo>
                  <a:pt x="0" y="1949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8"/>
          <p:cNvSpPr/>
          <p:nvPr/>
        </p:nvSpPr>
        <p:spPr>
          <a:xfrm>
            <a:off x="2462040" y="663480"/>
            <a:ext cx="2179800" cy="306396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3063960"/>
              <a:gd name="textAreaBottom" fmla="*/ 3064320 h 3063960"/>
            </a:gdLst>
            <a:ahLst/>
            <a:rect l="textAreaLeft" t="textAreaTop" r="textAreaRight" b="textAreaBottom"/>
            <a:pathLst>
              <a:path w="1373" h="1930">
                <a:moveTo>
                  <a:pt x="1373" y="1930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9"/>
          <p:cNvSpPr/>
          <p:nvPr/>
        </p:nvSpPr>
        <p:spPr>
          <a:xfrm>
            <a:off x="3581280" y="5410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0"/>
          <p:cNvSpPr/>
          <p:nvPr/>
        </p:nvSpPr>
        <p:spPr>
          <a:xfrm>
            <a:off x="274320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2"/>
          <p:cNvSpPr/>
          <p:nvPr/>
        </p:nvSpPr>
        <p:spPr>
          <a:xfrm>
            <a:off x="2666880" y="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3657600" y="5486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4724280" y="1752480"/>
                <a:ext cx="441972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73" name="Group 16"/>
          <p:cNvGrpSpPr/>
          <p:nvPr/>
        </p:nvGrpSpPr>
        <p:grpSpPr>
          <a:xfrm>
            <a:off x="3897360" y="4582800"/>
            <a:ext cx="1736280" cy="1154160"/>
            <a:chOff x="3897360" y="4582800"/>
            <a:chExt cx="1736280" cy="1154160"/>
          </a:xfrm>
        </p:grpSpPr>
        <p:sp>
          <p:nvSpPr>
            <p:cNvPr id="474" name="Freeform 17"/>
            <p:cNvSpPr/>
            <p:nvPr/>
          </p:nvSpPr>
          <p:spPr>
            <a:xfrm flipH="1" rot="15181800">
              <a:off x="4413600" y="4376520"/>
              <a:ext cx="728640" cy="1566000"/>
            </a:xfrm>
            <a:custGeom>
              <a:avLst/>
              <a:gdLst>
                <a:gd name="textAreaLeft" fmla="*/ 0 w 728640"/>
                <a:gd name="textAreaRight" fmla="*/ 728640 w 728640"/>
                <a:gd name="textAreaTop" fmla="*/ 0 h 1566000"/>
                <a:gd name="textAreaBottom" fmla="*/ 1566360 h 156600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18"/>
            <p:cNvGrpSpPr/>
            <p:nvPr/>
          </p:nvGrpSpPr>
          <p:grpSpPr>
            <a:xfrm>
              <a:off x="3897360" y="4997880"/>
              <a:ext cx="333720" cy="339120"/>
              <a:chOff x="3897360" y="4997880"/>
              <a:chExt cx="333720" cy="339120"/>
            </a:xfrm>
          </p:grpSpPr>
          <p:sp>
            <p:nvSpPr>
              <p:cNvPr id="476" name="Freeform 19"/>
              <p:cNvSpPr/>
              <p:nvPr/>
            </p:nvSpPr>
            <p:spPr>
              <a:xfrm flipH="1" rot="15181800">
                <a:off x="4009680" y="4966560"/>
                <a:ext cx="138600" cy="275400"/>
              </a:xfrm>
              <a:custGeom>
                <a:avLst/>
                <a:gdLst>
                  <a:gd name="textAreaLeft" fmla="*/ -360 w 138600"/>
                  <a:gd name="textAreaRight" fmla="*/ 138600 w 138600"/>
                  <a:gd name="textAreaTop" fmla="*/ 0 h 275400"/>
                  <a:gd name="textAreaBottom" fmla="*/ 275760 h 27540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0"/>
              <p:cNvSpPr/>
              <p:nvPr/>
            </p:nvSpPr>
            <p:spPr>
              <a:xfrm flipH="1" rot="15181800">
                <a:off x="3851280" y="5133240"/>
                <a:ext cx="277920" cy="109440"/>
              </a:xfrm>
              <a:custGeom>
                <a:avLst/>
                <a:gdLst>
                  <a:gd name="textAreaLeft" fmla="*/ 360 w 277920"/>
                  <a:gd name="textAreaRight" fmla="*/ 278640 w 2779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Text Box 21"/>
          <p:cNvSpPr/>
          <p:nvPr/>
        </p:nvSpPr>
        <p:spPr>
          <a:xfrm>
            <a:off x="4419720" y="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не вер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3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1041480" y="120960"/>
            <a:ext cx="8116560" cy="8616240"/>
            <a:chOff x="1041480" y="120960"/>
            <a:chExt cx="8116560" cy="8616240"/>
          </a:xfrm>
        </p:grpSpPr>
        <p:sp>
          <p:nvSpPr>
            <p:cNvPr id="480" name="Oval 3"/>
            <p:cNvSpPr/>
            <p:nvPr/>
          </p:nvSpPr>
          <p:spPr>
            <a:xfrm rot="17971800">
              <a:off x="1995480" y="1086840"/>
              <a:ext cx="525744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4"/>
            <p:cNvSpPr/>
            <p:nvPr/>
          </p:nvSpPr>
          <p:spPr>
            <a:xfrm rot="17971800">
              <a:off x="1731600" y="3019320"/>
              <a:ext cx="830556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5"/>
            <p:cNvSpPr/>
            <p:nvPr/>
          </p:nvSpPr>
          <p:spPr>
            <a:xfrm flipV="1">
              <a:off x="3362400" y="1447200"/>
              <a:ext cx="2591280" cy="45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6"/>
            <p:cNvSpPr/>
            <p:nvPr/>
          </p:nvSpPr>
          <p:spPr>
            <a:xfrm rot="17971800">
              <a:off x="4600800" y="362520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Freeform 7"/>
          <p:cNvSpPr/>
          <p:nvPr/>
        </p:nvSpPr>
        <p:spPr>
          <a:xfrm>
            <a:off x="2935440" y="3733920"/>
            <a:ext cx="1712880" cy="3093840"/>
          </a:xfrm>
          <a:custGeom>
            <a:avLst/>
            <a:gdLst>
              <a:gd name="textAreaLeft" fmla="*/ 0 w 1712880"/>
              <a:gd name="textAreaRight" fmla="*/ 1713240 w 1712880"/>
              <a:gd name="textAreaTop" fmla="*/ 0 h 3093840"/>
              <a:gd name="textAreaBottom" fmla="*/ 3094200 h 3093840"/>
            </a:gdLst>
            <a:ahLst/>
            <a:rect l="textAreaLeft" t="textAreaTop" r="textAreaRight" b="textAreaBottom"/>
            <a:pathLst>
              <a:path w="1079" h="1949">
                <a:moveTo>
                  <a:pt x="1079" y="0"/>
                </a:moveTo>
                <a:lnTo>
                  <a:pt x="0" y="1949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8"/>
          <p:cNvSpPr/>
          <p:nvPr/>
        </p:nvSpPr>
        <p:spPr>
          <a:xfrm>
            <a:off x="2462040" y="663480"/>
            <a:ext cx="2179800" cy="306396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3063960"/>
              <a:gd name="textAreaBottom" fmla="*/ 3064320 h 3063960"/>
            </a:gdLst>
            <a:ahLst/>
            <a:rect l="textAreaLeft" t="textAreaTop" r="textAreaRight" b="textAreaBottom"/>
            <a:pathLst>
              <a:path w="1373" h="1930">
                <a:moveTo>
                  <a:pt x="1373" y="1930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9"/>
          <p:cNvSpPr/>
          <p:nvPr/>
        </p:nvSpPr>
        <p:spPr>
          <a:xfrm>
            <a:off x="3581280" y="5410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10"/>
          <p:cNvSpPr/>
          <p:nvPr/>
        </p:nvSpPr>
        <p:spPr>
          <a:xfrm>
            <a:off x="274320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2666880" y="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3657600" y="5486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2"/>
              <p:cNvSpPr txBox="1"/>
              <p:nvPr/>
            </p:nvSpPr>
            <p:spPr>
              <a:xfrm>
                <a:off x="4419720" y="4724280"/>
                <a:ext cx="441936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93" name="Group 16"/>
          <p:cNvGrpSpPr/>
          <p:nvPr/>
        </p:nvGrpSpPr>
        <p:grpSpPr>
          <a:xfrm>
            <a:off x="3508560" y="1429200"/>
            <a:ext cx="2045160" cy="1341720"/>
            <a:chOff x="3508560" y="1429200"/>
            <a:chExt cx="2045160" cy="1341720"/>
          </a:xfrm>
        </p:grpSpPr>
        <p:sp>
          <p:nvSpPr>
            <p:cNvPr id="494" name="Freeform 17"/>
            <p:cNvSpPr/>
            <p:nvPr/>
          </p:nvSpPr>
          <p:spPr>
            <a:xfrm rot="17345400">
              <a:off x="4158720" y="1167840"/>
              <a:ext cx="774720" cy="186408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1864080"/>
                <a:gd name="textAreaBottom" fmla="*/ 1864440 h 186408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oup 18"/>
            <p:cNvGrpSpPr/>
            <p:nvPr/>
          </p:nvGrpSpPr>
          <p:grpSpPr>
            <a:xfrm>
              <a:off x="3508560" y="1846440"/>
              <a:ext cx="393120" cy="381600"/>
              <a:chOff x="3508560" y="1846440"/>
              <a:chExt cx="393120" cy="381600"/>
            </a:xfrm>
          </p:grpSpPr>
          <p:sp>
            <p:nvSpPr>
              <p:cNvPr id="496" name="Freeform 19"/>
              <p:cNvSpPr/>
              <p:nvPr/>
            </p:nvSpPr>
            <p:spPr>
              <a:xfrm rot="17345400">
                <a:off x="3648600" y="1940400"/>
                <a:ext cx="147600" cy="327960"/>
              </a:xfrm>
              <a:custGeom>
                <a:avLst/>
                <a:gdLst>
                  <a:gd name="textAreaLeft" fmla="*/ 0 w 147600"/>
                  <a:gd name="textAreaRight" fmla="*/ 147600 w 147600"/>
                  <a:gd name="textAreaTop" fmla="*/ 0 h 327960"/>
                  <a:gd name="textAreaBottom" fmla="*/ 328320 h 32796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0"/>
              <p:cNvSpPr/>
              <p:nvPr/>
            </p:nvSpPr>
            <p:spPr>
              <a:xfrm rot="17345400">
                <a:off x="3470400" y="1942200"/>
                <a:ext cx="295560" cy="1303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8" name="Text Box 21"/>
          <p:cNvSpPr/>
          <p:nvPr/>
        </p:nvSpPr>
        <p:spPr>
          <a:xfrm>
            <a:off x="4419720" y="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не вер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3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2"/>
          <p:cNvGrpSpPr/>
          <p:nvPr/>
        </p:nvGrpSpPr>
        <p:grpSpPr>
          <a:xfrm>
            <a:off x="1981080" y="-381240"/>
            <a:ext cx="5486400" cy="8305560"/>
            <a:chOff x="1981080" y="-381240"/>
            <a:chExt cx="5486400" cy="8305560"/>
          </a:xfrm>
        </p:grpSpPr>
        <p:sp>
          <p:nvSpPr>
            <p:cNvPr id="500" name="Oval 3"/>
            <p:cNvSpPr/>
            <p:nvPr/>
          </p:nvSpPr>
          <p:spPr>
            <a:xfrm rot="16200000">
              <a:off x="1981080" y="1143000"/>
              <a:ext cx="525744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4"/>
            <p:cNvSpPr/>
            <p:nvPr/>
          </p:nvSpPr>
          <p:spPr>
            <a:xfrm rot="16200000">
              <a:off x="1905120" y="2361960"/>
              <a:ext cx="830556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5"/>
            <p:cNvSpPr/>
            <p:nvPr/>
          </p:nvSpPr>
          <p:spPr>
            <a:xfrm flipV="1">
              <a:off x="4648320" y="1143360"/>
              <a:ext cx="0" cy="52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6"/>
            <p:cNvSpPr/>
            <p:nvPr/>
          </p:nvSpPr>
          <p:spPr>
            <a:xfrm rot="16200000">
              <a:off x="4572000" y="365760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Freeform 7"/>
          <p:cNvSpPr/>
          <p:nvPr/>
        </p:nvSpPr>
        <p:spPr>
          <a:xfrm>
            <a:off x="2935440" y="3733920"/>
            <a:ext cx="1712880" cy="3093840"/>
          </a:xfrm>
          <a:custGeom>
            <a:avLst/>
            <a:gdLst>
              <a:gd name="textAreaLeft" fmla="*/ 0 w 1712880"/>
              <a:gd name="textAreaRight" fmla="*/ 1713240 w 1712880"/>
              <a:gd name="textAreaTop" fmla="*/ 0 h 3093840"/>
              <a:gd name="textAreaBottom" fmla="*/ 3094200 h 3093840"/>
            </a:gdLst>
            <a:ahLst/>
            <a:rect l="textAreaLeft" t="textAreaTop" r="textAreaRight" b="textAreaBottom"/>
            <a:pathLst>
              <a:path w="1079" h="1949">
                <a:moveTo>
                  <a:pt x="1079" y="0"/>
                </a:moveTo>
                <a:lnTo>
                  <a:pt x="0" y="1949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8"/>
          <p:cNvSpPr/>
          <p:nvPr/>
        </p:nvSpPr>
        <p:spPr>
          <a:xfrm>
            <a:off x="2462040" y="663480"/>
            <a:ext cx="2179800" cy="306396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3063960"/>
              <a:gd name="textAreaBottom" fmla="*/ 3064320 h 3063960"/>
            </a:gdLst>
            <a:ahLst/>
            <a:rect l="textAreaLeft" t="textAreaTop" r="textAreaRight" b="textAreaBottom"/>
            <a:pathLst>
              <a:path w="1373" h="1930">
                <a:moveTo>
                  <a:pt x="1373" y="1930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9"/>
          <p:cNvSpPr/>
          <p:nvPr/>
        </p:nvSpPr>
        <p:spPr>
          <a:xfrm>
            <a:off x="3581280" y="5410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0"/>
          <p:cNvSpPr/>
          <p:nvPr/>
        </p:nvSpPr>
        <p:spPr>
          <a:xfrm>
            <a:off x="274320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2"/>
          <p:cNvSpPr/>
          <p:nvPr/>
        </p:nvSpPr>
        <p:spPr>
          <a:xfrm>
            <a:off x="2666880" y="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3"/>
          <p:cNvSpPr/>
          <p:nvPr/>
        </p:nvSpPr>
        <p:spPr>
          <a:xfrm>
            <a:off x="3657600" y="5486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2"/>
              <p:cNvSpPr txBox="1"/>
              <p:nvPr/>
            </p:nvSpPr>
            <p:spPr>
              <a:xfrm>
                <a:off x="4724280" y="1752480"/>
                <a:ext cx="441972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13" name="Group 16"/>
          <p:cNvGrpSpPr/>
          <p:nvPr/>
        </p:nvGrpSpPr>
        <p:grpSpPr>
          <a:xfrm>
            <a:off x="3894840" y="4870800"/>
            <a:ext cx="733320" cy="684360"/>
            <a:chOff x="3894840" y="4870800"/>
            <a:chExt cx="733320" cy="684360"/>
          </a:xfrm>
        </p:grpSpPr>
        <p:sp>
          <p:nvSpPr>
            <p:cNvPr id="514" name="Freeform 17"/>
            <p:cNvSpPr/>
            <p:nvPr/>
          </p:nvSpPr>
          <p:spPr>
            <a:xfrm flipH="1" rot="15181800">
              <a:off x="3997800" y="4914720"/>
              <a:ext cx="533520" cy="596160"/>
            </a:xfrm>
            <a:custGeom>
              <a:avLst/>
              <a:gdLst>
                <a:gd name="textAreaLeft" fmla="*/ 360 w 533520"/>
                <a:gd name="textAreaRight" fmla="*/ 534240 w 533520"/>
                <a:gd name="textAreaTop" fmla="*/ 0 h 596160"/>
                <a:gd name="textAreaBottom" fmla="*/ 596520 h 59616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18"/>
            <p:cNvGrpSpPr/>
            <p:nvPr/>
          </p:nvGrpSpPr>
          <p:grpSpPr>
            <a:xfrm>
              <a:off x="3894840" y="5041080"/>
              <a:ext cx="142920" cy="217440"/>
              <a:chOff x="3894840" y="5041080"/>
              <a:chExt cx="142920" cy="217440"/>
            </a:xfrm>
          </p:grpSpPr>
          <p:sp>
            <p:nvSpPr>
              <p:cNvPr id="516" name="Freeform 19"/>
              <p:cNvSpPr/>
              <p:nvPr/>
            </p:nvSpPr>
            <p:spPr>
              <a:xfrm flipH="1" rot="15181800">
                <a:off x="3921480" y="5051880"/>
                <a:ext cx="101520" cy="105480"/>
              </a:xfrm>
              <a:custGeom>
                <a:avLst/>
                <a:gdLst>
                  <a:gd name="textAreaLeft" fmla="*/ 360 w 101520"/>
                  <a:gd name="textAreaRight" fmla="*/ 102240 w 1015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20"/>
              <p:cNvSpPr/>
              <p:nvPr/>
            </p:nvSpPr>
            <p:spPr>
              <a:xfrm flipH="1" rot="15181800">
                <a:off x="3842640" y="5134320"/>
                <a:ext cx="203400" cy="41760"/>
              </a:xfrm>
              <a:custGeom>
                <a:avLst/>
                <a:gdLst>
                  <a:gd name="textAreaLeft" fmla="*/ -360 w 203400"/>
                  <a:gd name="textAreaRight" fmla="*/ 203400 w 2034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Text Box 21"/>
          <p:cNvSpPr/>
          <p:nvPr/>
        </p:nvSpPr>
        <p:spPr>
          <a:xfrm>
            <a:off x="4419720" y="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не вер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3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28760" y="200016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Совмести вершину угла и центр полуокруж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овмести сторону угла с нулевой отметкой на транспорти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ачинай отсчёт  с нулевой отметки, лежащей на стороне угл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2"/>
          <p:cNvSpPr/>
          <p:nvPr/>
        </p:nvSpPr>
        <p:spPr>
          <a:xfrm>
            <a:off x="500040" y="357120"/>
            <a:ext cx="821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авило измерения уг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МЕРЬТЕ УГЛЫ И ЗАПИШИТЕ РЕЗУЛЬТАТЫ ИЗМЕР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928800" y="1000080"/>
            <a:ext cx="7362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.з.№1651, 1681(1)-задача на повторение. Узнать о другой единице измерения уг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СПАСИБО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ЗА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ВНИМАНИ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й знак можно поставить в следующих примера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85800" y="990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990720" y="1371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 rot="2344800">
            <a:off x="380160" y="114264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533520" y="1981080"/>
            <a:ext cx="121896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838080" y="19051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838080" y="22860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57200" y="20574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533520" y="2819520"/>
            <a:ext cx="121896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838080" y="2743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220968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0968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2133720" y="2895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1066680" y="990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1371600" y="1371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457200" y="2743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</a:t>
            </a: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7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4038480" y="1066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4038480" y="1447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3657600" y="12193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4114800" y="2057400"/>
            <a:ext cx="990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4724280" y="1447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4038480" y="20574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4303800" y="144792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4303800" y="10666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"/>
          <p:cNvSpPr/>
          <p:nvPr/>
        </p:nvSpPr>
        <p:spPr>
          <a:xfrm>
            <a:off x="4307040" y="205740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1"/>
          <p:cNvSpPr/>
          <p:nvPr/>
        </p:nvSpPr>
        <p:spPr>
          <a:xfrm>
            <a:off x="6934320" y="1447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6934320" y="1066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6553080" y="12193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4"/>
          <p:cNvSpPr/>
          <p:nvPr/>
        </p:nvSpPr>
        <p:spPr>
          <a:xfrm>
            <a:off x="7010280" y="2057400"/>
            <a:ext cx="990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7543800" y="1066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6"/>
          <p:cNvSpPr/>
          <p:nvPr/>
        </p:nvSpPr>
        <p:spPr>
          <a:xfrm>
            <a:off x="693432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7"/>
          <p:cNvSpPr/>
          <p:nvPr/>
        </p:nvSpPr>
        <p:spPr>
          <a:xfrm>
            <a:off x="7199280" y="14479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8"/>
          <p:cNvSpPr/>
          <p:nvPr/>
        </p:nvSpPr>
        <p:spPr>
          <a:xfrm>
            <a:off x="7199280" y="10666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9"/>
          <p:cNvSpPr/>
          <p:nvPr/>
        </p:nvSpPr>
        <p:spPr>
          <a:xfrm>
            <a:off x="7202520" y="20574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0"/>
          <p:cNvSpPr/>
          <p:nvPr/>
        </p:nvSpPr>
        <p:spPr>
          <a:xfrm>
            <a:off x="220968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1"/>
          <p:cNvSpPr/>
          <p:nvPr/>
        </p:nvSpPr>
        <p:spPr>
          <a:xfrm>
            <a:off x="2209680" y="3886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2"/>
          <p:cNvSpPr/>
          <p:nvPr/>
        </p:nvSpPr>
        <p:spPr>
          <a:xfrm>
            <a:off x="1828800" y="40384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3"/>
          <p:cNvSpPr/>
          <p:nvPr/>
        </p:nvSpPr>
        <p:spPr>
          <a:xfrm>
            <a:off x="2286000" y="4876920"/>
            <a:ext cx="990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4"/>
          <p:cNvSpPr/>
          <p:nvPr/>
        </p:nvSpPr>
        <p:spPr>
          <a:xfrm>
            <a:off x="2819520" y="3886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5"/>
          <p:cNvSpPr/>
          <p:nvPr/>
        </p:nvSpPr>
        <p:spPr>
          <a:xfrm>
            <a:off x="22096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6"/>
          <p:cNvSpPr/>
          <p:nvPr/>
        </p:nvSpPr>
        <p:spPr>
          <a:xfrm>
            <a:off x="2475000" y="42670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7"/>
          <p:cNvSpPr/>
          <p:nvPr/>
        </p:nvSpPr>
        <p:spPr>
          <a:xfrm>
            <a:off x="2475000" y="388620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8"/>
          <p:cNvSpPr/>
          <p:nvPr/>
        </p:nvSpPr>
        <p:spPr>
          <a:xfrm>
            <a:off x="2478240" y="487692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9"/>
          <p:cNvSpPr/>
          <p:nvPr/>
        </p:nvSpPr>
        <p:spPr>
          <a:xfrm>
            <a:off x="1752480" y="464832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2743200" y="38862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1"/>
          <p:cNvSpPr/>
          <p:nvPr/>
        </p:nvSpPr>
        <p:spPr>
          <a:xfrm>
            <a:off x="533412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2"/>
          <p:cNvSpPr/>
          <p:nvPr/>
        </p:nvSpPr>
        <p:spPr>
          <a:xfrm>
            <a:off x="5638680" y="32004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3"/>
          <p:cNvSpPr/>
          <p:nvPr/>
        </p:nvSpPr>
        <p:spPr>
          <a:xfrm rot="2344800">
            <a:off x="5028480" y="342864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4"/>
          <p:cNvSpPr/>
          <p:nvPr/>
        </p:nvSpPr>
        <p:spPr>
          <a:xfrm>
            <a:off x="5181480" y="4267080"/>
            <a:ext cx="12193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5"/>
          <p:cNvSpPr/>
          <p:nvPr/>
        </p:nvSpPr>
        <p:spPr>
          <a:xfrm>
            <a:off x="5715000" y="4191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6"/>
          <p:cNvSpPr/>
          <p:nvPr/>
        </p:nvSpPr>
        <p:spPr>
          <a:xfrm>
            <a:off x="5486400" y="4572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7"/>
          <p:cNvSpPr/>
          <p:nvPr/>
        </p:nvSpPr>
        <p:spPr>
          <a:xfrm>
            <a:off x="5105520" y="43434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8"/>
          <p:cNvSpPr/>
          <p:nvPr/>
        </p:nvSpPr>
        <p:spPr>
          <a:xfrm>
            <a:off x="5181480" y="5105520"/>
            <a:ext cx="12193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9"/>
          <p:cNvSpPr/>
          <p:nvPr/>
        </p:nvSpPr>
        <p:spPr>
          <a:xfrm>
            <a:off x="5486400" y="50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0"/>
          <p:cNvSpPr/>
          <p:nvPr/>
        </p:nvSpPr>
        <p:spPr>
          <a:xfrm>
            <a:off x="6781680" y="3276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1"/>
          <p:cNvSpPr/>
          <p:nvPr/>
        </p:nvSpPr>
        <p:spPr>
          <a:xfrm>
            <a:off x="5715000" y="36576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6019920" y="3200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3"/>
          <p:cNvSpPr/>
          <p:nvPr/>
        </p:nvSpPr>
        <p:spPr>
          <a:xfrm>
            <a:off x="5105520" y="5029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</a:t>
            </a: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7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4"/>
          <p:cNvSpPr/>
          <p:nvPr/>
        </p:nvSpPr>
        <p:spPr>
          <a:xfrm>
            <a:off x="6858000" y="5181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5"/>
          <p:cNvSpPr/>
          <p:nvPr/>
        </p:nvSpPr>
        <p:spPr>
          <a:xfrm>
            <a:off x="678168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30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знак можно поставить в следующих примера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219320" y="1828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219320" y="1447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838080" y="16002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1295280" y="2438280"/>
            <a:ext cx="990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219320" y="2438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1484280" y="18288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1484280" y="14479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148752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5791320" y="1828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5791320" y="13716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 rot="2344800">
            <a:off x="5485680" y="159984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5"/>
          <p:cNvSpPr/>
          <p:nvPr/>
        </p:nvSpPr>
        <p:spPr>
          <a:xfrm>
            <a:off x="5638680" y="2438280"/>
            <a:ext cx="12193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5943600" y="2362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7"/>
          <p:cNvSpPr/>
          <p:nvPr/>
        </p:nvSpPr>
        <p:spPr>
          <a:xfrm>
            <a:off x="5410080" y="2743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525780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9"/>
          <p:cNvSpPr/>
          <p:nvPr/>
        </p:nvSpPr>
        <p:spPr>
          <a:xfrm>
            <a:off x="5638680" y="3276720"/>
            <a:ext cx="12193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0"/>
          <p:cNvSpPr/>
          <p:nvPr/>
        </p:nvSpPr>
        <p:spPr>
          <a:xfrm>
            <a:off x="5410080" y="3352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9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723888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2"/>
          <p:cNvSpPr/>
          <p:nvPr/>
        </p:nvSpPr>
        <p:spPr>
          <a:xfrm>
            <a:off x="6172200" y="18288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3"/>
          <p:cNvSpPr/>
          <p:nvPr/>
        </p:nvSpPr>
        <p:spPr>
          <a:xfrm>
            <a:off x="6172200" y="1371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4"/>
          <p:cNvSpPr/>
          <p:nvPr/>
        </p:nvSpPr>
        <p:spPr>
          <a:xfrm>
            <a:off x="5334120" y="3352680"/>
            <a:ext cx="1904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,</a:t>
            </a: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59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5"/>
          <p:cNvSpPr/>
          <p:nvPr/>
        </p:nvSpPr>
        <p:spPr>
          <a:xfrm>
            <a:off x="7315200" y="3352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6"/>
          <p:cNvSpPr/>
          <p:nvPr/>
        </p:nvSpPr>
        <p:spPr>
          <a:xfrm>
            <a:off x="7238880" y="205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7"/>
          <p:cNvSpPr/>
          <p:nvPr/>
        </p:nvSpPr>
        <p:spPr>
          <a:xfrm>
            <a:off x="3276720" y="1905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8"/>
          <p:cNvSpPr/>
          <p:nvPr/>
        </p:nvSpPr>
        <p:spPr>
          <a:xfrm>
            <a:off x="3276720" y="1523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9"/>
          <p:cNvSpPr/>
          <p:nvPr/>
        </p:nvSpPr>
        <p:spPr>
          <a:xfrm>
            <a:off x="2895480" y="16765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0"/>
          <p:cNvSpPr/>
          <p:nvPr/>
        </p:nvSpPr>
        <p:spPr>
          <a:xfrm>
            <a:off x="3352680" y="2514600"/>
            <a:ext cx="990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2"/>
          <p:cNvSpPr/>
          <p:nvPr/>
        </p:nvSpPr>
        <p:spPr>
          <a:xfrm>
            <a:off x="3276720" y="2514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3"/>
          <p:cNvSpPr/>
          <p:nvPr/>
        </p:nvSpPr>
        <p:spPr>
          <a:xfrm>
            <a:off x="3541680" y="19051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4"/>
          <p:cNvSpPr/>
          <p:nvPr/>
        </p:nvSpPr>
        <p:spPr>
          <a:xfrm>
            <a:off x="3541680" y="15238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5"/>
          <p:cNvSpPr/>
          <p:nvPr/>
        </p:nvSpPr>
        <p:spPr>
          <a:xfrm>
            <a:off x="3544920" y="25146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6"/>
          <p:cNvSpPr/>
          <p:nvPr/>
        </p:nvSpPr>
        <p:spPr>
          <a:xfrm>
            <a:off x="2819520" y="2286000"/>
            <a:ext cx="99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7"/>
          <p:cNvSpPr/>
          <p:nvPr/>
        </p:nvSpPr>
        <p:spPr>
          <a:xfrm>
            <a:off x="3429000" y="1523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8"/>
          <p:cNvSpPr/>
          <p:nvPr/>
        </p:nvSpPr>
        <p:spPr>
          <a:xfrm>
            <a:off x="3962520" y="2514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30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8760" y="1285920"/>
          <a:ext cx="8229600" cy="5214960"/>
        </p:xfrm>
        <a:graphic>
          <a:graphicData uri="http://schemas.openxmlformats.org/drawingml/2006/table">
            <a:tbl>
              <a:tblPr/>
              <a:tblGrid>
                <a:gridCol w="2403360"/>
                <a:gridCol w="2976480"/>
                <a:gridCol w="2849760"/>
              </a:tblGrid>
              <a:tr h="3343320">
                <a:tc>
                  <a:txBody>
                    <a:bodyPr lIns="59760" rIns="59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1640">
                <a:tc>
                  <a:txBody>
                    <a:bodyPr lIns="59760" rIns="59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∟</a:t>
                      </a:r>
                      <a:r>
                        <a:rPr b="0" lang="ru-RU" sz="3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ВС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ршина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∟</a:t>
                      </a: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EN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ршина 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∟</a:t>
                      </a: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PM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ршина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3" name="Группа 7"/>
          <p:cNvGrpSpPr/>
          <p:nvPr/>
        </p:nvGrpSpPr>
        <p:grpSpPr>
          <a:xfrm>
            <a:off x="642960" y="1643040"/>
            <a:ext cx="7601040" cy="2533680"/>
            <a:chOff x="642960" y="1643040"/>
            <a:chExt cx="7601040" cy="2533680"/>
          </a:xfrm>
        </p:grpSpPr>
        <p:graphicFrame>
          <p:nvGraphicFramePr>
            <p:cNvPr id="184" name="Object 3"/>
            <p:cNvGraphicFramePr/>
            <p:nvPr/>
          </p:nvGraphicFramePr>
          <p:xfrm>
            <a:off x="642960" y="1643040"/>
            <a:ext cx="2190600" cy="2409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2960" y="1643040"/>
                      <a:ext cx="2190600" cy="24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Object 2"/>
            <p:cNvGraphicFramePr/>
            <p:nvPr/>
          </p:nvGraphicFramePr>
          <p:xfrm>
            <a:off x="3071880" y="1785600"/>
            <a:ext cx="2085840" cy="225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7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71880" y="1785600"/>
                      <a:ext cx="2085840" cy="225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Object 1"/>
            <p:cNvGraphicFramePr/>
            <p:nvPr/>
          </p:nvGraphicFramePr>
          <p:xfrm>
            <a:off x="6215400" y="1928520"/>
            <a:ext cx="2028600" cy="2248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9" name="Object 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5400" y="1928520"/>
                      <a:ext cx="2028600" cy="224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0" name="Прямая соединительная линия 9"/>
          <p:cNvSpPr/>
          <p:nvPr/>
        </p:nvSpPr>
        <p:spPr>
          <a:xfrm flipH="1">
            <a:off x="714240" y="2142360"/>
            <a:ext cx="1643040" cy="85716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11"/>
          <p:cNvSpPr/>
          <p:nvPr/>
        </p:nvSpPr>
        <p:spPr>
          <a:xfrm flipH="1">
            <a:off x="2071440" y="2143080"/>
            <a:ext cx="285480" cy="242892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12"/>
          <p:cNvSpPr/>
          <p:nvPr/>
        </p:nvSpPr>
        <p:spPr>
          <a:xfrm flipH="1">
            <a:off x="4571640" y="1357200"/>
            <a:ext cx="214200" cy="235764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13"/>
          <p:cNvSpPr/>
          <p:nvPr/>
        </p:nvSpPr>
        <p:spPr>
          <a:xfrm flipH="1" flipV="1">
            <a:off x="3071520" y="2571480"/>
            <a:ext cx="1500120" cy="114300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14"/>
          <p:cNvSpPr/>
          <p:nvPr/>
        </p:nvSpPr>
        <p:spPr>
          <a:xfrm flipH="1" flipV="1">
            <a:off x="6571800" y="2999880"/>
            <a:ext cx="2000520" cy="142884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15"/>
          <p:cNvSpPr/>
          <p:nvPr/>
        </p:nvSpPr>
        <p:spPr>
          <a:xfrm flipH="1">
            <a:off x="6571800" y="1928880"/>
            <a:ext cx="2000520" cy="107136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914400" y="4572000"/>
            <a:ext cx="685800" cy="6094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"/>
          <p:cNvSpPr/>
          <p:nvPr/>
        </p:nvSpPr>
        <p:spPr>
          <a:xfrm flipH="1">
            <a:off x="762120" y="487692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 flipH="1">
            <a:off x="762120" y="4876920"/>
            <a:ext cx="807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304920" y="4894200"/>
            <a:ext cx="8839080" cy="19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6"/>
          <p:cNvSpPr/>
          <p:nvPr/>
        </p:nvSpPr>
        <p:spPr>
          <a:xfrm>
            <a:off x="4724280" y="4800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4876920" y="4861080"/>
            <a:ext cx="4114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4800600" y="48769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571680" y="5000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ХОД СОЛ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23 C 0.00052 -0.00926 0.00156 -0.03378 0.00365 -0.05529 C 0.00573 -0.07703 0.00816 -0.10595 0.01302 -0.1307 C 0.01788 -0.15545 0.02656 -0.18344 0.03316 -0.20426 C 0.03976 -0.22508 0.04444 -0.23664 0.05313 -0.25607 C 0.06181 -0.27551 0.07222 -0.29794 0.0849 -0.32038 C 0.09757 -0.34282 0.11146 -0.36803 0.12951 -0.39093 C 0.14757 -0.41384 0.17031 -0.43997 0.19306 -0.45825 C 0.2158 -0.47652 0.23229 -0.48786 0.26597 -0.50058 C 0.29965 -0.5133 0.35417 -0.5332 0.39549 -0.53505 C 0.43681 -0.5369 0.48229 -0.52209 0.51424 -0.51145 C 0.54618 -0.50081 0.57309 -0.47884 0.58715 -0.47074 C 0.60122 -0.46264 0.59479 -0.46588 0.59896 -0.46288 C 0.60313 -0.45987 0.59948 -0.46496 0.61198 -0.452 C 0.62448 -0.43905 0.65625 -0.4069 0.67431 -0.38446 C 0.69236 -0.36202 0.70747 -0.34028 0.72014 -0.31714 C 0.73281 -0.29401 0.73924 -0.27967 0.75069 -0.2452 C 0.76215 -0.21074 0.78073 -0.15105 0.78837 -0.11034 C 0.79601 -0.06963 0.79497 -0.02337 0.7967 -0.00047 E">
                                      <p:cBhvr>
                                        <p:cTn id="385" dur="5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87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2"/>
          <p:cNvSpPr/>
          <p:nvPr/>
        </p:nvSpPr>
        <p:spPr>
          <a:xfrm>
            <a:off x="914400" y="4876920"/>
            <a:ext cx="685800" cy="6094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 flipH="1">
            <a:off x="762120" y="487692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 flipH="1">
            <a:off x="762120" y="4876920"/>
            <a:ext cx="807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04920" y="4894200"/>
            <a:ext cx="8839080" cy="19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6"/>
          <p:cNvSpPr/>
          <p:nvPr/>
        </p:nvSpPr>
        <p:spPr>
          <a:xfrm>
            <a:off x="4724280" y="4800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4876920" y="4800600"/>
            <a:ext cx="39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334120" y="762120"/>
            <a:ext cx="35812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т угол является единицей измерения углов и равен одному градусу. Записываю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22831E-006 C 0.00104 -0.01156 0.00486 -0.05552 0.00608 -0.07009 E">
                                      <p:cBhvr>
                                        <p:cTn id="402" dur="5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">
                                      <p:cBhvr>
                                        <p:cTn id="404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214280" y="1714680"/>
            <a:ext cx="6324840" cy="41716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726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такое транспортир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9"/>
          <p:cNvSpPr/>
          <p:nvPr/>
        </p:nvSpPr>
        <p:spPr>
          <a:xfrm>
            <a:off x="1214280" y="4857840"/>
            <a:ext cx="5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6429240" y="4786200"/>
            <a:ext cx="50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2d05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олилиния 21"/>
          <p:cNvSpPr/>
          <p:nvPr/>
        </p:nvSpPr>
        <p:spPr>
          <a:xfrm>
            <a:off x="1285920" y="1785960"/>
            <a:ext cx="6226200" cy="3138480"/>
          </a:xfrm>
          <a:custGeom>
            <a:avLst/>
            <a:gdLst/>
            <a:ahLst/>
            <a:rect l="l" t="t" r="r" b="b"/>
            <a:pathLst>
              <a:path w="6226628" h="3138195">
                <a:moveTo>
                  <a:pt x="0" y="3125755"/>
                </a:moveTo>
                <a:cubicBezTo>
                  <a:pt x="23326" y="2817067"/>
                  <a:pt x="46653" y="2508380"/>
                  <a:pt x="121298" y="2239347"/>
                </a:cubicBezTo>
                <a:cubicBezTo>
                  <a:pt x="195943" y="1970314"/>
                  <a:pt x="307910" y="1737049"/>
                  <a:pt x="447869" y="1511559"/>
                </a:cubicBezTo>
                <a:cubicBezTo>
                  <a:pt x="587828" y="1286069"/>
                  <a:pt x="738673" y="1083906"/>
                  <a:pt x="961053" y="886408"/>
                </a:cubicBezTo>
                <a:cubicBezTo>
                  <a:pt x="1183433" y="688910"/>
                  <a:pt x="1500674" y="466530"/>
                  <a:pt x="1782147" y="326571"/>
                </a:cubicBezTo>
                <a:cubicBezTo>
                  <a:pt x="2063621" y="186612"/>
                  <a:pt x="2352870" y="93306"/>
                  <a:pt x="2649894" y="46653"/>
                </a:cubicBezTo>
                <a:cubicBezTo>
                  <a:pt x="2946918" y="0"/>
                  <a:pt x="3290596" y="13996"/>
                  <a:pt x="3564294" y="46653"/>
                </a:cubicBezTo>
                <a:cubicBezTo>
                  <a:pt x="3837992" y="79310"/>
                  <a:pt x="4074368" y="158621"/>
                  <a:pt x="4292082" y="242596"/>
                </a:cubicBezTo>
                <a:cubicBezTo>
                  <a:pt x="4509796" y="326572"/>
                  <a:pt x="4674636" y="407437"/>
                  <a:pt x="4870579" y="550506"/>
                </a:cubicBezTo>
                <a:cubicBezTo>
                  <a:pt x="5066522" y="693575"/>
                  <a:pt x="5307563" y="928396"/>
                  <a:pt x="5467739" y="1101012"/>
                </a:cubicBezTo>
                <a:cubicBezTo>
                  <a:pt x="5627915" y="1273628"/>
                  <a:pt x="5724331" y="1394927"/>
                  <a:pt x="5831633" y="1586204"/>
                </a:cubicBezTo>
                <a:cubicBezTo>
                  <a:pt x="5938935" y="1777481"/>
                  <a:pt x="6049347" y="2044959"/>
                  <a:pt x="6111551" y="2248677"/>
                </a:cubicBezTo>
                <a:cubicBezTo>
                  <a:pt x="6173755" y="2452395"/>
                  <a:pt x="6186196" y="2668555"/>
                  <a:pt x="6204857" y="2808514"/>
                </a:cubicBezTo>
                <a:cubicBezTo>
                  <a:pt x="6223518" y="2948473"/>
                  <a:pt x="6220408" y="3038669"/>
                  <a:pt x="6223518" y="3088432"/>
                </a:cubicBezTo>
                <a:cubicBezTo>
                  <a:pt x="6226628" y="3138195"/>
                  <a:pt x="6225073" y="3122644"/>
                  <a:pt x="6223518" y="310709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олилиния 22"/>
          <p:cNvSpPr/>
          <p:nvPr/>
        </p:nvSpPr>
        <p:spPr>
          <a:xfrm>
            <a:off x="2197080" y="2719440"/>
            <a:ext cx="4361040" cy="2151000"/>
          </a:xfrm>
          <a:custGeom>
            <a:avLst/>
            <a:gdLst/>
            <a:ahLst/>
            <a:rect l="l" t="t" r="r" b="b"/>
            <a:pathLst>
              <a:path w="4360506" h="2150706">
                <a:moveTo>
                  <a:pt x="4348065" y="2150706"/>
                </a:moveTo>
                <a:cubicBezTo>
                  <a:pt x="4354285" y="2040293"/>
                  <a:pt x="4360506" y="1929881"/>
                  <a:pt x="4338735" y="1805473"/>
                </a:cubicBezTo>
                <a:cubicBezTo>
                  <a:pt x="4316964" y="1681065"/>
                  <a:pt x="4264090" y="1527110"/>
                  <a:pt x="4217437" y="1404257"/>
                </a:cubicBezTo>
                <a:cubicBezTo>
                  <a:pt x="4170784" y="1281404"/>
                  <a:pt x="4121020" y="1175657"/>
                  <a:pt x="4058816" y="1068355"/>
                </a:cubicBezTo>
                <a:cubicBezTo>
                  <a:pt x="3996612" y="961053"/>
                  <a:pt x="3931298" y="859971"/>
                  <a:pt x="3844212" y="760444"/>
                </a:cubicBezTo>
                <a:cubicBezTo>
                  <a:pt x="3757126" y="660917"/>
                  <a:pt x="3651379" y="559836"/>
                  <a:pt x="3536302" y="471195"/>
                </a:cubicBezTo>
                <a:cubicBezTo>
                  <a:pt x="3421225" y="382554"/>
                  <a:pt x="3285931" y="295469"/>
                  <a:pt x="3153747" y="228600"/>
                </a:cubicBezTo>
                <a:cubicBezTo>
                  <a:pt x="3021563" y="161731"/>
                  <a:pt x="2890935" y="107302"/>
                  <a:pt x="2743200" y="69979"/>
                </a:cubicBezTo>
                <a:cubicBezTo>
                  <a:pt x="2595465" y="32656"/>
                  <a:pt x="2427514" y="9330"/>
                  <a:pt x="2267339" y="4665"/>
                </a:cubicBezTo>
                <a:cubicBezTo>
                  <a:pt x="2107164" y="0"/>
                  <a:pt x="1939212" y="13995"/>
                  <a:pt x="1782147" y="41987"/>
                </a:cubicBezTo>
                <a:cubicBezTo>
                  <a:pt x="1625082" y="69979"/>
                  <a:pt x="1454020" y="121298"/>
                  <a:pt x="1324947" y="172616"/>
                </a:cubicBezTo>
                <a:cubicBezTo>
                  <a:pt x="1195874" y="223934"/>
                  <a:pt x="1116563" y="276808"/>
                  <a:pt x="1007706" y="349898"/>
                </a:cubicBezTo>
                <a:cubicBezTo>
                  <a:pt x="898849" y="422988"/>
                  <a:pt x="766665" y="522514"/>
                  <a:pt x="671804" y="611155"/>
                </a:cubicBezTo>
                <a:cubicBezTo>
                  <a:pt x="576943" y="699796"/>
                  <a:pt x="508519" y="788436"/>
                  <a:pt x="438539" y="881742"/>
                </a:cubicBezTo>
                <a:cubicBezTo>
                  <a:pt x="368560" y="975048"/>
                  <a:pt x="306356" y="1063689"/>
                  <a:pt x="251927" y="1170991"/>
                </a:cubicBezTo>
                <a:cubicBezTo>
                  <a:pt x="197498" y="1278293"/>
                  <a:pt x="149290" y="1413588"/>
                  <a:pt x="111967" y="1525555"/>
                </a:cubicBezTo>
                <a:cubicBezTo>
                  <a:pt x="74645" y="1637522"/>
                  <a:pt x="46653" y="1740158"/>
                  <a:pt x="27992" y="1842795"/>
                </a:cubicBezTo>
                <a:cubicBezTo>
                  <a:pt x="9331" y="1945432"/>
                  <a:pt x="0" y="2141375"/>
                  <a:pt x="0" y="2141375"/>
                </a:cubicBezTo>
                <a:lnTo>
                  <a:pt x="0" y="2141375"/>
                </a:lnTo>
              </a:path>
            </a:pathLst>
          </a:custGeom>
          <a:noFill/>
          <a:ln w="633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Прямая со стрелкой 14"/>
          <p:cNvCxnSpPr/>
          <p:nvPr/>
        </p:nvCxnSpPr>
        <p:spPr>
          <a:xfrm flipH="1" flipV="1">
            <a:off x="4428720" y="4928760"/>
            <a:ext cx="286560" cy="1215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headEnd len="lg" type="stealth" w="lg"/>
            <a:tailEnd len="lg" type="stealth" w="lg"/>
          </a:ln>
        </p:spPr>
      </p:cxnSp>
      <p:sp>
        <p:nvSpPr>
          <p:cNvPr id="218" name="TextBox 16"/>
          <p:cNvSpPr/>
          <p:nvPr/>
        </p:nvSpPr>
        <p:spPr>
          <a:xfrm>
            <a:off x="4071960" y="60721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 полу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Прямая со стрелкой 17"/>
          <p:cNvCxnSpPr/>
          <p:nvPr/>
        </p:nvCxnSpPr>
        <p:spPr>
          <a:xfrm flipV="1">
            <a:off x="857160" y="4928400"/>
            <a:ext cx="357840" cy="10724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220" name="Прямая со стрелкой 23"/>
          <p:cNvCxnSpPr/>
          <p:nvPr/>
        </p:nvCxnSpPr>
        <p:spPr>
          <a:xfrm flipV="1">
            <a:off x="6356880" y="4857120"/>
            <a:ext cx="143640" cy="11437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headEnd len="lg" type="stealth" w="lg"/>
            <a:tailEnd len="lg" type="stealth" w="lg"/>
          </a:ln>
        </p:spPr>
      </p:cxnSp>
      <p:sp>
        <p:nvSpPr>
          <p:cNvPr id="221" name="TextBox 28"/>
          <p:cNvSpPr/>
          <p:nvPr/>
        </p:nvSpPr>
        <p:spPr>
          <a:xfrm>
            <a:off x="5857920" y="593424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отсчёта по внутренней полу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9"/>
          <p:cNvSpPr/>
          <p:nvPr/>
        </p:nvSpPr>
        <p:spPr>
          <a:xfrm>
            <a:off x="214200" y="593424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отсчёта по внешней полу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62"/>
          <p:cNvSpPr/>
          <p:nvPr/>
        </p:nvSpPr>
        <p:spPr>
          <a:xfrm rot="1260000">
            <a:off x="4680720" y="2664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4"/>
          <p:cNvSpPr/>
          <p:nvPr/>
        </p:nvSpPr>
        <p:spPr>
          <a:xfrm rot="20580000">
            <a:off x="3593520" y="2735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5"/>
          <p:cNvSpPr/>
          <p:nvPr/>
        </p:nvSpPr>
        <p:spPr>
          <a:xfrm rot="20280000">
            <a:off x="3402360" y="27684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8"/>
          <p:cNvSpPr/>
          <p:nvPr/>
        </p:nvSpPr>
        <p:spPr>
          <a:xfrm rot="16950000">
            <a:off x="886680" y="38034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9"/>
          <p:cNvSpPr/>
          <p:nvPr/>
        </p:nvSpPr>
        <p:spPr>
          <a:xfrm rot="16200000">
            <a:off x="851400" y="42991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0"/>
          <p:cNvSpPr/>
          <p:nvPr/>
        </p:nvSpPr>
        <p:spPr>
          <a:xfrm rot="17370000">
            <a:off x="1113840" y="31935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1"/>
          <p:cNvSpPr/>
          <p:nvPr/>
        </p:nvSpPr>
        <p:spPr>
          <a:xfrm rot="19202400">
            <a:off x="1634040" y="2286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2"/>
          <p:cNvSpPr/>
          <p:nvPr/>
        </p:nvSpPr>
        <p:spPr>
          <a:xfrm rot="18577200">
            <a:off x="1319040" y="273096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4"/>
          <p:cNvSpPr/>
          <p:nvPr/>
        </p:nvSpPr>
        <p:spPr>
          <a:xfrm rot="19848000">
            <a:off x="2186640" y="178596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63"/>
          <p:cNvSpPr/>
          <p:nvPr/>
        </p:nvSpPr>
        <p:spPr>
          <a:xfrm rot="19458600">
            <a:off x="1920960" y="19990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3"/>
          <p:cNvSpPr/>
          <p:nvPr/>
        </p:nvSpPr>
        <p:spPr>
          <a:xfrm rot="20435400">
            <a:off x="3053160" y="13366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5"/>
          <p:cNvSpPr/>
          <p:nvPr/>
        </p:nvSpPr>
        <p:spPr>
          <a:xfrm>
            <a:off x="4021200" y="10717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7"/>
          <p:cNvSpPr/>
          <p:nvPr/>
        </p:nvSpPr>
        <p:spPr>
          <a:xfrm rot="849000">
            <a:off x="5029560" y="11840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8"/>
          <p:cNvSpPr/>
          <p:nvPr/>
        </p:nvSpPr>
        <p:spPr>
          <a:xfrm rot="841800">
            <a:off x="5458320" y="12970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9"/>
          <p:cNvSpPr/>
          <p:nvPr/>
        </p:nvSpPr>
        <p:spPr>
          <a:xfrm rot="295200">
            <a:off x="4551480" y="1089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0"/>
          <p:cNvSpPr/>
          <p:nvPr/>
        </p:nvSpPr>
        <p:spPr>
          <a:xfrm rot="2428800">
            <a:off x="6389280" y="19306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1"/>
          <p:cNvSpPr/>
          <p:nvPr/>
        </p:nvSpPr>
        <p:spPr>
          <a:xfrm rot="1791000">
            <a:off x="5799960" y="143676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6"/>
          <p:cNvSpPr/>
          <p:nvPr/>
        </p:nvSpPr>
        <p:spPr>
          <a:xfrm rot="21159000">
            <a:off x="3492000" y="11664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7"/>
          <p:cNvSpPr/>
          <p:nvPr/>
        </p:nvSpPr>
        <p:spPr>
          <a:xfrm rot="4578600">
            <a:off x="7331400" y="3195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8"/>
          <p:cNvSpPr/>
          <p:nvPr/>
        </p:nvSpPr>
        <p:spPr>
          <a:xfrm rot="3624000">
            <a:off x="7058160" y="27122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9"/>
          <p:cNvSpPr/>
          <p:nvPr/>
        </p:nvSpPr>
        <p:spPr>
          <a:xfrm rot="2287200">
            <a:off x="6182640" y="1719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0"/>
          <p:cNvSpPr/>
          <p:nvPr/>
        </p:nvSpPr>
        <p:spPr>
          <a:xfrm rot="3046200">
            <a:off x="6771960" y="23644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71"/>
          <p:cNvSpPr/>
          <p:nvPr/>
        </p:nvSpPr>
        <p:spPr>
          <a:xfrm rot="4995600">
            <a:off x="7386840" y="35200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72"/>
          <p:cNvSpPr/>
          <p:nvPr/>
        </p:nvSpPr>
        <p:spPr>
          <a:xfrm rot="5400000">
            <a:off x="7463160" y="38818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04"/>
          <p:cNvSpPr/>
          <p:nvPr/>
        </p:nvSpPr>
        <p:spPr>
          <a:xfrm rot="16800000">
            <a:off x="2352600" y="410004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5"/>
          <p:cNvSpPr/>
          <p:nvPr/>
        </p:nvSpPr>
        <p:spPr>
          <a:xfrm rot="16200000">
            <a:off x="2315520" y="4328280"/>
            <a:ext cx="5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07"/>
          <p:cNvSpPr/>
          <p:nvPr/>
        </p:nvSpPr>
        <p:spPr>
          <a:xfrm rot="19620000">
            <a:off x="3158280" y="28465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08"/>
          <p:cNvSpPr/>
          <p:nvPr/>
        </p:nvSpPr>
        <p:spPr>
          <a:xfrm rot="18000000">
            <a:off x="2555280" y="3509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11"/>
          <p:cNvSpPr/>
          <p:nvPr/>
        </p:nvSpPr>
        <p:spPr>
          <a:xfrm rot="17734200">
            <a:off x="2482920" y="3777120"/>
            <a:ext cx="4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12"/>
          <p:cNvSpPr/>
          <p:nvPr/>
        </p:nvSpPr>
        <p:spPr>
          <a:xfrm rot="18180000">
            <a:off x="2610000" y="3336120"/>
            <a:ext cx="5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13"/>
          <p:cNvSpPr/>
          <p:nvPr/>
        </p:nvSpPr>
        <p:spPr>
          <a:xfrm rot="19202400">
            <a:off x="2962440" y="30564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14"/>
          <p:cNvSpPr/>
          <p:nvPr/>
        </p:nvSpPr>
        <p:spPr>
          <a:xfrm>
            <a:off x="4176720" y="26431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5"/>
          <p:cNvSpPr/>
          <p:nvPr/>
        </p:nvSpPr>
        <p:spPr>
          <a:xfrm rot="600000">
            <a:off x="4488120" y="26035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6"/>
          <p:cNvSpPr/>
          <p:nvPr/>
        </p:nvSpPr>
        <p:spPr>
          <a:xfrm rot="2100000">
            <a:off x="5112360" y="2843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17"/>
          <p:cNvSpPr/>
          <p:nvPr/>
        </p:nvSpPr>
        <p:spPr>
          <a:xfrm rot="1500000">
            <a:off x="4845600" y="2700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18"/>
          <p:cNvSpPr/>
          <p:nvPr/>
        </p:nvSpPr>
        <p:spPr>
          <a:xfrm rot="2880000">
            <a:off x="5436720" y="30614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9"/>
          <p:cNvSpPr/>
          <p:nvPr/>
        </p:nvSpPr>
        <p:spPr>
          <a:xfrm rot="2400000">
            <a:off x="5250960" y="29851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22"/>
          <p:cNvSpPr/>
          <p:nvPr/>
        </p:nvSpPr>
        <p:spPr>
          <a:xfrm rot="21180000">
            <a:off x="3970080" y="26668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23"/>
          <p:cNvSpPr/>
          <p:nvPr/>
        </p:nvSpPr>
        <p:spPr>
          <a:xfrm rot="18720000">
            <a:off x="2833560" y="3186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24"/>
          <p:cNvSpPr/>
          <p:nvPr/>
        </p:nvSpPr>
        <p:spPr>
          <a:xfrm rot="3360000">
            <a:off x="5628960" y="32378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25"/>
          <p:cNvSpPr/>
          <p:nvPr/>
        </p:nvSpPr>
        <p:spPr>
          <a:xfrm rot="3472200">
            <a:off x="5760720" y="3456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6"/>
          <p:cNvSpPr/>
          <p:nvPr/>
        </p:nvSpPr>
        <p:spPr>
          <a:xfrm rot="5100000">
            <a:off x="6016680" y="39643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27"/>
          <p:cNvSpPr/>
          <p:nvPr/>
        </p:nvSpPr>
        <p:spPr>
          <a:xfrm rot="5089200">
            <a:off x="6106320" y="4231800"/>
            <a:ext cx="38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28"/>
          <p:cNvSpPr/>
          <p:nvPr/>
        </p:nvSpPr>
        <p:spPr>
          <a:xfrm rot="5151600">
            <a:off x="6104160" y="4439160"/>
            <a:ext cx="38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29"/>
          <p:cNvSpPr/>
          <p:nvPr/>
        </p:nvSpPr>
        <p:spPr>
          <a:xfrm rot="4440000">
            <a:off x="5901120" y="36658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131"/>
          <p:cNvSpPr/>
          <p:nvPr/>
        </p:nvSpPr>
        <p:spPr>
          <a:xfrm>
            <a:off x="1214280" y="4786200"/>
            <a:ext cx="214560" cy="214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Овал 132"/>
          <p:cNvSpPr/>
          <p:nvPr/>
        </p:nvSpPr>
        <p:spPr>
          <a:xfrm>
            <a:off x="6429240" y="4786200"/>
            <a:ext cx="214560" cy="2145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1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1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1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1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6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8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1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9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1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1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1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200"/>
                            </p:stCondLst>
                            <p:childTnLst>
                              <p:par>
                                <p:cTn id="4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3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1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4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1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1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6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70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8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9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2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1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1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1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1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1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1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1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1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1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1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1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1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1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7" dur="1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1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мерение уг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16T17:56:19Z</dcterms:modified>
  <cp:revision>20</cp:revision>
  <dc:subject/>
  <dc:title>Действия с десятичными дробями</dc:title>
</cp:coreProperties>
</file>