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673-2A01-4664-836A-90CF19BB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06A-21B1-473D-BBC5-A2D3F2C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C8F-824C-4B92-BFA1-2CE3CFCC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2FC-8414-4B74-870D-2021A110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C6B-BF28-4E09-BB40-09F2DEE2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BC6-20E6-44EE-9FEA-BBB5BEF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B15B-6161-4C93-9311-0A090CEA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D63B-B7F3-4B52-A701-44FC928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FD9-E3E3-49D7-B805-47A6F802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049-8222-4A2D-974C-00A411A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FD27-022E-48A5-BD54-00FD9EA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64F-54AE-4736-A113-9F8B72E7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973-F78F-4AB4-B488-2F5172E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D345-044A-4FAC-94F7-7F32AEB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4D9E-7261-4516-8D47-81A4D8DD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A8A1-BEFD-436C-9039-2FC9FA7D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CC63-D8B4-434D-9A5F-B5ADC681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721-11A7-4F7B-B976-E610FCEC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D90-4FF9-4AAC-B7E3-B2EF0B15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470-0C40-4F6F-AB23-F0D7DCF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908-457D-46C0-9B4D-FE6D5270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FB9-3152-4B4C-8E8B-667C50E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DA5-8868-4329-9670-5FE6188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E3C-D24B-4BA8-BEDB-EFC47A6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FFF7-804D-488E-B23D-BC1C3E28F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8C74-8009-4B41-8505-8C7ED2473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Хижняк Светлана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МАУ СОШ №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города Златоуста, Челяби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013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8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272" name="Oval 4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9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990720" y="4876920"/>
                <a:ext cx="6095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4" name="Group 25"/>
          <p:cNvGrpSpPr/>
          <p:nvPr/>
        </p:nvGrpSpPr>
        <p:grpSpPr>
          <a:xfrm>
            <a:off x="6095880" y="2021040"/>
            <a:ext cx="774720" cy="1712880"/>
            <a:chOff x="6095880" y="2021040"/>
            <a:chExt cx="774720" cy="1712880"/>
          </a:xfrm>
        </p:grpSpPr>
        <p:sp>
          <p:nvSpPr>
            <p:cNvPr id="285" name="Freeform 21"/>
            <p:cNvSpPr/>
            <p:nvPr/>
          </p:nvSpPr>
          <p:spPr>
            <a:xfrm>
              <a:off x="6095880" y="2057400"/>
              <a:ext cx="774720" cy="16765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24"/>
            <p:cNvGrpSpPr/>
            <p:nvPr/>
          </p:nvGrpSpPr>
          <p:grpSpPr>
            <a:xfrm>
              <a:off x="6119640" y="2021040"/>
              <a:ext cx="295560" cy="323640"/>
              <a:chOff x="6119640" y="2021040"/>
              <a:chExt cx="295560" cy="323640"/>
            </a:xfrm>
          </p:grpSpPr>
          <p:sp>
            <p:nvSpPr>
              <p:cNvPr id="287" name="Freeform 22"/>
              <p:cNvSpPr/>
              <p:nvPr/>
            </p:nvSpPr>
            <p:spPr>
              <a:xfrm>
                <a:off x="6135840" y="2049480"/>
                <a:ext cx="147600" cy="29520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6119640" y="2021040"/>
                <a:ext cx="295560" cy="11736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45440" y="-951480"/>
            <a:ext cx="7869600" cy="8130960"/>
            <a:chOff x="145440" y="-951480"/>
            <a:chExt cx="7869600" cy="8130960"/>
          </a:xfrm>
        </p:grpSpPr>
        <p:sp>
          <p:nvSpPr>
            <p:cNvPr id="290" name="Oval 3"/>
            <p:cNvSpPr/>
            <p:nvPr/>
          </p:nvSpPr>
          <p:spPr>
            <a:xfrm flipV="1" rot="18612000">
              <a:off x="2016000" y="1567080"/>
              <a:ext cx="5257800" cy="43808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 flipV="1" rot="18612000">
              <a:off x="-429120" y="1803600"/>
              <a:ext cx="8305920" cy="23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V="1">
              <a:off x="2923200" y="1729080"/>
              <a:ext cx="3394440" cy="40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6"/>
            <p:cNvSpPr/>
            <p:nvPr/>
          </p:nvSpPr>
          <p:spPr>
            <a:xfrm flipV="1" rot="18612000">
              <a:off x="4568760" y="3644640"/>
              <a:ext cx="152280" cy="12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7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47520" y="533520"/>
                <a:ext cx="6000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3" name="Group 16"/>
          <p:cNvGrpSpPr/>
          <p:nvPr/>
        </p:nvGrpSpPr>
        <p:grpSpPr>
          <a:xfrm>
            <a:off x="5609160" y="1850040"/>
            <a:ext cx="1828800" cy="1938600"/>
            <a:chOff x="5609160" y="1850040"/>
            <a:chExt cx="1828800" cy="1938600"/>
          </a:xfrm>
        </p:grpSpPr>
        <p:sp>
          <p:nvSpPr>
            <p:cNvPr id="304" name="Freeform 17"/>
            <p:cNvSpPr/>
            <p:nvPr/>
          </p:nvSpPr>
          <p:spPr>
            <a:xfrm flipH="1" rot="8386800">
              <a:off x="6066360" y="1937880"/>
              <a:ext cx="914040" cy="175140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751400"/>
                <a:gd name="textAreaBottom" fmla="*/ 1751760 h 17514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6581880" y="3405960"/>
              <a:ext cx="469440" cy="382680"/>
              <a:chOff x="6581880" y="3405960"/>
              <a:chExt cx="469440" cy="382680"/>
            </a:xfrm>
          </p:grpSpPr>
          <p:sp>
            <p:nvSpPr>
              <p:cNvPr id="306" name="Freeform 19"/>
              <p:cNvSpPr/>
              <p:nvPr/>
            </p:nvSpPr>
            <p:spPr>
              <a:xfrm flipH="1" rot="8386800">
                <a:off x="6660720" y="3425760"/>
                <a:ext cx="173880" cy="3081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 flipH="1" rot="8386800">
                <a:off x="6704640" y="3568320"/>
                <a:ext cx="347760" cy="122400"/>
              </a:xfrm>
              <a:custGeom>
                <a:avLst/>
                <a:gdLst>
                  <a:gd name="textAreaLeft" fmla="*/ 360 w 347760"/>
                  <a:gd name="textAreaRight" fmla="*/ 348480 w 347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09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22" name="Group 16"/>
          <p:cNvGrpSpPr/>
          <p:nvPr/>
        </p:nvGrpSpPr>
        <p:grpSpPr>
          <a:xfrm>
            <a:off x="1600560" y="1981080"/>
            <a:ext cx="914040" cy="1712880"/>
            <a:chOff x="1600560" y="1981080"/>
            <a:chExt cx="914040" cy="1712880"/>
          </a:xfrm>
        </p:grpSpPr>
        <p:sp>
          <p:nvSpPr>
            <p:cNvPr id="323" name="Freeform 17"/>
            <p:cNvSpPr/>
            <p:nvPr/>
          </p:nvSpPr>
          <p:spPr>
            <a:xfrm flipH="1">
              <a:off x="1600200" y="2017440"/>
              <a:ext cx="914040" cy="167652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"/>
            <p:cNvGrpSpPr/>
            <p:nvPr/>
          </p:nvGrpSpPr>
          <p:grpSpPr>
            <a:xfrm>
              <a:off x="2138760" y="1981080"/>
              <a:ext cx="348120" cy="323640"/>
              <a:chOff x="2138760" y="1981080"/>
              <a:chExt cx="348120" cy="323640"/>
            </a:xfrm>
          </p:grpSpPr>
          <p:sp>
            <p:nvSpPr>
              <p:cNvPr id="325" name="Freeform 19"/>
              <p:cNvSpPr/>
              <p:nvPr/>
            </p:nvSpPr>
            <p:spPr>
              <a:xfrm flipH="1">
                <a:off x="2293560" y="2009520"/>
                <a:ext cx="173880" cy="2952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 flipH="1">
                <a:off x="2138400" y="1981080"/>
                <a:ext cx="348120" cy="117360"/>
              </a:xfrm>
              <a:custGeom>
                <a:avLst/>
                <a:gdLst>
                  <a:gd name="textAreaLeft" fmla="*/ -360 w 348120"/>
                  <a:gd name="textAreaRight" fmla="*/ 348120 w 348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105200" y="-791640"/>
            <a:ext cx="8198280" cy="7869240"/>
            <a:chOff x="1105200" y="-791640"/>
            <a:chExt cx="8198280" cy="7869240"/>
          </a:xfrm>
        </p:grpSpPr>
        <p:sp>
          <p:nvSpPr>
            <p:cNvPr id="328" name="Oval 3"/>
            <p:cNvSpPr/>
            <p:nvPr/>
          </p:nvSpPr>
          <p:spPr>
            <a:xfrm flipV="1" rot="2324400">
              <a:off x="1920600" y="1467720"/>
              <a:ext cx="5257800" cy="44546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 rot="2324400">
              <a:off x="1163880" y="1544400"/>
              <a:ext cx="8305920" cy="238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>
              <a:off x="2519280" y="2024280"/>
              <a:ext cx="4100760" cy="32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"/>
            <p:cNvSpPr/>
            <p:nvPr/>
          </p:nvSpPr>
          <p:spPr>
            <a:xfrm flipV="1" rot="2324400">
              <a:off x="4523040" y="3628800"/>
              <a:ext cx="15228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2971800" y="380880"/>
                <a:ext cx="60008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1" name="Group 16"/>
          <p:cNvGrpSpPr/>
          <p:nvPr/>
        </p:nvGrpSpPr>
        <p:grpSpPr>
          <a:xfrm>
            <a:off x="1101240" y="1854000"/>
            <a:ext cx="1937880" cy="1944360"/>
            <a:chOff x="1101240" y="1854000"/>
            <a:chExt cx="1937880" cy="1944360"/>
          </a:xfrm>
        </p:grpSpPr>
        <p:sp>
          <p:nvSpPr>
            <p:cNvPr id="342" name="Freeform 17"/>
            <p:cNvSpPr/>
            <p:nvPr/>
          </p:nvSpPr>
          <p:spPr>
            <a:xfrm rot="13486800">
              <a:off x="1536840" y="1986480"/>
              <a:ext cx="1066680" cy="16765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8"/>
            <p:cNvGrpSpPr/>
            <p:nvPr/>
          </p:nvGrpSpPr>
          <p:grpSpPr>
            <a:xfrm>
              <a:off x="1521360" y="3410280"/>
              <a:ext cx="501120" cy="388080"/>
              <a:chOff x="1521360" y="3410280"/>
              <a:chExt cx="501120" cy="388080"/>
            </a:xfrm>
          </p:grpSpPr>
          <p:sp>
            <p:nvSpPr>
              <p:cNvPr id="344" name="Freeform 19"/>
              <p:cNvSpPr/>
              <p:nvPr/>
            </p:nvSpPr>
            <p:spPr>
              <a:xfrm rot="13486800">
                <a:off x="1744560" y="3438720"/>
                <a:ext cx="203040" cy="295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"/>
              <p:cNvSpPr/>
              <p:nvPr/>
            </p:nvSpPr>
            <p:spPr>
              <a:xfrm rot="13486800">
                <a:off x="1503360" y="3554640"/>
                <a:ext cx="406440" cy="1173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47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0" name="Group 16"/>
          <p:cNvGrpSpPr/>
          <p:nvPr/>
        </p:nvGrpSpPr>
        <p:grpSpPr>
          <a:xfrm>
            <a:off x="2515320" y="1447920"/>
            <a:ext cx="1904400" cy="2209320"/>
            <a:chOff x="2515320" y="1447920"/>
            <a:chExt cx="1904400" cy="2209320"/>
          </a:xfrm>
        </p:grpSpPr>
        <p:sp>
          <p:nvSpPr>
            <p:cNvPr id="361" name="Freeform 17"/>
            <p:cNvSpPr/>
            <p:nvPr/>
          </p:nvSpPr>
          <p:spPr>
            <a:xfrm flipH="1">
              <a:off x="2515320" y="1494720"/>
              <a:ext cx="1904400" cy="2162520"/>
            </a:xfrm>
            <a:custGeom>
              <a:avLst/>
              <a:gdLst>
                <a:gd name="textAreaLeft" fmla="*/ 360 w 1904400"/>
                <a:gd name="textAreaRight" fmla="*/ 1905120 w 1904400"/>
                <a:gd name="textAreaTop" fmla="*/ 0 h 2162520"/>
                <a:gd name="textAreaBottom" fmla="*/ 2162880 h 2162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8"/>
            <p:cNvGrpSpPr/>
            <p:nvPr/>
          </p:nvGrpSpPr>
          <p:grpSpPr>
            <a:xfrm>
              <a:off x="3635640" y="1447920"/>
              <a:ext cx="725760" cy="416520"/>
              <a:chOff x="3635640" y="1447920"/>
              <a:chExt cx="725760" cy="416520"/>
            </a:xfrm>
          </p:grpSpPr>
          <p:sp>
            <p:nvSpPr>
              <p:cNvPr id="363" name="Freeform 19"/>
              <p:cNvSpPr/>
              <p:nvPr/>
            </p:nvSpPr>
            <p:spPr>
              <a:xfrm flipH="1">
                <a:off x="3958920" y="1484280"/>
                <a:ext cx="362520" cy="380160"/>
              </a:xfrm>
              <a:custGeom>
                <a:avLst/>
                <a:gdLst>
                  <a:gd name="textAreaLeft" fmla="*/ 0 w 362520"/>
                  <a:gd name="textAreaRight" fmla="*/ 362520 w 36252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 flipH="1">
                <a:off x="3635640" y="1447920"/>
                <a:ext cx="725760" cy="151200"/>
              </a:xfrm>
              <a:custGeom>
                <a:avLst/>
                <a:gdLst>
                  <a:gd name="textAreaLeft" fmla="*/ 360 w 725760"/>
                  <a:gd name="textAreaRight" fmla="*/ 726480 w 7257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1791720" y="-646560"/>
            <a:ext cx="5971680" cy="8565120"/>
            <a:chOff x="1791720" y="-646560"/>
            <a:chExt cx="5971680" cy="8565120"/>
          </a:xfrm>
        </p:grpSpPr>
        <p:sp>
          <p:nvSpPr>
            <p:cNvPr id="366" name="Oval 3"/>
            <p:cNvSpPr/>
            <p:nvPr/>
          </p:nvSpPr>
          <p:spPr>
            <a:xfrm rot="15948600">
              <a:off x="1954440" y="1113120"/>
              <a:ext cx="530568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"/>
            <p:cNvSpPr/>
            <p:nvPr/>
          </p:nvSpPr>
          <p:spPr>
            <a:xfrm rot="15948600">
              <a:off x="1860480" y="2226240"/>
              <a:ext cx="83815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"/>
            <p:cNvSpPr/>
            <p:nvPr/>
          </p:nvSpPr>
          <p:spPr>
            <a:xfrm flipH="1" flipV="1">
              <a:off x="4451760" y="1093680"/>
              <a:ext cx="387720" cy="52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 rot="15948600">
              <a:off x="4565880" y="3624840"/>
              <a:ext cx="1533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4648320" y="838080"/>
                <a:ext cx="3943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8" name="Group 16"/>
          <p:cNvGrpSpPr/>
          <p:nvPr/>
        </p:nvGrpSpPr>
        <p:grpSpPr>
          <a:xfrm>
            <a:off x="1923480" y="1335600"/>
            <a:ext cx="2989080" cy="2397600"/>
            <a:chOff x="1923480" y="1335600"/>
            <a:chExt cx="2989080" cy="2397600"/>
          </a:xfrm>
        </p:grpSpPr>
        <p:sp>
          <p:nvSpPr>
            <p:cNvPr id="379" name="Freeform 17"/>
            <p:cNvSpPr/>
            <p:nvPr/>
          </p:nvSpPr>
          <p:spPr>
            <a:xfrm flipH="1" flipV="1" rot="4450200">
              <a:off x="2541600" y="1229400"/>
              <a:ext cx="1751760" cy="2610000"/>
            </a:xfrm>
            <a:custGeom>
              <a:avLst/>
              <a:gdLst>
                <a:gd name="textAreaLeft" fmla="*/ 360 w 1751760"/>
                <a:gd name="textAreaRight" fmla="*/ 1752480 w 1751760"/>
                <a:gd name="textAreaTop" fmla="*/ 360 h 2610000"/>
                <a:gd name="textAreaBottom" fmla="*/ 2610720 h 2610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8"/>
            <p:cNvGrpSpPr/>
            <p:nvPr/>
          </p:nvGrpSpPr>
          <p:grpSpPr>
            <a:xfrm>
              <a:off x="2150280" y="3004920"/>
              <a:ext cx="655920" cy="691920"/>
              <a:chOff x="2150280" y="3004920"/>
              <a:chExt cx="655920" cy="691920"/>
            </a:xfrm>
          </p:grpSpPr>
          <p:sp>
            <p:nvSpPr>
              <p:cNvPr id="381" name="Freeform 19"/>
              <p:cNvSpPr/>
              <p:nvPr/>
            </p:nvSpPr>
            <p:spPr>
              <a:xfrm flipH="1" flipV="1" rot="4450200">
                <a:off x="2372760" y="3197160"/>
                <a:ext cx="333360" cy="458640"/>
              </a:xfrm>
              <a:custGeom>
                <a:avLst/>
                <a:gdLst>
                  <a:gd name="textAreaLeft" fmla="*/ 0 w 333360"/>
                  <a:gd name="textAreaRight" fmla="*/ 333360 w 333360"/>
                  <a:gd name="textAreaTop" fmla="*/ 360 h 458640"/>
                  <a:gd name="textAreaBottom" fmla="*/ 459360 h 45864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0"/>
              <p:cNvSpPr/>
              <p:nvPr/>
            </p:nvSpPr>
            <p:spPr>
              <a:xfrm flipH="1" flipV="1" rot="4450200">
                <a:off x="1995480" y="3259440"/>
                <a:ext cx="667440" cy="18252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-36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84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1295280" y="4627440"/>
                <a:ext cx="60962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97" name="Group 16"/>
          <p:cNvGrpSpPr/>
          <p:nvPr/>
        </p:nvGrpSpPr>
        <p:grpSpPr>
          <a:xfrm>
            <a:off x="2516400" y="2057400"/>
            <a:ext cx="4036680" cy="1676160"/>
            <a:chOff x="2516400" y="2057400"/>
            <a:chExt cx="4036680" cy="1676160"/>
          </a:xfrm>
        </p:grpSpPr>
        <p:sp>
          <p:nvSpPr>
            <p:cNvPr id="398" name="Freeform 17"/>
            <p:cNvSpPr/>
            <p:nvPr/>
          </p:nvSpPr>
          <p:spPr>
            <a:xfrm flipH="1">
              <a:off x="2516040" y="2092680"/>
              <a:ext cx="4036680" cy="1640880"/>
            </a:xfrm>
            <a:custGeom>
              <a:avLst/>
              <a:gdLst>
                <a:gd name="textAreaLeft" fmla="*/ -360 w 4036680"/>
                <a:gd name="textAreaRight" fmla="*/ 4036680 w 403668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8"/>
            <p:cNvGrpSpPr/>
            <p:nvPr/>
          </p:nvGrpSpPr>
          <p:grpSpPr>
            <a:xfrm>
              <a:off x="4891320" y="2057400"/>
              <a:ext cx="1538280" cy="316080"/>
              <a:chOff x="4891320" y="2057400"/>
              <a:chExt cx="1538280" cy="316080"/>
            </a:xfrm>
          </p:grpSpPr>
          <p:sp>
            <p:nvSpPr>
              <p:cNvPr id="400" name="Freeform 19"/>
              <p:cNvSpPr/>
              <p:nvPr/>
            </p:nvSpPr>
            <p:spPr>
              <a:xfrm flipH="1">
                <a:off x="5577120" y="2085120"/>
                <a:ext cx="768240" cy="288360"/>
              </a:xfrm>
              <a:custGeom>
                <a:avLst/>
                <a:gdLst>
                  <a:gd name="textAreaLeft" fmla="*/ 360 w 768240"/>
                  <a:gd name="textAreaRight" fmla="*/ 768960 w 7682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 flipH="1">
                <a:off x="4890960" y="2057400"/>
                <a:ext cx="1538280" cy="114480"/>
              </a:xfrm>
              <a:custGeom>
                <a:avLst/>
                <a:gdLst>
                  <a:gd name="textAreaLeft" fmla="*/ -360 w 1538280"/>
                  <a:gd name="textAreaRight" fmla="*/ 1538280 w 153828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831240" y="17640"/>
            <a:ext cx="8721360" cy="8569080"/>
            <a:chOff x="831240" y="17640"/>
            <a:chExt cx="8721360" cy="8569080"/>
          </a:xfrm>
        </p:grpSpPr>
        <p:sp>
          <p:nvSpPr>
            <p:cNvPr id="403" name="Oval 3"/>
            <p:cNvSpPr/>
            <p:nvPr/>
          </p:nvSpPr>
          <p:spPr>
            <a:xfrm rot="19185600">
              <a:off x="1907280" y="1093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 rot="19185600">
              <a:off x="1318680" y="341820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 flipV="1">
              <a:off x="2554200" y="2053800"/>
              <a:ext cx="4013640" cy="33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 rot="19185600">
              <a:off x="4513680" y="3651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092400" y="4952880"/>
                <a:ext cx="60055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16" name="Group 16"/>
          <p:cNvGrpSpPr/>
          <p:nvPr/>
        </p:nvGrpSpPr>
        <p:grpSpPr>
          <a:xfrm>
            <a:off x="2094840" y="678600"/>
            <a:ext cx="4256280" cy="4480200"/>
            <a:chOff x="2094840" y="678600"/>
            <a:chExt cx="4256280" cy="4480200"/>
          </a:xfrm>
        </p:grpSpPr>
        <p:sp>
          <p:nvSpPr>
            <p:cNvPr id="417" name="Freeform 17"/>
            <p:cNvSpPr/>
            <p:nvPr/>
          </p:nvSpPr>
          <p:spPr>
            <a:xfrm rot="18016800">
              <a:off x="2469960" y="1477800"/>
              <a:ext cx="3505320" cy="28818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2881800"/>
                <a:gd name="textAreaBottom" fmla="*/ 2882160 h 28818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2095200" y="2428200"/>
              <a:ext cx="852840" cy="1370520"/>
              <a:chOff x="2095200" y="2428200"/>
              <a:chExt cx="852840" cy="1370520"/>
            </a:xfrm>
          </p:grpSpPr>
          <p:sp>
            <p:nvSpPr>
              <p:cNvPr id="419" name="Freeform 19"/>
              <p:cNvSpPr/>
              <p:nvPr/>
            </p:nvSpPr>
            <p:spPr>
              <a:xfrm rot="18016800">
                <a:off x="2227320" y="3129480"/>
                <a:ext cx="666720" cy="50688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"/>
              <p:cNvSpPr/>
              <p:nvPr/>
            </p:nvSpPr>
            <p:spPr>
              <a:xfrm rot="18016800">
                <a:off x="1850760" y="2954880"/>
                <a:ext cx="1335600" cy="201240"/>
              </a:xfrm>
              <a:custGeom>
                <a:avLst/>
                <a:gdLst>
                  <a:gd name="textAreaLeft" fmla="*/ 0 w 1335600"/>
                  <a:gd name="textAreaRight" fmla="*/ 1335960 w 13356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22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5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36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38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2800" y="-41400"/>
            <a:ext cx="8417520" cy="8709840"/>
            <a:chOff x="-82800" y="-41400"/>
            <a:chExt cx="8417520" cy="8709840"/>
          </a:xfrm>
        </p:grpSpPr>
        <p:sp>
          <p:nvSpPr>
            <p:cNvPr id="441" name="Oval 3"/>
            <p:cNvSpPr/>
            <p:nvPr/>
          </p:nvSpPr>
          <p:spPr>
            <a:xfrm rot="3250800">
              <a:off x="2035440" y="99972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 rot="3250800">
              <a:off x="-662040" y="306648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3094920" y="1519560"/>
              <a:ext cx="3077280" cy="426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6"/>
            <p:cNvSpPr/>
            <p:nvPr/>
          </p:nvSpPr>
          <p:spPr>
            <a:xfrm rot="3250800">
              <a:off x="4579560" y="360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11480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566640" y="4495680"/>
                <a:ext cx="43513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54" name="Group 16"/>
          <p:cNvGrpSpPr/>
          <p:nvPr/>
        </p:nvGrpSpPr>
        <p:grpSpPr>
          <a:xfrm>
            <a:off x="3494520" y="1438920"/>
            <a:ext cx="2041560" cy="1609560"/>
            <a:chOff x="3494520" y="1438920"/>
            <a:chExt cx="2041560" cy="1609560"/>
          </a:xfrm>
        </p:grpSpPr>
        <p:sp>
          <p:nvSpPr>
            <p:cNvPr id="455" name="Freeform 17"/>
            <p:cNvSpPr/>
            <p:nvPr/>
          </p:nvSpPr>
          <p:spPr>
            <a:xfrm flipV="1" rot="14598000">
              <a:off x="4058280" y="1337400"/>
              <a:ext cx="890280" cy="1811880"/>
            </a:xfrm>
            <a:custGeom>
              <a:avLst/>
              <a:gdLst>
                <a:gd name="textAreaLeft" fmla="*/ 0 w 890280"/>
                <a:gd name="textAreaRight" fmla="*/ 890640 w 890280"/>
                <a:gd name="textAreaTop" fmla="*/ -360 h 1811880"/>
                <a:gd name="textAreaBottom" fmla="*/ 1811880 h 1811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18"/>
            <p:cNvGrpSpPr/>
            <p:nvPr/>
          </p:nvGrpSpPr>
          <p:grpSpPr>
            <a:xfrm>
              <a:off x="5139720" y="1889280"/>
              <a:ext cx="396360" cy="443520"/>
              <a:chOff x="5139720" y="1889280"/>
              <a:chExt cx="396360" cy="443520"/>
            </a:xfrm>
          </p:grpSpPr>
          <p:sp>
            <p:nvSpPr>
              <p:cNvPr id="457" name="Freeform 19"/>
              <p:cNvSpPr/>
              <p:nvPr/>
            </p:nvSpPr>
            <p:spPr>
              <a:xfrm flipV="1" rot="14598000">
                <a:off x="5235480" y="2025720"/>
                <a:ext cx="169200" cy="31860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-360 h 318600"/>
                  <a:gd name="textAreaBottom" fmla="*/ 318600 h 3186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0"/>
              <p:cNvSpPr/>
              <p:nvPr/>
            </p:nvSpPr>
            <p:spPr>
              <a:xfrm flipV="1" rot="14598000">
                <a:off x="5233320" y="2005560"/>
                <a:ext cx="339120" cy="12708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йствия с десятичными дроб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57200" y="35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973440" y="-1204560"/>
            <a:ext cx="8368200" cy="8698680"/>
            <a:chOff x="973440" y="-1204560"/>
            <a:chExt cx="8368200" cy="8698680"/>
          </a:xfrm>
        </p:grpSpPr>
        <p:sp>
          <p:nvSpPr>
            <p:cNvPr id="460" name="Oval 3"/>
            <p:cNvSpPr/>
            <p:nvPr/>
          </p:nvSpPr>
          <p:spPr>
            <a:xfrm rot="14121600">
              <a:off x="2001600" y="12078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 rot="14121600">
              <a:off x="1668240" y="160380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"/>
            <p:cNvSpPr/>
            <p:nvPr/>
          </p:nvSpPr>
          <p:spPr>
            <a:xfrm flipH="1" flipV="1">
              <a:off x="3167640" y="1652400"/>
              <a:ext cx="2988720" cy="43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"/>
            <p:cNvSpPr/>
            <p:nvPr/>
          </p:nvSpPr>
          <p:spPr>
            <a:xfrm rot="14121600">
              <a:off x="4564080" y="37076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3" name="Group 16"/>
          <p:cNvGrpSpPr/>
          <p:nvPr/>
        </p:nvGrpSpPr>
        <p:grpSpPr>
          <a:xfrm>
            <a:off x="3897360" y="4582800"/>
            <a:ext cx="1736280" cy="1154160"/>
            <a:chOff x="3897360" y="4582800"/>
            <a:chExt cx="1736280" cy="1154160"/>
          </a:xfrm>
        </p:grpSpPr>
        <p:sp>
          <p:nvSpPr>
            <p:cNvPr id="474" name="Freeform 17"/>
            <p:cNvSpPr/>
            <p:nvPr/>
          </p:nvSpPr>
          <p:spPr>
            <a:xfrm flipH="1" rot="15181800">
              <a:off x="4413600" y="4376520"/>
              <a:ext cx="728640" cy="1566000"/>
            </a:xfrm>
            <a:custGeom>
              <a:avLst/>
              <a:gdLst>
                <a:gd name="textAreaLeft" fmla="*/ 0 w 728640"/>
                <a:gd name="textAreaRight" fmla="*/ 728640 w 7286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8"/>
            <p:cNvGrpSpPr/>
            <p:nvPr/>
          </p:nvGrpSpPr>
          <p:grpSpPr>
            <a:xfrm>
              <a:off x="3897360" y="4997880"/>
              <a:ext cx="333720" cy="339120"/>
              <a:chOff x="3897360" y="4997880"/>
              <a:chExt cx="333720" cy="339120"/>
            </a:xfrm>
          </p:grpSpPr>
          <p:sp>
            <p:nvSpPr>
              <p:cNvPr id="476" name="Freeform 19"/>
              <p:cNvSpPr/>
              <p:nvPr/>
            </p:nvSpPr>
            <p:spPr>
              <a:xfrm flipH="1" rot="15181800">
                <a:off x="4009680" y="4966560"/>
                <a:ext cx="138600" cy="275400"/>
              </a:xfrm>
              <a:custGeom>
                <a:avLst/>
                <a:gdLst>
                  <a:gd name="textAreaLeft" fmla="*/ -360 w 138600"/>
                  <a:gd name="textAreaRight" fmla="*/ 138600 w 1386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0"/>
              <p:cNvSpPr/>
              <p:nvPr/>
            </p:nvSpPr>
            <p:spPr>
              <a:xfrm flipH="1" rot="15181800">
                <a:off x="3851280" y="5133240"/>
                <a:ext cx="277920" cy="109440"/>
              </a:xfrm>
              <a:custGeom>
                <a:avLst/>
                <a:gdLst>
                  <a:gd name="textAreaLeft" fmla="*/ 360 w 277920"/>
                  <a:gd name="textAreaRight" fmla="*/ 278640 w 2779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80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3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94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96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1981080" y="-381240"/>
            <a:ext cx="5486400" cy="8305560"/>
            <a:chOff x="1981080" y="-381240"/>
            <a:chExt cx="5486400" cy="8305560"/>
          </a:xfrm>
        </p:grpSpPr>
        <p:sp>
          <p:nvSpPr>
            <p:cNvPr id="500" name="Oval 3"/>
            <p:cNvSpPr/>
            <p:nvPr/>
          </p:nvSpPr>
          <p:spPr>
            <a:xfrm rot="16200000">
              <a:off x="1981080" y="11430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 rot="16200000">
              <a:off x="1905120" y="236196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 flipV="1">
              <a:off x="4648320" y="1143360"/>
              <a:ext cx="0" cy="52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"/>
            <p:cNvSpPr/>
            <p:nvPr/>
          </p:nvSpPr>
          <p:spPr>
            <a:xfrm rot="16200000">
              <a:off x="4572000" y="36576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3" name="Group 16"/>
          <p:cNvGrpSpPr/>
          <p:nvPr/>
        </p:nvGrpSpPr>
        <p:grpSpPr>
          <a:xfrm>
            <a:off x="3894840" y="4870800"/>
            <a:ext cx="733320" cy="684360"/>
            <a:chOff x="3894840" y="4870800"/>
            <a:chExt cx="733320" cy="684360"/>
          </a:xfrm>
        </p:grpSpPr>
        <p:sp>
          <p:nvSpPr>
            <p:cNvPr id="514" name="Freeform 17"/>
            <p:cNvSpPr/>
            <p:nvPr/>
          </p:nvSpPr>
          <p:spPr>
            <a:xfrm flipH="1" rot="15181800">
              <a:off x="3997800" y="4914720"/>
              <a:ext cx="533520" cy="59616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8"/>
            <p:cNvGrpSpPr/>
            <p:nvPr/>
          </p:nvGrpSpPr>
          <p:grpSpPr>
            <a:xfrm>
              <a:off x="3894840" y="5041080"/>
              <a:ext cx="142920" cy="217440"/>
              <a:chOff x="3894840" y="5041080"/>
              <a:chExt cx="142920" cy="217440"/>
            </a:xfrm>
          </p:grpSpPr>
          <p:sp>
            <p:nvSpPr>
              <p:cNvPr id="516" name="Freeform 19"/>
              <p:cNvSpPr/>
              <p:nvPr/>
            </p:nvSpPr>
            <p:spPr>
              <a:xfrm flipH="1" rot="15181800">
                <a:off x="3921480" y="5051880"/>
                <a:ext cx="101520" cy="105480"/>
              </a:xfrm>
              <a:custGeom>
                <a:avLst/>
                <a:gdLst>
                  <a:gd name="textAreaLeft" fmla="*/ 360 w 101520"/>
                  <a:gd name="textAreaRight" fmla="*/ 102240 w 1015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"/>
              <p:cNvSpPr/>
              <p:nvPr/>
            </p:nvSpPr>
            <p:spPr>
              <a:xfrm flipH="1" rot="15181800">
                <a:off x="3842640" y="5134320"/>
                <a:ext cx="203400" cy="41760"/>
              </a:xfrm>
              <a:custGeom>
                <a:avLst/>
                <a:gdLst>
                  <a:gd name="textAreaLeft" fmla="*/ -360 w 203400"/>
                  <a:gd name="textAreaRight" fmla="*/ 203400 w 2034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28760" y="20001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вмести вершину угла и центр полуокруж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вмести сторону угла с нулевой отметкой на транспорт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инай отсчёт  с нулевой отметки, лежащей на стороне уг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500040" y="357120"/>
            <a:ext cx="82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измерения уг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РЬТЕ УГЛЫ И ЗАПИШИТЕ РЕЗУЛЬТАТЫ ИЗМЕР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6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.з.№1651, 1681(1)-задача на повторение. Узнать о другой единице измерения уг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907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 rot="2344800">
            <a:off x="380160" y="1142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33520" y="198108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83808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838080" y="2286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2057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533520" y="281952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2096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096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13372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6668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371600" y="1371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572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0384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038480" y="1447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65760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11480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72428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4038480" y="2057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4303800" y="1447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4303800" y="10666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4307040" y="20574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6934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6934320" y="1066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65530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701028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54380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934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7199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7199280" y="10666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7202520" y="20574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220968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220968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828800" y="4038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2286000" y="487692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281952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22096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2475000" y="42670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2475000" y="38862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2478240" y="4876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1752480" y="46483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27432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533412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5638680" y="3200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 rot="2344800">
            <a:off x="5028480" y="3428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4"/>
          <p:cNvSpPr/>
          <p:nvPr/>
        </p:nvSpPr>
        <p:spPr>
          <a:xfrm>
            <a:off x="5181480" y="42670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57150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548640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5105520" y="43434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8"/>
          <p:cNvSpPr/>
          <p:nvPr/>
        </p:nvSpPr>
        <p:spPr>
          <a:xfrm>
            <a:off x="5181480" y="51055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54864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0"/>
          <p:cNvSpPr/>
          <p:nvPr/>
        </p:nvSpPr>
        <p:spPr>
          <a:xfrm>
            <a:off x="678168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5715000" y="3657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6019920" y="3200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5105520" y="5029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685800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5"/>
          <p:cNvSpPr/>
          <p:nvPr/>
        </p:nvSpPr>
        <p:spPr>
          <a:xfrm>
            <a:off x="67816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19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19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38080" y="1600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295280" y="24382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1932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48428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484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48752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5791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57913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 rot="2344800">
            <a:off x="5485680" y="15998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5638680" y="24382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9436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541008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52578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638680" y="32767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410080" y="3352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2388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6172200" y="1828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6172200" y="1371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5334120" y="3352680"/>
            <a:ext cx="1904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7315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7238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2767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3276720" y="152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2895480" y="1676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3352680" y="25146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3276720" y="2514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3541680" y="19051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3541680" y="15238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3544920" y="2514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2819520" y="228600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7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396252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285920"/>
          <a:ext cx="8229600" cy="5214960"/>
        </p:xfrm>
        <a:graphic>
          <a:graphicData uri="http://schemas.openxmlformats.org/drawingml/2006/table">
            <a:tbl>
              <a:tblPr/>
              <a:tblGrid>
                <a:gridCol w="2403360"/>
                <a:gridCol w="2976480"/>
                <a:gridCol w="2849760"/>
              </a:tblGrid>
              <a:tr h="334332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С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M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Группа 7"/>
          <p:cNvGrpSpPr/>
          <p:nvPr/>
        </p:nvGrpSpPr>
        <p:grpSpPr>
          <a:xfrm>
            <a:off x="642960" y="1643040"/>
            <a:ext cx="7601040" cy="2533680"/>
            <a:chOff x="642960" y="1643040"/>
            <a:chExt cx="7601040" cy="2533680"/>
          </a:xfrm>
        </p:grpSpPr>
        <p:graphicFrame>
          <p:nvGraphicFramePr>
            <p:cNvPr id="184" name="Object 3"/>
            <p:cNvGraphicFramePr/>
            <p:nvPr/>
          </p:nvGraphicFramePr>
          <p:xfrm>
            <a:off x="642960" y="1643040"/>
            <a:ext cx="2190600" cy="240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" y="1643040"/>
                      <a:ext cx="2190600" cy="24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2"/>
            <p:cNvGraphicFramePr/>
            <p:nvPr/>
          </p:nvGraphicFramePr>
          <p:xfrm>
            <a:off x="3071880" y="1785600"/>
            <a:ext cx="2085840" cy="225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1880" y="1785600"/>
                      <a:ext cx="2085840" cy="22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"/>
            <p:cNvGraphicFramePr/>
            <p:nvPr/>
          </p:nvGraphicFramePr>
          <p:xfrm>
            <a:off x="6215400" y="1928520"/>
            <a:ext cx="2028600" cy="224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5400" y="1928520"/>
                      <a:ext cx="2028600" cy="22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Прямая соединительная линия 9"/>
          <p:cNvSpPr/>
          <p:nvPr/>
        </p:nvSpPr>
        <p:spPr>
          <a:xfrm flipH="1">
            <a:off x="714240" y="2142360"/>
            <a:ext cx="1643040" cy="8571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 flipH="1">
            <a:off x="2071440" y="2143080"/>
            <a:ext cx="285480" cy="242892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12"/>
          <p:cNvSpPr/>
          <p:nvPr/>
        </p:nvSpPr>
        <p:spPr>
          <a:xfrm flipH="1">
            <a:off x="4571640" y="1357200"/>
            <a:ext cx="214200" cy="23576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13"/>
          <p:cNvSpPr/>
          <p:nvPr/>
        </p:nvSpPr>
        <p:spPr>
          <a:xfrm flipH="1" flipV="1">
            <a:off x="3071520" y="2571480"/>
            <a:ext cx="1500120" cy="11430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4"/>
          <p:cNvSpPr/>
          <p:nvPr/>
        </p:nvSpPr>
        <p:spPr>
          <a:xfrm flipH="1" flipV="1">
            <a:off x="6571800" y="2999880"/>
            <a:ext cx="2000520" cy="14288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5"/>
          <p:cNvSpPr/>
          <p:nvPr/>
        </p:nvSpPr>
        <p:spPr>
          <a:xfrm flipH="1">
            <a:off x="6571800" y="1928880"/>
            <a:ext cx="2000520" cy="10713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914400" y="457200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876920" y="4861080"/>
            <a:ext cx="4114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800600" y="4876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71680" y="5000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ХОД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0.00052 -0.00926 0.00156 -0.03378 0.00365 -0.05529 C 0.00573 -0.07703 0.00816 -0.10595 0.01302 -0.1307 C 0.01788 -0.15545 0.02656 -0.18344 0.03316 -0.20426 C 0.03976 -0.22508 0.04444 -0.23664 0.05313 -0.25607 C 0.06181 -0.27551 0.07222 -0.29794 0.0849 -0.32038 C 0.09757 -0.34282 0.11146 -0.36803 0.12951 -0.39093 C 0.14757 -0.41384 0.17031 -0.43997 0.19306 -0.45825 C 0.2158 -0.47652 0.23229 -0.48786 0.26597 -0.50058 C 0.29965 -0.5133 0.35417 -0.5332 0.39549 -0.53505 C 0.43681 -0.5369 0.48229 -0.52209 0.51424 -0.51145 C 0.54618 -0.50081 0.57309 -0.47884 0.58715 -0.47074 C 0.60122 -0.46264 0.59479 -0.46588 0.59896 -0.46288 C 0.60313 -0.45987 0.59948 -0.46496 0.61198 -0.452 C 0.62448 -0.43905 0.65625 -0.4069 0.67431 -0.38446 C 0.69236 -0.36202 0.70747 -0.34028 0.72014 -0.31714 C 0.73281 -0.29401 0.73924 -0.27967 0.75069 -0.2452 C 0.76215 -0.21074 0.78073 -0.15105 0.78837 -0.11034 C 0.79601 -0.06963 0.79497 -0.02337 0.7967 -0.00047 E">
                                      <p:cBhvr>
                                        <p:cTn id="385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914400" y="487692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876920" y="4800600"/>
            <a:ext cx="39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334120" y="762120"/>
            <a:ext cx="3581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угол является единицей измерения углов и равен одному градусу. Записываю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2831E-006 C 0.00104 -0.01156 0.00486 -0.05552 0.00608 -0.07009 E">
                                      <p:cBhvr>
                                        <p:cTn id="402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40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6324840" cy="4171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транспорти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214280" y="4857840"/>
            <a:ext cx="5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6429240" y="478620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лилиния 21"/>
          <p:cNvSpPr/>
          <p:nvPr/>
        </p:nvSpPr>
        <p:spPr>
          <a:xfrm>
            <a:off x="1285920" y="1785960"/>
            <a:ext cx="6226200" cy="3138480"/>
          </a:xfrm>
          <a:custGeom>
            <a:avLst/>
            <a:gdLst/>
            <a:ahLst/>
            <a:rect l="l" t="t" r="r" b="b"/>
            <a:pathLst>
              <a:path w="6226628" h="3138195">
                <a:moveTo>
                  <a:pt x="0" y="3125755"/>
                </a:moveTo>
                <a:cubicBezTo>
                  <a:pt x="23326" y="2817067"/>
                  <a:pt x="46653" y="2508380"/>
                  <a:pt x="121298" y="2239347"/>
                </a:cubicBezTo>
                <a:cubicBezTo>
                  <a:pt x="195943" y="1970314"/>
                  <a:pt x="307910" y="1737049"/>
                  <a:pt x="447869" y="1511559"/>
                </a:cubicBezTo>
                <a:cubicBezTo>
                  <a:pt x="587828" y="1286069"/>
                  <a:pt x="738673" y="1083906"/>
                  <a:pt x="961053" y="886408"/>
                </a:cubicBezTo>
                <a:cubicBezTo>
                  <a:pt x="1183433" y="688910"/>
                  <a:pt x="1500674" y="466530"/>
                  <a:pt x="1782147" y="326571"/>
                </a:cubicBezTo>
                <a:cubicBezTo>
                  <a:pt x="2063621" y="186612"/>
                  <a:pt x="2352870" y="93306"/>
                  <a:pt x="2649894" y="46653"/>
                </a:cubicBezTo>
                <a:cubicBezTo>
                  <a:pt x="2946918" y="0"/>
                  <a:pt x="3290596" y="13996"/>
                  <a:pt x="3564294" y="46653"/>
                </a:cubicBezTo>
                <a:cubicBezTo>
                  <a:pt x="3837992" y="79310"/>
                  <a:pt x="4074368" y="158621"/>
                  <a:pt x="4292082" y="242596"/>
                </a:cubicBezTo>
                <a:cubicBezTo>
                  <a:pt x="4509796" y="326572"/>
                  <a:pt x="4674636" y="407437"/>
                  <a:pt x="4870579" y="550506"/>
                </a:cubicBezTo>
                <a:cubicBezTo>
                  <a:pt x="5066522" y="693575"/>
                  <a:pt x="5307563" y="928396"/>
                  <a:pt x="5467739" y="1101012"/>
                </a:cubicBezTo>
                <a:cubicBezTo>
                  <a:pt x="5627915" y="1273628"/>
                  <a:pt x="5724331" y="1394927"/>
                  <a:pt x="5831633" y="1586204"/>
                </a:cubicBezTo>
                <a:cubicBezTo>
                  <a:pt x="5938935" y="1777481"/>
                  <a:pt x="6049347" y="2044959"/>
                  <a:pt x="6111551" y="2248677"/>
                </a:cubicBezTo>
                <a:cubicBezTo>
                  <a:pt x="6173755" y="2452395"/>
                  <a:pt x="6186196" y="2668555"/>
                  <a:pt x="6204857" y="2808514"/>
                </a:cubicBezTo>
                <a:cubicBezTo>
                  <a:pt x="6223518" y="2948473"/>
                  <a:pt x="6220408" y="3038669"/>
                  <a:pt x="6223518" y="3088432"/>
                </a:cubicBezTo>
                <a:cubicBezTo>
                  <a:pt x="6226628" y="3138195"/>
                  <a:pt x="6225073" y="3122644"/>
                  <a:pt x="6223518" y="310709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лилиния 22"/>
          <p:cNvSpPr/>
          <p:nvPr/>
        </p:nvSpPr>
        <p:spPr>
          <a:xfrm>
            <a:off x="2197080" y="2719440"/>
            <a:ext cx="4361040" cy="2151000"/>
          </a:xfrm>
          <a:custGeom>
            <a:avLst/>
            <a:gdLst/>
            <a:ahLst/>
            <a:rect l="l" t="t" r="r" b="b"/>
            <a:pathLst>
              <a:path w="4360506" h="2150706">
                <a:moveTo>
                  <a:pt x="4348065" y="2150706"/>
                </a:moveTo>
                <a:cubicBezTo>
                  <a:pt x="4354285" y="2040293"/>
                  <a:pt x="4360506" y="1929881"/>
                  <a:pt x="4338735" y="1805473"/>
                </a:cubicBezTo>
                <a:cubicBezTo>
                  <a:pt x="4316964" y="1681065"/>
                  <a:pt x="4264090" y="1527110"/>
                  <a:pt x="4217437" y="1404257"/>
                </a:cubicBezTo>
                <a:cubicBezTo>
                  <a:pt x="4170784" y="1281404"/>
                  <a:pt x="4121020" y="1175657"/>
                  <a:pt x="4058816" y="1068355"/>
                </a:cubicBezTo>
                <a:cubicBezTo>
                  <a:pt x="3996612" y="961053"/>
                  <a:pt x="3931298" y="859971"/>
                  <a:pt x="3844212" y="760444"/>
                </a:cubicBezTo>
                <a:cubicBezTo>
                  <a:pt x="3757126" y="660917"/>
                  <a:pt x="3651379" y="559836"/>
                  <a:pt x="3536302" y="471195"/>
                </a:cubicBezTo>
                <a:cubicBezTo>
                  <a:pt x="3421225" y="382554"/>
                  <a:pt x="3285931" y="295469"/>
                  <a:pt x="3153747" y="228600"/>
                </a:cubicBezTo>
                <a:cubicBezTo>
                  <a:pt x="3021563" y="161731"/>
                  <a:pt x="2890935" y="107302"/>
                  <a:pt x="2743200" y="69979"/>
                </a:cubicBezTo>
                <a:cubicBezTo>
                  <a:pt x="2595465" y="32656"/>
                  <a:pt x="2427514" y="9330"/>
                  <a:pt x="2267339" y="4665"/>
                </a:cubicBezTo>
                <a:cubicBezTo>
                  <a:pt x="2107164" y="0"/>
                  <a:pt x="1939212" y="13995"/>
                  <a:pt x="1782147" y="41987"/>
                </a:cubicBezTo>
                <a:cubicBezTo>
                  <a:pt x="1625082" y="69979"/>
                  <a:pt x="1454020" y="121298"/>
                  <a:pt x="1324947" y="172616"/>
                </a:cubicBezTo>
                <a:cubicBezTo>
                  <a:pt x="1195874" y="223934"/>
                  <a:pt x="1116563" y="276808"/>
                  <a:pt x="1007706" y="349898"/>
                </a:cubicBezTo>
                <a:cubicBezTo>
                  <a:pt x="898849" y="422988"/>
                  <a:pt x="766665" y="522514"/>
                  <a:pt x="671804" y="611155"/>
                </a:cubicBezTo>
                <a:cubicBezTo>
                  <a:pt x="576943" y="699796"/>
                  <a:pt x="508519" y="788436"/>
                  <a:pt x="438539" y="881742"/>
                </a:cubicBezTo>
                <a:cubicBezTo>
                  <a:pt x="368560" y="975048"/>
                  <a:pt x="306356" y="1063689"/>
                  <a:pt x="251927" y="1170991"/>
                </a:cubicBezTo>
                <a:cubicBezTo>
                  <a:pt x="197498" y="1278293"/>
                  <a:pt x="149290" y="1413588"/>
                  <a:pt x="111967" y="1525555"/>
                </a:cubicBezTo>
                <a:cubicBezTo>
                  <a:pt x="74645" y="1637522"/>
                  <a:pt x="46653" y="1740158"/>
                  <a:pt x="27992" y="1842795"/>
                </a:cubicBezTo>
                <a:cubicBezTo>
                  <a:pt x="9331" y="1945432"/>
                  <a:pt x="0" y="2141375"/>
                  <a:pt x="0" y="2141375"/>
                </a:cubicBezTo>
                <a:lnTo>
                  <a:pt x="0" y="2141375"/>
                </a:lnTo>
              </a:path>
            </a:pathLst>
          </a:custGeom>
          <a:noFill/>
          <a:ln w="63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14"/>
          <p:cNvCxnSpPr/>
          <p:nvPr/>
        </p:nvCxnSpPr>
        <p:spPr>
          <a:xfrm flipH="1" flipV="1">
            <a:off x="4428720" y="4928760"/>
            <a:ext cx="286560" cy="1215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18" name="TextBox 16"/>
          <p:cNvSpPr/>
          <p:nvPr/>
        </p:nvSpPr>
        <p:spPr>
          <a:xfrm>
            <a:off x="4071960" y="6072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17"/>
          <p:cNvCxnSpPr/>
          <p:nvPr/>
        </p:nvCxnSpPr>
        <p:spPr>
          <a:xfrm flipV="1">
            <a:off x="857160" y="4928400"/>
            <a:ext cx="35784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20" name="Прямая со стрелкой 23"/>
          <p:cNvCxnSpPr/>
          <p:nvPr/>
        </p:nvCxnSpPr>
        <p:spPr>
          <a:xfrm flipV="1">
            <a:off x="6356880" y="4857120"/>
            <a:ext cx="143640" cy="1143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21" name="TextBox 28"/>
          <p:cNvSpPr/>
          <p:nvPr/>
        </p:nvSpPr>
        <p:spPr>
          <a:xfrm>
            <a:off x="5857920" y="59342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утрен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214200" y="59342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еш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2"/>
          <p:cNvSpPr/>
          <p:nvPr/>
        </p:nvSpPr>
        <p:spPr>
          <a:xfrm rot="1260000">
            <a:off x="4680720" y="2664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4"/>
          <p:cNvSpPr/>
          <p:nvPr/>
        </p:nvSpPr>
        <p:spPr>
          <a:xfrm rot="20580000">
            <a:off x="3593520" y="2735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5"/>
          <p:cNvSpPr/>
          <p:nvPr/>
        </p:nvSpPr>
        <p:spPr>
          <a:xfrm rot="20280000">
            <a:off x="3402360" y="2768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 rot="16950000">
            <a:off x="886680" y="3803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 rot="16200000">
            <a:off x="851400" y="4299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 rot="17370000">
            <a:off x="1113840" y="31935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1"/>
          <p:cNvSpPr/>
          <p:nvPr/>
        </p:nvSpPr>
        <p:spPr>
          <a:xfrm rot="19202400">
            <a:off x="1634040" y="2286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2"/>
          <p:cNvSpPr/>
          <p:nvPr/>
        </p:nvSpPr>
        <p:spPr>
          <a:xfrm rot="18577200">
            <a:off x="1319040" y="2730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4"/>
          <p:cNvSpPr/>
          <p:nvPr/>
        </p:nvSpPr>
        <p:spPr>
          <a:xfrm rot="19848000">
            <a:off x="2186640" y="1785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3"/>
          <p:cNvSpPr/>
          <p:nvPr/>
        </p:nvSpPr>
        <p:spPr>
          <a:xfrm rot="19458600">
            <a:off x="1920960" y="1999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3"/>
          <p:cNvSpPr/>
          <p:nvPr/>
        </p:nvSpPr>
        <p:spPr>
          <a:xfrm rot="20435400">
            <a:off x="3053160" y="1336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5"/>
          <p:cNvSpPr/>
          <p:nvPr/>
        </p:nvSpPr>
        <p:spPr>
          <a:xfrm>
            <a:off x="4021200" y="1071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7"/>
          <p:cNvSpPr/>
          <p:nvPr/>
        </p:nvSpPr>
        <p:spPr>
          <a:xfrm rot="849000">
            <a:off x="5029560" y="1184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8"/>
          <p:cNvSpPr/>
          <p:nvPr/>
        </p:nvSpPr>
        <p:spPr>
          <a:xfrm rot="841800">
            <a:off x="5458320" y="12970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9"/>
          <p:cNvSpPr/>
          <p:nvPr/>
        </p:nvSpPr>
        <p:spPr>
          <a:xfrm rot="295200">
            <a:off x="4551480" y="1089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0"/>
          <p:cNvSpPr/>
          <p:nvPr/>
        </p:nvSpPr>
        <p:spPr>
          <a:xfrm rot="2428800">
            <a:off x="6389280" y="1930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1"/>
          <p:cNvSpPr/>
          <p:nvPr/>
        </p:nvSpPr>
        <p:spPr>
          <a:xfrm rot="1791000">
            <a:off x="5799960" y="14367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6"/>
          <p:cNvSpPr/>
          <p:nvPr/>
        </p:nvSpPr>
        <p:spPr>
          <a:xfrm rot="21159000">
            <a:off x="3492000" y="116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7"/>
          <p:cNvSpPr/>
          <p:nvPr/>
        </p:nvSpPr>
        <p:spPr>
          <a:xfrm rot="4578600">
            <a:off x="7331400" y="319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 rot="3624000">
            <a:off x="7058160" y="27122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9"/>
          <p:cNvSpPr/>
          <p:nvPr/>
        </p:nvSpPr>
        <p:spPr>
          <a:xfrm rot="2287200">
            <a:off x="6182640" y="1719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0"/>
          <p:cNvSpPr/>
          <p:nvPr/>
        </p:nvSpPr>
        <p:spPr>
          <a:xfrm rot="3046200">
            <a:off x="6771960" y="23644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1"/>
          <p:cNvSpPr/>
          <p:nvPr/>
        </p:nvSpPr>
        <p:spPr>
          <a:xfrm rot="4995600">
            <a:off x="7386840" y="3520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2"/>
          <p:cNvSpPr/>
          <p:nvPr/>
        </p:nvSpPr>
        <p:spPr>
          <a:xfrm rot="5400000">
            <a:off x="7463160" y="38818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4"/>
          <p:cNvSpPr/>
          <p:nvPr/>
        </p:nvSpPr>
        <p:spPr>
          <a:xfrm rot="16800000">
            <a:off x="2352600" y="4100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5"/>
          <p:cNvSpPr/>
          <p:nvPr/>
        </p:nvSpPr>
        <p:spPr>
          <a:xfrm rot="16200000">
            <a:off x="2315520" y="432828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7"/>
          <p:cNvSpPr/>
          <p:nvPr/>
        </p:nvSpPr>
        <p:spPr>
          <a:xfrm rot="19620000">
            <a:off x="3158280" y="2846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8"/>
          <p:cNvSpPr/>
          <p:nvPr/>
        </p:nvSpPr>
        <p:spPr>
          <a:xfrm rot="18000000">
            <a:off x="2555280" y="3509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1"/>
          <p:cNvSpPr/>
          <p:nvPr/>
        </p:nvSpPr>
        <p:spPr>
          <a:xfrm rot="17734200">
            <a:off x="2482920" y="3777120"/>
            <a:ext cx="4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2"/>
          <p:cNvSpPr/>
          <p:nvPr/>
        </p:nvSpPr>
        <p:spPr>
          <a:xfrm rot="18180000">
            <a:off x="2610000" y="333612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3"/>
          <p:cNvSpPr/>
          <p:nvPr/>
        </p:nvSpPr>
        <p:spPr>
          <a:xfrm rot="19202400">
            <a:off x="2962440" y="305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4"/>
          <p:cNvSpPr/>
          <p:nvPr/>
        </p:nvSpPr>
        <p:spPr>
          <a:xfrm>
            <a:off x="417672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5"/>
          <p:cNvSpPr/>
          <p:nvPr/>
        </p:nvSpPr>
        <p:spPr>
          <a:xfrm rot="600000">
            <a:off x="4488120" y="2603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6"/>
          <p:cNvSpPr/>
          <p:nvPr/>
        </p:nvSpPr>
        <p:spPr>
          <a:xfrm rot="2100000">
            <a:off x="5112360" y="28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7"/>
          <p:cNvSpPr/>
          <p:nvPr/>
        </p:nvSpPr>
        <p:spPr>
          <a:xfrm rot="1500000">
            <a:off x="4845600" y="2700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8"/>
          <p:cNvSpPr/>
          <p:nvPr/>
        </p:nvSpPr>
        <p:spPr>
          <a:xfrm rot="2880000">
            <a:off x="5436720" y="30614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9"/>
          <p:cNvSpPr/>
          <p:nvPr/>
        </p:nvSpPr>
        <p:spPr>
          <a:xfrm rot="2400000">
            <a:off x="5250960" y="2985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2"/>
          <p:cNvSpPr/>
          <p:nvPr/>
        </p:nvSpPr>
        <p:spPr>
          <a:xfrm rot="21180000">
            <a:off x="3970080" y="2666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3"/>
          <p:cNvSpPr/>
          <p:nvPr/>
        </p:nvSpPr>
        <p:spPr>
          <a:xfrm rot="18720000">
            <a:off x="2833560" y="3186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4"/>
          <p:cNvSpPr/>
          <p:nvPr/>
        </p:nvSpPr>
        <p:spPr>
          <a:xfrm rot="3360000">
            <a:off x="5628960" y="3237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5"/>
          <p:cNvSpPr/>
          <p:nvPr/>
        </p:nvSpPr>
        <p:spPr>
          <a:xfrm rot="3472200">
            <a:off x="5760720" y="3456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6"/>
          <p:cNvSpPr/>
          <p:nvPr/>
        </p:nvSpPr>
        <p:spPr>
          <a:xfrm rot="5100000">
            <a:off x="6016680" y="39643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7"/>
          <p:cNvSpPr/>
          <p:nvPr/>
        </p:nvSpPr>
        <p:spPr>
          <a:xfrm rot="5089200">
            <a:off x="6106320" y="423180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8"/>
          <p:cNvSpPr/>
          <p:nvPr/>
        </p:nvSpPr>
        <p:spPr>
          <a:xfrm rot="5151600">
            <a:off x="6104160" y="443916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9"/>
          <p:cNvSpPr/>
          <p:nvPr/>
        </p:nvSpPr>
        <p:spPr>
          <a:xfrm rot="4440000">
            <a:off x="5901120" y="3665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31"/>
          <p:cNvSpPr/>
          <p:nvPr/>
        </p:nvSpPr>
        <p:spPr>
          <a:xfrm>
            <a:off x="1214280" y="4786200"/>
            <a:ext cx="21456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32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7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8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9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6T17:56:19Z</dcterms:modified>
  <cp:revision>20</cp:revision>
  <dc:subject/>
  <dc:title>Действия с десятичными дробями</dc:title>
</cp:coreProperties>
</file>