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31.jpeg" ContentType="image/jpeg"/>
  <Override PartName="/ppt/media/image35.png" ContentType="image/png"/>
  <Override PartName="/ppt/media/image36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7.gif" ContentType="image/gif"/>
  <Override PartName="/ppt/media/image29.jpeg" ContentType="image/jpeg"/>
  <Override PartName="/ppt/media/image42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14.jpeg" ContentType="image/jpeg"/>
  <Override PartName="/ppt/media/image28.png" ContentType="image/png"/>
  <Override PartName="/ppt/media/image5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812-14DE-4748-954D-EF2A7F8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4C3-3E33-46F1-9FFD-2857C34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C5A-4F77-46FB-9097-0B1F3FF6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1D1-3DF7-40D0-AA48-93691D0D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EE5-51BD-4D26-8224-1A2153D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F21-10DE-49E5-9A64-FD04D82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848-7D19-4AA4-98E1-8749C4A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B92-5FEA-4F50-A07D-2447E9E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1F8-2CBD-46AB-80E3-6CED76C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B66-739D-4CA3-8209-4DAABBC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AA6-3657-4B6D-B239-2F0A927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111-DBC3-4750-B9CD-75DD656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B9C-ED74-4023-8646-F8AF12F5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74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214280" y="500040"/>
            <a:ext cx="65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Качество детского рису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1214280" y="2500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является одним из основных показателей готовности к овладению процессом пись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K:\Готовность к школе\с карандашом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928800" y="785880"/>
            <a:ext cx="7215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сего 10-15 минут в день работы с книжкой-раскраской - и многие школьные проблемы будут решены еще до поступления в первый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ажно, чтобы ребенок работал в спокойной обстановке. Можно включить  музыку, которая помогает расслабиться, создает спокойное, умиротворенное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нна\Desktop\Логопед\Анна\анимашки школа\Анимашки - Школа\Анимашки - Школа\49.gif"/>
          <p:cNvPicPr/>
          <p:nvPr/>
        </p:nvPicPr>
        <p:blipFill>
          <a:blip r:embed="rId1"/>
          <a:stretch/>
        </p:blipFill>
        <p:spPr>
          <a:xfrm>
            <a:off x="7143840" y="4857840"/>
            <a:ext cx="12142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360000"/>
            <a:ext cx="74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  <a:ea typeface="Calibri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571680" y="128592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всегда высокий уровень интеллектуального развития совпа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с личностной готовностью ребенка к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Бывает так, что ребенок подготовлен к школе интеллектуально, но в бес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ыясняется, что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хочет туда ид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K:\Готовность к школе\np_01.jpg"/>
          <p:cNvPicPr/>
          <p:nvPr/>
        </p:nvPicPr>
        <p:blipFill>
          <a:blip r:embed="rId1"/>
          <a:stretch/>
        </p:blipFill>
        <p:spPr>
          <a:xfrm>
            <a:off x="5286240" y="4286160"/>
            <a:ext cx="3143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785880" y="64296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Дорогие роди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Нельзя оправдывать свое невнимание к будущему вашего ребенка занятостью и недостатком времени. У вас есть в запасе ещ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ремя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до поступления вашего ребенка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оспользуйтесь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ременем с польз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K:\Готовность к школе\help_3.jpg"/>
          <p:cNvPicPr/>
          <p:nvPr/>
        </p:nvPicPr>
        <p:blipFill>
          <a:blip r:embed="rId1"/>
          <a:stretch/>
        </p:blipFill>
        <p:spPr>
          <a:xfrm>
            <a:off x="6572160" y="3786120"/>
            <a:ext cx="1905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976040"/>
            <a:ext cx="4614840" cy="41432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324000" y="-19080"/>
            <a:ext cx="7650000" cy="148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429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Желание учитьс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Хорошее здоровь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моторика, хороший уровень развития познавательных процесс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Стремление к общению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волевая сфер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smile1698"/>
          <p:cNvPicPr/>
          <p:nvPr/>
        </p:nvPicPr>
        <p:blipFill>
          <a:blip r:embed="rId2"/>
          <a:stretch/>
        </p:blipFill>
        <p:spPr>
          <a:xfrm>
            <a:off x="6500880" y="5429160"/>
            <a:ext cx="86364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ервоклашка"/>
          <p:cNvPicPr/>
          <p:nvPr/>
        </p:nvPicPr>
        <p:blipFill>
          <a:blip r:embed="rId3"/>
          <a:stretch/>
        </p:blipFill>
        <p:spPr>
          <a:xfrm>
            <a:off x="5715000" y="3857760"/>
            <a:ext cx="250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0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почти всегда» 4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Полученные баллы слож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71680" y="1071720"/>
            <a:ext cx="8286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Готовность к школе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умение чи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и пис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букваешка"/>
          <p:cNvPicPr/>
          <p:nvPr/>
        </p:nvPicPr>
        <p:blipFill>
          <a:blip r:embed="rId1"/>
          <a:stretch/>
        </p:blipFill>
        <p:spPr>
          <a:xfrm>
            <a:off x="5435640" y="3068640"/>
            <a:ext cx="3263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160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000680" y="1785960"/>
            <a:ext cx="46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Недоигравший ребенок - это горе для учителя и сплошные учебные проблемы для само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Логопед\Рабочий стол\дети\IMG_2182.jpg"/>
          <p:cNvPicPr/>
          <p:nvPr/>
        </p:nvPicPr>
        <p:blipFill>
          <a:blip r:embed="rId1"/>
          <a:stretch/>
        </p:blipFill>
        <p:spPr>
          <a:xfrm>
            <a:off x="571680" y="1571760"/>
            <a:ext cx="3214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285920" y="928800"/>
            <a:ext cx="66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Для готовности к школьному обучению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не принципиально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, на самом деле, умеет ли ребенок читать или счит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о есть вещ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0000"/>
                </a:solidFill>
                <a:latin typeface="Comic Sans MS"/>
              </a:rPr>
              <a:t>принципиальные для уче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Фонематический сл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2000160" y="2143080"/>
            <a:ext cx="4857840" cy="332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деди 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де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сима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з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лупок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клуб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нг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(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Звукопроизно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000160" y="2143080"/>
            <a:ext cx="485784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785880" y="178596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Речь ребенка далеко не всегда бывает правильной от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rebenok2"/>
          <p:cNvPicPr/>
          <p:nvPr/>
        </p:nvPicPr>
        <p:blipFill>
          <a:blip r:embed="rId1"/>
          <a:stretch/>
        </p:blipFill>
        <p:spPr>
          <a:xfrm>
            <a:off x="1857240" y="3000240"/>
            <a:ext cx="2592360" cy="2633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5"/>
          <p:cNvSpPr/>
          <p:nvPr/>
        </p:nvSpPr>
        <p:spPr>
          <a:xfrm>
            <a:off x="5000760" y="3105000"/>
            <a:ext cx="314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 пяти годам он должен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произносить все звуки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285920" y="642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071720" y="150012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Жили-были три поросенка: Хрюша, Пятачок и Бублик. Хрюша толще Пятачка, а Пятачок толще Бубл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 flipV="1" rot="10800000">
            <a:off x="2285640" y="3842280"/>
            <a:ext cx="6286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Если для того, чтобы точно воспроизвести текст, ребенку потребуется прослушать его не более 3 раз, беспокоиться не о ч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310680"/>
            <a:ext cx="809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Calibri"/>
              </a:rPr>
              <a:t>Ориентация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K:\Готовность к школе\пишет на доске.jpg"/>
          <p:cNvPicPr/>
          <p:nvPr/>
        </p:nvPicPr>
        <p:blipFill>
          <a:blip r:embed="rId1"/>
          <a:stretch/>
        </p:blipFill>
        <p:spPr>
          <a:xfrm>
            <a:off x="6286680" y="3929040"/>
            <a:ext cx="245412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571680" y="144468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Нарисуйте ребенку картинку с массой подробностей. Домик с окошками, в одном есть занавеска, в другом - нет. Забор: справа грушевые деревья, слева - яблони. Из трубы идет дым. В левом углу - солнце, в правом - птицы и т. 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1428840" y="4000680"/>
            <a:ext cx="46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И пусть ребенок перерисует эту картину в точности. Важно, насколько точно он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3T04:24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