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png" ContentType="image/png"/>
  <Override PartName="/ppt/media/image6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png" ContentType="image/png"/>
  <Override PartName="/ppt/media/image24.jpeg" ContentType="image/jpeg"/>
  <Override PartName="/ppt/media/image27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0.gif" ContentType="image/gif"/>
  <Override PartName="/ppt/media/image31.jpeg" ContentType="image/jpeg"/>
  <Override PartName="/ppt/media/image35.png" ContentType="image/png"/>
  <Override PartName="/ppt/media/image36.png" ContentType="image/png"/>
  <Override PartName="/ppt/media/image40.jpeg" ContentType="image/jpeg"/>
  <Override PartName="/ppt/media/image37.jpeg" ContentType="image/jpeg"/>
  <Override PartName="/ppt/media/image30.png" ContentType="image/png"/>
  <Override PartName="/ppt/media/image7.gif" ContentType="image/gif"/>
  <Override PartName="/ppt/media/image29.jpeg" ContentType="image/jpeg"/>
  <Override PartName="/ppt/media/image42.png" ContentType="image/png"/>
  <Override PartName="/ppt/media/image38.png" ContentType="image/png"/>
  <Override PartName="/ppt/media/image8.jpeg" ContentType="image/jpeg"/>
  <Override PartName="/ppt/media/image39.jpeg" ContentType="image/jpeg"/>
  <Override PartName="/ppt/media/image41.jpeg" ContentType="image/jpeg"/>
  <Override PartName="/ppt/media/image14.jpeg" ContentType="image/jpeg"/>
  <Override PartName="/ppt/media/image28.png" ContentType="image/png"/>
  <Override PartName="/ppt/media/image5.gif" ContentType="image/gif"/>
  <Override PartName="/ppt/media/image12.jpeg" ContentType="image/jpeg"/>
  <Override PartName="/ppt/media/image34.png" ContentType="image/png"/>
  <Override PartName="/ppt/media/image4.png" ContentType="image/png"/>
  <Override PartName="/ppt/media/image2.png" ContentType="image/png"/>
  <Override PartName="/ppt/media/image32.png" ContentType="image/png"/>
  <Override PartName="/ppt/media/image1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346-A0E8-48EF-AFED-3E3F2B7A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0C6-F8F8-470B-9825-F359D386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2AA-F601-4091-9E33-A77DB012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591-263D-40D9-B30C-F5BA2C83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BFB-5378-466F-A863-F1238DE6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D37-DDD1-4B53-9B10-671C5C26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BC4-917E-43CB-90C6-5EFE69F4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CA2-C03A-4E65-AD49-B4518433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0EB-6967-496D-A3D7-CED67970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E15-37C7-4FCB-88FA-40AA25A8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BF6-BBE6-4ECE-B1CD-E344FFFA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669-BF32-476B-A253-6F5BD916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3E84-FCFB-418D-8614-E7DFCD5C8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74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1214280" y="500040"/>
            <a:ext cx="657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Качество детского рису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1214280" y="250020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является одним из основных показателей готовности к овладению процессом пись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K:\Готовность к школе\с карандашом.jpg"/>
          <p:cNvPicPr/>
          <p:nvPr/>
        </p:nvPicPr>
        <p:blipFill>
          <a:blip r:embed="rId1"/>
          <a:stretch/>
        </p:blipFill>
        <p:spPr>
          <a:xfrm>
            <a:off x="5786280" y="4214880"/>
            <a:ext cx="25005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928800" y="785880"/>
            <a:ext cx="7215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Всего 10-15 минут в день работы с книжкой-раскраской - и многие школьные проблемы будут решены еще до поступления в первый клас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Важно, чтобы ребенок работал в спокойной обстановке. Можно включить  музыку, которая помогает расслабиться, создает спокойное, умиротворенное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Анна\Desktop\Логопед\Анна\анимашки школа\Анимашки - Школа\Анимашки - Школа\49.gif"/>
          <p:cNvPicPr/>
          <p:nvPr/>
        </p:nvPicPr>
        <p:blipFill>
          <a:blip r:embed="rId1"/>
          <a:stretch/>
        </p:blipFill>
        <p:spPr>
          <a:xfrm>
            <a:off x="7143840" y="4857840"/>
            <a:ext cx="12142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85840" y="360000"/>
            <a:ext cx="742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  <a:ea typeface="Calibri"/>
              </a:rPr>
              <a:t>Личностн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571680" y="1285920"/>
            <a:ext cx="8572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Не всегда высокий уровень интеллектуального развития совпад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с личностной готовностью ребенка к шко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Бывает так, что ребенок подготовлен к школе интеллектуально, но в бесе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выясняется, что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не хочет туда ид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K:\Готовность к школе\np_01.jpg"/>
          <p:cNvPicPr/>
          <p:nvPr/>
        </p:nvPicPr>
        <p:blipFill>
          <a:blip r:embed="rId1"/>
          <a:stretch/>
        </p:blipFill>
        <p:spPr>
          <a:xfrm>
            <a:off x="5286240" y="4286160"/>
            <a:ext cx="31435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785880" y="642960"/>
            <a:ext cx="77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Дорогие родител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Нельзя оправдывать свое невнимание к будущему вашего ребенка занятостью и недостатком времени. У вас есть в запасе еще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ремя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до поступления вашего ребенка в шко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Воспользуйтесь эт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временем с польз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K:\Готовность к школе\help_3.jpg"/>
          <p:cNvPicPr/>
          <p:nvPr/>
        </p:nvPicPr>
        <p:blipFill>
          <a:blip r:embed="rId1"/>
          <a:stretch/>
        </p:blipFill>
        <p:spPr>
          <a:xfrm>
            <a:off x="6572160" y="3786120"/>
            <a:ext cx="19051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13880" y="2071800"/>
            <a:ext cx="4929480" cy="428616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Желание учиться, идти в шк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Стремление узнавать н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яйте положительное отношение ребенка к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гда не запугивайте ребенка, рассказывая о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2" descr=""/>
          <p:cNvPicPr/>
          <p:nvPr/>
        </p:nvPicPr>
        <p:blipFill>
          <a:blip r:embed="rId1"/>
          <a:stretch/>
        </p:blipFill>
        <p:spPr>
          <a:xfrm>
            <a:off x="378000" y="317520"/>
            <a:ext cx="865008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93dbcc2d26c0t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659560" y="2071800"/>
            <a:ext cx="3319200" cy="4286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deti0000.gif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285840" y="0"/>
            <a:ext cx="2000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6840" y="2142720"/>
            <a:ext cx="4329000" cy="435780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ая с ребенком, используйте игры с правилами (домино, лото, шашки, подвижные игры и т. 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едите за тем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, 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ребенок выполнял правила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Заголовок 10" descr=""/>
          <p:cNvPicPr/>
          <p:nvPr/>
        </p:nvPicPr>
        <p:blipFill>
          <a:blip r:embed="rId1"/>
          <a:stretch/>
        </p:blipFill>
        <p:spPr>
          <a:xfrm>
            <a:off x="285840" y="244440"/>
            <a:ext cx="8589960" cy="16448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9" descr="object_5_1099054865_27794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57880" y="2143080"/>
            <a:ext cx="3375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1856880"/>
            <a:ext cx="4214520" cy="43578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  ребенка устанавливать причинно-следственные св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йте вместе с ним логические задачи: загадки, ребусы, кроссвор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Заголовок 2" descr=""/>
          <p:cNvPicPr/>
          <p:nvPr/>
        </p:nvPicPr>
        <p:blipFill>
          <a:blip r:embed="rId1"/>
          <a:stretch/>
        </p:blipFill>
        <p:spPr>
          <a:xfrm>
            <a:off x="390600" y="396720"/>
            <a:ext cx="8246880" cy="12798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school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4929120" y="2928960"/>
            <a:ext cx="3857760" cy="32860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logo_white_3.jpg"/>
          <p:cNvPicPr/>
          <p:nvPr/>
        </p:nvPicPr>
        <p:blipFill>
          <a:blip r:embed="rId3">
            <a:lum contrast="40000"/>
          </a:blip>
          <a:stretch/>
        </p:blipFill>
        <p:spPr>
          <a:xfrm rot="1275600">
            <a:off x="6214680" y="500040"/>
            <a:ext cx="18572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6840" y="1976040"/>
            <a:ext cx="4614840" cy="41432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е общайтесь с ребенк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ощряйте его желание высказывать свою точку зрения, уважительно относитесь к 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Заголовок 2" descr=""/>
          <p:cNvPicPr/>
          <p:nvPr/>
        </p:nvPicPr>
        <p:blipFill>
          <a:blip r:embed="rId1"/>
          <a:stretch/>
        </p:blipFill>
        <p:spPr>
          <a:xfrm>
            <a:off x="390600" y="212760"/>
            <a:ext cx="8362800" cy="13111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8499e1aa980e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57880" y="1785960"/>
            <a:ext cx="3286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28400" y="1642680"/>
            <a:ext cx="4143240" cy="47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йте с ребенком состав числа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8 – это 4 +4, 3+5, 2+6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ориентироваться в числовом ряду (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соседи» числа 5 – это 4 и 6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пространственно-временных представлений (верх-низ, раньше-позже, право-лев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Заголовок 2" descr=""/>
          <p:cNvPicPr/>
          <p:nvPr/>
        </p:nvPicPr>
        <p:blipFill>
          <a:blip r:embed="rId1"/>
          <a:stretch/>
        </p:blipFill>
        <p:spPr>
          <a:xfrm>
            <a:off x="365040" y="219240"/>
            <a:ext cx="8413920" cy="13284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8-37_G8egDQh5WT.jpg"/>
          <p:cNvPicPr/>
          <p:nvPr/>
        </p:nvPicPr>
        <p:blipFill>
          <a:blip r:embed="rId2"/>
          <a:stretch/>
        </p:blipFill>
        <p:spPr>
          <a:xfrm>
            <a:off x="4786200" y="2571840"/>
            <a:ext cx="4000680" cy="38574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sch_tr.gif"/>
          <p:cNvPicPr/>
          <p:nvPr/>
        </p:nvPicPr>
        <p:blipFill>
          <a:blip r:embed="rId3"/>
          <a:stretch/>
        </p:blipFill>
        <p:spPr>
          <a:xfrm>
            <a:off x="5500800" y="214200"/>
            <a:ext cx="29289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43040"/>
            <a:ext cx="4829040" cy="4572000"/>
          </a:xfrm>
          <a:prstGeom prst="rect">
            <a:avLst/>
          </a:prstGeom>
          <a:solidFill>
            <a:srgbClr val="fce9b2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Развивайте мелкую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моторику ру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месте с ребен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исуйт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скрашивайте (стараясь не залезать за границы рисунк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епит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бирайте мозаи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Заголовок 2" descr=""/>
          <p:cNvPicPr/>
          <p:nvPr/>
        </p:nvPicPr>
        <p:blipFill>
          <a:blip r:embed="rId1"/>
          <a:stretch/>
        </p:blipFill>
        <p:spPr>
          <a:xfrm>
            <a:off x="360360" y="255600"/>
            <a:ext cx="8362800" cy="12747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" descr="shkola.jpg"/>
          <p:cNvPicPr/>
          <p:nvPr/>
        </p:nvPicPr>
        <p:blipFill>
          <a:blip r:embed="rId2"/>
          <a:stretch/>
        </p:blipFill>
        <p:spPr>
          <a:xfrm>
            <a:off x="5643720" y="1785960"/>
            <a:ext cx="3143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324000" y="-19080"/>
            <a:ext cx="7650000" cy="1487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42960" y="16426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24"/>
              </a:spcBef>
              <a:buClr>
                <a:srgbClr val="773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3313"/>
                </a:solidFill>
                <a:latin typeface="Arial"/>
              </a:rPr>
              <a:t>Желание учиться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24"/>
              </a:spcBef>
              <a:buClr>
                <a:srgbClr val="773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3313"/>
                </a:solidFill>
                <a:latin typeface="Arial"/>
              </a:rPr>
              <a:t>Хорошее здоровь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24"/>
              </a:spcBef>
              <a:buClr>
                <a:srgbClr val="773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3313"/>
                </a:solidFill>
                <a:latin typeface="Arial"/>
              </a:rPr>
              <a:t>Развитая моторика, хороший уровень развития познавательных процессо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24"/>
              </a:spcBef>
              <a:buClr>
                <a:srgbClr val="773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3313"/>
                </a:solidFill>
                <a:latin typeface="Arial"/>
              </a:rPr>
              <a:t>Стремление к общению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3313"/>
                </a:solidFill>
                <a:latin typeface="Arial"/>
              </a:rPr>
              <a:t>развитая волевая сфер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smile1698"/>
          <p:cNvPicPr/>
          <p:nvPr/>
        </p:nvPicPr>
        <p:blipFill>
          <a:blip r:embed="rId2"/>
          <a:stretch/>
        </p:blipFill>
        <p:spPr>
          <a:xfrm>
            <a:off x="6500880" y="5429160"/>
            <a:ext cx="863640" cy="565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Первоклашка"/>
          <p:cNvPicPr/>
          <p:nvPr/>
        </p:nvPicPr>
        <p:blipFill>
          <a:blip r:embed="rId3"/>
          <a:stretch/>
        </p:blipFill>
        <p:spPr>
          <a:xfrm>
            <a:off x="5715000" y="3857760"/>
            <a:ext cx="250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6840" y="1999800"/>
            <a:ext cx="8186760" cy="4286520"/>
          </a:xfrm>
          <a:prstGeom prst="rect">
            <a:avLst/>
          </a:prstGeom>
          <a:solidFill>
            <a:srgbClr val="cef8fe"/>
          </a:solidFill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яйте представления ребенка о звуках, слогах, словах и предложе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едложите ребенку назвать звук, с которого начинается слово. Именно звук, а не букву. В противном случае у детей возникают трудности при слиянии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комить с буквами желательно тогда, когда ребенок уже начнет читать по сл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имание того, что буквы и звуки – это вовсе не одно и то же, поможет ребенку в овладении пись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важно уметь делить слово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62800" cy="12794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6.jpg"/>
          <p:cNvPicPr/>
          <p:nvPr/>
        </p:nvPicPr>
        <p:blipFill>
          <a:blip r:embed="rId2"/>
          <a:stretch/>
        </p:blipFill>
        <p:spPr>
          <a:xfrm>
            <a:off x="5572080" y="214200"/>
            <a:ext cx="25002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7120" y="1643040"/>
            <a:ext cx="4929120" cy="48578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При общении с ребенком называйте его друзей по и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Не критикуйте сверстников ребен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Если возникнет необходимость, лучше проанализировать сложную (иногда конфликтную) ситуацию вместе с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Приглашайте друзей ребенка в гости, участвуйте в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381880" cy="1305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big5f1xo1.jpg"/>
          <p:cNvPicPr/>
          <p:nvPr/>
        </p:nvPicPr>
        <p:blipFill>
          <a:blip r:embed="rId2"/>
          <a:stretch/>
        </p:blipFill>
        <p:spPr>
          <a:xfrm rot="472800">
            <a:off x="5429160" y="2286000"/>
            <a:ext cx="3357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643040"/>
            <a:ext cx="4757760" cy="457200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овывайте с ребенком совместн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обсуждайте при нем взросл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ясняйте ему правила общения с учителем и другими взрослыми людь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62800" cy="11462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ipoteca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429160" y="1714680"/>
            <a:ext cx="3429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785960"/>
            <a:ext cx="4857840" cy="4857840"/>
          </a:xfrm>
          <a:prstGeom prst="rect">
            <a:avLst/>
          </a:prstGeom>
          <a:solidFill>
            <a:srgbClr val="fce9b2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казывайте ребенку о правилах поведения в обществе и закрепляйте их своим приме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важайте права ребенка, предъявляйте разумные требования, чаще отмечайте его хорошие поступки и успе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бований и запретов не должно быть много, но те, что вы установили, должны соблюдаться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се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членами семь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гда и вез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бования должны быть обоснованными и понят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Заголовок 2" descr=""/>
          <p:cNvPicPr/>
          <p:nvPr/>
        </p:nvPicPr>
        <p:blipFill>
          <a:blip r:embed="rId1"/>
          <a:stretch/>
        </p:blipFill>
        <p:spPr>
          <a:xfrm>
            <a:off x="646200" y="152280"/>
            <a:ext cx="7991280" cy="1311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blackboard.gif"/>
          <p:cNvPicPr/>
          <p:nvPr/>
        </p:nvPicPr>
        <p:blipFill>
          <a:blip r:embed="rId2"/>
          <a:stretch/>
        </p:blipFill>
        <p:spPr>
          <a:xfrm>
            <a:off x="5429160" y="1500120"/>
            <a:ext cx="3286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1571400"/>
            <a:ext cx="4543560" cy="471492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учитесь понимать своего ребен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забывайте, что у ребенка могут быть свои проблемы и свое мн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стоит торопить время, желая, чтобы ваш малыш повзросле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учитесь радоваться каждому дню его дет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Заголовок 2" descr=""/>
          <p:cNvPicPr/>
          <p:nvPr/>
        </p:nvPicPr>
        <p:blipFill>
          <a:blip r:embed="rId1"/>
          <a:stretch/>
        </p:blipFill>
        <p:spPr>
          <a:xfrm>
            <a:off x="165240" y="231840"/>
            <a:ext cx="8594640" cy="13050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a1a595594bddt.jpg"/>
          <p:cNvPicPr/>
          <p:nvPr/>
        </p:nvPicPr>
        <p:blipFill>
          <a:blip r:embed="rId2"/>
          <a:stretch/>
        </p:blipFill>
        <p:spPr>
          <a:xfrm>
            <a:off x="5334120" y="2000160"/>
            <a:ext cx="35956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6840" y="2071800"/>
            <a:ext cx="5186520" cy="43574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забывайте о физических упражн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ренняя гимнастика должна стать привыч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йте музыку, под которую приятно потанцевать и порезв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гры на свежем воздухе, плаванье, лыжи, коньки, велосипед помогут будущему ученику окрепнуть и разовьют координацию дв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Заголовок 3" descr=""/>
          <p:cNvPicPr/>
          <p:nvPr/>
        </p:nvPicPr>
        <p:blipFill>
          <a:blip r:embed="rId1"/>
          <a:stretch/>
        </p:blipFill>
        <p:spPr>
          <a:xfrm>
            <a:off x="390600" y="360360"/>
            <a:ext cx="8246880" cy="14558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1211949034_11.jpg"/>
          <p:cNvPicPr/>
          <p:nvPr/>
        </p:nvPicPr>
        <p:blipFill>
          <a:blip r:embed="rId2"/>
          <a:stretch/>
        </p:blipFill>
        <p:spPr>
          <a:xfrm rot="429600">
            <a:off x="6257520" y="313920"/>
            <a:ext cx="171468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0" name="Рисунок 7" descr="8c2e29e827a6t.jpg"/>
          <p:cNvPicPr/>
          <p:nvPr/>
        </p:nvPicPr>
        <p:blipFill>
          <a:blip r:embed="rId3"/>
          <a:stretch/>
        </p:blipFill>
        <p:spPr>
          <a:xfrm>
            <a:off x="5786280" y="27860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 теперь проверьте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ест  для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Выберите один из трех отве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очти всег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иног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ни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одсчет бал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За каждый от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«почти всегда» 4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бал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«иногда» - 2 бал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«никогда»  - 0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Полученные баллы слож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Нравится ли вам ваш малыш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лушаете ли вы, что ребенок говор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тараетесь ли вы создать у ребенка ощущение значимости того, что он говор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оправляете ли вы речь ребе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озволяете ли вы ребенку совершать ошиб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691920"/>
            <a:ext cx="81342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Хвалите ли вы малыша, обнимаете ли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меетесь ли вместе с малыш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тводите ли вы каждый время для чтения ребенку и для бесед с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Играете ли вы с малышом в какие – либо иг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оощряете ли вы ребенка в его интересах и увлечен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571680" y="1071720"/>
            <a:ext cx="8286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Готовность к школе – э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умение чита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и писа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букваешка"/>
          <p:cNvPicPr/>
          <p:nvPr/>
        </p:nvPicPr>
        <p:blipFill>
          <a:blip r:embed="rId1"/>
          <a:stretch/>
        </p:blipFill>
        <p:spPr>
          <a:xfrm>
            <a:off x="5435640" y="3068640"/>
            <a:ext cx="32637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9185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Есть ли у ребенка дома месть, которое отведено только 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тараетесь ли вы подать ребенку пример, читая газеты, журналы и кни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бсуждаете ли вы что-нибудь интересное из прочитанного вами с семьей и с ребен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тараетесь ли вы сказать все за малыша, прежде чем он успеет раскрыть рот: у зубного врача или в магази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80629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мотрите ли вы телевизор вместе с ребен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Задаете ли вы малышу вопросы о просмотренном по телевизо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граничиваете ли вы возможность ребенка смотреть телевиз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Есть ли у ребенка возможность проявлять свои эмоции в рамках общепринятого поведения («возиться» в играх, обнимать, тискать мягкие игрушки и 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тараетесь ли вы выезжать с ребенком на прогулки в лес, на озеро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Ходите ли вы вместе с ребенком в музей, театр и т.д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Есть ли у ребенка собственные кни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79898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юч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88 баллов – здор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44 балла – неплох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Меньше 22 баллов – стоит задум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Содержимое 3" descr="1217822913_0lik_ru_12.jpg"/>
          <p:cNvPicPr/>
          <p:nvPr/>
        </p:nvPicPr>
        <p:blipFill>
          <a:blip r:embed="rId1"/>
          <a:stretch/>
        </p:blipFill>
        <p:spPr>
          <a:xfrm>
            <a:off x="3151080" y="1138320"/>
            <a:ext cx="5278680" cy="5148360"/>
          </a:xfrm>
          <a:prstGeom prst="rect">
            <a:avLst/>
          </a:prstGeom>
          <a:ln w="0">
            <a:noFill/>
          </a:ln>
        </p:spPr>
      </p:pic>
      <p:pic>
        <p:nvPicPr>
          <p:cNvPr id="160" name="Заголовок 2" descr=""/>
          <p:cNvPicPr/>
          <p:nvPr/>
        </p:nvPicPr>
        <p:blipFill>
          <a:blip r:embed="rId2"/>
          <a:stretch/>
        </p:blipFill>
        <p:spPr>
          <a:xfrm>
            <a:off x="426960" y="828720"/>
            <a:ext cx="82962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4000680" y="1785960"/>
            <a:ext cx="464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Недоигравший ребенок - это горе для учителя и сплошные учебные проблемы для самого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Логопед\Рабочий стол\дети\IMG_2182.jpg"/>
          <p:cNvPicPr/>
          <p:nvPr/>
        </p:nvPicPr>
        <p:blipFill>
          <a:blip r:embed="rId1"/>
          <a:stretch/>
        </p:blipFill>
        <p:spPr>
          <a:xfrm>
            <a:off x="571680" y="1571760"/>
            <a:ext cx="32144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1285920" y="928800"/>
            <a:ext cx="664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Для готовности к школьному обучению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не принципиально</a:t>
            </a: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, на самом деле, умеет ли ребенок читать или счит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Но есть вещ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0000"/>
                </a:solidFill>
                <a:latin typeface="Comic Sans MS"/>
              </a:rPr>
              <a:t>принципиальные для уче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в шко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8"/>
          <p:cNvSpPr/>
          <p:nvPr/>
        </p:nvSpPr>
        <p:spPr>
          <a:xfrm>
            <a:off x="1285920" y="928800"/>
            <a:ext cx="66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Фонематический сл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"/>
          <p:cNvSpPr/>
          <p:nvPr/>
        </p:nvSpPr>
        <p:spPr>
          <a:xfrm>
            <a:off x="4286160" y="2000160"/>
            <a:ext cx="2143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1"/>
          <p:cNvSpPr/>
          <p:nvPr/>
        </p:nvSpPr>
        <p:spPr>
          <a:xfrm>
            <a:off x="2000160" y="2143080"/>
            <a:ext cx="4857840" cy="332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деди      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(де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сима     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(зи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клупок  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(клуб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кнга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 (книг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2143080" y="3071880"/>
            <a:ext cx="507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4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1285920" y="928800"/>
            <a:ext cx="66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Звукопроизно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4286160" y="2000160"/>
            <a:ext cx="2143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1"/>
          <p:cNvSpPr/>
          <p:nvPr/>
        </p:nvSpPr>
        <p:spPr>
          <a:xfrm>
            <a:off x="2000160" y="2143080"/>
            <a:ext cx="4857840" cy="82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2143080" y="3071880"/>
            <a:ext cx="507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4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785880" y="178596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Речь ребенка далеко не всегда бывает правильной от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rebenok2"/>
          <p:cNvPicPr/>
          <p:nvPr/>
        </p:nvPicPr>
        <p:blipFill>
          <a:blip r:embed="rId1"/>
          <a:stretch/>
        </p:blipFill>
        <p:spPr>
          <a:xfrm>
            <a:off x="1857240" y="3000240"/>
            <a:ext cx="2592360" cy="26337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5"/>
          <p:cNvSpPr/>
          <p:nvPr/>
        </p:nvSpPr>
        <p:spPr>
          <a:xfrm>
            <a:off x="5000760" y="3105000"/>
            <a:ext cx="3143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К пяти годам он должен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произносить все звуки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1285920" y="642960"/>
            <a:ext cx="700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Памя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1071720" y="1500120"/>
            <a:ext cx="692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Жили-были три поросенка: Хрюша, Пятачок и Бублик. Хрюша толще Пятачка, а Пятачок толще Бубли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 flipV="1" rot="10800000">
            <a:off x="2285640" y="3842280"/>
            <a:ext cx="6286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Если для того, чтобы точно воспроизвести текст, ребенку потребуется прослушать его не более 3 раз, беспокоиться не о ч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310680"/>
            <a:ext cx="809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  <a:ea typeface="Calibri"/>
              </a:rPr>
              <a:t>Ориентация в простран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K:\Готовность к школе\пишет на доске.jpg"/>
          <p:cNvPicPr/>
          <p:nvPr/>
        </p:nvPicPr>
        <p:blipFill>
          <a:blip r:embed="rId1"/>
          <a:stretch/>
        </p:blipFill>
        <p:spPr>
          <a:xfrm>
            <a:off x="6286680" y="3929040"/>
            <a:ext cx="2454120" cy="21430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7"/>
          <p:cNvSpPr/>
          <p:nvPr/>
        </p:nvSpPr>
        <p:spPr>
          <a:xfrm>
            <a:off x="571680" y="1444680"/>
            <a:ext cx="764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Нарисуйте ребенку картинку с массой подробностей. Домик с окошками, в одном есть занавеска, в другом - нет. Забор: справа грушевые деревья, слева - яблони. Из трубы идет дым. В левом углу - солнце, в правом - птицы и т. д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1428840" y="4000680"/>
            <a:ext cx="464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И пусть ребенок перерисует эту картину в точности. Важно, насколько точно он это сдел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4-23T04:24:4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