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397-8FC0-4FBB-87D4-92422F47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962-3FC2-4AA1-A60F-DAEC2D2C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179-5C0C-4D06-9E21-965D6FDD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60B-B676-4A06-9014-45B29665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DC4-A653-4CD4-ACB4-352982FD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C358-46B2-4CD2-9F67-1268AB5E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38E1-C8A9-46A3-88D3-C363E610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DB10-BA0F-41B2-9CF7-8E3D2BC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4852-D052-48B6-9621-1D11CC9F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2E1C-5CD7-45FF-8726-8EB1DA9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FF24-2D4E-4A33-93E7-AAB944B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D68-82D0-48B0-B56F-3D0CAA62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AEA9-6C91-49E7-9A00-B7E4F04A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FC7A-817B-4EAD-AC84-E89D9C1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D2C8-956F-4A2D-95E9-DB8622A2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BDC8-A289-4B67-8820-672A8A1B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0A78-7B84-482C-B8B9-EB4E6BA8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005-B43A-4C8D-9BCC-0F68F53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F2D-3001-4FAC-8D32-C0146BE6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C57-E437-4EFF-89A4-32D0BEB9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D78-796D-4973-A371-C672B3AE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8E3-4B31-4A1B-B830-6DA4DEB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E7C-3817-4637-A0FD-A966DD6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2B5-4AC8-47B5-8DA9-DBE38A8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B7EA-0B6C-42A8-8448-15041B798A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794F-956C-4825-9875-856929E1E9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иперактивные дет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Евдокимовой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ГРЫ    ДЛЯ   ДЕТЕЙ  С  СГДВ 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 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Кинезиологические  упражн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жполушарной специализ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жполушарного взаимодейств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синхронизация работы полушар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лкой мотори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способ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памяти, внимания,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ыш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устранение дислек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Продолжительность занятий — 10 – 15 м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Периодичность — ежеднев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Время занятий — утро, д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Рисунок 2" descr="http://festival.1september.ru/articles/313690/img1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6143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143680" y="642960"/>
            <a:ext cx="335736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улак-ребро-ладон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улак)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я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ребр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уменье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ладо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м нуж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цессе чтенья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донь сжимаем в кулачо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бром поставим на бочо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из ладонью опуска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начала начина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лачок,ребро,ладон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ы ладошкой парту тро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й, левой пов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-два-три, раз-два-т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Содержимое 3" descr="http://festival.1september.ru/articles/313690/img2.jpg"/>
          <p:cNvPicPr/>
          <p:nvPr/>
        </p:nvPicPr>
        <p:blipFill>
          <a:blip r:embed="rId1"/>
          <a:stretch/>
        </p:blipFill>
        <p:spPr>
          <a:xfrm>
            <a:off x="285840" y="214200"/>
            <a:ext cx="3857400" cy="63579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5072040" y="285840"/>
            <a:ext cx="328608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Фонари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жигают ог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ошки-мошки-светля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светляч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ёт фонарик  за крюч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т фонарики зажгли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льцы выпрямля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один из них пога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льчики сжима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гаснет ,тот зажжё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ит ярко детям о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еперь наоборот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гаснет, горит то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Рисунок 4" descr="http://festival.1september.ru/articles/313690/img3.jpg"/>
          <p:cNvPicPr/>
          <p:nvPr/>
        </p:nvPicPr>
        <p:blipFill>
          <a:blip r:embed="rId1"/>
          <a:stretch/>
        </p:blipFill>
        <p:spPr>
          <a:xfrm>
            <a:off x="428760" y="285840"/>
            <a:ext cx="3714480" cy="62150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643280" y="357120"/>
            <a:ext cx="371484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-ёжик-замо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красив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высо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Ёж себе построил в сосн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дверях –замок больш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не  вошёл чуж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омик ёжик приволо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 большой зам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оме  ёжик на кладов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нём замок повесил лов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024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Рисунок 5" descr="http://festival.1september.ru/articles/313690/img4.jpg"/>
          <p:cNvPicPr/>
          <p:nvPr/>
        </p:nvPicPr>
        <p:blipFill>
          <a:blip r:embed="rId1"/>
          <a:stretch/>
        </p:blipFill>
        <p:spPr>
          <a:xfrm>
            <a:off x="428760" y="428760"/>
            <a:ext cx="3500280" cy="61671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4572000" y="1857240"/>
            <a:ext cx="3929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Гусь-курица-петух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сь гогочет: «Га-га-г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обедаю в луга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рочка: «Ко-ко,ко-к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в сарае, мне легк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тушок: «Кукареку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поесть везде смогу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жно гусь сощуритс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е дружу я с куриц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 крикливым петух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рициным жених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7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Рисунок 6" descr="http://festival.1september.ru/articles/313690/img5.jpg"/>
          <p:cNvPicPr/>
          <p:nvPr/>
        </p:nvPicPr>
        <p:blipFill>
          <a:blip r:embed="rId1"/>
          <a:stretch/>
        </p:blipFill>
        <p:spPr>
          <a:xfrm>
            <a:off x="357120" y="642960"/>
            <a:ext cx="3691080" cy="5595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5000760" y="1143000"/>
            <a:ext cx="35719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айчик-колечко-цепоч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шел зай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крылеч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еря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ё колеч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йку мы приободр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цепочку в дар купи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йчик на крылечк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ыскал колечк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свою цепоч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берёг для доч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52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Рисунок 7" descr="http://festival.1september.ru/articles/313690/img6.jpg"/>
          <p:cNvPicPr/>
          <p:nvPr/>
        </p:nvPicPr>
        <p:blipFill>
          <a:blip r:embed="rId1"/>
          <a:stretch/>
        </p:blipFill>
        <p:spPr>
          <a:xfrm>
            <a:off x="500040" y="285840"/>
            <a:ext cx="3429000" cy="6286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357800" y="571680"/>
            <a:ext cx="414324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Ножницы-собака-лошад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я ножницы берё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обачку подстрижё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потом с лошад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играет в прят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ницы стригут без бра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т подстрижена соба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ысо - лошадк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й пришлось неслад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лыбнулись куклы друж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енять ей  имидж нуж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спитывать, это значит – будить ото сна, растирая снегом то, что замерзло и охлаждая то, что горит.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. Гиппель (немецкий писатель 18 века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2138400" y="2857680"/>
            <a:ext cx="4867200" cy="323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тиология и патогенез синдрома дефицита внимания с гиперактивностью(СДВГ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ческие поражения мозга( черепно-мозговая травма, нейроинфекция и пр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натальная энцефалопа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нетический факт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нейрофизиологии и нейроанатом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щевые факторы( высокое содержание углеводов в пище приводит к ухудшению показателей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циальные факторы( последовательность и систематичность воспитательных воздействи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78600"/>
            <a:ext cx="8229600" cy="64260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функциональная незрелость или нарушения работы специфической системы головного мозга - ретикулярной формации, которая обеспечивает координацию обучения и памяти, обработку поступающей информации, удержание вним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бои в адекватной обработке информации (приводят к тому, что различные зрительные, звуковые, эмоциональные стимулы становятся для ребенка избыточными, вызывая беспокойство и раздражение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как  следствие - нарушается функционирование лобных долей, отвечающих за высшие  формы  поведенческих  реакций, подкорковых ядер головного мозга и соединяющих их нервных проводящих путей.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5" name="Organization Chart 2"/>
          <p:cNvGrpSpPr/>
          <p:nvPr/>
        </p:nvGrpSpPr>
        <p:grpSpPr>
          <a:xfrm>
            <a:off x="152280" y="228600"/>
            <a:ext cx="8381520" cy="4494600"/>
            <a:chOff x="152280" y="228600"/>
            <a:chExt cx="8381520" cy="4494600"/>
          </a:xfrm>
        </p:grpSpPr>
        <p:cxnSp>
          <p:nvCxnSpPr>
            <p:cNvPr id="96" name="_s1028"/>
            <p:cNvCxnSpPr>
              <a:stCxn id="97" idx="0"/>
              <a:endCxn id="98" idx="2"/>
            </p:cNvCxnSpPr>
            <p:nvPr/>
          </p:nvCxnSpPr>
          <p:spPr>
            <a:xfrm flipV="1" rot="16200000">
              <a:off x="5359680" y="1008360"/>
              <a:ext cx="899640" cy="29343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1029"/>
            <p:cNvCxnSpPr>
              <a:stCxn id="100" idx="0"/>
              <a:endCxn id="98" idx="2"/>
            </p:cNvCxnSpPr>
            <p:nvPr/>
          </p:nvCxnSpPr>
          <p:spPr>
            <a:xfrm flipV="1">
              <a:off x="4342680" y="20257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1030"/>
            <p:cNvCxnSpPr>
              <a:stCxn id="102" idx="0"/>
              <a:endCxn id="98" idx="2"/>
            </p:cNvCxnSpPr>
            <p:nvPr/>
          </p:nvCxnSpPr>
          <p:spPr>
            <a:xfrm flipH="1" flipV="1" rot="5400000">
              <a:off x="2426400" y="1008360"/>
              <a:ext cx="899640" cy="29343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8" name="_s1031"/>
            <p:cNvSpPr/>
            <p:nvPr/>
          </p:nvSpPr>
          <p:spPr>
            <a:xfrm>
              <a:off x="3085920" y="22860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c0000"/>
                  </a:solidFill>
                  <a:latin typeface="Tahoma"/>
                </a:rPr>
                <a:t>Сопутствующие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c0000"/>
                  </a:solidFill>
                  <a:latin typeface="Tahoma"/>
                </a:rPr>
                <a:t>проблемы:</a:t>
              </a:r>
              <a:r>
                <a:rPr b="0" lang="en-US" sz="2100" spc="-1" strike="noStrike">
                  <a:solidFill>
                    <a:srgbClr val="8c0000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>
              <a:off x="15228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взаимоотношен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с окружающими</a:t>
              </a:r>
              <a:r>
                <a:rPr b="0" lang="en-US" sz="2100" spc="-1" strike="noStrike">
                  <a:solidFill>
                    <a:srgbClr val="720000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3"/>
            <p:cNvSpPr/>
            <p:nvPr/>
          </p:nvSpPr>
          <p:spPr>
            <a:xfrm>
              <a:off x="308592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трудности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в обучении</a:t>
              </a: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601956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низка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самооценка</a:t>
              </a: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285840" y="5429160"/>
            <a:ext cx="8229600" cy="130968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tIns="127080" bIns="0" anchor="ctr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вень интеллектуального развития может               превышать показатели  нор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инические проявления синдрома дефицита внима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спокойные движения в кистях и стоп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спокойно сидеть на месте, когда требуе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гкая отвлекаемость на посторонние стиму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терпение, неумение дожидаться своей очереди во время игр и в различных ситуациях в коллекти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сосредоточиться: на вопросы часто отвечает, не задумываясь, не выслушав до кон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ожности при выполнении предложенных зад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 трудом сохраняемое внимание при выполнении заданий и иг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стые переходы от одного незавершенного действия к друго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играть тихо, спокой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тлив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шает другим, вмешивается в игры других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кладывается впечатление, что ребенок не слушает обращенную к нему реч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стая потеря вещей, необходимых дома и в шк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ность совершать опасные действия, не задумываясь о последств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Три группы проявления СДВГ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гиперактивности( симптомы 1,2,9,1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невнимательности и отвлекаемости (3,6,7,8,12,13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импульсивности (4,5,11,14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и нарушения поведения сопровождаю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абой успеваемость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ениями в общении с другими людьми; навыки чтения и письма значительно ниже, чем у сверстник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сьменные работы выглядят неряшливо с ошиб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solidFill>
            <a:srgbClr val="e5c9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лассификация  СДВГ</a:t>
            </a:r>
            <a:br>
              <a:rPr sz="2400"/>
            </a:b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ыделяют три варианта течения СДВГ в зависимости от преобладающих признаков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 гиперактивности без дефицита вним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 дефицита внимания без гиперактивности (чаще наблюдается у девочек - они достаточно спокойные, тихие, "витающие в облаках"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, сочетающий дефицит внимания и гиперактивность (наиболее распространенный вариан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авила работы с гиперактивными деть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Работать с ребенком в начале дня, а не вечер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Уменьшить рабочую нагрузку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Делить работу на более короткие, но более частые периоды.   Использовать  физкультмину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Быть драматичным, экспрессивным педаго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Снизить требования к аккуратности в начале работы, чтобы сформировать чувство успе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6. Посадить ребенка во время занятий рядом со взросл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7. Использовать тактильный контакт (элементы массажа, прикосновения, поглажив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013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Договариваться с ребенком о тех или иных действиях зара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. Давать короткие, четкие и конкретные инстру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. Использовать гибкую систему поощрений и наказ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1. Поощрять ребенка сразу же, не откладывая на будущ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2. Предоставлять ребенку возможность вы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3. Оставаться спокойным. Нет хладнокровия – нет  преимуществ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2:57:09Z</dcterms:created>
  <dc:creator>user</dc:creator>
  <dc:description/>
  <dc:language>en-US</dc:language>
  <cp:lastModifiedBy>User</cp:lastModifiedBy>
  <dcterms:modified xsi:type="dcterms:W3CDTF">2011-10-22T16:00:26Z</dcterms:modified>
  <cp:revision>18</cp:revision>
  <dc:subject/>
  <dc:title>Гиперактивные дети</dc:title>
</cp:coreProperties>
</file>