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930-8B36-4A32-A223-BFBC4470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853-92E4-421E-9DBF-1F1CF6D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E95-944A-40FC-BD2B-55DE1AAC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55E-D52F-49D7-A05B-435BC6F0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BFAC-682E-415A-B6BF-98821453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AF72-8578-4275-AAC6-DAD38D2A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BC3-1A73-4139-8E46-6F448752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8A0A-F2DA-46AE-97A0-F9A24C5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2DD6-3C05-4FAB-94B0-721F3821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2A5-D175-4504-AACE-79EC45F4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5859-0669-4089-AED0-A020930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0F6-8DF9-471B-AD83-5BBAA98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42B0-494C-4680-B82E-90FCBA83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60F9-E50A-41E8-B815-5681381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8CC-FCBC-4DF3-9B34-0B9775D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A898-6877-422B-A3BF-670E2BF6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E8AD-E8A5-4DFE-8E29-21544D38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6B2-CB93-410C-9471-86CB607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A54-F991-44B6-9CFF-09217CA9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631-4B48-4092-A076-B2338A5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3E9-C996-4939-B53F-914D2B6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22E-3316-405F-BAEB-C851A27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B99-C12D-428E-B1D2-1675C54E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BE6-392F-4AE4-A44F-AFE4E6D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33A-E42D-47BA-AEC4-E7DA542D03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B33-35C6-4730-9EFE-D9345B2FA0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перактивные дет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Евдокимовой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ГРЫ    ДЛЯ   ДЕТЕЙ  С  СГДВ 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Кинезиологические  упражн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й специализ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жполушарного взаимодейств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синхронизация работы полушар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елкой мотори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способ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памяти, внимания,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развитие мыш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устранение дислек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родолжительность занятий — 10 – 15 м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ериодичность —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Время занятий — утро,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Рисунок 2" descr="http://festival.1september.ru/articles/313690/img1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6143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143680" y="642960"/>
            <a:ext cx="335736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улак-ребро-ладо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лак)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я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ебр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менье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ладо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м нуж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цессе чтенья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донь сжимаем в кула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бром поставим на боч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з ладонью опуск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начала начина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лачок,ребро,ладон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 ладошкой парту тро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й, левой пов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-два-три, раз-два-т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Содержимое 3" descr="http://festival.1september.ru/articles/313690/img2.jpg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63579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5072040" y="285840"/>
            <a:ext cx="328608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Фонари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жигают ог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шки-мошки-светля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светля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ёт фонарик  за крюч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фонарики зажгли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цы выпрямля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один из них пог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льчики сжима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 ,тот зажжё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ит ярко детям о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 наоборо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гаснет, горит то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Рисунок 4" descr="http://festival.1september.ru/articles/313690/img3.jpg"/>
          <p:cNvPicPr/>
          <p:nvPr/>
        </p:nvPicPr>
        <p:blipFill>
          <a:blip r:embed="rId1"/>
          <a:stretch/>
        </p:blipFill>
        <p:spPr>
          <a:xfrm>
            <a:off x="428760" y="285840"/>
            <a:ext cx="371448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643280" y="357120"/>
            <a:ext cx="371484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-ёжик-замо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красив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высо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Ёж себе построил в сос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дверях –замок больш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не  вошёл чуж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ик ёжик приволо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 большой зам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оме  ёжик на кладов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нём замок повесил лов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02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Рисунок 5" descr="http://festival.1september.ru/articles/313690/img4.jpg"/>
          <p:cNvPicPr/>
          <p:nvPr/>
        </p:nvPicPr>
        <p:blipFill>
          <a:blip r:embed="rId1"/>
          <a:stretch/>
        </p:blipFill>
        <p:spPr>
          <a:xfrm>
            <a:off x="428760" y="428760"/>
            <a:ext cx="3500280" cy="61671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4572000" y="1857240"/>
            <a:ext cx="3929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Гусь-курица-петух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сь гогочет: «Га-га-г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обедаю в луга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очка: «Ко-ко,ко-к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в сарае, мне легк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ушок: «Кукареку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оесть везде смогу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о гусь сощури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е дружу я с куриц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 крикливым петух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рициным жених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7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Рисунок 6" descr="http://festival.1september.ru/articles/313690/img5.jpg"/>
          <p:cNvPicPr/>
          <p:nvPr/>
        </p:nvPicPr>
        <p:blipFill>
          <a:blip r:embed="rId1"/>
          <a:stretch/>
        </p:blipFill>
        <p:spPr>
          <a:xfrm>
            <a:off x="357120" y="642960"/>
            <a:ext cx="3691080" cy="5595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5000760" y="1143000"/>
            <a:ext cx="3571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айчик-колечко-цепоч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шел зай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кры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еря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ё колеч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ку мы приободр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цепочку в дар купи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йчик на крылеч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ыскал колеч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свою цепоч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берёг для до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2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Рисунок 7" descr="http://festival.1september.ru/articles/313690/img6.jpg"/>
          <p:cNvPicPr/>
          <p:nvPr/>
        </p:nvPicPr>
        <p:blipFill>
          <a:blip r:embed="rId1"/>
          <a:stretch/>
        </p:blipFill>
        <p:spPr>
          <a:xfrm>
            <a:off x="500040" y="285840"/>
            <a:ext cx="3429000" cy="6286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357800" y="571680"/>
            <a:ext cx="414324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Ножницы-собака-лошад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я ножницы берё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бачку подстрижё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потом с лошад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играет в прят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ницы стригут без бра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т подстрижена соба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ысо - лошадк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й пришлось неслад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ыбнулись куклы друж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нять ей  имидж ну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спитывать, это значит – будить ото сна, растирая снегом то, что замерзло и охлаждая то, что горит.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. Гиппель (немецкий писатель 18 века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138400" y="2857680"/>
            <a:ext cx="4867200" cy="323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тиология и патогенез синдрома дефицита внимания с гиперактивностью(СДВГ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ческие поражения мозга( черепно-мозговая травма, нейроинфекция и п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натальная энцефалопа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нетический фак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нейрофизиологии и нейроанатом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щевые факторы( высокое содержание углеводов в пище приводит к ухудшению показателей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циальные факторы( последовательность и систематичность воспитательных воздейств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78600"/>
            <a:ext cx="8229600" cy="64260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функциональная незрелость или нарушения работы специфической системы головного мозга - ретикулярной формации, которая обеспечивает координацию обучения и памяти, обработку поступающей информации, удержание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бои в адекватной обработке информации (приводят к тому, что различные зрительные, звуковые, эмоциональные стимулы становятся для ребенка избыточными, вызывая беспокойство и раздражени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как  следствие - нарушается функционирование лобных долей, отвечающих за высшие  формы  поведенческих  реакций, подкорковых ядер головного мозга и соединяющих их нервных проводящих путей.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5" name="Organization Chart 2"/>
          <p:cNvGrpSpPr/>
          <p:nvPr/>
        </p:nvGrpSpPr>
        <p:grpSpPr>
          <a:xfrm>
            <a:off x="152280" y="228600"/>
            <a:ext cx="8381520" cy="4494600"/>
            <a:chOff x="152280" y="228600"/>
            <a:chExt cx="8381520" cy="4494600"/>
          </a:xfrm>
        </p:grpSpPr>
        <p:cxnSp>
          <p:nvCxnSpPr>
            <p:cNvPr id="96" name="_s1028"/>
            <p:cNvCxnSpPr>
              <a:stCxn id="97" idx="0"/>
              <a:endCxn id="98" idx="2"/>
            </p:cNvCxnSpPr>
            <p:nvPr/>
          </p:nvCxnSpPr>
          <p:spPr>
            <a:xfrm flipV="1" rot="16200000">
              <a:off x="535968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029"/>
            <p:cNvCxnSpPr>
              <a:stCxn id="100" idx="0"/>
              <a:endCxn id="98" idx="2"/>
            </p:cNvCxnSpPr>
            <p:nvPr/>
          </p:nvCxnSpPr>
          <p:spPr>
            <a:xfrm flipV="1">
              <a:off x="4342680" y="20257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030"/>
            <p:cNvCxnSpPr>
              <a:stCxn id="102" idx="0"/>
              <a:endCxn id="98" idx="2"/>
            </p:cNvCxnSpPr>
            <p:nvPr/>
          </p:nvCxnSpPr>
          <p:spPr>
            <a:xfrm flipH="1" flipV="1" rot="5400000">
              <a:off x="2426400" y="1008360"/>
              <a:ext cx="899640" cy="29343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1031"/>
            <p:cNvSpPr/>
            <p:nvPr/>
          </p:nvSpPr>
          <p:spPr>
            <a:xfrm>
              <a:off x="3085920" y="22860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Сопутствующие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c0000"/>
                  </a:solidFill>
                  <a:latin typeface="Tahoma"/>
                </a:rPr>
                <a:t>проблемы:</a:t>
              </a:r>
              <a:r>
                <a:rPr b="0" lang="en-US" sz="2100" spc="-1" strike="noStrike">
                  <a:solidFill>
                    <a:srgbClr val="8c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15228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заимоотнош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 окружающими</a:t>
              </a:r>
              <a:r>
                <a:rPr b="0" lang="en-US" sz="2100" spc="-1" strike="noStrike">
                  <a:solidFill>
                    <a:srgbClr val="720000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3"/>
            <p:cNvSpPr/>
            <p:nvPr/>
          </p:nvSpPr>
          <p:spPr>
            <a:xfrm>
              <a:off x="308592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трудности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в обучении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6019560" y="2925360"/>
              <a:ext cx="2514240" cy="1797840"/>
            </a:xfrm>
            <a:prstGeom prst="roundRect">
              <a:avLst>
                <a:gd name="adj" fmla="val 16667"/>
              </a:avLst>
            </a:prstGeom>
            <a:solidFill>
              <a:srgbClr val="be79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низка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720000"/>
                  </a:solidFill>
                  <a:latin typeface="Tahoma"/>
                </a:rPr>
                <a:t>самооценка</a:t>
              </a: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285840" y="5429160"/>
            <a:ext cx="8229600" cy="130968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tIns="127080" bIns="0" anchor="ctr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ень интеллектуального развития может               превышать показатели  нор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инические проявления синдрома дефицита внима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покойные движения в кистях и стоп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покойно сидеть на месте, когда требу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гкая отвлекаемость на посторонние стиму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терпение, неумение дожидаться своей очереди во время игр и в различных ситуациях в коллекти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сосредоточиться: на вопросы часто отвечает, не задумываясь, не выслушав до кон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ожности при выполнении предложенных зад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 трудом сохраняемое внимание при выполнении заданий и иг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ые переходы от одного незавершенного действия к друг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умение играть тихо, спокой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тлив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шает другим, вмешивается в игры других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кладывается впечатление, что ребенок не слушает обращенную к нему реч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стая потеря вещей, необходимых дома и в шк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ность совершать опасные действия, не задумываясь о последств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Три группы проявления СДВ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гиперактивности( симптомы 1,2,9,1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невнимательности и отвлекаемости (3,6,7,8,12,13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знаки импульсивности (4,5,11,1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и нарушения поведения сопровождаю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абой успеваемост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руднениями в общении с другими людьми; навыки чтения и письма значительно ниже, чем у сверстник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ьменные работы выглядят неряшливо с ошиб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solidFill>
            <a:srgbClr val="e5c9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лассификация  СДВГ</a:t>
            </a:r>
            <a:br>
              <a:rPr sz="2400"/>
            </a:b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ыделяют три варианта течения СДВГ в зависимости от преобладающих признаков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гиперактивности без дефицита вним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 дефицита внимания без гиперактивности (чаще наблюдается у девочек - они достаточно спокойные, тихие, "витающие в облаках"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синдром, сочетающий дефицит внимания и гиперактивность (наиболее распространенный вариан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авила работы с гиперактивными деть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Работать с ребенком в начале дня, а не вече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Уменьшить рабочую нагрузку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Делить работу на более короткие, но более частые периоды.   Использовать  физкультмину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Быть драматичным, экспрессивным педаго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Снизить требования к аккуратности в начале работы, чтобы сформировать чувство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6. Посадить ребенка во время занятий рядом со взросл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. Использовать тактильный контакт (элементы массажа, прикосновения, поглажив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13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Договариваться с ребенком о тех или иных действиях зара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. Давать короткие, четкие и конкретные инстру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. Использовать гибкую систему поощрений и наказ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1. Поощрять ребенка сразу же, не откладывая на будущ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2. Предоставлять ребенку возможность вы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3. Оставаться спокойным. Нет хладнокровия – нет  преимуществ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2:57:09Z</dcterms:created>
  <dc:creator>user</dc:creator>
  <dc:description/>
  <dc:language>en-US</dc:language>
  <cp:lastModifiedBy>User</cp:lastModifiedBy>
  <dcterms:modified xsi:type="dcterms:W3CDTF">2011-10-22T16:00:26Z</dcterms:modified>
  <cp:revision>18</cp:revision>
  <dc:subject/>
  <dc:title>Гиперактивные дети</dc:title>
</cp:coreProperties>
</file>