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F87-47CA-485A-8A78-61C5F282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152-B9D5-4872-B911-076989F8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156B-43E6-4917-9326-B2FAF846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3AC9-8EFA-4086-B9C9-7DB11A2E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A751-76D8-4F09-A617-9B490922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AB1C-F642-4B96-A07A-AE338641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9318-B800-4875-A219-8784FF64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DD86-0243-4B7E-BC15-155CAF15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D721-B585-41B3-928E-7938E5D7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53EB-5EFB-45B3-8641-F695AC96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02A5-F905-4AB6-852D-C5487781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9B22-4786-414F-9488-0787176B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3ED3-730A-4BFE-AC27-C20840A3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F111-FD31-443D-AF56-BBF121E1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C062-B745-4478-B35B-11F8D28A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8DBB-8248-420B-8463-8EA1A51D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4649-46D5-45F3-AF81-D6BC5BCD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2C8-706F-42F8-A9EB-662CC4CD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3E2-4917-4701-8BC4-40651909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8479-171A-4F3B-A803-A36B73E8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531-E9DB-4CBD-8554-D6406357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6850-EC24-4EFD-8AC1-C079205D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AB3-1F30-482C-9337-CC971058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42F-4119-49FE-928A-E92110FE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AA92-9B1B-4E02-A309-E12B17279EC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A975-7135-4752-BDF1-F10B92D3F7C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Гиперактивные дет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Евдокимовой Л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ГРЫ    ДЛЯ   ДЕТЕЙ  С  СГДВ 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  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Кинезиологические  упражнени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Це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развитие межполушарной специализац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развитие межполушарного взаимодейств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синхронизация работы полушар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развитие мелкой мотори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развитие способност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развитие памяти, внимания, реч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развитие мышл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устранение дислекс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Продолжительность занятий — 10 – 15 ми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ahoma"/>
              </a:rPr>
              <a:t>Периодичность — ежедневн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ahoma"/>
              </a:rPr>
              <a:t>Время занятий — утро, де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63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Рисунок 2" descr="http://festival.1september.ru/articles/313690/img1.jpg"/>
          <p:cNvPicPr/>
          <p:nvPr/>
        </p:nvPicPr>
        <p:blipFill>
          <a:blip r:embed="rId1"/>
          <a:stretch/>
        </p:blipFill>
        <p:spPr>
          <a:xfrm>
            <a:off x="642960" y="142920"/>
            <a:ext cx="3643200" cy="61437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5143680" y="642960"/>
            <a:ext cx="335736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Кулак-ребро-ладон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ла (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улак),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ля (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ребр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уменье (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ладон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м нуж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роцессе чтенья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******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адонь сжимаем в кулачо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бром поставим на бочо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низ ладонью опуска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сначала начинае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**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лачок,ребро,ладонь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ы ладошкой парту трон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ой, левой пов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-два-три, раз-два-тр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703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Содержимое 3" descr="http://festival.1september.ru/articles/313690/img2.jpg"/>
          <p:cNvPicPr/>
          <p:nvPr/>
        </p:nvPicPr>
        <p:blipFill>
          <a:blip r:embed="rId1"/>
          <a:stretch/>
        </p:blipFill>
        <p:spPr>
          <a:xfrm>
            <a:off x="285840" y="214200"/>
            <a:ext cx="3857400" cy="635796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4"/>
          <p:cNvSpPr/>
          <p:nvPr/>
        </p:nvSpPr>
        <p:spPr>
          <a:xfrm>
            <a:off x="5072040" y="285840"/>
            <a:ext cx="3286080" cy="57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 Фонарик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жигают огонь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ошки-мошки-светля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ждый светляч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сёт фонарик  за крюч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т фонарики зажглис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альцы выпрямляе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 один из них пога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альчики сжимае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т гаснет ,тот зажжё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етит ярко детям о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теперь наоборот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т гаснет, горит тот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703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Рисунок 4" descr="http://festival.1september.ru/articles/313690/img3.jpg"/>
          <p:cNvPicPr/>
          <p:nvPr/>
        </p:nvPicPr>
        <p:blipFill>
          <a:blip r:embed="rId1"/>
          <a:stretch/>
        </p:blipFill>
        <p:spPr>
          <a:xfrm>
            <a:off x="428760" y="285840"/>
            <a:ext cx="3714480" cy="62150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4"/>
          <p:cNvSpPr/>
          <p:nvPr/>
        </p:nvSpPr>
        <p:spPr>
          <a:xfrm>
            <a:off x="4643280" y="357120"/>
            <a:ext cx="3714840" cy="37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-ёжик-замок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красив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высо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Ёж себе построил в сосн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дверях –замок большо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ы не  вошёл чуж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домик ёжик приволо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дверей большой зам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доме  ёжик на кладовк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нём замок повесил ловк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1024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Рисунок 5" descr="http://festival.1september.ru/articles/313690/img4.jpg"/>
          <p:cNvPicPr/>
          <p:nvPr/>
        </p:nvPicPr>
        <p:blipFill>
          <a:blip r:embed="rId1"/>
          <a:stretch/>
        </p:blipFill>
        <p:spPr>
          <a:xfrm>
            <a:off x="428760" y="428760"/>
            <a:ext cx="3500280" cy="616716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4572000" y="1857240"/>
            <a:ext cx="39290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Гусь-курица-петух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усь гогочет: «Га-га-га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обедаю в лугах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рочка: «Ко-ко,ко-ко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в сарае, мне легко!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тушок: «Кукареку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поесть везде смогу!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жно гусь сощуритс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Не дружу я с куриц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с крикливым петух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рициным жених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667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Рисунок 6" descr="http://festival.1september.ru/articles/313690/img5.jpg"/>
          <p:cNvPicPr/>
          <p:nvPr/>
        </p:nvPicPr>
        <p:blipFill>
          <a:blip r:embed="rId1"/>
          <a:stretch/>
        </p:blipFill>
        <p:spPr>
          <a:xfrm>
            <a:off x="357120" y="642960"/>
            <a:ext cx="3691080" cy="559584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4"/>
          <p:cNvSpPr/>
          <p:nvPr/>
        </p:nvSpPr>
        <p:spPr>
          <a:xfrm>
            <a:off x="5000760" y="1143000"/>
            <a:ext cx="35719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Зайчик-колечко-цепочк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шел зай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крылечк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теря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ё колечк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йку мы приободри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цепочку в дар купи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йчик на крылечк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ыскал колечк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свою цепочк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берёг для доч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52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Рисунок 7" descr="http://festival.1september.ru/articles/313690/img6.jpg"/>
          <p:cNvPicPr/>
          <p:nvPr/>
        </p:nvPicPr>
        <p:blipFill>
          <a:blip r:embed="rId1"/>
          <a:stretch/>
        </p:blipFill>
        <p:spPr>
          <a:xfrm>
            <a:off x="500040" y="285840"/>
            <a:ext cx="3429000" cy="62863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4357800" y="571680"/>
            <a:ext cx="4143240" cy="50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 Ножницы-собака-лошадк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тя ножницы берё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собачку подстрижёт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потом с лошад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играет в прят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жницы стригут без бра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т подстрижена соба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лысо - лошадка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й пришлось несладк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лыбнулись куклы дружн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менять ей  имидж нуж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оспитывать, это значит – будить ото сна, растирая снегом то, что замерзло и охлаждая то, что горит.                     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. Гиппель (немецкий писатель 18 века)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10" descr=""/>
          <p:cNvPicPr/>
          <p:nvPr/>
        </p:nvPicPr>
        <p:blipFill>
          <a:blip r:embed="rId1"/>
          <a:stretch/>
        </p:blipFill>
        <p:spPr>
          <a:xfrm>
            <a:off x="2138400" y="2857680"/>
            <a:ext cx="4867200" cy="323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Этиология и патогенез синдрома дефицита внимания с гиперактивностью(СДВГ)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ческие поражения мозга( черепно-мозговая травма, нейроинфекция и пр.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инатальная энцефалопат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нетический фактор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обенности нейрофизиологии и нейроанатом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ищевые факторы( высокое содержание углеводов в пище приводит к ухудшению показателей внимани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циальные факторы( последовательность и систематичность воспитательных воздействий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678600"/>
            <a:ext cx="8229600" cy="642600"/>
          </a:xfrm>
          <a:prstGeom prst="rect">
            <a:avLst/>
          </a:prstGeom>
          <a:solidFill>
            <a:srgbClr val="ffff5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8548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функциональная незрелость или нарушения работы специфической системы головного мозга - ретикулярной формации, которая обеспечивает координацию обучения и памяти, обработку поступающей информации, удержание внимани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сбои в адекватной обработке информации (приводят к тому, что различные зрительные, звуковые, эмоциональные стимулы становятся для ребенка избыточными, вызывая беспокойство и раздражение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как  следствие - нарушается функционирование лобных долей, отвечающих за высшие  формы  поведенческих  реакций, подкорковых ядер головного мозга и соединяющих их нервных проводящих путей.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95" name="Organization Chart 2"/>
          <p:cNvGrpSpPr/>
          <p:nvPr/>
        </p:nvGrpSpPr>
        <p:grpSpPr>
          <a:xfrm>
            <a:off x="152280" y="228600"/>
            <a:ext cx="8381520" cy="4494600"/>
            <a:chOff x="152280" y="228600"/>
            <a:chExt cx="8381520" cy="4494600"/>
          </a:xfrm>
        </p:grpSpPr>
        <p:cxnSp>
          <p:nvCxnSpPr>
            <p:cNvPr id="96" name="_s1028"/>
            <p:cNvCxnSpPr>
              <a:stCxn id="97" idx="0"/>
              <a:endCxn id="98" idx="2"/>
            </p:cNvCxnSpPr>
            <p:nvPr/>
          </p:nvCxnSpPr>
          <p:spPr>
            <a:xfrm flipV="1" rot="16200000">
              <a:off x="5359680" y="1008360"/>
              <a:ext cx="899640" cy="293436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9" name="_s1029"/>
            <p:cNvCxnSpPr>
              <a:stCxn id="100" idx="0"/>
              <a:endCxn id="98" idx="2"/>
            </p:cNvCxnSpPr>
            <p:nvPr/>
          </p:nvCxnSpPr>
          <p:spPr>
            <a:xfrm flipV="1">
              <a:off x="4342680" y="2025720"/>
              <a:ext cx="3240" cy="899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1" name="_s1030"/>
            <p:cNvCxnSpPr>
              <a:stCxn id="102" idx="0"/>
              <a:endCxn id="98" idx="2"/>
            </p:cNvCxnSpPr>
            <p:nvPr/>
          </p:nvCxnSpPr>
          <p:spPr>
            <a:xfrm flipH="1" flipV="1" rot="5400000">
              <a:off x="2426400" y="1008360"/>
              <a:ext cx="899640" cy="293436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8" name="_s1031"/>
            <p:cNvSpPr/>
            <p:nvPr/>
          </p:nvSpPr>
          <p:spPr>
            <a:xfrm>
              <a:off x="3085920" y="228600"/>
              <a:ext cx="2514240" cy="1797840"/>
            </a:xfrm>
            <a:prstGeom prst="roundRect">
              <a:avLst>
                <a:gd name="adj" fmla="val 16667"/>
              </a:avLst>
            </a:prstGeom>
            <a:solidFill>
              <a:srgbClr val="be796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c0000"/>
                  </a:solidFill>
                  <a:latin typeface="Tahoma"/>
                </a:rPr>
                <a:t>Сопутствующие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c0000"/>
                  </a:solidFill>
                  <a:latin typeface="Tahoma"/>
                </a:rPr>
                <a:t>проблемы:</a:t>
              </a:r>
              <a:r>
                <a:rPr b="0" lang="en-US" sz="2100" spc="-1" strike="noStrike">
                  <a:solidFill>
                    <a:srgbClr val="8c0000"/>
                  </a:solidFill>
                  <a:latin typeface="Tahoma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32"/>
            <p:cNvSpPr/>
            <p:nvPr/>
          </p:nvSpPr>
          <p:spPr>
            <a:xfrm>
              <a:off x="152280" y="2925360"/>
              <a:ext cx="2514240" cy="1797840"/>
            </a:xfrm>
            <a:prstGeom prst="roundRect">
              <a:avLst>
                <a:gd name="adj" fmla="val 16667"/>
              </a:avLst>
            </a:prstGeom>
            <a:solidFill>
              <a:srgbClr val="be796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720000"/>
                  </a:solidFill>
                  <a:latin typeface="Tahoma"/>
                </a:rPr>
                <a:t>взаимоотношения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720000"/>
                  </a:solidFill>
                  <a:latin typeface="Tahoma"/>
                </a:rPr>
                <a:t>с окружающими</a:t>
              </a:r>
              <a:r>
                <a:rPr b="0" lang="en-US" sz="2100" spc="-1" strike="noStrike">
                  <a:solidFill>
                    <a:srgbClr val="720000"/>
                  </a:solidFill>
                  <a:latin typeface="Tahoma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_s1033"/>
            <p:cNvSpPr/>
            <p:nvPr/>
          </p:nvSpPr>
          <p:spPr>
            <a:xfrm>
              <a:off x="3085920" y="2925360"/>
              <a:ext cx="2514240" cy="1797840"/>
            </a:xfrm>
            <a:prstGeom prst="roundRect">
              <a:avLst>
                <a:gd name="adj" fmla="val 16667"/>
              </a:avLst>
            </a:prstGeom>
            <a:solidFill>
              <a:srgbClr val="be796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720000"/>
                  </a:solidFill>
                  <a:latin typeface="Tahoma"/>
                </a:rPr>
                <a:t>трудности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720000"/>
                  </a:solidFill>
                  <a:latin typeface="Tahoma"/>
                </a:rPr>
                <a:t>в обучении</a:t>
              </a:r>
              <a:r>
                <a:rPr b="1" lang="en-US" sz="2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_s1034"/>
            <p:cNvSpPr/>
            <p:nvPr/>
          </p:nvSpPr>
          <p:spPr>
            <a:xfrm>
              <a:off x="6019560" y="2925360"/>
              <a:ext cx="2514240" cy="1797840"/>
            </a:xfrm>
            <a:prstGeom prst="roundRect">
              <a:avLst>
                <a:gd name="adj" fmla="val 16667"/>
              </a:avLst>
            </a:prstGeom>
            <a:solidFill>
              <a:srgbClr val="be796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720000"/>
                  </a:solidFill>
                  <a:latin typeface="Tahoma"/>
                </a:rPr>
                <a:t>низкая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720000"/>
                  </a:solidFill>
                  <a:latin typeface="Tahoma"/>
                </a:rPr>
                <a:t>самооценка</a:t>
              </a:r>
              <a:r>
                <a:rPr b="1" lang="en-US" sz="2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3" name=""/>
          <p:cNvSpPr txBox="1"/>
          <p:nvPr/>
        </p:nvSpPr>
        <p:spPr>
          <a:xfrm>
            <a:off x="285840" y="5429160"/>
            <a:ext cx="8229600" cy="1309680"/>
          </a:xfrm>
          <a:prstGeom prst="rect">
            <a:avLst/>
          </a:prstGeom>
          <a:solidFill>
            <a:srgbClr val="be7960"/>
          </a:solidFill>
          <a:ln w="0">
            <a:noFill/>
          </a:ln>
        </p:spPr>
        <p:txBody>
          <a:bodyPr tIns="127080" bIns="0" anchor="ctr">
            <a:normAutofit/>
          </a:bodyPr>
          <a:p>
            <a:pPr marL="343080" indent="-343080" algn="ctr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ровень интеллектуального развития может               превышать показатели  норм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Клинические проявления синдрома дефицита внимани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еспокойные движения в кистях и стоп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умение спокойно сидеть на месте, когда требует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егкая отвлекаемость на посторонние стимул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терпение, неумение дожидаться своей очереди во время игр и в различных ситуациях в коллектив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умение сосредоточиться: на вопросы часто отвечает, не задумываясь, не выслушав до конц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ложности при выполнении предложенных зада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 трудом сохраняемое внимание при выполнении заданий и иг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астые переходы от одного незавершенного действия к другом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умение играть тихо, спокой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олтлив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шает другим, вмешивается в игры других де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кладывается впечатление, что ребенок не слушает обращенную к нему реч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астая потеря вещей, необходимых дома и в школ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пособность совершать опасные действия, не задумываясь о последстви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Три группы проявления СДВГ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знаки гиперактивности( симптомы 1,2,9,10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знаки невнимательности и отвлекаемости (3,6,7,8,12,13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знаки импульсивности (4,5,11,14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Эти нарушения поведения сопровождаютс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абой успеваемость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руднениями в общении с другими людьми; навыки чтения и письма значительно ниже, чем у сверстников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исьменные работы выглядят неряшливо с ошибк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2600"/>
          </a:xfrm>
          <a:prstGeom prst="rect">
            <a:avLst/>
          </a:prstGeom>
          <a:solidFill>
            <a:srgbClr val="e5c9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Классификация  СДВГ</a:t>
            </a:r>
            <a:br>
              <a:rPr sz="2400"/>
            </a:b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Выделяют три варианта течения СДВГ в зависимости от преобладающих признаков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4289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синдром гиперактивности без дефицита внимани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синдром дефицита внимания без гиперактивности (чаще наблюдается у девочек - они достаточно спокойные, тихие, "витающие в облаках"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синдром, сочетающий дефицит внимания и гиперактивность (наиболее распространенный вариант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равила работы с гиперактивными детьм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4288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. Работать с ребенком в начале дня, а не вечер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. Уменьшить рабочую нагрузку ребен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. Делить работу на более короткие, но более частые периоды.   Использовать  физкультминут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4. Быть драматичным, экспрессивным педагог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5. Снизить требования к аккуратности в начале работы, чтобы сформировать чувство успех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6. Посадить ребенка во время занятий рядом со взрослы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7. Использовать тактильный контакт (элементы массажа, прикосновения, поглажива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013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1420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 Договариваться с ребенком о тех или иных действиях зара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9. Давать короткие, четкие и конкретные инструк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0. Использовать гибкую систему поощрений и наказа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1. Поощрять ребенка сразу же, не откладывая на будущ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2. Предоставлять ребенку возможность выб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3. Оставаться спокойным. Нет хладнокровия – нет  преимуществ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12:57:09Z</dcterms:created>
  <dc:creator>user</dc:creator>
  <dc:description/>
  <dc:language>en-US</dc:language>
  <cp:lastModifiedBy>User</cp:lastModifiedBy>
  <dcterms:modified xsi:type="dcterms:W3CDTF">2011-10-22T16:00:26Z</dcterms:modified>
  <cp:revision>18</cp:revision>
  <dc:subject/>
  <dc:title>Гиперактивные дети</dc:title>
</cp:coreProperties>
</file>