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27D-B0BB-4428-93C3-E634FCD7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25C-67D2-4266-AAEB-B25AE8E6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B81-C781-4218-BDC0-F130A189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0A3-562E-4F1F-83CB-06AB5FA9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A59-6ECF-4069-99C8-48208784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B23-F3E3-4F6B-9464-A753659A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912-F276-4139-AC15-81484949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95F-FE8F-431F-A42C-D9D2B84F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BC7-CB92-4C37-A72C-ED5807E2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2DE-5BB2-46E4-A99A-0D140EC7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D4D-F225-4CD2-A844-FAE32A91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B67-489E-4C1B-8F06-EF00B1F4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0446-5EBF-4DC2-B334-7D1E7DA07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стерство образования Саратовской облас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реждение Лицей №37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унзенского района г. Сарат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и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796000" y="4149720"/>
            <a:ext cx="28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ую работу выполнил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щаяся 8«Б» класс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шова Ольга Игор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95280" y="6308640"/>
            <a:ext cx="82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атов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5796000" y="4941720"/>
            <a:ext cx="2828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рштейн Полина Иосиф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IVAN_LIGHT-8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1 декабря 1943 года в расположении 23-го армейского корпуса, в запретной зоне близ железной дороги, был замечен и после двухчасового наблюдения задержан русский школьник 10-12 лет, лежавший в снегу и наблюдавший за движением эшелоно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На допросах держался вызывающе: не скрывал своего враждебного отношения к немецкой армии и Германской имп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6093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соответствии с директивой Верховного командования вооруженными силами от 11 ноября 1942 года расстрелян  25.12.43г. в 6.55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6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2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коло 300 тысяч детей и подростков в настоящее время принимают участие в боевых действиях или служат в военных формирова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short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5778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олько в ходе военной компании в Чечне было убито более 300 детей, более 1000 получили ранения или стали инвали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logo1"/>
          <p:cNvPicPr/>
          <p:nvPr/>
        </p:nvPicPr>
        <p:blipFill>
          <a:blip r:embed="rId1"/>
          <a:stretch/>
        </p:blipFill>
        <p:spPr>
          <a:xfrm>
            <a:off x="0" y="0"/>
            <a:ext cx="9144000" cy="1847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3"/>
          <p:cNvPicPr/>
          <p:nvPr/>
        </p:nvPicPr>
        <p:blipFill>
          <a:blip r:embed="rId2"/>
          <a:stretch/>
        </p:blipFill>
        <p:spPr>
          <a:xfrm>
            <a:off x="2700360" y="1844640"/>
            <a:ext cx="6443640" cy="1090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3213000"/>
            <a:ext cx="8424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же много лет существует проект «Жди меня», который занимается поиском людей. За время существования программы в адрес редакции поступило более 250 тысяч обращений с просьбами о помощи в поисках родственников и близ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Более 20 тысяч человек были найдены.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560"/>
                            </p:stCondLst>
                            <p:childTnLst>
                              <p:par>
                                <p:cTn id="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2060640"/>
            <a:ext cx="7355160" cy="27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СПАСИБО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ЗА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STRATEGIA_1-2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71640" y="620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 1941 года началась Великая Отечественная 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лентин Петрович Ката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150x150_e5671e5ccba3a17381e6d7f9931d0909"/>
          <p:cNvPicPr/>
          <p:nvPr/>
        </p:nvPicPr>
        <p:blipFill>
          <a:blip r:embed="rId1"/>
          <a:stretch/>
        </p:blipFill>
        <p:spPr>
          <a:xfrm>
            <a:off x="1004760" y="1773360"/>
            <a:ext cx="3062520" cy="396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P1140139"/>
          <p:cNvPicPr/>
          <p:nvPr/>
        </p:nvPicPr>
        <p:blipFill>
          <a:blip r:embed="rId2"/>
          <a:srcRect l="2382" t="0" r="6207" b="0"/>
          <a:stretch/>
        </p:blipFill>
        <p:spPr>
          <a:xfrm>
            <a:off x="5219640" y="1773360"/>
            <a:ext cx="2737080" cy="39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имир Осипович Богом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01173_1"/>
          <p:cNvPicPr/>
          <p:nvPr/>
        </p:nvPicPr>
        <p:blipFill>
          <a:blip r:embed="rId1"/>
          <a:stretch/>
        </p:blipFill>
        <p:spPr>
          <a:xfrm>
            <a:off x="1187280" y="1700280"/>
            <a:ext cx="3164040" cy="41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P1140141"/>
          <p:cNvPicPr/>
          <p:nvPr/>
        </p:nvPicPr>
        <p:blipFill>
          <a:blip r:embed="rId2"/>
          <a:srcRect l="4612" t="0" r="2673" b="0"/>
          <a:stretch/>
        </p:blipFill>
        <p:spPr>
          <a:xfrm>
            <a:off x="5192640" y="1700280"/>
            <a:ext cx="290844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IVAN_LIGHT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79640" y="692280"/>
            <a:ext cx="325116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еглазый, заросший русыми волосами, худенький, вежливый и вместе с тем гордый… парнишка, настоящий «пастуш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IVAN_LIGHT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43280" y="188640"/>
            <a:ext cx="360036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 у него было скуластое, темновато-серое от въевшейся в кожу грязи. Мокрые, неопределенного цвета волосы висели клочьями. В его взгляде, в выражении измученного, с плотно сжатыми, посиневшими губами лица чувствовалось какое-то внутреннее напряжение и, как мне показалось, недоверие и неприя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IVAN_LIGHT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51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фицером стать я ещё успею. А пока война, отдыхать может тот, от кого пользы мал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IVAN_LIGHT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дит по деревням, посёлкам, одетый в тряпьё, как побирушка, а сам зорко всматривается в любое скопление живой силы врага и его воору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IVAN_LIGHT-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ёл впереди группы, изучая местность, потом возвращался и докладывал, свободен ли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2:24:45Z</dcterms:created>
  <dc:creator>*</dc:creator>
  <dc:description/>
  <dc:language>en-US</dc:language>
  <cp:lastModifiedBy>Пользователь</cp:lastModifiedBy>
  <dcterms:modified xsi:type="dcterms:W3CDTF">2013-07-24T15:48:16Z</dcterms:modified>
  <cp:revision>7</cp:revision>
  <dc:subject/>
  <dc:title>Министерство образования Саратовской области Муниципальное общеобразовательное учреждение Лицей №37 Фрунзенского района г. Саратова</dc:title>
</cp:coreProperties>
</file>