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838E-2CA2-4852-A8EF-9B343861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3B96-A0D0-42AD-A63E-01F91662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C0C-895E-4A3F-8472-84CEF90B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0A4B-BBB2-41F5-8000-578C9C0F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A1D5-C25B-474C-9844-E890E32A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8715-BFA4-4EDE-92D1-E1422C06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D340-E6CA-445B-AB1C-A14E3350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317-81D5-44BB-ACD4-4A74FDD4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9563-0761-43C4-BD90-4FE8BF41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D33-4388-4894-8B06-9E1FDCC4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340-67B8-4F4E-AA70-0ED3C117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7F8-8195-4654-950A-62730BFD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0F94-144C-41F8-853B-4C9771B48C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стерство образования Саратовской област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реждение Лицей №37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унзенского района г. Сарат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15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и и во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5796000" y="4149720"/>
            <a:ext cx="2828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ую работу выполнил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щаяся 8«Б» класс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ашова Ольга Игор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95280" y="6308640"/>
            <a:ext cx="82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ратов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5796000" y="4941720"/>
            <a:ext cx="2828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ерштейн Полина Иосиф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IVAN_LIGHT-8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1 декабря 1943 года в расположении 23-го армейского корпуса, в запретной зоне близ железной дороги, был замечен и после двухчасового наблюдения задержан русский школьник 10-12 лет, лежавший в снегу и наблюдавший за движением эшелонов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…На допросах держался вызывающе: не скрывал своего враждебного отношения к немецкой армии и Германской импе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6093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 соответствии с директивой Верховного командования вооруженными силами от 11 ноября 1942 года расстрелян  25.12.43г. в 6.55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6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2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Около 300 тысяч детей и подростков в настоящее время принимают участие в боевых действиях или служат в военных формирова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short"/>
          <p:cNvPicPr/>
          <p:nvPr/>
        </p:nvPicPr>
        <p:blipFill>
          <a:blip r:embed="rId1"/>
          <a:stretch/>
        </p:blipFill>
        <p:spPr>
          <a:xfrm>
            <a:off x="0" y="1079640"/>
            <a:ext cx="9144000" cy="5778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олько в ходе военной компании в Чечне было убито более 300 детей, более 1000 получили ранения или стали инвалид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logo1"/>
          <p:cNvPicPr/>
          <p:nvPr/>
        </p:nvPicPr>
        <p:blipFill>
          <a:blip r:embed="rId1"/>
          <a:stretch/>
        </p:blipFill>
        <p:spPr>
          <a:xfrm>
            <a:off x="0" y="0"/>
            <a:ext cx="9144000" cy="1847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3"/>
          <p:cNvPicPr/>
          <p:nvPr/>
        </p:nvPicPr>
        <p:blipFill>
          <a:blip r:embed="rId2"/>
          <a:stretch/>
        </p:blipFill>
        <p:spPr>
          <a:xfrm>
            <a:off x="2700360" y="1844640"/>
            <a:ext cx="6443640" cy="1090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3213000"/>
            <a:ext cx="8424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Уже много лет существует проект «Жди меня», который занимается поиском людей. За время существования программы в адрес редакции поступило более 250 тысяч обращений с просьбами о помощи в поисках родственников и близ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Более 20 тысяч человек были найдены.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560"/>
                            </p:stCondLst>
                            <p:childTnLst>
                              <p:par>
                                <p:cTn id="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99640" y="2060640"/>
            <a:ext cx="7355160" cy="27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СПАСИБО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ЗА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" descr="STRATEGIA_1-2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971640" y="620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2 июня 1941 года началась Великая Отечественная вой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лентин Петрович Ката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150x150_e5671e5ccba3a17381e6d7f9931d0909"/>
          <p:cNvPicPr/>
          <p:nvPr/>
        </p:nvPicPr>
        <p:blipFill>
          <a:blip r:embed="rId1"/>
          <a:stretch/>
        </p:blipFill>
        <p:spPr>
          <a:xfrm>
            <a:off x="1004760" y="1773360"/>
            <a:ext cx="3062520" cy="396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P1140139"/>
          <p:cNvPicPr/>
          <p:nvPr/>
        </p:nvPicPr>
        <p:blipFill>
          <a:blip r:embed="rId2"/>
          <a:srcRect l="2382" t="0" r="6207" b="0"/>
          <a:stretch/>
        </p:blipFill>
        <p:spPr>
          <a:xfrm>
            <a:off x="5219640" y="1773360"/>
            <a:ext cx="2737080" cy="39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адимир Осипович Богом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001173_1"/>
          <p:cNvPicPr/>
          <p:nvPr/>
        </p:nvPicPr>
        <p:blipFill>
          <a:blip r:embed="rId1"/>
          <a:stretch/>
        </p:blipFill>
        <p:spPr>
          <a:xfrm>
            <a:off x="1187280" y="1700280"/>
            <a:ext cx="3164040" cy="417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P1140141"/>
          <p:cNvPicPr/>
          <p:nvPr/>
        </p:nvPicPr>
        <p:blipFill>
          <a:blip r:embed="rId2"/>
          <a:srcRect l="4612" t="0" r="2673" b="0"/>
          <a:stretch/>
        </p:blipFill>
        <p:spPr>
          <a:xfrm>
            <a:off x="5192640" y="1700280"/>
            <a:ext cx="290844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IVAN_LIGHT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79640" y="692280"/>
            <a:ext cx="325116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еглазый, заросший русыми волосами, худенький, вежливый и вместе с тем гордый… парнишка, настоящий «пастуш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IVAN_LIGHT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43280" y="188640"/>
            <a:ext cx="360036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о у него было скуластое, темновато-серое от въевшейся в кожу грязи. Мокрые, неопределенного цвета волосы висели клочьями. В его взгляде, в выражении измученного, с плотно сжатыми, посиневшими губами лица чувствовалось какое-то внутреннее напряжение и, как мне показалось, недоверие и неприяз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IVAN_LIGHT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516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фицером стать я ещё успею. А пока война, отдыхать может тот, от кого пользы мал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IVAN_LIGHT-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дит по деревням, посёлкам, одетый в тряпьё, как побирушка, а сам зорко всматривается в любое скопление живой силы врага и его воору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IVAN_LIGHT-1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ёл впереди группы, изучая местность, потом возвращался и докладывал, свободен ли пу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2:24:45Z</dcterms:created>
  <dc:creator>*</dc:creator>
  <dc:description/>
  <dc:language>en-US</dc:language>
  <cp:lastModifiedBy>Пользователь</cp:lastModifiedBy>
  <dcterms:modified xsi:type="dcterms:W3CDTF">2013-07-24T15:48:16Z</dcterms:modified>
  <cp:revision>7</cp:revision>
  <dc:subject/>
  <dc:title>Министерство образования Саратовской области Муниципальное общеобразовательное учреждение Лицей №37 Фрунзенского района г. Саратова</dc:title>
</cp:coreProperties>
</file>