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685-4B60-4FD2-81B8-8860B577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062-CAB5-40F8-96BB-61A32EBA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A40-37A8-4DA6-9D77-226E9393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A3B-8FC0-473B-9509-C4E28C95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BF6-44A3-4E77-974B-8951A75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314-AB8D-4B3B-8E57-69F5C725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BB0-4F07-430D-A07F-AA43723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97D-E984-486A-A6A7-2AF9B15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AC1-ACCB-4F38-8C84-E1E92C1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EE0-F437-4D73-88B2-3ABCD661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B41-CDE1-45C4-9B27-20FB700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B3E-7239-4DCB-A619-AE0E04EC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C97-E88F-4B10-A387-948EE628E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образования Саратовской обла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реждение Лицей №37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унзенского района г. Сар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и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796000" y="4149720"/>
            <a:ext cx="28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ую работу выполни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щаяся 8«Б» класс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шова Ольга Игор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95280" y="630864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атов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796000" y="4941720"/>
            <a:ext cx="282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рштейн Полина Иосиф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IVAN_LIGHT-8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декабря 1943 года в расположении 23-го армейского корпуса, в запретной зоне близ железной дороги, был замечен и после двухчасового наблюдения задержан русский школьник 10-12 лет, лежавший в снегу и наблюдавший за движением эшелон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На допросах держался вызывающе: не скрывал своего враждебного отношения к немецкой армии и Германской имп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093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соответствии с директивой Верховного командования вооруженными силами от 11 ноября 1942 года расстрелян  25.12.43г. в 6.55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коло 300 тысяч детей и подростков в настоящее время принимают участие в боевых действиях или служат в военных формиров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short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лько в ходе военной компании в Чечне было убито более 300 детей, более 1000 получили ранения или стали инвали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logo1"/>
          <p:cNvPicPr/>
          <p:nvPr/>
        </p:nvPicPr>
        <p:blipFill>
          <a:blip r:embed="rId1"/>
          <a:stretch/>
        </p:blipFill>
        <p:spPr>
          <a:xfrm>
            <a:off x="0" y="0"/>
            <a:ext cx="914400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"/>
          <p:cNvPicPr/>
          <p:nvPr/>
        </p:nvPicPr>
        <p:blipFill>
          <a:blip r:embed="rId2"/>
          <a:stretch/>
        </p:blipFill>
        <p:spPr>
          <a:xfrm>
            <a:off x="2700360" y="1844640"/>
            <a:ext cx="6443640" cy="1090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же много лет существует проект «Жди меня», который занимается поиском людей. За время существования программы в адрес редакции поступило более 250 тысяч обращений с просьбами о помощи в поисках родственников и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Более 20 тысяч человек были найдены.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355160" cy="27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ЗА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RATEGIA_1-2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71640" y="62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 1941 года началась 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ентин Петрович Кат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50x150_e5671e5ccba3a17381e6d7f9931d0909"/>
          <p:cNvPicPr/>
          <p:nvPr/>
        </p:nvPicPr>
        <p:blipFill>
          <a:blip r:embed="rId1"/>
          <a:stretch/>
        </p:blipFill>
        <p:spPr>
          <a:xfrm>
            <a:off x="1004760" y="1773360"/>
            <a:ext cx="3062520" cy="39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P1140139"/>
          <p:cNvPicPr/>
          <p:nvPr/>
        </p:nvPicPr>
        <p:blipFill>
          <a:blip r:embed="rId2"/>
          <a:srcRect l="2382" t="0" r="6207" b="0"/>
          <a:stretch/>
        </p:blipFill>
        <p:spPr>
          <a:xfrm>
            <a:off x="5219640" y="1773360"/>
            <a:ext cx="273708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мир Осипович Богом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01173_1"/>
          <p:cNvPicPr/>
          <p:nvPr/>
        </p:nvPicPr>
        <p:blipFill>
          <a:blip r:embed="rId1"/>
          <a:stretch/>
        </p:blipFill>
        <p:spPr>
          <a:xfrm>
            <a:off x="1187280" y="1700280"/>
            <a:ext cx="316404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P1140141"/>
          <p:cNvPicPr/>
          <p:nvPr/>
        </p:nvPicPr>
        <p:blipFill>
          <a:blip r:embed="rId2"/>
          <a:srcRect l="4612" t="0" r="2673" b="0"/>
          <a:stretch/>
        </p:blipFill>
        <p:spPr>
          <a:xfrm>
            <a:off x="5192640" y="1700280"/>
            <a:ext cx="29084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VAN_LIGH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79640" y="692280"/>
            <a:ext cx="325116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глазый, заросший русыми волосами, худенький, вежливый и вместе с тем гордый… парнишка, настоящий «пастуш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IVAN_LIGHT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3280" y="188640"/>
            <a:ext cx="3600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 у него было скуластое, темновато-серое от въевшейся в кожу грязи. Мокрые, неопределенного цвета волосы висели клочьями. В его взгляде, в выражении измученного, с плотно сжатыми, посиневшими губами лица чувствовалось какое-то внутреннее напряжение и, как мне показалось, недоверие и неприя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IVAN_LIGHT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фицером стать я ещё успею. А пока война, отдыхать может тот, от кого пользы мал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VAN_LIGHT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дит по деревням, посёлкам, одетый в тряпьё, как побирушка, а сам зорко всматривается в любое скопление живой силы врага и его воору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IVAN_LIGHT-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ёл впереди группы, изучая местность, потом возвращался и докладывал, свободен ли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2:24:45Z</dcterms:created>
  <dc:creator>*</dc:creator>
  <dc:description/>
  <dc:language>en-US</dc:language>
  <cp:lastModifiedBy>Пользователь</cp:lastModifiedBy>
  <dcterms:modified xsi:type="dcterms:W3CDTF">2013-07-24T15:48:16Z</dcterms:modified>
  <cp:revision>7</cp:revision>
  <dc:subject/>
  <dc:title>Министерство образования Саратовской области Муниципальное общеобразовательное учреждение Лицей №37 Фрунзенского района г. Саратова</dc:title>
</cp:coreProperties>
</file>