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E89F9-4B4E-4199-8980-9D8A7B83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0267-89E9-4DB0-8E9A-93185286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398BF-8D2F-43B8-B122-DDA750BD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295C-EE26-46DE-9993-4C4D631E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B112-6231-41BA-9A83-25BF54C6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EDC9-5192-4DAF-A6B9-6891B02E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2B8F-212C-4051-884D-49E278F6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8FD3-5032-466F-B61B-44DFF64A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B3A1-26D6-4517-B095-C777EFE9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C34F-2A15-43A5-95FD-F50B4311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F184-886C-4F9A-B688-3C9878E7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72C1-E4A8-4D53-AAB1-B6DF437C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FB36-2D3C-482E-B64B-A1969258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70A2-1EAA-4F94-B169-7DB7222A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FB44-603C-4CA5-A436-2CE1F506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40FF-00B5-4A53-9FCC-679B57FC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79FE-5B69-405E-BF6E-9B8A6CB7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A64EA-BF74-437D-A266-BACC848D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DB4E-A332-49CD-8BF4-43C42E9B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C172C-67FB-4986-8A81-45791D98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18C9-0295-40E7-9930-A768DE84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6A5EE-257A-4D81-852A-BB1A0C4B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F440-515F-4AC6-9512-A8CCF3BD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CAA6-CF69-4271-994F-4580C1FF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3E02-6C07-4013-90C2-82C83DA016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4F94-4257-4001-87CC-C455CF5915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99700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0" spc="-1" strike="noStrike" u="sng">
                <a:solidFill>
                  <a:srgbClr val="e5e5ff"/>
                </a:solidFill>
                <a:uFillTx/>
                <a:latin typeface="Garamond"/>
              </a:rPr>
              <a:t>Циклоида</a:t>
            </a:r>
            <a:endParaRPr b="1" lang="en-US" sz="1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763640" y="333360"/>
            <a:ext cx="712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ворачивает парадокс куда захочет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ассудок здравый он , смеясь, морочи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.С. ДЖИЛЬБЕР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e5e5ff"/>
                </a:solidFill>
                <a:uFillTx/>
                <a:latin typeface="Garamond"/>
              </a:rPr>
              <a:t>Перициклоида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326280" cy="4867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Кардиоида. «Улитки Паскаля»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24800" cy="476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«Таутохронная» гор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083440" cy="404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e5e5ff"/>
                </a:solidFill>
                <a:uFillTx/>
                <a:latin typeface="Garamond"/>
              </a:rPr>
              <a:t>Парадоксы странные, но истинные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545080" cy="3049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e5e5ff"/>
                </a:solidFill>
                <a:uFillTx/>
                <a:latin typeface="Garamond"/>
              </a:rPr>
              <a:t>Немного истории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006720" cy="4064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05440" y="1862280"/>
            <a:ext cx="3324240" cy="4000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346680" y="5902200"/>
            <a:ext cx="50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Философ Аристо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63880" y="5888160"/>
            <a:ext cx="39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Галилео Гали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e5e5ff"/>
                </a:solidFill>
                <a:uFillTx/>
                <a:latin typeface="Garamond"/>
              </a:rPr>
              <a:t>Циклоида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120000" cy="3265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24360" y="4797360"/>
            <a:ext cx="1584360" cy="503280"/>
          </a:xfrm>
          <a:prstGeom prst="rect">
            <a:avLst/>
          </a:prstGeom>
          <a:solidFill>
            <a:srgbClr val="e4cbac"/>
          </a:solidFill>
          <a:ln w="9360">
            <a:solidFill>
              <a:srgbClr val="e4cb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e5e5ff"/>
                </a:solidFill>
                <a:uFillTx/>
                <a:latin typeface="Garamond"/>
              </a:rPr>
              <a:t>Построение циклоиды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8375400" cy="33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e5e5ff"/>
                </a:solidFill>
                <a:uFillTx/>
                <a:latin typeface="Garamond"/>
              </a:rPr>
              <a:t>Элементы циклоиды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724960" cy="305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e5e5ff"/>
                </a:solidFill>
                <a:uFillTx/>
                <a:latin typeface="Garamond"/>
              </a:rPr>
              <a:t>Спутница циклоиды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42472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e5e5ff"/>
                </a:solidFill>
                <a:uFillTx/>
                <a:latin typeface="Garamond"/>
              </a:rPr>
              <a:t>Родственницы циклоиды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5543640" cy="2203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348000" y="4149720"/>
            <a:ext cx="5472000" cy="217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e5e5ff"/>
                </a:solidFill>
                <a:uFillTx/>
                <a:latin typeface="Garamond"/>
              </a:rPr>
              <a:t>Эпициклоиды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543800" cy="377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14:52:43Z</dcterms:created>
  <dc:creator>Алиса</dc:creator>
  <dc:description/>
  <dc:language>en-US</dc:language>
  <cp:lastModifiedBy>Алексей Суханов</cp:lastModifiedBy>
  <dcterms:modified xsi:type="dcterms:W3CDTF">2005-03-24T10:40:18Z</dcterms:modified>
  <cp:revision>4</cp:revision>
  <dc:subject/>
  <dc:title>Циклоида</dc:title>
</cp:coreProperties>
</file>