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5903-82B5-4E3C-A33E-07C7FF03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BEA22-ABD1-4ADF-8CBF-B8A8500D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8C3F-C0B8-4B21-81F6-4911B382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BAB42-1260-44AF-84B2-3A48D92A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7D7C-47EB-46D1-A704-1173685D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B17F-3660-4424-8844-D00FCBCB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FACD-1F89-40B7-B6A6-CD61385A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F74D-113B-4CAD-9179-50EC1B2B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27ED-15D1-45E1-AC2E-FB0ECF2A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E700-A380-4EF5-AD7F-5907FB41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5A29-D7AB-4EE6-83B1-BAE11E98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0766-28B5-474E-B7F0-FA6D6616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D401-64B8-45AD-8593-ACFD8000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BEDD-86CE-453F-91F7-9B7E096A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2394-AF99-43EB-89CD-DB22AA7E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9A2D-64CA-490B-A606-C7361391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DC2F-22C3-453B-9A05-E42FC550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6A6E-6B4A-41D3-B51F-94B06606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E71C-D0C3-4393-890C-1CE14A2C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F47B3-6E99-45D4-AF4C-E661139E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06B8-9725-493A-91C8-8E58D830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E82A-A663-4963-8478-921AEA9E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ED06-1FD0-451D-9D42-BDD7EB26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AF27-2701-4E3A-9E83-ED9FF306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F9D8-745F-4B4B-B63D-B689464FBA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30A1-0C8F-459D-BF0B-EE084B9877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99700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0" spc="-1" strike="noStrike" u="sng">
                <a:solidFill>
                  <a:srgbClr val="e5e5ff"/>
                </a:solidFill>
                <a:uFillTx/>
                <a:latin typeface="Garamond"/>
              </a:rPr>
              <a:t>Циклоида</a:t>
            </a:r>
            <a:endParaRPr b="1" lang="en-US" sz="1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763640" y="333360"/>
            <a:ext cx="712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ворачивает парадокс куда захочет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ассудок здравый он , смеясь, морочи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.С. ДЖИЛЬБЕР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e5e5ff"/>
                </a:solidFill>
                <a:uFillTx/>
                <a:latin typeface="Garamond"/>
              </a:rPr>
              <a:t>Перициклоида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326280" cy="4867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Кардиоида. «Улитки Паскаля»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24800" cy="476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«Таутохронная» гор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083440" cy="404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e5e5ff"/>
                </a:solidFill>
                <a:uFillTx/>
                <a:latin typeface="Garamond"/>
              </a:rPr>
              <a:t>Парадоксы странные, но истинные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545080" cy="3049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e5e5ff"/>
                </a:solidFill>
                <a:uFillTx/>
                <a:latin typeface="Garamond"/>
              </a:rPr>
              <a:t>Немного истории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006720" cy="4064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05440" y="1862280"/>
            <a:ext cx="3324240" cy="4000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346680" y="5902200"/>
            <a:ext cx="50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Философ Аристо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63880" y="5888160"/>
            <a:ext cx="39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Галилео Гали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e5e5ff"/>
                </a:solidFill>
                <a:uFillTx/>
                <a:latin typeface="Garamond"/>
              </a:rPr>
              <a:t>Циклоида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120000" cy="3265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24360" y="4797360"/>
            <a:ext cx="1584360" cy="503280"/>
          </a:xfrm>
          <a:prstGeom prst="rect">
            <a:avLst/>
          </a:prstGeom>
          <a:solidFill>
            <a:srgbClr val="e4cbac"/>
          </a:solidFill>
          <a:ln w="9360">
            <a:solidFill>
              <a:srgbClr val="e4cb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e5e5ff"/>
                </a:solidFill>
                <a:uFillTx/>
                <a:latin typeface="Garamond"/>
              </a:rPr>
              <a:t>Построение циклоиды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8375400" cy="33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e5e5ff"/>
                </a:solidFill>
                <a:uFillTx/>
                <a:latin typeface="Garamond"/>
              </a:rPr>
              <a:t>Элементы циклоиды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724960" cy="305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e5e5ff"/>
                </a:solidFill>
                <a:uFillTx/>
                <a:latin typeface="Garamond"/>
              </a:rPr>
              <a:t>Спутница циклоиды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42472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e5e5ff"/>
                </a:solidFill>
                <a:uFillTx/>
                <a:latin typeface="Garamond"/>
              </a:rPr>
              <a:t>Родственницы циклоиды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5543640" cy="2203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348000" y="4149720"/>
            <a:ext cx="5472000" cy="217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e5e5ff"/>
                </a:solidFill>
                <a:uFillTx/>
                <a:latin typeface="Garamond"/>
              </a:rPr>
              <a:t>Эпициклоиды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543800" cy="377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14:52:43Z</dcterms:created>
  <dc:creator>Алиса</dc:creator>
  <dc:description/>
  <dc:language>en-US</dc:language>
  <cp:lastModifiedBy>Алексей Суханов</cp:lastModifiedBy>
  <dcterms:modified xsi:type="dcterms:W3CDTF">2005-03-24T10:40:18Z</dcterms:modified>
  <cp:revision>4</cp:revision>
  <dc:subject/>
  <dc:title>Циклоида</dc:title>
</cp:coreProperties>
</file>