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1619-86CE-43C7-96D9-E71583B7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C99F-97FA-4CCD-B000-CA7E5245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65EF-57F9-42A7-8426-6362A7C6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5A727-5C45-49EB-B1E2-B8799DB4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DEE5-88C8-48CC-85F9-590FDD14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9EA1-B660-47E9-8541-FB5827D1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EC21-44D4-4A4C-B4B7-745FD973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73EF-2B9B-4092-9909-212F1E97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29AB-7FBD-4801-B2B3-5240BB82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D66B-7E00-4622-8E0A-6664B04D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867B-62CA-4A06-8663-9A1510E7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61E16-3546-4730-AB65-C6F6B516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71C6-EAA5-4BD3-BF21-4EC000BA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C283-259B-42E0-96CB-A947A598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2E41-D02A-4EE8-BA35-C355B572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0687-6189-4391-AE78-9804C3A7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8877-1FE5-4595-8537-7D1D7419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E47F-89D9-4472-90FB-7D23301D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8F09-A8EC-4BBE-A5A9-95087F5A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F1FE-C9D4-426E-8DE9-FBFF8C3A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71FF-7BE9-488F-AB14-4FA257D8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9C43-5DC6-4DFD-8E94-0A4CD83A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702F-B03B-4D4A-A4A5-9309D04E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B6932-A0D5-464A-B846-E52A5727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44AD-FBFF-460A-802D-8CE96B3E12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1907-E246-4B02-BAF5-E0C492741F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99700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0" spc="-1" strike="noStrike" u="sng">
                <a:solidFill>
                  <a:srgbClr val="e5e5ff"/>
                </a:solidFill>
                <a:uFillTx/>
                <a:latin typeface="Garamond"/>
              </a:rPr>
              <a:t>Циклоида</a:t>
            </a:r>
            <a:endParaRPr b="1" lang="en-US" sz="1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763640" y="333360"/>
            <a:ext cx="712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ворачивает парадокс куда захочет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ассудок здравый он , смеясь, морочи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.С. ДЖИЛЬБЕР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e5e5ff"/>
                </a:solidFill>
                <a:uFillTx/>
                <a:latin typeface="Garamond"/>
              </a:rPr>
              <a:t>Перициклоида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326280" cy="4867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Кардиоида. «Улитки Паскаля»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24800" cy="476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«Таутохронная» гор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08344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e5e5ff"/>
                </a:solidFill>
                <a:uFillTx/>
                <a:latin typeface="Garamond"/>
              </a:rPr>
              <a:t>Парадоксы странные, но истинные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545080" cy="304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e5e5ff"/>
                </a:solidFill>
                <a:uFillTx/>
                <a:latin typeface="Garamond"/>
              </a:rPr>
              <a:t>Немного истории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006720" cy="4064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05440" y="1862280"/>
            <a:ext cx="3324240" cy="4000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346680" y="590220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Философ Аристо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63880" y="5888160"/>
            <a:ext cx="39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Галилео Гали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e5e5ff"/>
                </a:solidFill>
                <a:uFillTx/>
                <a:latin typeface="Garamond"/>
              </a:rPr>
              <a:t>Циклоида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120000" cy="3265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24360" y="4797360"/>
            <a:ext cx="1584360" cy="503280"/>
          </a:xfrm>
          <a:prstGeom prst="rect">
            <a:avLst/>
          </a:prstGeom>
          <a:solidFill>
            <a:srgbClr val="e4cbac"/>
          </a:solidFill>
          <a:ln w="9360">
            <a:solidFill>
              <a:srgbClr val="e4cb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e5e5ff"/>
                </a:solidFill>
                <a:uFillTx/>
                <a:latin typeface="Garamond"/>
              </a:rPr>
              <a:t>Построение циклоид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8375400" cy="33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e5e5ff"/>
                </a:solidFill>
                <a:uFillTx/>
                <a:latin typeface="Garamond"/>
              </a:rPr>
              <a:t>Элементы циклоид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724960" cy="305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e5e5ff"/>
                </a:solidFill>
                <a:uFillTx/>
                <a:latin typeface="Garamond"/>
              </a:rPr>
              <a:t>Спутница циклоиды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42472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e5e5ff"/>
                </a:solidFill>
                <a:uFillTx/>
                <a:latin typeface="Garamond"/>
              </a:rPr>
              <a:t>Родственницы циклоиды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5543640" cy="2203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348000" y="4149720"/>
            <a:ext cx="5472000" cy="2174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e5e5ff"/>
                </a:solidFill>
                <a:uFillTx/>
                <a:latin typeface="Garamond"/>
              </a:rPr>
              <a:t>Эпициклоиды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54380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14:52:43Z</dcterms:created>
  <dc:creator>Алиса</dc:creator>
  <dc:description/>
  <dc:language>en-US</dc:language>
  <cp:lastModifiedBy>Алексей Суханов</cp:lastModifiedBy>
  <dcterms:modified xsi:type="dcterms:W3CDTF">2005-03-24T10:40:18Z</dcterms:modified>
  <cp:revision>4</cp:revision>
  <dc:subject/>
  <dc:title>Циклоида</dc:title>
</cp:coreProperties>
</file>