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7AD-4C8B-46B8-9660-284E021A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016-19F3-4972-8A30-38589C9F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044-658F-42C5-909A-D1AB19E7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A65-4FAC-4A9D-B8AE-239347DD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E8A0-A7D7-4C13-B2E1-E6B90494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2FA4-B45E-45A0-98F6-653E06E1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E9A8-F2B7-43E9-9AB9-7AA688C5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EC0B-9346-4ED5-8774-B2F4E2E4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83BB-4D37-4DCF-83C4-D4E29BFC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B427-166E-40C0-92A0-734AED85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99EE-BD79-4B9F-9B79-A8314195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F0A-13F7-425E-BA99-11364D5D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4EDB-03FE-46B4-A64A-75A65726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DD14-5E50-4F6E-88AD-22A2733B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8037-4886-4B0E-90FC-CDA85B38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4D5A-B80D-4138-A4C0-F2E5C110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DFD9-8251-4382-94AD-F3221CBE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259-BA75-41C8-B161-657E246C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1B4-E14D-481F-9064-5F0CCF5A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26D-45E8-4022-A66B-52D2094D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F2D-354D-4587-AECA-8DEDBC7E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47A-A654-41E4-A47F-25E32FDC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863-E717-4D29-8815-DA58BA98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59C-491B-40E8-BC08-75E22A61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AD24-379B-4ACE-B460-91995FEAA34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C8A8-9875-4747-A0AB-66D05407A3B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3640" y="5805000"/>
            <a:ext cx="8351640" cy="7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.С.Грибоедов: жизнь и судьб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124000" y="339840"/>
            <a:ext cx="4751640" cy="555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4537080" cy="6850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4859280" y="1052640"/>
            <a:ext cx="374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Ум и дела твои бессмертны в памяти русской, но для чего пережила тебя любовь мо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7"/>
          <p:cNvSpPr/>
          <p:nvPr/>
        </p:nvSpPr>
        <p:spPr>
          <a:xfrm>
            <a:off x="5000760" y="1214280"/>
            <a:ext cx="3786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Round Script"/>
              </a:rPr>
              <a:t>Могила А.С. Грибоедова</a:t>
            </a:r>
            <a:r>
              <a:rPr b="1" lang="en-US" sz="3600" spc="-1" strike="noStrike">
                <a:solidFill>
                  <a:srgbClr val="000000"/>
                </a:solidFill>
                <a:latin typeface="Round Scrip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http://www.griboedov.net/img/gallery/1176383945_91418.jpg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69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7"/>
          <p:cNvSpPr/>
          <p:nvPr/>
        </p:nvSpPr>
        <p:spPr>
          <a:xfrm>
            <a:off x="857160" y="179280"/>
            <a:ext cx="7929720" cy="72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1879 году поэт  Яков Полонский посвятил её памяти стихотворение «Н.А. Грибоедова»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...Там, в тёмном гроте — мавзолей,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И — скромный дар вдовы —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Лампадка светит в полутьме,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Чтоб прочитали вы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Ту надпись и чтоб вам она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Напомнила сама —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Два горя: горе от любви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И горе от у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642960" y="714240"/>
            <a:ext cx="77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524400" cy="476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589280" cy="4590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68000" y="5805000"/>
            <a:ext cx="8496360" cy="7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ид Москвы времен Грибоедов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920" y="260280"/>
            <a:ext cx="8848800" cy="525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240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3380040" y="1700280"/>
            <a:ext cx="55224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Расписание заняти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8.00-12.00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лек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15.00-17.00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- лек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195640" y="268200"/>
            <a:ext cx="5113080" cy="5905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0" y="623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ибоедов-гусар. 1813 год. Польша. Кавалерийские резерв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68360" y="4797000"/>
            <a:ext cx="3240000" cy="10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. Н.Бегич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263760" cy="4319640"/>
          </a:xfrm>
          <a:prstGeom prst="rect">
            <a:avLst/>
          </a:prstGeom>
          <a:ln w="0">
            <a:noFill/>
          </a:ln>
        </p:spPr>
      </p:pic>
      <p:sp>
        <p:nvSpPr>
          <p:cNvPr id="94" name="Вертикальный свиток 4"/>
          <p:cNvSpPr/>
          <p:nvPr/>
        </p:nvSpPr>
        <p:spPr>
          <a:xfrm>
            <a:off x="3635280" y="189000"/>
            <a:ext cx="5508720" cy="6335640"/>
          </a:xfrm>
          <a:prstGeom prst="verticalScroll">
            <a:avLst>
              <a:gd name="adj" fmla="val 125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Ты, мой друг, поселил в меня любовь к добру, я с тех пор начал дорожить честностью и всем, что составляет истинную красоту души,… с тобой я становлюсь нравственно чище и добрее” (Грибоедов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116000" y="-14400"/>
            <a:ext cx="6912000" cy="6886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560" y="5157360"/>
            <a:ext cx="87138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 февраля 1828 года. Заключение между Россией и Персией Туркманчайского  мирного договора, чрезвычайно выгодного для Росс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953040" cy="4824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5003640" y="1916280"/>
            <a:ext cx="36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ина Чавчавадз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жена А.С.Грибоед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3:40:51Z</dcterms:created>
  <dc:creator>Родина</dc:creator>
  <dc:description/>
  <dc:language>en-US</dc:language>
  <cp:lastModifiedBy>Родина</cp:lastModifiedBy>
  <dcterms:modified xsi:type="dcterms:W3CDTF">2010-10-07T14:44:15Z</dcterms:modified>
  <cp:revision>8</cp:revision>
  <dc:subject/>
  <dc:title>Слайд 1</dc:title>
</cp:coreProperties>
</file>