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7B7C-53D3-4012-A0A2-AEBDE0242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C0AA-5056-43B2-9CF6-1B32F9B9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03CE-3E35-40EA-9EB4-6EAE2F5A9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53DA-463F-4C7F-9A72-C7E3201B0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EC6F-648F-49E3-AFCF-F8D64ECC4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D9F3-DE31-43AB-B181-803CA524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9F630-BE0E-408F-8745-7C267C0C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A609-AF45-4791-990C-17A716E7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6544-EB77-4FBC-8AA4-48BF77DE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0573-E96F-44CF-B133-096966CE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2980-A47F-4247-AEE9-4ABF8F08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C0A5-2C63-48F2-B103-16E2F60A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1A12-EB11-45B8-94CA-53242450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55A37-C484-470F-B80F-C269B801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F04F-74D6-421F-8FA4-F1D4C3B0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591A-CC74-4E0D-8E96-CF69A6DF4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19AE-F321-47CC-ACB3-6EE1DB3CE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ADD2-F59D-453D-87D8-02840609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F9D4-E524-4E85-8ABA-67A26B88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604E-B3B9-4006-9795-0999D2E1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9EA5-883A-4563-BD08-C9F0F7BA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712F-AD82-4C41-8E2A-5E60485F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03E1-803C-4D0B-B351-1BC2D459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EFBE-D25A-4C21-B463-212522CA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F93A-5C30-4D0D-A0AF-26E833BD225F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11A3-5F53-4EC7-A10B-61F82F0A42FE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23640" y="5805000"/>
            <a:ext cx="8351640" cy="7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А.С.Грибоедов: жизнь и судьб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2124000" y="339840"/>
            <a:ext cx="4751640" cy="5556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4537080" cy="68500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5"/>
          <p:cNvSpPr/>
          <p:nvPr/>
        </p:nvSpPr>
        <p:spPr>
          <a:xfrm>
            <a:off x="4859280" y="1052640"/>
            <a:ext cx="3745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Ум и дела твои бессмертны в памяти русской, но для чего пережила тебя любовь моя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7"/>
          <p:cNvSpPr/>
          <p:nvPr/>
        </p:nvSpPr>
        <p:spPr>
          <a:xfrm>
            <a:off x="5000760" y="1214280"/>
            <a:ext cx="3786120" cy="31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Round Script"/>
              </a:rPr>
              <a:t>Могила А.С. Грибоедова</a:t>
            </a:r>
            <a:r>
              <a:rPr b="1" lang="en-US" sz="3600" spc="-1" strike="noStrike">
                <a:solidFill>
                  <a:srgbClr val="000000"/>
                </a:solidFill>
                <a:latin typeface="Round Scrip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2" descr="http://www.griboedov.net/img/gallery/1176383945_91418.jpg"/>
          <p:cNvPicPr/>
          <p:nvPr/>
        </p:nvPicPr>
        <p:blipFill>
          <a:blip r:embed="rId1"/>
          <a:stretch/>
        </p:blipFill>
        <p:spPr>
          <a:xfrm>
            <a:off x="0" y="-136440"/>
            <a:ext cx="9144000" cy="699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7"/>
          <p:cNvSpPr/>
          <p:nvPr/>
        </p:nvSpPr>
        <p:spPr>
          <a:xfrm>
            <a:off x="857160" y="179280"/>
            <a:ext cx="7929720" cy="72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 1879 году поэт  Яков Полонский посвятил её памяти стихотворение «Н.А. Грибоедова»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...Там, в тёмном гроте — мавзолей,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И — скромный дар вдовы —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Лампадка светит в полутьме,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Чтоб прочитали вы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Ту надпись и чтоб вам она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Напомнила сама —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Два горя: горе от любви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И горе от у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4"/>
          <p:cNvSpPr/>
          <p:nvPr/>
        </p:nvSpPr>
        <p:spPr>
          <a:xfrm>
            <a:off x="642960" y="714240"/>
            <a:ext cx="77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524400" cy="4762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4284720" y="1916280"/>
            <a:ext cx="4589280" cy="4590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68000" y="5805000"/>
            <a:ext cx="8496360" cy="7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ид Москвы времен Грибоедов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69920" y="260280"/>
            <a:ext cx="8848800" cy="5256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240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3380040" y="1700280"/>
            <a:ext cx="55224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</a:rPr>
              <a:t>Расписание занятий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8.00-12.00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– лек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15.00-17.00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- лек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2195640" y="268200"/>
            <a:ext cx="5113080" cy="5905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0" y="6237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ибоедов-гусар. 1813 год. Польша. Кавалерийские резерв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68360" y="4797000"/>
            <a:ext cx="3240000" cy="10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. Н.Бегиче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3263760" cy="4319640"/>
          </a:xfrm>
          <a:prstGeom prst="rect">
            <a:avLst/>
          </a:prstGeom>
          <a:ln w="0">
            <a:noFill/>
          </a:ln>
        </p:spPr>
      </p:pic>
      <p:sp>
        <p:nvSpPr>
          <p:cNvPr id="94" name="Вертикальный свиток 4"/>
          <p:cNvSpPr/>
          <p:nvPr/>
        </p:nvSpPr>
        <p:spPr>
          <a:xfrm>
            <a:off x="3635280" y="189000"/>
            <a:ext cx="5508720" cy="6335640"/>
          </a:xfrm>
          <a:prstGeom prst="verticalScroll">
            <a:avLst>
              <a:gd name="adj" fmla="val 125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Ты, мой друг, поселил в меня любовь к добру, я с тех пор начал дорожить честностью и всем, что составляет истинную красоту души,… с тобой я становлюсь нравственно чище и добрее” (Грибоедов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1116000" y="-14400"/>
            <a:ext cx="6912000" cy="68868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50560" y="5157360"/>
            <a:ext cx="8713800" cy="17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0 февраля 1828 года. Заключение между Россией и Персией Туркманчайского  мирного договора, чрезвычайно выгодного для Росс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258920" y="189000"/>
            <a:ext cx="6953040" cy="48243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5003640" y="1916280"/>
            <a:ext cx="36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Нина Чавчавадзе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жена А.С.Грибоедо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13:40:51Z</dcterms:created>
  <dc:creator>Родина</dc:creator>
  <dc:description/>
  <dc:language>en-US</dc:language>
  <cp:lastModifiedBy>Родина</cp:lastModifiedBy>
  <dcterms:modified xsi:type="dcterms:W3CDTF">2010-10-07T14:44:15Z</dcterms:modified>
  <cp:revision>8</cp:revision>
  <dc:subject/>
  <dc:title>Слайд 1</dc:title>
</cp:coreProperties>
</file>