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ED7-5DDD-462D-96A5-58899575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7C7-3D49-4911-B917-DA260FA4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EC6-5516-42E0-BBC1-4406DB3E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A61-0C50-4FBC-AF91-2DAED8F1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82B3-A953-482F-B72B-DB09A354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F67A-A832-4102-A692-0DF8C5CC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A00E-16B1-4D54-AE08-14BF696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109-E344-4C0A-8E93-FDF5F3E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BB8-B58F-4D7F-BB1C-3E99472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98A3-A8C3-4B77-B33B-FAF0653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7EE9-D575-4CF5-9938-D0B5415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651-137D-4B18-A64B-7F2F267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636-6BF0-4CE4-9373-470BFA3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1481-D28F-4A48-9B32-3F69DD31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EEC7-0BA7-4015-9F51-30CD9661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49E2-FFED-47B9-A16B-53FEF52C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756-FB0D-4759-90D9-5D2E4D30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9AE-0543-4995-B08F-B985EFE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1D0-C828-4E7F-8AB2-4298BFD8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AD2-9694-459B-88CC-BF77740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0DC-26BC-4C35-99A3-6FAC141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BA4-4454-4CB0-908F-9D7B407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1A6-06E1-4668-8CA9-7CBD941F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839-347B-493E-9710-718D62C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3C2-5788-4E5C-9622-E8E91FCCEC5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C3F5-4139-438E-B276-4CD64778EC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5805000"/>
            <a:ext cx="835164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.С.Грибоедов: жизнь и судьб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24000" y="339840"/>
            <a:ext cx="4751640" cy="555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453708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859280" y="1052640"/>
            <a:ext cx="37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Ум и дела твои бессмертны в памяти русской, но для чего пережила тебя любовь мо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5000760" y="1214280"/>
            <a:ext cx="3786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und Script"/>
              </a:rPr>
              <a:t>Могила А.С. Грибоедова</a:t>
            </a:r>
            <a:r>
              <a:rPr b="1" lang="en-US" sz="3600" spc="-1" strike="noStrike">
                <a:solidFill>
                  <a:srgbClr val="000000"/>
                </a:solidFill>
                <a:latin typeface="Round Scrip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www.griboedov.net/img/gallery/1176383945_91418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857160" y="179280"/>
            <a:ext cx="792972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1879 году поэт  Яков Полонский посвятил её памяти стихотворение «Н.А. Грибоедова»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...Там, в тёмном гроте — мавзолей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— скромный дар вдовы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Лампадка светит в полутьме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тоб прочитали вы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у надпись и чтоб вам она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помнила сама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Два горя: горе от любви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горе от у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642960" y="71424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2440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89280" cy="459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5805000"/>
            <a:ext cx="849636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 Москвы времен Грибоед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920" y="260280"/>
            <a:ext cx="884880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380040" y="1700280"/>
            <a:ext cx="5522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Расписание занят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8.00-12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5.00-17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195640" y="268200"/>
            <a:ext cx="5113080" cy="5905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ибоедов-гусар. 1813 год. Польша. Кавалерийские резер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360" y="4797000"/>
            <a:ext cx="32400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Н.Беги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63760" cy="4319640"/>
          </a:xfrm>
          <a:prstGeom prst="rect">
            <a:avLst/>
          </a:prstGeom>
          <a:ln w="0">
            <a:noFill/>
          </a:ln>
        </p:spPr>
      </p:pic>
      <p:sp>
        <p:nvSpPr>
          <p:cNvPr id="94" name="Вертикальный свиток 4"/>
          <p:cNvSpPr/>
          <p:nvPr/>
        </p:nvSpPr>
        <p:spPr>
          <a:xfrm>
            <a:off x="3635280" y="189000"/>
            <a:ext cx="5508720" cy="6335640"/>
          </a:xfrm>
          <a:prstGeom prst="verticalScroll">
            <a:avLst>
              <a:gd name="adj" fmla="val 1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ы, мой друг, поселил в меня любовь к добру, я с тех пор начал дорожить честностью и всем, что составляет истинную красоту души,… с тобой я становлюсь нравственно чище и добрее” (Грибоед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116000" y="-14400"/>
            <a:ext cx="6912000" cy="688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5157360"/>
            <a:ext cx="8713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февраля 1828 года. Заключение между Россией и Персией Туркманчайского  мирного договора, чрезвычайно выгодного дл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53040" cy="4824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003640" y="191628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ина Чавчавадз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жена А.С.Грибоед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40:51Z</dcterms:created>
  <dc:creator>Родина</dc:creator>
  <dc:description/>
  <dc:language>en-US</dc:language>
  <cp:lastModifiedBy>Родина</cp:lastModifiedBy>
  <dcterms:modified xsi:type="dcterms:W3CDTF">2010-10-07T14:44:15Z</dcterms:modified>
  <cp:revision>8</cp:revision>
  <dc:subject/>
  <dc:title>Слайд 1</dc:title>
</cp:coreProperties>
</file>