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90520" y="878040"/>
            <a:ext cx="4464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0200" y="4349520"/>
            <a:ext cx="4730760" cy="35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90520" y="878040"/>
            <a:ext cx="4471920" cy="31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90520" y="878040"/>
            <a:ext cx="4469040" cy="31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796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24000" y="549360"/>
            <a:ext cx="835164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Особенности взросления подро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20000" y="2160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265400" y="360504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780000" y="4324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1758960" y="2362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7316640" y="4532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4319640" y="287964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7"/>
          <a:stretch/>
        </p:blipFill>
        <p:spPr>
          <a:xfrm>
            <a:off x="6485040" y="3060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8"/>
          <a:stretch/>
        </p:blipFill>
        <p:spPr>
          <a:xfrm>
            <a:off x="5146560" y="50752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9"/>
          <a:stretch/>
        </p:blipFill>
        <p:spPr>
          <a:xfrm>
            <a:off x="1800360" y="5405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10"/>
          <a:stretch/>
        </p:blipFill>
        <p:spPr>
          <a:xfrm>
            <a:off x="2160720" y="2879640"/>
            <a:ext cx="395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920" y="0"/>
            <a:ext cx="889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Чаще всего эти половые связи приводят к так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— ранняя беременность, которая чаще всего заканчивается абортом со всеми его негативными последствиям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         — воспалительные заболевания половых путей и опасность заражения болезнями, передающимися половым путе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гинекологические заболевания как следствие аборта, беременности и родов в подростковом возраст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трудноразрешимые социальные и морально-этические проблемы, связанные с ранним материнств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ранняя половая жизнь опасна тем, что приводит к нарушению гормональной регуляции репродуктивной системы, которая в этом возрасте только налаживает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79280" y="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дростковая беременн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543640" cy="52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324000" y="-17640"/>
            <a:ext cx="8496000" cy="64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00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татистика говорит о том, что незапланированная подростковая беременность чаще всего заканчивается абортами. Так, на 100 беременностей у девочек-подростков приходится 70 абортов, 15 родов и 15 самопроизвольных выкидышей. Причем прерывание беременности у подростков в 25% случаев происходит на сроках 22 - 27 недель (аборты разрешены до 12 недель беременности), что исключительно негативно сказывается на здоровье девочки. У подростков на 11% выше риск рождения ребенка с врожденными аномалия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71400" y="539640"/>
            <a:ext cx="814860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жегодно  в России производится более 2 млн. абортов, причем около 10% их них приходится на девочек в возрасте до 18 лет.В 2007году девочкам до 14 лет  было произведено более 200 абортов. Свыше 30% девочек  имеют гинекологические заболе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71600" y="270000"/>
            <a:ext cx="81691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егодня в нашей стране насчитывается 26 млн. геноослабленных людей, половина из них дебилы , вторая имеет пониженный уровень умственного развития. Через сорок лет эти 26 млн. превратятся в 80 мл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440000" y="1079640"/>
            <a:ext cx="4679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280360" cy="66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4596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вести себя перед «дверью» в Мир взросл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жно и нужно  ли возвращаться обратно в беззаботное детств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сли все-таки идти «вперед», то с чего начинать? Ждать ли, пока «дверь» во взрослую жизнь откроется сам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стучаться? Постараться ли тихонько открыть е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ли врываться без стука, с «разбегу», завоевывая место под солнце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попасть в Мир взрослых, сохранив свое собственное «я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900000" y="0"/>
            <a:ext cx="644868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9842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011240" y="179280"/>
            <a:ext cx="78087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амая главная роль женщины в обществе? - быть матерью. Самой природой каждой женщине предназначено быть матерью. Это ее святой долг, жизненная необходимость, без которой она не может быть счастливой. Но право быть матерью должно принадлежать только НЕПЬЮЩЕЙ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КУРЯЩЕЙ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 ПРИНИМАЮЩЕЙ НАРКО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женщине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468360" y="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11280" y="0"/>
            <a:ext cx="63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244000" cy="68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60360" y="225360"/>
            <a:ext cx="8280360" cy="66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56720" cy="63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8712360" cy="57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058160" cy="618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95280" y="0"/>
            <a:ext cx="5364000" cy="66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6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6840" y="-6480"/>
            <a:ext cx="8902800" cy="61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знай себя, верь в свои силы и никогда не сдавайся!  Дерзай, и у тебя все получится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гда неизведанный Мир взрослых встретит тебя словами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бро пожаловат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704000" cy="59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"/>
          <p:cNvGrpSpPr/>
          <p:nvPr/>
        </p:nvGrpSpPr>
        <p:grpSpPr>
          <a:xfrm>
            <a:off x="189000" y="244440"/>
            <a:ext cx="8904240" cy="5558040"/>
            <a:chOff x="189000" y="244440"/>
            <a:chExt cx="8904240" cy="555804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189000" y="244440"/>
              <a:ext cx="8904240" cy="555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3"/>
            <p:cNvSpPr/>
            <p:nvPr/>
          </p:nvSpPr>
          <p:spPr>
            <a:xfrm>
              <a:off x="189000" y="244440"/>
              <a:ext cx="8904240" cy="55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Lucida Sans Unicode"/>
              </a:rPr>
              <a:t>Причинами  ранней беременности являются  фактор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6072120"/>
            <a:ext cx="8229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857160" y="142884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4714920" y="185724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78672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2428920" y="264312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42920" y="25002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ИЗНАСИЛ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14200" y="378612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ОВАННОЕ» ПОВЕ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714840" y="292896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  ПО НЕВЕДЕН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72000" y="378612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216120" y="3786120"/>
            <a:ext cx="22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ЛАНИРОВАННА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8893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Вступление в половые отношения в подростковом возрасте, происходит по следующим обстоя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мер своих друз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лкогольное опьян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териальная выго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желание привлечь к себе внимание и удержать партнер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ля самоутвержд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средство доказать свою взрос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сил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"/>
          <p:cNvGrpSpPr/>
          <p:nvPr/>
        </p:nvGrpSpPr>
        <p:grpSpPr>
          <a:xfrm>
            <a:off x="152280" y="208080"/>
            <a:ext cx="8929800" cy="6099120"/>
            <a:chOff x="152280" y="208080"/>
            <a:chExt cx="8929800" cy="6099120"/>
          </a:xfrm>
        </p:grpSpPr>
        <p:pic>
          <p:nvPicPr>
            <p:cNvPr id="80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208080"/>
              <a:ext cx="892980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3"/>
            <p:cNvSpPr/>
            <p:nvPr/>
          </p:nvSpPr>
          <p:spPr>
            <a:xfrm>
              <a:off x="152280" y="208080"/>
              <a:ext cx="8929800" cy="60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"/>
          <p:cNvGrpSpPr/>
          <p:nvPr/>
        </p:nvGrpSpPr>
        <p:grpSpPr>
          <a:xfrm>
            <a:off x="244440" y="281160"/>
            <a:ext cx="8593200" cy="5521320"/>
            <a:chOff x="244440" y="281160"/>
            <a:chExt cx="8593200" cy="5521320"/>
          </a:xfrm>
        </p:grpSpPr>
        <p:pic>
          <p:nvPicPr>
            <p:cNvPr id="83" name="Picture 2" descr=""/>
            <p:cNvPicPr/>
            <p:nvPr/>
          </p:nvPicPr>
          <p:blipFill>
            <a:blip r:embed="rId1"/>
            <a:stretch/>
          </p:blipFill>
          <p:spPr>
            <a:xfrm>
              <a:off x="244440" y="281160"/>
              <a:ext cx="8593200" cy="55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3"/>
            <p:cNvSpPr/>
            <p:nvPr/>
          </p:nvSpPr>
          <p:spPr>
            <a:xfrm>
              <a:off x="244440" y="281160"/>
              <a:ext cx="8593200" cy="55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0" y="0"/>
            <a:ext cx="91440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России в настоящее время около 9,3 млн. девочек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ля абсолютно здоровых девочек за последние 10 лет снизилась с 28,6% до 6,3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Коля</cp:lastModifiedBy>
  <dcterms:modified xsi:type="dcterms:W3CDTF">2013-04-07T11:16:17Z</dcterms:modified>
  <cp:revision>3</cp:revision>
  <dc:subject/>
  <dc:title>Слайд 1</dc:title>
</cp:coreProperties>
</file>