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3.png" ContentType="image/png"/>
  <Override PartName="/ppt/media/image2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90520" y="878040"/>
            <a:ext cx="4464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0200" y="4349520"/>
            <a:ext cx="4730760" cy="35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1190520" y="878040"/>
            <a:ext cx="4471920" cy="31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190520" y="87804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90520" y="878040"/>
            <a:ext cx="4469040" cy="31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190520" y="87804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432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04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768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432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796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324000" y="549360"/>
            <a:ext cx="835164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  <a:ea typeface="Lucida Sans Unicode"/>
              </a:rPr>
              <a:t>Особенности взросления подрост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920000" y="21607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265400" y="3605040"/>
            <a:ext cx="895320" cy="8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3780000" y="4324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1758960" y="2362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5"/>
          <a:stretch/>
        </p:blipFill>
        <p:spPr>
          <a:xfrm>
            <a:off x="7316640" y="45324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6"/>
          <a:stretch/>
        </p:blipFill>
        <p:spPr>
          <a:xfrm>
            <a:off x="4319640" y="287964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7"/>
          <a:stretch/>
        </p:blipFill>
        <p:spPr>
          <a:xfrm>
            <a:off x="6485040" y="30607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8"/>
          <a:stretch/>
        </p:blipFill>
        <p:spPr>
          <a:xfrm>
            <a:off x="5146560" y="50752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9"/>
          <a:stretch/>
        </p:blipFill>
        <p:spPr>
          <a:xfrm>
            <a:off x="1800360" y="54054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10"/>
          <a:stretch/>
        </p:blipFill>
        <p:spPr>
          <a:xfrm>
            <a:off x="2160720" y="2879640"/>
            <a:ext cx="39589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250920" y="0"/>
            <a:ext cx="889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Чаще всего эти половые связи приводят к таким последствия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— ранняя беременность, которая чаще всего заканчивается абортом со всеми его негативными последствиям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          — воспалительные заболевания половых путей и опасность заражения болезнями, передающимися половым путе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 — гинекологические заболевания как следствие аборта, беременности и родов в подростковом возраст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 — трудноразрешимые социальные и морально-этические проблемы, связанные с ранним материнств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 — ранняя половая жизнь опасна тем, что приводит к нарушению гормональной регуляции репродуктивной системы, которая в этом возрасте только налаживает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179280" y="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дростковая беременность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5543640" cy="52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684360" y="0"/>
            <a:ext cx="7343640" cy="686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324000" y="-17640"/>
            <a:ext cx="8496000" cy="649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2280" indent="-317520">
              <a:spcBef>
                <a:spcPts val="700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татистика говорит о том, что незапланированная подростковая беременность чаще всего заканчивается абортами. Так, на 100 беременностей у девочек-подростков приходится 70 абортов, 15 родов и 15 самопроизвольных выкидышей. Причем прерывание беременности у подростков в 25% случаев происходит на сроках 22 - 27 недель (аборты разрешены до 12 недель беременности), что исключительно негативно сказывается на здоровье девочки. У подростков на 11% выше риск рождения ребенка с врожденными аномалия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71400" y="539640"/>
            <a:ext cx="814860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2280" indent="-31752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Ежегодно  в России производится более 2 млн. абортов, причем около 10% их них приходится на девочек в возрасте до 18 лет.В 2007году девочкам до 14 лет  было произведено более 200 абортов. Свыше 30% девочек  имеют гинекологические заболе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71600" y="270000"/>
            <a:ext cx="8169120" cy="65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2280" indent="-317520">
              <a:lnSpc>
                <a:spcPct val="93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егодня в нашей стране насчитывается 26 млн. геноослабленных людей, половина из них дебилы , вторая имеет пониженный уровень умственного развития. Через сорок лет эти 26 млн. превратятся в 80 мл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1440000" y="1079640"/>
            <a:ext cx="4679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280360" cy="66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845964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0" y="260280"/>
            <a:ext cx="91440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ак вести себя перед «дверью» в Мир взросл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жно и нужно  ли возвращаться обратно в беззаботное детств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Если все-таки идти «вперед», то с чего начинать? Ждать ли, пока «дверь» во взрослую жизнь откроется сам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стучаться? Постараться ли тихонько открыть е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ли врываться без стука, с «разбегу», завоевывая место под солнце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ак попасть в Мир взрослых, сохранив свое собственное «я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900000" y="0"/>
            <a:ext cx="6448680" cy="645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6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984240" y="0"/>
            <a:ext cx="5135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011240" y="179280"/>
            <a:ext cx="78087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2280" indent="-317520">
              <a:lnSpc>
                <a:spcPct val="93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амая главная роль женщины в обществе? - быть матерью. Самой природой каждой женщине предназначено быть матерью. Это ее святой долг, жизненная необходимость, без которой она не может быть счастливой. Но право быть матерью должно принадлежать только НЕПЬЮЩЕЙ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КУРЯЩЕЙ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 ПРИНИМАЮЩЕЙ НАРКОТ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женщине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468360" y="0"/>
            <a:ext cx="6840360" cy="68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611280" y="0"/>
            <a:ext cx="6325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8244000" cy="68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360360" y="225360"/>
            <a:ext cx="8280360" cy="663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56720" cy="636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287280" y="179280"/>
            <a:ext cx="8712360" cy="57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058160" cy="618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95280" y="0"/>
            <a:ext cx="5364000" cy="66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66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96840" y="-6480"/>
            <a:ext cx="8902800" cy="61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знай себя, верь в свои силы и никогда не сдавайся!  Дерзай, и у тебя все получится!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огда неизведанный Мир взрослых встретит тебя словами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обро пожаловат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!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704000" cy="59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"/>
          <p:cNvGrpSpPr/>
          <p:nvPr/>
        </p:nvGrpSpPr>
        <p:grpSpPr>
          <a:xfrm>
            <a:off x="189000" y="244440"/>
            <a:ext cx="8904240" cy="5558040"/>
            <a:chOff x="189000" y="244440"/>
            <a:chExt cx="8904240" cy="5558040"/>
          </a:xfrm>
        </p:grpSpPr>
        <p:pic>
          <p:nvPicPr>
            <p:cNvPr id="65" name="Picture 2" descr=""/>
            <p:cNvPicPr/>
            <p:nvPr/>
          </p:nvPicPr>
          <p:blipFill>
            <a:blip r:embed="rId1"/>
            <a:stretch/>
          </p:blipFill>
          <p:spPr>
            <a:xfrm>
              <a:off x="189000" y="244440"/>
              <a:ext cx="8904240" cy="555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3"/>
            <p:cNvSpPr/>
            <p:nvPr/>
          </p:nvSpPr>
          <p:spPr>
            <a:xfrm>
              <a:off x="189000" y="244440"/>
              <a:ext cx="8904240" cy="55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  <a:ea typeface="Lucida Sans Unicode"/>
              </a:rPr>
              <a:t>Причинами  ранней беременности являются  фактор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6072120"/>
            <a:ext cx="8229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857160" y="142884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4714920" y="185724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6786720" y="27147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2428920" y="264312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42920" y="250020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  <a:ea typeface="Lucida Sans Unicode"/>
              </a:rPr>
              <a:t>ИЗНАСИЛ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214200" y="3786120"/>
            <a:ext cx="30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ИСКОВАННОЕ» ПОВЕ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714840" y="292896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ОСТЬ  ПО НЕВЕДЕНИЮ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572000" y="378612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ОС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216120" y="3786120"/>
            <a:ext cx="22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ЛАНИРОВАННА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0" y="0"/>
            <a:ext cx="889308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Вступление в половые отношения в подростковом возрасте, происходит по следующим обстоятельств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мер своих друз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ку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алкогольное опьян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атериальная выгод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желание привлечь к себе внимание и удержать партнер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ля самоутвержд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ак средство доказать свою взрос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асил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"/>
          <p:cNvGrpSpPr/>
          <p:nvPr/>
        </p:nvGrpSpPr>
        <p:grpSpPr>
          <a:xfrm>
            <a:off x="152280" y="208080"/>
            <a:ext cx="8929800" cy="6099120"/>
            <a:chOff x="152280" y="208080"/>
            <a:chExt cx="8929800" cy="6099120"/>
          </a:xfrm>
        </p:grpSpPr>
        <p:pic>
          <p:nvPicPr>
            <p:cNvPr id="80" name="Picture 2" descr=""/>
            <p:cNvPicPr/>
            <p:nvPr/>
          </p:nvPicPr>
          <p:blipFill>
            <a:blip r:embed="rId1"/>
            <a:stretch/>
          </p:blipFill>
          <p:spPr>
            <a:xfrm>
              <a:off x="152280" y="208080"/>
              <a:ext cx="892980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3"/>
            <p:cNvSpPr/>
            <p:nvPr/>
          </p:nvSpPr>
          <p:spPr>
            <a:xfrm>
              <a:off x="152280" y="208080"/>
              <a:ext cx="8929800" cy="60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"/>
          <p:cNvGrpSpPr/>
          <p:nvPr/>
        </p:nvGrpSpPr>
        <p:grpSpPr>
          <a:xfrm>
            <a:off x="244440" y="281160"/>
            <a:ext cx="8593200" cy="5521320"/>
            <a:chOff x="244440" y="281160"/>
            <a:chExt cx="8593200" cy="5521320"/>
          </a:xfrm>
        </p:grpSpPr>
        <p:pic>
          <p:nvPicPr>
            <p:cNvPr id="83" name="Picture 2" descr=""/>
            <p:cNvPicPr/>
            <p:nvPr/>
          </p:nvPicPr>
          <p:blipFill>
            <a:blip r:embed="rId1"/>
            <a:stretch/>
          </p:blipFill>
          <p:spPr>
            <a:xfrm>
              <a:off x="244440" y="281160"/>
              <a:ext cx="8593200" cy="55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3"/>
            <p:cNvSpPr/>
            <p:nvPr/>
          </p:nvSpPr>
          <p:spPr>
            <a:xfrm>
              <a:off x="244440" y="281160"/>
              <a:ext cx="8593200" cy="55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0" y="0"/>
            <a:ext cx="914400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 России в настоящее время около 9,3 млн. девочек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оля абсолютно здоровых девочек за последние 10 лет снизилась с 28,6% до 6,3%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гей</dc:creator>
  <dc:description/>
  <dc:language>en-US</dc:language>
  <cp:lastModifiedBy>Коля</cp:lastModifiedBy>
  <dcterms:modified xsi:type="dcterms:W3CDTF">2013-04-07T11:16:17Z</dcterms:modified>
  <cp:revision>3</cp:revision>
  <dc:subject/>
  <dc:title>Слайд 1</dc:title>
</cp:coreProperties>
</file>