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A820-B4C2-4B74-A238-132A84E7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5517B-A059-4F1E-A3C0-7DA49EF3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4E35-1773-43B7-B0AD-476D1EE7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E228-7691-4180-B48F-0D763E2A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DC71-36AC-4984-83EB-325CAEE1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3E9D-4263-4DC4-855E-1A368954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77A8-50D7-409A-BA4D-C29A1516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A07-28C0-4BE1-8A72-6D62D16B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A358-FCB8-4E2C-BCA0-2FDD5809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7A67-4F87-4DE2-BE22-48E1E352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8193-95D5-49F7-8B9F-C24AAFA7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E66C-67DE-4CF3-9B91-32D62DDF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2C30-7EB2-4B97-ABFC-3C689262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BB70-1A72-4119-927F-3BFBB1E1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D745-136D-412F-AB15-1A8E0B39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978C-FBA7-4A80-A5FF-C8DC1C03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A61A-0CE0-4F5D-A031-9A577611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1C1D-0F1E-47FB-A66C-5B48634E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3384A-835E-4EFF-9A61-5E8A10A5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FD00-46F9-4421-B43F-4AC373C8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226B-DD55-4D1D-AE78-171584F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452F4-8136-40FC-A910-2B7D8262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5C010-15BC-41A0-B755-244662E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5238-7E92-4B9A-9A69-75F1EFB2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0369-76EF-4F53-85FB-4E4A816CB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0406-F896-4FA2-B276-C9FC1944FB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Аварии на химически опасных объектах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1640" y="4579920"/>
            <a:ext cx="38178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райнова Е.В.,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У Помогаловская ООШ Тутаевского райо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8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невозможности покинуть зону поражения плотно закройте двери, окна, вентиляционные отверстия и дымоходы, щели заклейте бумагой. При заражении аммиаком нужно укрываться в полуподвальных и подвальных помещениях. При заражении хлором и фосгеном необходимо подняться на верхние этажи з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аварии на ж/д и автомобильных магистралях опасная зона устанавливается в радиусе 200 м от места ав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сле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лючить любые физические нагрузки, принять обильное питьё и немедленно обратиться к вр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ы попали под непосредственное воздействие АХОВ, то при первой возможности снять зараженную одежду и выбросить, принять душ (не менее 15 минут), промыть глаза 1%-ным раствором борной кислоты, провести влажную уборку помещения и обратиться к вр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и опасный объ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бъект, при аварии на котором или при его разрушении могут произойти массовые поражения людей, животных и растений аварийно-химическими опасными веществами (АОХ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ист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в РФ функционируют свыше 3,3 химически опасных объектов экономики, располагающих значительными количествами АОХВ, суммарный запас на которых достигает 700 тыс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ая площадь территории России, на которой может возникнуть химическое заражение, составляет около 300 тыс.кв.км с населением около 59 млн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варийно химически опасное ве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опасное химическое вещество, применяемое в промышленности и в сельском хозяйстве, при аварийном выбросе которого может произойти заражение окружающей среды в поражающих живой организм концентр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асные химически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ОХВ, используемых в настоящее время в промышленности, существует более 600 тыс. наименований, но только немногим более 100 относятся к аварийно химически опасным. Наиболее распространенными из этих ста являются 10: аммиак, гидразин, диоксин, окись углерода, окись этилена, сероуглерод, сернистый ангидрит, фосген, хлор, цианистый угле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чем на 50% химически опасных объектах используется и хранится аммиак, на 35%- хлор, на 5%- соляная кислота. Значительные запасы аммиака и хлора сосредоточены на объектах пищевой, мясомолочной промышленности, в холодильниках торговых баз, в жилищно- коммунальн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авными поражающими факторами всех АХОВ являются их токсическо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оздействие на организм человека и животного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 и животные получают поражения в результате попадания АХОВ в организм через органы дыхания, кожные покровы, слизистые оболочки, раны и желудочно-кишечный тракт ( с пищ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кже к поражающим факторам можно отнести возникновение высокой или низкой температуры и при взрыве- ударную вол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авария на химически опасном объекте, сопровождающаяся проливом или выбросом аварийно химически опасного вещества (АХОВ), способная привести к гибели или химическому заражению людей, сельскохозяйственных животных и растений, химическому заражению окружающей среды. В результате аварии образу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чаг химического пораж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территория, в пределах которой в результате воздействия АХОВ произошли массовые поражения людей, животных и раст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ми причинами химических аварий специалисты МЧС считают нарушение технологии производственных работ и «человеческий фактор» ( нарушение производственной дисциплины и техники безопасности, неэффективность производственного контроля за соблюдением требований безопасности производства химических веще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роприятия по химической защите насе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оевременное обнаружение возникновения химической аварии и оповещение о 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ение населения, персонала аварийного объекта и участников ликвидации последствий химической аварии средствами индивидуальной защиты органов дыхания ( противогазов, респираторов, ватно-марлевых повязок и др.) и кожи (плащи, накидки из прорезиненной ткани, резиновые сапоги, перчатки) и применение эти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рытие населения и персонала в убежищах, обеспечивающих защиту от 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 сигналу при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сигнале «Внимание вс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ключить радиоприемник или телевизор для получения рекомендаций по действиям 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ыть окна, отключить электроприборы и г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еть резиновые сапоги, плащ, взять документы, деньги, трехсуточный запас продуктов и воды, оповестить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ить из зоны возможного заражения перпендикулярно направлению ветра на расстояние не менее 1,5 км от места преб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5:18:49Z</dcterms:created>
  <dc:creator>User</dc:creator>
  <dc:description/>
  <dc:language>en-US</dc:language>
  <cp:lastModifiedBy>Света</cp:lastModifiedBy>
  <dcterms:modified xsi:type="dcterms:W3CDTF">2009-03-23T19:43:10Z</dcterms:modified>
  <cp:revision>3</cp:revision>
  <dc:subject/>
  <dc:title>Аварии на химически опасных объектах и их возможные последствия</dc:title>
</cp:coreProperties>
</file>