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9922-2C45-48AE-BFDF-307EBD94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6D53-F5D9-41C3-B5F4-80CE7D7D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7067-5828-4E70-8EC5-17D11687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4ED5-BD52-406D-A397-B5BFED32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F84-9334-4B7A-95B2-9BED20E2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7E3D-CD7B-4974-B8A5-4B465F02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EA0F-65A6-4408-AFC1-BCA4592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FB3A-BF45-4DDA-B298-B685933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3AC7-058D-4E4E-95DA-870ED21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ADF-C0CF-4F3C-8269-8CEDF75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0F75-DCBA-4AA2-B164-838AD901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66C3-4815-4645-85FE-48810F15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ACFB-74E0-44BC-BCB6-2C587ED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1D00-2839-4FF0-82C8-59F5F63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2B46-7C8E-440B-AEAC-FFFFDBC8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F38B-6C35-4114-BAB7-5AA71242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990B-5250-4E2D-9516-99326BBF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A449-0A97-479A-AA85-76777B7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BC83-9354-405C-89D0-7155694E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CE8E-52A1-41EC-A637-EED30B6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C198-C3D7-4690-A3FD-59D12570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898C-F5B1-49F9-9DA8-C6B9CD1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DC36-7EF7-4A8D-BD3C-412AA42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D1DF-418C-4183-948B-E624C17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1BD-8F1F-404C-AF64-659A9BCBF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53B0-CFDD-4AAB-9029-093ADC69B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варии на химически опасных объектах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579920"/>
            <a:ext cx="3817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айнова Е.В.,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У Помогаловская ООШ Тутае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невозможности покинуть зону поражения плотно закройте двери, окна, вентиляционные отверстия и дымоходы, щели заклейте бумагой. При заражении аммиаком нужно укрываться в полуподвальных и подвальных помещениях. При заражении хлором и фосгеном необходимо подняться на верхние этажи 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аварии на ж/д и автомобильных магистралях опасная зона устанавливается в радиусе 200 м от места ав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сле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лючить любые физические нагрузки, принять обильное питьё и немедленно обратиться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пали под непосредственное воздействие АХОВ, то при первой возможности снять зараженную одежду и выбросить, принять душ (не менее 15 минут), промыть глаза 1%-ным раствором борной кислоты, провести влажную уборку помещения и обратиться к в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и опасный объ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ъект, при аварии на котором или при его разрушении могут произойти массовые поражения людей, животных и растений аварийно-химическими опасными веществами (АОХ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 РФ функционируют свыше 3,3 химически опасных объектов экономики, располагающих значительными количествами АОХВ, суммарный запас на которых достигает 700 тыс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территории России, на которой может возникнуть химическое заражение, составляет около 300 тыс.кв.км с населением около 59 млн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пасное химическое вещество, применяемое в промышленности и в сельском хозяйстве, при аварийном выбросе которого может произойти заражение окружающей среды в поражающих живой организм концентр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асные 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ХВ, используемых в настоящее время в промышленности, существует более 600 тыс. наименований, но только немногим более 100 относятся к аварийно химически опасным. Наиболее распространенными из этих ста являются 10: аммиак, гидразин, диоксин, окись углерода, окись этилена, сероуглерод, сернистый ангидрит, фосген, хлор, цианистый угле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чем на 50% химически опасных объектах используется и хранится аммиак, на 35%- хлор, на 5%- соляная кислота. Значительные запасы аммиака и хлора сосредоточены на объектах пищевой, мясомолочной промышленности, в холодильниках торговых баз, в жилищно- коммунальн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ыми поражающими факторами всех АХОВ являются их токсичес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оздействие на организм человека и животного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и животные получают поражения в результате попадания АХОВ в организм через органы дыхания, кожные покровы, слизистые оболочки, раны и желудочно-кишечный тракт ( с пи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же к поражающим факторам можно отнести возникновение высокой или низкой температуры и при взрыве- ударную вол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авария на химически опасном объекте, сопровождающаяся проливом или выбросом аварийно химически опасного вещества (АХОВ), способная привести к гибели или химическому заражению людей, сельскохозяйственных животных и растений, химическому заражению окружающей среды. В результате аварии образу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чаг химического пора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территория, в пределах которой в результате воздействия АХОВ произошли массовые поражения людей, животных и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и причинами химических аварий специалисты МЧС считают нарушение технологии производственных работ и «человеческий фактор» ( нарушение производственной дисциплины и техники безопасности, неэффективность производственного контроля за соблюдением требований безопасности производства химически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оприятия по химической защите нас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евременное обнаружение возникновения химической аварии и оповещение о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населения, персонала аварийного объекта и участников ликвидации последствий химической аварии средствами индивидуальной защиты органов дыхания ( противогазов, респираторов, ватно-марлевых повязок и др.) и кожи (плащи, накидки из прорезиненной ткани, резиновые сапоги, перчатки) и применение эти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рытие населения и персонала в убежищах, обеспечивающих защиту от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 сигналу при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сигнале «Внимание вс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ить радиоприемник или телевизор для получения рекомендаций по действиям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ь окна, отключить электроприборы и г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ть резиновые сапоги, плащ, взять документы, деньги, трехсуточный запас продуктов и воды, оповестить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ить из зоны возможного заражения перпендикулярно направлению ветра на расстояние не менее 1,5 км от места пре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5:18:49Z</dcterms:created>
  <dc:creator>User</dc:creator>
  <dc:description/>
  <dc:language>en-US</dc:language>
  <cp:lastModifiedBy>Света</cp:lastModifiedBy>
  <dcterms:modified xsi:type="dcterms:W3CDTF">2009-03-23T19:43:10Z</dcterms:modified>
  <cp:revision>3</cp:revision>
  <dc:subject/>
  <dc:title>Аварии на химически опасных объектах и их возможные последствия</dc:title>
</cp:coreProperties>
</file>