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86B-3C2E-4130-8604-0A3ED5EC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F72-1429-4D1C-92BB-EA04A454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B3F17-9AE5-4775-8462-7F56FD9C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675A3-2979-4118-88AC-A3C4DAAE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43375-DE10-41FA-849E-5B455BE6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79377-177B-4090-AE72-B91D1A7A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74882-4258-4DDB-A14D-708F1198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D03ED-075C-4A59-B7B2-9ADFE64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CF769-8487-4AAA-B7A7-2EF6F940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B2D2E-3785-4887-AD12-59E113F9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6F14D-D236-41E3-BDEF-38CC69ED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9C365E-852A-497C-BE31-1D57767B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E28-559A-4AF7-A0DA-6133AD8A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853214-DB08-41A7-B5E6-CEB52ACB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C071AB-2CDE-426C-9154-BEAEC1E6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89A5C2-6888-4EEB-885A-2247F042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42ACB-19C6-4027-A64B-074D9563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ADD496-5AC3-4B54-8CE6-08844B0D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176F3-A001-4295-B39B-060777F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1F1C5D-63B1-4CF7-B7BF-009E6A9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8BD58-AD24-4097-956F-6D4B3D05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5D77C7-0C19-4A58-8B90-99735187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D368D3-4BDF-4EE5-8C91-F6DE9977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33F-2D63-46AA-9E20-9F81C89C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6B6481-0C50-401F-97E0-09AFA2AF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B9051-824B-4F96-A092-7C23A2A0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F8877-4BB1-4F88-8F77-7E73B0C1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021D6-C28E-486F-B35E-AD68C028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7E5B5-85A8-4AC7-BFB4-4A331AEE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BF4A9-0875-4366-88E2-EF7337F1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8AFA1-B23E-4C11-8E11-E9B4945A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A2EAC-71FD-4944-AE4E-9411AD2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AC35-B7BC-4D2A-8031-C86FFF4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42E61-F126-402B-A4B0-741EB858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4DDD-3AF8-429E-A722-CF57C56A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8937C-34D6-4D65-AAA1-D5B04548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1A097-FBDC-4085-9ED8-8AAD6D18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715FA-4E37-4628-9155-08E497DC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F600C-55ED-4AB2-B613-425CFFC6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A28FE-CB96-468A-80FE-9C241D01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4317B-3F1F-4503-A394-C4613832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C5677-55FB-4CF3-9C27-374C0A85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3232D-CE5E-4E19-9986-3E080843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7E23D-DF95-474B-967B-4C8A587B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F6716-84FA-439C-8460-DF5A35C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5FA9-0138-4D16-A851-D727A7F7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3ABFC-F0D7-49D2-A358-77C250A7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396CF-3739-43BF-95E5-40F83A8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6D2DB-7A90-4C33-8AC0-190C2DB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410C9-3249-46BC-97E6-489ED766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BB74F-E198-4AB8-B4BC-35B85733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72CAD-661D-453A-A3F6-579CE52D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806CF-03AD-4E64-A8B4-5D34A053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BB26A-DCE8-412C-94B2-8E9B397F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9F313-4664-4390-8042-89575406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F6AAA-833D-4009-BAEE-D0886B91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395D-693A-4AE7-B21B-9BCCD48B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85F76-1689-4F0A-896A-D8E73DA9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682F5-165F-4D29-BB8D-6EA61C81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92B2C-E434-491C-A816-C17356ED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383B6-BC61-491D-8475-6B198BB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7CB1D-E722-4AB6-861A-2BAFB81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1DB2B-AC14-43C4-9886-99D582DA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602AA-4FE6-4EC9-ABC6-C562E880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B22D6-03C7-4B93-A81E-D8CFBC94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F6354-2946-4D6B-B9EE-7FA13A6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FB181-F91F-4ADB-B6A6-8F0551D4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D9AD-8830-4D66-94DD-ED2FD288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92DFA-A932-48DF-A4B9-9F0E6F53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8AB1E-6030-492A-9517-D46E4F01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04974-07B7-47CF-BAFC-412C6585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256A7-59F7-478D-B42E-E4A33576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1261B-FB2D-4B67-ACF4-F542FE5C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D308F-A84E-4ED3-82D7-1A8530A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E4AB7-536E-4ED6-B501-D4C238FA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849DA-B41E-423E-ABDA-8E4FC958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0F279-6061-4009-A0ED-7D317110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35A3B-C788-481B-BA6D-1CFA5F94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2CC4-D8D2-4225-8FCA-DF53757E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F94F1-1426-4C19-8FA2-AB0F27BC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4F6F6-C99B-470D-95A9-A56CB0A8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9826F-68CB-442A-B9B3-A8DB81D0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18A58-83EE-4669-A71E-5A3AE518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2C8A8-A727-4656-9AAE-303F8E3B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756D7-F8DF-40FD-A649-ECDE132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6E190-E1A8-4036-A2FC-BD209A5B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1694E-C0B1-448C-B1A1-BECE494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19125-E22F-4ADC-8472-E82F8946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7DB69-BBB1-4A95-B6D0-F9C47ED5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7837-8704-4531-8E46-9C76EA60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43C1E-0E52-4767-BD75-E0EE51F5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CC125-D685-40F5-8923-9BFDFBB6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906BC-35EC-4F03-9C6C-E68984F4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6CF1E-1611-47C8-A682-EECE0287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93607-27CA-4059-A9F8-488DA986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40DD5-F30A-4C77-9C1E-62CDFFF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5718A-0F60-42AC-B9E6-6170BD79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D9D75-1A4E-45B4-BD41-CF09F8F8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6D2BD-A78F-4222-A6BE-37EE989A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B7B33-2D44-4C9F-9B4B-87D0C39F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241F-001D-4570-B19E-1673547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C4D44-A0FF-4CEF-B886-E30B7446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A0665-0CA0-48FA-AF72-593F92ED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100A3-6729-47CF-A0B2-A6B669A7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768EC-AEB0-4A3B-99D5-2630B2EC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86311-6DB5-4B99-91F4-DAD31831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DCEDF-4B69-40B5-A063-AC297B51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2CB27-8C40-4082-8460-83FAA463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25F7B-0018-4DA4-BBA9-D7B3D43D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1CA4A-B3FC-415F-A28B-44D7A83C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3A956-2971-452A-947E-DCA7F6E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46E-0057-44E6-8D01-42248870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9ACC-2D90-46F7-B505-90BD3AD9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29330E-FABD-4C9C-B396-0C07E8AF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2B3F7-B6D8-4956-847A-0F43C862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4F42C-0AFC-404B-8293-F5298758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9B602-9020-47CD-8033-EEACC2BE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C1526-6B46-49C5-9A23-E3CB2FE2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EC91D-0D12-4F1A-8B5C-44E13B4B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EF680-3FEA-42E7-A6D1-C906FF0D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03D41-9155-4BFD-B163-4FD1A0E1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3738F5-94C9-4849-8B0A-B410E35E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591E4-2605-47DD-9C7A-F7ACFBEE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7C6F-C607-4011-B12A-B8635DB0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F7195-1EAD-4DDC-8192-20A974B3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1B94EC-8E4D-4878-9234-C8C7F8A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0ABB7D-A0F8-49B9-9636-80B4151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FE93B-0FED-47BA-A9ED-1459AD25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8BACC-D08B-40D9-A87C-34386208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DE3D1-9252-4211-8573-3B272DEE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9BD880-AC26-40E2-AD39-D94204EF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E78CA-4275-4F80-AAEB-C3912B8A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0889C6-28E0-4E7F-A496-0A3F88EC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36A28-A07A-4784-BB1A-216BAD57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CBEC-DBCE-4BA2-BEFF-C2FAFFFE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1D8BD-2B8C-4E5A-9C7F-5D795973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E3470-E5D8-4129-A4ED-7CE7552F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0FCFE-269C-428D-8210-9E8742E5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2B41FF-F8B6-4AE1-939F-369B3D0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A59EF3-E262-4FB9-A504-3C9B918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0CC655-AF85-4916-960D-2970B545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D2E43-D4DA-4819-8F96-0492B21D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25664C-4943-4B4F-ACC3-BE3C7C2A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599AD-BA4E-4534-ADF6-3B20E7AF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923DA-F438-4AFE-8401-65AD7EC3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3DA2-4A28-48F5-B966-499A500B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2E474-C6AA-4C8B-BAAF-B83F5F7D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1CD39F-6EB2-4693-9296-F630F66C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33227-EB43-418D-A767-1FF62B2F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8BE82-8E9F-4A12-8D98-35FC6467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6DE4B-DA48-4394-BFB0-3D7F9184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2FD440-C887-4E22-98E9-785CC8D1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EECD42-D790-46FA-8C6F-1D33486D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95DB0-48EB-4806-9F4E-C62729FC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49260D-2C80-402B-8381-989250F5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48B69-D3CA-44AD-A533-25028FA6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4B1C-6D23-41CB-98EE-337B3489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D12ACB-C292-4C67-85B6-43F985DE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32595F-B8F8-44A2-8097-AABC9CF2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6AB706-74B4-4D95-B3C6-6B95DC25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411940-D005-463B-8F7E-BAE64A88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E2E81-F46A-4CFF-8EE5-65ED0ED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9E3E7A-6056-43AB-9CD7-492AE10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C0ACB1-A444-4BD7-A1AF-D32F7B11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104CB-44C6-4AEA-8405-7A5315F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6E24E0-DCC6-4016-BB21-AD4CABE9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B8107-35EF-46B1-9ADF-5376D57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54C9-432A-40DB-80BC-4C088D2D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C60EDA-12A9-4DF4-AB43-CDE491CC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3CF12-87BE-4FEE-B76F-6233D08D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FD5CF7-10EC-45A5-A4F3-D4A93698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7064D6-BB17-4F35-9A04-A22C5442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E9882F-9023-435E-A6C5-D3303105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AFBCB-967D-4D63-A5FD-3C4ADDD9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CC313-3F21-4EA9-99CA-AAF1D036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A270BA-2F31-438F-A859-C551C013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9BD73E-DFEF-40BC-B882-FC0AD43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41C1DC-33DD-4DDC-9879-62D33B3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704D-A899-4100-91C4-95E4791C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998EC7-DEFC-407A-A70A-94E50D2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10BA13-C565-4F59-A04D-C11B9798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7DFAEC-7A5C-47FF-9190-B8A18735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9D2824-4E3E-4383-B9C1-E92E2288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F99431-6A96-4898-B2CC-7A0C0EF8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CD81-92BB-4C10-92CC-24A8532A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CA8E-8D97-4435-9A5A-036CC95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D1615-9640-4A14-9F67-7339D4B3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1E4-F525-4F04-9C02-D783E1AD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9191-37D9-405E-A432-FC476594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DABC-40F8-4507-A1D0-B000D5ED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A4B4-EDEC-4686-B6CB-7469055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1DDB-AE4E-4164-B65F-CC59B62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B34F-63FC-4A2C-B165-766E31FB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160D-F8D7-45DF-9E7C-B2FFA813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9062-3BBF-43E4-ADC3-7C30CCB2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3FA99-E0C2-4085-8FEB-71BACB0C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7BDFE-D5BC-4F6F-9EEC-13961941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77DD8-1A3F-435E-9115-64C4FED3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8E1-A529-4A28-B7F7-F60D462A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B41FC-B212-4EBB-B5BD-FE894D83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80C22-EE8A-4932-8F8B-A570282A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231CB-C576-455B-A1E3-3EA02DFC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73717-4C2A-4234-91C9-916BDF91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413D5-0DC6-4441-B935-6AF21AA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FC2B8-6CAD-43E9-A020-BBB18BF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E3CC2-77DE-4522-9A09-29B8DC88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B0C32-0D69-46A4-831C-96E0BDBB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340BE-DDE1-486D-B42C-993C0057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2A777-526E-401D-8156-768C6F33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761-CEF2-489B-AB3C-CE33FF74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AF063-B5FE-484A-B1EC-FC91DC40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032E3-2A59-4A12-B0F5-BBBC313C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58311-114A-4999-B9DA-0F0A54DC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9F3AD-4503-4B81-A0BD-F8353563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1F3EC-D253-4AEA-8684-538D261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D51E2-CBBE-4A80-A84D-174030B8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5E4AD6-05D5-4E1C-9539-73B527DD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5E11F-1481-47BA-9873-529558E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E56BA-8281-459E-A13F-E139AB67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E376E-C54D-446F-8D24-81DDE123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97D-C6F4-4FCC-B22B-A80E58F5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C789D-673B-4E01-A47A-82F9FF5D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0F0CD-5E17-442F-B7B8-7B64B5FB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F450E-D3FF-474E-AC92-01965352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3714B-CDA6-4963-A727-81AEEF60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1D824-AA28-4BA7-8235-4B2A4456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EC7BF-11D9-43EA-BB47-988B7324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EFD49-AECA-41AB-9995-27A22C53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D6648-CC23-4B91-A1C8-E839910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CD0FD-E586-46B0-9321-204817AE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07385-49C8-4D50-A88A-2A6838BD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A52-D6B3-4DA1-9F79-B9D1C1C0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289C6-8136-4FF0-8EBE-55442BD0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6DDDE7-DA5B-4DB8-AA5D-5B4F0273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51908-F262-48E7-B0C1-2E0E7BA6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97D44-FB9B-4F34-9232-5FA65638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561B7-A53D-4FBA-BD4D-22AC90C9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B9CED-7292-4378-BB09-345D9989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41C4B-2CEF-4AA1-8ADE-AA997D9E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30B09-CF77-4E32-8016-E3994D0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F2A93-362D-40D4-B9F9-F3CA31B6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5572B-5872-46D7-8DDB-E4E3D54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8B9-0F0C-4257-95B6-18D8E7B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1BAF5-191C-469C-B78A-84347288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83B23-1FC2-49CC-8DAC-63C8D35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EF74-FA61-4EFE-A302-940219CF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8A4FF-952B-49EF-A219-698242A6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346A9-E7A4-4702-89D0-6EE8B616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FD5D9-8167-4C62-B3EF-11D8D260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4D4C-BBCA-4EC7-98B7-EC1B484D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4635E-8F1C-42BC-8D32-83343B21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00E69-11AB-4280-A2C3-5960236E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A5F73-1AA5-4DCE-9B05-497BE667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67B-6980-4968-8423-D55304F4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78912-FB99-4957-9094-EBB43529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BE514-CC71-42E7-84D7-35AD7C40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FC23D-C822-4BE9-A173-1CF95C2D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22086-F5A1-4B69-9D4E-0E78F11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8B7A7-005B-4E34-8512-108A2670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F16CA-D01C-4B10-98A6-18F103C7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600DD-D562-4975-A81E-DFD2357F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B74B2-E28E-4E2C-A796-B700EF52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343C0-2B9D-4453-8FC0-B221260A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2EAF8-747C-43C8-8E73-1C387C1C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532B-1F69-4347-A5D7-35DB54078800}" type="slidenum">
              <a:rPr b="1" lang="en-US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EDB-58C1-4D84-86BD-00D362A6AED7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DBB5-430C-48E0-B730-D5418231B41A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F973-67AF-4839-8E8F-C18A174A3934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0C4B-FC3B-4167-A125-0F0C8800DD2A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DA33-959C-456A-BE39-DFF8D88B19DE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E3AD-294E-45FC-A73F-55010242E093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8F2E-B6A5-4A85-AA87-8D206E537839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6DCB-6722-4108-A490-4F94BAEC64F2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AE15-14E3-4F26-88C6-F808D6B092E4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ECCC-733A-4659-9895-DAE668191DA5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F7A7-6044-45DA-B035-468CCD720542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6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A468-8F75-41BB-832B-D3D4A51C4C81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6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6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6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FD2C-EDE3-475F-B5D0-F8CCF7BBBFAA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EA6-CDB8-4B80-9F61-FC39954FBF5D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BC57-2D67-4D42-8864-06BEA699723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A186-601D-4041-A43A-2D4835A87E27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6EC4-0971-4171-9E23-3609B090EDE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A7F9-6DB3-43C2-81B2-DA307BB7549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D715-F941-4302-AD26-32D0803B276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D457-8D84-4166-AE00-6B0A534F639A}" type="slidenum">
              <a:rPr b="1" lang="en-US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D2B7-20DF-4F0A-92A8-D363AA4F957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96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Arial"/>
              </a:rPr>
              <a:t>Вопросы для повторения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468360" y="1125360"/>
            <a:ext cx="8351640" cy="4680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Какие закономерности историчного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можете назвать, приведите 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Что такое прогресс, назовите его черт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т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Чем социальный регресс, приведите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Найдите общее и различное в соци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орме и револю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труктура личности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907920"/>
            <a:ext cx="9144000" cy="10810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труктура личност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 — специфическая организация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пособностей, мотивов, ценностей, присущих данному индив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разующая его неповторимую личность в различных проявления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4211640" cy="40082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4427640" y="2060640"/>
            <a:ext cx="4537080" cy="10810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Личность – соц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ущность человек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516720" y="32130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427640" y="3860640"/>
            <a:ext cx="4537080" cy="719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аждый ли инди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является личность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427640" y="4724280"/>
            <a:ext cx="446544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и-Маугли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024360" cy="208944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3276720" y="907920"/>
            <a:ext cx="5867280" cy="20894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ети джунгле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аугл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,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Ф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юд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человеческие дети, которые ж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вне конт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людьми с раннего возраст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ктически не испытывали заботы и люб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 стороны другого человека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не имели опы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социального поведения и об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3068640"/>
            <a:ext cx="9144000" cy="1295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редного "ребенка-маугли" зовут Рамзия Тукматуллина. 14-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вочка с детства жила в стае бродячих собак. За это местные жит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ли ей кличку "Найда". Мать ребенка - местная алкоголичка, живе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ревне.                                               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ИА REGNUM 13.07.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4437000"/>
            <a:ext cx="9144000" cy="2421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хлетнего сына заводчицы собак Марины Б. соседи прозвали Мауг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проживает в двухкомнатной квартире в Уфе с матерью и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20 собаками породы шар-пей. Ребенок сильно отстает в развитии. 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говаривает, а только смотрит испуганным взглядом на посторонн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ходит на улицу и все время проводит с четвероногими друзьями.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ход в квартиру сотрудника прокуратуры мальчик отреагиров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ыми инстинктами: лег на спину и судорожно задергал конечностя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А "ВолгаИнформ" 21.04.200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f271c"/>
                </a:solidFill>
                <a:latin typeface="Arial"/>
              </a:rPr>
              <a:t>Личность </a:t>
            </a:r>
            <a:br>
              <a:rPr sz="4400"/>
            </a:br>
            <a:r>
              <a:rPr b="1" i="1" lang="en-US" sz="4400" spc="-1" strike="noStrike">
                <a:solidFill>
                  <a:srgbClr val="4f271c"/>
                </a:solidFill>
                <a:latin typeface="Arial"/>
              </a:rPr>
              <a:t>и социальная среда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Урок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532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Учебник, § 5 читать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Выучить материал в тетрад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Рабочие тетради, задания к § 5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роблема, практикум после § 5.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271c"/>
                </a:solidFill>
                <a:latin typeface="Calibri"/>
              </a:rPr>
              <a:t>План</a:t>
            </a: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Качества человека: прирожденные и приобретаемые. Человеческая ли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Роль семьи и социальной среды в воспитании лич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Личность, индивидуальность, человек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Arial"/>
              </a:rPr>
              <a:t>1. Качества человека: прирожденные и приобретаемые. Человеческая личность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6" name=""/>
          <p:cNvSpPr/>
          <p:nvPr/>
        </p:nvSpPr>
        <p:spPr>
          <a:xfrm>
            <a:off x="250920" y="1052640"/>
            <a:ext cx="8569080" cy="1008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блема челове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одна из основных в философии. Больш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чение для понимания сущности человека, путей е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 выяснение вопроса о его происхо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04292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203640" y="2133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220500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24000" y="2852640"/>
            <a:ext cx="1726920" cy="1944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лигиоз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е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с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484360" y="2852640"/>
            <a:ext cx="1727280" cy="2016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леовиз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зе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500720" y="2781360"/>
            <a:ext cx="4248000" cy="647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волюционные те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500720" y="3645000"/>
            <a:ext cx="2158920" cy="20890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.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зан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ш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948360" y="3645000"/>
            <a:ext cx="1800360" cy="2087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. Энгель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Arial"/>
              </a:rPr>
              <a:t>1. Качества человека: прирожденные и приобретаемые. Человеческая личность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86" name=""/>
          <p:cNvSpPr/>
          <p:nvPr/>
        </p:nvSpPr>
        <p:spPr>
          <a:xfrm>
            <a:off x="250920" y="1052640"/>
            <a:ext cx="8569080" cy="1008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 по своей сути есть существо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биосоциальн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н является частью природы и вместе с тем неразрывно связ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общ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979640" y="213372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588000" y="2133720"/>
            <a:ext cx="432000" cy="503280"/>
          </a:xfrm>
          <a:prstGeom prst="downArrow">
            <a:avLst>
              <a:gd name="adj1" fmla="val 50000"/>
              <a:gd name="adj2" fmla="val 2912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79280" y="2781360"/>
            <a:ext cx="4032360" cy="3168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как биологическое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ущество принадлежит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шим млекопитающи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уя особый вид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apiens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 Би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рода человека про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его анатомии, физиолог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 обладает кровенос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ышечной, нервной и друг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72000" y="2781360"/>
            <a:ext cx="4392720" cy="3168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ловек как социальное сущ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разрывно связан с обществ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Человек становится челове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лишь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ступив в обще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ношения, в общение с другим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циальная сущность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оявляется через такие свой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ак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пособность и гото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 общественно полез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труду, сознание и разум, своб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и ответственность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Основные отличия человека от животного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36640"/>
            <a:ext cx="9144000" cy="934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Человек обладает мышлением и членоразд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ч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1844640"/>
            <a:ext cx="9144000" cy="934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Человек способен к сознательной целенаправл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ор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4076640"/>
            <a:ext cx="914400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Человек способен изготавливать орудия труд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их как средство произво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ых бла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Человек воспроизводит не только свою биологическ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и социальную сущность и поэтому дол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довлетворять не только свои материальные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ховные потре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852640"/>
            <a:ext cx="914400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Человек в процессе своей деятельности преобраз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ающую действительность, создает необходи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му материальные и духовные блага и ц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Факторы влияющие на формирование личности человека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907920"/>
            <a:ext cx="4643280" cy="115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след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643280" y="5707080"/>
            <a:ext cx="4500720" cy="115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тремление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амосовершенств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643280" y="907920"/>
            <a:ext cx="450072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5707080"/>
            <a:ext cx="4643280" cy="115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циальн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2987640" cy="18604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2987640" cy="17575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2771640" cy="187308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6372360" y="3933720"/>
            <a:ext cx="27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6"/>
          <a:stretch/>
        </p:blipFill>
        <p:spPr>
          <a:xfrm>
            <a:off x="2987640" y="2060640"/>
            <a:ext cx="338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Личность, индивидуальность, человек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36640"/>
            <a:ext cx="9144000" cy="1008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нятия 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ндиви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ндивидуальн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ичн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 в научн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улярной литературе употребляются как близкие по значе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они не являются синони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47640" y="1989000"/>
            <a:ext cx="8496360" cy="1582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диви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u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неделимый, неразделенный) -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представитель человеческого рода, конкретный 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оциальных и психологических черт человечества: разума, во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ей, интересов и т. д. (человек как отдельная особь ср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х люд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47640" y="3645000"/>
            <a:ext cx="8496360" cy="1728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ндивидуально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это неповторимое своеобразие проя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ловека, подчеркивающая исключительность, многосторонность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рмоничность, естественность и непринужденность его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человек как один из многих, но с учетом его личных особеннос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шний облик, манера поведения, характер и т. 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7640" y="5445000"/>
            <a:ext cx="8496360" cy="1413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особа) - это человеческий индиви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ющийся субъектом сознательной деятельности, облад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окупностью социально значимых черт, свойств и качеств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реализует в общественной жизни (человек с социально значим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честв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9280" y="285264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79280" y="414972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79280" y="587700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8:25:37Z</dcterms:created>
  <dc:creator>User</dc:creator>
  <dc:description/>
  <dc:language>en-US</dc:language>
  <cp:lastModifiedBy>User</cp:lastModifiedBy>
  <dcterms:modified xsi:type="dcterms:W3CDTF">2009-10-11T03:11:27Z</dcterms:modified>
  <cp:revision>80</cp:revision>
  <dc:subject/>
  <dc:title>Наука о человеческой вселенной</dc:title>
</cp:coreProperties>
</file>