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F64-4122-4696-B327-53FB4EBE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0A5-925A-4F33-A7F1-D5776636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B7F0F-EC86-4258-9983-5ECCB999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BED1A-1A3E-499A-B83C-D747AB5D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D36CA-D688-4C0F-968A-2A26DA5B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E5D1C-A3E2-43D4-8B7E-7C50BFCA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10475-D6E6-4505-8E2C-BA35D148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D4029-6E8A-44C8-B050-122AF0AC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6D1F0-240D-41B1-8E30-5C46E0C3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A6B8E-D77D-4286-9491-0079045A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1B8A7-E3A0-48EA-A926-E60C6DBD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BEA25C-DC71-482F-B52B-BA0B0F28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637-9AF8-42E2-90C2-E6FFB799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A3243E-5161-454D-B9EC-DE6C95CF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B9556B-ABCA-4E30-8D1C-8CC641BB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A04E58-3AD3-4D52-8CE5-56D94383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DA39D6-14DE-4B97-BAE7-37109770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054772-E6C3-4703-8F20-285817A7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A7B349-D74E-449B-BC33-FFB3A0F5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57057B-3648-484C-804F-46F9EFAA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F61860-DF42-4B95-839E-B941C19C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03E9CB-AAC6-419C-98DC-7727BCE4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CA3D1A-6088-4EAB-8C47-E0AF7A65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571-1F9A-4DF8-B2B2-2B4C317E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D23075-FF61-4AB4-B739-59389846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DB443-F65C-4672-A0A3-756978F3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0414A-40E0-4A5A-940C-2C3FB9DA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DF664-C815-4490-876A-99C93410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E1AD1-6049-4675-9EE8-A5E05C74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19E8F-804B-42C2-AB68-B841B098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57406-F887-4B63-A97B-AB23AE11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4B839-B4E9-4223-9B89-1071EE6F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05255-77F7-400B-B9D3-5521617A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ECC0A-976F-4A99-A3C4-0C0D5FA3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2726-5587-4C6D-84DC-6E289752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48FC2-3696-4DFC-9E5A-74FEDF85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12EDF-1586-44CD-846E-DCF9612D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90A90-0EA2-45C3-A4A8-8E0EC944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772AD-5DD2-4439-885D-94EFC0FD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74CE8-ECCC-4666-A892-F5D5D7CC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14057-964E-4192-8D2C-FC5DA38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C3905-9190-474E-B380-B5ECB32E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B6852-95C6-4D5C-ADF2-27A8BFCF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DC456-26A7-4C3B-81BF-ABD2CB83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83B31-F580-49C8-B804-03F60C9E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0F9C-D8F0-4032-AA52-6F170FFB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AEF09-475A-4EC5-91B7-C6D52E79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68FF0-9C5F-4DE7-84DB-A3F74DDF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28D03-84E8-42AC-B41A-5668F1E8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4B5BC-5ECA-40DD-9D13-48D1DE70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745AC-9581-49E5-94E3-0C8D1BA0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B2EDD-D9E5-4735-AB2D-DE088C3E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CFD41-AE0D-4046-98BF-A9F0AC5B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02CDA-F958-46C3-8634-37801B50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D6597-AC55-4042-BC02-D8DB8990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FA766-E060-4C7B-88F3-729102CE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F450-52EC-455B-BE8C-2B4DE362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2A58B-493F-4727-AA33-B02CBB24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60246-B6C0-4869-A84D-CE76DC10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C3151-4A4A-4381-A5C9-2F725B4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6490E-C762-490F-B113-97F29737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6E974-4E71-4066-97B1-9E7A458F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BB997-AA62-4C60-9AFD-EE6B4E22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18D7A-8492-402A-9747-DD47A939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E2B09-59A2-43EF-A555-180C84F7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BAA04-493C-4594-9C3E-427336F9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94A72-1841-4D2B-BFE4-252B2969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BFB9-9C8E-42B7-81A4-680EA8B2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B465B-D599-4353-B243-B6C058A1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52D75-4F24-4FBF-8098-A5CD2553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BC102-AB8C-4B8C-AE79-07599133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8975D-A71E-433E-8B54-39CD6FE5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C95A50-CE81-411D-B542-E1BDA396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AE22D-847D-4B0D-87C4-5623F8B5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72053-CF26-40D2-AFC8-C6122664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A60DF-A99F-4733-A26B-008D89DA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93006-D696-4AD8-97D2-8E9864AB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C8B0D-3B4E-416B-9BC4-AF2AE7C8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619E-C65B-4A05-BAE4-43DED9F8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BAB58-5AA3-4C7A-99FB-B3BE9FB6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8B4AA-47B4-4EB8-BADF-EBF677B1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9D0F8-62CB-4F8A-85FC-AA0DE841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F200B-F952-41A0-AF0D-005E2881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E6C3F-5041-4E8F-B074-7EC3A0BE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7CECA-B32A-47B6-8D77-7FD5C727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14E7C-CBF7-4F0B-A1F0-7A3A3EAF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CFB693-F1A0-42C6-A86D-6EA47F6A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924BE-C561-4247-8DA4-C2B48415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9607D-916C-4424-806A-7A4F4298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1B4A-3A76-4CB7-BFC9-2C529940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714EA-211B-4CBE-81FA-8B2CE35A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79E2D-B1CD-472E-A2A8-24F6EE02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3B8B9-D497-40F3-B9BB-1BF0E68A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275A9-9D64-4926-A092-05A6E7FA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E702D-F6E2-47B5-991C-8BB67D3C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647A1-17D2-4ADF-9E20-DDA0B5CE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87883-FF23-496D-8995-7233AB23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77EE9D-DB46-4857-85D3-91990699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F19A0-AAC4-4FDC-A92E-9AD49CC5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4C03B-1C79-4E1D-BE87-19CAEAD4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DE38-EC26-4221-A10B-9979EE0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F21AE-9BB2-4191-9282-A810CC63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4EEDE-3725-4DEB-BB9F-88326DA2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6D1BC-A0B9-4615-B587-982EEF24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84E20-7398-4120-B3D3-6B9D6834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0087E1-B44F-4B67-B744-9A922220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DA271-419E-4304-A83A-CA2BD084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1F19DA-521F-4964-AE92-8AC09F95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BD2EE-7D76-42D1-B75B-2DF56C90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E8DE90-3B18-45BA-A6B0-425FB726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715FC0-EC8B-4397-A059-EB17C655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89D-A251-4873-A0DF-18A27151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3992-9D4E-48BF-A617-598E671E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45D7A-3AE5-4FE8-8B43-3C8EF3CB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6E61A-28F9-4651-8606-E38046B2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922F5-B46B-4A85-8FF1-FA44287F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E475F-A68F-425A-999E-A4B60A50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02A5E-E471-4859-8B47-09D65064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14704-E3B6-4FB4-ADBD-054FE9B4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D00BD-24E9-4AA8-9B53-FFD54B8B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DD0948-A16F-47DD-9AFE-6E46E7F7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9BC13-35F9-4BDF-9559-99322695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E7EDA-A870-4BAF-A577-81A27437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62A8-816B-4B60-B264-64C9DDD3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FD075-0961-4053-9EE9-0720BC81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D61FF-2F38-4CD3-B3DA-58E4011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27347B-47EB-4319-BB31-EF6A684B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8A796-797B-4CC1-9BC3-D4921B03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7A2307-6DB5-4F5C-95C5-709CFAA5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F364A-E045-4A6A-8B83-C0280641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DE0C4E-EC71-48E4-ADC3-C59C5A3D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2C1420-DA78-4D58-8EF9-AAB82A7F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5E77D-6542-4A98-B0AD-436E58AD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EEB93-552A-4616-885E-1B7D6605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2395-FE31-417A-B2A7-9B7CE869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61962-B429-457F-9E89-81CA1DFF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13C3CD-A68E-4C0D-B45C-92E3EA89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762D4-A6C2-44EE-8E5B-26649DC1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85AB8-B7FD-4756-AC19-25497FB1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4823B-7AC4-4D70-AFDF-BE41E4A9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615F40-CFFC-4EE8-9033-356BE716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F4782-40D0-4207-A641-34414C45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3B889-4A9F-4D68-84D6-A00F36F0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FBF66B-EDA7-41DF-B724-A93F033E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39FE7-D92C-4CF2-8A35-4DCF053C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C7B6-9077-4FBF-90D0-C81697C6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369A8-77EE-471D-89EA-C0522128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866CE1-398F-49CE-9CA1-A006644D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77E1F-4919-419C-8EFE-0559C069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F3D3C6-CDA5-4361-BC8A-C52B6AAE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37D7F1-1420-47AB-9D15-C26DFA8B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09DC9B-FAC3-4A6C-8AB7-A4E6CF9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B9F8DF-7D5B-41F5-BCE7-27E7E89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ECC967-ED26-4464-B590-83C1E6F4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9C6D15-6DDA-49C6-B095-E7A597F6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067D5E-01CF-4B9F-A7A5-205AD6DC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DD7B-D8E1-419E-9D29-4192046D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0104D-769E-4952-A703-FF3FDF02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51D831-0737-4AB2-81EE-055B4EE0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7F25CC-3456-4AD4-AB69-BA69369E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6D7284-048B-4F61-989D-B7CFF0FC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C44A2-2B64-4F42-8048-BD00F125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2FDC2-DE29-4248-AB2B-EBB5D980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2B88C-90DD-4069-A38C-88A40888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869A51-AAAF-47FE-89EB-F0E9899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61C252-7A5D-4CFA-9F25-5D662E05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55D2C-CCBD-4883-A585-C8A860DC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84C1-C584-4A12-8DFC-557732B7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0E0666-B217-4E3E-B7D7-0F84974B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B31EA9-5128-44A1-A4E4-78379C8F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291938-410B-4CCB-B5DC-ED6304D5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A1FA93-6FF2-4C7E-9B06-AEEAF09F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FE6AB7-DB42-4B35-8DA8-B1A2921C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6D920D-CCCE-44BF-A6E8-8E88D446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C4DD74-D988-4459-B5FC-95B6F715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DA9EB7-21B4-49BB-97F8-62A7942A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613B88-5CDA-40B5-846A-093598F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B1B233-D8AD-47D1-968D-78BD23A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9E32-4774-455E-A2FD-E9E5469D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D95726-35E1-4288-AB76-F8E9618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FFAE5B-202B-4777-BEE2-1C218485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813DE8-B9AD-4F77-B287-52784473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E1A781-EF0C-461D-B8AF-2E2F9107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6C154A-FC4C-4B79-9BB9-0B093FBD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F075-EE72-400B-8862-A26E3259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78F1-B3F7-43A3-BEC6-4A4556A6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D077-A6C4-4836-8612-27480954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9FC-6A6D-4C99-A8C2-DC3EA701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4883-3712-4DE9-AABF-88E80D9E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69D0-37B2-49A6-BB8C-D3C6F470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E0A3-461F-45A5-A583-BC3F4DE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7243-996F-4A25-9FF5-0A2FB515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83D5-128D-421F-8FF1-0AC1EADE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8626-100C-496A-9FBE-D6732BC6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D41F-BC0C-4BEF-84A1-AD4779A5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B2F68-6363-4CDB-8878-E8DE6CDA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AAF6A-CD0F-4FE5-BCF8-AB13FBA4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6E319-85FF-4737-ABA6-019C5D30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528-B35E-4840-8B65-483FDEA6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106A7-602D-425F-8BDF-F2BE594B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36568-C2B6-49B5-910A-CE319EA1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70EC3-D749-49D4-BBAB-801ADF7B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29C62-06AA-43DD-9386-BFF58906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E8BB2-81A1-4A3E-BC77-1255AC4A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D5B94-F053-42C3-BF61-9F53F25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553B7-A085-4FB4-AF70-EBE5E44F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5D911-2A92-4383-BC17-05659330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47BAF-9291-413A-AF41-A5CD7B01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B0C3A-29AF-4A9D-A62A-568B9A48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FC4-7ADC-478E-8E36-CF76A272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F060B-B9C5-4137-884A-9599982B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C49A9-7315-432D-91CD-87239186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8FC39-C203-4A1C-BF27-2D27A2E8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78ADB-07C9-45B2-9EFE-6517B5F1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83D58-CEA1-4AC5-938D-24ABC9D8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8DCAD-4529-4870-9F8C-ABB99B1D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6B167-43A6-4632-B2F0-AAEEFECC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B07D6-0183-44FB-94B8-72A60838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84C4E-CDC6-4C98-852F-DA11FF6A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63CDE-606A-49FC-A3EB-EEA03BAE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0D6-7BB1-4A32-B3D1-FCA279CE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1A972-F3AB-4972-8598-13469073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6C088-050B-45B8-A6BE-38172826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FD9B5-8911-4D9F-8722-CB7A84E2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C4D3D-21F6-48DB-AE9E-FC183D75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4EDBD-3E30-49E9-9825-A5AE9DCC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B4CE2-B45D-4C16-92EE-FF5EA61C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69613-7F04-4B96-83FC-E07CD2D5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3B4D6-01A6-40F2-8073-1A415746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6CC5DC-E5A0-4FF2-AC1C-0ECA6C16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D9B19-CC96-44C6-8DF6-921CECDC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DF8-0F78-460B-A4AA-B3E9A536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C1BDD-945A-49D9-B1DC-E1994985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0B281-7D93-469B-B130-283DA327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10AD3-8A86-4EA8-AEA1-6A2E6D81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6958E-C18B-4DE0-B460-AE13371E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3618B-3E91-4B5B-AE08-45C14B60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5D552-8AD2-42B4-804A-6DDA093D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7B25E-B776-4263-89DF-A81539F9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25613-2134-45E4-9A47-BB15C433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5B447-C529-4021-9E98-2ED0C51B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38542-89D2-47FF-9407-0045378B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1CA-55A2-4087-8B0E-3B797BF4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9B6AF-C552-4D76-B82D-973C41F3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0B49E-F1BE-43CC-86D1-058AF2A2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B5DA0-7CA7-4C99-BE62-F27B169D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8D81F-52FF-4415-8A30-C1AD1FFC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16008-6355-4754-9321-1AA096D7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98FC6-C2B9-49D6-9D78-E4B87833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0F6CA-A01F-4A3A-98F5-18FC8FBD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CD3B9-8F74-4141-9E83-97CC7F34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11651-D237-4CAC-92EF-F6DA12E9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490E5-1FB6-48E7-A3EA-23A26F41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A3A-4975-400A-A17C-A0537F8A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E1B66-CA09-4D65-BA72-7A2B7F5C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33365-9734-4E1F-914F-F534180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46AB5-86A1-4011-9F64-E449869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E8F54-C47A-4479-ACA2-364A6DB0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527F3-B64F-4E95-8467-ABB1747F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3FFA2-7CC4-46D4-BFCF-852F5A79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DC444-29FC-4BC2-AF75-E7E3A6BC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7556A-8CC7-4DEA-8620-14E06BDB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58D3A-066E-4418-84F3-48BD22A2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04C6D-6B4E-4EA0-B648-E5F91909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907A-A8DF-4666-85DA-BC1A94BD130C}" type="slidenum">
              <a:rPr b="1" lang="en-US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3EE9-19FD-4488-9A83-109113356128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F1A8-15A0-42C5-A09A-11F9D223CC6D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6AA8-56EF-4220-94FB-E27D114612DC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4ABB-0383-44EB-A5EE-FCF39EEB264F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037-17CD-4792-839C-552328F3708B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EF57-1E4D-4779-8739-D7D92C30BB17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E64B-5319-4186-89F2-24B504C6CAEA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91CA-0BE0-4430-B0FC-0E1705838DCB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6AC5-985A-4D6F-9A02-8BE85520259B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6316-32CA-4D64-8B16-55EA5A8901E9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D7D5-C015-40A7-AE63-DDC64707F363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5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6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0D50-00B1-4B2D-BAB8-18223BEFBEE8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6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6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6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9486-FCC9-46A1-B083-77623D043BF8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6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6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6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3CB7-1FB0-4654-9417-00656D69AE5D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4ADB-3E8C-4B89-B58A-F591C4BBFD5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8BBE-AAA7-47AD-812C-4AE81CAB0DAD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9F1E-D341-484D-BF84-34164628E2D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D434-A7F2-42F9-9E28-E5762B30FE0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A392-F88F-4707-9615-3CA75F5E5B9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3B75-1C66-4D42-8891-7A77C9BC12DB}" type="slidenum">
              <a:rPr b="1" lang="en-US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FD91-61EE-4A5F-A239-2A8395AF508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96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Arial"/>
              </a:rPr>
              <a:t>Вопросы для повторения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68" name="Rectangle 4"/>
          <p:cNvSpPr/>
          <p:nvPr/>
        </p:nvSpPr>
        <p:spPr>
          <a:xfrm>
            <a:off x="468360" y="1125360"/>
            <a:ext cx="8351640" cy="4680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Какие закономерности историчного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можете назвать, приведите 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Что такое прогресс, назовите его черт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те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Чем социальный регресс, приведите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Найдите общее и различное в соци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орме и револю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труктура личности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907920"/>
            <a:ext cx="9144000" cy="10810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труктура личност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 — специфическая организация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пособностей, мотивов, ценностей, присущих данному индив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бразующая его неповторимую личность в различных проявления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4211640" cy="400824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4427640" y="2060640"/>
            <a:ext cx="4537080" cy="10810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Личность – соц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ущность человек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516720" y="321300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427640" y="3860640"/>
            <a:ext cx="4537080" cy="719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аждый ли индив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является личность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427640" y="4724280"/>
            <a:ext cx="446544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и-Маугли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3024360" cy="208944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3276720" y="907920"/>
            <a:ext cx="5867280" cy="20894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ети джунглей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аугл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»,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Ф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юд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»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человеческие дети, которые ж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вне конт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людьми с раннего возраст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ктически не испытывали заботы и люб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 стороны другого человека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не имели опы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социального поведения и об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3068640"/>
            <a:ext cx="9144000" cy="1295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редного "ребенка-маугли" зовут Рамзия Тукматуллина. 14-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вочка с детства жила в стае бродячих собак. За это местные жите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ли ей кличку "Найда". Мать ребенка - местная алкоголичка, живе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ревне.                                                        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ИА REGNUM 13.07.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4437000"/>
            <a:ext cx="9144000" cy="2421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хлетнего сына заводчицы собак Марины Б. соседи прозвали Мауг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проживает в двухкомнатной квартире в Уфе с матерью и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20 собаками породы шар-пей. Ребенок сильно отстает в развитии. 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говаривает, а только смотрит испуганным взглядом на посторонн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ходит на улицу и все время проводит с четвероногими друзьями.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ход в квартиру сотрудника прокуратуры мальчик отреагиров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тными инстинктами: лег на спину и судорожно задергал конечностя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А "ВолгаИнформ" 21.04.200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f271c"/>
                </a:solidFill>
                <a:latin typeface="Arial"/>
              </a:rPr>
              <a:t>Личность </a:t>
            </a:r>
            <a:br>
              <a:rPr sz="4400"/>
            </a:br>
            <a:r>
              <a:rPr b="1" i="1" lang="en-US" sz="4400" spc="-1" strike="noStrike">
                <a:solidFill>
                  <a:srgbClr val="4f271c"/>
                </a:solidFill>
                <a:latin typeface="Arial"/>
              </a:rPr>
              <a:t>и социальная среда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Урок</a:t>
            </a:r>
            <a:r>
              <a:rPr b="1" i="1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532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Учебник, § 5 читать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Выучить материал в тетрадя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Рабочие тетради, задания к § 5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роблема, практикум после § 5.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271c"/>
                </a:solidFill>
                <a:latin typeface="Calibri"/>
              </a:rPr>
              <a:t>План</a:t>
            </a: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56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Качества человека: прирожденные и приобретаемые. Человеческая ли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Роль семьи и социальной среды в воспитании лич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Личность, индивидуальность, человек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Arial"/>
              </a:rPr>
              <a:t>1. Качества человека: прирожденные и приобретаемые. Человеческая личность.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6" name=""/>
          <p:cNvSpPr/>
          <p:nvPr/>
        </p:nvSpPr>
        <p:spPr>
          <a:xfrm>
            <a:off x="250920" y="1052640"/>
            <a:ext cx="8569080" cy="1008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роблема челове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одна из основных в философии. Больш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чение для понимания сущности человека, путей е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ет выяснение вопроса о его происхо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04292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203640" y="213372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220500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24000" y="2852640"/>
            <a:ext cx="1726920" cy="1944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лигиоз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е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исх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484360" y="2852640"/>
            <a:ext cx="1727280" cy="2016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леовиз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зем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500720" y="2781360"/>
            <a:ext cx="4248000" cy="647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волюционные те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500720" y="3645000"/>
            <a:ext cx="2158920" cy="20890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.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зан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ш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екопитающ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948360" y="3645000"/>
            <a:ext cx="1800360" cy="2087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Ф. Энгель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Arial"/>
              </a:rPr>
              <a:t>1. Качества человека: прирожденные и приобретаемые. Человеческая личность.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86" name=""/>
          <p:cNvSpPr/>
          <p:nvPr/>
        </p:nvSpPr>
        <p:spPr>
          <a:xfrm>
            <a:off x="250920" y="1052640"/>
            <a:ext cx="8569080" cy="1008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к по своей сути есть существо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биосоциально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н является частью природы и вместе с тем неразрывно связ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 обще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979640" y="213372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588000" y="2133720"/>
            <a:ext cx="432000" cy="503280"/>
          </a:xfrm>
          <a:prstGeom prst="downArrow">
            <a:avLst>
              <a:gd name="adj1" fmla="val 50000"/>
              <a:gd name="adj2" fmla="val 2912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79280" y="2781360"/>
            <a:ext cx="4032360" cy="3168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как биологическое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ущество принадлежит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шим млекопитающи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уя особый вид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apiens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 Би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рода человека про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его анатомии, физиолог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н обладает кровенос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ышечной, нервной и друг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72000" y="2781360"/>
            <a:ext cx="4392720" cy="3168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ловек как социальное сущ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разрывно связан с обществ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Человек становится челове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лишь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ступив в обще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ношения, в общение с другим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циальная сущность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оявляется через такие свой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ак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способность и готов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 общественно полез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труду, сознание и разум, своб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и ответственность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Основные отличия человека от животного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36640"/>
            <a:ext cx="9144000" cy="934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Человек обладает мышлением и членоразд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ч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1844640"/>
            <a:ext cx="9144000" cy="934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Человек способен к сознательной целенаправл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ор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4076640"/>
            <a:ext cx="914400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Человек способен изготавливать орудия труд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их как средство произво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ых бла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Человек воспроизводит не только свою биологическ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и социальную сущность и поэтому дол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довлетворять не только свои материальные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ховные потре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852640"/>
            <a:ext cx="914400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Человек в процессе своей деятельности преобраз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ающую действительность, создает необходи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му материальные и духовные блага и ц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Факторы влияющие на формирование личности человека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907920"/>
            <a:ext cx="4643280" cy="115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след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643280" y="5707080"/>
            <a:ext cx="4500720" cy="115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тремление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амосовершенств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643280" y="907920"/>
            <a:ext cx="450072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5707080"/>
            <a:ext cx="4643280" cy="115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циальн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2987640" cy="186048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2987640" cy="17575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2771640" cy="187308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5"/>
          <a:stretch/>
        </p:blipFill>
        <p:spPr>
          <a:xfrm>
            <a:off x="6372360" y="3933720"/>
            <a:ext cx="27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6"/>
          <a:stretch/>
        </p:blipFill>
        <p:spPr>
          <a:xfrm>
            <a:off x="2987640" y="2060640"/>
            <a:ext cx="338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Личность, индивидуальность, человек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36640"/>
            <a:ext cx="9144000" cy="1008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нятия 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ндиви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ндивидуальнос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ичнос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 в научно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улярной литературе употребляются как близкие по значе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они не являются синони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47640" y="1989000"/>
            <a:ext cx="8496360" cy="1582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диви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u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неделимый, неразделенный) -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чный представитель человеческого рода, конкретный 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оциальных и психологических черт человечества: разума, во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ностей, интересов и т. д. (человек как отдельная особь ср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х люд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47640" y="3645000"/>
            <a:ext cx="8496360" cy="1728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ндивидуально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это неповторимое своеобразие проя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ловека, подчеркивающая исключительность, многосторонность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рмоничность, естественность и непринужденность его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человек как один из многих, но с учетом его личных особенност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ешний облик, манера поведения, характер и т. 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7640" y="5445000"/>
            <a:ext cx="8496360" cy="1413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ч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особа) - это человеческий индиви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ющийся субъектом сознательной деятельности, облад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окупностью социально значимых черт, свойств и качеств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реализует в общественной жизни (человек с социально значим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честв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9280" y="285264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79280" y="414972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79280" y="587700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8:25:37Z</dcterms:created>
  <dc:creator>User</dc:creator>
  <dc:description/>
  <dc:language>en-US</dc:language>
  <cp:lastModifiedBy>User</cp:lastModifiedBy>
  <dcterms:modified xsi:type="dcterms:W3CDTF">2009-10-11T03:11:27Z</dcterms:modified>
  <cp:revision>80</cp:revision>
  <dc:subject/>
  <dc:title>Наука о человеческой вселенной</dc:title>
</cp:coreProperties>
</file>