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620C-32AE-455F-B288-6F19A6D5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40E9-0A83-41B4-ADA9-CF5132D4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9B478-B80A-4069-A841-10D6CA81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93E7A-B1A8-48EA-AF71-4E9432F8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73760-7E9F-4EB0-A0E2-22B710FE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AC70F-A130-4D18-9F2B-4094A3D7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C01C7-8AB9-49A1-8BE1-BC1E0045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51CF0-910A-45B4-BCB4-13E10A99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4DC27-70A5-4E44-B6B0-76D8C785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A85BA-B932-49FA-A53D-66497B0B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8D2C4-DB90-4AA8-8DE3-85147250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D3B64A-9BE4-4FB4-9DEF-F047CD80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31ED-2DEA-41A0-97BF-0DD23CE0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93414E-F3B3-4AE0-B0A8-56DBC620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4C75DC-BC25-490E-A208-42DEA6B3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92E46B-E449-4305-8EE6-6898A949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56AB1C-DF34-41C8-9F32-5284483F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7A9A05-2CF4-446F-9411-F33C0DA4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9B8160-E193-499F-85E7-B34B65BC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EED94A-EAAC-412F-A582-58342FFF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1BF0EA-292D-4156-8ADA-727E3872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A87C52-7E5A-41AC-A41A-B2B8B9E1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DDE528-FB3D-40E1-B02F-83C8770A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1A2E-D1D2-4AC5-8086-1C076968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0C09BF-CE38-49FC-A1F1-36C3DB46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D746D-5FB7-49DC-852D-5E3B2E49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9D009-5B43-4F9C-95B7-55ABFCC4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47506-DE9A-4F08-8363-E7004C37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CA38C-2A8A-4A8E-9D5D-DAA2F09D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50D68-4EAF-47D8-B239-03C9F0BE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C1B37-596A-4F0C-9090-B10E3303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DA8AE-5D4D-4860-95AC-A7C040BC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9CF6E-7BAC-4CEF-B4F5-47A819E0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5FF77-A34D-414B-9D1A-6AF5A451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6250-FEDC-4981-A231-DFAE982D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E9573-15F1-47C2-A7A0-18C5DDAE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8D491-E813-4A54-9FA9-94333692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11249-C043-4520-AD88-571FC55F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FF7CD-4D9C-4193-8597-30D0D544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72604-90E9-4021-99B1-17BB8727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DBBE9-1BCA-47DD-87BC-B8FBC32A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E791A-7F4B-4533-8BAC-B6E84E44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24AF3-9BE0-4D76-972A-3F141554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EB9D7-D78D-490C-955E-DB254F80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4D485-0B46-489B-B0E2-3B3858B2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B6A8-47E7-48C0-8F94-A17C225A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B4332-841A-459F-92DB-FC3FD0BD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B6F84-3785-4A81-AD7A-9DE25A6A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03904-8294-4E82-A262-F0603F02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83B09-2891-4AE9-8343-70609148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395DC-6524-409F-8D1A-10261524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A1B4A-09C1-43E7-8117-3B31E637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D87EA2-451E-4F02-90CF-3A91EF81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0735AC-B215-4830-A0D5-611489FB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5555E-FE76-4C89-BE58-EDA50A07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FE2FD-3E6F-4335-B41C-5FB4AE65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9853-5C38-46DD-81D8-51299D7F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E9944C-87DE-4EE8-B7B0-1E703CBC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9DA6F-B204-4370-B88A-612034D9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99F40-72D5-4C81-8CC9-B5BB7847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1830D3-D986-4404-A72F-B32A4F38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6D4ACC-0781-4BC7-A68D-3C035A3C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7FEC2-223B-4A5F-8841-61D4EC90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ACA907-D3BF-46E4-B716-6F7DDF7B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2F67E4-B884-4EF1-B82F-FB50924A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2FA460-C234-43AA-97B0-AED5C645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E83077-6426-456A-9D79-5FB4DB4D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3F58-D0F0-499D-8C2B-5EE668E4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155C11-3B5D-4F40-ACC7-FF83DE5E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C0CED9-A819-4906-B4C1-D22B3C97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FA2A19-C625-47D1-AF7B-DBD28A2C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77A056-44F8-4532-B0A0-4FB426EF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09541C-CEE4-4BDD-9A33-109248E8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731767-D0C6-450F-8321-A4EC25E4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BB7198-D804-4C63-99C3-39676EE3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F11245-3DBA-431F-A0F5-50B8C5EE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9B933E-EAF4-4E47-B20D-BC02E0C6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908E68-FEAF-4085-8BF1-0481C14D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3109-3F8F-4CFB-8C09-E158DFE1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A09EDB-DA46-4FBD-83E6-1168A3D0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87E4DE-388D-4AB1-8565-DD5574EB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02794A-DA0E-4EF5-88F0-46D32446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19416A-72D7-4E55-BF71-CD89E006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E9B142-0CB7-42D1-B01E-6FB98721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29F8EC-8564-42D2-B269-6FDC58A9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83A0F7-14C7-4B8C-806B-22A0B9E6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166960-B9D7-45C0-9459-BF5AA223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EEC982-9D68-420B-84E9-DE1E5386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5D04D6-3708-4247-97AB-FBA5608A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39A2-47BC-4E7A-ABF8-5F151978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3D4F35-EBE9-4CC8-9406-4179C529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877806-6C62-487D-A298-39438FE3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F46B60-3B09-4439-98EA-A1199250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140C4B-BC0D-4B0D-9679-7F17BF4B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03DDBD-F78C-4B51-9465-2E6954EF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9C2BF9-8069-4756-AAFE-F9CA5BF5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B5C91B-2800-4AD2-AA6A-1F063195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861C7D-D8F4-4548-9FF8-8F9F0AA9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218D84-CB20-4161-B70A-BB1BCFCC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5CB874-BD2B-45F9-9300-3089B54A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9D38-222A-424D-A504-C660FE32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400E2A-1B43-4D79-9B2F-0BA42D16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C34C43-7697-4260-9B4F-5E983080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F8A616-9B45-4FA4-B829-E93CC520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B3E402-DD52-4416-85BB-7F687414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438CF0-10EE-406A-A5A0-C146DE76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B5C5D7-2869-4F9C-952B-94AD508E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F15D92-C2EC-4D69-BD71-294D2A4A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D7EE5F-4236-4B29-8DA3-9AADEBBE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42AB12-F4DF-405B-ACD8-3476FB02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FE392D-6A53-44D0-91C5-AD9B70BC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D09-A809-4FB7-B0A4-C5F1C6B6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E841-D55D-472A-9278-A0D87003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6739A4-E3B9-4D5A-98AB-32C166A4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AD2AD1-E181-4F69-A54A-F9DE722F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8199AC-1CF1-4252-800D-4B0F4C16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DEE415-9621-4BF2-B5A2-C45B47D4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8223D4-2151-405E-A320-76BA8C81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F71603-52D7-4598-B038-B9877609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4491A5-EBA3-49A2-BFAC-4064A5AC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98DA39-FAA1-4989-B664-1FEE510F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42235D-4D60-4AC5-98BC-DCE43FCE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DF09AE-137D-4C42-A1F2-077417AE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D84A-FF72-4F24-AA7C-7751C00A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59C888-1CA3-4219-9878-FA323D84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A4F96B-6824-4CD4-9FFD-3BB5CCEF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3FC62E-E95B-4BBA-98A7-F3151DE1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ACF8E9-505D-4F31-8D7A-BE660D0D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CE719D-D496-4A46-B68D-594F9B65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DA7DFE-8D2B-45AC-AB98-477DA330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2CD9AC-854D-452B-B55D-926854C0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D49FDD-9B8D-483D-B3F5-7E344F97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412EF3-5A40-48DA-BC67-411160AF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BF9C58-6AAA-4B2C-9BFE-23C8BDC6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4789-AA29-49B7-80FB-FCA6DE6F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8E401D-2D2C-4335-ADB4-D0DA7510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ABC125-BCE6-4786-AB10-B4F46681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FC493B-FD14-4243-84EF-B293B30B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D0ABD2-C823-48EA-85A9-14BA9CD1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577A58-8577-43C9-B203-32C35AD3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E48601-0E63-45AF-9F17-2EF052ED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98A75E-F94C-4257-B921-AD9D58F3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EC90DA-CD14-4577-91E5-D8533022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B7C1D7-502A-4330-81A2-78D34AE1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0B4668-A194-4397-999D-F5C49570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D230-B271-4B81-AA95-070912F2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F45E44-845F-48F8-A4A7-B2665B9F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F6F0A6-28C2-43DF-B104-AE48D902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E5F919-64FA-4779-A2C7-9B669070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19E546-DC0A-4C54-B83C-750E8335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D3E0FD-5504-4490-9AC3-5F6D8B54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3F74E3-B438-4FB6-B758-33811187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4268EE-F96F-4A41-95E7-4AACDC4B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2656A2-FD80-46A1-94C1-AFE4BCFC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517595-AA16-4CF7-9753-548F28C3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E77EDC-79D3-40A6-92D0-7F2690FE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0CEB-BF83-47E4-80A1-D1F3E0C8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A49586-4EF0-4F60-8526-6E8DC186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E9AE77-AB84-4576-B3F8-D5655C56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01A31F-54A8-4364-9C2C-7CDB91CC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AF786E-D8CC-4341-9A7A-B54BBFD0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1E259E-DA12-41FA-8346-91FDF49D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07B5CA-9CA1-475D-9816-7F689D3D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F49624-645B-428A-BDED-8D2FD420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BF4090-219C-4099-9F67-7A05AC52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8D1A58-72A3-487F-A51B-65633636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96BF20-E727-4C0C-8CD6-4C579724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B90DE-D5F0-4385-A6AA-04F944C4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6C47BB-3690-429A-9F57-C1AD9BF2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E8BD62-CF92-444E-A671-33CC4912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33D42F-E6A9-4DB0-9F4F-08C6FA67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1A2289-6D6E-47F7-82BC-4AAE412A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2A89C3-C96D-4EC4-B0BC-8701B9B5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4F9942-1B22-48D8-83B8-318973A3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BEB036-6889-4C22-AA21-8D9EEB54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FD1F86-BEC6-4197-B474-7CFF3408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FC92A0-B11C-4803-82CE-A2CA771A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214D41-6DF1-45C2-AE00-F41D8CB9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74D7F-5940-4672-9ECC-A6DBF1CD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1DCBA8-7598-4A31-A7F6-127E9272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BA4D8A-8BD8-4AA6-A923-BBBBE653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84626E-067A-4FAD-B0C3-CFB9A569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B45A96-C091-429A-BB9F-90BB7B66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4B832A-AEA1-44A8-888A-26B25E4A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55631-2B35-4D3B-B16F-58511D78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E7BE3-CFDB-44DA-BCA5-1311C926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F95EA-813C-4D71-9D96-5D016091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8AAE-ADEA-4813-BE41-6658BA88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EF582-BE23-4CAA-B362-C466A28A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2AEBE-4F02-47C8-A907-97B6313A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BBCB2-A0E7-4A84-930F-9EB8668B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2BBEA-C2E5-488A-BA18-EC0ABCF0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A7741-BECE-4ABA-85CF-8379DA08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08FF9-733F-4A51-82E9-2CF55C94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98E66-A714-48DD-9F48-E594C9D8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EFD2F5-4FF7-441A-A1E6-73F563CD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D7CD67-1BF3-45A2-9B7B-95A9C9C3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7AA84E-3AC2-4CC6-990E-6870E49D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2344-FAB5-47B3-9432-D744D354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EBB50B-09B4-466A-B3D6-DBB44052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4BE954-4468-43E0-90A7-8D7BFBEA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0136E8-CF83-4499-B9C7-E6EF3B10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24BA1D-ADB0-42FD-9F36-9ACD7832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402D60-19A1-4185-BC0E-50414F39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447F0B-7FBF-4CFE-B7C1-04243DAF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A807EA-43BA-4ACB-AF37-472C6597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2FEC07-0293-42A3-AB96-6778104F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AF8076-A37E-43DA-B10F-4975D01B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13602E-8BE8-425B-BC4A-7F3795B1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BC6B-D5A0-48B8-95AB-E3378A10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DE06AB-E495-45A7-9933-42FCAF28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B78A51-01DB-4E6A-81E8-BC88FFB6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662B62-8C0A-4C64-886D-E9F2DA2B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650CDB-7024-421D-A504-55E86AAA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C02EC6-64A2-4F2E-835A-6B9B0D38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96851A-BE4E-4E0A-AB99-D8D46190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C5D741-4856-49B6-87DE-F5BE9D90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53500C-4813-416A-AC5C-9766EA87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7ADFD5-ECE2-4D2B-85EF-B92E1787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4DA40F-02EA-428B-888D-9473A335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ADBD-DF12-45F8-8332-7DD7DC73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CD8F5D-4486-468D-8BFC-F1BFE185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E55899-1EC7-44F2-B92D-B93AE030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32345A-9A91-4DD1-BC62-B132BA12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F4D778-D6F3-4E5D-AC42-0764A160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2AC32-15D6-4168-8A9A-C66DCB46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867E30-B9AA-4768-8580-65F8900C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0DA324-96A5-454F-9677-7DBD7AE5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5FCF51-E12C-4EBE-A6F9-096DA795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6D55AB-1233-46B5-BC2E-1F75940E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377A06-8F62-4B89-8C0F-995FD06A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D147-F8CC-4D91-BC9B-3B31EF44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B86CF6-C933-489C-BB16-38390205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953CFB-9B05-4447-98EB-27521EFA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58BC5A-EBF3-42C4-AAEB-3C2688A7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779B8-E370-4610-8639-0F71AAEE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1D964-769A-47DB-AF97-653D47F1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3D917-8ECF-4825-BC46-65EFBF06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912C8-BA81-4929-A11D-9DDB23FF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8F62A-5A07-46A2-B06A-DD3975DE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CF976-A98E-488D-AF71-20199B1F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8CDA6-0D31-4EC3-8550-CEF35F4E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476B-EC5D-45C6-8577-00333EE3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3764B-2344-45D7-823A-F1490F6C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6EE2B-AC10-45C9-B5E7-0EF51F11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2CE56-9397-4CF1-B1FE-7C6D6C3D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5162C-C1EB-4997-B634-ED531C9B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F4279-1C80-4A06-9831-7445464B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45981-94E4-46D4-A198-CC973D9B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80089-D635-4A6B-AEFD-65EB3F54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6BBDB-2C9A-4FBB-B735-E1E3F6D8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0C5A3-9132-447C-9713-A9278E8F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737F7-10C8-45DD-81BF-834C39AD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6FE5-EA10-4E48-BE99-9EB8E427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6B6C8-90C3-4EF0-AF25-EA370579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42B6F-BC00-4D1C-A631-8F0260BB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C6899-5871-4936-A3C2-3394B6A8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A10CF-E44C-40D9-B10C-D2EFC90D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5AAB9-7194-4C16-BC4C-3953BE32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8E85C-50EB-48F9-AC68-2BD67495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E3929-0F3C-4D88-A46F-703A8759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9ECDD-8EA0-449C-8EFA-69F964DF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B9AAC-6D80-46CE-A7E1-981A8E3C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9831C-F262-451F-B817-C0CBB9FF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C4DA-6F37-43DE-8098-783252C01C99}" type="slidenum">
              <a:rPr b="1" lang="en-US" sz="14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E101-AFAB-4B12-A86A-2E9A70080D4F}" type="slidenum">
              <a:rPr b="1" lang="en-US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3F69-FEB9-4865-B458-4E66ADE0433A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9F59-4AAF-462D-B579-A97D93B81C6A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C8D7-FDED-4F9B-8C07-605884EB2D26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2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E40E-3D11-40E1-9464-2B17D33ED23B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5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96DE-2A14-4782-BDF9-5A255ACD8F62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0C23-B63B-4B38-AE10-2F6D71423E23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855F-E594-4CE8-80AA-0A47A846B4B7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1015-A8DA-4938-A333-DC16163DF655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31EE-1EF8-4CFF-9A35-782A2090EB79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F5D4-D9EB-4F32-A99C-4C693D5A50F3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5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5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6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4732-E2AF-4745-A799-4A748E74FC8B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dt" idx="6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ftr" idx="6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 type="sldNum" idx="6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0595-5FEE-446F-A66C-EDDE39A7985E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dt" idx="6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ftr" idx="6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sldNum" idx="6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5041-43FD-44F0-9833-96F0CF195539}" type="slidenum">
              <a:rPr b="1" lang="en-US" sz="12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155B-D734-4E66-AA17-8612FFF8940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BEF2-938A-42FA-A6BB-12B591C38800}" type="slidenum">
              <a:rPr b="1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DE21-E196-46B8-B6B1-9712B80F5DE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6B3F-3F6E-414A-855B-EBC8A962809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61D2-6FE3-4883-AB6A-372BD6733C1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f271c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DEDE-6071-46CA-A229-69AA1D999452}" type="slidenum">
              <a:rPr b="1" lang="en-US" sz="1400" spc="-1" strike="noStrike">
                <a:solidFill>
                  <a:srgbClr val="4f271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7" descr="sm_pencil.png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2144880"/>
          </a:xfrm>
          <a:prstGeom prst="rect">
            <a:avLst/>
          </a:prstGeom>
          <a:ln cap="sq" w="50760">
            <a:solidFill>
              <a:srgbClr val="feb80a"/>
            </a:solidFill>
            <a:miter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CE91-FC23-4B6A-A471-F6813B813A8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96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Arial"/>
              </a:rPr>
              <a:t>Вопросы для повторения</a:t>
            </a:r>
            <a:endParaRPr b="0" lang="en-US" sz="4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68" name="Rectangle 4"/>
          <p:cNvSpPr/>
          <p:nvPr/>
        </p:nvSpPr>
        <p:spPr>
          <a:xfrm>
            <a:off x="468360" y="1125360"/>
            <a:ext cx="8351640" cy="46800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Какие закономерности историчного разви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 можете назвать, приведите при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Что такое прогресс, назовите его черты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ите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Чем социальный регресс, приведите 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Найдите общее и различное в социаль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форме и револю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Структура личности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907920"/>
            <a:ext cx="9144000" cy="10810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труктура личности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 — специфическая организация качест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пособностей, мотивов, ценностей, присущих данному индивид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образующая его неповторимую личность в различных проявлениях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4211640" cy="400824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4427640" y="2060640"/>
            <a:ext cx="4537080" cy="10810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Личность – соци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ущность человека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516720" y="3213000"/>
            <a:ext cx="360360" cy="432000"/>
          </a:xfrm>
          <a:prstGeom prst="downArrow">
            <a:avLst>
              <a:gd name="adj1" fmla="val 50000"/>
              <a:gd name="adj2" fmla="val 2997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427640" y="3860640"/>
            <a:ext cx="4537080" cy="7192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Каждый ли индиви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является личность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427640" y="4724280"/>
            <a:ext cx="4465440" cy="11527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ти-Маугли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pic>
        <p:nvPicPr>
          <p:cNvPr id="1023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3024360" cy="2089440"/>
          </a:xfrm>
          <a:prstGeom prst="rect">
            <a:avLst/>
          </a:prstGeom>
          <a:ln w="0">
            <a:noFill/>
          </a:ln>
        </p:spPr>
      </p:pic>
      <p:sp>
        <p:nvSpPr>
          <p:cNvPr id="1024" name=""/>
          <p:cNvSpPr/>
          <p:nvPr/>
        </p:nvSpPr>
        <p:spPr>
          <a:xfrm>
            <a:off x="3276720" y="907920"/>
            <a:ext cx="5867280" cy="208944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Дети джунглей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(«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Маугли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»,«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Фер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люди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»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человеческие дети, которые ж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вне конта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 людьми с раннего возраст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ктически не испытывали заботы и люб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 стороны другого человека,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не имели опы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социального поведения и общ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3068640"/>
            <a:ext cx="9144000" cy="12952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чередного "ребенка-маугли" зовут Рамзия Тукматуллина. 14-летня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вочка с детства жила в стае бродячих собак. За это местные жите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ли ей кличку "Найда". Мать ребенка - местная алкоголичка, живет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ревне.                                                               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ИА REGNUM 13.07.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0" y="4437000"/>
            <a:ext cx="9144000" cy="2421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ырехлетнего сына заводчицы собак Марины Б. соседи прозвали Мауг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ок проживает в двухкомнатной квартире в Уфе с матерью и бол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20 собаками породы шар-пей. Ребенок сильно отстает в развитии. 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разговаривает, а только смотрит испуганным взглядом на посторонни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ыходит на улицу и все время проводит с четвероногими друзьями.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ход в квартиру сотрудника прокуратуры мальчик отреагиров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отными инстинктами: лег на спину и судорожно задергал конечностям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ИА "ВолгаИнформ" 21.04.200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f271c"/>
                </a:solidFill>
                <a:latin typeface="Arial"/>
              </a:rPr>
              <a:t>Личность </a:t>
            </a:r>
            <a:br>
              <a:rPr sz="4400"/>
            </a:br>
            <a:r>
              <a:rPr b="1" i="1" lang="en-US" sz="4400" spc="-1" strike="noStrike">
                <a:solidFill>
                  <a:srgbClr val="4f271c"/>
                </a:solidFill>
                <a:latin typeface="Arial"/>
              </a:rPr>
              <a:t>и социальная среда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Урок</a:t>
            </a:r>
            <a:r>
              <a:rPr b="1" i="1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271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815328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Учебник, § 5 читать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Выучить материал в тетрадях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Рабочие тетради, задания к § 5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Проблема, практикум после § 5.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f271c"/>
                </a:solidFill>
                <a:latin typeface="Calibri"/>
              </a:rPr>
              <a:t>План</a:t>
            </a:r>
            <a:r>
              <a:rPr b="0" lang="en-US" sz="4400" spc="-1" strike="noStrike">
                <a:solidFill>
                  <a:srgbClr val="4f271c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56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Качества человека: прирожденные и приобретаемые. Человеческая лич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Роль семьи и социальной среды в воспитании лич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Личность, индивидуальность, человек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71c"/>
                </a:solidFill>
                <a:latin typeface="Arial"/>
              </a:rPr>
              <a:t>1. Качества человека: прирожденные и приобретаемые. Человеческая личность.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76" name=""/>
          <p:cNvSpPr/>
          <p:nvPr/>
        </p:nvSpPr>
        <p:spPr>
          <a:xfrm>
            <a:off x="250920" y="1052640"/>
            <a:ext cx="8569080" cy="10080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Проблема человек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— одна из основных в философии. Больш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начение для понимания сущности человека, путей его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еет выяснение вопроса о его происхож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042920" y="213372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203640" y="213372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16720" y="220500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24000" y="2852640"/>
            <a:ext cx="1726920" cy="19447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лигиоз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жеств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исх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484360" y="2852640"/>
            <a:ext cx="1727280" cy="20163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леовиз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зем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500720" y="2781360"/>
            <a:ext cx="4248000" cy="64764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волюционные те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500720" y="3645000"/>
            <a:ext cx="2158920" cy="20890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Ч. Дар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нет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язан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ш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лекопитающ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948360" y="3645000"/>
            <a:ext cx="1800360" cy="208764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Ф. Энгель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я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тр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71c"/>
                </a:solidFill>
                <a:latin typeface="Arial"/>
              </a:rPr>
              <a:t>1. Качества человека: прирожденные и приобретаемые. Человеческая личность.</a:t>
            </a:r>
            <a:endParaRPr b="0" lang="en-US" sz="28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86" name=""/>
          <p:cNvSpPr/>
          <p:nvPr/>
        </p:nvSpPr>
        <p:spPr>
          <a:xfrm>
            <a:off x="250920" y="1052640"/>
            <a:ext cx="8569080" cy="10080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еловек по своей сути есть существо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биосоциально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Он является частью природы и вместе с тем неразрывно связ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 обществ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979640" y="213372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588000" y="2133720"/>
            <a:ext cx="432000" cy="503280"/>
          </a:xfrm>
          <a:prstGeom prst="downArrow">
            <a:avLst>
              <a:gd name="adj1" fmla="val 50000"/>
              <a:gd name="adj2" fmla="val 29125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79280" y="2781360"/>
            <a:ext cx="4032360" cy="31687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ловек как биологическое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ущество принадлежит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сшим млекопитающи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разуя особый вид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o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apiens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. Биолог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рода человека проявл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его анатомии, физиолог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н обладает кровенос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ышечной, нервной и друг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истем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572000" y="2781360"/>
            <a:ext cx="4392720" cy="31687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ловек как социальное сущ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еразрывно связан с обществ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Человек становится человек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лишь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ступив в обществ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отношения, в общение с другим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оциальная сущность челов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оявляется через такие свой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ак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способность и готов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к общественно полезн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труду, сознание и разум, своб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и ответственность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Основные отличия человека от животного</a:t>
            </a:r>
            <a:endParaRPr b="0" lang="en-US" sz="32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36640"/>
            <a:ext cx="9144000" cy="934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Человек обладает мышлением и членоразде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ч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1844640"/>
            <a:ext cx="9144000" cy="934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Человек способен к сознательной целенаправле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ворческ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4076640"/>
            <a:ext cx="9144000" cy="11527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Человек способен изготавливать орудия труд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ть их как средство производ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ьных бла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0" y="5300640"/>
            <a:ext cx="9144000" cy="15573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Человек воспроизводит не только свою биологическу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и социальную сущность и поэтому долж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довлетворять не только свои материальные, н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уховные потреб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2852640"/>
            <a:ext cx="9144000" cy="11527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Человек в процессе своей деятельности преобразу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ружающую действительность, создает необходим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му материальные и духовные блага и це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Факторы влияющие на формирование личности человека</a:t>
            </a:r>
            <a:endParaRPr b="0" lang="en-US" sz="27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907920"/>
            <a:ext cx="4643280" cy="1150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Наслед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643280" y="5707080"/>
            <a:ext cx="4500720" cy="1150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тремление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амосовершенств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4643280" y="907920"/>
            <a:ext cx="4500720" cy="11527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Вос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0" y="5707080"/>
            <a:ext cx="4643280" cy="1150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оциальная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2987640" cy="186048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3"/>
          <a:stretch/>
        </p:blipFill>
        <p:spPr>
          <a:xfrm>
            <a:off x="0" y="3933720"/>
            <a:ext cx="2987640" cy="1757520"/>
          </a:xfrm>
          <a:prstGeom prst="rect">
            <a:avLst/>
          </a:prstGeom>
          <a:ln w="0">
            <a:noFill/>
          </a:ln>
        </p:spPr>
      </p:pic>
      <p:pic>
        <p:nvPicPr>
          <p:cNvPr id="1004" name="" descr=""/>
          <p:cNvPicPr/>
          <p:nvPr/>
        </p:nvPicPr>
        <p:blipFill>
          <a:blip r:embed="rId4"/>
          <a:stretch/>
        </p:blipFill>
        <p:spPr>
          <a:xfrm>
            <a:off x="6372360" y="2060640"/>
            <a:ext cx="2771640" cy="187308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5"/>
          <a:stretch/>
        </p:blipFill>
        <p:spPr>
          <a:xfrm>
            <a:off x="6372360" y="3933720"/>
            <a:ext cx="27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6"/>
          <a:stretch/>
        </p:blipFill>
        <p:spPr>
          <a:xfrm>
            <a:off x="2987640" y="2060640"/>
            <a:ext cx="3384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Личность, индивидуальность, человек</a:t>
            </a:r>
            <a:endParaRPr b="0" lang="en-US" sz="36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836640"/>
            <a:ext cx="9144000" cy="10080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нятия «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индиви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индивидуальност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личност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» в научно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улярной литературе употребляются как близкие по значен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 они не являются синони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47640" y="1989000"/>
            <a:ext cx="8496360" cy="15829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ндиви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от лат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u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неделимый, неразделенный) - э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диничный представитель человеческого рода, конкретный нос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х социальных и психологических черт человечества: разума, во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требностей, интересов и т. д. (человек как отдельная особь сре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их люд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47640" y="3645000"/>
            <a:ext cx="8496360" cy="17287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Индивидуальнос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это неповторимое своеобразие проя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ловека, подчеркивающая исключительность, многосторонность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армоничность, естественность и непринужденность его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человек как один из многих, но с учетом его личных особенносте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нешний облик, манера поведения, характер и т. д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47640" y="5445000"/>
            <a:ext cx="8496360" cy="14130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ич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от лат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особа) - это человеческий индиви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вляющийся субъектом сознательной деятельности, обладающ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окупностью социально значимых черт, свойств и качеств, котор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реализует в общественной жизни (человек с социально значим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чества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79280" y="285264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79280" y="414972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79280" y="587700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8:25:37Z</dcterms:created>
  <dc:creator>User</dc:creator>
  <dc:description/>
  <dc:language>en-US</dc:language>
  <cp:lastModifiedBy>User</cp:lastModifiedBy>
  <dcterms:modified xsi:type="dcterms:W3CDTF">2009-10-11T03:11:27Z</dcterms:modified>
  <cp:revision>80</cp:revision>
  <dc:subject/>
  <dc:title>Наука о человеческой вселенной</dc:title>
</cp:coreProperties>
</file>