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53440-B874-44A6-B7DC-D8E174D7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F9A7-F2A6-45E5-83A4-8578B18C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0416-9CB0-40F0-8DAA-9991A263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5BF4-3D68-4210-9B0A-106C030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B0EE-1030-4A95-816D-801705D6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B89F-45AE-4E3D-9B83-BDC3E87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9D6-11AA-4F99-B807-1D4B0E80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049E-6A90-4DE8-913D-AF856AF6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610-9FAC-4108-A731-E41845B9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A694-0A31-4035-9643-48D22FF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2BF0-7823-4357-BF33-BD37F86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28AE-AF7C-4010-B3F9-FF5867D1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F165-0381-43CF-8CB8-1810456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17DC-5CBE-4360-A70B-0362A1B0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49E-1732-4972-B24E-9D9E994E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9650-B5AC-4709-93E3-43FE28ED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319B-F3EF-451B-9661-4EAA807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7B7F-D96A-4696-903E-C82CCDE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7218-0FF6-4B0F-AD72-5692812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0099-37AF-420B-B000-BE9D578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F9A1-1A48-4176-AC3F-CD8DC7F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3412-77ED-40F5-AD92-77E4244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1586-2CFE-4869-808D-82F6A3C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D1A88-5D71-4BF1-9A9A-9477DD69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E2D5-42D4-4044-9F08-5E0CBD167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44D-3684-4BC5-8D4D-C4FB50F72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рпендикулярность прямых и плоскосте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19320" y="444600"/>
            <a:ext cx="6781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пендикулярные прямые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прямые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пендикуляр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заимно перпендикулярными), если угол между ними равен 90 . Перпендикулярность прямых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ется так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4343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пендикулярные прямые могут пересекаться и могут быть скрещивающим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аллельные прямые, перпендикулярные к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О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Прямая называется перпендикулярной к плоскости, если она перпендикулярна к любой прямой, лежащей в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5812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косившийся телеграфный столб стоит прямо, т.е. перпендикулярно к плоскости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209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же расположены колоны здания по отношению к плоскости фунд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55744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25146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50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ии пересечения стен по отношению к плоскости пол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45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3505320" cy="2451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 перпендикулярности прямой и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прямая перпендикулярна к двум пересекающимся прямым, лежащим в плоскости, то она перпендикулярна к это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38862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рямую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которая перпендикулярна к прямым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лежащим в плоскости α и пересекающимися в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кажем, чт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того нужно доказать, что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пендикулярна к произвольной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3886200" cy="3510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шка =)</cp:lastModifiedBy>
  <dcterms:modified xsi:type="dcterms:W3CDTF">2008-06-08T15:46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