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ED80-9E91-495D-8D9A-F079EE1C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4446-2173-4EF0-A4B2-36F54E6F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2100-13C3-4C8C-8339-DBFBD788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DC92-2A69-408F-A289-6E89A2A8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977E-B831-41D5-83E5-FB8098B2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066E-4B1B-47A6-98E2-FAE2F075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C6E0-59BE-485A-B3E1-EB76462D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59E7-9DB9-4AF4-B924-0F5B6F94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7F6-611E-4265-9EA3-D7A0C631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7E76-B941-4087-A136-43C0E15A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3FF3-2AED-4043-881D-2670983E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920A-D314-4629-9604-E21BA8E2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CD92-4ABE-4BC6-8D2B-808D9B3B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86E9-0632-45AF-95BC-DB153681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1F93-8310-4E87-8A12-E9B9A12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1B8C-3BFD-4E3E-850B-766B7A8D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2A5E-FEB4-4F09-9144-67BA5B58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9C20-A647-456B-8F42-91BDA6C0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B957-0E56-4C7A-9C48-E40DDA5A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54B5-1146-4173-ABD6-F3E7BFB9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48C7-822A-4470-8379-5FEC321E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90CC-E847-482E-A4CE-266DD453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BD09-DB64-451E-908C-0E3C9C61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B405-538E-4853-A90D-8DA61901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B750-5695-4F36-B7E1-80B95C6C0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C5A0-CA73-405A-B1FD-1A2F24DDC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ерпендикулярность прямых и плоскостей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444600"/>
            <a:ext cx="678168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пендикулярные прямые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прямые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пендикуляр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заимно перпендикулярными), если угол между ними равен 90 . Перпендикулярность прямых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ется так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8862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пендикулярные прямые могут пересекаться и могут быть скрещивающим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800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аллельные прямые, перпендикулярные к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О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Прямая называется перпендикулярной к плоскости, если она перпендикулярна к любой прямой, лежащей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5812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5029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ая нас обстановка дает много примеров, иллюстрирующих перпендикулярность прямой и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окосившийся телеграфный столб стоит прямо, т.е. перпендикулярно к плоскости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00800" y="609480"/>
            <a:ext cx="2209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расположены колоны здания по отношению к плоскости фунда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2557440" cy="327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251460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250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ии пересечения стен по отношению к плоскости пол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245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3505320" cy="2451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знак перпендикулярности прямой и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прямая перпендикулярна к двум пересекающимся прямым, лежащим в плоскости, то она перпендикулярна к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8862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прямую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которая перпендикулярна к прямы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лежащим в плоскости α и пересекающимися в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кажем, чт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этого нужно доказать, что пряма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пендикулярна к произвольной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3886200" cy="351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шка =)</cp:lastModifiedBy>
  <dcterms:modified xsi:type="dcterms:W3CDTF">2008-06-08T15:46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