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E853-AFDE-4C65-930B-ADD48DE7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7973-A597-47F8-8D6E-8A7334B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DB6B-430D-4664-8C85-14E30645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41F3-402F-4F84-BAC4-E5CE702B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31CB-A30D-40C2-A825-28091F4A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534-ED34-4366-A4E4-6E6C255C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0C4-E739-4CC3-BC40-744D4F7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161-EAAE-4EED-B7BE-592AB75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4F3-8E00-4701-876A-4ABC6032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D14C-1A65-433E-A76C-391FB62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1BA-3BAA-4677-96A1-10AD211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199E-5D99-4188-9A84-F84770F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996E-6B95-4AF9-93AA-2108EF86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8F6B-6613-4EB5-899F-07AE4AE3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840-EE5C-4DBB-8B1C-F4CAF48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281B-0C97-4E23-BE4B-37431E1B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A27-1C31-4C3D-A76A-2558287A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383A-74B0-4FE2-9694-A703C00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7F52-8B13-459D-87EE-A5EE3E7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84C2-8D4B-4239-9075-BC3D69B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FDCD-2BEE-4992-A865-E92A74F0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F0A4-D504-41F7-B247-01C0E2D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C51F-A235-4E5B-BDF3-9B95B94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2EEF-6814-4D7C-8648-6ECF38B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59F8-EABC-46A1-A339-AEB5FA113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41FE-3879-4B32-BEB3-E57B55533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рпендикулярность прямых и плоскосте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444600"/>
            <a:ext cx="6781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пендикулярные прямые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прямые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заимно перпендикулярными), если угол между ними равен 90 . Перпендикулярность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ся так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пендикулярные прямые могут пересекаться и могут быть скрещивающим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аллельные прямые, перпендикулярные к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О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Прямая называется перпендикулярной к плоскости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581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косившийся телеграфный столб стоит прямо, т.е. перпендикулярно к плоскости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209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расположены колоны здания по отношению к плоскости фунд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55744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50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ии пересечения стен по отношению к плоскости пол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45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3505320" cy="245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 перпендикулярности прямой и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ямая перпендикулярна к двум пересекающимся прямым, лежащим в плоскости, то она перпендикулярна к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8862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рямую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которая перпендикулярна к прямы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лежащим в плоскости α и пересекающимися 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кажем, чт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нужно доказать, что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на к произвольн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886200" cy="351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шка =)</cp:lastModifiedBy>
  <dcterms:modified xsi:type="dcterms:W3CDTF">2008-06-08T15:46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